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22D8-0464-4E07-A6E7-5FD28960535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B67-97AF-42B3-A1B9-E7C129EB7E7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F8A0-C4A4-4547-AB98-15E2330F068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CE18-B391-406B-839D-5D5035FD332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2B98-D8A3-4806-ABAA-E91A41D9789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8FF6-101A-4D7E-9F74-A5A5BC51DBC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0F26-0CC8-4603-AC66-86E36527ADD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9FC2-1CD4-443A-B68D-F397C43B32D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2F8A-B1FD-41F0-B5B3-88449A2DED9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8BA8-B75A-4077-94DD-10AD90ADEC3B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4BB6-CA9D-40F1-BA30-E32D88A398B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533C-B8F5-466D-846C-03591AFB65D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C8A0-4B2B-476A-B2B5-A0F4A680882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650880" y="3141720"/>
            <a:ext cx="6850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Pasto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d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55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908000" y="9302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68360" y="57801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5 CuadroTexto"/>
          <p:cNvSpPr/>
          <p:nvPr/>
        </p:nvSpPr>
        <p:spPr>
          <a:xfrm>
            <a:off x="617400" y="5472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1 Imagen" descr=""/>
          <p:cNvPicPr/>
          <p:nvPr/>
        </p:nvPicPr>
        <p:blipFill>
          <a:blip r:embed="rId1"/>
          <a:stretch/>
        </p:blipFill>
        <p:spPr>
          <a:xfrm>
            <a:off x="1836720" y="2071800"/>
            <a:ext cx="62596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7640" y="1515960"/>
            <a:ext cx="61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32000" y="78732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905400" y="5281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-9360" y="554184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2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 Imagen" descr=""/>
          <p:cNvPicPr/>
          <p:nvPr/>
        </p:nvPicPr>
        <p:blipFill>
          <a:blip r:embed="rId1"/>
          <a:stretch/>
        </p:blipFill>
        <p:spPr>
          <a:xfrm>
            <a:off x="1069920" y="1849320"/>
            <a:ext cx="739764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897200" y="8967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5 CuadroTexto"/>
          <p:cNvSpPr/>
          <p:nvPr/>
        </p:nvSpPr>
        <p:spPr>
          <a:xfrm>
            <a:off x="784800" y="5281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7640" y="5527800"/>
            <a:ext cx="910872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2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1 Imagen" descr=""/>
          <p:cNvPicPr/>
          <p:nvPr/>
        </p:nvPicPr>
        <p:blipFill>
          <a:blip r:embed="rId1"/>
          <a:stretch/>
        </p:blipFill>
        <p:spPr>
          <a:xfrm>
            <a:off x="1362240" y="1994040"/>
            <a:ext cx="638460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47640" y="164952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CES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405080" y="78732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cesante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7280" y="5589720"/>
            <a:ext cx="867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5 CuadroTexto"/>
          <p:cNvSpPr/>
          <p:nvPr/>
        </p:nvSpPr>
        <p:spPr>
          <a:xfrm>
            <a:off x="617400" y="53132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1 Imagen" descr=""/>
          <p:cNvPicPr/>
          <p:nvPr/>
        </p:nvPicPr>
        <p:blipFill>
          <a:blip r:embed="rId1"/>
          <a:stretch/>
        </p:blipFill>
        <p:spPr>
          <a:xfrm>
            <a:off x="1162080" y="1778040"/>
            <a:ext cx="6819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35280" y="8589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cesante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1280" y="5734080"/>
            <a:ext cx="7850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61740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1 Imagen" descr=""/>
          <p:cNvPicPr/>
          <p:nvPr/>
        </p:nvPicPr>
        <p:blipFill>
          <a:blip r:embed="rId1"/>
          <a:stretch/>
        </p:blipFill>
        <p:spPr>
          <a:xfrm>
            <a:off x="1319040" y="1812960"/>
            <a:ext cx="65804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547640" y="1720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03280" y="90792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92040" y="566568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5 CuadroTexto"/>
          <p:cNvSpPr/>
          <p:nvPr/>
        </p:nvSpPr>
        <p:spPr>
          <a:xfrm>
            <a:off x="545760" y="5413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 Imagen" descr=""/>
          <p:cNvPicPr/>
          <p:nvPr/>
        </p:nvPicPr>
        <p:blipFill>
          <a:blip r:embed="rId1"/>
          <a:stretch/>
        </p:blipFill>
        <p:spPr>
          <a:xfrm>
            <a:off x="2303640" y="1859040"/>
            <a:ext cx="4674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91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</a:rPr>
              <a:t>Indicadores de mercado laboral según miembro del hogar, ingresos laborales corrientes, semanas de búsqueda de trabajo y desempleo por nivel educativo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116000" y="4437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I Trimestre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404000" y="1700280"/>
            <a:ext cx="6345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4 ciudades y á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Febrero– Abril 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50920" y="855720"/>
            <a:ext cx="726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, según miembro del ho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7 CuadroTexto"/>
          <p:cNvSpPr/>
          <p:nvPr/>
        </p:nvSpPr>
        <p:spPr>
          <a:xfrm>
            <a:off x="681840" y="5084640"/>
            <a:ext cx="19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1 Imagen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245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258920" y="855720"/>
            <a:ext cx="55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gresos Laborales Corrie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7 CuadroTexto"/>
          <p:cNvSpPr/>
          <p:nvPr/>
        </p:nvSpPr>
        <p:spPr>
          <a:xfrm>
            <a:off x="1761480" y="5229360"/>
            <a:ext cx="19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7740720" y="1916280"/>
            <a:ext cx="720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i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1 Imagen" descr=""/>
          <p:cNvPicPr/>
          <p:nvPr/>
        </p:nvPicPr>
        <p:blipFill>
          <a:blip r:embed="rId1"/>
          <a:stretch/>
        </p:blipFill>
        <p:spPr>
          <a:xfrm>
            <a:off x="1351080" y="1720800"/>
            <a:ext cx="62308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57160" y="711360"/>
            <a:ext cx="63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medio de Semanas de Búsqueda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8 CuadroTexto"/>
          <p:cNvSpPr/>
          <p:nvPr/>
        </p:nvSpPr>
        <p:spPr>
          <a:xfrm>
            <a:off x="1040760" y="4797360"/>
            <a:ext cx="19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1 Imagen" descr=""/>
          <p:cNvPicPr/>
          <p:nvPr/>
        </p:nvPicPr>
        <p:blipFill>
          <a:blip r:embed="rId1"/>
          <a:stretch/>
        </p:blipFill>
        <p:spPr>
          <a:xfrm>
            <a:off x="1897200" y="1301760"/>
            <a:ext cx="54403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26920" y="711360"/>
            <a:ext cx="56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Desempleo, según nivel edu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7 CuadroTexto"/>
          <p:cNvSpPr/>
          <p:nvPr/>
        </p:nvSpPr>
        <p:spPr>
          <a:xfrm>
            <a:off x="1260720" y="5765760"/>
            <a:ext cx="118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  <a:ea typeface="Arial"/>
              </a:rPr>
              <a:t>Fuente: GEIH - DA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1 Imagen" descr=""/>
          <p:cNvPicPr/>
          <p:nvPr/>
        </p:nvPicPr>
        <p:blipFill>
          <a:blip r:embed="rId1"/>
          <a:stretch/>
        </p:blipFill>
        <p:spPr>
          <a:xfrm>
            <a:off x="615960" y="1095480"/>
            <a:ext cx="76564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1714680"/>
            <a:ext cx="7961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NARIÑO</a:t>
            </a:r>
            <a:br>
              <a:rPr sz="4800"/>
            </a:b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201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71640" y="4653000"/>
            <a:ext cx="71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 expandidos con proyecciones de población, con base en los resultados del censo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4920" y="2793960"/>
            <a:ext cx="309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AMENTOS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1 Imagen" descr=""/>
          <p:cNvPicPr/>
          <p:nvPr/>
        </p:nvPicPr>
        <p:blipFill>
          <a:blip r:embed="rId1"/>
          <a:stretch/>
        </p:blipFill>
        <p:spPr>
          <a:xfrm>
            <a:off x="3094200" y="1071720"/>
            <a:ext cx="5581440" cy="4949640"/>
          </a:xfrm>
          <a:prstGeom prst="rect">
            <a:avLst/>
          </a:prstGeom>
          <a:ln w="0">
            <a:noFill/>
          </a:ln>
        </p:spPr>
      </p:pic>
      <p:sp>
        <p:nvSpPr>
          <p:cNvPr id="143" name="3 CuadroTexto"/>
          <p:cNvSpPr/>
          <p:nvPr/>
        </p:nvSpPr>
        <p:spPr>
          <a:xfrm>
            <a:off x="2987640" y="596124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(+) (-): Aumento o disminución de la TD de cada departamento frente al año a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1 CuadroTexto"/>
          <p:cNvSpPr/>
          <p:nvPr/>
        </p:nvSpPr>
        <p:spPr>
          <a:xfrm>
            <a:off x="1440000" y="83664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ariño, 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7 -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4 CuadroTexto"/>
          <p:cNvSpPr/>
          <p:nvPr/>
        </p:nvSpPr>
        <p:spPr>
          <a:xfrm>
            <a:off x="1445400" y="5759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1 Imagen" descr=""/>
          <p:cNvPicPr/>
          <p:nvPr/>
        </p:nvPicPr>
        <p:blipFill>
          <a:blip r:embed="rId1"/>
          <a:stretch/>
        </p:blipFill>
        <p:spPr>
          <a:xfrm>
            <a:off x="1353960" y="2082960"/>
            <a:ext cx="64389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CuadroTexto"/>
          <p:cNvSpPr/>
          <p:nvPr/>
        </p:nvSpPr>
        <p:spPr>
          <a:xfrm>
            <a:off x="158868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187280" y="9936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Nariño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– 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1 Imagen" descr=""/>
          <p:cNvPicPr/>
          <p:nvPr/>
        </p:nvPicPr>
        <p:blipFill>
          <a:blip r:embed="rId1"/>
          <a:stretch/>
        </p:blipFill>
        <p:spPr>
          <a:xfrm>
            <a:off x="1444680" y="2205000"/>
            <a:ext cx="62546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108000" y="2413080"/>
            <a:ext cx="27352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Febrero– Abril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2987640" y="700200"/>
            <a:ext cx="5472000" cy="492444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2916360" y="5656320"/>
            <a:ext cx="568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Arial"/>
              </a:rPr>
              <a:t>(+) (-): Aumento o disminución de la TD de cada ciudad frente al mismo trimestre móvil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87280" y="83664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5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2 Imagen" descr=""/>
          <p:cNvPicPr/>
          <p:nvPr/>
        </p:nvPicPr>
        <p:blipFill>
          <a:blip r:embed="rId1"/>
          <a:stretch/>
        </p:blipFill>
        <p:spPr>
          <a:xfrm>
            <a:off x="1523880" y="1978200"/>
            <a:ext cx="6096240" cy="3198600"/>
          </a:xfrm>
          <a:prstGeom prst="rect">
            <a:avLst/>
          </a:prstGeom>
          <a:ln w="0">
            <a:noFill/>
          </a:ln>
        </p:spPr>
      </p:pic>
      <p:pic>
        <p:nvPicPr>
          <p:cNvPr id="66" name="1 Imagen" descr=""/>
          <p:cNvPicPr/>
          <p:nvPr/>
        </p:nvPicPr>
        <p:blipFill>
          <a:blip r:embed="rId2"/>
          <a:stretch/>
        </p:blipFill>
        <p:spPr>
          <a:xfrm>
            <a:off x="1098720" y="5157720"/>
            <a:ext cx="5894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187280" y="9936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5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00280" y="558972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9 CuadroTexto"/>
          <p:cNvSpPr/>
          <p:nvPr/>
        </p:nvSpPr>
        <p:spPr>
          <a:xfrm>
            <a:off x="1049040" y="5327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1 Imagen" descr=""/>
          <p:cNvPicPr/>
          <p:nvPr/>
        </p:nvPicPr>
        <p:blipFill>
          <a:blip r:embed="rId1"/>
          <a:stretch/>
        </p:blipFill>
        <p:spPr>
          <a:xfrm>
            <a:off x="1523880" y="2206800"/>
            <a:ext cx="60962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000" y="755280"/>
            <a:ext cx="738036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asto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2 Imagen" descr=""/>
          <p:cNvPicPr/>
          <p:nvPr/>
        </p:nvPicPr>
        <p:blipFill>
          <a:blip r:embed="rId1"/>
          <a:stretch/>
        </p:blipFill>
        <p:spPr>
          <a:xfrm>
            <a:off x="552600" y="2021040"/>
            <a:ext cx="8258040" cy="1984320"/>
          </a:xfrm>
          <a:prstGeom prst="rect">
            <a:avLst/>
          </a:prstGeom>
          <a:ln w="0">
            <a:noFill/>
          </a:ln>
        </p:spPr>
      </p:pic>
      <p:pic>
        <p:nvPicPr>
          <p:cNvPr id="77" name="1 Imagen" descr=""/>
          <p:cNvPicPr/>
          <p:nvPr/>
        </p:nvPicPr>
        <p:blipFill>
          <a:blip r:embed="rId2"/>
          <a:stretch/>
        </p:blipFill>
        <p:spPr>
          <a:xfrm>
            <a:off x="714240" y="4581360"/>
            <a:ext cx="566748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547640" y="2133720"/>
            <a:ext cx="61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Arial"/>
                <a:ea typeface="Arial"/>
              </a:rPr>
              <a:t>COMPORTAMIENTO DEL MERCADO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7640" y="1504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295280" y="7873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55306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672840" y="52768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1 Imagen" descr=""/>
          <p:cNvPicPr/>
          <p:nvPr/>
        </p:nvPicPr>
        <p:blipFill>
          <a:blip r:embed="rId1"/>
          <a:stretch/>
        </p:blipFill>
        <p:spPr>
          <a:xfrm>
            <a:off x="1082520" y="1859040"/>
            <a:ext cx="69789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lga Lucia Ardila Guzman</cp:lastModifiedBy>
  <dcterms:modified xsi:type="dcterms:W3CDTF">2014-06-16T22:09:04Z</dcterms:modified>
  <cp:revision>97</cp:revision>
  <dc:subject/>
  <dc:title>Diapositiva 1</dc:title>
</cp:coreProperties>
</file>