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.png" ContentType="image/png"/>
  <Override PartName="/ppt/media/image14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E007-2124-41A2-AC6D-A04D0F1C855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2531-2608-47A7-9C21-1EB0A8380B77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8E57-8C2D-4322-AF0A-27B63A9620D1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1466-10FD-4C90-A7E5-8E0AE2481328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5264-858F-41BD-808C-1AF2633DD4A3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303A-23EE-447B-B630-45545F1C7704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B354-AC0B-4ADB-BC45-F846B1F3B9F4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1219-1D70-4E21-A772-F97F92102269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2EF4-0541-40D8-96A1-EF070B97C95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F08F-08AB-43ED-9315-10F3EE30C85F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BD77-A4F9-4FD0-91A6-FCA5E6CA9B4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57BA-8F6B-4973-A008-8C3A0F4CAB90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FE86-A035-4075-963F-0AE8CA1CC27A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75963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91640" y="3695040"/>
            <a:ext cx="75963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9164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432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0240" y="112536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8840" y="112536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91640" y="369504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0240" y="369504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8840" y="369504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932360" y="336600"/>
            <a:ext cx="3456000" cy="16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9164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432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91640" y="3695040"/>
            <a:ext cx="75963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75963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91640" y="3695040"/>
            <a:ext cx="75963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164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432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60240" y="112536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28840" y="112536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91640" y="369504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60240" y="369504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28840" y="369504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32360" y="336600"/>
            <a:ext cx="3456000" cy="16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9164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432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91640" y="3695040"/>
            <a:ext cx="75963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10 Imagen" descr=""/>
          <p:cNvPicPr/>
          <p:nvPr/>
        </p:nvPicPr>
        <p:blipFill>
          <a:blip r:embed="rId2"/>
          <a:stretch/>
        </p:blipFill>
        <p:spPr>
          <a:xfrm>
            <a:off x="0" y="-20520"/>
            <a:ext cx="9205920" cy="930240"/>
          </a:xfrm>
          <a:prstGeom prst="rect">
            <a:avLst/>
          </a:prstGeom>
          <a:ln w="0">
            <a:noFill/>
          </a:ln>
        </p:spPr>
      </p:pic>
      <p:sp>
        <p:nvSpPr>
          <p:cNvPr id="1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Std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Std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Std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Std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Std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Std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Std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pic>
        <p:nvPicPr>
          <p:cNvPr id="4" name="10 Imagen" descr=""/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1 Imagen" descr=""/>
          <p:cNvPicPr/>
          <p:nvPr/>
        </p:nvPicPr>
        <p:blipFill>
          <a:blip r:embed="rId4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2 Imagen" descr=""/>
          <p:cNvPicPr/>
          <p:nvPr/>
        </p:nvPicPr>
        <p:blipFill>
          <a:blip r:embed="rId5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7" name="15 Imagen" descr=""/>
          <p:cNvPicPr/>
          <p:nvPr/>
        </p:nvPicPr>
        <p:blipFill>
          <a:blip r:embed="rId6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10 Imagen" descr=""/>
          <p:cNvPicPr/>
          <p:nvPr/>
        </p:nvPicPr>
        <p:blipFill>
          <a:blip r:embed="rId2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8" name="11 Imagen" descr=""/>
          <p:cNvPicPr/>
          <p:nvPr/>
        </p:nvPicPr>
        <p:blipFill>
          <a:blip r:embed="rId3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49" name="12 Imagen" descr=""/>
          <p:cNvPicPr/>
          <p:nvPr/>
        </p:nvPicPr>
        <p:blipFill>
          <a:blip r:embed="rId4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50" name="15 Imagen" descr=""/>
          <p:cNvPicPr/>
          <p:nvPr/>
        </p:nvPicPr>
        <p:blipFill>
          <a:blip r:embed="rId5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51" name="10 Imagen" descr=""/>
          <p:cNvPicPr/>
          <p:nvPr/>
        </p:nvPicPr>
        <p:blipFill>
          <a:blip r:embed="rId6"/>
          <a:stretch/>
        </p:blipFill>
        <p:spPr>
          <a:xfrm>
            <a:off x="-36360" y="6165720"/>
            <a:ext cx="9266040" cy="941400"/>
          </a:xfrm>
          <a:prstGeom prst="rect">
            <a:avLst/>
          </a:prstGeom>
          <a:ln w="0">
            <a:noFill/>
          </a:ln>
        </p:spPr>
      </p:pic>
      <p:sp>
        <p:nvSpPr>
          <p:cNvPr id="52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11 Imagen" descr=""/>
          <p:cNvPicPr/>
          <p:nvPr/>
        </p:nvPicPr>
        <p:blipFill>
          <a:blip r:embed="rId7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650880" y="3141720"/>
            <a:ext cx="685008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b6014c"/>
                </a:solidFill>
                <a:latin typeface="Arial"/>
                <a:ea typeface="Arial"/>
              </a:rPr>
              <a:t>Villavicencio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 Narrow"/>
                <a:ea typeface="Arial"/>
              </a:rPr>
              <a:t>2014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Junio de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3 Imagen" descr=""/>
          <p:cNvPicPr/>
          <p:nvPr/>
        </p:nvPicPr>
        <p:blipFill>
          <a:blip r:embed="rId1"/>
          <a:srcRect l="0" t="84078" r="0" b="0"/>
          <a:stretch/>
        </p:blipFill>
        <p:spPr>
          <a:xfrm>
            <a:off x="-36360" y="2852640"/>
            <a:ext cx="9251640" cy="150840"/>
          </a:xfrm>
          <a:prstGeom prst="rect">
            <a:avLst/>
          </a:prstGeom>
          <a:ln w="0">
            <a:noFill/>
          </a:ln>
        </p:spPr>
      </p:pic>
      <p:sp>
        <p:nvSpPr>
          <p:cNvPr id="99" name="1 CuadroTexto"/>
          <p:cNvSpPr/>
          <p:nvPr/>
        </p:nvSpPr>
        <p:spPr>
          <a:xfrm>
            <a:off x="491760" y="1587600"/>
            <a:ext cx="792864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8800" spc="-1" strike="noStrike">
                <a:solidFill>
                  <a:srgbClr val="7f7f7f"/>
                </a:solidFill>
                <a:latin typeface="Calibri"/>
                <a:ea typeface="Arial"/>
              </a:rPr>
              <a:t>Mercado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8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</a:t>
            </a:r>
            <a:r>
              <a:rPr b="1" lang="es-CO" sz="8800" spc="-1" strike="noStrike">
                <a:solidFill>
                  <a:srgbClr val="b6014c"/>
                </a:solidFill>
                <a:latin typeface="Calibri"/>
                <a:ea typeface="Arial"/>
              </a:rPr>
              <a:t>Laboral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5489640" y="185760"/>
            <a:ext cx="351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1 Imagen" descr=""/>
          <p:cNvPicPr/>
          <p:nvPr/>
        </p:nvPicPr>
        <p:blipFill>
          <a:blip r:embed="rId1"/>
          <a:stretch/>
        </p:blipFill>
        <p:spPr>
          <a:xfrm>
            <a:off x="858960" y="1449360"/>
            <a:ext cx="6922800" cy="34369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1584360" y="76500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ntribución a la variación de la población ocupad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646200" y="575316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*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5 CuadroTexto"/>
          <p:cNvSpPr/>
          <p:nvPr/>
        </p:nvSpPr>
        <p:spPr>
          <a:xfrm>
            <a:off x="795960" y="5445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1547640" y="1515960"/>
            <a:ext cx="6120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OCUP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EGÚ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SICIÓN OCUP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5489640" y="185760"/>
            <a:ext cx="351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152360" y="76500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5 CuadroTexto"/>
          <p:cNvSpPr/>
          <p:nvPr/>
        </p:nvSpPr>
        <p:spPr>
          <a:xfrm>
            <a:off x="796680" y="5229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0" y="5562720"/>
            <a:ext cx="9144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Nota 1: Obrero, empleado particular incluye al Jornalero o Pe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Nota 2: Trabajador sin remuneración incluye a los trabajadores familiares sin remuneración y a los trabajadores sin remuneración en empresas de otros hog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1 Imagen" descr=""/>
          <p:cNvPicPr/>
          <p:nvPr/>
        </p:nvPicPr>
        <p:blipFill>
          <a:blip r:embed="rId1"/>
          <a:stretch/>
        </p:blipFill>
        <p:spPr>
          <a:xfrm>
            <a:off x="1027080" y="1628640"/>
            <a:ext cx="741528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1 Imagen" descr=""/>
          <p:cNvPicPr/>
          <p:nvPr/>
        </p:nvPicPr>
        <p:blipFill>
          <a:blip r:embed="rId1"/>
          <a:stretch/>
        </p:blipFill>
        <p:spPr>
          <a:xfrm>
            <a:off x="689040" y="1563840"/>
            <a:ext cx="6837120" cy="32288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1547640" y="765000"/>
            <a:ext cx="60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5 CuadroTexto"/>
          <p:cNvSpPr/>
          <p:nvPr/>
        </p:nvSpPr>
        <p:spPr>
          <a:xfrm>
            <a:off x="779400" y="5300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7640" y="5560920"/>
            <a:ext cx="9108720" cy="73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Nota 1: Obrero, empleado particular incluye al Jornalero o Pe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Nota 2: Trabajador sin remuneración incluye a los trabajadores familiares sin remuneración y a los trabajadores sin remuneración en empresas de otros hog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547640" y="1649520"/>
            <a:ext cx="61200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CESA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EGÚ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RAMAS DE ACTIV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5489640" y="185760"/>
            <a:ext cx="351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1 Imagen" descr=""/>
          <p:cNvPicPr/>
          <p:nvPr/>
        </p:nvPicPr>
        <p:blipFill>
          <a:blip r:embed="rId1"/>
          <a:stretch/>
        </p:blipFill>
        <p:spPr>
          <a:xfrm>
            <a:off x="171360" y="1557360"/>
            <a:ext cx="8298000" cy="37782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1260360" y="787320"/>
            <a:ext cx="662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y variación de la población cesante, según ramas de actividad anteri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33280" y="5584680"/>
            <a:ext cx="867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Arial"/>
              </a:rPr>
              <a:t>*Otras ramas: Agricultura, ganadería, caza, silvicultura y pesca; explotación de minas y canteras, suministro de electricidad, gas y agua e intermediación financiera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Arial Narrow"/>
                <a:ea typeface="Arial"/>
              </a:rPr>
              <a:t>Nota: La suma de las participaciones puede diferir de 100%  por la no inclusión de la categoría “no informa” y por efecto de decimales.</a:t>
            </a:r>
            <a:r>
              <a:rPr b="0" lang="es-E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5 CuadroTexto"/>
          <p:cNvSpPr/>
          <p:nvPr/>
        </p:nvSpPr>
        <p:spPr>
          <a:xfrm>
            <a:off x="563400" y="5300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5489640" y="185760"/>
            <a:ext cx="351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1 Imagen" descr=""/>
          <p:cNvPicPr/>
          <p:nvPr/>
        </p:nvPicPr>
        <p:blipFill>
          <a:blip r:embed="rId1"/>
          <a:stretch/>
        </p:blipFill>
        <p:spPr>
          <a:xfrm>
            <a:off x="571680" y="1515960"/>
            <a:ext cx="7643520" cy="37944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1547640" y="765000"/>
            <a:ext cx="60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ntribución a la variación de la población cesantes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egún ramas de actividad anteri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646200" y="5662440"/>
            <a:ext cx="7850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Arial"/>
              </a:rPr>
              <a:t>*Otras ramas: Agricultura, ganadería, caza, silvicultura y pesca; explotación de minas y canteras, suministro de electricidad, gas y agua e intermediación financiera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5 CuadroTexto"/>
          <p:cNvSpPr/>
          <p:nvPr/>
        </p:nvSpPr>
        <p:spPr>
          <a:xfrm>
            <a:off x="653040" y="5445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1547640" y="1720800"/>
            <a:ext cx="61200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INAC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EGÚ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TIPO DE ACTIV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5489640" y="185760"/>
            <a:ext cx="351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135080" y="765000"/>
            <a:ext cx="68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22200" y="5707080"/>
            <a:ext cx="850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Nota: la categoría “otros” incluye: incapacitado permanente para trabajar, rentista, pensionado, jubilado, personas que no les llama la atención o creen que no vale la pena traba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5 CuadroTexto"/>
          <p:cNvSpPr/>
          <p:nvPr/>
        </p:nvSpPr>
        <p:spPr>
          <a:xfrm>
            <a:off x="475920" y="5445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1 Imagen" descr=""/>
          <p:cNvPicPr/>
          <p:nvPr/>
        </p:nvPicPr>
        <p:blipFill>
          <a:blip r:embed="rId1"/>
          <a:stretch/>
        </p:blipFill>
        <p:spPr>
          <a:xfrm>
            <a:off x="1879560" y="1754280"/>
            <a:ext cx="527832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61600" y="1700280"/>
            <a:ext cx="7961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 mercado laboral según miembro del hogar, ingresos laborales corrientes, semanas de búsqueda de trabajo y desempleo por nivel educativo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971640" y="46530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I Trimestre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399320" y="1343160"/>
            <a:ext cx="634536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l mercado labora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 Narrow"/>
                <a:ea typeface="Arial"/>
              </a:rPr>
              <a:t>24 ciudades y áreas metropolitana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2014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5489640" y="185760"/>
            <a:ext cx="351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135080" y="911160"/>
            <a:ext cx="687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 Mercado laboral, según miembro del hog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5 CuadroTexto"/>
          <p:cNvSpPr/>
          <p:nvPr/>
        </p:nvSpPr>
        <p:spPr>
          <a:xfrm>
            <a:off x="475920" y="55864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1 Imagen" descr=""/>
          <p:cNvPicPr/>
          <p:nvPr/>
        </p:nvPicPr>
        <p:blipFill>
          <a:blip r:embed="rId1"/>
          <a:stretch/>
        </p:blipFill>
        <p:spPr>
          <a:xfrm>
            <a:off x="695160" y="1811160"/>
            <a:ext cx="7750440" cy="33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5489640" y="185760"/>
            <a:ext cx="351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135080" y="765000"/>
            <a:ext cx="687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Ingresos Laborales Corrien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5 CuadroTexto"/>
          <p:cNvSpPr/>
          <p:nvPr/>
        </p:nvSpPr>
        <p:spPr>
          <a:xfrm>
            <a:off x="475920" y="55864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1 Imagen" descr=""/>
          <p:cNvPicPr/>
          <p:nvPr/>
        </p:nvPicPr>
        <p:blipFill>
          <a:blip r:embed="rId1"/>
          <a:stretch/>
        </p:blipFill>
        <p:spPr>
          <a:xfrm>
            <a:off x="1390680" y="1870200"/>
            <a:ext cx="61912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5489640" y="185760"/>
            <a:ext cx="351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135080" y="765000"/>
            <a:ext cx="687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romedio de Semanas de Búsqueda de Trabaj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5 CuadroTexto"/>
          <p:cNvSpPr/>
          <p:nvPr/>
        </p:nvSpPr>
        <p:spPr>
          <a:xfrm>
            <a:off x="475920" y="55864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1 Imagen" descr=""/>
          <p:cNvPicPr/>
          <p:nvPr/>
        </p:nvPicPr>
        <p:blipFill>
          <a:blip r:embed="rId1"/>
          <a:stretch/>
        </p:blipFill>
        <p:spPr>
          <a:xfrm>
            <a:off x="1612800" y="2135160"/>
            <a:ext cx="59184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5489640" y="185760"/>
            <a:ext cx="351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135080" y="765000"/>
            <a:ext cx="687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asa de Desempleo, según nivel educativ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5 CuadroTexto"/>
          <p:cNvSpPr/>
          <p:nvPr/>
        </p:nvSpPr>
        <p:spPr>
          <a:xfrm>
            <a:off x="475920" y="55864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1 Imagen" descr=""/>
          <p:cNvPicPr/>
          <p:nvPr/>
        </p:nvPicPr>
        <p:blipFill>
          <a:blip r:embed="rId1"/>
          <a:stretch/>
        </p:blipFill>
        <p:spPr>
          <a:xfrm>
            <a:off x="971640" y="1282680"/>
            <a:ext cx="697680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000" y="1700280"/>
            <a:ext cx="7961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0000"/>
                </a:solidFill>
                <a:latin typeface="Arial Narrow"/>
                <a:ea typeface="Arial"/>
              </a:rPr>
              <a:t>META</a:t>
            </a:r>
            <a:br>
              <a:rPr sz="4800"/>
            </a:br>
            <a:br>
              <a:rPr sz="4800"/>
            </a:br>
            <a:r>
              <a:rPr b="1" lang="es-CO" sz="4800" spc="-1" strike="noStrike">
                <a:solidFill>
                  <a:srgbClr val="000000"/>
                </a:solidFill>
                <a:latin typeface="Arial Narrow"/>
                <a:ea typeface="Arial"/>
              </a:rPr>
              <a:t>201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971640" y="4653000"/>
            <a:ext cx="7143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Datos expandidos con proyecciones de población, con base en los resultados del censo 20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79280" y="2840040"/>
            <a:ext cx="30956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 MERCADO LABORAL P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EPARTAMENTOS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2 Imagen" descr=""/>
          <p:cNvPicPr/>
          <p:nvPr/>
        </p:nvPicPr>
        <p:blipFill>
          <a:blip r:embed="rId1"/>
          <a:stretch/>
        </p:blipFill>
        <p:spPr>
          <a:xfrm>
            <a:off x="3132000" y="1052640"/>
            <a:ext cx="5581800" cy="4572000"/>
          </a:xfrm>
          <a:prstGeom prst="rect">
            <a:avLst/>
          </a:prstGeom>
          <a:ln w="0">
            <a:noFill/>
          </a:ln>
        </p:spPr>
      </p:pic>
      <p:pic>
        <p:nvPicPr>
          <p:cNvPr id="197" name="1 Imagen" descr=""/>
          <p:cNvPicPr/>
          <p:nvPr/>
        </p:nvPicPr>
        <p:blipFill>
          <a:blip r:embed="rId2"/>
          <a:stretch/>
        </p:blipFill>
        <p:spPr>
          <a:xfrm>
            <a:off x="3132000" y="5661000"/>
            <a:ext cx="558180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1 CuadroTexto"/>
          <p:cNvSpPr/>
          <p:nvPr/>
        </p:nvSpPr>
        <p:spPr>
          <a:xfrm>
            <a:off x="1150920" y="950760"/>
            <a:ext cx="68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Meta, an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2007 -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4 CuadroTexto"/>
          <p:cNvSpPr/>
          <p:nvPr/>
        </p:nvSpPr>
        <p:spPr>
          <a:xfrm>
            <a:off x="1193400" y="56451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1 Imagen" descr=""/>
          <p:cNvPicPr/>
          <p:nvPr/>
        </p:nvPicPr>
        <p:blipFill>
          <a:blip r:embed="rId1"/>
          <a:stretch/>
        </p:blipFill>
        <p:spPr>
          <a:xfrm>
            <a:off x="1415880" y="2079720"/>
            <a:ext cx="6129360" cy="3512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4 CuadroTexto"/>
          <p:cNvSpPr/>
          <p:nvPr/>
        </p:nvSpPr>
        <p:spPr>
          <a:xfrm>
            <a:off x="1520640" y="57610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119240" y="692280"/>
            <a:ext cx="676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asa de subempleo subjetiv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Meta, an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(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2007 – 2013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1 Imagen" descr=""/>
          <p:cNvPicPr/>
          <p:nvPr/>
        </p:nvPicPr>
        <p:blipFill>
          <a:blip r:embed="rId1"/>
          <a:stretch/>
        </p:blipFill>
        <p:spPr>
          <a:xfrm>
            <a:off x="1631880" y="1771560"/>
            <a:ext cx="6061320" cy="3951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685800" y="658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8280360" y="6197760"/>
            <a:ext cx="471600" cy="304560"/>
          </a:xfrm>
          <a:custGeom>
            <a:avLst/>
            <a:gdLst>
              <a:gd name="textAreaLeft" fmla="*/ 58680 w 471600"/>
              <a:gd name="textAreaRight" fmla="*/ 412920 w 4716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58920" y="2576520"/>
            <a:ext cx="2736720" cy="16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201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2 Imagen" descr=""/>
          <p:cNvPicPr/>
          <p:nvPr/>
        </p:nvPicPr>
        <p:blipFill>
          <a:blip r:embed="rId1"/>
          <a:stretch/>
        </p:blipFill>
        <p:spPr>
          <a:xfrm>
            <a:off x="3321000" y="189000"/>
            <a:ext cx="5430960" cy="5400720"/>
          </a:xfrm>
          <a:prstGeom prst="rect">
            <a:avLst/>
          </a:prstGeom>
          <a:ln w="0">
            <a:noFill/>
          </a:ln>
        </p:spPr>
      </p:pic>
      <p:pic>
        <p:nvPicPr>
          <p:cNvPr id="107" name="1 Imagen" descr=""/>
          <p:cNvPicPr/>
          <p:nvPr/>
        </p:nvPicPr>
        <p:blipFill>
          <a:blip r:embed="rId2"/>
          <a:stretch/>
        </p:blipFill>
        <p:spPr>
          <a:xfrm>
            <a:off x="3311640" y="5921280"/>
            <a:ext cx="5581440" cy="171720"/>
          </a:xfrm>
          <a:prstGeom prst="rect">
            <a:avLst/>
          </a:prstGeom>
          <a:ln w="0">
            <a:noFill/>
          </a:ln>
        </p:spPr>
      </p:pic>
      <p:pic>
        <p:nvPicPr>
          <p:cNvPr id="108" name="3 Imagen" descr=""/>
          <p:cNvPicPr/>
          <p:nvPr/>
        </p:nvPicPr>
        <p:blipFill>
          <a:blip r:embed="rId3"/>
          <a:stretch/>
        </p:blipFill>
        <p:spPr>
          <a:xfrm>
            <a:off x="3276720" y="5562720"/>
            <a:ext cx="601956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2 Imagen" descr=""/>
          <p:cNvPicPr/>
          <p:nvPr/>
        </p:nvPicPr>
        <p:blipFill>
          <a:blip r:embed="rId1"/>
          <a:stretch/>
        </p:blipFill>
        <p:spPr>
          <a:xfrm>
            <a:off x="1332000" y="1479600"/>
            <a:ext cx="6264360" cy="3176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1187280" y="549360"/>
            <a:ext cx="6769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Villavicenci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(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2005 – 2014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1 Imagen" descr=""/>
          <p:cNvPicPr/>
          <p:nvPr/>
        </p:nvPicPr>
        <p:blipFill>
          <a:blip r:embed="rId2"/>
          <a:stretch/>
        </p:blipFill>
        <p:spPr>
          <a:xfrm>
            <a:off x="1316160" y="4726080"/>
            <a:ext cx="483372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335240" y="765000"/>
            <a:ext cx="676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asa de subempleo subjetivo y objetiv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Villavicenci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(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2005 – 2014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777960" y="5448240"/>
            <a:ext cx="758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El </a:t>
            </a:r>
            <a:r>
              <a:rPr b="1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subempleo subjetivo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se refiere al simple deseo  manifestado por el trabajador de mejorar sus ingresos, el número de horas trabajadas o tener una labor más propia de sus personales competencias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El </a:t>
            </a:r>
            <a:r>
              <a:rPr b="1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subempleo objetivo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comprende a quienes tienen el deseo, pero además han hecho una gestión para materializar su aspiración y están en disposición de efectuar el cambio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9 CuadroTexto"/>
          <p:cNvSpPr/>
          <p:nvPr/>
        </p:nvSpPr>
        <p:spPr>
          <a:xfrm>
            <a:off x="1026720" y="51865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1 Imagen" descr=""/>
          <p:cNvPicPr/>
          <p:nvPr/>
        </p:nvPicPr>
        <p:blipFill>
          <a:blip r:embed="rId1"/>
          <a:stretch/>
        </p:blipFill>
        <p:spPr>
          <a:xfrm>
            <a:off x="1523880" y="1849320"/>
            <a:ext cx="6096240" cy="33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880920" y="692280"/>
            <a:ext cx="738216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algn="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Villavicencio (2013 – 2014)</a:t>
            </a:r>
            <a:br>
              <a:rPr sz="2200"/>
            </a:br>
            <a:r>
              <a:rPr b="1" lang="es-MX" sz="2200" spc="-1" strike="noStrike">
                <a:solidFill>
                  <a:srgbClr val="000000"/>
                </a:solidFill>
                <a:latin typeface="Arial Narrow"/>
                <a:ea typeface="Arial"/>
              </a:rPr>
              <a:t>Resultados en miles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1 Imagen" descr=""/>
          <p:cNvPicPr/>
          <p:nvPr/>
        </p:nvPicPr>
        <p:blipFill>
          <a:blip r:embed="rId1"/>
          <a:stretch/>
        </p:blipFill>
        <p:spPr>
          <a:xfrm>
            <a:off x="487440" y="4437000"/>
            <a:ext cx="5667120" cy="1724040"/>
          </a:xfrm>
          <a:prstGeom prst="rect">
            <a:avLst/>
          </a:prstGeom>
          <a:ln w="0">
            <a:noFill/>
          </a:ln>
        </p:spPr>
      </p:pic>
      <p:pic>
        <p:nvPicPr>
          <p:cNvPr id="122" name="2 Imagen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840744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1547640" y="2133720"/>
            <a:ext cx="612000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Arial"/>
                <a:ea typeface="Arial"/>
              </a:rPr>
              <a:t>COMPORTAMIENTO DEL MERCADO LABO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547640" y="1504800"/>
            <a:ext cx="61200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OCUP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EGÚ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RAMAS DE ACTIV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489640" y="185760"/>
            <a:ext cx="351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133640" y="765000"/>
            <a:ext cx="68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0" y="554976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*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Arial"/>
              </a:rPr>
              <a:t>Nota: La suma de las participaciones puede diferir de 100%  por la no inclusión de la categoría “no informa” y por efecto de decimales.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5 CuadroTexto"/>
          <p:cNvSpPr/>
          <p:nvPr/>
        </p:nvSpPr>
        <p:spPr>
          <a:xfrm>
            <a:off x="672840" y="53085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1 Imagen" descr=""/>
          <p:cNvPicPr/>
          <p:nvPr/>
        </p:nvPicPr>
        <p:blipFill>
          <a:blip r:embed="rId1"/>
          <a:stretch/>
        </p:blipFill>
        <p:spPr>
          <a:xfrm>
            <a:off x="630360" y="1633680"/>
            <a:ext cx="753732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5:55:17Z</dcterms:created>
  <dc:creator>lcastanedap</dc:creator>
  <dc:description/>
  <dc:language>en-US</dc:language>
  <cp:lastModifiedBy>Hanan Sofan </cp:lastModifiedBy>
  <dcterms:modified xsi:type="dcterms:W3CDTF">2014-06-16T22:29:31Z</dcterms:modified>
  <cp:revision>76</cp:revision>
  <dc:subject/>
  <dc:title>Diapositiva 1</dc:title>
</cp:coreProperties>
</file>