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F6D4-511B-4F1B-9055-701573CE6C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9B3F-1834-4E60-B6C7-72AE58F0270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2BE9-BB64-405E-A767-E4B6B5109E7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4761-3FCF-42FE-B230-543DD23AC94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9427-1EE3-4AFD-B250-1B2B0F5C526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A9EF-04CA-479A-910B-92E581A972D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A542-FFFC-4272-AFE1-3F80830D08B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F81F-CF52-43A7-AA71-F48541C8737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405F-1C86-4150-852F-9091226452B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8391-45C1-4827-9018-88841184D55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D548-B585-459A-B30E-3EED31ED4DF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B9F1-7475-49C1-8DF5-79972E02C3D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A356-1B33-4ADD-B25A-44E742795DE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915A-F7BA-40BC-9159-D0EC9823490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650880" y="3141720"/>
            <a:ext cx="68500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b6014c"/>
                </a:solidFill>
                <a:latin typeface="Arial"/>
                <a:ea typeface="Arial"/>
              </a:rPr>
              <a:t>Sincelejo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Junio d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Imagen" descr=""/>
          <p:cNvPicPr/>
          <p:nvPr/>
        </p:nvPicPr>
        <p:blipFill>
          <a:blip r:embed="rId1"/>
          <a:srcRect l="0" t="84078" r="0" b="0"/>
          <a:stretch/>
        </p:blipFill>
        <p:spPr>
          <a:xfrm>
            <a:off x="-36360" y="2852640"/>
            <a:ext cx="9251640" cy="150840"/>
          </a:xfrm>
          <a:prstGeom prst="rect">
            <a:avLst/>
          </a:prstGeom>
          <a:ln w="0">
            <a:noFill/>
          </a:ln>
        </p:spPr>
      </p:pic>
      <p:sp>
        <p:nvSpPr>
          <p:cNvPr id="55" name="1 CuadroTexto"/>
          <p:cNvSpPr/>
          <p:nvPr/>
        </p:nvSpPr>
        <p:spPr>
          <a:xfrm>
            <a:off x="491760" y="1587600"/>
            <a:ext cx="7928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7f7f7f"/>
                </a:solidFill>
                <a:latin typeface="Calibri"/>
                <a:ea typeface="Arial"/>
              </a:rPr>
              <a:t>Mercad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</a:t>
            </a:r>
            <a:r>
              <a:rPr b="1" lang="es-CO" sz="8800" spc="-1" strike="noStrike">
                <a:solidFill>
                  <a:srgbClr val="b6014c"/>
                </a:solidFill>
                <a:latin typeface="Calibri"/>
                <a:ea typeface="Arial"/>
              </a:rPr>
              <a:t>Labor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295280" y="7873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541332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5 CuadroTexto"/>
          <p:cNvSpPr/>
          <p:nvPr/>
        </p:nvSpPr>
        <p:spPr>
          <a:xfrm>
            <a:off x="691920" y="5146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1 Imagen" descr=""/>
          <p:cNvPicPr/>
          <p:nvPr/>
        </p:nvPicPr>
        <p:blipFill>
          <a:blip r:embed="rId1"/>
          <a:stretch/>
        </p:blipFill>
        <p:spPr>
          <a:xfrm>
            <a:off x="714240" y="1698480"/>
            <a:ext cx="75978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620720" y="787320"/>
            <a:ext cx="59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372600" y="506880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0920" y="5373720"/>
            <a:ext cx="82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; intermediación financiera.</a:t>
            </a: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1 Imagen" descr=""/>
          <p:cNvPicPr/>
          <p:nvPr/>
        </p:nvPicPr>
        <p:blipFill>
          <a:blip r:embed="rId1"/>
          <a:stretch/>
        </p:blipFill>
        <p:spPr>
          <a:xfrm>
            <a:off x="1206360" y="1693800"/>
            <a:ext cx="67312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547640" y="1197000"/>
            <a:ext cx="61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SICIÓN OCUP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1258920" y="8589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5 CuadroTexto"/>
          <p:cNvSpPr/>
          <p:nvPr/>
        </p:nvSpPr>
        <p:spPr>
          <a:xfrm>
            <a:off x="796680" y="5257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08000" y="5519880"/>
            <a:ext cx="900432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1: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Otras Posiciones º :  Obrero, empleado del gobierno; Empleado doméstico; Patrón o empleador, Trabajador familiar sin remuneración; Trabajador sin remuneración en empresas de otros hogares; Jornalero o Peón  y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1 Imagen" descr=""/>
          <p:cNvPicPr/>
          <p:nvPr/>
        </p:nvPicPr>
        <p:blipFill>
          <a:blip r:embed="rId1"/>
          <a:stretch/>
        </p:blipFill>
        <p:spPr>
          <a:xfrm>
            <a:off x="843120" y="1924200"/>
            <a:ext cx="740088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84360" y="79524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8 CuadroTexto"/>
          <p:cNvSpPr/>
          <p:nvPr/>
        </p:nvSpPr>
        <p:spPr>
          <a:xfrm>
            <a:off x="661320" y="4780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5157720"/>
            <a:ext cx="842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 º :  Obrero, empleado del gobierno; Empleado doméstico; Patrón o empleador, Trabajador familiar sin remuneración; Trabajador sin remuneración en empresas de otros hogares; Jornalero o Peón  y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1 Imagen" descr=""/>
          <p:cNvPicPr/>
          <p:nvPr/>
        </p:nvPicPr>
        <p:blipFill>
          <a:blip r:embed="rId1"/>
          <a:stretch/>
        </p:blipFill>
        <p:spPr>
          <a:xfrm>
            <a:off x="1420920" y="1571760"/>
            <a:ext cx="65246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476360" y="112536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CES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314360" y="932040"/>
            <a:ext cx="662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cesante, 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87280" y="5651640"/>
            <a:ext cx="867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suma de las participaciones puede diferir de 100%  por la no inclusión de la categoría “no informa” y por efecto de decimales.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5 CuadroTexto"/>
          <p:cNvSpPr/>
          <p:nvPr/>
        </p:nvSpPr>
        <p:spPr>
          <a:xfrm>
            <a:off x="617400" y="5389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1 Imagen" descr=""/>
          <p:cNvPicPr/>
          <p:nvPr/>
        </p:nvPicPr>
        <p:blipFill>
          <a:blip r:embed="rId1"/>
          <a:stretch/>
        </p:blipFill>
        <p:spPr>
          <a:xfrm>
            <a:off x="544680" y="1916280"/>
            <a:ext cx="7478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763640" y="78912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cesante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5 CuadroTexto"/>
          <p:cNvSpPr/>
          <p:nvPr/>
        </p:nvSpPr>
        <p:spPr>
          <a:xfrm>
            <a:off x="742320" y="506880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68360" y="541512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; intermediación financiera.</a:t>
            </a: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1 Imagen" descr=""/>
          <p:cNvPicPr/>
          <p:nvPr/>
        </p:nvPicPr>
        <p:blipFill>
          <a:blip r:embed="rId1"/>
          <a:stretch/>
        </p:blipFill>
        <p:spPr>
          <a:xfrm>
            <a:off x="900000" y="1731960"/>
            <a:ext cx="694872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403280" y="126828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IN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IPO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403280" y="90792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92040" y="568008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5 CuadroTexto"/>
          <p:cNvSpPr/>
          <p:nvPr/>
        </p:nvSpPr>
        <p:spPr>
          <a:xfrm>
            <a:off x="520560" y="5413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1 Imagen" descr=""/>
          <p:cNvPicPr/>
          <p:nvPr/>
        </p:nvPicPr>
        <p:blipFill>
          <a:blip r:embed="rId1"/>
          <a:stretch/>
        </p:blipFill>
        <p:spPr>
          <a:xfrm>
            <a:off x="1986120" y="1811160"/>
            <a:ext cx="56037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427400" y="2054160"/>
            <a:ext cx="6406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l mercado labora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24 ciudades y Áreas metropolitana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640" y="1557000"/>
            <a:ext cx="7129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según miembro del hogar, ingresos laborales corrientes, semanas de búsqueda de trabajo y desempleo por nivel educativ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116000" y="4724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I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50920" y="833400"/>
            <a:ext cx="726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, según miembro del hog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7 CuadroTexto"/>
          <p:cNvSpPr/>
          <p:nvPr/>
        </p:nvSpPr>
        <p:spPr>
          <a:xfrm>
            <a:off x="300960" y="6072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416880" y="2924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1 Imagen" descr=""/>
          <p:cNvPicPr/>
          <p:nvPr/>
        </p:nvPicPr>
        <p:blipFill>
          <a:blip r:embed="rId1"/>
          <a:stretch/>
        </p:blipFill>
        <p:spPr>
          <a:xfrm>
            <a:off x="768240" y="1817640"/>
            <a:ext cx="77504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332000" y="973080"/>
            <a:ext cx="525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gresos laborales corrie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7 CuadroTexto"/>
          <p:cNvSpPr/>
          <p:nvPr/>
        </p:nvSpPr>
        <p:spPr>
          <a:xfrm>
            <a:off x="1308960" y="5589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7236000" y="1268280"/>
            <a:ext cx="720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i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684360" y="3213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1 Imagen" descr=""/>
          <p:cNvPicPr/>
          <p:nvPr/>
        </p:nvPicPr>
        <p:blipFill>
          <a:blip r:embed="rId1"/>
          <a:stretch/>
        </p:blipFill>
        <p:spPr>
          <a:xfrm>
            <a:off x="1346040" y="1720800"/>
            <a:ext cx="637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849240"/>
            <a:ext cx="59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romedio de semanas de búsqueda de traba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8 CuadroTexto"/>
          <p:cNvSpPr/>
          <p:nvPr/>
        </p:nvSpPr>
        <p:spPr>
          <a:xfrm>
            <a:off x="1403280" y="508464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1 Imagen" descr=""/>
          <p:cNvPicPr/>
          <p:nvPr/>
        </p:nvPicPr>
        <p:blipFill>
          <a:blip r:embed="rId1"/>
          <a:stretch/>
        </p:blipFill>
        <p:spPr>
          <a:xfrm>
            <a:off x="1714680" y="1576440"/>
            <a:ext cx="57150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00000" y="839880"/>
            <a:ext cx="59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desempleo, según nivel educ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7 CuadroTexto"/>
          <p:cNvSpPr/>
          <p:nvPr/>
        </p:nvSpPr>
        <p:spPr>
          <a:xfrm>
            <a:off x="1453680" y="587700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1 Imagen" descr=""/>
          <p:cNvPicPr/>
          <p:nvPr/>
        </p:nvPicPr>
        <p:blipFill>
          <a:blip r:embed="rId1"/>
          <a:stretch/>
        </p:blipFill>
        <p:spPr>
          <a:xfrm>
            <a:off x="976320" y="1386000"/>
            <a:ext cx="7120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1714680"/>
            <a:ext cx="7961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SUCRE</a:t>
            </a:r>
            <a:br>
              <a:rPr sz="4800"/>
            </a:b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201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71640" y="4653000"/>
            <a:ext cx="71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atos expandidos con proyecciones de población, con base en los resultados del censo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4920" y="2793960"/>
            <a:ext cx="3097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PARTAMENTOS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1 Imagen" descr=""/>
          <p:cNvPicPr/>
          <p:nvPr/>
        </p:nvPicPr>
        <p:blipFill>
          <a:blip r:embed="rId1"/>
          <a:stretch/>
        </p:blipFill>
        <p:spPr>
          <a:xfrm>
            <a:off x="3105000" y="838080"/>
            <a:ext cx="5581800" cy="4572000"/>
          </a:xfrm>
          <a:prstGeom prst="rect">
            <a:avLst/>
          </a:prstGeom>
          <a:ln w="0">
            <a:noFill/>
          </a:ln>
        </p:spPr>
      </p:pic>
      <p:sp>
        <p:nvSpPr>
          <p:cNvPr id="148" name="6 CuadroTexto"/>
          <p:cNvSpPr/>
          <p:nvPr/>
        </p:nvSpPr>
        <p:spPr>
          <a:xfrm>
            <a:off x="2987640" y="5386320"/>
            <a:ext cx="561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 Narrow"/>
                <a:ea typeface="Arial"/>
              </a:rPr>
              <a:t>(+) (-): Aumento o disminución de la TD de cada departamento frente al año anteri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671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988 CuadroTexto"/>
          <p:cNvSpPr/>
          <p:nvPr/>
        </p:nvSpPr>
        <p:spPr>
          <a:xfrm>
            <a:off x="300960" y="64371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1 Imagen" descr=""/>
          <p:cNvPicPr/>
          <p:nvPr/>
        </p:nvPicPr>
        <p:blipFill>
          <a:blip r:embed="rId1"/>
          <a:stretch/>
        </p:blipFill>
        <p:spPr>
          <a:xfrm>
            <a:off x="1757520" y="2273400"/>
            <a:ext cx="6337080" cy="3006720"/>
          </a:xfrm>
          <a:prstGeom prst="rect">
            <a:avLst/>
          </a:prstGeom>
          <a:ln w="0">
            <a:noFill/>
          </a:ln>
        </p:spPr>
      </p:pic>
      <p:sp>
        <p:nvSpPr>
          <p:cNvPr id="153" name="9 CuadroTexto"/>
          <p:cNvSpPr/>
          <p:nvPr/>
        </p:nvSpPr>
        <p:spPr>
          <a:xfrm>
            <a:off x="1403280" y="106524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ucre, 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007 -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4 CuadroTexto"/>
          <p:cNvSpPr/>
          <p:nvPr/>
        </p:nvSpPr>
        <p:spPr>
          <a:xfrm>
            <a:off x="158868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87280" y="99360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ucre, 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7 – 201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1 Imagen" descr=""/>
          <p:cNvPicPr/>
          <p:nvPr/>
        </p:nvPicPr>
        <p:blipFill>
          <a:blip r:embed="rId1"/>
          <a:stretch/>
        </p:blipFill>
        <p:spPr>
          <a:xfrm>
            <a:off x="1265400" y="2298600"/>
            <a:ext cx="61560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1 Imagen" descr=""/>
          <p:cNvPicPr/>
          <p:nvPr/>
        </p:nvPicPr>
        <p:blipFill>
          <a:blip r:embed="rId1"/>
          <a:stretch/>
        </p:blipFill>
        <p:spPr>
          <a:xfrm>
            <a:off x="3132000" y="1131840"/>
            <a:ext cx="5112000" cy="4422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08000" y="2413080"/>
            <a:ext cx="27352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ebrero– Abril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 CuadroTexto"/>
          <p:cNvSpPr/>
          <p:nvPr/>
        </p:nvSpPr>
        <p:spPr>
          <a:xfrm>
            <a:off x="2916360" y="565632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Arial"/>
              </a:rPr>
              <a:t>(+) (-): Aumento o disminución de la TD de cada ciudad frente al mismo trimestre móvil del año anterio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988 CuadroTexto"/>
          <p:cNvSpPr/>
          <p:nvPr/>
        </p:nvSpPr>
        <p:spPr>
          <a:xfrm>
            <a:off x="2852280" y="486900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Calibri"/>
                <a:ea typeface="Arial"/>
              </a:rPr>
              <a:t>Fuente: GEIH - DA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2 Imagen" descr=""/>
          <p:cNvPicPr/>
          <p:nvPr/>
        </p:nvPicPr>
        <p:blipFill>
          <a:blip r:embed="rId1"/>
          <a:stretch/>
        </p:blipFill>
        <p:spPr>
          <a:xfrm>
            <a:off x="1841400" y="1973160"/>
            <a:ext cx="5688000" cy="2895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187280" y="83664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incelej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8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1 Imagen" descr=""/>
          <p:cNvPicPr/>
          <p:nvPr/>
        </p:nvPicPr>
        <p:blipFill>
          <a:blip r:embed="rId2"/>
          <a:stretch/>
        </p:blipFill>
        <p:spPr>
          <a:xfrm>
            <a:off x="1549440" y="5105520"/>
            <a:ext cx="54482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99360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 y o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incelej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8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800280" y="5589720"/>
            <a:ext cx="75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su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se refiere al simple deseo  manifestado por el trabajador de mejorar sus ingresos, el número de horas trabajadas o tener una labor más propia de sus personales competencias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o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comprende a quienes tienen el deseo, pero además han hecho una gestión para materializar su aspiración y están en disposición de efectuar el cambio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9 CuadroTexto"/>
          <p:cNvSpPr/>
          <p:nvPr/>
        </p:nvSpPr>
        <p:spPr>
          <a:xfrm>
            <a:off x="1049040" y="5327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1 Imagen" descr=""/>
          <p:cNvPicPr/>
          <p:nvPr/>
        </p:nvPicPr>
        <p:blipFill>
          <a:blip r:embed="rId1"/>
          <a:stretch/>
        </p:blipFill>
        <p:spPr>
          <a:xfrm>
            <a:off x="1743120" y="2205000"/>
            <a:ext cx="54291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2 Imagen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481880" cy="2160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152360" y="826920"/>
            <a:ext cx="7380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incelejo  (2013 – 2014)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esultados en mil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1 Imagen" descr=""/>
          <p:cNvPicPr/>
          <p:nvPr/>
        </p:nvPicPr>
        <p:blipFill>
          <a:blip r:embed="rId2"/>
          <a:stretch/>
        </p:blipFill>
        <p:spPr>
          <a:xfrm>
            <a:off x="846000" y="4508640"/>
            <a:ext cx="566748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625760" y="1770120"/>
            <a:ext cx="575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Comportamiento del mercado labo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547640" y="2133720"/>
            <a:ext cx="6120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Arial"/>
                <a:ea typeface="Arial"/>
              </a:rPr>
              <a:t>COMPORTAMIENTO DEL MERCADO LAB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47640" y="1504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Olga Lucia Ardila Guzman</cp:lastModifiedBy>
  <dcterms:modified xsi:type="dcterms:W3CDTF">2014-06-16T22:06:54Z</dcterms:modified>
  <cp:revision>96</cp:revision>
  <dc:subject/>
  <dc:title>Diapositiva 1</dc:title>
</cp:coreProperties>
</file>