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FC27-C0A3-405E-A06D-4EA18E1AE9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BCA4-D63D-4605-81AA-E1DC61BC1F0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93F-2BD5-40D5-8C64-980751633AF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BA12-95EE-4C95-9F5C-3943F840B29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938-168D-44AC-BB7A-C87EC32CF68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7C6-8E87-4A53-B3FF-DAF77F8C352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775-38BA-4323-A6CB-6074A70387B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6E7C-D984-4025-B3AD-716179AAA27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8E98-8A06-49D2-B412-9E52E5FA790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0BDC-D72A-4C87-8648-E4DC28C6011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737-01D6-4F74-A225-9F54A4BD3D3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E74-E33A-457F-A615-D7FED058528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DA1-EDB2-4F06-8C39-6C0BD2424B1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s://twitter.com/dane_colombia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www.facebook.com/DANEColombia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youtube.com/user/danecolombia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www.dane.gov.co/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0 Imagen" descr=""/>
          <p:cNvPicPr/>
          <p:nvPr/>
        </p:nvPicPr>
        <p:blipFill>
          <a:blip r:embed="rId2"/>
          <a:stretch/>
        </p:blipFill>
        <p:spPr>
          <a:xfrm>
            <a:off x="0" y="-20520"/>
            <a:ext cx="920592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4" name="10 Image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2 Imagen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7" name="15 Imagen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650880" y="3141720"/>
            <a:ext cx="6850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Ibagué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53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79280" y="5851440"/>
            <a:ext cx="88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 Imagen" descr=""/>
          <p:cNvPicPr/>
          <p:nvPr/>
        </p:nvPicPr>
        <p:blipFill>
          <a:blip r:embed="rId1"/>
          <a:stretch/>
        </p:blipFill>
        <p:spPr>
          <a:xfrm>
            <a:off x="536400" y="1986120"/>
            <a:ext cx="7837560" cy="3890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908000" y="10746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250920" y="560088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7640" y="1515960"/>
            <a:ext cx="6120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020600" y="6095880"/>
            <a:ext cx="189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1 Imagen" descr=""/>
          <p:cNvPicPr/>
          <p:nvPr/>
        </p:nvPicPr>
        <p:blipFill>
          <a:blip r:embed="rId1"/>
          <a:stretch/>
        </p:blipFill>
        <p:spPr>
          <a:xfrm>
            <a:off x="250920" y="1738440"/>
            <a:ext cx="8569080" cy="392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32000" y="100332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640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5877000"/>
            <a:ext cx="9144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22400" y="6095880"/>
            <a:ext cx="18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1 Imagen" descr=""/>
          <p:cNvPicPr/>
          <p:nvPr/>
        </p:nvPicPr>
        <p:blipFill>
          <a:blip r:embed="rId1"/>
          <a:stretch/>
        </p:blipFill>
        <p:spPr>
          <a:xfrm>
            <a:off x="677880" y="2087640"/>
            <a:ext cx="775332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897200" y="105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761760" y="55436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0" y="5805360"/>
            <a:ext cx="9107640" cy="5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 1: Obrero, empleado particular incluye al Jornalero o Peó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  <a:ea typeface="Arial"/>
              </a:rPr>
              <a:t>Nota 2: Trabajador sin remuneración incluye a los trabajadores familiares sin remuneración y a los trabajadores sin remuneración en empresas de otros hogar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3480" y="5626080"/>
            <a:ext cx="88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1 Imagen" descr=""/>
          <p:cNvPicPr/>
          <p:nvPr/>
        </p:nvPicPr>
        <p:blipFill>
          <a:blip r:embed="rId1"/>
          <a:stretch/>
        </p:blipFill>
        <p:spPr>
          <a:xfrm>
            <a:off x="488880" y="1989000"/>
            <a:ext cx="8043840" cy="3527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405080" y="100332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324000" y="534816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5775480"/>
            <a:ext cx="878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1 Imagen" descr=""/>
          <p:cNvPicPr/>
          <p:nvPr/>
        </p:nvPicPr>
        <p:blipFill>
          <a:blip r:embed="rId1"/>
          <a:stretch/>
        </p:blipFill>
        <p:spPr>
          <a:xfrm>
            <a:off x="797040" y="2066760"/>
            <a:ext cx="7086600" cy="3519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835280" y="1125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cesant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250920" y="545616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547640" y="1720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988920" y="1004760"/>
            <a:ext cx="68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de la población inactiv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93680" y="5878440"/>
            <a:ext cx="871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Nota: la categoría “otros” incluye: incapacitado permanente para trabajar, rentista, pensionado, jubilado, personas que no les llama la atención o creen que no vale la pena trabaja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5 CuadroTexto"/>
          <p:cNvSpPr/>
          <p:nvPr/>
        </p:nvSpPr>
        <p:spPr>
          <a:xfrm>
            <a:off x="395280" y="548640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1 Imagen" descr=""/>
          <p:cNvPicPr/>
          <p:nvPr/>
        </p:nvPicPr>
        <p:blipFill>
          <a:blip r:embed="rId1"/>
          <a:stretch/>
        </p:blipFill>
        <p:spPr>
          <a:xfrm>
            <a:off x="808200" y="1989000"/>
            <a:ext cx="71658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3680" y="234936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según miembro del hogar, ingresos laborales corrientes, semanas de búsqueda de trabajo y desempleo por nivel educativ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16000" y="37558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Arial"/>
              </a:rPr>
              <a:t>I Trimestre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404000" y="1700280"/>
            <a:ext cx="6345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38160" y="1230480"/>
            <a:ext cx="72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1 Imagen" descr=""/>
          <p:cNvPicPr/>
          <p:nvPr/>
        </p:nvPicPr>
        <p:blipFill>
          <a:blip r:embed="rId1"/>
          <a:stretch/>
        </p:blipFill>
        <p:spPr>
          <a:xfrm>
            <a:off x="395280" y="2173320"/>
            <a:ext cx="8366040" cy="3024000"/>
          </a:xfrm>
          <a:prstGeom prst="rect">
            <a:avLst/>
          </a:prstGeom>
          <a:ln w="0">
            <a:noFill/>
          </a:ln>
        </p:spPr>
      </p:pic>
      <p:sp>
        <p:nvSpPr>
          <p:cNvPr id="115" name="5 CuadroTexto"/>
          <p:cNvSpPr/>
          <p:nvPr/>
        </p:nvSpPr>
        <p:spPr>
          <a:xfrm>
            <a:off x="939960" y="575316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733400" y="1050840"/>
            <a:ext cx="54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(miles $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1 Imagen" descr=""/>
          <p:cNvPicPr/>
          <p:nvPr/>
        </p:nvPicPr>
        <p:blipFill>
          <a:blip r:embed="rId1"/>
          <a:stretch/>
        </p:blipFill>
        <p:spPr>
          <a:xfrm>
            <a:off x="1274760" y="1935000"/>
            <a:ext cx="6483240" cy="3710160"/>
          </a:xfrm>
          <a:prstGeom prst="rect">
            <a:avLst/>
          </a:prstGeom>
          <a:ln w="0">
            <a:noFill/>
          </a:ln>
        </p:spPr>
      </p:pic>
      <p:sp>
        <p:nvSpPr>
          <p:cNvPr id="118" name="5 CuadroTexto"/>
          <p:cNvSpPr/>
          <p:nvPr/>
        </p:nvSpPr>
        <p:spPr>
          <a:xfrm>
            <a:off x="539640" y="589104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447920" y="1050840"/>
            <a:ext cx="64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1 Imagen" descr=""/>
          <p:cNvPicPr/>
          <p:nvPr/>
        </p:nvPicPr>
        <p:blipFill>
          <a:blip r:embed="rId1"/>
          <a:stretch/>
        </p:blipFill>
        <p:spPr>
          <a:xfrm>
            <a:off x="1838160" y="2133720"/>
            <a:ext cx="5627880" cy="2992320"/>
          </a:xfrm>
          <a:prstGeom prst="rect">
            <a:avLst/>
          </a:prstGeom>
          <a:ln w="0">
            <a:noFill/>
          </a:ln>
        </p:spPr>
      </p:pic>
      <p:sp>
        <p:nvSpPr>
          <p:cNvPr id="121" name="5 CuadroTexto"/>
          <p:cNvSpPr/>
          <p:nvPr/>
        </p:nvSpPr>
        <p:spPr>
          <a:xfrm>
            <a:off x="1763640" y="574344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1863720" y="1127160"/>
            <a:ext cx="508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1 Imagen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7445520" cy="4498920"/>
          </a:xfrm>
          <a:prstGeom prst="rect">
            <a:avLst/>
          </a:prstGeom>
          <a:ln w="0">
            <a:noFill/>
          </a:ln>
        </p:spPr>
      </p:pic>
      <p:sp>
        <p:nvSpPr>
          <p:cNvPr id="124" name="5 CuadroTexto"/>
          <p:cNvSpPr/>
          <p:nvPr/>
        </p:nvSpPr>
        <p:spPr>
          <a:xfrm>
            <a:off x="395280" y="574524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53964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TOLIMA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920" y="2793960"/>
            <a:ext cx="309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1 Imagen" descr=""/>
          <p:cNvPicPr/>
          <p:nvPr/>
        </p:nvPicPr>
        <p:blipFill>
          <a:blip r:embed="rId1"/>
          <a:stretch/>
        </p:blipFill>
        <p:spPr>
          <a:xfrm>
            <a:off x="3132000" y="1108080"/>
            <a:ext cx="558180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2 Rectángulo"/>
          <p:cNvSpPr/>
          <p:nvPr/>
        </p:nvSpPr>
        <p:spPr>
          <a:xfrm>
            <a:off x="3059280" y="5680080"/>
            <a:ext cx="56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departamento frente al año anteri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 Imagen" descr=""/>
          <p:cNvPicPr/>
          <p:nvPr/>
        </p:nvPicPr>
        <p:blipFill>
          <a:blip r:embed="rId1"/>
          <a:stretch/>
        </p:blipFill>
        <p:spPr>
          <a:xfrm>
            <a:off x="1440000" y="2500200"/>
            <a:ext cx="6619680" cy="3259080"/>
          </a:xfrm>
          <a:prstGeom prst="rect">
            <a:avLst/>
          </a:prstGeom>
          <a:ln w="0">
            <a:noFill/>
          </a:ln>
        </p:spPr>
      </p:pic>
      <p:sp>
        <p:nvSpPr>
          <p:cNvPr id="132" name="4 CuadroTexto"/>
          <p:cNvSpPr/>
          <p:nvPr/>
        </p:nvSpPr>
        <p:spPr>
          <a:xfrm>
            <a:off x="1403280" y="106524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olima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5 CuadroTexto"/>
          <p:cNvSpPr/>
          <p:nvPr/>
        </p:nvSpPr>
        <p:spPr>
          <a:xfrm>
            <a:off x="1445400" y="575928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 Imagen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13800" cy="3400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olima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CuadroTexto"/>
          <p:cNvSpPr/>
          <p:nvPr/>
        </p:nvSpPr>
        <p:spPr>
          <a:xfrm>
            <a:off x="1588680" y="561492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8000" y="2413080"/>
            <a:ext cx="27352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2847960" y="6021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ciudad frente al mismo trimestre móvil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2930400" y="981000"/>
            <a:ext cx="6019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 Imagen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2585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187280" y="9810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5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1 Imagen" descr=""/>
          <p:cNvPicPr/>
          <p:nvPr/>
        </p:nvPicPr>
        <p:blipFill>
          <a:blip r:embed="rId2"/>
          <a:stretch/>
        </p:blipFill>
        <p:spPr>
          <a:xfrm>
            <a:off x="1814400" y="4724280"/>
            <a:ext cx="54482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"/>
          <p:cNvPicPr/>
          <p:nvPr/>
        </p:nvPicPr>
        <p:blipFill>
          <a:blip r:embed="rId1"/>
          <a:stretch/>
        </p:blipFill>
        <p:spPr>
          <a:xfrm>
            <a:off x="1376280" y="2279520"/>
            <a:ext cx="6389640" cy="3094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187280" y="106524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bagu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5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00280" y="5724360"/>
            <a:ext cx="758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4 CuadroTexto"/>
          <p:cNvSpPr/>
          <p:nvPr/>
        </p:nvSpPr>
        <p:spPr>
          <a:xfrm>
            <a:off x="1107000" y="546264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DANE - GEIH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40000" y="971640"/>
            <a:ext cx="73800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bagué 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2 Imagen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96000" cy="1876320"/>
          </a:xfrm>
          <a:prstGeom prst="rect">
            <a:avLst/>
          </a:prstGeom>
          <a:ln w="0">
            <a:noFill/>
          </a:ln>
        </p:spPr>
      </p:pic>
      <p:pic>
        <p:nvPicPr>
          <p:cNvPr id="71" name="1 Imagen" descr=""/>
          <p:cNvPicPr/>
          <p:nvPr/>
        </p:nvPicPr>
        <p:blipFill>
          <a:blip r:embed="rId2"/>
          <a:stretch/>
        </p:blipFill>
        <p:spPr>
          <a:xfrm>
            <a:off x="343080" y="4437000"/>
            <a:ext cx="566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7640" y="150480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 CuadroTexto"/>
          <p:cNvSpPr/>
          <p:nvPr/>
        </p:nvSpPr>
        <p:spPr>
          <a:xfrm>
            <a:off x="395280" y="5348160"/>
            <a:ext cx="19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- GEI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8360" y="5637240"/>
            <a:ext cx="849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Otras ramas: Agricultura, ganadería, caza, silvicultura y pesca; explotación de minas y canteras, suministro de electricidad, gas y agua e intermediación financier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“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   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473040" y="2048040"/>
            <a:ext cx="7978680" cy="3257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295280" y="107460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Mayra Alejandra Arias</cp:lastModifiedBy>
  <dcterms:modified xsi:type="dcterms:W3CDTF">2014-06-16T22:13:38Z</dcterms:modified>
  <cp:revision>163</cp:revision>
  <dc:subject/>
  <dc:title>Diapositiva 1</dc:title>
</cp:coreProperties>
</file>