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8CB-3A86-4143-A89F-184425EB8F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3582-9B26-4A09-8216-060B34944F5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110A-73DE-4D02-A82B-E4CB29B4016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234-5641-42FF-8FB4-43416BFB67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2ED-6B19-448D-A79D-C1D34DA841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465A-435B-48FA-84E6-2B8F08871B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996-072A-4329-9122-3883464C73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5052-87BF-4B8D-B559-67D5C4834A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3CE2-E99F-46C4-82E0-31C1589CF2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C8E-15D8-49B4-915C-66971AD89D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68E4-F430-4254-9F84-1EAD9DD61E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08B-E7DE-407F-AAD9-F32A958907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A33-3B8E-4762-A9E1-9CDFBB5877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7BF89-A8C8-441E-AE73-B46219A93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43F42-EF7E-42A2-AA61-0D87BBC1AC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0D3AD-B868-4A0B-B413-0438E744AF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F6F4F-BDF4-4BA0-BF62-DC6943564E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4ECC4-2DAC-4650-B605-7DC86AD737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881E3-1DC3-448E-B3A8-FCEA1D6EDF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213B6-D478-497D-A3F5-B27EC90354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19633-9B12-47F8-BCFB-83EB74D484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4292E-F7C1-4D82-A937-96EA98C7DA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0E41B-6E0C-4336-B6E4-A726CDA59F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4CE4B-CE11-4010-BE96-78A2FFCE0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483CB-C341-45A5-B10F-1D7E4D72A7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3FFCA-8E70-4271-9350-C45541D2DC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54361-9E9B-4E52-9DA3-90DCCECCBA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1B1CD-302F-41E9-9745-6D3A4C1D87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848A4-6BA3-42BB-A674-914D4FDF77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702AC-A18D-44BC-BB7E-B86202AA56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AA274-9C4C-4B79-B88D-855F5F7695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45AAD-48C8-4B93-A032-26A84F8BB2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F30D0-F13D-48E2-A2F4-BCA798E3BF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B1813-AEE4-4CAF-BEFF-9CA4CC19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3F1D-D84D-4EDA-8D3C-831D046DD8A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84E22-7836-4AC6-A763-3169A08759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F83B9-94A7-4FEF-B02F-2E3550565D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21AEC-2022-4222-858E-FF010EA5A6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35F7-791A-4BF1-BF40-1F81830218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6C5D-BCEC-4C95-95D8-F0CA2C9489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6704-F830-466F-83CE-8EFDB63B0C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F609-5836-427E-BC6B-2FCC6048BC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9EA1-2145-4155-BB6A-5E09D808C9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0E6E-F8AF-4473-970B-7DD52EE4AF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EA08-27F5-4ED6-B0FE-E15BAF8430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CA03-F9AF-4CE9-8FBC-63A41483D4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3F71-F2CD-482F-865C-A3BB00C8CB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1B58-B312-4B8F-BA4A-E5A4AB6BA3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A372-AE2A-404F-B344-16FBFE9181D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FD2A-9AF0-4E90-B3DF-D58501FCBF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3C56-2331-447D-ACA4-A9D67132B6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A6A19-CDA4-4252-916B-B58FED319D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0504D-AED5-4EFD-AB39-10FDD7118E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D8998-D178-4A06-92C7-5FEC50FB02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0C4E1-6FD3-47CD-B4FD-65FBABD6B9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02DC3-7C95-46A6-8BE5-B0A5CC938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B173-9A63-43DF-BAC7-DDFCE509A2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5083B-CFF2-4ECB-8D4A-94F2722158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368F3-2D41-410A-83EE-0FB25FDB36C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72C57-872E-4897-A717-639B40C662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C731B-CE52-4674-B5E4-4FC7874C7E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DF340-38F3-4209-9184-9BC41F54EE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95B20-F47C-4F43-B54D-FFBB7BE7FBC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7E7CC-FBFB-497B-841F-600B828479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40A7A-6131-40A2-B0FF-C648D87DF4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F3182-8DC9-45FF-99F5-416BCD980AE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3D6BA-AAC2-49E2-9A51-824ACF316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E704-CDC2-48BE-8014-8D3433BC52A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CDF5C-D4BA-4B2D-ABED-7A82912235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ED1DE-1900-4C46-9E06-FAE1AD889E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BECAB-B53C-4DA4-AB05-AB8EFEFAA8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0855F-CE8C-45D1-A0B5-1E6017B0B6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1BDD9-548F-42CF-A53E-309E8EEDCCC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B7B66-A1B5-4FDE-B7F8-D7CBF2D678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2C05B-896E-401A-B4C3-CF7261FBD5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C915B-3050-4A00-B3B9-E0BDFC2495B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15300-7637-4E90-9F2E-1ACC5557B0F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D37C-AAE7-4AD1-8457-1DE4B576B1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B535-E035-4C16-B817-CD11841041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6943-D6E9-47E7-9CC5-73DA25158B9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C105-7EE5-466B-9900-F05EE313F02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33FB-7F38-43D0-A97A-988AECF602A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A5A2-5294-4297-BB33-A69B5232F9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BACD-56B3-44D2-B796-3B6FAF0A35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8D40-0E98-44DD-B9AC-90BFE81B5A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535C-2D20-4350-99F6-09FD659B86C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CA1A-BE59-4A73-AAE9-FD920734411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8057-7CB4-4D3C-93B6-FC1ACAB09A8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FC29-9A67-4A4F-8842-F09D7DE3E3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268-1549-47EE-954A-92CDAB87F44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1CBA-79D5-41D5-AC35-EA6BF367E26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86B6E-6335-4AD6-B328-7967FAD9E1D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34772-A754-4D71-95C7-A949A9A30D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B3A476-B9C6-428D-A4D0-1EAC0798759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D7A8E-7687-4238-8C09-9C2B12D6EC1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1A082-3628-4292-B942-BCF7AE5597E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D06819-2F49-432B-9941-13BC2C8532C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8005A-D206-44C4-9D69-BA1A26A1953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D914C2-31BC-40FB-ABCB-968B79C6258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8DB39-31D2-4E62-96FD-396103A234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52AB-6E1C-4BEB-838B-3B863C533FA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A110F3-41D5-4BC6-98FC-C3A3DEF9A7D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3D021-ADCD-423D-B0D7-948EC27B55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902F6D-8414-4C98-A27B-BE5D5FB196D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CC681-521B-44AB-9B5D-DD0AF88B0E1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ACA9C-E07D-486D-BD1C-C03F16A4359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22856-7424-4920-9450-067827187FF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62147-CD6B-41EC-9F9A-67F72EE1428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B54CA-0F58-4C2C-A0D8-82D132E7061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2D25E-649F-40A2-A2AF-BB2939AA7F4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6941-DA19-440D-B642-D1F4733BD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4873-77C4-448B-963B-D9DDCAB13A6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9EBD6-EBE4-4022-9873-66EBF00EA43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805A1-1BB3-4694-8EB6-E217AD7B9F3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7EF8C-1E2E-4355-85C9-2F34B73864B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46812-F15C-49D7-BC09-8C2C993667D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E054A-8821-4B44-9EC5-B8324629A1F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BE52-335C-4DA1-B293-C4D70FBBB9D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362E-4D21-4C03-80CE-2C1F6012917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2A57-C058-42BC-B040-0C0ABF095F6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C6D5-5DA0-48F1-91BA-8E792DDBE77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055D-35D1-46A2-93C1-C60F5D690B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923B-BCB1-46ED-9CB6-1ABAEB1A01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E546-64DE-4C7B-B029-E4686F027D2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FBB6-BA82-4FB3-8EE9-02C7D735D60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69D2-24AC-4E56-B739-3FEB8128081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8D4B3-DD2C-4378-9EFB-D3D438FB63C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C184-5EF1-4BE9-AB92-FF6F89C96F1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514B-09D8-445A-9E6B-0813195B93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F9AA-035A-4189-9EA3-168A71C08C3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D57C0-1769-4265-B9BE-8EFC1AD6D05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E33A0-DAAA-4812-B308-5788434D171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9D4A7-9920-4A8A-90B6-F46745AFAE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0487-1D3D-4D41-A9FF-5B0B91A6A95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B2FF4-3C81-414A-A17D-6DF64C2A535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08492-6633-4A78-880F-D72BEC0706B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2B3F5-16F2-4B41-A6E0-9C521853D0B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4A275-B3BD-4165-8E28-CAF1F55D6D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858DD-DC91-4149-883C-FDEAA7A0CC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E57B4-487B-4E06-870A-68BC4E3A911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E2542-162D-464A-B9BE-987E12CC360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761F9-F05C-4FD9-9B3C-CAD75082F0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AA2EA-4FD0-4FB6-8B68-B23A829C99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3E271-032A-4178-B484-9369240BE7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56A9-9364-482F-9807-46B26A362E7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70718-F40A-45BB-A492-18FE2A888B7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917AF-421D-496D-8627-6F1FDEE19B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0B0AF-8313-4708-85AB-652E9851BD5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D82B2-4DE0-48E8-BD4D-6173E60CEB8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EEB88-E7E1-4FFF-A385-AB075A30430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0B134-9BB1-44EA-9227-99C24A0F376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E39B5-45E2-49E8-A09F-EE86482A063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EF133-2571-41D3-B73D-5675972CC25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B0B95-809E-450D-8038-504F3BD3DDF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597A5-4B8E-47AE-8BE9-7078E0F84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38DB-776B-497E-8072-753061508C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FCAC2-2F85-4FF1-AC41-15AB4B573DE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A07B-108C-45E8-8AF5-4FE7C2BB961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C6328-BB03-4E62-A783-DFA8957BC28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81159-0C80-4B36-8569-8AB9ED65B09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B939-9CD8-493C-B841-F56155F8E21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7946B-91C0-4D36-A72B-90E091AA32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CDB3-1D14-4E55-8196-3747E21DDB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70AD-BCB6-42C0-BE89-1E3E2FE6F3D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6411-9EAA-4836-B156-E3C3DE11875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35F6-6D52-4EE7-9237-728608D8F4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3C4F-8006-4E90-99BF-406D01F9453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10F0-96BF-4620-B35D-3F08B0B396E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54D2-CA4D-4C2C-BD96-8DA57F4F93D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310B-5ACC-4014-B09C-2CE21E88E6E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260BD8-2924-437D-8AAA-1B837E7DBF1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7A7652-EC59-4611-BAB6-ABD4CD58359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DE039-4872-45D5-90B2-B4A44969F89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63B39C-2528-49BC-A399-97BDE7A1D0F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95080-4A2F-4A24-896A-6D4B71A907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6EA4B3-E6D6-42BD-A766-75B90D6D843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19E2C-4033-4D00-9C6B-DCBBB758EF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DB08-5E6F-41AC-80F0-52ADE4BC86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8F0D9-B4FE-44D5-9463-1ED54A3E552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F11A9-10A3-4A31-B242-5768060E5A4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3D9616-DFB0-4925-82F2-75FFDE7FB5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F25CC2-9532-4FC6-B05A-68FF6BAC29F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32470-0BB9-43DB-BCF5-03167AC9C11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B5906-77EF-4B52-A834-62098555C7C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73191-DBEC-46E5-9D88-20E979356FB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053F6-8681-4FAB-84F6-5BDCA981A8B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C46DB-3B42-4F2A-9675-6012361FEC6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8C6B7-36A6-49F2-9572-DA6A5E37FF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D3F5-5676-4872-A9CC-4643D8674DD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BFA63-E1BC-41A5-A9D1-64B878A1AF6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F07B0-0703-40F1-87B4-99293A0E54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7AE9F-E734-402C-9649-731207CD848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D4ADD-6291-4891-B00F-EAB41D08D6C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C372D-DA35-447F-B07B-DF94916DCCF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9F577-ED44-4781-9FF2-1D3FD876023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E8D62-4E57-4827-B22F-60DED0BDF85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6C92-C062-4FF6-B8B8-7C8013E7B4B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B6DE-3A00-4106-A6D5-E85FCA013A5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06BD-C826-4797-B6B7-15D837E916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5909-3523-4C41-B7D9-E3084EB5CC4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A886-29B4-46E5-9920-EB80087FAF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056BC-5968-4638-9D69-7B190EC267A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61BE-60DB-4805-B80F-63FBE8BFC55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8273-7D46-4AD0-B4D9-53D87361F69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2FF9-52E5-4347-99B3-236FB4D41A9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76F5-808A-4AAD-A564-940A8DF8134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1C8A-79E4-4A12-A0FA-B33F51E415F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81B6-669B-443C-A5A3-CC554F7B6E0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2C39-C0F0-42D5-A703-FD6FB0B0291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FC0BC-D631-490F-BCA1-937003943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5A0D-7EE0-4CC9-A8A6-03BA651EBD3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742A6-9DF2-4202-8798-C830EB7E8D5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194CF7-956D-47D2-A503-0922B642F8A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5A755D-F014-48FC-B739-DD33AEAF00F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F2B800-EFB2-423C-BB30-7E94BDF0680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715D8-9606-4C91-8DA0-BD1CFE1ADEB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3F722-287C-4090-AA26-6AFDB95F89E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5C072-575F-4282-A3F0-73FCEF71F46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A5273-FBAC-4914-9672-2FFC9F6E1A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1AF06-2D28-4A00-BBDF-526E732AB9B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F6F8D-1568-4719-88E2-E00C6C77B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34D7-E6CF-4697-A022-8D4104CC303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3317B-A64A-49B2-8510-49360851A01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026AC-5853-4379-82C7-9097D8A2BA9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75B46-227A-4694-B54A-A5D010306BC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70395-E16D-42AB-9F37-7A18FE02D50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CC418-66BA-44CA-8505-D89433276F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FEDE8-7038-452F-86D7-8F2BD27CEE3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67E83-7943-4DC1-B524-99E392B1396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86E33-E064-48D1-AD40-9B1B8371F75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1D288-1220-4E9A-B60A-7FB5F52EC09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64198-9E4F-42F6-8A8E-C782FE78CB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E114-67CD-4817-901D-089772A9C1F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59706-439A-48E0-BCBD-90620F93A83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CCE44-1AFC-47C1-B1EC-83E623BCD4C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259A6-4E46-4710-AA7E-1544C3844AE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321F-70F9-4D48-A136-680BEA550CD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D2DB-5DAB-4B60-B171-71E3AB213F9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AEDED-085E-4F3A-9D79-8392444B0B8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D47E-BD2E-4547-818A-E24F2D0A970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935F-4ECD-4F3E-A133-AF7E4CA1B83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3F5D8-A118-4029-AF61-CCCC6E8F2A0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C62D-F2D8-410A-BD9F-8AE30EFCAB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FB7D-6451-4F53-B740-EC1E730A530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06C8-D154-464E-9586-AE1B6157D43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012D1-2A2C-45FB-8DBA-76C7D5437A4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4659-01F0-4B42-99B1-ACE7A45FB00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059F7-CA2E-4F21-A2F4-3F174BFBE45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CFDB-B8D3-433D-A1B9-2038A434D6A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CD5B-13EA-4887-B26C-C5496EBF5D9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1B82-8AFB-45DE-80CF-2A6BF52A16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83E8-763A-4C7F-AD34-EE9D93C43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983E-E7BD-42EE-B7A3-91F1E945B8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CB3-F14A-4471-A478-55BC8B9445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7D8-03C4-4654-8F2A-4E060845C1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D8C-AA84-40AD-95F0-5849808361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B1D-D6B6-4F79-B316-EC37AC8776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C1A-47E4-469F-A331-288FB06972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CB4-1A7D-4A5E-BFBA-EE8EF8E8FA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FB0-5B35-4522-BAC2-1C04D88E12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5B1-DBE2-47F6-8F68-839C590568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FAE-696D-47EA-AEF1-256F8F314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A05-776F-4032-8D34-76C5164066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00E-55D5-4354-AD19-3E1F3830F3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B97-D585-4BF2-A8C1-47EA45F0C3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1C88-9729-403F-958A-AE29F71A4D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89ECC-80D1-40FB-A78E-F0A3BB4549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BE04-91BC-47B1-BA47-0FCADC303D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A959C-9CDC-4B89-9556-4E7A5CFBF0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C20D1-ECC2-4858-88AB-B5B0C2B3CE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2A9B-7905-4D3A-A0FE-F54EE8EC84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8F87C-B16A-437D-8F8B-0A48A5F1E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6FCA7-4B88-492D-9300-017A20AF98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6A9A5-E42D-46BE-8F28-6AE953E4CA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64EFD-92EC-4FFE-885E-C964377FB6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59E8-7397-4AF7-95B5-4FB7AE61A6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D5A2-8A7F-4850-8105-021255D047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E68B-FB0D-4770-A236-6B9607EFF1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A90B0-80F1-410C-A76A-9F970928449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EF3C-9DFB-45E3-B952-9F83B5D139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3E706-C0FD-42C1-BDAE-6B39800C3F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997C-FA20-44CE-927B-18350429B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EECC3-F5AA-4F25-A024-A02D94025B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957AC-E922-4578-8F81-4D109DCD9B6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CAC5-9ADA-4F56-829C-9B3F9C5417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F2121-8628-4342-9358-9D5E24CBB7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4F796-0385-4031-8F28-6930B60E26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E7787-2F62-41E4-A923-DF06FFAA3D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87A6-9CE7-49A4-B4BD-BBA20A732F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5BB4-5E0B-4B7D-8B27-F316D73828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E9D-5E57-49D0-9FC4-74DDB78027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3CE0-5110-4370-94B5-21ACFC88F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30DD-62FB-455E-9E27-33B6150A8F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020C-1C7A-47D5-8600-2187924D9F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201-9428-41F2-BB48-68D4CB8D9BA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38E-14E3-4342-929B-A2A8BCDDEA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7763-C85F-44DC-BB5A-56F94FA9CA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BFD-9799-42D7-8AB9-939CF56B40E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41FD-E6E0-43E7-9EB2-F9E98232022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FDD-B657-4730-84B7-B1A2D75220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20C-E098-488B-8E96-C7486D2D96D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FC8-920D-44DA-9EFA-19E16E8AAF2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E43-1297-428D-84F2-F386DBFEA35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725-A872-48F4-B498-399B671416E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A0E-95BB-4900-BB71-63D04FC284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406-2746-43AD-B211-9312FC3E92B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270-A655-44EF-A4FF-2B57843F6B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C93D-0EF5-4E07-B5C5-D23A460B887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173-96BF-4560-A19E-01FC536D706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1D9-E875-46FD-87B1-53D6C7D0F2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D7F-1417-431B-830B-D7967E0438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1444-9255-4FE8-9AFE-4CFD0ABB91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37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5D4-30DE-41F5-897E-F0872BD84B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12E-373C-40D0-9012-F2D120D666D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E83-E919-44FB-8E6A-C12FEC6476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2F8-DFD7-407E-81B5-972D158D32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Ne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187280" y="476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6728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0" y="5415120"/>
            <a:ext cx="925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501480" y="1341360"/>
            <a:ext cx="7861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Text Box 3"/>
          <p:cNvSpPr/>
          <p:nvPr/>
        </p:nvSpPr>
        <p:spPr>
          <a:xfrm>
            <a:off x="1571760" y="476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682560" y="537372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5 CuadroTexto"/>
          <p:cNvSpPr/>
          <p:nvPr/>
        </p:nvSpPr>
        <p:spPr>
          <a:xfrm>
            <a:off x="891360" y="500544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16000" y="1593720"/>
            <a:ext cx="669780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141560" y="430200"/>
            <a:ext cx="68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60240" y="5094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1025640" y="1341360"/>
            <a:ext cx="7070760" cy="352908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4"/>
          <p:cNvSpPr/>
          <p:nvPr/>
        </p:nvSpPr>
        <p:spPr>
          <a:xfrm>
            <a:off x="684360" y="5365800"/>
            <a:ext cx="7883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Text Box 3"/>
          <p:cNvSpPr/>
          <p:nvPr/>
        </p:nvSpPr>
        <p:spPr>
          <a:xfrm>
            <a:off x="1619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48783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1403280" y="1766880"/>
            <a:ext cx="6121440" cy="288936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44360" y="5300640"/>
            <a:ext cx="874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3"/>
          <p:cNvSpPr/>
          <p:nvPr/>
        </p:nvSpPr>
        <p:spPr>
          <a:xfrm>
            <a:off x="1133640" y="549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5 CuadroTexto"/>
          <p:cNvSpPr/>
          <p:nvPr/>
        </p:nvSpPr>
        <p:spPr>
          <a:xfrm>
            <a:off x="545760" y="5154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1 Imagen" descr=""/>
          <p:cNvPicPr/>
          <p:nvPr/>
        </p:nvPicPr>
        <p:blipFill>
          <a:blip r:embed="rId1"/>
          <a:stretch/>
        </p:blipFill>
        <p:spPr>
          <a:xfrm>
            <a:off x="1703520" y="1644480"/>
            <a:ext cx="5983200" cy="338472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4"/>
          <p:cNvSpPr/>
          <p:nvPr/>
        </p:nvSpPr>
        <p:spPr>
          <a:xfrm>
            <a:off x="420840" y="541512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54936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Ne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768320" y="208296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5 CuadroTexto"/>
          <p:cNvSpPr/>
          <p:nvPr/>
        </p:nvSpPr>
        <p:spPr>
          <a:xfrm>
            <a:off x="901440" y="40464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Ne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2 Imagen" descr=""/>
          <p:cNvPicPr/>
          <p:nvPr/>
        </p:nvPicPr>
        <p:blipFill>
          <a:blip r:embed="rId1"/>
          <a:stretch/>
        </p:blipFill>
        <p:spPr>
          <a:xfrm>
            <a:off x="1619280" y="1728720"/>
            <a:ext cx="6048360" cy="1955880"/>
          </a:xfrm>
          <a:prstGeom prst="rect">
            <a:avLst/>
          </a:prstGeom>
          <a:ln w="0">
            <a:noFill/>
          </a:ln>
        </p:spPr>
      </p:pic>
      <p:pic>
        <p:nvPicPr>
          <p:cNvPr id="1322" name="1 Imagen" descr=""/>
          <p:cNvPicPr/>
          <p:nvPr/>
        </p:nvPicPr>
        <p:blipFill>
          <a:blip r:embed="rId2"/>
          <a:stretch/>
        </p:blipFill>
        <p:spPr>
          <a:xfrm>
            <a:off x="1376280" y="3860640"/>
            <a:ext cx="6351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Hui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984240" y="1770120"/>
            <a:ext cx="69548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eiv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41120" y="23716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3736800" y="5867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ran Encuesta Integrada de Hogar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3059280" y="3141720"/>
            <a:ext cx="6049800" cy="183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196920" y="5195880"/>
            <a:ext cx="235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 Los resultados presentados para San Andrés corresponden al período enero - junio 2015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583236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3164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Ne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116000" y="1736640"/>
            <a:ext cx="67327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69840" y="404640"/>
            <a:ext cx="71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Ne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373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120680" y="1557360"/>
            <a:ext cx="67089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Ne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509760" y="2365200"/>
            <a:ext cx="8270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Liliana Castañeda Pardo</cp:lastModifiedBy>
  <cp:lastPrinted>2015-05-27T13:14:40Z</cp:lastPrinted>
  <dcterms:modified xsi:type="dcterms:W3CDTF">2015-07-29T21:04:57Z</dcterms:modified>
  <cp:revision>88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