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49B-2906-4E9E-BED4-0E8A406D9E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356-354C-4BB6-9895-0F1F115E9CC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976-7B2B-4E29-8DD3-6AEA14B8E31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C84-EA82-491D-92E7-76E42FA690F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94C-19F5-41E2-A42B-343B530EA11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3C2-BE53-4EC3-8452-93BEF7B5C00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67AF-0A02-4840-B4E0-855DEC7BC3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FAE4-6394-4E11-B922-4849178559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BA1-A737-4491-813D-0998EDD469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B67-758F-42CB-AF01-E4D5A38BAB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024A-D8E7-44C8-AF33-FB5CE3B56A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9D3C-73D0-4415-B22D-B0111BB089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39A-BB96-4A10-AB14-A2592669F0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E26-D94C-4CB4-834E-06B347CDD1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8EF-4648-4C4D-A32D-6E94AA3254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383BC-7294-42C1-AEAF-B09D3D4CE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94C55-F969-4608-837F-C30D2D45401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27F6A-D2F6-4ABD-84D1-7A6B61379C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79073-BC29-4595-B4FA-3A40C781A11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D57B3-60F4-4231-AC66-0BA6B03358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A227E-6217-4266-9A36-593A2ABAD0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2A2BE-1E10-4A5C-8B58-5B730BF649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3332B-5BA5-4737-A886-BAA8EE089F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C1786-4A6D-44B4-9339-127EE88F02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2956C-8F94-47C7-AFD9-9DD0662DA4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E6F68-2EC7-4A65-8988-02C9B2650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CFD1A-C30A-442E-A357-4ECBC31925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839B0-240E-449C-994B-B490073E44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4B7BF-C636-4473-9F8C-00578F2709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D42CA-39EF-47CB-801D-0FC93B16A9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634CB-E140-4B29-A04D-99F4682390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57DA2-3AFE-4548-9899-BEE08E266A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B4D31-A69D-4DA4-9107-09F73E5FF1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B18F-4228-4B20-935C-4FA05EDE24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6A363-2B6D-4172-AA7F-3F808D4B6A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95EC2-46E8-408B-B433-22F7AC306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AF9B-56BE-477A-B87E-1390CB0370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CFA79-AE5E-4477-9360-2A043624B1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47EB5-9589-4C0B-92EA-FAF736E62D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DD0E-74F5-4DE3-A4FD-1F90B86ABD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0A38-438B-40EF-BA80-9D5E2052AF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0C2A-6D6A-47D4-8083-A573010033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1566-F7EE-4A1C-9783-D0819C6777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E95B-FA46-4F3F-92DC-EBB116C559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DF14-8CF3-402F-AC0B-52C48ACB199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CFEE-D82E-44AC-AFC8-E18A414F0D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3B29-EF83-4CD7-A753-4AC799B716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A8AC-2F91-44E6-BBF5-CDFF9B5D7AC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4651-2F1F-47D9-9623-EAF91FB8D52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7095-48F6-4D42-AD21-4B9EB56C90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4AA1-7EDD-4395-8B87-148008384B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72A3-159D-4599-929A-38C6E0030A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B0F1-3116-425F-BF49-3B2082937DE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26DEC-6AE8-4EAE-95AB-6E94585C720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CBF89-F6BB-415A-BCD2-10046259B57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240FF-A27B-4153-857E-3F9DE96C007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AE428-4E88-4C3A-AAF2-5DD9B54671D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411EF-77CB-489E-9028-64859E67F2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1D61-DC25-47D3-A54E-2B26AE0009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822F9-D5E2-4E40-B980-91F1020A412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E36B1-0AB6-4543-B117-747DD04B0C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C5975-E62E-4A9F-B88C-0C097D36A7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D4DFA-480B-4789-A9F0-B7D9C6C9FE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28145-12AE-4D71-8F2B-BDBACA3AF59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C780E-A69E-421E-A71C-07FC1B1EC1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5A1DE-3759-4543-95C2-0C1C57AABD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A1799-CE26-4343-A81D-F2AF7EB315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B3DD1-ABD3-4537-BD54-297542534E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62D0B-1055-436D-AFB1-83DC0FB8D1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8C44-3C37-4DDF-B096-35FCB3082E0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0E886-A902-4C97-822B-2E973ED987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7D6B9-7E90-44A1-BA2F-974EF0AD27A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80C27-B944-46DA-8A7F-28DB1919CD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48D06-9BCD-4998-8BDF-C3A1DD5DC9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018DE-9D8F-42E2-B6BC-F0866435D27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E6370-6497-41DC-9775-E03DFB1CD9B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FBF75-3D80-45B7-8525-70FF9F337B6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5CCF9-6977-438B-8DDF-E46D7172AE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8B159-F4E1-4E0A-A24E-E7B2DCE793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4752-BB36-4579-9D82-BE3360BBB5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0EE7-F3B1-4CC0-997F-3DFFE76EC30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1390-2A96-4B8E-BEC6-FE85C2278A8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B42F-C9E9-4533-BDD0-F5A72D04803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FD7A-0CCD-4BE2-BC11-B2FA74016B1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F869-81D2-48B9-8A70-A7115391DC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8964-842F-4B45-9649-12F94AE774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DD52-0586-418D-8A82-239DDB0B572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129F-F384-40B5-AE27-C4055A3BF1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6A40-1F34-425E-BD73-FC9B924F573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5396-92C6-42D5-9696-74DD3491F07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7D20-0763-44E2-8820-1B29E7DCC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2A3D-0F6E-4CA8-9078-EC93B6A3B89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2C7F-0308-480D-9F7A-3A40116771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B7E0DA-F3C8-4976-990A-25FC50533F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3C423-F571-4296-92A1-8E365D0FFE4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A6BC7-32B8-444D-BEBC-4F78B51B0CD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C26B2-248A-41AE-9D3D-120DF38E86D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55D57-4769-4798-8D6B-A58E1B20220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F9D034-0387-42C8-B391-C5C012244F5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DD2E0-DC39-471D-A8CA-70C6E9C6D8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52229-E532-48D0-9FB5-08824D4E086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9408C-304F-4FD8-8A00-DF9BF9050C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94A-F9AF-4FAF-9DA7-4C6E296A667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BC1E87-D7AF-466D-A604-9B4A08077E4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AD3D3-B999-46CA-9CFE-810305D8C3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E0991-3E5C-4EB9-A5D5-D205631881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EF009-7781-4E9C-B379-5202329C854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C1E2D-9C93-4410-AF8E-BAA0FDAD30B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59134-D249-43E1-8809-E22ECE4FDFB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5438C-B6CF-45A3-B1E0-D669031AF07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99C38-35C5-441B-BBC2-47B6E2BD1F5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3640C-39E8-48AB-A698-BAFBE641BCB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4289F-DC5E-4275-BE1D-0B884DB4A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6A21-D25A-4CBF-9C76-1A14B2869C7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C3811-302B-4DB8-B2B0-61D5C20DB6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4D37-5C93-43BE-B8EB-CD07C6CA12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CF675-7A76-4B12-82A9-4F9A1D291C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F61A1-4123-4D14-A604-07CF5010EDF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3233F-2A62-4061-B085-7F94832766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9C26-58C5-46E9-9B32-0E03247705F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5E7B-44FD-43F5-92C1-EE0705B2E6B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273B-7ACA-40C6-BCE6-E8576F8D98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12B3-7351-4B1C-98E3-BA2C19FB003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B196-B6F0-4945-8BF7-32496DA19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3707-B7FC-4E66-A35C-4F2617C58B3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663D-C490-4D45-9DAD-A8EBA4F62E0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4539-6B45-4350-8F74-FA9F92A1852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6E3E-6067-4E3D-8C1B-339BF350F89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A354-2130-44A3-BCC8-CB64BD36F92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FFCB-C0FC-4B89-9EC8-255F5A45C91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E78A-DE1C-48DA-A485-BF61E4B07BD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E534-4F66-469A-9686-AB968BF2694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9C404-494B-4D31-B7B9-51A90941B31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CDB3D-76EB-4F07-B060-EFEE2AC11E7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CEF5A-4EA8-4D59-BF23-D7B28AF639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44EC-AC0A-4F2B-8931-6E5BE313AC7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F2982E-EF81-49A2-BB10-3E0A5949363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5C542-C610-422C-B851-BB789FF100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7C1ACF-46F7-409E-8CFF-986694D708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A8091-6B29-4D1D-9AE4-813C68A314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0FD422-948A-4338-A38D-E83FB308CEB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31833-2CC4-480A-870B-54F116BD010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1BA6B-F0AC-4DCF-AB42-93932C4AECC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9A3E1-9AAC-4BAC-995D-E51FE2F876F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BB8DF-4451-4B05-A4F8-CC7850F4872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F8051-C203-46A4-91B7-E246D43EA2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B368-DE71-4187-872E-C86B378A11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600E3-E870-45FA-A669-3576ABCCAFA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6B185-A1E5-48AF-90FA-9C00978A3FF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7268E-29FD-4CF5-A448-6E8F1D2567A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37191-B7B9-44E1-98A3-1A8890389A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8D0C3-7EFD-4946-A918-D77BCAF1474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BD2D1-FB2E-4F9A-A93C-C48156CF72A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BB884-DF1E-4748-AC69-4F5BE074E93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AAEAA-BB6F-4117-A36A-AB2DDC22AE4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DFB2F-CBD4-4565-9586-268BC45B8E8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12532-49E6-42C0-A2AC-B76F91400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D51E-BD20-461D-B5CE-FA8E20FAE0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0C8B6-1DF1-4865-BD78-C8C8D05D30D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E8FC-8F93-4A8D-AC07-FFE0F7D6A28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82F0-3B5D-4D1C-A06C-128754877DB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2EEE-E1D3-4F26-8F9D-147FCF51BB0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F9C5-848A-4764-A94B-8B3164B1B2F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E487-34B6-4690-9C34-85D92577B96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0601-73D4-42F6-A15B-9D810A9BC1A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4CBB5-DE08-4D5C-88CA-6D1364BC877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FC1C-95DD-439E-89D6-A2A2A6B7B4E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CF1C-CBD1-40FB-A944-FCE971A9B9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F6437-14E6-4DB5-822B-93A43FD20A2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2A1B5-EAC6-4E68-8058-FA31E8D10CA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A7E6F-48B8-477C-8973-AD2AB8C7A4B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A557E-1170-47A2-A814-0D11CB6E33F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AEDA0-09C8-4DA0-AD31-E9F82FB95FF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D94FA8-C00D-4A60-8AD8-F14CDF81A12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7685D-D434-4081-A8CE-4B375F75CBA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E65A44-8BBC-41E1-88A3-F390A0F8A00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05A76-E61E-4B45-BE6D-E0C4E858131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327C0-7C4F-4EE1-99AE-92A4C3AE50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4D7351-C4BB-4BCB-AA5E-97A2CFFE60C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852CD-6B75-4BA9-8FB1-D649AE4EA0E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F1A4F-77A7-4170-BF00-C7F42D84FF5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2FB5F-644F-44BD-ABFC-58E7C23BA67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76544E-BB9C-40DE-A4BF-B34552684E8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3E066-666B-408E-80A1-AB070209367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C1F41-8476-45B4-A01B-DA20E7BDA26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E4BCA-43FD-4FF4-AF63-39561C3EF7E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E80EB-5ECE-4C7E-AB12-72F508FE96A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30A31-8483-4747-A22C-8AE33F2529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4A90B-0498-46ED-9E3A-47BD1B5FE4D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093EF-71DF-4249-B95F-41E6F3C77C8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1D4D6-9FBD-4DF3-B22D-69B0D7550DA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1E59E-C391-48F2-A1E1-F9CA14FF480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DDB2E-782D-42E0-9C11-CABFBE73611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555F5-25FD-4BCA-B5B6-E500C9C5BF3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831F2-C9F4-4F18-A643-4632BDE646C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8769-A01D-40D2-976E-6B1E83292AB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4DE44-C33A-4068-892B-0A2793D57A9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0E35-DF3A-49C5-BD89-70327CAA3B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8B4F-F134-4F31-9093-55472EDB01B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0FDFB-8031-4A2A-BBD1-33F1994F224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D3BD-22DF-44B3-8E42-930E39C4F13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C1491-711C-4F2F-B192-1AADCF08894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482E-3AC8-43D0-8003-6D7181F6847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C49F-4BF2-4F8E-AC7F-C5A39EBFDBB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5E61-9AD0-475F-A315-0D3B12B53CB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55A0B-B497-4857-B954-90323B0EC66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8AEA-8AB6-4AD0-9D75-E5874792597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E9234D-5A4C-44CF-90FC-F745F49915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884BE5-3317-40C0-B8A4-58ADBB73E79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F155B7-5236-4ABE-AA99-A41482CDC4E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C6A325-45F8-40F7-B062-43FDA08B2C3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C0096-07F4-490C-9AAD-986C0B3CB6D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4E0E8-3657-4954-9B13-80BB75AAF0E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792D5-D88E-400E-99FE-072636E80D6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B4869D-944D-4166-9A6D-185D0FBE704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D69D2-9F41-47C1-B4A2-4B775CF4C2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C333C-141A-4471-9BDF-B92CD3FE58C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7EA6C-53C5-49C8-85F3-5850AE67C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49D26-7822-4143-94F9-27A41F2B4F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5B8D47-4A70-44B5-A1D6-17FCA756CD1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BCE680-45F5-4E79-9445-46E8EC064AC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CE318-5057-408D-A142-88A0EEA46F1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15CF3-0124-4765-A04F-7F1FD915D2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5A81F-F31C-4C9D-94B7-3FE2C06310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3A2C9-393D-4A1B-BD5E-A29CAC8BE4E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710F3-A720-4FB3-8586-09DC3255B2B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8DC0F-7AA9-4F2D-B7CA-6CDA542150F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07A490-0F23-473E-B1CD-AE261380C6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08964-9D40-4C18-A59F-4A46012ABCD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D06EA-5E2B-43A6-A6D4-35E46626817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8FBBB-D1FD-404A-9B8D-4B0EA60609C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1323-8AC2-4D2A-A983-28D43374180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D1B31-F472-4CC1-BAE4-39AF44411CB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0024-AAD6-4F36-8851-0BE7F4D37E5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5E1E-64E3-4D2A-B142-03AD27D56D9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F3C7-C863-4E00-A308-61B3FB9C1FC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BF8B1-2485-4D26-91A8-B5CDAE66D32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99BB-745B-4B71-A2D6-A995B8FD47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87514-426A-4183-A962-17C577963FD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2BF1-D15A-4070-B2B9-C1067B90747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D80F6-F983-47B3-ABA2-7474D2E413C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BB0C-FBF8-463C-9825-00694C4D00D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5E2A-9199-4C1D-8BD7-F0684CD40D9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C9D6-A54E-4025-A782-1842358997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6D40-1F99-4A3A-8991-2457082F0E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F5CB-C5BB-4E9B-BFD3-2C53915C9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FC1A-89B0-4B80-B71D-F12CC9CDC2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249B-CB9A-485A-B6ED-244A48A075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9BC5-9931-414F-8695-53D624BB10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563D-EEC4-4E4B-8CAE-D3E8B6A83D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C8BF-6CB2-4195-8E3F-D7BD25CEB1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5E56-8A6D-42DE-A144-5DAC99E9A7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E71C-107E-4DC5-B457-8AAD024A94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6B98-280C-4316-8A62-37DFA6AE33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B84B-2F98-4DC5-A011-10E3D747D3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4EB-2592-463C-AD0C-81659AA329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F67-D8AA-419A-91C9-C5EBDB5DBA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555-B9F1-4DA1-9724-EF189AACA1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A38-B382-40C0-91FC-D0565C0E1E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17A-5F89-42FF-AD91-5937C31E4E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EBF-EA47-40E2-99A6-5A9D4454FA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E75-A108-4C80-84B7-A8353E73B3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58E-BE87-4FB3-9CD5-50C7D5FD59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EDE-1395-4779-8BC7-C31BE699D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600-8325-465D-B6CF-F9B993157E1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548-399A-45BE-A30F-D8702BC23C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CEA-2037-471B-A26A-3E746D8ACC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5C57C-D412-4F04-9A2D-21123B125D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5634-6152-4575-BE53-69F16C9718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5856-48F5-4E6B-B0FD-7E77DB1E72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93DE-7139-441D-8A0D-1C444179A0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6A788-3C1B-4578-9BAA-060D4304E1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FA4C0-EADD-4AE7-9AF3-3DFE12E711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8F7E2-60FE-4B62-A06A-4C5A829E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74CC-1620-4DE4-B4D6-9BC6B67BBF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79694-D729-48A2-B18E-F365F4875A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73B60-8890-42B7-9031-06A4A6D7B3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2295C-BD4C-4172-B6DC-DB2344939F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A76F-4D89-4B8C-ADC5-D5978F3D1A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1F2FC-C38C-4BF4-B914-D28CE28ED0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B7C3-4BBB-41D4-9C4C-6D30D862DE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DA1D-665D-4081-8EAD-A59747A3417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D205-3FCC-433D-8C95-4551970FDC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1C1F-D5D7-47B0-B0B0-D279FC014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89AC4-D5C2-4DC8-8610-4CE8EAFDCE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EDFB-BB29-4955-A85A-B1F329B03B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56A9-E890-4EDC-BE0C-29E661580D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6609-60A2-4C21-A481-BE8EEE4C34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D149-028E-4F50-9A4F-798EABD076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D9D33-2DA5-4021-918B-4DDF2790A1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8E667-CE53-4791-84F7-EFB11DF68F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88D6-AD56-4E67-BB91-2C033E34C62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BBE2-1D4F-4989-9175-3B1D58A1A5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7B7C-634A-4DE4-B5C3-0F91D9AB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E40-5152-45F8-B419-7BBFF6919E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22C-6106-4008-A5B0-A3905BFF5E6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09EB-74C0-417B-B2DC-1CCC0104B8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84AF-F078-41E2-B22E-793D65D825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9CD-1B2C-498A-804A-82174FFDB7E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FA03-E851-4971-8469-A3AF32DB58A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A2F-22FC-4ABB-AA80-9E4F5117383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0CC7-D8A3-48A6-B187-20E509C9495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8C71-7345-4A5F-A48E-603E08BD7E1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3F7-805A-4410-AF6C-619E7FCA96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C53-F0D8-424A-A8C2-388DD020ECE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2109-EE87-4BA4-9CFE-68610D8B80E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514-0E30-4A93-B6A4-F48F77144F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A873-91D5-4A41-BA8A-AE8E20AD9B6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A239-69D1-49A8-B695-2BE287187A2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311-B201-4C12-A77A-212A3129705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583-0BFB-46C8-BF11-4A1A55F333D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F1BE-AC49-4559-ADB5-A3E62D6C7DD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607-D4AF-4EC7-90CD-6C02262A86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7A6C-C855-4F32-8721-50D85CD0646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117-C3F1-4506-922B-46BEFADDC03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3EF-6E8F-4F2E-BEE0-2E0CA35EDC3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9965-2347-4F67-A310-A3797C308CD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4924-F502-4CFF-B4AD-A9E7DAB210E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535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90520" y="1727280"/>
            <a:ext cx="6761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^ 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^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*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9560" y="1557360"/>
            <a:ext cx="71848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bril - Junio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66760" y="1635120"/>
            <a:ext cx="664524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70080" y="3716280"/>
            <a:ext cx="65530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25560" y="1844640"/>
            <a:ext cx="7574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060640"/>
            <a:ext cx="7575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017880" y="4791240"/>
            <a:ext cx="5730840" cy="207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233880" y="318960"/>
            <a:ext cx="54417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546200" y="2068560"/>
            <a:ext cx="6415200" cy="34480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4 – 2015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2-02T21:13:44Z</cp:lastPrinted>
  <dcterms:modified xsi:type="dcterms:W3CDTF">2015-08-03T14:14:21Z</dcterms:modified>
  <cp:revision>171</cp:revision>
  <dc:subject/>
  <dc:title>Diapositiva 1</dc:title>
</cp:coreProperties>
</file>