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5.wmf" ContentType="image/x-wmf"/>
  <Override PartName="/ppt/media/image6.jpeg" ContentType="image/jpe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B50-1894-482D-A15D-C735B775FF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10A6-CC47-49E5-9734-91F029384F8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4C5F-4FFD-461A-92FF-A3296228AB3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4F7F-1C87-4695-9FC3-D9F29C6BEE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5E72F-9FBD-4890-A004-086D4FD061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17F4C-2096-4393-A3A9-B7889817555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A08CA-60BA-4A31-AC44-24DAD6BB82E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BA775-C3AE-4FDB-A85D-0EF4B30848B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BE171-340F-444A-975F-55F0A02577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1AE554-0C42-4D1B-8000-54912849151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A03CFA-BE71-4757-933D-DFBEFFB458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0280B-0D1A-48D7-8B59-1E03A46C999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B18B7-C207-4333-BF63-3829C91595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C271E-E9AF-48AA-B1F2-D059DF7DF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C6F02-BFAC-41BF-9D12-65DC0382473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4E39F-9D12-4EE6-A1ED-7D12F720B50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C1B5F-74C6-499A-A88B-F5683D0280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CE287-90F2-4C55-AABD-A18489D085A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943C0-6D73-4C08-A207-0E12652A054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0C71F-918E-4FD2-8A52-1574A27ED0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EE285-0250-4A80-BCA8-FCE78D4AF9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1D7A6-0210-4510-93E8-C375154802F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B33FF-A7DA-4EEC-A215-0F168C7B625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BF985-5E36-46E2-B926-C6A27B9F8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DB678-B5CB-45D9-9ECB-6404990C429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7FF9-721D-4676-8C46-EA06963F7FB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F772-066E-45E3-9DFD-12C3BA4587A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2514-3A03-4E72-8AE9-FE7A9D2CE2A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97E2-6DB3-4842-9C79-ADF6E595E7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5EC1-C037-4FAD-881A-58A431EFAD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402E-EA1C-4459-A389-D6D12DAE596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EDD0-E3FB-44E6-BA1F-D6961CAC199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2FE4-65DA-4703-A0E4-2C0686E6824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B288-4DA8-4984-B5D7-0980091B4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1110-C355-402E-8EDF-55FDF14DE51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6554-D6F1-44DA-A339-F24CFFEC4EB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B312-82D4-4B79-8B6A-044D66834F6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DFD6-28B1-469A-85B9-90CDF194A95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9C014-0464-44A2-8A36-9981E843F03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D772A-707E-4A9D-8874-6FB1585B936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6156B1-7E4B-489E-8208-8F7EA2E982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8CB10-9DF1-4678-AD35-516261AED6B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ADD0A5-EB0D-43B6-B3A8-1EBA0BF724A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F4CD1-EF22-438A-A674-3345324627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832EE-0E55-45E9-AA5E-EE27A943D5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B59E-5368-4EF2-814B-35C867C09F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912A9-7E7B-491A-8210-A8720F4D22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A1E960-748B-48D6-B240-DC0BAA0AAE2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4F370-A584-423E-AC8D-782766517EB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27CDC8-00C7-467E-9869-F241B1585D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37C3C-F804-4BFF-9426-A730C452F8C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85634-3C5E-454C-AFAA-AA8428CD4A6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318C5-AA12-460C-8710-6F4237093E3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AA9F6-D835-4057-86AD-C8C43A4468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F3D8E-667D-4B26-9147-7A30324BD05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995D4-517B-43EA-975C-9E1F15258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9CB6-3CB3-4AA9-B2D9-D072CA66400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1F9F4-06B8-4E1A-BC2E-5DA196AE781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F4332-8E21-4745-9EB9-3E966F3C9E5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261BD-1ECA-4BA1-9389-0D1AF769159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60805-708B-49BA-B3D5-4D6F00EB5D9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529A3-34E3-4061-946F-44E1C24AE1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CA459-0317-4542-AE60-57A458D6E60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8747B-7EE1-4427-800A-313F9000135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A0DE-67F7-44B7-8C3A-4C4BAC6D812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E8EB-5119-4631-947B-4758B701D9A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5114-F6DD-4157-960D-7164709BFC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85B6-EB15-41FA-85E2-531F77A3D57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21BE-1E0C-413F-AD96-39ECBBC947D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AB989-A44F-4B2F-956B-AFF4315C0E4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25BB-EA3D-4179-81EA-EDEAB84F77E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A238-9BD6-40E0-8CB6-9331DD93A46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4D72-9612-4240-BEEC-CEC57985A6E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003B-30D4-433C-9E38-D894ECABA06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58C3-5744-417B-A4BF-32D20EEFE4F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27C3D-00CC-4BAB-B10A-D3F5D365F4C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9153-69E4-4457-82E9-7C419D52F0E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587783-5A6F-49EF-AFC3-3CDDC64A2D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DF09-CA20-4139-BC2A-65F20092AB6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232C57-3473-4B9A-8F32-44E7D4EDBD3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3C75BE-8229-404B-B1BA-A1A689B687A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6CADB3-08FC-47B6-A658-EB1115CE084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F7F2C1-951F-4436-A218-3FE72C10575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8F64EB-4836-4367-9E3C-FB518A41F1A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8B2A1-3A6B-4C64-BD8A-DCCF0918C5A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64057B-F088-42DB-A6B3-EE1DB7A05A5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D89AF9-E89B-4745-8CBC-ADDBF6B1131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70B36A-15DD-47C2-9B24-DE2BD7B33C0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D59F60-57AE-4A98-80EC-4CE97D7764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A0B9-C89E-4B6C-8897-990F67361CC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F9A06B-2FC3-4553-8149-9C43C97CA14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3DA5-C0F8-45F7-BB3B-680501D271E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2F139-AA48-48CF-AD69-36172D37E0F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D3C7C-320D-402B-A283-313728B5B8D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7038F-182E-46D2-BD3A-A3859D77365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B14C3-507A-4777-9F3C-D87C6B2D479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97093-BB91-4D18-A305-10DB324A38D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BCBB8-52BC-4DB9-A33A-EB9914EECAC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80001-1296-4C6D-8F76-624177FB8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D389-8104-4579-96F8-AD7FCC0930B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6691F-7614-48AD-94E1-CB3978EC9AD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E3D42-7989-4017-AD63-FF66144C4D8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0F563-B5CF-4A5C-B3E3-21B9CF728C4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62867-CC69-41EB-B448-8027DCE1909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0695F-D927-4F99-85AE-EC15DD58CD8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6D059-3388-4CC1-A56E-D44D9EE72E5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8E10-4D52-4A78-A157-7ED80CEE84E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E06F-E632-4AD0-9F3B-7CD06DA02F2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79BF-5EB1-4337-BC7F-69423B6606C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2FDED-5687-47DE-A16C-F4F05B4728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5686-0E73-464B-AFE7-D526638244B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28C0-EB33-497E-BEAA-5C24D39FF80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FFC70-7F49-474F-AB13-CD5BA91CBD0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8DE0F-4EC7-4BA8-BB79-E6E03E262CC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743B-A0B0-4C25-ADD6-26719A57456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73FB-AD2A-48E5-812D-8CB4CFF7AEB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51734-E6D6-4BE7-AB26-D3BCDD36907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8CF7-9808-4D4F-BE18-D8FFB6FC2B2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1F8E1-C4DF-44EA-8225-D95C6878C3B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DBD8F0-A445-4E1F-866F-93D972213E3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2D9B52-E8DD-459B-8615-9E05386A0C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FE0F-74B1-4673-8F63-4E3F0927736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D42CE9-DAAE-49C8-BE90-5B5E18EAD0C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B0BDC8-FAF0-4C4E-935A-F959A33C1AA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9D819B-A2B4-487D-9182-9D834DB10A2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0B3AA4-1398-4886-B8B3-B72D65E6E96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1F3BBA-6A9E-4FCD-8DF4-85EF98A810D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F4ADE1-61A6-4CFA-A433-0F2C07FF5D2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13070C-9A02-4DEB-B248-1EAD353B1F1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39C24-1E53-4233-87A1-49A5D9C782C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04A012-E6F4-4460-A99B-2D06BAF0527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02F01-A79F-4D2E-AF22-8EE469EB3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B37A-5C02-417F-95C7-F2D896F7DB6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052FF-1C59-49D1-877D-C5731EADBE9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BCD68-71CC-4106-9324-925F335A67A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3B9AC-C89E-4D43-B5E2-88E68F72A01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CAAEB-6F71-4997-B663-BFFC746267E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F88F1-CA0E-4E3E-A864-D69B6640EBA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37B5D-6DCF-42D0-B261-630DC0FA94C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8FA6A-17AB-403B-A60E-FD64D5B7035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D8EA0-5119-4B48-9EA3-EC285255FEE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57111-1C52-477C-8D07-0EAFA09473C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A4489-412F-444B-9958-63BB707E49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2B13-1D25-45F9-A2CD-F04205618E7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9B1B8-E6B9-4F84-B26D-9056A70EB0E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B764-23BD-4CA2-9105-EC04388FD66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D7BE7-8EC5-4BDF-B343-F6215833738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95111-1C67-480D-BA01-CEC439C3C57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3A171-8175-4027-AFDB-3792DE462D4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57770-B0B3-4AE5-B2E3-B999ABB14D3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AC71F-D710-4064-B044-9A825BAB1A6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27644-18BE-4FDD-999D-7AE4AA66A7D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13FD6-5524-4F1E-B7F8-7C517515C89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0CDE7-E8EB-400E-B0A8-10B6C504B2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CD0A-E26F-42A6-AB0F-76CD801605B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BDB00-98B6-45C8-837A-AD7641E0D1D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5BC6D-C34D-4C6E-A603-4409ED10272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558E6C-655F-4959-9028-33222322E3A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F76414-461B-4496-8CB4-9BBD43C0871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CE210B-C4B0-4FF5-80E5-659450A7C92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0EAAE3-D735-49B7-B028-69B67F8136B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D3745D-95CD-443E-BD68-656160D8E52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377CAE-CF31-4917-B29F-E01FE7C3385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4BC58E-FB4C-4FA7-96C0-4DECA7BAA3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75DF2-EFFE-489B-968F-EAFA73E64C1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6A720-6BEA-49C8-879F-5446117A0B7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EF9D68-295B-4E6B-A223-529645BDF20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699499-539F-4926-9C25-5D5A5C48FF2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F1DDB8-43CC-4AD6-B163-D68B627DCB5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C98FE-7415-4D01-B49A-563F692C6EE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B38EA-D4DC-4A81-9BC6-D675F6682EA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2FCE8-32FD-4DDA-B940-44604E5FE8D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D1627-8E2C-4F9A-9417-E1807DE86C3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D5E6C-0DF4-4E8A-81FB-8B1292EA1B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DC42B-99D8-4F04-8638-59DD9E87261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5AF80-F526-4C17-8073-EA97273B4A7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737F2-5F32-473E-89EE-2E2C6377995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CB154-5D9D-4F02-A50D-BD851B03AEE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1392F-A09B-4937-ACA0-F5A6A72408B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5F220-947E-43B8-BEB6-18A2D4F2E1E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A1C51-90E5-4504-826E-CEFB486DCD3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62F2D-F0BB-4D49-874C-15D0D13CE86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4BD1D-4058-42B6-903F-DF795248D92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E7AE-8191-40E4-BDF0-134C81A274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FAF36-E93D-4A54-9363-F200A6503B7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FBDB7-018E-47C9-8D7D-E2922AEF941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5C816-25DB-4236-9CC1-AD1F2F34B5C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87B5B-0DF8-474E-A27A-81402307B55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D72D3-B3B1-4EC1-B32F-BF2D269594F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437D7-C646-4FBB-9007-6ABA2416EFD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44E5E-1C96-48E8-8EC1-2D32D8E4007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C6790-B032-4E89-A300-8E213DF5BD2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7AE20-D6BE-4619-AAA1-67C87C28177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08410C-C6D1-48E8-80D2-108B394169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161D18-369B-4DAE-AC56-5957FCC21DB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2A2441-169E-465F-BB80-9AE5D1CBD87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64816D-C3B6-4608-B74E-153E9FCE512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2380F-3826-4ACD-A0C1-7E7E54313F8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8D6622-589F-45B0-A2DA-D7A6E8305F2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C0007C-B3A7-4616-940D-E0C5580867F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0346A7-6302-419C-B310-16558266018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839E87-80F3-4043-B908-D7C9008DDDE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ABC9DD-2FB0-464A-A85E-B92E4F2D91B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D692C-D8AC-4AFD-BEF9-7FB26FBD23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A164FB-E038-48D2-B480-6C60052D207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794C62-26D7-428A-BB15-9041A21DB77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A21F0E-D180-4FA6-81FE-9B25367D854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1D3121-1395-4A9F-AD56-BA2AF834FE9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2B5953-E868-469A-BBB8-4B56F9D42AC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4CE759-44B9-48DE-ABD8-7A815B94062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9A7F5-445B-49FA-9BC4-D8C54A65342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C804F-5080-4EE7-B9B6-CE92D896716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9637D-5AEB-48D6-8E5F-029895EA3FC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8F089D-5060-47DD-85B9-D14A03C78C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F6FB1A-ED67-45C5-B846-3B04E8A7695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E11C8-BE2E-41F5-9EEE-FD494378CAD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042B22-C5AE-4AE3-AB20-7CF80D8F4D1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7995-0D42-437E-893E-D3D7EA4194E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EB9EC-0A06-4EB4-AD00-D4A8B122F97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95553-C636-43DB-8974-0D37B90B517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B5507-D045-47A4-A273-4024A1737E0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718E0-7A14-4E4E-8EDD-9125512ACA3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BAF64-D705-461C-A46A-E34E903069E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45D97-4634-481E-ADBC-192EC9D8E5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FCC8D-82B7-4AB5-B3D2-86C0F83F225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ABEEE-62B1-402C-A660-79578BD38EE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7767-7AE5-40F2-93D0-5B6E15513BF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5F1D9-D5DD-4DE5-B9C5-B1E2A71D87B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FC74-D586-482D-8718-DBBF1DF469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53FF-4ADD-4426-BBDF-80A1060FB4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F2A2-795B-4055-81BF-76C6A6AA6B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CFC4-3A15-4707-A7FB-4CE6C30F9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8BC0-24EC-4342-A7F9-8B901CDE17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B44D-8DE0-4289-85A0-EB9E1BA121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D60EC-470B-497C-A4FB-3B5613CE60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1280-2584-45D7-B75C-BF6CB0C38A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5FF4-48EA-4FB1-B455-79A86DFF00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F580-8DB3-4C83-A863-F9430559A0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CE69-709F-489F-86D0-BE479952A9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3D47-9362-4491-B563-B75100B567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045D-659E-4414-9024-B170C10E6F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C82-1E3F-491F-836C-BAF70F030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A1B-6087-4294-B094-5C700678F5B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F0D-D8A9-417A-965A-8C826D6439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D59-2464-4294-B6C1-109FFAA6B7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8DB-549F-4D35-8102-53C144BBA6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228-1E37-4B47-8EFD-98E19DF064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244-64A4-4E7E-B191-87C085B8CF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ECF-BC10-4AB8-95BB-F9F726F72C0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AC0-52F9-4F3F-A0B3-9CD5223C501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DC9-262F-41F5-B77D-DF34E11634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81D-ACB9-4DD8-BCFD-1F6EC3486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E49-0450-4927-843D-4B1FFF8E69A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1085F-32BD-4C7A-AC03-B0D436249D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6ABDF-D5EE-4334-84F4-59A3D82E4B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A38BE-7743-43F1-9A19-1AD14ADA80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6BB28-804E-42B9-9292-E2A7C728D60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A0926-2D5B-42FA-9AF1-C8B2BD52A41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E549D-53EE-4B02-8185-FC710E3FE5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472F1-08C3-4AD7-A1EE-1E46E329B6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0DD1-28A9-4602-8E22-3DED5EDB4A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F128B-5FCE-42B1-8B5C-04B6145F6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076B8-58EB-4516-B697-8923C16711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005CC-844D-4AF8-90B5-8BD3AB1C41D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049B8-A6C1-4286-8782-9AFD8EBAF8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ACD09-EA52-4869-9D7C-CCA1040BDF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2774E-E58E-4BEC-85BF-13CA0A7162A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29280-AAB7-4503-84A7-2A51E9C5A9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05AC7-781C-4B64-8279-E9B8408733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1AE35-C51A-4B0E-BEE1-151C94AE4C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46603-5B6D-441E-8802-34DC23A0C21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BF889-5942-4206-A608-0648ED3D8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0F147-861E-46CC-B8B7-1F40692BFC3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034FA-7F0D-40B4-B4DA-72F1643A43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25F22-121A-49FD-A21E-32CF06C8E95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D24C6-9B30-4532-8328-980B11BD41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4D5F-2B87-445D-8815-9AC7E263CD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B84B-9B9A-423B-AAD0-6B3A10F16FA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CF39-C2DA-44B9-A0E7-3E78F13AE8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9663-FBE5-4BD3-A4B9-5BABFE86C25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44D6-D035-4664-9767-33F4D9967B4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83CB-5B46-40CB-97A7-1BF1AF2A6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87F1-4CEA-48D4-89E8-FFE3315B95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8E15-F994-406E-91B8-49F93507C8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32C5-8BEB-476D-936F-6BACFC81D8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953B-A792-42D9-B802-BEC46C6336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C7D7-068D-4505-9920-02069C24BD7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3D60-E8D3-4D83-90FE-E44A4E1077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130E-C069-46C0-A03E-36412507A4F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A9F6AF-454B-4313-B6E2-6824F16D9A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682DC-46A1-4DB5-ADF3-198C6647C0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A7600-776F-4E63-B726-29B56B02C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01.xml"/><Relationship Id="rId8" Type="http://schemas.openxmlformats.org/officeDocument/2006/relationships/slideLayout" Target="../slideLayouts/slideLayout302.xml"/><Relationship Id="rId9" Type="http://schemas.openxmlformats.org/officeDocument/2006/relationships/slideLayout" Target="../slideLayouts/slideLayout303.xml"/><Relationship Id="rId10" Type="http://schemas.openxmlformats.org/officeDocument/2006/relationships/slideLayout" Target="../slideLayouts/slideLayout304.xml"/><Relationship Id="rId11" Type="http://schemas.openxmlformats.org/officeDocument/2006/relationships/slideLayout" Target="../slideLayouts/slideLayout305.xml"/><Relationship Id="rId12" Type="http://schemas.openxmlformats.org/officeDocument/2006/relationships/slideLayout" Target="../slideLayouts/slideLayout306.xml"/><Relationship Id="rId13" Type="http://schemas.openxmlformats.org/officeDocument/2006/relationships/slideLayout" Target="../slideLayouts/slideLayout307.xml"/><Relationship Id="rId14" Type="http://schemas.openxmlformats.org/officeDocument/2006/relationships/slideLayout" Target="../slideLayouts/slideLayout308.xml"/><Relationship Id="rId15" Type="http://schemas.openxmlformats.org/officeDocument/2006/relationships/slideLayout" Target="../slideLayouts/slideLayout309.xml"/><Relationship Id="rId16" Type="http://schemas.openxmlformats.org/officeDocument/2006/relationships/slideLayout" Target="../slideLayouts/slideLayout310.xml"/><Relationship Id="rId17" Type="http://schemas.openxmlformats.org/officeDocument/2006/relationships/slideLayout" Target="../slideLayouts/slideLayout311.xml"/><Relationship Id="rId18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13.xml"/><Relationship Id="rId8" Type="http://schemas.openxmlformats.org/officeDocument/2006/relationships/slideLayout" Target="../slideLayouts/slideLayout314.xml"/><Relationship Id="rId9" Type="http://schemas.openxmlformats.org/officeDocument/2006/relationships/slideLayout" Target="../slideLayouts/slideLayout315.xml"/><Relationship Id="rId10" Type="http://schemas.openxmlformats.org/officeDocument/2006/relationships/slideLayout" Target="../slideLayouts/slideLayout316.xml"/><Relationship Id="rId11" Type="http://schemas.openxmlformats.org/officeDocument/2006/relationships/slideLayout" Target="../slideLayouts/slideLayout317.xml"/><Relationship Id="rId12" Type="http://schemas.openxmlformats.org/officeDocument/2006/relationships/slideLayout" Target="../slideLayouts/slideLayout318.xml"/><Relationship Id="rId13" Type="http://schemas.openxmlformats.org/officeDocument/2006/relationships/slideLayout" Target="../slideLayouts/slideLayout319.xml"/><Relationship Id="rId14" Type="http://schemas.openxmlformats.org/officeDocument/2006/relationships/slideLayout" Target="../slideLayouts/slideLayout320.xml"/><Relationship Id="rId15" Type="http://schemas.openxmlformats.org/officeDocument/2006/relationships/slideLayout" Target="../slideLayouts/slideLayout321.xml"/><Relationship Id="rId16" Type="http://schemas.openxmlformats.org/officeDocument/2006/relationships/slideLayout" Target="../slideLayouts/slideLayout322.xml"/><Relationship Id="rId17" Type="http://schemas.openxmlformats.org/officeDocument/2006/relationships/slideLayout" Target="../slideLayouts/slideLayout323.xml"/><Relationship Id="rId18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1BBA-7C26-4120-8328-A5573F7703A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CCD4-9F13-406A-A274-76E1EEEB4B7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1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36A8-7B4F-4D2B-8716-92A0027EEBB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C49-CBAF-4FE5-B71C-87BA71F01FE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1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236A-BA3B-4D31-A440-2952AE80C04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D7A1-8F92-4627-9DFF-41A7B3DCC4D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1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C2EB-37E4-4CDB-8B87-A42B8183201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1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A5A5-FB5C-44C2-9287-E6BA742330A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1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65F5-4F75-4892-A2DB-C25478FB7A6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ldNum" idx="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903F-770D-4984-B750-4E1861C52F8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1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18CB-E7E0-4B00-BA29-E1C66FCE120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sldNum" idx="1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9417-E356-4647-84D8-EC52DA8F7EA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9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1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493-109C-4F50-BF4E-EA4060D4245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9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2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4621-D5E6-49EA-9C9F-02AF2AFBDCB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2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8168-EE9C-4F21-A7DC-47471A3079A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6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sldNum" idx="2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A342-1A1D-4825-823A-92904C39841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sldNum" idx="2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00A8-BB0D-42E0-B136-6541B3BEDAA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7"/>
    <p:sldLayoutId id="2147483975" r:id="rId8"/>
    <p:sldLayoutId id="2147483976" r:id="rId9"/>
    <p:sldLayoutId id="2147483977" r:id="rId10"/>
    <p:sldLayoutId id="2147483978" r:id="rId11"/>
    <p:sldLayoutId id="2147483979" r:id="rId12"/>
    <p:sldLayoutId id="2147483980" r:id="rId13"/>
    <p:sldLayoutId id="2147483981" r:id="rId14"/>
    <p:sldLayoutId id="2147483982" r:id="rId15"/>
    <p:sldLayoutId id="2147483983" r:id="rId16"/>
    <p:sldLayoutId id="2147483984" r:id="rId17"/>
    <p:sldLayoutId id="2147483985" r:id="rId18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15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Num" idx="2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F5C0-6110-495C-813D-9E842371DE1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7"/>
    <p:sldLayoutId id="2147483988" r:id="rId8"/>
    <p:sldLayoutId id="2147483989" r:id="rId9"/>
    <p:sldLayoutId id="2147483990" r:id="rId10"/>
    <p:sldLayoutId id="2147483991" r:id="rId11"/>
    <p:sldLayoutId id="2147483992" r:id="rId12"/>
    <p:sldLayoutId id="2147483993" r:id="rId13"/>
    <p:sldLayoutId id="2147483994" r:id="rId14"/>
    <p:sldLayoutId id="2147483995" r:id="rId15"/>
    <p:sldLayoutId id="2147483996" r:id="rId16"/>
    <p:sldLayoutId id="2147483997" r:id="rId17"/>
    <p:sldLayoutId id="2147483998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89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ldNum" idx="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50FA-AC29-45F3-AE42-474366454C5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4625-D259-4E5B-AE87-2F203D82BB3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8F15-DA0C-4173-B716-D988814F92A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EBF3-3D7D-4FA7-B724-D7B9040F3DB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7A02-0EC3-4D0F-96FF-236AFFEA5E3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D6B4-BE4F-47A0-BE94-ED54DF1C176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8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09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Monter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 Box 3"/>
          <p:cNvSpPr/>
          <p:nvPr/>
        </p:nvSpPr>
        <p:spPr>
          <a:xfrm>
            <a:off x="1251000" y="4507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5 CuadroTexto"/>
          <p:cNvSpPr/>
          <p:nvPr/>
        </p:nvSpPr>
        <p:spPr>
          <a:xfrm>
            <a:off x="672840" y="525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Text Box 4"/>
          <p:cNvSpPr/>
          <p:nvPr/>
        </p:nvSpPr>
        <p:spPr>
          <a:xfrm>
            <a:off x="0" y="5551560"/>
            <a:ext cx="896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4" name="1 Imagen" descr=""/>
          <p:cNvPicPr/>
          <p:nvPr/>
        </p:nvPicPr>
        <p:blipFill>
          <a:blip r:embed="rId1"/>
          <a:stretch/>
        </p:blipFill>
        <p:spPr>
          <a:xfrm>
            <a:off x="392040" y="1781280"/>
            <a:ext cx="8194680" cy="351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 Box 3"/>
          <p:cNvSpPr/>
          <p:nvPr/>
        </p:nvSpPr>
        <p:spPr>
          <a:xfrm>
            <a:off x="1728720" y="512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Text Box 4"/>
          <p:cNvSpPr/>
          <p:nvPr/>
        </p:nvSpPr>
        <p:spPr>
          <a:xfrm>
            <a:off x="250920" y="5627520"/>
            <a:ext cx="871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8" name="1 Imagen" descr=""/>
          <p:cNvPicPr/>
          <p:nvPr/>
        </p:nvPicPr>
        <p:blipFill>
          <a:blip r:embed="rId1"/>
          <a:stretch/>
        </p:blipFill>
        <p:spPr>
          <a:xfrm>
            <a:off x="527040" y="1932120"/>
            <a:ext cx="7705800" cy="3454200"/>
          </a:xfrm>
          <a:prstGeom prst="rect">
            <a:avLst/>
          </a:prstGeom>
          <a:ln w="0">
            <a:noFill/>
          </a:ln>
        </p:spPr>
      </p:pic>
      <p:sp>
        <p:nvSpPr>
          <p:cNvPr id="1249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1 Imagen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24720" cy="3657600"/>
          </a:xfrm>
          <a:prstGeom prst="rect">
            <a:avLst/>
          </a:prstGeom>
          <a:ln w="0">
            <a:noFill/>
          </a:ln>
        </p:spPr>
      </p:pic>
      <p:sp>
        <p:nvSpPr>
          <p:cNvPr id="1255" name="Text Box 3"/>
          <p:cNvSpPr/>
          <p:nvPr/>
        </p:nvSpPr>
        <p:spPr>
          <a:xfrm>
            <a:off x="1312920" y="522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5 CuadroTexto"/>
          <p:cNvSpPr/>
          <p:nvPr/>
        </p:nvSpPr>
        <p:spPr>
          <a:xfrm>
            <a:off x="61740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250920" y="5365800"/>
            <a:ext cx="878508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 Box 3"/>
          <p:cNvSpPr/>
          <p:nvPr/>
        </p:nvSpPr>
        <p:spPr>
          <a:xfrm>
            <a:off x="1763640" y="71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1" name="1 Imagen" descr=""/>
          <p:cNvPicPr/>
          <p:nvPr/>
        </p:nvPicPr>
        <p:blipFill>
          <a:blip r:embed="rId1"/>
          <a:stretch/>
        </p:blipFill>
        <p:spPr>
          <a:xfrm>
            <a:off x="685800" y="1542960"/>
            <a:ext cx="7572240" cy="3646440"/>
          </a:xfrm>
          <a:prstGeom prst="rect">
            <a:avLst/>
          </a:prstGeom>
          <a:ln w="0">
            <a:noFill/>
          </a:ln>
        </p:spPr>
      </p:pic>
      <p:sp>
        <p:nvSpPr>
          <p:cNvPr id="1262" name="Text Box 4"/>
          <p:cNvSpPr/>
          <p:nvPr/>
        </p:nvSpPr>
        <p:spPr>
          <a:xfrm>
            <a:off x="36360" y="5421240"/>
            <a:ext cx="910764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4"/>
          <p:cNvSpPr/>
          <p:nvPr/>
        </p:nvSpPr>
        <p:spPr>
          <a:xfrm>
            <a:off x="34920" y="5535720"/>
            <a:ext cx="910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1" name="1 Imagen" descr=""/>
          <p:cNvPicPr/>
          <p:nvPr/>
        </p:nvPicPr>
        <p:blipFill>
          <a:blip r:embed="rId1"/>
          <a:stretch/>
        </p:blipFill>
        <p:spPr>
          <a:xfrm>
            <a:off x="1133640" y="1833480"/>
            <a:ext cx="6678360" cy="3202200"/>
          </a:xfrm>
          <a:prstGeom prst="rect">
            <a:avLst/>
          </a:prstGeom>
          <a:ln w="0">
            <a:noFill/>
          </a:ln>
        </p:spPr>
      </p:pic>
      <p:sp>
        <p:nvSpPr>
          <p:cNvPr id="1272" name="5 CuadroTexto"/>
          <p:cNvSpPr/>
          <p:nvPr/>
        </p:nvSpPr>
        <p:spPr>
          <a:xfrm>
            <a:off x="545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158840" y="54936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y 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- junio 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768320" y="2205000"/>
            <a:ext cx="5396040" cy="3459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onte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2 Imagen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97800" cy="1728720"/>
          </a:xfrm>
          <a:prstGeom prst="rect">
            <a:avLst/>
          </a:prstGeom>
          <a:ln w="0">
            <a:noFill/>
          </a:ln>
        </p:spPr>
      </p:pic>
      <p:pic>
        <p:nvPicPr>
          <p:cNvPr id="1279" name="1 Imagen" descr=""/>
          <p:cNvPicPr/>
          <p:nvPr/>
        </p:nvPicPr>
        <p:blipFill>
          <a:blip r:embed="rId2"/>
          <a:stretch/>
        </p:blipFill>
        <p:spPr>
          <a:xfrm>
            <a:off x="1270080" y="3789360"/>
            <a:ext cx="6624720" cy="172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órd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1 Imagen" descr=""/>
          <p:cNvPicPr/>
          <p:nvPr/>
        </p:nvPicPr>
        <p:blipFill>
          <a:blip r:embed="rId1"/>
          <a:stretch/>
        </p:blipFill>
        <p:spPr>
          <a:xfrm>
            <a:off x="104760" y="1800360"/>
            <a:ext cx="8705880" cy="3895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6" name="1 Imagen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5675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3 Rectángulo"/>
          <p:cNvSpPr/>
          <p:nvPr/>
        </p:nvSpPr>
        <p:spPr>
          <a:xfrm>
            <a:off x="2962440" y="5357880"/>
            <a:ext cx="6130800" cy="190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1 Imagen" descr=""/>
          <p:cNvPicPr/>
          <p:nvPr/>
        </p:nvPicPr>
        <p:blipFill>
          <a:blip r:embed="rId1"/>
          <a:stretch/>
        </p:blipFill>
        <p:spPr>
          <a:xfrm>
            <a:off x="3030480" y="203040"/>
            <a:ext cx="6000840" cy="5524560"/>
          </a:xfrm>
          <a:prstGeom prst="rect">
            <a:avLst/>
          </a:prstGeom>
          <a:ln w="0">
            <a:noFill/>
          </a:ln>
        </p:spPr>
      </p:pic>
      <p:sp>
        <p:nvSpPr>
          <p:cNvPr id="1221" name="6 CuadroTexto"/>
          <p:cNvSpPr/>
          <p:nvPr/>
        </p:nvSpPr>
        <p:spPr>
          <a:xfrm>
            <a:off x="3635280" y="587700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1 Rectángulo"/>
          <p:cNvSpPr/>
          <p:nvPr/>
        </p:nvSpPr>
        <p:spPr>
          <a:xfrm>
            <a:off x="367200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6 CuadroTexto"/>
          <p:cNvSpPr/>
          <p:nvPr/>
        </p:nvSpPr>
        <p:spPr>
          <a:xfrm>
            <a:off x="3635280" y="60786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Los resultados presentados para San Andrés corresponden al período enero - junio 2015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Box 3"/>
          <p:cNvSpPr/>
          <p:nvPr/>
        </p:nvSpPr>
        <p:spPr>
          <a:xfrm>
            <a:off x="1332000" y="94788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8" name="1 Imagen" descr=""/>
          <p:cNvPicPr/>
          <p:nvPr/>
        </p:nvPicPr>
        <p:blipFill>
          <a:blip r:embed="rId1"/>
          <a:stretch/>
        </p:blipFill>
        <p:spPr>
          <a:xfrm>
            <a:off x="968400" y="2084400"/>
            <a:ext cx="7419960" cy="336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5 CuadroTexto"/>
          <p:cNvSpPr/>
          <p:nvPr/>
        </p:nvSpPr>
        <p:spPr>
          <a:xfrm>
            <a:off x="1517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1" name="1 Imagen" descr=""/>
          <p:cNvPicPr/>
          <p:nvPr/>
        </p:nvPicPr>
        <p:blipFill>
          <a:blip r:embed="rId1"/>
          <a:stretch/>
        </p:blipFill>
        <p:spPr>
          <a:xfrm>
            <a:off x="1012680" y="1841400"/>
            <a:ext cx="7640640" cy="361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3" name="1 Imagen" descr=""/>
          <p:cNvPicPr/>
          <p:nvPr/>
        </p:nvPicPr>
        <p:blipFill>
          <a:blip r:embed="rId1"/>
          <a:stretch/>
        </p:blipFill>
        <p:spPr>
          <a:xfrm>
            <a:off x="184320" y="2637000"/>
            <a:ext cx="872460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36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uan Camilo Riveros Botero</cp:lastModifiedBy>
  <cp:lastPrinted>2014-02-24T23:06:42Z</cp:lastPrinted>
  <dcterms:modified xsi:type="dcterms:W3CDTF">2015-08-10T13:56:12Z</dcterms:modified>
  <cp:revision>932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