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D604-0D36-492B-ACA8-2267A08D94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DB2C-33DD-4A8C-9232-4600327C5B2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51A0-F66D-4084-AC07-A3055FC5C7D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1498-7157-4853-A6A5-32F884C88F0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5530-1289-4B17-A75C-5007AF30C79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13F2-84AA-47FE-A274-6523879839E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303B-4711-4ECF-971A-1EAEBF68B64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B3D6-0C68-4FF2-8285-95096C911BB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64BF-2594-4059-89A7-5B5D68448D4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145B-BFFA-4BBC-B1A4-932CD318D27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E57A-844D-4C03-A673-A5CEC8EF489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1360-4F1F-4189-B9D3-C3458883193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341A-7B7D-486A-9533-BBC052AB555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EE4C19-159B-44FD-BC04-A7EA74A6C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17062A-0A67-4CC3-A079-3B5FC5D8F4E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DA6B67-B4C4-43FA-B267-435E316D5DF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F9A864-07B2-4673-A306-11CB127305A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A4D485-0905-461B-8A67-21D61E9DAEA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33531A-F9A1-46C8-8CD1-47B11F73F26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A68CDE-3A2E-4609-8988-E8333D4AB3B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D48671-0C62-4F3C-9397-ADA318C1FAC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B58232-A156-4650-B98F-5AC042FAD2A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CFBA43-9DAF-4F37-B5E5-D78751CB4CD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5B49C4-3EBD-44BC-927B-EF5C15034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CF858D-F205-4080-A37D-67E532FCE16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BF047-B9C7-4BB9-B134-DE1401F01A2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9D75EF-F662-4D31-ACD3-8AF13A3D756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D8037-B05A-4B8C-ACDE-2C844BC0E3D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05146-E803-420A-ACCA-E6356F2321A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2B4717-D60E-4ADB-B55D-6CC676E4530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5D2D6-37A4-4D64-843C-5FE5AA5126D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633826-0B77-4E67-A9F2-4A6881051F7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5F7E4-7887-4A76-ACE0-A4B04A66D14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D2FF0-A83A-43E7-9313-181AC8A22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BBE4-F9ED-4E0E-A7D5-2C7FE191960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65C19-A6BC-4963-8C16-0364362B5E1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0A200-933B-4EB7-9BF8-08A80200201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A481B-44AB-498C-A75B-D1B51194266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D3BC0-5CBE-4E18-A28C-A58FD6E1986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A11D8-7B16-4B4D-B948-AB764C44C0F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7CA1C-BA44-4F5D-A9F5-FE7EDDFFA6A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3FF42-2B1D-4E57-B65A-3E2034279F2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5D099-4DCA-44F0-B954-2CC8EFAC4E5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C0888-B103-487E-9150-03A8C7386B9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E57BD-FB72-439D-98D1-1E56C8F70D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02C3-1744-4374-ACF4-4C7E10212CA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874DA-BB06-4472-B874-698E88FE224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C5BA5-7E19-4DB0-9A7C-458AFE55800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6BADB-CD04-46D0-B8B4-D846E174CCD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10C8D-903C-4D69-B7E3-00519FEEE14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C9491-2443-48DA-B1B9-76C43A01E25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436974-9EA2-44FD-B003-096EB58AAE6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449FFA-A2A7-4811-83BA-589FA5BFCF5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01692A-AD31-439D-B094-3187B35CD2A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2E1CEA-CF92-44C1-8530-33671DEC32D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38D1BC-8E6A-4CB8-AA02-4B0BB1D4BE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ADBA-EDBA-4A9B-A648-451B0960B1D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D34284-023B-4B43-8999-7CC0078A48D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C9E88B-2F98-42F1-835D-3473961C7BA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410395-C42A-47DD-8FA5-5C6FE744E7D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21FE3E-791E-4643-8518-DE851AB4DF6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07F2D0-8D58-48A4-B745-928869CEE2D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3D2964-E7E9-438A-9EDF-0AF7C596903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70A736-7960-4A52-905F-B17B913FFB0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CD3167-16B0-4EB2-881D-1F755C85CB3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B1E54B-DCA4-43E9-B700-6E86677D270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6B92A3-AB93-454C-B9B0-5C431BE5DF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928D-D672-4922-A8BB-AE334E9536E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E2D6B-D07C-4BED-AE99-793AFCA822F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2764AE-9A75-41B2-A240-6D1E253BB10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48BF74-3607-4CC6-812C-177E7D3BE1F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3BD0BA-CBD8-4704-9568-AD278FF5370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8CDEF1-1F03-4415-87D3-41EDFAD6618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E0E3C-97B5-424B-9318-9D5DD9CFDB7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13E04F-CE9D-4087-95BA-ACF2B0C902B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92D055-6748-49D2-9821-7350CC5C243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180C65-6AC6-4086-A323-0E763A7D7A6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80DCF-AFF2-41F0-AA58-ED9B014E87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CFCC-714E-4819-965A-733DB8A5B08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A27F2-1356-4546-A272-E97E111FBC0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69555-AB59-43A8-A383-E847EAB9208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6BFC8-92C6-459E-83E7-75641992D7E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44642-5EB8-4A7A-B868-9A48C917CE9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6C6AD-F505-4567-9C70-EFE6EF1CA89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46D8F-3376-4259-874C-CF996E7EEA6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3CACE-52F1-419B-9B6E-E043496EC8F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0795A-5098-4615-9E0B-AB3C15CC0F2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7829F-8C07-40BF-8657-328C1D41413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F9714-404D-457B-AA48-81BB8B2FE7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3FEC-28C2-4CA5-B209-324FC99CBFC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6CD2F-3BC6-4B4E-AB2C-88200007F83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2068ED-83E1-46B6-96D1-5A946971E78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76F761-4B60-4949-8455-6A6BF43ADD5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CB15F0-E182-4928-87EE-63872C2F6F0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A2E4C1-EB25-4575-9D16-7FC186C37EA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D21988-04AB-4C46-86AC-0D7D6E1745E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CC0888-4798-497F-96D8-A8862C635C7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F7F5C5-1C8D-403D-A1D2-F8160AD772F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EFF7DB-B6C4-4D7C-A15A-D34ABD1D467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0CE44C-1441-4B0E-A971-EC6992D5C6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7F33-4A54-402D-8976-2187A7CD954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E46261-8623-43BF-B6E6-1DB620C6A04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0E1669-D61F-4811-8485-47BA6499E7B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9E11AC-1C2C-46A6-93E6-61C90B23A2B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0030BB-A113-407F-8AC7-7AD223FD948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A3036-08F0-45F7-AE88-0515F2C1644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DF4A45-9282-4971-BE90-30723A0EFC5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09B36C-0DEF-42AA-A425-3949BDB0947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7B13C3-9649-43E4-9CC3-0B4BAC8D221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DF5F65-6447-4A36-8412-FBDEC46F090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637E2A-79A6-409A-9194-24052C8C19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FC02F-F8FE-4357-8E40-C828E875836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E1FA4-1759-4A2F-95D3-7D4F6E16B4D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313E5-887B-4989-A592-C3E8A421F55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EB848-D27C-4B70-BDEB-92E06E34FA9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793F93-D571-4747-9A78-E3A97CE421E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762974-00DB-4091-9000-F72E7A931CC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2CDAF-1BDF-4623-AFCE-CC65352A64B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C1720-095A-4CAA-9114-DF6A20BDA9F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BEAB2-3D0A-4513-B2DF-AAEF8C96D1F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F7BAE-E53A-4F1A-AB74-15DF490E1C2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E9092-10E0-48F4-867E-D2B28EE8E3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AF51-A8EE-42E7-92EC-12020183740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72E16-5DAD-49E7-BA04-9C4527F5724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F6708-083F-4542-AB8C-EAC4755EB12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C15EB-61AA-4B41-A8C4-9116B1AA12A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1A82A-5831-4372-8AB6-617973512AF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E5537-E991-4B09-B23D-BD593C95463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C832F-B55A-440F-9EF1-9673434428C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64562-AF3E-4C00-8F6C-08B0ABEFD70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860B75-D1DB-48AF-900A-4B069DEB5DE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1C7A81-DEF1-4FE3-955D-615A44CC9EA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3EBF42-915D-4BC9-A0E6-6FDBAB8B29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8425-A682-464A-B356-C6D981ED464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459BF7-5D04-43DE-816F-CD360AE22C6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D6A28C-836A-4CED-9E6B-D040A8FA5DF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550027-DF98-4128-8E23-305D48AFF0F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79AC80-B712-414A-9438-F872B2E8998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20EA5E-AF74-433D-9129-626366C1C4F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4C1BC2-BCD5-493E-BFA1-0A350261011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AE903A-4B9A-4B76-B1E8-190A6C71D64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DC144B-3E8E-4D21-955E-992AE7A9B0F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A6EC27-8530-496D-A33E-8E7ED84439B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42A502-011B-4A22-84EE-212EEA2D21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75662-92EA-4894-8902-B63BDDA6B76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4CA54A-5F83-44F1-A880-811C491F2BE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B08A80-9C72-4446-82FD-B21A66B539E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C379A2-E27F-4E7A-8CCD-4CDDE77C9CB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C2E640-400D-412F-9424-54E1364700C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44A2CF-B1C2-4EC1-96FE-1BF6F65AC1F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9F40C5-AE77-485F-B17B-666944A84CC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1AEE4-E34E-497C-9A9B-30FF5338D5E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0649DA-EF60-4CBE-A86C-4727EC914C1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51603D-F6D3-4E54-9670-8BC8205B38A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85DA38-9BE3-4064-9B39-DDC934943D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33F0-56BD-4F12-A108-F156E9CB12D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3ACE3-AAC5-47A7-AA1C-B44F431DAAC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CE67B-3455-4716-9CD2-B01BFCBD989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DA129-7732-4F5B-8968-1AEDAADE501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31819-4534-4C40-B02F-CDBBE7C492C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BF8CD-D7C3-46E5-8F83-6CBB49D6C6A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C1008-2829-4B19-B89D-96F64C54685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80A08-3366-4F5B-9742-85863CFAF79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B7587-49C3-41C0-AAC2-93D225F4354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CA598-3FA9-4029-B4E5-8FB5142CBB7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89CEA-62F4-4E8F-9408-7412E4AAB7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88E98-C6D8-4360-B235-EAD84F7E73E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76E0E-D0B3-4E49-B11B-C1E2E37F2AE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E2BCA-F9A2-4A79-BF12-78CE527C26A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8843DB-AE60-421D-8F33-7C69C59B01C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6D010F-2781-4857-A9E3-463CC48C61F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4359A2-069A-4C7D-9905-90D05806ABA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EC4F57-595A-4EB0-B53E-331B5DA304C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577CB0-B3EA-491E-BCA2-995EC217E92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A232F9-325F-4481-B7DD-51D0D25A580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F25DE3-60E5-4E07-96BC-9C6DE4161E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7B1AA6-8BC4-4E35-9595-27BC55487C9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FA7FE1-F087-4483-8274-4E832967A90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300F9F-8128-442A-A8AE-D9ED0A9D63F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777589-CA80-4C12-8275-82278D71106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E2ED27-43AA-4987-8831-D4DCE2B7E82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6BE67E-EC9F-4EE5-A53D-E159ED7D40E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315C35-AE68-469C-A148-4A0888FB718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64427E-60F5-4AAA-BC66-973FD2108E9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AA680C-05B3-4CDF-AB45-A3CE65A860A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A77F1F-4D26-4130-9E0C-77985095A9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1BC5AD-6D8F-4D92-BA08-F482BF8853F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28CD12-9506-44A9-9576-A2A564409ED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8567B9-72FA-45E3-BE85-F974E900E17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3E04AC-D8CB-4EBC-BA48-B9858BF7990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FC7DB9-DF5A-4A06-AB4D-E389B4F30EE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5A53D8-E7F2-44C0-9358-28235F7046E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4F0A07-C242-4F7B-BF20-683F900AD30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53CD9-8E47-4A17-A9BE-556232C016F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0ED13-D984-4D9D-A76B-50A3A254675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34198-90D1-47F4-8374-970296144A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57448-1CA2-45EC-A291-5BCF0C15F33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9445A-6F3E-41BB-9386-8B4D115291C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6A4E4-F8B6-4E45-A68A-BA373BCA2DC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E30DF-F452-4046-8DB2-58C09B83E9C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E9063-9934-412C-A2C3-DB7CDD614BC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3B5A5-B49C-4531-AA0F-3529174A700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A470D-CC2B-4611-9B68-5E8A5D0CCBB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282E8-D2F5-4932-A03D-CCD3DFE97F8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B38F9-7E04-4ED3-8899-212DCC9A066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29F11A-1E01-4FBF-9766-A10E6BB241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2C63C2-2713-42BB-80BB-31FA9031172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23F907-5F3F-4936-AF1F-A8E8005F135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F7D1FA-B389-4161-A752-3A4D04A02EB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CB8857-8AE5-464C-A54A-5AE2BD3E991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FB21D6-A9E4-4AB7-8C6F-6784081C802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5C0A3D-C490-4CFE-A601-C7735CAE8BD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E7808C-B21F-494D-8300-60E9F02E87B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73A4C5-18EB-4D43-846B-B4140E5A83E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AC6B16-B8AB-4B5E-A52A-BE72289A926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36A033-322E-4A4F-B773-33B66211AF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6F909E-0F26-4A41-BF03-CE85EBA1AEC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9B7406-AEC5-4F32-87DC-E2CF7726793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5EC14C-7E52-4B2A-8C0C-3E4C53BF3C3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EB53E6-924A-4DCF-B9EE-BC28F88CA45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4F3FBC-1FC4-4A12-A0AF-E452927BE5D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19F3D9-493C-40AA-B4CC-2EF99D0EEAB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5C3DB4-4C49-47B2-AFC4-645ECC5C661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86941D-6072-4EB6-9A72-6829DD4E78F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3CA9CF-101A-4724-AF5C-919BD71D023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3DB014-6A66-4F10-B9C0-2914E2AB16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2D0045-DE0D-4048-AFCD-62AFAF674DE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69B722-5089-44FE-97D8-04E3B13E7C2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2C2BE5-A70A-49C1-99BC-791AD063D1CA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0A2A7-6088-491E-A339-5352B18DEE5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6165E-3F94-41D2-AEDF-73AF905DE42F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73C65-E015-491A-A9DB-54B222F13FA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0B359-49B6-445D-AFAB-7FE8DC4B7E45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BA7E0-6511-4B2B-BA4C-18A1C89F0D38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F30B2-3B30-40E0-9144-0B61E0BF56A4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F6BD2-9B8B-4D03-916F-CA19B4937C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6C758-7DBD-4456-B855-495052643EDF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C2BF6-5966-4FD6-BFE2-A84A6523520D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5CACA-246E-493B-99A3-814B3319F00A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AB010-5D56-42D6-B4C6-BAC4BB7A69DE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E613B-BE8D-4065-AAF3-6DD93D194B18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DD0D6-4515-499A-8BFC-ED4712FCD0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31698-9EB1-469A-8CC0-6A107F9CFB9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367C6-7351-495D-B0A8-A52338C62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0E92B-9EA6-407B-88DE-CD1D5007E4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8EBC2-6477-4F16-A3B6-98394A0C9C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B2367-639D-4E68-8670-3562105BE5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1B5BA-E0D9-4108-A59A-2F6B6D2D35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4972D-3AE0-4BBA-AEB9-907C5BBD22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E4564-4B7D-4178-A4FA-FF092764D1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D2320-4E79-4680-8A79-7F351F6BDD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8C41C-B8AF-4AA7-AFE1-D50C358100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225DC-574E-45DC-AEED-DABCBF0B182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14A-4ACD-41B0-A9E6-11BF69FD68F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213-6807-4CF7-A2F5-AC8175B8D87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3E7D-BE09-4B39-8C2B-0DCCBF24C53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0281-C429-4F3A-A2CE-9230AE4AD3D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BB08-9D43-4863-8919-8191E124030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42B-F285-49D5-A645-D4AB8EFF363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37C-F848-4449-B93E-DCA53E04207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602-B216-4E4A-B36E-EFAB0E90EA9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B30C-035A-4129-A079-C33078C1B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FE68-7185-4EBA-9F5F-93E2E8D539A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9CCA-2720-4E8B-9AD0-F11530EB8F3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E4CA-6FC7-4D7C-9EB3-32F34890C66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F77F8-500F-439E-83A6-B8AAAE89401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185A5-E291-46CA-A74E-77F21180E50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031F2-7D6B-445C-8C0C-FF39528F135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D612A-8748-4922-9B86-7833DD0E652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4D6CA-0646-46AC-AE83-4DAD63D9D5A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5FF46-69C7-45F7-99E0-520BB0A6801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0AA5F-2038-41D9-8EE2-7BBAD8047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369FE-B733-42F1-9E0F-44D2A8166F7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EFE0C-B5A3-4E5B-BF73-9946DC08ED2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07E05-5728-4703-B74C-DA586F72F6D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94C80-1319-412E-BE73-8A262E19D1B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EFFC7-932A-407B-9517-9BFF103F1BE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FFAA5-C5C0-4A08-94A5-D14189EEA66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64BD3-4B16-4A97-89DE-3A2C5945CF7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85C19-1575-41EC-A717-A3751867B54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69A4F-8942-486B-BD47-3083FB8E99B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BC585-C182-4872-A378-9FD7B0BAC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901F3-CA84-4EA7-B9DF-1672B9792F8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382BB-C246-441B-9773-8DF79B216BE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4A28C-B2BF-4C63-BCE0-042DA98893E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C8A2D-3FCF-4BB3-BA0E-9954722D461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2D3CD-F7C0-4778-A833-FB321288D5F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14D46-6167-4881-8D02-AC018267727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DB3D8-EC8D-4B51-920F-65EAF1247CB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97D5-DC20-4721-88C6-FDF715D5B61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400E-EAC5-4991-8767-3D9215EC2A7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DBC0-EF44-4FA3-BB8B-C7000885F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1F59-1939-401F-BE40-F38DC350586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B7D9-3F2C-4EF0-A771-00D053DAEF5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8DDF-D569-4AAB-B3B6-18F27F69175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9DAF-3BE9-484E-AE5F-E4E5A81D82F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A18C-01FD-43B3-B248-D9A1129C260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6329-19A0-42FD-B28A-77E9C7488F6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62F3-0752-4D95-8665-5C6075B9D9B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D8D9-A777-4D55-A812-5AA9A607EB0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9A98-A1E3-4844-84AA-878CC93EAE3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CE45-B36F-4DE5-90F2-A2352079C52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20FC-6716-4D84-84CE-34D5E5089B8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CBB7-86AC-4BBD-B2CB-5C74841A2DA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D687-E204-428F-819D-5C8EFC9DB79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A468-4D09-4A6E-B309-D486A4EE8AF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2B79-C65A-4107-9FAA-1E29720E121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B081-ED89-4484-9850-F04285211E5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41E9-244E-42BA-AC39-731363997DF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01B4-DF8A-4A2A-AA2D-5361563531F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73D5-EE2C-4DD7-8F77-0A5061202F6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1D7F-D6BD-4A56-8E86-8B096761D9C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0B3D-A0E7-47DE-A8E0-E2ADEA15608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0732-D444-4687-A918-0A899C19F37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1B08-7A81-42A2-AE80-DB565EE0A6D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077E-A66D-44F1-A4FC-4A474B96142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Pas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Agosto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Text Box 3"/>
          <p:cNvSpPr/>
          <p:nvPr/>
        </p:nvSpPr>
        <p:spPr>
          <a:xfrm>
            <a:off x="1244520" y="5731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5 CuadroTexto"/>
          <p:cNvSpPr/>
          <p:nvPr/>
        </p:nvSpPr>
        <p:spPr>
          <a:xfrm>
            <a:off x="6728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4"/>
          <p:cNvSpPr/>
          <p:nvPr/>
        </p:nvSpPr>
        <p:spPr>
          <a:xfrm>
            <a:off x="0" y="5516640"/>
            <a:ext cx="925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3" name="1 Imagen" descr=""/>
          <p:cNvPicPr/>
          <p:nvPr/>
        </p:nvPicPr>
        <p:blipFill>
          <a:blip r:embed="rId1"/>
          <a:stretch/>
        </p:blipFill>
        <p:spPr>
          <a:xfrm>
            <a:off x="898560" y="1484280"/>
            <a:ext cx="75690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1728720" y="5554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382680" y="545796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5 CuadroTexto"/>
          <p:cNvSpPr/>
          <p:nvPr/>
        </p:nvSpPr>
        <p:spPr>
          <a:xfrm>
            <a:off x="891360" y="525456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8" name="1 Imagen" descr=""/>
          <p:cNvPicPr/>
          <p:nvPr/>
        </p:nvPicPr>
        <p:blipFill>
          <a:blip r:embed="rId1"/>
          <a:stretch/>
        </p:blipFill>
        <p:spPr>
          <a:xfrm>
            <a:off x="1060560" y="1706400"/>
            <a:ext cx="7134120" cy="35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1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Text Box 3"/>
          <p:cNvSpPr/>
          <p:nvPr/>
        </p:nvSpPr>
        <p:spPr>
          <a:xfrm>
            <a:off x="1312920" y="557280"/>
            <a:ext cx="68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5 CuadroTexto"/>
          <p:cNvSpPr/>
          <p:nvPr/>
        </p:nvSpPr>
        <p:spPr>
          <a:xfrm>
            <a:off x="61740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5" name="1 Imagen" descr=""/>
          <p:cNvPicPr/>
          <p:nvPr/>
        </p:nvPicPr>
        <p:blipFill>
          <a:blip r:embed="rId1"/>
          <a:stretch/>
        </p:blipFill>
        <p:spPr>
          <a:xfrm>
            <a:off x="952560" y="1778040"/>
            <a:ext cx="7734240" cy="3300480"/>
          </a:xfrm>
          <a:prstGeom prst="rect">
            <a:avLst/>
          </a:prstGeom>
          <a:ln w="0">
            <a:noFill/>
          </a:ln>
        </p:spPr>
      </p:pic>
      <p:sp>
        <p:nvSpPr>
          <p:cNvPr id="1306" name="Text Box 4"/>
          <p:cNvSpPr/>
          <p:nvPr/>
        </p:nvSpPr>
        <p:spPr>
          <a:xfrm>
            <a:off x="71280" y="537372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Trabajador sin remuneración* :  Incluye al Trabajador familiar sin remuneración; trabajador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4"/>
          <p:cNvSpPr/>
          <p:nvPr/>
        </p:nvSpPr>
        <p:spPr>
          <a:xfrm>
            <a:off x="34920" y="558972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Trabajador particular incluye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1787400" y="512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8 CuadroTexto"/>
          <p:cNvSpPr/>
          <p:nvPr/>
        </p:nvSpPr>
        <p:spPr>
          <a:xfrm>
            <a:off x="1053360" y="515772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Text Box 4"/>
          <p:cNvSpPr/>
          <p:nvPr/>
        </p:nvSpPr>
        <p:spPr>
          <a:xfrm>
            <a:off x="71280" y="537372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Trabajador sin remuneración* :  Incluye al Trabajador familiar sin remuneración; Trabajador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1 Imagen" descr=""/>
          <p:cNvPicPr/>
          <p:nvPr/>
        </p:nvPicPr>
        <p:blipFill>
          <a:blip r:embed="rId1"/>
          <a:stretch/>
        </p:blipFill>
        <p:spPr>
          <a:xfrm>
            <a:off x="1293840" y="1773360"/>
            <a:ext cx="7004160" cy="3305160"/>
          </a:xfrm>
          <a:prstGeom prst="rect">
            <a:avLst/>
          </a:prstGeom>
          <a:ln w="0">
            <a:noFill/>
          </a:ln>
        </p:spPr>
      </p:pic>
      <p:sp>
        <p:nvSpPr>
          <p:cNvPr id="1314" name="Text Box 4"/>
          <p:cNvSpPr/>
          <p:nvPr/>
        </p:nvSpPr>
        <p:spPr>
          <a:xfrm>
            <a:off x="71280" y="566100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Trabajador particular incluye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7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 Box 3"/>
          <p:cNvSpPr/>
          <p:nvPr/>
        </p:nvSpPr>
        <p:spPr>
          <a:xfrm>
            <a:off x="1133640" y="71136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5 CuadroTexto"/>
          <p:cNvSpPr/>
          <p:nvPr/>
        </p:nvSpPr>
        <p:spPr>
          <a:xfrm>
            <a:off x="691920" y="4869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4"/>
          <p:cNvSpPr/>
          <p:nvPr/>
        </p:nvSpPr>
        <p:spPr>
          <a:xfrm>
            <a:off x="444600" y="535464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1944720" y="1557360"/>
            <a:ext cx="528012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5 CuadroTexto"/>
          <p:cNvSpPr/>
          <p:nvPr/>
        </p:nvSpPr>
        <p:spPr>
          <a:xfrm>
            <a:off x="545760" y="54133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Text Box 3"/>
          <p:cNvSpPr/>
          <p:nvPr/>
        </p:nvSpPr>
        <p:spPr>
          <a:xfrm>
            <a:off x="1133640" y="62064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 la población ocupada en el empleo inform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áreas y 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1 Imagen" descr=""/>
          <p:cNvPicPr/>
          <p:nvPr/>
        </p:nvPicPr>
        <p:blipFill>
          <a:blip r:embed="rId1"/>
          <a:stretch/>
        </p:blipFill>
        <p:spPr>
          <a:xfrm>
            <a:off x="1935000" y="2063880"/>
            <a:ext cx="530568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Pas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9" name="1 Imagen" descr=""/>
          <p:cNvPicPr/>
          <p:nvPr/>
        </p:nvPicPr>
        <p:blipFill>
          <a:blip r:embed="rId1"/>
          <a:stretch/>
        </p:blipFill>
        <p:spPr>
          <a:xfrm>
            <a:off x="1636560" y="3716280"/>
            <a:ext cx="5877000" cy="1800360"/>
          </a:xfrm>
          <a:prstGeom prst="rect">
            <a:avLst/>
          </a:prstGeom>
          <a:ln w="0">
            <a:noFill/>
          </a:ln>
        </p:spPr>
      </p:pic>
      <p:pic>
        <p:nvPicPr>
          <p:cNvPr id="1330" name="2 Imagen" descr=""/>
          <p:cNvPicPr/>
          <p:nvPr/>
        </p:nvPicPr>
        <p:blipFill>
          <a:blip r:embed="rId2"/>
          <a:stretch/>
        </p:blipFill>
        <p:spPr>
          <a:xfrm>
            <a:off x="1446120" y="1484280"/>
            <a:ext cx="6289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Nariñ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3" name="1 Imagen" descr=""/>
          <p:cNvPicPr/>
          <p:nvPr/>
        </p:nvPicPr>
        <p:blipFill>
          <a:blip r:embed="rId1"/>
          <a:stretch/>
        </p:blipFill>
        <p:spPr>
          <a:xfrm>
            <a:off x="995400" y="1758960"/>
            <a:ext cx="72277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5 CuadroTexto"/>
          <p:cNvSpPr/>
          <p:nvPr/>
        </p:nvSpPr>
        <p:spPr>
          <a:xfrm>
            <a:off x="1044360" y="4822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1 Imagen" descr=""/>
          <p:cNvPicPr/>
          <p:nvPr/>
        </p:nvPicPr>
        <p:blipFill>
          <a:blip r:embed="rId1"/>
          <a:stretch/>
        </p:blipFill>
        <p:spPr>
          <a:xfrm>
            <a:off x="525600" y="1916280"/>
            <a:ext cx="7983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Text Box 3"/>
          <p:cNvSpPr/>
          <p:nvPr/>
        </p:nvSpPr>
        <p:spPr>
          <a:xfrm>
            <a:off x="179280" y="235728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bril - Junio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8 CuadroTexto"/>
          <p:cNvSpPr/>
          <p:nvPr/>
        </p:nvSpPr>
        <p:spPr>
          <a:xfrm>
            <a:off x="3059280" y="5775480"/>
            <a:ext cx="568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+) (-): Aumento o disminución de la TD de cada ciudad frente al mismo trimestre móvil  del año anterio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3 Rectángulo"/>
          <p:cNvSpPr/>
          <p:nvPr/>
        </p:nvSpPr>
        <p:spPr>
          <a:xfrm>
            <a:off x="2843280" y="5052960"/>
            <a:ext cx="6119640" cy="21600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0" name="1 Imagen" descr=""/>
          <p:cNvPicPr/>
          <p:nvPr/>
        </p:nvPicPr>
        <p:blipFill>
          <a:blip r:embed="rId1"/>
          <a:stretch/>
        </p:blipFill>
        <p:spPr>
          <a:xfrm>
            <a:off x="2971800" y="334800"/>
            <a:ext cx="6010200" cy="5534280"/>
          </a:xfrm>
          <a:prstGeom prst="rect">
            <a:avLst/>
          </a:prstGeom>
          <a:ln w="0">
            <a:noFill/>
          </a:ln>
        </p:spPr>
      </p:pic>
      <p:sp>
        <p:nvSpPr>
          <p:cNvPr id="1271" name="1 Rectángulo"/>
          <p:cNvSpPr/>
          <p:nvPr/>
        </p:nvSpPr>
        <p:spPr>
          <a:xfrm>
            <a:off x="384120" y="4883040"/>
            <a:ext cx="22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*El total de las 23 ciudades incluye San Andrés por tener una distribución de la muestra diferent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1 Rectángulo"/>
          <p:cNvSpPr/>
          <p:nvPr/>
        </p:nvSpPr>
        <p:spPr>
          <a:xfrm>
            <a:off x="3132000" y="558792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ran Encuesta Integrada de Hogare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Text Box 3"/>
          <p:cNvSpPr/>
          <p:nvPr/>
        </p:nvSpPr>
        <p:spPr>
          <a:xfrm>
            <a:off x="1428840" y="71136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(2006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5 CuadroTexto"/>
          <p:cNvSpPr/>
          <p:nvPr/>
        </p:nvSpPr>
        <p:spPr>
          <a:xfrm>
            <a:off x="7585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7" name="1 Imagen" descr=""/>
          <p:cNvPicPr/>
          <p:nvPr/>
        </p:nvPicPr>
        <p:blipFill>
          <a:blip r:embed="rId1"/>
          <a:stretch/>
        </p:blipFill>
        <p:spPr>
          <a:xfrm>
            <a:off x="971640" y="2092320"/>
            <a:ext cx="71294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 2011-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5 CuadroTexto"/>
          <p:cNvSpPr/>
          <p:nvPr/>
        </p:nvSpPr>
        <p:spPr>
          <a:xfrm>
            <a:off x="2139840" y="544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1 Imagen" descr=""/>
          <p:cNvPicPr/>
          <p:nvPr/>
        </p:nvPicPr>
        <p:blipFill>
          <a:blip r:embed="rId1"/>
          <a:stretch/>
        </p:blipFill>
        <p:spPr>
          <a:xfrm>
            <a:off x="1461960" y="1676520"/>
            <a:ext cx="6220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bril – junio 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1 Imagen" descr=""/>
          <p:cNvPicPr/>
          <p:nvPr/>
        </p:nvPicPr>
        <p:blipFill>
          <a:blip r:embed="rId1"/>
          <a:stretch/>
        </p:blipFill>
        <p:spPr>
          <a:xfrm>
            <a:off x="552600" y="2492280"/>
            <a:ext cx="8224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4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5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8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Diego Alejandro Martinez Jimenez</cp:lastModifiedBy>
  <cp:lastPrinted>2015-06-02T14:27:28Z</cp:lastPrinted>
  <dcterms:modified xsi:type="dcterms:W3CDTF">2015-07-29T21:04:56Z</dcterms:modified>
  <cp:revision>880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