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E47-CBAA-44BA-A8FF-C6AD80CEF8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AC4B-EB1A-4554-B631-6FE587C9295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7B81-7162-4900-A67D-EDE492CECD5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01A6-FD70-41B9-8943-19FC6616F20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7E1E-F26D-4C15-ACE3-914AE382BF0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04FE-12A5-4421-93E4-5B1E5F29941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F1B7-205E-4E4B-97DA-3989A5A06D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2AA5-3BF0-4817-8913-95EF80ADF9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707-46DE-4351-A69C-B2016C34CF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F36-38E2-459F-BD3C-58F03FB7F7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1FE5-887E-43EB-B0E9-99D65355A1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AF55-3B33-4009-9526-3354015A5E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B1E-88D8-46B0-9F39-51E603263F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459D-817F-4B4D-8F16-D9EF4E7F43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9886-66E2-47E6-B827-4E1A763E0B1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68197-B9B5-4252-A7B7-7879707B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DEAD2-F712-4D11-988F-14938D5D16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88ECD-F170-496D-9BDF-84016F7E2B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423EC-E541-4B80-8B4B-3B4236F8A7D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9AB2A-DD17-42EB-B180-55AE5998BF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62A5B-285E-4770-B607-6617CB4E01C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C6939-F706-4E2A-86FF-AB2830F20D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DEB06-6DEC-4E25-B10B-9A5EF4AF90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FB8CF-CE05-4586-95E5-D84E6FF5C37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B168A-370D-4852-B475-A5741AE1C0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84371-A929-4D5F-8A4F-397B13323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3C447-38F0-4B13-BB33-C75872012D9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C72BA-77C3-4442-B5D9-EA87471356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72827-F4AE-4A85-AE0A-AECF6A2767E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5D76F-CBE5-44EA-8CB3-9E449810CE7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83D54-5345-40D3-8954-DEFE75ED58E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99502-1C0B-4550-A927-C442F6714AB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62D53-15FD-40BF-AF51-51B2B9DE15E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045D4-CF98-4DE4-8957-E2D66DE0907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598D7-3B15-413C-B421-56F5C419DC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F3184-BF32-4C5F-90DF-DD02C7E2C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3A69-E307-4DB6-AB5B-592FBEC276E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0FCA3-5526-481D-802F-F451418347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92C8F-D055-41CD-B6E6-CB7383D7772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9945D-2BFC-4A3F-970A-D23AE1A292A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75C5-35F1-4E5F-BED3-9FED3207141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0768-1F30-496B-AE85-532714ADC0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C4E3-B9A8-4023-9653-F7F8CB3F86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88B1-7A96-46F6-9864-55CAFB8E249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70BC-F7E2-4F48-ACBA-C02423D360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35C3-F4E9-4068-BDBF-789FE7AB374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5C2A-F9CD-40E3-B127-AE686938C6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7C50-BECF-40FF-ACFE-6FBED863AB9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1A8B-C2AC-4CBD-A86C-A69B655106F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EECB3-C910-4084-A651-6C6406CD26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C86B-C9F7-4ADF-B890-DA5E53B2B28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5679-DC16-439D-AF33-213105340E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1575-BE5B-44D3-8DD7-BBC837B20F8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18401-C941-4CAB-B5B7-97473C5E14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56048-767D-4C92-88FA-4BD272B5E64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D7807-E9B9-440C-AD53-1626454421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7558A-AD31-48F3-B04A-007401AFBE6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F562C-E715-4E4C-BF94-A6B4B1FA4E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5354-32FD-44C8-98DB-FEAB908A605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C38B1-A2A1-469F-A23E-BA470A76DC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9394B-4491-4392-A66C-56F3D31B3D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694AC-E06B-4A18-994F-175958A182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8701A-F29A-4678-88DB-3C4A6A34FDD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32F5A-94F9-40DE-932C-50D4CCAA82B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ECD07-09A9-4C5C-8E33-D22DF07615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FE554-17D1-4BED-AED1-8CB92E59FE8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D4C6C-4D1E-44AC-95FE-918130DBF75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E015D-1202-419D-A7C2-F122A0AEB29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F52FC-5F24-4C1D-8ED0-EF9E55A952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BDCC-F950-4130-9C51-23D57BB8983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78692-B422-453F-864D-1B2542E040C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2CB99-EF2C-4405-A296-2BD2BBE4F4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283A9-EB51-44B1-964A-B98789D8B0F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C7D68-50A4-4B31-BBE4-87AAC8BFE6E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30075-77EA-457E-8E3B-1132165C377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FB031-22E5-493F-A245-6193B45D311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F19C1-FCC1-4768-89D3-7F94C6522B7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84D2C-AEE5-49D3-8517-C28089AB5F6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335B2-CCB2-4D46-AD36-AEEFC6AF1AD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E1B4-0062-4EE9-9762-199AE2400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CEE3-F2B3-4B4E-A015-F6B51B86EBC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A0E0-F8DA-4580-9DDE-60A172A360B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9BB1-D6CE-42ED-A71F-3EEADF5BC0F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16DC-C3C0-4D4D-A51E-4E0BE0AE8DA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1B19-BB11-4545-8C71-155BA8BBE0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D3FC-6B9A-4236-90F9-B8C4A586991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4A3C8-F8EC-43C6-A734-5637E52D337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EC07-6F95-4956-804D-2161EC822EA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98C0-E6F2-432B-9BE6-6AB342004A7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405B-2AA3-4521-98F8-6582E10E1AC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025A-2FE2-4C38-8E37-59A5C06C9D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A556-FBE4-4969-A319-7D971EFD615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01079-9C05-4916-A0A1-090CC702F83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CE310F-F123-4693-8E2C-BA41CE2F1F9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E9FA8-180D-4345-9932-DF430CCBB77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FA0C1-A9FA-45B4-82F0-BEDE99B0692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FFC82-7551-4AC4-8971-AC9CCD073B5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628872-C4C7-4EE6-9FD2-9D92CE1856F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47F54-7E1D-4C92-B589-FA9F765261D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DFA317-94DA-4FEE-B2B6-E1E5DFA0701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82BC7-D49C-4989-850A-0B4CCB035A3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4FE97-4681-4EF5-810F-AA5E4DD3A7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F58B-731E-412F-B9CC-2A26384D572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EAA28-91FA-4132-B7D4-DFFC9F5BB1D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C7F14F-842E-428A-98D5-A4F2973AD50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20361E-B193-426A-B7C7-BD0408098C5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BFCD2-E268-4FD3-A5D0-AEAEF800A64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E5A59-84C6-4FC3-8BD8-F470B874645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84CE1-08AD-4D02-9E55-C7C471FD464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96AA8-4C63-44DD-B1D7-4ABCEB69EFC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C9FB5-9E45-4935-B8DE-E9916226D74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400F5-938F-4E53-A31F-E5B7152BCC7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075FC-9309-434A-A6D5-C32206C43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D95B-1DBE-4D4E-AEAC-FEAC32E52BC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3F0CE-6F0A-4B1A-BCF0-B7526934165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47067-951D-45FE-94F6-A8D1F00CC78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924D3-BA82-434F-945D-CD36FC0D02E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AB62D-19A7-4452-8A69-A9B6A804A80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FA60A-698B-4729-9E88-22A44F78158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ECAB-49E8-4843-8478-3ACC2756C82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9634-957D-4079-B6DA-6D00E1C4FB4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A76DF-AAE5-4C95-B2F9-6157473D311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1E26-F9BD-47BE-AF41-6F6FC20C48D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614A-03F0-465E-BACB-3134528B1C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95AD-CE11-4EF6-B48E-6AC5A970056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2C0F9-D96D-47FF-B577-8B641F57A4D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B70C-E690-4150-BFF2-1EFBBEA8E90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7025-1D57-4CA9-A305-CC60E100D79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C673-36C0-478F-8542-63A44154DFD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D7F8-0ACE-4EB0-A321-7D10301392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336A-135C-4BF8-9A12-4E82FD1E907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35C9F-21C7-4F94-A7E1-E7A9AB8E717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6C058-F3C7-4C10-BFED-5755ACAEFBF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F53A6-F89D-4FBB-8C64-5AD34E7EAD2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2FF20D-939C-4616-8D3F-8DBFC3C99C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7E8E-9637-40F9-A12D-DB072019334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F598C-67BC-4CF5-9FA7-6DF5A60EB6A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B308D8-EBD9-4EA8-BF38-5BE30714216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9E7100-624C-40C0-99A3-75474D109D4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38596-0264-4A18-B833-17BE1DE7246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14238-E5E1-4494-90C1-5CCB303766B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A2C47-FF94-4B0B-8241-8957CE0916B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50642-4D9F-46D6-8193-887E9A9B1FA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BDF8FF-89C6-4AA5-9791-1A63644B55A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4029D-EDBB-48C4-A2BF-613FACA7DF5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B931B-05A1-4007-9E45-1F21582D7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517D-E7ED-42A6-9E8C-553D7DCE634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DABC8-C7A1-40A1-B7E2-11DC57B5166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51026-6132-4387-9EC4-69ABDF47768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9D462-0EB2-4E33-9F44-95E0E64599E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6644E-3F88-4340-AE2D-DEAF03DD1DF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A2D41-B120-483A-B20D-B9F4649FEE4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ADE57-52E1-4406-B102-ADBDDFE219E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F9698-9B17-480D-8044-45AEBC181C5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2C555-E443-4FDB-8C28-83709DBBD61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194BD-AC14-4762-A661-58803E9D8D9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CA21E-0A47-4127-A3BE-AC30073BC0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334D-10DA-4C47-8095-ED00A38B913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70262-B46B-4B44-A11B-967ED12C67A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DF74-5AB8-4855-8A2C-0B7F28277ED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3626-C51D-43E1-A217-1701B9B37AC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94284-975A-4C30-9BF6-D551107BEB2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C12A-354A-4830-B117-B4D2FDA1AFD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2431E-C149-40AD-9D99-9A2CC684024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7174-DC87-49B4-98C7-C88BAFC3B76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4F008-C627-494F-8249-7FC58DD7884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40F6-B434-4E4C-AACF-5849047E7E0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7F11-B0ED-4793-B8AF-CE44CB7E13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5086-EBA4-4B0D-9691-9BEF9D83A6A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89D4C-E308-4B14-8DB4-6073D701EF2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BC76E-0245-40F7-9CC3-4FC8362C6DC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861D-B735-4E98-804A-EA1A661CD4B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B3B51-610A-48B1-B7AC-0643C854188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414ED7-5B43-4179-A132-D0FF0E81C74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2736A-F3F8-4700-84FA-083C80BF808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691F6D-3735-4404-B518-275C7984918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CC3328-403E-494D-84BF-A9D00B2381E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3B278-9A76-4ADD-B2F0-FA1831FC41C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096BB1-B6FA-4D43-BEAD-0F5D7D8675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725B-054D-4EA2-9D4E-1BFEF9B0E9F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3FDB3D-E20B-41E5-881D-A42627B4975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C7C000-141B-4409-AD65-CD7613412A3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6F89C-C64E-4B75-BCA9-577A4044E92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2E069-A1AD-4B1E-8541-61BAF663261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0FF244-39A6-4F46-A918-38D485EA07B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6AAE2-061F-4864-B637-FF176B47F6B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C4D26-20E0-437D-BF51-C1E3C2223CC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D9F00-6BDB-41D0-9E38-6DA53A2A859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03964-328F-4F6C-B4A8-E189E925109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71051-76CD-4337-9125-63C814F05C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A9A7-029C-4DB4-B8B5-5BFE1B8B0F2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9D5F1-3DCD-45C6-B451-0B94ADAF4F8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C751B-387C-4272-9F7E-81664B6EE82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E1E83-7DC3-489C-B87A-AF8CBE165BF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D1344-452A-41DF-8FAB-DCD7FB4B847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C75A7-3298-4189-9D62-89F2D1A74B6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19D4C-AE4D-420F-A3F8-42538AFFC1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C18F5-C0AE-40AD-AAA4-5FEA8D5FCFE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ABEB-644C-482D-8D72-257075ADC0E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76CE-8F37-4CDF-9356-694CB4B3EDB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8A2D3-5D07-4778-8486-CBAF857539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4CD0-4D84-4A62-A01B-CD4665B7760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184C-2CD2-4B72-A15F-3E9076551BB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D332E-E750-4976-9F3B-71F55CACAA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46CC-EC24-4283-B16E-9294ECE6814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E774-E820-4993-B2CA-E6F6E23FD38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9E5A-C432-4132-93D1-8BD086EE522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0051B-2BC1-4AFE-926A-BFA5D3E6A8C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8F80-BE99-4D33-B33B-E55C8F0B351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FD0DD-2EAC-43B5-9EA8-05EF034A561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CB7A4-55D4-4545-AA09-C79C646FE67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D50ABF-6D45-4605-A50A-1D9ECC36B9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F13C-B956-47C9-9F8D-01BDAC4F290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11F3F5-2CA6-4727-80E1-106BF371831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31A6C-BB15-431F-A546-7AD85048C05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96A2E0-9559-453C-B58A-187A920A6A8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DFC5D-885F-4075-B81E-FA7D20FC0B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32E24C-711C-4349-B0CE-C38C84768F7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F4F04-CA60-4028-A53B-B11D5CB3CD6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46536-11B9-4EA1-BE8D-4E53F938FCA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39221-879C-4510-8E84-969D91A4593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202E1C-6B7A-45AA-965F-7F317E1CBF6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3AC95-7024-4885-998D-6E8E84B41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DD2B-AEF4-4FDD-9B5C-B23540343C6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17393-FC6E-423F-9DDF-4A3CF6B739A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BDCF2-433D-4545-8989-5D004F0BC48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3FA55-77B6-45FF-997B-AD1A5FFAA86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297BE-38A9-4EB3-85EF-E24850C8CC8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26363-5EB3-48EE-939B-B73E41C0400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CB5AB-3B61-47F1-9DBC-3318E5B5252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44AC2-C1D1-4235-99FF-AD6632AF462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66DF3-B999-4D92-8F01-1E8FE95B5BE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D3557D-CBF0-4717-A5FD-849701DFBC4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C4F46-3406-4857-8EE3-7CA4C7E041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5B73-8596-47F8-87B6-E1CB984A9D5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776CC6-6B41-43C4-B3F9-305D808D788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D0CFC5-7A08-4B5B-8E45-78C1950FC7A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983B0B-F250-4139-B028-656BCA7C5CE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800E0-7C5C-4259-9716-C885A98D41C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EC9CF-1F83-4771-BF16-C752772B872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884D4-B6CE-4D24-B982-4D7763907EB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FCA65-F023-4488-9891-FCC031BDF8F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9E5DE-2D3C-40D2-80F8-2FC5CA2C812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6B1B-CAE3-4C32-8CD9-1ED60EC2BE9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C86F-FFD8-4098-B5C6-9480581246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6398-796F-4471-B275-876C755D991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7D5DA-6F75-431A-8D3C-155BE7CC777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35694-7C19-4863-AE4C-D34259C937F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1375-F53E-4DD1-8947-8D49D7042CE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779C-E919-4900-903C-F75E71BDEBD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F0B3-5786-44B7-BCDC-F24EEAFAF1A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A8B7-AD77-4A57-B6CF-F2322C5CA8B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01A6-34C0-4C99-B2F9-8F18F149FC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6B4A-F7A0-4E95-AF8B-763FD2E97A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1036-0E7D-48D0-BF0F-5955DE2070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5E2-B563-4F12-86CF-D9E6EBC4802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978-4C1C-4DEC-9F1F-37A6D6D109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86A-EBFD-447E-9B4F-2EE69BC6C1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24B-15DE-434E-AD96-01D2AD59A94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274-1AA3-434B-B0DD-F228E79A96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333-78F2-4671-8A72-041CB83C5A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BF3-3007-4119-88C1-4150777E6E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3F0-1111-4C87-A634-BC6A4DED14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6F2-82C2-4CD0-9254-65685FA44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D2D-FC41-4D41-B859-4ED7CD6E10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F8C-E010-4795-85CE-3BC897C578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885-A610-44B9-B79F-06A22D3551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E8D70-9203-457F-8F9E-DEB32B6D5E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85B6-AF78-4EC3-9CDD-4611C07E130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538C7-7458-46B9-AB40-7C1E51B784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A1CA3-5220-40AD-9EDB-A03F0B2DDE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35E01-71C9-4819-AB1E-5501693264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B0B1F-67E4-4FC5-8BE6-3303DCA9AC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54586-66B4-4454-8AB9-B8044CFFD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3E6F5-BB5B-407D-9DC4-9C4E65304D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EE85-003E-43A2-AE43-7226D18B2F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081A7-1884-4F7A-832B-F885898657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60FE9-3102-4DE3-A098-92204648DA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C2848-8810-4DDD-B0DA-42BD1E7E3E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8E269-8D13-4E85-8560-D74D8B43FF1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57D0C-9326-408C-851E-B986FF89ED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628C6-2C9C-47C9-BE12-A81C9D9764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6BEC4-555D-4E93-ACB1-6110140C07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AA19-E589-4A1B-98A6-62CBB6B91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31549-FC45-4358-9E37-82D39C348C6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9997-F8C3-424F-93AD-7DC129BCEA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FD103-EB51-436E-AE98-834309769A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4D82-F94E-4B84-A1C4-C1CC49C2F8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83CFF-3EAB-4D29-BA3C-433B16A0276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68E23-EC95-46DD-9D34-C879B62C8F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0DAB8-ADF1-4EBC-B656-3C5E11FC451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1CA0-E90F-4967-B935-C1ED816ADD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1E65-A829-4329-8617-EF529E4267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340D-AE7D-41E5-8773-05F99C201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E2CC-635E-43EE-AC8F-58AD2D40037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D302-4EDC-4AFB-A664-D4602B68F81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187F-7614-4053-9F34-F7BA1F3FE22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AE9-C72A-4496-9C2C-C38D135408D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31FC-FF44-496C-A106-DE66FA4860B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A80-8A51-4590-A39E-868881DA042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805-834A-45EE-A9F7-56D7C971D41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8D3-D89F-4421-9A7F-D4F7D1681D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2BB8-135D-4F6D-A123-E4D14D79CDD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F179-2D36-4C65-ABDF-D4AC8783DBD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060F-B32F-47F4-9E40-33DA094D938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788-7C8E-4D21-959B-066AA8772DF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D13-1A9B-4E45-BA49-284444D8175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6DF0-D82A-4457-935B-B2F2759120B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2B50-FA81-4293-BC0E-C542F246D7A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3F6-1C84-48A9-A066-69EB70CBE8F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EA9-3931-476A-8A51-E653D784D19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602F-874D-4741-AEA8-CB3085496C6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A64F-6287-4F08-B018-A6C51334F64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0EFC-1098-406D-80C4-7B3A2272263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C77-F7C7-4D20-B8B3-F2010E8B063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37A-FF3F-4547-8589-5E802D2ABC4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5EC2-DC0C-4D01-980D-47546A3CDB2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9FAA-13E4-49EB-8B51-2FDB5E3B2BF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Rioha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3"/>
          <p:cNvSpPr/>
          <p:nvPr/>
        </p:nvSpPr>
        <p:spPr>
          <a:xfrm>
            <a:off x="1258920" y="5205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108000" y="52293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”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1254240" y="1557360"/>
            <a:ext cx="73832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1152360" y="3301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4680" y="5373720"/>
            <a:ext cx="878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1 Imagen" descr=""/>
          <p:cNvPicPr/>
          <p:nvPr/>
        </p:nvPicPr>
        <p:blipFill>
          <a:blip r:embed="rId1"/>
          <a:stretch/>
        </p:blipFill>
        <p:spPr>
          <a:xfrm>
            <a:off x="579600" y="1306440"/>
            <a:ext cx="76262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2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1000080" y="498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5"/>
          <p:cNvSpPr/>
          <p:nvPr/>
        </p:nvSpPr>
        <p:spPr>
          <a:xfrm>
            <a:off x="517680" y="5445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7 CuadroTexto"/>
          <p:cNvSpPr/>
          <p:nvPr/>
        </p:nvSpPr>
        <p:spPr>
          <a:xfrm>
            <a:off x="112068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473040" y="1557360"/>
            <a:ext cx="7809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1403280" y="476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250920" y="5300640"/>
            <a:ext cx="86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7 CuadroTexto"/>
          <p:cNvSpPr/>
          <p:nvPr/>
        </p:nvSpPr>
        <p:spPr>
          <a:xfrm>
            <a:off x="127764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1 Imagen" descr=""/>
          <p:cNvPicPr/>
          <p:nvPr/>
        </p:nvPicPr>
        <p:blipFill>
          <a:blip r:embed="rId1"/>
          <a:stretch/>
        </p:blipFill>
        <p:spPr>
          <a:xfrm>
            <a:off x="1552680" y="1413000"/>
            <a:ext cx="60609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8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809640" y="52056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inactiva, 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6 CuadroTexto"/>
          <p:cNvSpPr/>
          <p:nvPr/>
        </p:nvSpPr>
        <p:spPr>
          <a:xfrm>
            <a:off x="324000" y="5438880"/>
            <a:ext cx="84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7 CuadroTexto"/>
          <p:cNvSpPr/>
          <p:nvPr/>
        </p:nvSpPr>
        <p:spPr>
          <a:xfrm>
            <a:off x="112212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1 Imagen" descr=""/>
          <p:cNvPicPr/>
          <p:nvPr/>
        </p:nvPicPr>
        <p:blipFill>
          <a:blip r:embed="rId1"/>
          <a:stretch/>
        </p:blipFill>
        <p:spPr>
          <a:xfrm>
            <a:off x="1820880" y="1484280"/>
            <a:ext cx="55022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5 CuadroTexto"/>
          <p:cNvSpPr/>
          <p:nvPr/>
        </p:nvSpPr>
        <p:spPr>
          <a:xfrm>
            <a:off x="47448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 Box 3"/>
          <p:cNvSpPr/>
          <p:nvPr/>
        </p:nvSpPr>
        <p:spPr>
          <a:xfrm>
            <a:off x="1353960" y="476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7" name="1 Imagen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05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2 Imagen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832360" cy="1942920"/>
          </a:xfrm>
          <a:prstGeom prst="rect">
            <a:avLst/>
          </a:prstGeom>
          <a:ln w="0">
            <a:noFill/>
          </a:ln>
        </p:spPr>
      </p:pic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554120" y="3789360"/>
            <a:ext cx="6140520" cy="1881360"/>
          </a:xfrm>
          <a:prstGeom prst="rect">
            <a:avLst/>
          </a:prstGeom>
          <a:ln w="0">
            <a:noFill/>
          </a:ln>
        </p:spPr>
      </p:pic>
      <p:sp>
        <p:nvSpPr>
          <p:cNvPr id="1330" name="3 CuadroTexto"/>
          <p:cNvSpPr/>
          <p:nvPr/>
        </p:nvSpPr>
        <p:spPr>
          <a:xfrm>
            <a:off x="990360" y="33336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Arial"/>
              </a:rPr>
              <a:t>Rioha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1 CuadroTexto"/>
          <p:cNvSpPr/>
          <p:nvPr/>
        </p:nvSpPr>
        <p:spPr>
          <a:xfrm>
            <a:off x="1258920" y="33336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Guajir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4 CuadroTexto"/>
          <p:cNvSpPr/>
          <p:nvPr/>
        </p:nvSpPr>
        <p:spPr>
          <a:xfrm>
            <a:off x="1408680" y="5627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3" name="1 Imagen" descr=""/>
          <p:cNvPicPr/>
          <p:nvPr/>
        </p:nvPicPr>
        <p:blipFill>
          <a:blip r:embed="rId1"/>
          <a:stretch/>
        </p:blipFill>
        <p:spPr>
          <a:xfrm>
            <a:off x="1062000" y="1557360"/>
            <a:ext cx="7039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iohacha 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Arial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73120" y="2421000"/>
            <a:ext cx="8048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6 CuadroTexto"/>
          <p:cNvSpPr/>
          <p:nvPr/>
        </p:nvSpPr>
        <p:spPr>
          <a:xfrm>
            <a:off x="2916360" y="58831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móvil 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179280" y="26668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6 Rectángulo"/>
          <p:cNvSpPr/>
          <p:nvPr/>
        </p:nvSpPr>
        <p:spPr>
          <a:xfrm>
            <a:off x="2965320" y="2662200"/>
            <a:ext cx="571032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295272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987640" y="219240"/>
            <a:ext cx="60102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5072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1460520" y="1854360"/>
            <a:ext cx="6975360" cy="4000320"/>
          </a:xfrm>
          <a:prstGeom prst="rect">
            <a:avLst/>
          </a:prstGeom>
          <a:ln w="0">
            <a:noFill/>
          </a:ln>
        </p:spPr>
      </p:pic>
      <p:sp>
        <p:nvSpPr>
          <p:cNvPr id="1275" name="5 CuadroTexto"/>
          <p:cNvSpPr/>
          <p:nvPr/>
        </p:nvSpPr>
        <p:spPr>
          <a:xfrm>
            <a:off x="635760" y="5635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Rioha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514520" y="1662120"/>
            <a:ext cx="62942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"/>
          <p:cNvSpPr/>
          <p:nvPr/>
        </p:nvSpPr>
        <p:spPr>
          <a:xfrm>
            <a:off x="880920" y="814320"/>
            <a:ext cx="7382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266760" y="2421000"/>
            <a:ext cx="8612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5-03-09T16:54:00Z</cp:lastPrinted>
  <dcterms:modified xsi:type="dcterms:W3CDTF">2015-07-29T16:21:15Z</dcterms:modified>
  <cp:revision>169</cp:revision>
  <dc:subject/>
  <dc:title>Diapositiva 1</dc:title>
</cp:coreProperties>
</file>