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D5CA-501F-4FF6-A2B8-F4F4478379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B401-7B3F-44A7-B7C9-68CB67A461F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AC83-B8B4-46CE-A6F4-7BDC40F844C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CE29-B198-4B24-B54C-488F052CBDB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F024-57E6-4AE2-B9D1-07CAA596540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77CB-B5E8-4382-887C-1853067CD40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EE66-7835-4D78-B5AA-DEB2960546F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9DA5-3289-463F-ABF2-F6CB11620DB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2432-C60F-4D28-BCC8-CA493A0F4EE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CEF0-63C2-4718-992C-1FC7F1EF5B4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30E4-ABD6-498E-9576-452091C50AD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A882-59EF-44E2-A71F-6FC449EA449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978B-5ECE-4F84-8D46-28AD805AE95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97752A-FD63-4563-A4B6-8F08D962F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0184EF-1083-4040-95F1-5957B480327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ECCC0F-C665-4039-B54E-A54A638C3D3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3E631A-A2C5-41B7-9660-A1A0CC33867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8653A3-C353-442C-BF3F-9A9308B8199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9EA048-380A-411C-AA56-D805BEC54E9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BA3017-3216-4BC5-A83B-CC1BF8772AA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9867E3-642A-4C66-BD21-DC856633CB0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1DD301-8601-41A6-9889-AD5BB7FA29C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99B1EA-0355-48BC-BCC9-8D177EA1A58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5218CF-713F-464B-A522-8692371B2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5257D2-A784-478C-82E0-7DF91725FF9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FD36BC-1830-4AF4-BEE4-4F10E8A546A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3E20C-35A1-47B2-976C-B11B8713980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C123A-4AD7-4997-84B8-D81F645152E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2D6EA-E62B-4F79-8814-0856A8D9C5C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038BB-09D4-4259-978B-3452F0996A5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42CE0-0320-4991-84A6-BCC677333EF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11212-CA77-4A11-B99F-28136D44742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39EFC-2A3C-432F-B898-F19FA65AD6F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56BAD-460E-425B-933E-600C31925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A8A4-6D78-4AFB-814A-68B3AD1D3A4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E1A86-57E9-47AB-A9A5-0AB23A368FD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34565-3661-4E95-91B7-CEE2ACC6520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6FB35-9D89-4696-9EAC-2F572DAC7F9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A3165-E6A9-4E5E-82CA-7ABB2B01C89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00DCE-56EC-4DEA-B777-58647DA38FD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50B9D-5653-4917-B9A3-8C947BE697F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937C1-974F-42E2-9156-728B7514E7E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28F83-82EA-4AFC-A4B6-9590521414B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DEC1A-D8A1-4D83-B949-546C90D74B4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F05A1-8FE2-4083-AF5A-2A45DFE432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7B7E-A332-4A84-A237-6B519FC8205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5D01C-C527-4EB3-8962-8E89373BB7E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C8E60-0D40-4256-B152-216ED91E10C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8D834-E46F-4B72-920C-18FCEE05DF9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9C6E9-FE1A-4A32-8FF8-F2D334AA6BC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0B554-BDD6-48AE-907F-BB8573C2CCA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372ED8-EC7D-4719-945C-994EF4952FC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D3CAF4-23C1-4767-A933-38E15D1AD14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B82A37-1BFD-4E93-878F-F649B191EC9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63D654-D43F-4188-B947-B5B1FD93757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9C7E5E-7663-4D34-BF2F-8B0B73557C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30F9-5B27-4D79-922A-CB73474224C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D43A5C-48D3-4A0D-AE0C-57083B681A4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EA02D6-D0B4-4D88-81AF-E4EFC1A7808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158414-048E-4ADC-8EB9-B069C7551D1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871230-3293-4638-8C5E-E1E75EA35F0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CE1168-8442-454E-BA70-DF33018B26A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C0CE98-D5A5-4391-8CA7-0DC9CB1DE1F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0B0076-6EF4-42EC-BE8C-B3EC135FB33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1E8874-22D1-4547-953D-FD738842885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80E1ED-9B65-4CD3-9F45-54B2D0963BF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F0F9E3-71A7-44A2-819C-B8CDADDA51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58B4-F2B4-43E1-BF8E-AED56EFD843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597BFF-C001-4651-B659-39A61084785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348AF4-CC45-4E2B-9139-10F60C119D6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F9A913-B771-47D6-9084-18701246BF5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65A90C-5EC4-4D66-B6E7-79FE44C1B01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1CC83B-9108-4E80-9C3B-4EC55B07DCA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73549A-7CC5-40B7-A202-72A82CB825D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DF97DF-719B-4FF1-BDB7-FD4A70EA59E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A97A85-B0B9-4D72-923A-38304C0A270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F5ACD9-F22D-4182-8D87-F395A55D04F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B3CE6-1E9B-43AF-840E-ED86EF0F87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3AE3-8E02-483B-8B96-0EEF1F1769E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A0F7E-4BAE-4746-996A-503E336F787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4B8B7-BCE5-4084-8514-0E5F6378747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7D2AC-2532-45C4-BEAB-85927CA4D99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04ADA-7056-4555-8CB7-FC445B021FE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6432C-242F-4228-A71C-0DCF9B3B79E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94242-93B2-43B5-B347-A0C945B4CA9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4B12D-3CE1-4D34-B41E-3B485F3EF06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65464-49DA-4DF4-89E4-1BAE963DF76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8A3DE-2ACC-44F6-A430-0DBF8DC7EF1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30510-C7FD-4DFD-A0C2-470FEF6F00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6DC1-961B-4460-AB95-121E1FB9A32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66D74-205B-4014-8925-FDB64F56E03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C81EC7-4A7D-49DE-8F20-667A8BD1928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25C936-63BE-4372-B97A-3ACB08B06D6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663BFB-A9CF-4002-9033-72CA5E20136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E1F3F1-E0C6-4B18-AD9C-E3E641A1505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6D0DE0-DCEA-45AF-92B1-32E3BAE672B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2AB94D-E579-4697-9CF4-63F38815A74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44DC5D-1A20-4CD9-9F34-3FB2FE2CE38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EB6B8A-7846-41EC-BACB-69EB78A4126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69DEBE-A3B1-4D16-8F19-4E72889A85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2FF6-DE3A-4542-9CCB-DD78D7198DA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F7A623-BDFE-4F99-B494-5B06C1012C3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F82E5E-670D-4BC6-87C2-F6FB99D3513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7AA667-990F-4467-B70B-6C5C2987745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25CB6B-F65D-4208-BC32-ACED5214BDA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36CB2E-3B3E-404A-AD49-457439E1832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7C439-FB0B-4C9B-B294-C7633AC4315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079A03-0BF4-44B4-BDCD-641130AA005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E82E94-E1D2-4052-AFEF-5A48893B2CE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E708D2-E90E-4FF1-91FD-608F5AEE815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7A8E6E-B6CB-49C5-A277-ABF1F073ED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5E1C-9C4C-4931-BD0C-FF1E2AFCDD5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903C4-79C3-4702-A84E-2847D4E27CA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B718FA-923E-4184-8948-89EEF3E6712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26CE1-D6A3-4BA6-A2EA-D6779BFDF72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27A3E8-1CF2-45AE-83B1-7F16BEB1FE8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769007-B793-4469-B9B4-20B85AEF462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5457C-7437-449B-ADAC-4558C97C89E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78FCE-7FF7-48F4-81EC-CF2A834A3E3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2E322-6791-4BDF-A15F-6227ED13146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88C0F-BAA9-4DCE-A18D-FB8EA42F166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D7087-74E3-4567-B64C-5EF62F8FF7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1AE2-B362-4839-8C9E-759709D45AA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15F5D-2B5F-4117-AC10-C1A3F0F854E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CA9D9-37C8-45DB-81EF-07D422701BD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B3824-8973-4516-8192-6A7FB267954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A7401-4B4C-45D8-A0D4-D3378FA3A32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88FB9-435F-4832-9ABB-F2359FCE47A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0FE91-0303-4E00-BC34-FEEB3EF7DCE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932DD-2B79-4341-8707-2A66B815A3B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23A56F-33E4-4E9D-B74A-6161F8DBF84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B22BB0-4EEE-41E3-84A0-F99FD298024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F4915A-0495-4870-86FC-3B182ACCCA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DDCF-6DE6-415F-9A93-1696CD95E37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1BFB5B-8E51-4717-BFE6-F16604C01A2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AB0123-BFA9-401C-98AA-E0D513A1FA2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344311-B351-4D48-AF7B-8E2EBD6268B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9EE973-C99D-4B6A-AF3A-CE169470AF8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7A7315-8566-4D8B-97BE-87FAFF46116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06B5EB-B282-4A63-9B8B-DE9B38788C7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A9C91A-E8DF-47D5-9543-DD4A38C7672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4E5AE4-9CCF-421C-B79C-828E321E952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20B777-5341-4331-B776-9CBC263FED3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C2686C-7FF2-4756-BDEA-E7F5F6A20B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BA26-25D3-4A1E-8C3C-9767FE49EEF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573B6D-DCDD-446D-B12C-1CECBCC8CA9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06634D-C8A7-4ADD-B562-34C99A21C87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BCFEFE-EACF-4CEA-9B43-44EDAFE8EB8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0237EA-D0C5-4B72-A241-F4595416E1D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5ABD4F-CE81-4A88-92BB-0C477E103DC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F51C95-7CB8-4529-9453-78A122A4AE6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F689AB-4809-455D-9E9E-5D01629E149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5E2EF0-2339-424C-83CF-DD8CA61428C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7C6E44-417C-4B2E-A26C-A2ADF496D4F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57AE4E-1415-427B-9686-9923590040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7AE7-4E33-4755-88CC-CF89E3EB390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709883-EC80-4A5F-B141-64E61E398E6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12952-35C4-45FC-8F61-6DCA8B3D41B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78318-2812-44C0-AC47-527A88D32A3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F01ED-D43B-42A7-A964-054A6EA092A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0A2F6-ACC1-4A08-96F3-E44F74C524E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7F903-42F4-43E4-82A8-7BAD1450A47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1BA56-A674-4B2A-B4DD-4B15AE7BF28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9372B-96B9-430D-BD30-CA0E4B24B3C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7C7D3-5EDC-4589-8E1E-AFD9A4C91BC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F9AEB-7B2A-4FEF-BE17-47F358C638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C9C69-406B-4579-828F-3AE6E3CC62B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F38F3-89FC-4544-8526-A50E9F7152E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1C48F-D946-4FDB-ADDE-44EE5C40BA6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43F103-F6F4-40CF-93F0-AB37CA65B21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27F263-19AF-49AC-93EA-7D1C0D73887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3377BC-D1E8-44FC-9F2F-8E925938726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2BDC8E-83CB-4508-A1B5-CD9D8D7CDD7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693722-7F7F-4D1E-90E9-399E6CC38BB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F59597-BE74-4D76-AA15-81BC97F6ECD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AFE07C-C7C4-4DCF-82C5-D5F9FB67DD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2E722B-51BD-49F5-87F5-251758C602A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8CC4EB-8C87-4621-9E37-DB9EF026BFC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001470-9004-4BFB-8101-1964BD1EED4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810344-C960-46C8-B30B-CB85A4B3414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2975B7-2685-4AD6-9DC5-65E5E11C34E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C6AED9-1751-4604-BBF9-8B67EB218EA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EFBD17-B792-4169-8DC4-70F2AC7172D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77B476-7305-402C-93CF-14AEB0EB966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A68EC7-A27E-40C5-B73A-470C5C5A6AE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69F2B2-2463-44D8-9235-048B173AC9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9B5548-413F-44C7-A956-4A2196E4EBF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00ADD-6F6A-46E3-B90B-C980C6D9A7E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F6EBAE-AB81-4AD5-971F-1F19DA24654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0C00D9-CE88-494B-8995-B064E997681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F1FE50-0DDB-4F18-939D-60E2C83F63C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F6FB15-FAA5-42C6-8C07-156D638A154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96AF97-AF21-4BC5-9389-A6D92AFA4CF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C9925-3435-4233-9AEB-37FB0D1271A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AA405-C610-42F3-9757-D58DE1E2623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8A8F1-6A7C-4DA6-8E90-50FBE4DDD4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8733A-4C7F-4516-974B-A53F147D26B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716D4-872A-4595-A2D9-973FF760C35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C1D71-8A68-4947-9B5E-3D3CA167D66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15693-CDB0-4C77-903D-81F6C47EFF7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97881-AAEB-464C-A82F-D807BF4730F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2A08D-526E-4F7C-84B5-C5F211368E9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FC169-FD75-4B3B-891E-93C4391621A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F6655-8343-490C-8D22-91ABB0ADF90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56128-0C24-44F3-830A-758586E8E89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F8F5A8-B6FB-45E4-9E27-6C0409961A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072E95-1757-4BBB-9082-BD73F62B5F9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9BB7BF-FE90-46B6-A093-34241A71EF1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E6C1E9-5786-492D-B42F-4121F925662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ED39A1-9DFC-49E0-8AAA-B9C4D0C42E3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98AC16-1CEF-4FB6-B3C4-9ED9509EA6E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F9E372-BEBE-44BC-BF97-0012E2C4E75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659667-6AFD-470A-9BB0-475218E8826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B311D9-4178-43AD-A9E5-10EC8E3FAA8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7059AE-202B-4A20-ABEE-D31A6DF764F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CDDBF7-45A2-402F-A6CF-5997677B5A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A60991-1C3A-4022-A517-AAB5AF8ED26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FD5660-DE42-4CF4-9BCD-E02EB0DF48A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D924AF-80B7-4698-A147-7AD598A5F60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10B1F5-DFB3-4C7A-9912-721EB26D756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794E69-3B59-49FF-8059-B1738A91A57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B7710E-6451-4CCB-898F-4C3EB4BA353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649D8B-0983-4C34-87E2-F9C1105DEC0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A83852-38FB-43DB-978D-FFD18F2A84A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E1F1BB-04B7-42D4-9744-82502A3C7D3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4809F7-2AFF-4AFC-9820-45213EB63A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D99368-00E1-41B7-84D3-9C800A57021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6A70A7-FAD9-4FF5-A508-B7986740D6B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4F38B4-3598-42B8-AFB9-36640F9AA876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93335-A546-42A7-B722-5A76614E12E4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2FA91-8748-4915-995A-23A41EAF2AE4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10CBA-8F90-4D67-8931-7011FB49E965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B7D73-7B53-4E76-9BD5-03BCCF454364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513D4-B0CC-4DAC-8C19-D0E70AA68432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6CD60-B357-43ED-9C04-85B0DAD8650D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C26E0-865C-4C65-97B2-C0E4A762FA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5724E-E4DC-4F2B-9C6C-C6C7DCD557E0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14735-F2AA-4C4E-B19D-3221E13DBE89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39B15-C437-4B6D-9B26-83B58BF8C5BD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19690-13EA-403F-9B90-834F425D9519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CF66F-772E-410A-BEB0-0EA5EDD74D59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55C87-C6DF-42D0-8457-A0C94035CA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1F077-FE03-47BA-A797-6C62BA8AC73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32F12-19DD-4B76-9A42-A8A5D0FBC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0010E-E471-4A58-A16F-FC72FB6A762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C0D83-444E-4ACC-9138-C8CCB8CAAD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0035-4200-4439-8E7F-D5787CF5FFB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2A13-3EBD-4169-919B-A04EF08C158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525B3-D312-4E2D-A435-EC13C35B12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E10A1-A1AD-4428-9E0F-704BBFB3804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854C1-619A-46F5-B090-FCAF7A1C25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9BDC0-8D6C-4949-A28C-AC1AAE764F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E198A-2F37-4227-AD88-38537E364AA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DEA-ADCF-4AD6-809B-7EFFB39375A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626-D946-4AC2-8338-A1EB2E760E6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0355-3711-45E0-BB61-B6B7C952464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AAC-D7C1-440A-80F3-6F2519B0C21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682-BCA9-4FDC-9690-93E08DAEAEF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76C9-7ABF-45D4-91A1-DED85CE1B9A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358-A8EB-47A5-9EC1-C9A001148DE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799-EEC5-4E6D-919F-024DFFA0088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A7D8-7720-4AB7-9E16-3A6B9635E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15D-A967-4F19-881C-645958D8EFA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144-1962-4627-9DCE-A592E160485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76E6-DD36-42B8-8944-94CD0E8764F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1262D-2D4A-419E-8E46-7AD80B10F26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6F0A9-973D-4B68-ABE4-93A72281DDE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3BADB-E95A-4CD8-A5FD-E7F6E84928B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18AED-7F5C-4ED0-A0FC-C78A5A067A8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25C34-E8A1-42E8-9683-28B63AB5793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E1225-FA65-4B09-B9CA-AE192F77BE1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9A63A-E1C8-48A7-BE5B-F861AA094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FA3EF-E8A2-49D8-994F-441746BDA18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225FF-3433-4212-A6B2-F32CFF05090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DA2FB-26FF-422E-B315-FEA1E90A62A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2DD28-B423-45C7-BD9C-F146FABA575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08079-8C72-41FF-A495-159AAD637A9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ECD6C-5E8C-4E30-ACE6-447B50566E7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30255-4962-4FC0-818E-4E84C1F582E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DD5C0-DA13-4442-924B-64DA1D44388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EAEB3-7DC1-4E65-8ACC-50141216CC5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2DAE3-52EC-4590-AFC4-F2D2B02D5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F2977-A04C-4ED5-9624-EFF34D79C48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69F9F-105C-4CCC-BA2F-AC94C4415F1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CE8AB-7DDA-440C-9071-E84024A0202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AA08B-98C2-4312-8F86-A93F550662A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4811D-69B4-4265-A8AD-C4E3512C823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0556A-CAB9-45CB-8BFC-780995BA264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2664C-FEA8-4B24-B6A8-CCC226FA68B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1CCD-42FA-4B85-9036-92FB7ABEED0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6234-902E-4919-8B1F-AA0B609DFBA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70DE-33E9-43EB-B4CE-8100532DC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7E42-7C74-4A5A-82E9-2494778BA21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FBC0-9388-4A58-998F-8DD5C6628BB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8A0C-4750-463E-A188-0D51A3D3DFB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F64B-17E4-4448-A172-BE50BF86B0C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C0E1-62B5-4E9F-AE1E-16C9671A6A8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2C20-6FF2-4160-BAAC-AB4ACC48A87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D90A-AF94-47A0-9BAC-938BB4B959D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3584-B815-4011-A04C-B4A577D1EA7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D4C1-B47A-48D7-8D21-1E2B5C161A8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5D67-E009-43B0-9B19-DBED5B03B3B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95CA-878A-4F96-8835-800C5CA3FFB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A67D-88A4-4759-ACA8-2D09D5230A9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DCC0-A559-49A9-8CAD-4BA39C260E3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850E-A09F-495B-8F65-84C1B2F41D0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2E92-8108-4636-98E3-71D2CE5A738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29FD-B17E-4F50-8199-378CBCD83FB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CE82-6570-4E67-970D-DB93293E803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0E03-7F69-48B6-93FA-E1D663E2165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001B-BB17-417B-A2FE-3178CB8B398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3619-6A81-4133-A59E-978799D4609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4D2D-7FAC-4B43-979B-EAB4F279439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B5C6-C139-456E-B2C5-BBB900213DC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BECF-9FE8-48DF-89C1-A5AD0C1A6CA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DE83-DFA1-48EF-9B19-062A4141EE6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87640"/>
            <a:ext cx="408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Valledup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Agosto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Text Box 3"/>
          <p:cNvSpPr/>
          <p:nvPr/>
        </p:nvSpPr>
        <p:spPr>
          <a:xfrm>
            <a:off x="1225440" y="54936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5 CuadroTexto"/>
          <p:cNvSpPr/>
          <p:nvPr/>
        </p:nvSpPr>
        <p:spPr>
          <a:xfrm>
            <a:off x="101268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0" y="5303880"/>
            <a:ext cx="925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;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9" name="1 Imagen" descr=""/>
          <p:cNvPicPr/>
          <p:nvPr/>
        </p:nvPicPr>
        <p:blipFill>
          <a:blip r:embed="rId1"/>
          <a:stretch/>
        </p:blipFill>
        <p:spPr>
          <a:xfrm>
            <a:off x="671400" y="1541520"/>
            <a:ext cx="799956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2"/>
          <p:cNvSpPr/>
          <p:nvPr/>
        </p:nvSpPr>
        <p:spPr>
          <a:xfrm>
            <a:off x="685800" y="8175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3"/>
          <p:cNvSpPr/>
          <p:nvPr/>
        </p:nvSpPr>
        <p:spPr>
          <a:xfrm>
            <a:off x="1728720" y="6922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4"/>
          <p:cNvSpPr/>
          <p:nvPr/>
        </p:nvSpPr>
        <p:spPr>
          <a:xfrm>
            <a:off x="825480" y="556416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;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5 CuadroTexto"/>
          <p:cNvSpPr/>
          <p:nvPr/>
        </p:nvSpPr>
        <p:spPr>
          <a:xfrm>
            <a:off x="891360" y="532764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4" name="1 Imagen" descr=""/>
          <p:cNvPicPr/>
          <p:nvPr/>
        </p:nvPicPr>
        <p:blipFill>
          <a:blip r:embed="rId1"/>
          <a:stretch/>
        </p:blipFill>
        <p:spPr>
          <a:xfrm>
            <a:off x="890640" y="1870200"/>
            <a:ext cx="770724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7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Text Box 3"/>
          <p:cNvSpPr/>
          <p:nvPr/>
        </p:nvSpPr>
        <p:spPr>
          <a:xfrm>
            <a:off x="1295280" y="5493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5 CuadroTexto"/>
          <p:cNvSpPr/>
          <p:nvPr/>
        </p:nvSpPr>
        <p:spPr>
          <a:xfrm>
            <a:off x="1338120" y="51022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1" name="1 Imagen" descr=""/>
          <p:cNvPicPr/>
          <p:nvPr/>
        </p:nvPicPr>
        <p:blipFill>
          <a:blip r:embed="rId1"/>
          <a:stretch/>
        </p:blipFill>
        <p:spPr>
          <a:xfrm>
            <a:off x="701640" y="1539720"/>
            <a:ext cx="7537320" cy="3627720"/>
          </a:xfrm>
          <a:prstGeom prst="rect">
            <a:avLst/>
          </a:prstGeom>
          <a:ln w="0">
            <a:noFill/>
          </a:ln>
        </p:spPr>
      </p:pic>
      <p:sp>
        <p:nvSpPr>
          <p:cNvPr id="1302" name="Text Box 6"/>
          <p:cNvSpPr/>
          <p:nvPr/>
        </p:nvSpPr>
        <p:spPr>
          <a:xfrm>
            <a:off x="1187280" y="5364000"/>
            <a:ext cx="770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Otras posicionesº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2"/>
          <p:cNvSpPr/>
          <p:nvPr/>
        </p:nvSpPr>
        <p:spPr>
          <a:xfrm>
            <a:off x="68580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3"/>
          <p:cNvSpPr/>
          <p:nvPr/>
        </p:nvSpPr>
        <p:spPr>
          <a:xfrm>
            <a:off x="1763640" y="7682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 Box 4"/>
          <p:cNvSpPr/>
          <p:nvPr/>
        </p:nvSpPr>
        <p:spPr>
          <a:xfrm>
            <a:off x="1022400" y="586116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8 CuadroTexto"/>
          <p:cNvSpPr/>
          <p:nvPr/>
        </p:nvSpPr>
        <p:spPr>
          <a:xfrm>
            <a:off x="1053360" y="499896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7" name="1 Imagen" descr=""/>
          <p:cNvPicPr/>
          <p:nvPr/>
        </p:nvPicPr>
        <p:blipFill>
          <a:blip r:embed="rId1"/>
          <a:stretch/>
        </p:blipFill>
        <p:spPr>
          <a:xfrm>
            <a:off x="905040" y="1542960"/>
            <a:ext cx="7546680" cy="3380040"/>
          </a:xfrm>
          <a:prstGeom prst="rect">
            <a:avLst/>
          </a:prstGeom>
          <a:ln w="0">
            <a:noFill/>
          </a:ln>
        </p:spPr>
      </p:pic>
      <p:sp>
        <p:nvSpPr>
          <p:cNvPr id="1308" name="Text Box 6"/>
          <p:cNvSpPr/>
          <p:nvPr/>
        </p:nvSpPr>
        <p:spPr>
          <a:xfrm>
            <a:off x="757080" y="5297400"/>
            <a:ext cx="813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Otras posicionesº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1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angle 2"/>
          <p:cNvSpPr/>
          <p:nvPr/>
        </p:nvSpPr>
        <p:spPr>
          <a:xfrm>
            <a:off x="68580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3"/>
          <p:cNvSpPr/>
          <p:nvPr/>
        </p:nvSpPr>
        <p:spPr>
          <a:xfrm>
            <a:off x="1133640" y="62064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4"/>
          <p:cNvSpPr/>
          <p:nvPr/>
        </p:nvSpPr>
        <p:spPr>
          <a:xfrm>
            <a:off x="1039680" y="5354640"/>
            <a:ext cx="763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5 CuadroTexto"/>
          <p:cNvSpPr/>
          <p:nvPr/>
        </p:nvSpPr>
        <p:spPr>
          <a:xfrm>
            <a:off x="1049040" y="5138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7" name="1 Imagen" descr=""/>
          <p:cNvPicPr/>
          <p:nvPr/>
        </p:nvPicPr>
        <p:blipFill>
          <a:blip r:embed="rId1"/>
          <a:stretch/>
        </p:blipFill>
        <p:spPr>
          <a:xfrm>
            <a:off x="1139760" y="1698480"/>
            <a:ext cx="6664320" cy="34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5 CuadroTexto"/>
          <p:cNvSpPr/>
          <p:nvPr/>
        </p:nvSpPr>
        <p:spPr>
          <a:xfrm>
            <a:off x="2381040" y="54100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9" name="1 Imagen" descr=""/>
          <p:cNvPicPr/>
          <p:nvPr/>
        </p:nvPicPr>
        <p:blipFill>
          <a:blip r:embed="rId1"/>
          <a:stretch/>
        </p:blipFill>
        <p:spPr>
          <a:xfrm>
            <a:off x="1998720" y="1925640"/>
            <a:ext cx="5524560" cy="3541680"/>
          </a:xfrm>
          <a:prstGeom prst="rect">
            <a:avLst/>
          </a:prstGeom>
          <a:ln w="0">
            <a:noFill/>
          </a:ln>
        </p:spPr>
      </p:pic>
      <p:sp>
        <p:nvSpPr>
          <p:cNvPr id="1320" name="1 Rectángulo"/>
          <p:cNvSpPr/>
          <p:nvPr/>
        </p:nvSpPr>
        <p:spPr>
          <a:xfrm>
            <a:off x="1187280" y="76500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Valledup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abril - junio (2014 – 20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Calibri"/>
              </a:rPr>
              <a:t>Valledup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2 Imagen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5976720" cy="1871640"/>
          </a:xfrm>
          <a:prstGeom prst="rect">
            <a:avLst/>
          </a:prstGeom>
          <a:ln w="0">
            <a:noFill/>
          </a:ln>
        </p:spPr>
      </p:pic>
      <p:pic>
        <p:nvPicPr>
          <p:cNvPr id="1324" name="1 Imagen" descr=""/>
          <p:cNvPicPr/>
          <p:nvPr/>
        </p:nvPicPr>
        <p:blipFill>
          <a:blip r:embed="rId2"/>
          <a:stretch/>
        </p:blipFill>
        <p:spPr>
          <a:xfrm>
            <a:off x="1514520" y="3862440"/>
            <a:ext cx="56293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Ces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7" name="1 Imagen" descr=""/>
          <p:cNvPicPr/>
          <p:nvPr/>
        </p:nvPicPr>
        <p:blipFill>
          <a:blip r:embed="rId1"/>
          <a:stretch/>
        </p:blipFill>
        <p:spPr>
          <a:xfrm>
            <a:off x="557280" y="1782720"/>
            <a:ext cx="78310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Valledupar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73280" y="1989000"/>
            <a:ext cx="7759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79280" y="240840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3 Rectángulo"/>
          <p:cNvSpPr/>
          <p:nvPr/>
        </p:nvSpPr>
        <p:spPr>
          <a:xfrm>
            <a:off x="3060720" y="4373640"/>
            <a:ext cx="5904000" cy="207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1 CuadroTexto"/>
          <p:cNvSpPr/>
          <p:nvPr/>
        </p:nvSpPr>
        <p:spPr>
          <a:xfrm>
            <a:off x="3708360" y="6124680"/>
            <a:ext cx="540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(+) (-): Aumento o disminución de la TD de cada ciudad frente al mismo trimestre del año anterio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*El total de las 23 ciudades no incluye San Andrés por tener una distribución de la muestra diferen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Los resultados presentados para San Andrés corresponden al período enero - junio 2015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9" name="1 Imagen" descr=""/>
          <p:cNvPicPr/>
          <p:nvPr/>
        </p:nvPicPr>
        <p:blipFill>
          <a:blip r:embed="rId1"/>
          <a:stretch/>
        </p:blipFill>
        <p:spPr>
          <a:xfrm>
            <a:off x="3059280" y="372960"/>
            <a:ext cx="6010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 Box 3"/>
          <p:cNvSpPr/>
          <p:nvPr/>
        </p:nvSpPr>
        <p:spPr>
          <a:xfrm>
            <a:off x="1441440" y="257652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476360" y="620640"/>
            <a:ext cx="640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Valledup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(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2009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5 CuadroTexto"/>
          <p:cNvSpPr/>
          <p:nvPr/>
        </p:nvSpPr>
        <p:spPr>
          <a:xfrm>
            <a:off x="2236680" y="5524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1 Imagen" descr=""/>
          <p:cNvPicPr/>
          <p:nvPr/>
        </p:nvPicPr>
        <p:blipFill>
          <a:blip r:embed="rId1"/>
          <a:stretch/>
        </p:blipFill>
        <p:spPr>
          <a:xfrm>
            <a:off x="1547640" y="1797120"/>
            <a:ext cx="63612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Valledup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180468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403280" y="1560600"/>
            <a:ext cx="679788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Valledup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bril - junio 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490680" y="2421000"/>
            <a:ext cx="83041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Jeanette Consuelo  Olarte Bustos</cp:lastModifiedBy>
  <cp:lastPrinted>2015-07-27T15:27:21Z</cp:lastPrinted>
  <dcterms:modified xsi:type="dcterms:W3CDTF">2015-08-14T19:41:34Z</dcterms:modified>
  <cp:revision>903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