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5EAB-4EEC-41CF-BB97-26C71B2CCD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8E0-C7CA-41DC-8BD3-5958388DAFC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0F0A-2626-4537-B42A-4CB218B4F8D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F9A-294B-4B33-989C-72F7B43320B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53A-72BE-492B-8B7F-AC59D0FA846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E86-29E8-49C5-A134-903241A16D6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EF77-8187-4374-A51E-4026EE39A6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FD42-7F10-483F-85B2-50AE10F044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60E3-F889-48FF-AC17-0ACF320710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FBA-37E0-46A3-B71C-81FD7CB815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BCF3-0A4E-492E-A537-E0D2213C14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99DB-03AF-41A4-BEDC-9EA102AAF3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6EF6-8C28-48F9-AF11-A420C41738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44F-B294-4FB9-A5C6-02E8E7074D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5E3-3353-4066-A9A2-83F629A88D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73F57-061E-4FF1-9581-B1D49EBDA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5EB8D-043C-42E9-8E6A-F664817F7F4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F3CFE-5F9B-4849-8003-50D527704E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61C69-2E83-4396-B73B-0DBCF160F9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02797-B83B-4E89-BC29-AF5BB83A34B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6D43EF-C78E-438B-BC19-92542192A5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043E3-F13E-4674-9836-923DBC94076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C359A-840B-434A-8661-4AF8CCBAF4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643CA-0F80-4C85-BCBF-E3A0D159215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D3839-BF2D-41ED-912F-31C67433058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EE929-7046-4626-A1FA-8A28F2811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A44E7-4678-4FD7-8087-A6D2AD73BC6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364C9-86A9-470B-9EE5-F32495F7E4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19565-BB9B-4C09-8DD7-12B9A7AA7D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4B283-EEA7-4D75-A1BF-B885966161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81BB1-7771-4376-8EEE-3931EEE916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84A6F-2EA5-467B-A6F4-4D76DE9B60C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17262-17B7-4436-8E03-63DFB3C6E1E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B7CFF-DD39-4E0C-A7AD-9020B2430E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AC3B7-8B4C-4279-BE6C-F874122C6F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3AB22-E712-4FC5-A9D4-0F3A92C82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D985-5467-47D1-B78F-654C4E3C75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4C838-5C5E-4FE2-A50F-B5A5C218EB2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32F0B-CEB6-443C-ABC4-16E3B6AE80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27833-B775-4CCC-9866-726AB7B854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5CCF-4BE8-4D26-86D7-F81CC94F164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A5CC-084E-48FD-8937-C0738606C9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F1DD-A954-4CA9-9F59-C950F5A320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B324-235B-4879-A812-FF852EA55AD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46AE-30BC-43BC-8E78-948EE2224C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97D6-C9A9-46F0-9EC9-E66F969A22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FF1D-B588-4D91-A0E2-E32586B7F8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C3F5-F028-48D8-934B-77861C3DB5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CB95-1AB3-4D93-A6DA-5FA9ED1D51A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9DBC-444A-40C2-8E67-545B9B13F2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8F0D-BA50-4F01-B53F-641596AB9D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DA49-3C0D-4220-8A52-B3CA1E801A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6ED5-2C35-4C67-A5FE-89FECC4EFF6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8B101-CC49-4F49-A18C-E6582A144B2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62CC2-590C-43BF-8264-6A8E093A67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B64BD-0CD1-4CA0-8642-5B14E0C731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05FF3-CC5B-4715-8871-EAC10B239E2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124A8-BFC0-4DF0-B58D-BEAAC94F9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AC62-0154-4A45-9255-60EB3BFB340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A6F51-CD48-4DC9-A7BD-464EEF6E59C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80432-7586-46AA-B406-BD320C328A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5DDCA-92EF-4968-9CDA-8B4AD7A427C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D8DF8-5E02-41EE-A5AA-8976A9A927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1ABB6-85BA-4282-9E14-77AF3C120AF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EA121-0778-4320-B3DC-AA8F8062400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D36E2-9ED4-439A-B37D-D73E2F1A3E2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57049-6C35-463C-922A-0DABA7100BF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3D1BF-9FA6-4536-8DC8-6777AEBCCB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FF673-CF80-408E-A527-5967CB28A6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26A8-36C7-4EF8-8EA1-248B51DFAFE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44049-FEFB-4A70-B1A4-F3021F48D02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680F8-0B43-46BC-9B1F-3032AAE3DC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3B79F-DB95-48B6-81DD-E4CB60AB0C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B7873-5622-48C0-A3B3-CF391798341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FC8EF-5534-4C6A-925C-9D362E9181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EDD13-76B9-464A-87F5-0E2F330A74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04B04-ECE1-4EEF-9729-0D606930923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EF92E-C830-4F20-8185-C1E1E9940E6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8D9CD-CB6C-412F-99E0-1590BAA770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5A83-7DB4-4C27-985B-C65F2ED16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2C42-6BC3-4A34-9150-568AE39B3AF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95DB-A0CB-45AA-9C2A-8AC34E1A15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DEA7-8BD6-460F-AB6F-D633D939FA3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0DF9-4983-499D-937C-244AE4D75BF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EE38-2B60-4324-8153-6658B98E80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D308-4B4F-4232-8447-1AB7A4D036A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264A-120B-463B-B8D7-24CDFAE8C44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4F4D-58D8-44D1-A35C-C36EE2142B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9F14-E7D8-4C6D-9A28-A5E3C378401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11DF-17C6-4EF5-B2E0-EBDC6B1ED6F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F598-3592-4FCC-92B5-0831B3B67F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4733-47E5-4ABF-AD6A-5BEAFD7E9F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AEC9-54D4-4224-9CB9-2CBAAC15DDC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B665B-E7E4-401D-9515-029D802CC21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5B1646-0C30-4171-8BC6-48B64EB9BEF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56E71-FC65-4094-BB8C-37FFDF71C1C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30F0A-85D9-4466-B7E7-9723173EA90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163FEC-6546-4D85-BE56-36356E3C232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56579B-7D8F-4755-A84E-6264FF8F00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FCAA9-A406-46D4-AC84-9F24C6DFED9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657F2F-BFF3-4A1D-A395-562BE9A49F3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4CD4F-B740-4A24-8850-7B18B17D12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9ABF-66C0-429A-BA0F-5DFF86DAD7E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6F22D-7630-4584-ABAA-4906805D3C9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26CA39-07C8-4BEB-BDAA-8828CEC00EB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92572-CBCF-426C-8D82-645C42AF27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E6E39-72D6-45D4-80CE-C708360642C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6478E-2BB5-439C-99EC-51ADA39E38F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2A3AA-65B4-428E-9C5B-F5B40761717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1E9F8-DAB6-41CD-8943-B4539ECB0B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2F83D-C960-42CC-BAF1-C1EE8010366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5BB1F-42E0-4905-BB62-615A97218E0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3C824-ACFA-4D98-B57E-F56A255A3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4933-C236-42EF-8DF5-0491AD3AADE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F1165-7422-4D28-B20D-7B2171A37CA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4437F-37B9-4DF7-85D8-1F0E9FB060D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FF7B5-7E6B-428C-A883-6C8BAEE6B96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2BBE3-5F5B-46F1-AEBD-AB0DB6E7C75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8684D-3D47-4A5C-94F7-09779DBABDD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0506A-F123-4CA7-9E8E-7E6567703CE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870E-B069-4213-BD5B-F8AA0103863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56CF-DEC1-42B2-B247-8DB45AF849F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7DC8-8EEB-48C9-BDAA-25BBF7CEF89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FEFF9-BA95-4D02-810D-9D6349745C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5B48-069D-4838-8D10-F06B75AAE5F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2B69-DD03-46E7-935B-958CB65FB89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1D2AC-85B2-47C0-9C83-019F6489E19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D9CB-BAB6-4E87-A343-D0F06B912FB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F008-00EB-4D17-9495-2EEF697AF06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BC44-C415-4CBC-BB8F-3280F9F3928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EF8B-B29D-40CA-9DD9-3546943530F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9B161-4A55-44CD-8F0C-9A57C548E7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F58BB-053C-41C6-B0A8-17C5B27FAB0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528BA-031B-4641-B356-C07B9FCE23A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DC386-8549-438A-9FE8-1D042C6EF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5ABD-3CC1-46CF-BB1D-DB5FEF42730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7BB52-A40D-465C-AAC8-0D15C71C996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2118CE-9D23-48E8-B9C0-62A0C07D2DC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EF967F-5002-4781-A740-A76B0743CC4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DDAC22-3737-4E8E-BC5C-640D3052642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85953-D36E-46E7-B46F-EF6792C150C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75D73-F1C8-4248-A4AA-60CD8C9D8DF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93157-28C0-4E68-869A-374D993140E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4E246-D04B-49F4-8BC9-892379CCB0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837F3-C9B6-43C3-B994-14DB7A29A53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FCA1A-4040-4599-ADCD-65BCD305F7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55B8-CDE9-4D9F-BD80-A1A7C9699DF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884EA-AFDC-4F0C-B5D6-28F7B5AEEA6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61295-FF28-4342-8358-22C43261580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B1072-4A57-4396-9D8B-5EB272045A3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8FFB6-B822-49E3-A50E-D1801167C38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E4C16-0B58-4B39-9C2A-BF23490AE7E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3D29A-DDCE-45CE-AB90-524EC7F977A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A2BE3-A558-41AF-8295-26488B555DF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07D51-4A04-4291-AB3F-4B53990236B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3F43D-B400-422D-9DC2-F611C52CB8C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DD847-FB54-49C7-810B-420318BEA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9936-A656-4F4C-ABEA-73912569C94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750DF-D7C8-4858-9A53-AD8EE5AE03E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5F97F-F78A-4254-89E6-4DD758CACD8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792C-8A16-4E6F-BF1E-C4614F6D972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C5209-F244-4000-B3BB-ADAA409947C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32EF-3346-481F-AB79-1844CE5BDF7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C0BF-AE8C-478D-89A2-563A56C3505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DBBD-42E6-488E-A9F0-E8D2E7F95A5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F627-773D-4D8B-B891-41319C69140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7F7E-CDD9-49F8-BAFE-12268C77C2F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B95ED-A4C2-42A3-A7A9-4F952C2354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44CC3-2029-4F79-B559-5DE0858FE9A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3F4DD-EE87-4191-A2CC-DE453EF28D1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88D3-8C45-4236-8BCF-C1BB9AC2352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713C5-2C09-4F28-AF1C-A40C054F159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BD06D-DF0E-4D93-BFA5-C804CAF23CF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12FD94-9C0C-4907-84BA-A3B9CC9C25D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4F1F9-5F2A-4BE8-B01A-003140B6D0C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E5FE0-1C86-492A-8B9B-BB6CDCACCF6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D7346-BFAE-4A5A-B2E3-ADD008779B3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A529B-8EB9-4B91-81F8-73EA47F59F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40A0AD-1472-4E9C-8371-60019F1115A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2F34C-0D51-44C9-9C9D-CFF0CBC3D8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17E34-ACE6-4B65-BC55-795D2164783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D4A372-511D-4DB3-B434-21D843E1FA1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DA7154-8A44-45C8-A606-BED2BC05DC7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16E30-13EF-48DD-8A16-B07FAA43ACF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09F18-05FC-493C-A9ED-BB3C6DE293E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AAFE9-089D-46A7-A79D-FA725302824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E342A-3522-4825-A2A6-033F482AA42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C903B-A724-4926-A839-BCF373C605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75DA1-8DDB-4398-90D6-7188BFA1851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08301-522A-417F-A43E-772F802F92B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91CF7-3D29-4F09-BA9C-8C66FB0791C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DD6A7-C464-4DE3-8B71-ABADFD7EB63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48064-5D2A-4667-B42D-5BBC682F883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F76F7-72CA-4000-A3E4-01D68B6882F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69B76-5637-4762-AD31-21B7402C581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3201-DF50-42D4-A184-F36EBCAA4D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16E2-32A1-48FB-AF77-17D9EC2D5C7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0DCC-52EF-41DE-8D49-6B9E1AB65D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14E7-604D-4AFD-B9EA-F2E289E0DA2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3B655-A9AB-4675-A8F8-545478B9E11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7CD28-0825-4AC5-8701-0700C1253FB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DD282-D61F-4CD7-9F12-940170B4C1D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3C00-091C-4D84-8EA5-7FF4F5E5E97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9B1D-E06F-405D-9AB5-F2D5E4B7349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1E932-C250-45C3-BF80-48D12E388F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56F9-F428-4EAE-9752-12EDC90EFFB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F264-2F3E-4162-AA4D-FBCCF5BC646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7A7D2B-E14D-4AE1-99E1-62E7E45999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63B4B-21EF-4217-B5A9-60498083A73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EF971-ADB1-4BAD-B0D2-B956B06C8DC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9BCB7F-0C54-4433-AD85-B19FFF59476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15408-FAD3-4C14-BC95-371A0F17834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AE509-8FF6-4F2E-8320-B1A4B3CDC5B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2304B-AE11-4304-988C-3E0C20DA800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B58C3-EC15-4CFC-9B10-0B8EE9989D3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709C9E-0CC2-4375-A599-7C2A3963D19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70A4B3-1087-4E5A-855E-ECE8C06CC43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2C6A15-500C-4CA5-A3DA-3EA508FE6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DA87B-EE29-4F69-9537-C98632DC336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E59170-8098-48DD-9148-F16C72846BA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B8B3B1-1AC3-42F9-98BD-E5E2FB8FB8B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B7DDE-DD55-44ED-911A-216924D49C0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2C4B80-5B8F-443D-9B83-B2A13CC6EE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F86F6-3670-42F4-B02D-E0E36F6162F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C41F3E-A37E-4F6F-AAE3-0888F402759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A2D58-82EA-452C-BD79-26517322C8F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D095F-2C6C-4400-824B-1EB24DE4EDC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159A1-5626-4D65-9D1F-C147D5C81B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2120E-DF41-41AD-9B9B-6F22165E0BA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CD5F6-5CE7-450D-9733-84FACF08A1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6C46C-7349-47F5-8C6E-EFD9F880589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7A9ED-D6C3-4A9D-941C-1A227C19786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DB5D7-EB53-4E10-B41F-A6058F08247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FA8AC-00CF-4F37-95E8-8B159BD4584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882D0-83BD-4B62-9EF8-E9FD7403E05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813EB-AF62-420F-A14E-BA76E2EEB8D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017F-B39F-445C-A258-0466A8453F8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635CC-028E-4C66-8603-CD20D192AD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632C-9FCE-41AD-928B-C8DC8595FE6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0ED3-B471-4249-B15F-00EF262F2FE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3CA5A-6172-469E-A1E2-053D533B898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461E9-AF5F-4961-9B2B-839F4BF8507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9AE43-3F47-440E-AF01-CC5E2B897A1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F6FB-535D-4869-9417-C8CF1CF4A9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6948-77A1-43FC-B850-6E9A7C5EFA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010B-82E3-476C-948A-BFE15A5E9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C156-C4DF-4412-A759-C747559455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29B5-ADC1-4122-847A-CA504EEB9E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B0A3-4C73-42FC-8C95-3D32B2A086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E654-40D6-4F6D-8A98-B114850E1B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DD59-AB5B-4A20-BC24-5DEB758DAC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0D31-47E1-4B5D-A111-6C8690911E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546A-C8A9-464F-BB68-06E56A5D28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A920-271A-4717-A5BF-F6D1B24626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805F-9773-416A-A769-3F381D2C909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1E7-8FCC-4276-AF0C-72477088E7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459-7590-48F7-BB18-FEED26AE15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F20-8E7A-4147-A323-4F9877659A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AC9-D57C-4A48-82EE-967CFAE4AA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611-084F-4926-B775-E60DCAD00E9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545-3284-4CD8-8E37-29E26E4C013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E84-8636-41C5-8FA6-A42D4A9F0E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094-8E03-4268-BE03-C4B86FBD11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278-189B-4FC5-8B70-6787FCF38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9A1-8182-48B4-8AC3-63BE09C05F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642-6B8F-47EB-B684-C223A0836A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6CD-AB0D-463A-B2EE-D3C50A58D2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5F157-84A2-40D6-9999-490923FE4A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AFECF-9BF8-4E27-A5A9-FA6621AF8C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2C42A-C9EA-4D28-8C0A-15D9BCCF15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69110-2CD9-4AD3-9D76-9359F47B0C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13BE-6126-45EC-AE76-1BE6B2520C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6A387-59A0-4C9F-807E-F015C7497F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CB506-FB53-48CE-A2E5-80AAB1FEF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179B1-B006-49C1-8185-1DD90179F1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67229-35B9-42E6-B400-93EACBBF1D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3939D-C0F0-4D22-B1DE-3416DDD695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31453-1BB9-4D79-AFA4-F92BB94860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72CA9-37F3-45A3-918D-C7039FC18B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D44A5-76EA-4217-91DD-B23F8320C2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BA4C-BCD8-4B74-A857-C4555AD4C8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08590-6736-4BA1-AB14-4D058DA828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89C38-83E1-4A91-BE1D-C1C78FE18F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1DF24-2677-4BD4-B96C-09F497BA0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BE9E9-2160-4333-899F-22DE056C7A0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AFCA5-AEB7-4EAC-8070-C4C9EEA6E8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D12B-A1AF-49DA-A24B-387D3ECC1C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E47D-D942-4CD6-A7E0-3FA130AC8FD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40B26-3014-40F3-BCD9-79DE869A9B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B0F6-0876-4971-AD63-18905809EDB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B6F78-4762-4111-ADA4-C1F9C38D41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7D48-5873-4B75-BB4A-E1CD50E2C5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E79A-4B3E-4675-A6EE-1797F0D82FC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9122-485D-4173-9105-80A9B53F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1DDE-E730-488A-8754-C79A3E327C7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921A-610B-421C-8586-C32B45FB6CF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DCA8-DD35-43FC-A01F-311619429A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0067-CBA3-4DBE-8ADF-FAE46C061AB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AAE-8E01-4B41-A9EA-D957D06113C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FD2-749E-402D-8820-D2E6C83035E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8F1-9D87-4DA9-A504-FD655EF9776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CE2-936B-4CED-BB5D-741DEAD5911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2133-5FD7-49F8-949C-128DCE8EE5F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D6F-C69E-443F-B569-A281ECA0335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A814-06F4-4A6A-B90E-95822F47C7F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909-B669-4E8C-B1A8-147EF43976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4713-6119-468F-8C6A-ADCB373CA91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AFCC-5F86-4A0C-A2F3-660C245CAF6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67B-DFAD-4265-A345-850E064FF2F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A18A-4253-4762-A010-D915FDE521E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29DF-22E5-450A-9949-8840010DDE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DEB4-BCC5-4722-91EF-35D2AD52CC0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10CB-B4B3-465D-AF5C-E077EECCB23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DB83-EBAE-492C-BE9C-45EB3BB7033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A3E-8CE2-4300-B25E-2D4BEA2CE6E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3D5-6030-41A2-9A82-72C4E41CCC3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BD2-8C5A-4870-8D7E-B0C8D1BB46E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C6D0-828E-4E8E-85C3-2550F45B719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789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edellín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6825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1577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85640" y="1446120"/>
            <a:ext cx="7883640" cy="3591000"/>
          </a:xfrm>
          <a:prstGeom prst="rect">
            <a:avLst/>
          </a:prstGeom>
          <a:ln w="0">
            <a:noFill/>
          </a:ln>
        </p:spPr>
      </p:pic>
      <p:sp>
        <p:nvSpPr>
          <p:cNvPr id="1290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41880" cy="344808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371600" y="6984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952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6 CuadroTexto"/>
          <p:cNvSpPr/>
          <p:nvPr/>
        </p:nvSpPr>
        <p:spPr>
          <a:xfrm>
            <a:off x="121104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1020600" y="696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135000" y="1494000"/>
            <a:ext cx="8469360" cy="3616200"/>
          </a:xfrm>
          <a:prstGeom prst="rect">
            <a:avLst/>
          </a:prstGeom>
          <a:ln w="0">
            <a:noFill/>
          </a:ln>
        </p:spPr>
      </p:pic>
      <p:sp>
        <p:nvSpPr>
          <p:cNvPr id="1305" name="8 CuadroTexto"/>
          <p:cNvSpPr/>
          <p:nvPr/>
        </p:nvSpPr>
        <p:spPr>
          <a:xfrm>
            <a:off x="545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882720" y="1413000"/>
            <a:ext cx="7377120" cy="348120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582560" y="520560"/>
            <a:ext cx="59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*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833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6056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48248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01840" y="1413000"/>
            <a:ext cx="63403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00320" y="692280"/>
            <a:ext cx="68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-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217600" y="1928880"/>
            <a:ext cx="5667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681880" cy="165600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514520" y="3716280"/>
            <a:ext cx="5629320" cy="1724040"/>
          </a:xfrm>
          <a:prstGeom prst="rect">
            <a:avLst/>
          </a:prstGeom>
          <a:ln w="0">
            <a:noFill/>
          </a:ln>
        </p:spPr>
      </p:pic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tioqu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0" name="1 Objeto"/>
          <p:cNvGraphicFramePr/>
          <p:nvPr/>
        </p:nvGraphicFramePr>
        <p:xfrm>
          <a:off x="1143000" y="2060640"/>
          <a:ext cx="71708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1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0640"/>
                    <a:ext cx="7170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AM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3310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250920" y="256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051000" y="2736720"/>
            <a:ext cx="5754960" cy="173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151080" y="227160"/>
            <a:ext cx="56008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1168560" y="1854360"/>
            <a:ext cx="6651360" cy="381924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87280" y="711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1 Rectángulo"/>
          <p:cNvSpPr/>
          <p:nvPr/>
        </p:nvSpPr>
        <p:spPr>
          <a:xfrm>
            <a:off x="1187280" y="56498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52600" y="1557360"/>
            <a:ext cx="6753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324000" y="2178000"/>
            <a:ext cx="8640720" cy="21146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Oscar Eduardo Reyes Nieto</cp:lastModifiedBy>
  <cp:lastPrinted>2014-10-03T19:22:21Z</cp:lastPrinted>
  <dcterms:modified xsi:type="dcterms:W3CDTF">2015-08-18T21:59:40Z</dcterms:modified>
  <cp:revision>93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