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7C8C-2A16-4282-AD49-4EB09CD587E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CC81-42FF-4939-B00E-793FC8AF273A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B837-DE18-4A43-BEA4-A47714FCB95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7EE3-875A-4B3E-92BA-A9A66419F01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4CD2-C5F1-4AEC-8F1F-133E9CFB671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8A80-EBFB-4B77-B16D-321FB65D425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907A-3F5B-4D36-B49F-1AE539E94CB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4A14-8164-4055-A5EF-F32177C043C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06A0-B8D0-49BF-AA34-34CDCD3BCB0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3946-747D-4C1B-904C-A1D81926188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4F1E-4FCF-4E00-8AF1-682EADD2C27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BD9A-8A34-42AA-9B87-75C1D4BA166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E209-9DB7-4CA5-910E-FB4F7E08AF1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3DFAF5-1AAB-4F38-9735-C06519701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905E0E-147A-4020-8BB3-F873F76DF3E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10A066-8770-4E61-844B-BE935A71B6C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7FB9A7-1DE4-4316-ADFC-6DEC05D9362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499EC1-25A8-4095-8506-17A123D1AC4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A58D63-0FD7-44FB-B61F-888E2DCCAD3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36D0D3-FA20-4DC2-A9BD-02C1E0B6AB6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92E8CF-CF51-4DDA-A770-129C76D8C2B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680433-0C45-4DE1-A2E3-AAB5A5C2F13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799EFE-532D-4A51-98B4-6A7396C440B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F43FC3-5942-416D-AFCC-64A0B3FB8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8F1CE7-26B2-425A-8A64-6C023BDDD11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313F46-808E-42C9-8C83-A280FD0DD9B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AA1984-E443-43AD-8B24-C3B9F46FBB9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F30A3-209D-45C7-80D7-37D13DEE80A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CAD356-1297-437A-98B6-FD78B263D3F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0DE485-E0DD-4A13-BA9C-23FDF8D037B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8FF07-C2B0-42F4-B74D-59EAEC37CBB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D96B9-BD72-4C15-88B2-842B9434788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488B9-3B8D-454A-A145-99274A8CF7E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CC893B-1105-4CC9-9105-04827265B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E9AA-6CF2-408D-813E-0E72E3EAE6F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D1E586-DC60-45D3-BFCD-AB0A8502042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46F742-25DC-462D-8BCA-B2345273444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C2A2AE-02FD-440F-8FEE-ABF92230A9B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902F7-C2FA-4918-AA57-29F29C8C762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063F9-E5AE-4464-AA81-E601F9D22D1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178D0-425E-4C6E-8167-01EE190AAA4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F3FF8-8C6B-44E3-8F67-52B31DB010B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F03D1-0305-47DB-A008-5D71BEF358D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10A8C-6EDC-41EB-BA55-BEC23A99DA1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8BC3C-3F64-4252-8E96-A984ACED4D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0F718-40CC-45C3-AFCB-B67882CC0CE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FE5F3-57C0-4E8D-9FB3-B346DAF1808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DCCC8-4DD1-4113-AE10-F9E8676BE14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24476-9A29-4BE5-A227-55FAD90F21E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4C994-F445-4170-9BA3-A22CCD3C309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DDD10-4040-45D3-BD6F-DCE94B7F870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20B1D4-FB2D-4C52-8B11-985FFEDD258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09B7BA-0BF4-45A6-B480-0E2188878C2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AFDBA5-4576-4EC5-BABC-1AF4E2651BF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DCB8D9-92BE-4840-BFA2-31AFB7DCCD9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FDFBC2-C3E6-405F-841A-B3E2D14570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98C7C-5C5E-469D-BC46-05FF08C78E8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0BF46F-21E4-4697-A981-9A52F40BF96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6C822B-FF64-455C-A9DB-1C3E6A33394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06BDEC-48BD-4CC9-970D-B14E1369192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A75F1F-2483-4DD0-9F2A-FE73AD5E876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EAA93D-5678-471B-90B9-D57A73EC539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87E5A9-7006-4EE9-835C-8272D002868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992935-1EBA-40BF-B754-5BFDCB73D8C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3C17B3-E151-4DF3-96F6-8BCFE43146C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2DEC38-D1AE-49F3-B5B5-2F251773136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F4535B-8788-44F2-9177-6AF600BE8A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D95C3-10B8-4E66-8665-17CA4DCE69F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04BA89-6BF5-4905-BDB0-9E869C84349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601086-4D04-45D5-A1BD-57BEEEF5D0E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B0C679-BB0F-424D-9FEC-00729D8ED1C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7C8997-894C-4DD0-9276-2399614FE36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735126-14CB-4171-A57A-1F6D804BEF4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3E3DE5-FF69-47A9-A7CF-B0D86109751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9E9E12-823A-4EB9-987F-01F4CF44C6F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15E14C-5673-4AB2-A635-E72211B7F97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0C32E6-2EBC-41B4-B9F0-68164C3BFAE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6AB95-B170-4085-B48D-13DEF8FA6E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0D06-7683-476D-B253-8EE1B34CE66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C286D-08FC-4CA2-9567-429B6C3CCED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36F3C-98B1-47B7-A560-988399AD5FD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9A00B-6FC0-4A73-88BE-9638A3D2CF3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CC18C-FB31-4829-A689-A1C95314F55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71395-9A05-4ED7-9EFA-F60B4C25912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F31B8-2D02-4FBC-A935-2D56D62AC17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5E049-ED00-4379-93DB-3ADB7A4F5C2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BAB44-3521-4C79-B362-214A3BD8A6F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0AFC0-80BC-4CE7-89F7-E9432F15C9C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20F4E-C0D3-43A8-BDAB-6AA629C9BF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708A2-3157-4C62-B6D5-BA8183ECDDF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6D220-585A-415F-86EC-E4D26C68C60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19E987-63D6-4951-B844-C345C1E1318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25B2E7-A641-46F0-823E-9BB8DB6DFA7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C7E769-50C2-4AE3-AECC-3ACF4C966F3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AFA2CD-3D9C-47B4-B004-5A0736E5BA9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316D91-8EE4-49EC-AFAC-6AD34380563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1F7394-4A5D-4EEE-9E8E-0C1A77E4FE3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6D322A-72DE-4834-973D-774E0F3053A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8D0B04-E39F-4EFB-A8AC-7B6C83B5674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31681B-A5F4-4149-AC91-FB58596DE8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983EC-0B47-4269-B769-BC28293460D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EC5B2C-B75D-4D27-B368-994735108C9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AB26DC-466E-4483-B2B1-725B06D4446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7444C6-DC37-4659-B7DA-B10FA5915DD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97EB12-009F-4B07-B740-811382B94A8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6AA0F6-9F7A-4176-9297-106F8DBB35D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08DA86-9EB4-4F06-AA51-5873549B238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23E5E2-DCDB-4191-8759-A287A071638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E96FB3-8FBF-43CC-B7B4-E3DF7195FEF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E54221-7511-425A-A941-71687687CB3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1BEF70-1F94-450B-BC58-E9D828BB72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EB0D6-D012-4E4E-AB04-3672DE2FFB1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C2F8A2-C953-4D88-9C65-4D0BDDC03D1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E5D203-ABDB-4126-A650-CD66E4E4966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8FCF05-1277-43ED-BA59-0185947F148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1B37FF-D8A8-4CE1-95E7-EF6DBCBFB07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E13785-4188-4C88-9FCC-6CA6BDE3DF1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983DE-567C-4A61-8DC6-661C20007D8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8C9D7-11A2-441D-9D30-1F51C90C9BC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F91C8-998D-42C2-9661-29C85A9EA65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1431A-81F8-4A9A-A3DF-3549B3265EC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42DFE-1658-4EBE-90F0-EA6DC37A46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9507-AC49-4CCD-8C03-61E7F8ABBCA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D4BF0-1BF4-4CFF-9B81-8A57309F050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6083C-1A96-4F81-A697-6F945DF5A15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92D16-9D6A-4119-ADB3-00F0FB38F0D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43237-F712-4AD5-A7F4-EE7DA89EAD5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0FD4F-21F3-42D4-A8FB-BD38130E337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B4B24-9C8E-4A53-94E3-749FE797ACF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198BE-8F36-429C-8431-B233F9D8CAC8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25C9B3-7A9F-4C36-94B5-CD79E97CFBF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DEB5A2-B6BC-4E35-B53D-0DB74E28B35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252C25-AD71-445C-B989-869E23676F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C7CC5-1997-4C12-8DF0-A887E17A87F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1A8AA3-1554-49B6-882F-8FD300944CE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FB4B2D-226D-4238-8AF7-64AE5550999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E2BB51-F891-42BB-850A-50D6332AB55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62D5A0-BFA4-4128-9CE9-AE6A557B271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B859C2-E4F7-44E4-966F-C1DC05F837C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7B6DFE-BB19-4B03-935D-294BCDFFD46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F872CF-F2AC-499C-83E2-5568080735D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E6CF79-1A58-4845-943B-BF42DC7BE25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B589F2-94E0-4101-9CC1-1EB273D81E9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5E35E0-2F52-42AA-855B-E7CC6769AD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0032-8909-4082-A4FA-ADCFB7925BB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908A1D-43AD-48C5-9CA7-766FBC4DDBE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C5A538-B4D2-4D2F-AE0C-F7215FD78A2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6AEC40-8D27-4010-9635-BE85E4B6752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E49FCA-E1F6-4CF6-A5BB-1C545B762EE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A01653-DEA6-4F34-9A73-CFD47258CE9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4A6FCF-86A1-4908-BCA3-AA24F521753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65ED67-8550-416D-9037-1AC9333D7ED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B5C678-43DA-4CC4-952B-1DC1B1AC5B9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8C7283-524F-46BC-89B9-DA4AF9028A0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DE1182-58B2-4184-9563-22EEEC2AE7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F253-0097-4C7A-ACED-4CAED86CEF7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C533F0-E52E-43A3-88AD-66AFA331AC5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4605B-EDDC-491F-946D-2C430FA9905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3B3A4-D4F2-4D22-BC62-4248EC64BDF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DA54F-DBC5-4C07-B1FC-4469DF8EA1A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A660B-6E11-4132-8723-9958355F1EB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80FC8-12EA-4ED9-A9D7-9D219B02835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A82D1-D145-4829-899C-421A4BAB713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D2A90-1249-46BC-A9DC-754B19FBBD2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6FFDE-C112-465B-8BCD-FF23F8DFB3C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AD10B-FEDB-44CD-BB95-63AB8F58A6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423BE-E8EE-42CE-8F6D-22448FE25CF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80E0E-BA50-4D72-89C8-09EFCF55304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7122F-67C2-4155-B1C4-0A1D59C8E04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7A59DC-3E0C-4A83-B754-856E55FB912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60C961-A61C-40EC-853B-2F7C5A2A813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B8E268-B2AE-44B5-8F69-A2E141F5B02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1577E1-54CF-4281-83D9-4EB1713EBEE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5DF719-FE33-4253-96BE-C928823D2CB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67A056-E830-4D2D-9F65-9BD34AF6CB8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182377-4CED-47BF-BCDF-A7B9F9540E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2B772C-71F4-42BF-A64C-8A9CA761FD7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899C4A-8991-40E0-890A-C72A44DDC5B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28F99B-D0D8-46A1-B28E-DC57F6B792E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312E62-5AD2-429F-9200-F4D51F18D65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6ACF1C-1F39-4884-B47E-C5A4C83AACB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25A6E8-EAFC-44F7-A74A-E4308BCA2C3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72E031-1FE4-4AF3-AB86-55AFFBDBB20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8818B0-8547-496F-B72C-5F7841053BD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9F7A35-5940-4F5B-9F87-70435CAE7E3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9FCCC8-FD0B-4C3C-895C-FAFDED208F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2A547A-592F-455B-8501-55E09B8E1B7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8B063C-5886-4538-AB8A-63D89A46DCF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F7FDAA-34AD-4D0F-A0F9-57568F65625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ADC9E3-088A-4EC6-ACEE-2522FECD746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2E0B57-F772-4FC9-9092-9C58B90BD1B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78E515-3657-4590-8EF1-6A814D4C357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26FA01-9E7D-48BF-999D-70750706237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DE0CD-2CFB-47E3-8CED-5AB7077580E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9EC81-B06C-4B70-888A-C5C064EC64C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8C0C0-CF4E-4F90-BB46-AD6D08F1F0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D5BAD-73CE-422D-ABA0-6C2F5AE6FE7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C8560-3631-4718-9B22-D0F8307E91A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BAE73-DB09-4640-AA85-7D7DA6703E0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A020E-8CBB-4D9C-842A-187E51B210A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5E941-9D82-48F6-9DA7-2A230FBD85D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3B9AA-DC56-48E5-B67D-D7331905E0C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EBC66-821C-4776-B050-4873A722BBD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973F1-B4BA-4936-9128-BCAB7EA4A09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FC4C0-097A-4137-9760-89215C70A67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DE8653-9DA3-4C5B-B2C4-CA8B40AAE1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EECE5A-7A02-474A-B91B-30E66A4A3C7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56430C-4640-4C21-928A-71BF1FD4E10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076FD8-1B8A-4873-9943-348A460DAB1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D55542-6B65-44F4-9C76-E069F07F266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77C10C-6106-428A-A167-D7406F6C439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883397-389B-4CA4-8BE5-E77E578D012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4ACC6D-2CC0-40D6-AB85-2C7233B1668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ED73A3-DA94-49B5-BD46-206A4F27321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A6AFB6-4E6F-465D-94F9-D744D348F17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9786BC-D147-4E9F-BBB2-C081597735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C6AF53-79CA-44F1-8BA4-A4810DD652E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AA1A62-48B9-4865-9802-2956DBD64B0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470A44-2EB7-4161-9151-B6287C16D2CE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30E5BC-4841-48FA-BA56-EF413C7CFBF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0F0DD7-CFDB-467A-9704-FC887352427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D17CF4-9BE3-4551-8EA6-E77DAC5E813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0C6A35-2909-4DC3-B8FE-ADE70147B8C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79AC1B-7AF5-42C0-931E-71910F9DAA3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7BFFC9-A3BE-4239-8E31-AD71B849CAC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ADE087-85B5-446D-B909-C5481E7B7E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8FA362-CBD6-4F5C-BD34-D6D10DB4848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7C2C0C-34EC-4202-B930-B0D8D972B43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4C652C-C914-4B63-AEFF-78A2690BFBF6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A4591-9CFE-4BDA-834E-6BC69EF7495A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0FD66-84EB-48BD-8656-B10C85D9E55E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0CA7F-3B10-4A63-B4B8-3F7FFA928025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91992-4C0C-4EFA-839F-7204E978DE44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8BAB8-76FC-40F7-B0B7-D33F1C0C8365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A55AC-B94A-4F5A-B2E9-B159018E9714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34B07-07B8-4ADB-9760-CDFD3FB2CF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BF7EF-3972-42E0-ABE6-74FEA64032E2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D2936-4513-4D23-849F-B6EC9978C6A2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48E65-1111-4BF3-A844-741EE4B8D8C7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DEFE3-BF84-41F6-8D30-D22894593CB7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F29DE-E576-42F0-A913-8E31B8CC25E5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ADB64-F240-40C7-AE29-C980F5E0310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E2AB9-331C-47FC-BC80-10D75DAC80D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51283-4C23-4027-B497-C12819AB5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572A6-0006-4CFE-93E0-C808C96A050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AEDF6-72BA-45DC-A35A-E1EF866D36E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8A50C-9954-41ED-BF5F-A87EDDD8EB8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CF2A5-E0DC-4DD4-A223-8AFC647F0CA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45DA1-9038-4B94-BBC9-73707F0506B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49806-034A-4DCF-9709-80C98913FF0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CAB27-E786-427D-A706-5C69000CA4D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99926-9636-4C48-9A0C-4A53ED8E41D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C36CA-98C6-49B9-A177-A72C06B2369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AF1F-34B3-474E-93F5-DF2B2943475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E1C1-4757-4DF8-9A06-B2635FF7C53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CB75-964B-43EE-B5A1-07EFE2D5E45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AE5A-C47D-48E7-B500-6BBEBCFB40D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0806-5D78-4D68-B0D3-5A5B49FBE26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4049-DF16-4548-B0AF-441DA9D002B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FBAE-D3C6-4E94-8148-2136E4DE7EF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8E35-38DC-407E-8042-73E4FCDBCDD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5C7D-5C84-4B3A-A907-0FC9B21DB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9170-0D81-490D-936E-F339B3CEE7A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0626-DBC4-4C49-9474-E79413A4924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C8A9-6F79-45BA-8EC3-334CEE8B3F4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A4623-F752-48B8-AC51-0D1390CD73F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D0E4A-9412-40F5-8DC0-3EA4F45B603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7668C-B904-4725-86C1-5E2F49C7C97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CCAA4-6D1E-43E4-BA0D-8440A36C082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05A98-5C7A-4790-BF6A-446B73A192A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0289C-FFF0-4D0E-8FBB-E29E975CD6A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EDE1C-B883-412C-9229-761192411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DAD90-F219-41F0-8F88-5797D074607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33A23-B126-42F6-8725-F2230D2FFC2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B5DC9-8E93-4CA9-8586-21A3A047768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64B33-0D89-4971-B1BC-A8BF37FD734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D218A-65AD-42A0-A72E-6EF8F7E9EEB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9DAA2-DD2D-4EEF-B029-FA07AB4BF23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BDB02-E9D3-459E-A356-D9E003675A1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83713-B051-4ECC-9DEA-C4538D2BCCD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45760-8DF7-4925-8315-9D451F2A132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B13EB-BC4C-4A3C-9515-24D3AD3D6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42CAC-A510-407F-AAD9-B9E904EE09E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7EDDC-5950-4F53-9C1B-E6067F4B6E5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4B653-A2C3-40C4-B51E-C6106BBA86D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0B185-3C25-4B71-9072-CA577B513A7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FF5E4-E155-4490-8EE2-3A10121C833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3C0BA-2B79-4F7C-8B75-2F09E691D01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5520B-8554-4C71-BBDC-9536F06E8B4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4A1E-47E9-4BFE-A5EB-9FFA1E24375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8187-C925-4E3D-9E0A-A5E358675F5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291D-A8D5-4DF3-A76F-782420856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DF9B-284A-4727-A127-7C9DB08BBA5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DA04-DEA9-4961-8B21-9DB64D16E75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AE4F-38CB-411F-89BA-5DF5E874975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4D5E-345F-4906-BA51-4449A530189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B13C-E38B-4830-94AD-6EB15E5684D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CCBD-2752-49D4-9C87-084D6E799E5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3FC5-D900-4F82-9C4E-B1B6451F02D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8EA2-6CA7-47FA-A1BB-B3EC1CE394A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8AA3-E3B5-460D-8E9E-6E135ADEE1B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A149-8845-4E22-BB2A-47A98AAEE17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4900-19DB-4A87-8051-5EAA9CF2174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D09C-AC87-4714-9418-720F8F1E54D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8E67-EAD8-4DAC-85DF-E1B557A5547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FDED-10E5-4E95-9555-C9EEF3D7FF4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C98B-7034-4686-8D58-4C861F63B13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510F-7CE4-40EB-A1D0-32BF5C6AD13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81FB-7FE8-4968-A572-E8558C982E0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D140-4394-4DB1-BE84-C57B172C2CA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B1B3-743F-4FAD-B104-A49A037EF23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5C68-F8E6-4B4C-AC19-8A1122ED6C7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F799-5DEB-4995-934A-69A36AF30F4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5D74-4E6B-4AD9-86A3-6EFE2D6EB01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9962-2EB0-419F-A36E-76358421E45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5D6E-A890-4848-A2B4-E702372D5A1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Ibagu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agosto d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Text Box 3"/>
          <p:cNvSpPr/>
          <p:nvPr/>
        </p:nvSpPr>
        <p:spPr>
          <a:xfrm>
            <a:off x="1225440" y="58572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5 CuadroTexto"/>
          <p:cNvSpPr/>
          <p:nvPr/>
        </p:nvSpPr>
        <p:spPr>
          <a:xfrm>
            <a:off x="672840" y="5300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324000" y="5516640"/>
            <a:ext cx="871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9" name="1 Imagen" descr=""/>
          <p:cNvPicPr/>
          <p:nvPr/>
        </p:nvPicPr>
        <p:blipFill>
          <a:blip r:embed="rId1"/>
          <a:stretch/>
        </p:blipFill>
        <p:spPr>
          <a:xfrm>
            <a:off x="473040" y="1727280"/>
            <a:ext cx="7978680" cy="3578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 Box 3"/>
          <p:cNvSpPr/>
          <p:nvPr/>
        </p:nvSpPr>
        <p:spPr>
          <a:xfrm>
            <a:off x="1728720" y="52236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 Box 4"/>
          <p:cNvSpPr/>
          <p:nvPr/>
        </p:nvSpPr>
        <p:spPr>
          <a:xfrm>
            <a:off x="382680" y="544500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5 CuadroTexto"/>
          <p:cNvSpPr/>
          <p:nvPr/>
        </p:nvSpPr>
        <p:spPr>
          <a:xfrm>
            <a:off x="891360" y="525456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4" name="1 Imagen" descr=""/>
          <p:cNvPicPr/>
          <p:nvPr/>
        </p:nvPicPr>
        <p:blipFill>
          <a:blip r:embed="rId1"/>
          <a:stretch/>
        </p:blipFill>
        <p:spPr>
          <a:xfrm>
            <a:off x="382680" y="1700280"/>
            <a:ext cx="8075520" cy="3554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6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7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Text Box 3"/>
          <p:cNvSpPr/>
          <p:nvPr/>
        </p:nvSpPr>
        <p:spPr>
          <a:xfrm>
            <a:off x="1312920" y="333360"/>
            <a:ext cx="68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Text Box 4"/>
          <p:cNvSpPr/>
          <p:nvPr/>
        </p:nvSpPr>
        <p:spPr>
          <a:xfrm>
            <a:off x="176040" y="5373720"/>
            <a:ext cx="9004320" cy="5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* Nota 1: Obrero, empleado particular incluye al Jornalero o Peó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 Nota 2: Trabajador sin remuneración incluye a los trabajadores familiares sin remuneración y a los trabajadores sin remuneración en empresas de otros hogar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5 CuadroTexto"/>
          <p:cNvSpPr/>
          <p:nvPr/>
        </p:nvSpPr>
        <p:spPr>
          <a:xfrm>
            <a:off x="617400" y="51832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2" name="1 Imagen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569080" cy="3922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 Box 3"/>
          <p:cNvSpPr/>
          <p:nvPr/>
        </p:nvSpPr>
        <p:spPr>
          <a:xfrm>
            <a:off x="1763640" y="40464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Text Box 5"/>
          <p:cNvSpPr/>
          <p:nvPr/>
        </p:nvSpPr>
        <p:spPr>
          <a:xfrm>
            <a:off x="262800" y="5300640"/>
            <a:ext cx="501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Calibri"/>
              </a:rPr>
              <a:t>** Nota: Jornalero y peón está incluido en la categoría Obrero, empleador particula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6"/>
          <p:cNvSpPr/>
          <p:nvPr/>
        </p:nvSpPr>
        <p:spPr>
          <a:xfrm>
            <a:off x="396720" y="55166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Calibri"/>
              </a:rPr>
              <a:t>*Nota: Trabajador sin remuneración incluye a los trabajadores familiares sin remuneración y a los trabajadores sin remuneración en empresas de otros hogar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8" name="1 Imagen" descr=""/>
          <p:cNvPicPr/>
          <p:nvPr/>
        </p:nvPicPr>
        <p:blipFill>
          <a:blip r:embed="rId1"/>
          <a:stretch/>
        </p:blipFill>
        <p:spPr>
          <a:xfrm>
            <a:off x="685800" y="1341360"/>
            <a:ext cx="7753320" cy="3456000"/>
          </a:xfrm>
          <a:prstGeom prst="rect">
            <a:avLst/>
          </a:prstGeom>
          <a:ln w="0">
            <a:noFill/>
          </a:ln>
        </p:spPr>
      </p:pic>
      <p:sp>
        <p:nvSpPr>
          <p:cNvPr id="1309" name="8 CuadroTexto"/>
          <p:cNvSpPr/>
          <p:nvPr/>
        </p:nvSpPr>
        <p:spPr>
          <a:xfrm>
            <a:off x="830880" y="479736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1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2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 Box 3"/>
          <p:cNvSpPr/>
          <p:nvPr/>
        </p:nvSpPr>
        <p:spPr>
          <a:xfrm>
            <a:off x="1144440" y="563400"/>
            <a:ext cx="68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Text Box 4"/>
          <p:cNvSpPr/>
          <p:nvPr/>
        </p:nvSpPr>
        <p:spPr>
          <a:xfrm>
            <a:off x="108000" y="5300640"/>
            <a:ext cx="895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5 CuadroTexto"/>
          <p:cNvSpPr/>
          <p:nvPr/>
        </p:nvSpPr>
        <p:spPr>
          <a:xfrm>
            <a:off x="545760" y="4941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8" name="1 Imagen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684072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5 CuadroTexto"/>
          <p:cNvSpPr/>
          <p:nvPr/>
        </p:nvSpPr>
        <p:spPr>
          <a:xfrm>
            <a:off x="1985760" y="5516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Text Box 3"/>
          <p:cNvSpPr/>
          <p:nvPr/>
        </p:nvSpPr>
        <p:spPr>
          <a:xfrm>
            <a:off x="1154160" y="39852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otal 13 ciudades y áreas metropolitanas e Ibagu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 Abril – junio 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1" name="1 Imagen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5305320" cy="3400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Calibri"/>
                <a:ea typeface="Calibri"/>
              </a:rPr>
              <a:t>Ibagu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4" name="2 Imagen" descr=""/>
          <p:cNvPicPr/>
          <p:nvPr/>
        </p:nvPicPr>
        <p:blipFill>
          <a:blip r:embed="rId1"/>
          <a:stretch/>
        </p:blipFill>
        <p:spPr>
          <a:xfrm>
            <a:off x="917640" y="1704960"/>
            <a:ext cx="7542000" cy="1579680"/>
          </a:xfrm>
          <a:prstGeom prst="rect">
            <a:avLst/>
          </a:prstGeom>
          <a:ln w="0">
            <a:noFill/>
          </a:ln>
        </p:spPr>
      </p:pic>
      <p:pic>
        <p:nvPicPr>
          <p:cNvPr id="1325" name="1 Imagen" descr=""/>
          <p:cNvPicPr/>
          <p:nvPr/>
        </p:nvPicPr>
        <p:blipFill>
          <a:blip r:embed="rId2"/>
          <a:stretch/>
        </p:blipFill>
        <p:spPr>
          <a:xfrm>
            <a:off x="1062000" y="3645000"/>
            <a:ext cx="727380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1 CuadroTexto"/>
          <p:cNvSpPr/>
          <p:nvPr/>
        </p:nvSpPr>
        <p:spPr>
          <a:xfrm>
            <a:off x="684360" y="333360"/>
            <a:ext cx="7848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ol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4 CuadroTexto"/>
          <p:cNvSpPr/>
          <p:nvPr/>
        </p:nvSpPr>
        <p:spPr>
          <a:xfrm>
            <a:off x="1048320" y="5589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8" name="1 Imagen" descr=""/>
          <p:cNvPicPr/>
          <p:nvPr/>
        </p:nvPicPr>
        <p:blipFill>
          <a:blip r:embed="rId1"/>
          <a:stretch/>
        </p:blipFill>
        <p:spPr>
          <a:xfrm>
            <a:off x="239760" y="1919160"/>
            <a:ext cx="8737560" cy="3527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2" name="1 Imagen" descr=""/>
          <p:cNvPicPr/>
          <p:nvPr/>
        </p:nvPicPr>
        <p:blipFill>
          <a:blip r:embed="rId1"/>
          <a:stretch/>
        </p:blipFill>
        <p:spPr>
          <a:xfrm>
            <a:off x="1038240" y="2349360"/>
            <a:ext cx="7205760" cy="2521080"/>
          </a:xfrm>
          <a:prstGeom prst="rect">
            <a:avLst/>
          </a:prstGeom>
          <a:ln w="0">
            <a:noFill/>
          </a:ln>
        </p:spPr>
      </p:pic>
      <p:sp>
        <p:nvSpPr>
          <p:cNvPr id="1263" name="Rectangle 2"/>
          <p:cNvSpPr/>
          <p:nvPr/>
        </p:nvSpPr>
        <p:spPr>
          <a:xfrm>
            <a:off x="384120" y="836640"/>
            <a:ext cx="843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Calibri"/>
                <a:ea typeface="Calibri"/>
              </a:rPr>
              <a:t>Resumen de indicadores</a:t>
            </a:r>
            <a:br>
              <a:rPr sz="2400"/>
            </a:br>
            <a:r>
              <a:rPr b="1" lang="es-ES" sz="2400" spc="-1" strike="noStrike">
                <a:solidFill>
                  <a:srgbClr val="cc0066"/>
                </a:solidFill>
                <a:latin typeface="Calibri"/>
                <a:ea typeface="Calibri"/>
              </a:rPr>
              <a:t>Ibagué  – Total Naciona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5 CuadroTexto"/>
          <p:cNvSpPr/>
          <p:nvPr/>
        </p:nvSpPr>
        <p:spPr>
          <a:xfrm>
            <a:off x="977760" y="5229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Text Box 3"/>
          <p:cNvSpPr/>
          <p:nvPr/>
        </p:nvSpPr>
        <p:spPr>
          <a:xfrm>
            <a:off x="206280" y="2492280"/>
            <a:ext cx="273708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8 Rectángulo"/>
          <p:cNvSpPr/>
          <p:nvPr/>
        </p:nvSpPr>
        <p:spPr>
          <a:xfrm>
            <a:off x="3029040" y="2011320"/>
            <a:ext cx="6114960" cy="1843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7" name="1 Imagen" descr=""/>
          <p:cNvPicPr/>
          <p:nvPr/>
        </p:nvPicPr>
        <p:blipFill>
          <a:blip r:embed="rId1"/>
          <a:stretch/>
        </p:blipFill>
        <p:spPr>
          <a:xfrm>
            <a:off x="3052800" y="291960"/>
            <a:ext cx="6000840" cy="5524560"/>
          </a:xfrm>
          <a:prstGeom prst="rect">
            <a:avLst/>
          </a:prstGeom>
          <a:ln w="0">
            <a:noFill/>
          </a:ln>
        </p:spPr>
      </p:pic>
      <p:sp>
        <p:nvSpPr>
          <p:cNvPr id="1268" name="6 CuadroTexto"/>
          <p:cNvSpPr/>
          <p:nvPr/>
        </p:nvSpPr>
        <p:spPr>
          <a:xfrm>
            <a:off x="3635280" y="6004080"/>
            <a:ext cx="561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(+) (-): Aumento o disminución de la TD de cada ciudad frente al mismo trimestre del año anterior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1 Rectángulo"/>
          <p:cNvSpPr/>
          <p:nvPr/>
        </p:nvSpPr>
        <p:spPr>
          <a:xfrm>
            <a:off x="3672000" y="584676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Fuente: DANE - Gran Encuesta Integrada de Hogare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6 CuadroTexto"/>
          <p:cNvSpPr/>
          <p:nvPr/>
        </p:nvSpPr>
        <p:spPr>
          <a:xfrm>
            <a:off x="3635280" y="62038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El total de las 23 ciudades no incluye San Andrés por tener una distribución de la muestra diferente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Los resultados presentados para San Andrés corresponden al período enero - junio 2015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1" name="1 Imagen" descr=""/>
          <p:cNvPicPr/>
          <p:nvPr/>
        </p:nvPicPr>
        <p:blipFill>
          <a:blip r:embed="rId1"/>
          <a:stretch/>
        </p:blipFill>
        <p:spPr>
          <a:xfrm>
            <a:off x="847800" y="2060640"/>
            <a:ext cx="7589880" cy="3357360"/>
          </a:xfrm>
          <a:prstGeom prst="rect">
            <a:avLst/>
          </a:prstGeom>
          <a:ln w="0">
            <a:noFill/>
          </a:ln>
        </p:spPr>
      </p:pic>
      <p:sp>
        <p:nvSpPr>
          <p:cNvPr id="1272" name="Text Box 3"/>
          <p:cNvSpPr/>
          <p:nvPr/>
        </p:nvSpPr>
        <p:spPr>
          <a:xfrm>
            <a:off x="1438200" y="620640"/>
            <a:ext cx="640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Ibagu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(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2006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5 CuadroTexto"/>
          <p:cNvSpPr/>
          <p:nvPr/>
        </p:nvSpPr>
        <p:spPr>
          <a:xfrm>
            <a:off x="75852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40464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bagu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1 -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112212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960480" y="1628640"/>
            <a:ext cx="7378560" cy="3934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4"/>
          <p:cNvSpPr/>
          <p:nvPr/>
        </p:nvSpPr>
        <p:spPr>
          <a:xfrm>
            <a:off x="2052720" y="620640"/>
            <a:ext cx="489564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Ibagu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bril – junio (2014 – 2015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552600" y="2565360"/>
            <a:ext cx="822312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1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Juan Camilo Riveros Botero</cp:lastModifiedBy>
  <cp:lastPrinted>2015-02-12T19:45:34Z</cp:lastPrinted>
  <dcterms:modified xsi:type="dcterms:W3CDTF">2015-08-10T13:55:51Z</dcterms:modified>
  <cp:revision>940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