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8931-B2F6-4A20-813C-CD22E52AFF3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130E-EF13-4C5B-A13F-EAB2CA4D8073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BA6B-4BD4-43F3-B8F6-BBE4A3B7A79C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8F07-6CC6-4A47-ADFC-8BDA6F3A9D0C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7D45-4354-4D6C-B3A5-54C1549C474D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0594-52DC-41D7-9001-60C794FA395A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3D21-5380-4668-B70D-36D2BD3A88D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031C-204F-4567-8D4F-769FBB6ABBC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3FB9-82FD-4BAC-A286-46540B13CF4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D506-5ECC-4495-852C-F0C801153BD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0F71-CD81-4C1E-A273-1585D38E2E7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C925-E950-4169-B96A-121B3CC91A3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8062-AB16-441B-B52D-FBDC8C72FF6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3908-E78A-41EB-A05A-CBBACF26ABE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9EF1-CDD3-4934-99C1-1B239EB0AC1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053EB0-62F5-4955-B011-B19715E7F8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8A959B-F451-4967-99A0-F3BEDC76F79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AD20D0-A52F-45DF-AA50-66CAC3386CD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2F8865-0F30-4E5A-968D-E15EE3A2125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328A06-488A-461C-8841-6A985CD91D8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0A4787-AD7E-4E67-9194-A5F8D100526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33B044-8182-4FCF-9536-0F2D0A72770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7C1E19-20DC-49D4-B5D6-6D0396078E2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6573A4-82B3-47E2-9927-6E8EDFD490B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7E95E0-AEBF-4294-BB24-D6431954180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20214A-8F70-43CE-81FF-C4B02C92B7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E094B9-E100-4969-B62D-6DAC4084152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27FE00-DE96-45E1-AF1D-32A76A9F817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75951B-71F8-47FE-96ED-1405CF7E83B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03492F-0EA7-46DF-89D9-2F9E46A8E71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9672D9-03A4-4518-95C3-65D2BBA00A6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A05D41-446D-48F6-A98F-5499DEA546F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30B320-DC62-4609-A088-C072943D2A0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975D08-94BF-4AB8-935B-230DE4E9D88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885B2A-D251-490B-BF9A-1BC5CB4A841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348DBD-5C15-4FF5-B45C-78E46AC225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4C310-655E-47C8-9A96-EA9C0D36220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B90880-5169-41CD-93BA-69F5DD5E122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79B77E-12B5-40F1-B8F0-5FACD98994D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3A211E-5793-4EC8-A5EA-64985046FC8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F2F46-FA22-4064-98E0-2656C733B0F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D84E5-8ABA-481B-8199-7D4A6BC6287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245F5-D005-4C85-B8FA-B81C5FCB3C6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33C45-16B4-4C83-BA71-83ECCF04E11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8074B-C72E-4BAD-8AD4-6DC20984B43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EA92D-0342-400C-B7DA-2A11BCD30DE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8D8F7-1DA5-45A4-BE95-4DA76536D9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3F0D6-9902-4800-AB03-3E92ABACEB1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22E07-06D4-44EF-B5AC-1D45D08C1C4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F0CCE-80EE-445B-A718-6D2BA9B0F86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072D9-E181-4C3C-89C0-E906A4ED18A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6FB17-E29C-4820-B901-FEC654CBDE2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EB1B5-73F7-4D61-A2AD-7F2E0E7266A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2E76CF-2B40-45C5-B0B3-CB6C74E3CD9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0D8832-39B2-49F0-B8D1-0E161E212C1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9DC7B5-76D3-44AD-8A13-5378F1B6669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598F81-7494-4129-ACA4-6A17B405BE8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CEEB70-B744-4380-978E-14AEE32A82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44E92-6ECD-4202-8059-89CDDF5887A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1D370D-24A7-4E8B-A415-F65FDD38020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18C003-4302-4286-A314-D23A98B12DD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8A9525-15E1-49D2-A8E1-2807EA5A5D8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47AF2C-85C4-47C6-9DCC-99B813F5E07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FE4BBD-FA39-488B-BE06-FFC67FE27C4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4CB37C-9DA4-4B4A-8117-5A21CAB0C4D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DBA616-2D6D-42F0-9A4F-99A557858AD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77CFF3-F37B-400E-BCDF-1E538245AB1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F2BE18-3421-4F66-856A-3D3C263667C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DF0A5E-3CC2-4A04-B5A6-C72DF3301D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9993E-BAA0-4CF6-B960-BD0E74B4C5F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24624A-1409-4FA6-A957-A509CB054FC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7D9BBE-2583-47BC-955B-D63EE8DE392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161A8F-F6D4-4ABF-A5CE-158EB22AF40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94AE4A-33D2-4EF7-B2EB-6E571BF250A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D27B86-FBBF-47DC-BA53-ED42F3E66D8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5B258A-6E81-4937-B79B-7AFB76556FB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64CA45-45A9-41D9-9C9B-24E70934439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2D94A3-6C3C-476C-B486-DA09032EC7A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D15AA2-D977-4488-9BB8-E4845AAB087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89A31-3CDC-492B-8410-F3208BB154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5ECF6-4B66-4B09-8F91-146827EA9AB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B3182-7E39-4E77-8B79-6CAA78973E0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575D3-5C7D-43C4-B689-92C09AA4F9EE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BB2EB-D088-4237-A741-3BB8615B61B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AADBE-BDA2-48B8-ADD4-F6C1F3D703C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5A139-E74C-4110-A1FA-4FB42B03FC6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DE87C-D1EE-4E47-B21E-E3D3B012557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2C2A9-5FE3-4E88-B26C-BC1A63F8993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713C5-7845-4B3C-92E6-B757863B257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00FB9-97D9-49C7-BB8C-A4BE9BF984D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9013F-C393-4221-ADF4-217FC1CB0B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BACAC-1444-47BE-BCD6-8D607EAEC57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9E7B8-FE07-4B04-BAA9-08804E71A23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1AE16A-C98D-4169-93CE-451FDFB74F05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96ACF4-394F-4FD8-ABD2-70F0232ABF9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8CFDD1-FE5E-4DC6-BE0E-33F05B832FD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8BAD3A-F5EF-4F47-B275-31A4A975A43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AF95BD-8331-4322-8D54-414DE796AA96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E24A58-CBC8-49F7-A02D-736433F3D0E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C3EAB6-A2BE-475F-BDD8-8EA5CD00972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567EC4-4EF5-4E28-973C-EEB46AE5AB1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AFA8EB-4F65-4E67-8E26-41BC308043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AECF8-224B-4C4D-8E16-97AF9287F279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78E6E4-5E90-4D05-AFA4-4D97181B4DE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A117A5-CE06-4482-B706-B1216E830FA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083E53-D187-4134-A91C-29E65D1105E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BA2096-F0F1-48B1-A79A-02FD099B9338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8FA516-FF31-44A7-B43F-BC9E69173565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6587C7-A2D4-4C4D-8B95-0DEFB6CF2F1E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72B1F4-4917-4E18-9F1D-5D6ACE004EC2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1FCD02-C407-42C1-A277-07BBFDBF8F82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745F5E-0DD9-4FBF-9865-D1FE0AE7954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E6690A-0315-4C7A-A687-C541ABE8D4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81F23-2082-46D4-A198-92E74CF2482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042E96-933B-48F4-8840-49AF42BA7512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224AD5-AEBF-4550-9462-2029F5CA47B2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A6564D-9090-49C9-AAB1-C774481E489B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0EFE08-EE94-47E5-8CAA-09693FD59EF2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CAA154-A978-4C48-ACD0-6982CABD9CB3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4B9FB-CC3D-491A-A51D-76BE390B40C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6AA9A-C02E-49B3-A7CA-6C1296D81CA8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807F7-FC95-403A-81F0-EFF411FAC48A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D90FE-D05D-45AD-847F-D0C6BA3DCB06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D6DED-8F19-4EB3-BAAB-167C27DA25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5A918-DDBE-483E-9820-0B8004CE104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10DEE-5AEF-422C-8C11-503A1C814C6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5A307-CE74-47E2-B99C-FA3CC5FC22D7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A3E2E-6B2B-4F79-8AD7-874008884B8E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C2070-6E36-4D3E-ABC5-22AE040FCCD7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1F804-49EB-466E-9AF2-FC042A1CEF6F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D191A-C3FD-4620-B673-B6D33339E1E9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B46BB-C0DE-4458-B552-678142B659C5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8A345D-C5FD-4EDA-8DC5-20FBCDCCB57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9322EF-9A38-4C23-B8BB-2DA24EA002D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5D2617-9201-47CB-A190-91E7275CD2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27FBE-0DD1-4402-ACD4-BC20C6F1BF4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E0E68A-BF40-45D8-8E5B-C5ACC253B6BF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B7DBF1-49A7-49E7-A713-FF5B7E135D0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1F0F29-CE7F-4938-9EE7-3D336187E3C8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381DB9-AB59-4F87-90E5-08028EFC8308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888580-89EB-4104-8F02-1F4EF14A9A0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1DD023-C7B8-419D-B860-22AFFDC8AFFF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E38C5E-7089-4AF0-9050-62118910987F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70CC62-83A5-4B3D-A87D-AEC35D9466AF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56FC25-B892-4F23-B628-4843FDC7BC7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E274B2-69B9-4C43-A85E-332F202653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C4990-1CEE-4EB9-B1C9-06CA84EE7C1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4237C8-7C3F-4E2E-A2A5-9458F9E50535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81E92A-330E-413B-A3C7-F976BBD154D6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BF1FF2-39FB-4A22-8205-CD63E2BD6F99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7A25D5-1516-4125-AF89-A3A982DED667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251A97-CCD6-4BE7-8A73-49652C834D50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53851A-C1C6-446A-8F7A-7CDD2BC12985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E57005-42FC-4A9D-8718-5EC52CE5E2C2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511224-ED6C-4553-B857-ED63C8B35AFC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279CE1-5AE8-4D15-B9C1-151DCD5FCDDD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7E3833-A3F2-4E47-92BC-82DF5F7C60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71D30-2412-4719-A735-38DCFD77575A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86BB29-524A-472B-85F0-263632C3489D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00D96-3253-4366-A3F2-7F3D63B8E312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E4F7C-6187-403C-911E-61BA2DA24838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8AFD5-0C5C-484D-8BAE-BCC88A7A7983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47C25-CA24-492D-B9FE-080B8B0BF93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2DF50-6007-463B-A766-B9E1C485A62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37868-9D14-4529-952C-DA22F244EEE3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40F3A-4ECB-4BBF-9B86-405E448E85E9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11643-44AB-4E1E-9FFA-9F1B4502704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F19A8-7966-4B1E-ABD0-14518EF9249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0B4E3-D5ED-4085-AA25-6776ED096555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272BA-39BD-4942-9873-F7C045AFC694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D22F6-A816-45C8-8CAD-BC73F2BB6DD2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9772E1-16A8-4D43-9BAB-4226089FC1EA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9DAF8E-386F-461F-BC34-36675A9156EF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7EB9D4-7D80-423F-853C-DA4F279CFDE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805559-56D5-4858-8680-A16292800131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8F9F92-4EEE-4206-A450-C60FEEFB34B8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731477-CDB3-45F2-B125-1246E12E0005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6DE39B-391C-4F92-BEB1-2CF789CAEEE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8F7FB9-6C76-484B-850C-3E351256EE99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F2C904-2C4D-4C74-8E0D-D4535F189470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BA8197-1A72-4478-9122-AEA3F0B98101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13850B-F2CE-4113-B4E7-005457103A5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82B56B-B7A2-4C55-B64A-4E62297F785E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963B5E-7965-410C-AC3C-DDA8D1D701CF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2433EE-F058-4FD3-A9DC-59F076B3B449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280195-54EB-440A-BFE3-79B58AAB04B0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A12769-7B4C-4E4C-8B2B-3F656FE35DD8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1E9A2D-290E-4F8F-B180-1EA5A770F7B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EC6900-9934-45DC-9199-A14A92B8EC14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6343A0-F58B-4427-AA57-9282FB0A6E0B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38C4E5-9368-404D-9A92-E82D4762354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1E8ABA-06F4-404D-9B85-286EF38E64F3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BDD785-ECE1-4526-A633-108A03065BC7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C927E2-39F5-4999-93EC-604C880AF97A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549B80-96A5-4F9D-95C9-79A9BB4AE93A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566C3-44A8-4CD8-868A-890D2B7F1A99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3B616-FDD7-444F-9C35-2362830ABBA4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773F5-5F91-4B09-B99F-FB6521A79C5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CAEE3-741E-4F56-88B5-32E70EFFBAFC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F464D-EAC4-431D-935F-421709C258F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B6BBF-28D1-4ED1-884F-9BDEAA9AA615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AB4EB-A3BF-47DD-93D5-3454D1287261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7A094-F59D-4A73-AA5C-0389BFC40DDD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4362C-9909-4A98-8E55-D3DBEE8DB33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D4E6F-9F20-4265-B361-40BFEA6E6A66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1DBDB-9362-481B-A9B1-E44976516173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7C244-ADF7-4D9D-A4AA-C9475EBA0B2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273B22-08E3-4F10-8576-33259E9F3F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C1462F-DB70-420B-B5CB-672F58768D4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A5557F-8250-43F0-8909-E8B70BBFB7EB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9203A4-249D-47B7-9B8D-E1EF29AC157E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35F2DC-EEF4-46B0-AA77-CEC67F30E062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DE4790-C7C1-4F6F-B253-A036AD3B1C28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C6103D-513A-487D-B935-EC37E02B89AE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0A577A-334C-448E-A641-80B8A4F2111A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DCBAA3-8304-4EC7-9727-B6D8F2233851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932B00-95CE-448B-8C47-A6171ED2DBD0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741A30-7DEE-48AD-9783-B33A89F61B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3DFF16-C2CB-45BB-90F7-037E7DBA0941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94C8A3-D148-4A81-AD7C-E37D7DE9F441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B1AA25-96E2-4D94-8FD6-0DCA34527D13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48C0F5-D19C-4F4B-B1CA-D84578F4EE71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B1007A-CB18-4FB0-A4B9-09CAB26A16D2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501FCC-58A5-4F50-9083-926A553B235A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11E16B-FEDE-47EA-AB97-DE3B7AAE4658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7763CC-8BCE-46F5-9916-9EC555C2610F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FB38D5-DF4B-4DD6-B94C-8478E3D8050F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246C8D-D938-4DE0-AD6E-7103D5B57D6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48518F-A0BD-4D29-8C06-A2F90BD0EC5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38D9E8-E0BE-4552-B523-7C4582B5CA9A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1B2CA1-4058-45DC-B074-12BA653BDF21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162E2-C431-4627-BF7F-B7DFD76483B5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6F6E4-57A1-41F4-81A5-FDD0C8F079EF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3A309-9321-4879-A7BD-53F2F737235D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15EF9-5E42-4FA3-9DC6-0CAFC85FE88B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351EC-F08E-4B2D-82F3-9F555761FA8A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ECD59-8442-4C25-8337-B24564E4B87A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CD7BE-57EF-4E2F-9F45-72C90C87133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FDEEF-8B25-4E8F-A2FA-CD46198993BE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1C329-4980-47C3-B21C-A4473AA1AB94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4B31B-5CA1-417A-B277-BAD43BD8FC8D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CDAC3-FC1C-4C07-B4CA-96A56C034EBB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05F68-5D50-491E-A1D0-6C3B4D0249FE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2D2A7-6793-4FA7-AA1E-53D920D0FEB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55512-83F9-4CCF-8920-102F8947004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EE8D5-0CFF-431D-AEAA-6E2E2B65EF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6C6DB-B075-4DC0-90EA-CB757EE8007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9BECD-A0DD-4265-8793-B863C10BAC4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D6D9C-A7F9-4817-BFC5-D54CC178CC6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6ABFE-9D93-4DB3-9C05-E5C98DF5359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77E79-7B29-40F7-B065-D1F9543663C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D0E8B-384E-434C-82D6-8769367AD3C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E4CD4-4F14-4A7C-A954-18EF7A5A55B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54DB1-FC2D-4C71-87FB-3959CAC78C2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302BA-1C0B-459C-94BD-1E046A18BF9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1FAB-93BF-46A6-821C-7B724052280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1FC3-A7B0-4CA2-8DA8-079F591CB3D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FA6C-4611-4DD0-BE8B-D04D8464EBD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7DB5-5DDA-4294-8F1F-9B385A6E0E7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BF61-7B81-41CB-889A-7A4BDF43628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6797-0B5A-4EA1-A916-812F6FDA7FA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BC42-E70D-4DD5-A856-463DDD8FB64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BE21-1D52-4CC3-8468-039C5CDA39F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0553-8A2E-43F7-B96F-94CB03E9CD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73AC-5562-4142-9A0C-2DF64591DE6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01B8-1CE0-40D8-B34B-177D89AC94B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EDB8-DB41-4EF0-A102-655C92BA177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7D7426-B086-48DE-A537-DF9C5F7EB43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EB3B5-38FB-4381-BC9E-9D5FC428477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EB85E-F139-4732-A3DF-3D60ACA4D72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B0F0F-6BFC-4C1D-A2A6-2B006663BE8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15551-42B5-42E0-A1B3-9FAE56353C9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913FF7-74A3-45AE-B40D-85CC743EE7A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73614-1F83-4190-8350-84A39EC95C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2CB58-64F0-447E-837F-938924B0E00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587B4-40F0-4F9F-805C-B222E978318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DBFA6-C77E-465B-A2E4-E73AC210BD8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5BC58-E921-4591-B95E-BF35F15875C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BBD85-12EB-4F82-8B21-EF953528D0D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F920A-D25E-49C9-A282-19BDF68037D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32997-B6E7-4E18-B9E2-6049EC4C924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2073E-C4BD-4011-B148-D51A0D4FDF8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E67AC-9B59-43B6-A07D-9E09EA3FA7E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64DD5-D80D-4971-8015-BD631E11D2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56AA2-1EA6-4B2D-859E-8D831B63389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27CAE-F282-4F52-93E7-1AC78F2B7EA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A7F62-58F2-4DB2-8DE2-7FB0FB125E8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45572-FF72-438A-8C1B-03549141CEF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6C35B-8999-414E-8387-8CC8774F82A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0F15A-FBD4-484E-88A6-834C3948EB2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3B101-7ECE-4EE0-9005-D084737DAA8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F3E0-CE5D-48AA-B0C2-9AB399415C1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FDE4-88D1-48A3-B69B-6727ABF7EA9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D68B-9979-46A4-8A21-488028FFF8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tretch/>
        </p:blipFill>
        <p:spPr>
          <a:xfrm>
            <a:off x="-36360" y="6165720"/>
            <a:ext cx="9266040" cy="941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83B0-5336-4233-93C1-97B060C4346B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9F8B-078F-4585-814E-2BBEE7B6F8E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276A-79EC-499F-B4B1-87EDA313FF9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4F96-C535-4605-B714-BBBC48AFCEA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E545-0F27-41D0-9B4C-4D9787F3C3C7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F64F-F19A-43CA-AC3C-A50606DA524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E077-AB08-421A-94C2-5A7F7047543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478B-8CC4-43BC-B16A-0DC17AE4099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AE18-D4A7-4418-85DA-2E559BF8D6B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A987-BE84-45BE-BDCF-AFE62BCC624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3F5C-04C9-4337-954A-8D945EE2F25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FEB3-D52B-4CEE-9F7D-1F80EB71995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AEFF-8526-460F-B21F-840CD14EDC6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24F4-F831-4212-BCEB-92F9F1031AA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892E-7A31-4C9C-A424-9854D4E557D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B40B-ABCF-4239-9066-57A418C76973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2C22-5EFA-44F0-A484-B341DE533A9D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BA1C-5760-4680-A20C-92F5BE1AFC5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B62E-F54B-4694-9BE6-6E6D6287FF2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28DB-0036-4624-96B5-E54212B50BA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97A1-4F12-435D-9E72-931E2611771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534E-1669-40F9-AC76-87A981F443A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88DC-6E7E-4DE3-8A6C-ED2E4B7BF16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8862-5915-4DC1-A2F3-50DBC5582B4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Santa Ma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C, Agosto de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Rectangle 2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Text Box 3"/>
          <p:cNvSpPr/>
          <p:nvPr/>
        </p:nvSpPr>
        <p:spPr>
          <a:xfrm>
            <a:off x="684360" y="795240"/>
            <a:ext cx="74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Text Box 4"/>
          <p:cNvSpPr/>
          <p:nvPr/>
        </p:nvSpPr>
        <p:spPr>
          <a:xfrm>
            <a:off x="250920" y="5307120"/>
            <a:ext cx="83534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Otras ramas: Agricultura, ganadería, caza, silvicultura y pesca; explotación de minas y canteras, suministro de electricidad, gas y agua e intermediación financie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La categoría  “No informa” no se incluye en la gráfica. Por esta razón la suma de las participaciones puede diferir de 100%.   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  <a:ea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6 CuadroTexto"/>
          <p:cNvSpPr/>
          <p:nvPr/>
        </p:nvSpPr>
        <p:spPr>
          <a:xfrm>
            <a:off x="1265040" y="50720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0" name="1 Imagen" descr=""/>
          <p:cNvPicPr/>
          <p:nvPr/>
        </p:nvPicPr>
        <p:blipFill>
          <a:blip r:embed="rId1"/>
          <a:stretch/>
        </p:blipFill>
        <p:spPr>
          <a:xfrm>
            <a:off x="1046160" y="1646280"/>
            <a:ext cx="72658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Text Box 3"/>
          <p:cNvSpPr/>
          <p:nvPr/>
        </p:nvSpPr>
        <p:spPr>
          <a:xfrm>
            <a:off x="1366920" y="69228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Contribución a la variación porcentual de la población ocupada, 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Text Box 4"/>
          <p:cNvSpPr/>
          <p:nvPr/>
        </p:nvSpPr>
        <p:spPr>
          <a:xfrm>
            <a:off x="395280" y="549288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6 CuadroTexto"/>
          <p:cNvSpPr/>
          <p:nvPr/>
        </p:nvSpPr>
        <p:spPr>
          <a:xfrm>
            <a:off x="1211040" y="5084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5" name="1 Imagen" descr=""/>
          <p:cNvPicPr/>
          <p:nvPr/>
        </p:nvPicPr>
        <p:blipFill>
          <a:blip r:embed="rId1"/>
          <a:stretch/>
        </p:blipFill>
        <p:spPr>
          <a:xfrm>
            <a:off x="1046160" y="1628640"/>
            <a:ext cx="705024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7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98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Text Box 3"/>
          <p:cNvSpPr/>
          <p:nvPr/>
        </p:nvSpPr>
        <p:spPr>
          <a:xfrm>
            <a:off x="826920" y="85716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8 CuadroTexto"/>
          <p:cNvSpPr/>
          <p:nvPr/>
        </p:nvSpPr>
        <p:spPr>
          <a:xfrm>
            <a:off x="1150560" y="53150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4" name="1 Imagen" descr=""/>
          <p:cNvPicPr/>
          <p:nvPr/>
        </p:nvPicPr>
        <p:blipFill>
          <a:blip r:embed="rId1"/>
          <a:stretch/>
        </p:blipFill>
        <p:spPr>
          <a:xfrm>
            <a:off x="976320" y="1778040"/>
            <a:ext cx="7424640" cy="3219480"/>
          </a:xfrm>
          <a:prstGeom prst="rect">
            <a:avLst/>
          </a:prstGeom>
          <a:ln w="0">
            <a:noFill/>
          </a:ln>
        </p:spPr>
      </p:pic>
      <p:sp>
        <p:nvSpPr>
          <p:cNvPr id="1305" name="Text Box 6"/>
          <p:cNvSpPr/>
          <p:nvPr/>
        </p:nvSpPr>
        <p:spPr>
          <a:xfrm>
            <a:off x="250920" y="5559480"/>
            <a:ext cx="849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°Otras posiciones: Obrero, empleado del gobierno; Empleado doméstico; Patrón o empleador; Trabajador familiar sin remuneración; Trabajadores sin remuneración en empresas de otros hogares; Jornalero o Peón y ot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Text Box 3"/>
          <p:cNvSpPr/>
          <p:nvPr/>
        </p:nvSpPr>
        <p:spPr>
          <a:xfrm>
            <a:off x="1403280" y="795240"/>
            <a:ext cx="59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Contribución a la variación porcentual 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8 CuadroTexto"/>
          <p:cNvSpPr/>
          <p:nvPr/>
        </p:nvSpPr>
        <p:spPr>
          <a:xfrm>
            <a:off x="2617560" y="52005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0" name="1 Imagen" descr=""/>
          <p:cNvPicPr/>
          <p:nvPr/>
        </p:nvPicPr>
        <p:blipFill>
          <a:blip r:embed="rId1"/>
          <a:stretch/>
        </p:blipFill>
        <p:spPr>
          <a:xfrm>
            <a:off x="905040" y="1682640"/>
            <a:ext cx="6757920" cy="3324240"/>
          </a:xfrm>
          <a:prstGeom prst="rect">
            <a:avLst/>
          </a:prstGeom>
          <a:ln w="0">
            <a:noFill/>
          </a:ln>
        </p:spPr>
      </p:pic>
      <p:sp>
        <p:nvSpPr>
          <p:cNvPr id="1311" name="Text Box 6"/>
          <p:cNvSpPr/>
          <p:nvPr/>
        </p:nvSpPr>
        <p:spPr>
          <a:xfrm>
            <a:off x="250920" y="5559480"/>
            <a:ext cx="849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*Otras posiciones: Obrero, empleado del gobierno; Empleado doméstico; Patrón o empleador; Trabajador familiar sin remuneración; Trabajadores sin remuneración en empresas de otros hogares; Jornalero o Peón y ot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4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Text Box 3"/>
          <p:cNvSpPr/>
          <p:nvPr/>
        </p:nvSpPr>
        <p:spPr>
          <a:xfrm>
            <a:off x="1189080" y="714240"/>
            <a:ext cx="676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 y variación de la población inactiva, según tipo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157320" y="5516640"/>
            <a:ext cx="809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La categoría “otros” incluye a incapacitado permanente para trabajar, rentista, pensionado, jubilado, personas que no 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llama la atención o creen que no vale la pena trabaj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6 CuadroTexto"/>
          <p:cNvSpPr/>
          <p:nvPr/>
        </p:nvSpPr>
        <p:spPr>
          <a:xfrm>
            <a:off x="1625400" y="5229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0" name="1 Imagen" descr=""/>
          <p:cNvPicPr/>
          <p:nvPr/>
        </p:nvPicPr>
        <p:blipFill>
          <a:blip r:embed="rId1"/>
          <a:stretch/>
        </p:blipFill>
        <p:spPr>
          <a:xfrm>
            <a:off x="835200" y="1460520"/>
            <a:ext cx="732924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5 CuadroTexto"/>
          <p:cNvSpPr/>
          <p:nvPr/>
        </p:nvSpPr>
        <p:spPr>
          <a:xfrm>
            <a:off x="2165040" y="56894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Text Box 3"/>
          <p:cNvSpPr/>
          <p:nvPr/>
        </p:nvSpPr>
        <p:spPr>
          <a:xfrm>
            <a:off x="1332000" y="907920"/>
            <a:ext cx="687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roporción del empleo informal en la población ocup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Santa Mar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Trimestre Abril – Junio (2014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3" name="1 Imagen" descr=""/>
          <p:cNvPicPr/>
          <p:nvPr/>
        </p:nvPicPr>
        <p:blipFill>
          <a:blip r:embed="rId1"/>
          <a:stretch/>
        </p:blipFill>
        <p:spPr>
          <a:xfrm>
            <a:off x="1763640" y="2133720"/>
            <a:ext cx="576108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Arial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Arial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Arial"/>
              </a:rPr>
              <a:t>Santa Mar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6" name="2 Imagen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858000" cy="1805040"/>
          </a:xfrm>
          <a:prstGeom prst="rect">
            <a:avLst/>
          </a:prstGeom>
          <a:ln w="0">
            <a:noFill/>
          </a:ln>
        </p:spPr>
      </p:pic>
      <p:pic>
        <p:nvPicPr>
          <p:cNvPr id="1327" name="1 Imagen" descr=""/>
          <p:cNvPicPr/>
          <p:nvPr/>
        </p:nvPicPr>
        <p:blipFill>
          <a:blip r:embed="rId2"/>
          <a:stretch/>
        </p:blipFill>
        <p:spPr>
          <a:xfrm>
            <a:off x="1317600" y="3860640"/>
            <a:ext cx="64548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1 CuadroTexto"/>
          <p:cNvSpPr/>
          <p:nvPr/>
        </p:nvSpPr>
        <p:spPr>
          <a:xfrm>
            <a:off x="1308240" y="338040"/>
            <a:ext cx="68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Magdale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An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2007 - 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4 CuadroTexto"/>
          <p:cNvSpPr/>
          <p:nvPr/>
        </p:nvSpPr>
        <p:spPr>
          <a:xfrm>
            <a:off x="1310400" y="5732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0" name="1 Imagen" descr=""/>
          <p:cNvPicPr/>
          <p:nvPr/>
        </p:nvPicPr>
        <p:blipFill>
          <a:blip r:embed="rId1"/>
          <a:stretch/>
        </p:blipFill>
        <p:spPr>
          <a:xfrm>
            <a:off x="1135080" y="1827360"/>
            <a:ext cx="7020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Santa Marta 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3" name="1 Imagen" descr=""/>
          <p:cNvPicPr/>
          <p:nvPr/>
        </p:nvPicPr>
        <p:blipFill>
          <a:blip r:embed="rId1"/>
          <a:stretch/>
        </p:blipFill>
        <p:spPr>
          <a:xfrm>
            <a:off x="784080" y="1989000"/>
            <a:ext cx="75758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-12600" y="264312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rimest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Arial"/>
              </a:rPr>
              <a:t>Abril – Junio 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6 Rectángulo"/>
          <p:cNvSpPr/>
          <p:nvPr/>
        </p:nvSpPr>
        <p:spPr>
          <a:xfrm>
            <a:off x="3105000" y="3971880"/>
            <a:ext cx="5643720" cy="20808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8" name="1 Imagen" descr=""/>
          <p:cNvPicPr/>
          <p:nvPr/>
        </p:nvPicPr>
        <p:blipFill>
          <a:blip r:embed="rId1"/>
          <a:stretch/>
        </p:blipFill>
        <p:spPr>
          <a:xfrm>
            <a:off x="3187800" y="260280"/>
            <a:ext cx="5560920" cy="58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Text Box 3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 Box 3"/>
          <p:cNvSpPr/>
          <p:nvPr/>
        </p:nvSpPr>
        <p:spPr>
          <a:xfrm>
            <a:off x="1187280" y="736560"/>
            <a:ext cx="676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Santa Mar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Abril – Junio (2009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2" name="1 Imagen" descr=""/>
          <p:cNvPicPr/>
          <p:nvPr/>
        </p:nvPicPr>
        <p:blipFill>
          <a:blip r:embed="rId1"/>
          <a:stretch/>
        </p:blipFill>
        <p:spPr>
          <a:xfrm>
            <a:off x="1476360" y="1854360"/>
            <a:ext cx="6191280" cy="3554280"/>
          </a:xfrm>
          <a:prstGeom prst="rect">
            <a:avLst/>
          </a:prstGeom>
          <a:ln w="0">
            <a:noFill/>
          </a:ln>
        </p:spPr>
      </p:pic>
      <p:sp>
        <p:nvSpPr>
          <p:cNvPr id="1273" name="5 CuadroTexto"/>
          <p:cNvSpPr/>
          <p:nvPr/>
        </p:nvSpPr>
        <p:spPr>
          <a:xfrm>
            <a:off x="2107800" y="54752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Text Box 3"/>
          <p:cNvSpPr/>
          <p:nvPr/>
        </p:nvSpPr>
        <p:spPr>
          <a:xfrm>
            <a:off x="992160" y="54936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Santa Mar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rimestres móviles 2011 - 201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5 CuadroTexto"/>
          <p:cNvSpPr/>
          <p:nvPr/>
        </p:nvSpPr>
        <p:spPr>
          <a:xfrm>
            <a:off x="1553760" y="5732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6" name="1 Imagen" descr=""/>
          <p:cNvPicPr/>
          <p:nvPr/>
        </p:nvPicPr>
        <p:blipFill>
          <a:blip r:embed="rId1"/>
          <a:stretch/>
        </p:blipFill>
        <p:spPr>
          <a:xfrm>
            <a:off x="1258920" y="1676520"/>
            <a:ext cx="6769080" cy="39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4"/>
          <p:cNvSpPr/>
          <p:nvPr/>
        </p:nvSpPr>
        <p:spPr>
          <a:xfrm>
            <a:off x="2050920" y="549360"/>
            <a:ext cx="48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Santa Mart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Abril – Junio (2014 – 2015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8" name="1 Imagen" descr=""/>
          <p:cNvPicPr/>
          <p:nvPr/>
        </p:nvPicPr>
        <p:blipFill>
          <a:blip r:embed="rId1"/>
          <a:stretch/>
        </p:blipFill>
        <p:spPr>
          <a:xfrm>
            <a:off x="469800" y="2276640"/>
            <a:ext cx="82058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0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1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5:55:17Z</dcterms:created>
  <dc:creator>lcastanedap</dc:creator>
  <dc:description/>
  <dc:language>en-US</dc:language>
  <cp:lastModifiedBy>Oscar Eduardo Reyes Nieto</cp:lastModifiedBy>
  <cp:lastPrinted>2015-02-02T21:20:43Z</cp:lastPrinted>
  <dcterms:modified xsi:type="dcterms:W3CDTF">2015-08-03T14:18:10Z</dcterms:modified>
  <cp:revision>170</cp:revision>
  <dc:subject/>
  <dc:title>Diapositiva 1</dc:title>
</cp:coreProperties>
</file>