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AA24-59DC-4B1A-A5E3-1D6C07D69CDD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759-EF4F-46C8-8584-083D7B7D7DB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7819-0A99-4709-BA9E-9C7B09891DD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B0D4-2C22-4047-BC0F-DBEB158102D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A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1407-A3A1-44DD-AFF6-07A48286437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FCFC-1781-43AB-91F6-90378378C99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D4B-87B6-41B1-BBA0-C66AAC78765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9E77-9E67-44A6-B911-2771F0B39E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2FD1-B6BD-4CCF-9947-CC6F4D610D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849A-4FD6-43AE-8084-78A0C88FEBD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B4B6-F404-4FCB-8A75-936742B8D2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BD05-0F86-4AAB-8ED8-D432B854F8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E17E-E78E-4A03-B6B3-C073FC3549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30E-1010-4630-86E1-0D5775E702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E01-6AE3-4D97-877E-4A25318473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BEB7-50EA-443D-8A6B-EE761E621A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10AC8-00A3-4BFC-8E6A-D03F759DB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A26D0-D0EA-46D3-A065-26BAF56944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DEDD7-23AB-4E39-843C-3BF869F479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3DC0B-B901-4965-95DF-5184FA70D9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58666-F465-4BDC-9A2E-691A40C1B7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217B2-AEBC-4BF8-BE13-88E778FF2A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9E10E-E51C-4ED9-8B0F-457AE61476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0F413-49EB-471F-AD7F-7D13F3835B0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B5FA7-DAA9-4ABA-9181-E34CEFAC66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6488D-F974-4618-A0E0-8BB81CEEE4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9543E-10DE-4B62-AD7A-3F9CF2CA9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3415C-04D0-4B32-9968-2BC79819D2B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3A023-9DFF-4A20-9FE3-35E4F3218E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2DEA9-0FCE-4745-B2E2-60009341EC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D9CAC-F0F4-4B60-8AA2-C7B715AA3AE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EE662-4225-462B-A6EF-7C0BCCA289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35091-1787-4D17-BB0E-6C596B1179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093E0-F742-40F0-9021-319FEFDA45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07CB1-F6EF-4A04-A082-25775CFF7D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97B53-C7BA-4426-9F40-231C5892F9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8D15E-3B63-47E3-911F-3078949B1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3A88-B260-42A1-ADF7-2A9123591BD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78FB3-1657-43ED-BA2B-7B64F497A1D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3BA77-88B4-408A-BBBA-9D68335E0F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32FFF-C2C6-4E6E-8EC1-6A5CC2A9E0E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9F12-6CD5-4A0B-A72F-751AE09B4D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ED18-AFBB-4662-A2CE-456D92302C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6906-D298-4C71-80AA-7523703DB5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16E4-4AC5-4405-9D47-38ABCE0FC8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4BFC-527D-42EF-AB39-4444968109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F633-BA98-44E4-9BC8-2564DB6A60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C336-17DE-4610-A5A3-13AA3A38CE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1029-8341-43F7-A394-98145386015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347C-541F-41D2-BFD8-54C3E34932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FD63-3245-41ED-B226-4F16C0CA09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52A7-211F-4558-B268-964E4EBF63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C28D-9CA1-472F-8BF0-5F2E19F649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8D85-0E0D-4411-9F53-04823F219E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260AD-2BAE-4CC9-8C57-66C14DBCF9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BC799-CA63-4C10-93ED-D38B781F05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48EE-3350-48A2-9769-1592B2009E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A46B8-6D4A-423F-9A43-00D4568551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677A9-1301-4CA7-B51D-6E6D61BA7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88D5-7A76-4BCA-9143-8465F45D1AC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08AEB-A457-4016-BB8E-A560A1757E2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983E4-DACF-422E-B6F3-636451ED72E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C67C2-3DC2-4E17-AFDC-79258E2FC2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A18CC-0FB9-44A1-A3AE-FEA3A9339B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278D1-D4D8-488B-8F70-0CEADFC9499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62755-64EC-4D69-A0F1-6EFB64DE5B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B138B-21E1-4EE5-99AB-D6236213C2A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9D3E6-EEF9-4C6F-A207-03D722BB82F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C082F-9913-49E3-96DC-5F9AEE4254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A2C31-5EE7-4E30-878A-7B60CC6C7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B1A2-72C8-4617-86A4-AF146304485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136E4-5942-4603-829B-1F0A4E5CC7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6797A-6316-4577-9C3B-55F7241E8A1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973B0-0439-489F-8833-9D30EB6769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F2E94-A54E-4B66-A783-DF7EC1F1914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DA275-D286-4F22-A289-6EC8F005CC5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8E812-AF3B-4693-A348-10488AA0A21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B501A-1388-42DA-A8B6-8814A2DF6F0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B7BCA-AEC6-4D1E-B116-ECE3785D2E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DF1BC-EE45-4A56-858A-A23E03EFF8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F0D6-379D-416E-8AA1-C069BE324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4C8D-A396-4A2A-85E3-BE1801FE52E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FAF9-78BC-4B53-B8C5-E4FCA2C9422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0C76-D031-4578-9CC5-858DC93DF2C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8308-D3CB-4DAD-94B6-99AB0361F7F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B9F9-5BCD-4C03-958A-8E431C6F46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141E-8AF5-4B30-9889-D6EB3C17971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8A55-9300-4B84-A84A-8D5FBF8990F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F669-E2C1-435F-BFBF-87F61EEEECD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E4265-5D12-4E53-A01F-2A43613C00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115B-C341-4DB8-82A0-BA8426988D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E442-F50C-4F9A-876F-5D39386013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3023-A23E-46F9-AD3E-16E48B73EAB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0962-6A48-4ED2-9947-5C40EA4C43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3377F5-287E-4A96-8D17-60B83A431D9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611F0-09F9-4BCF-9CA4-D0808403C83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1BC34-4C14-4347-8FE6-932E248ED71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40C64-F299-4F3C-A508-4A399756406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715E5-0DE5-4997-A1F1-E7896769138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D766C-E83E-482E-A142-FD74FE05CA0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11C05-8A15-460E-A5C5-4B1191E65BD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47AC6-7BD5-443D-A479-80DE3F0803F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0D2FF-CEC6-47F8-9A1D-0C8DFE9331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E054-A581-4AD0-9B75-1865718D23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628C8A-F3A9-40CE-88F7-9D215D95152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10021-5DCB-4BD8-99EE-B878A4CA42D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0ACC49-1D41-41F7-9656-20CD507C450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7964B-C283-4FA3-AD04-01357581879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F81A4-8153-4F81-9D4A-4A943B66B04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568AA-F687-4D62-8C79-77539D324A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83000-DB8F-4431-B649-C41F2522841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06447-BAC0-4C73-9124-1E0282CE616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EDC6D-0EC1-4D7D-A5F2-69C96994AB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A6E1D-30A1-4930-AEC5-A985DBF49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4C45-DD4A-4485-8D2B-F71BF2E9192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9EA40-1042-4ABD-86EB-AB8638E2D7E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1C2CC-24EF-4613-99F8-734A40A28A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5757C-0264-41EF-AE0C-99AB6B9961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CD49F-3C9E-403E-9E91-E035FCBACA0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EACA8-CB46-4B08-8707-275FACCB6B3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75CD0-D6C0-4F43-A727-65349A1E08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C066-C86E-452B-99AD-04A54CD7D3C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21F8-1828-47EB-A661-0FD4569F4CB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512D-00D3-4DC5-9559-73B54CCBB5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09A6-E6C9-4674-A464-E05419C59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9A9C-AF9B-4438-A4CD-C9BDA7C9EB9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29CC-31F6-4DF4-9995-B4BF00D4A40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747B-5B0E-48A4-8038-9D976424DF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FE5D-0E6B-4625-9317-CEF7AAA5D73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85AB-B5AF-4C3D-813E-75DAD1D3FD1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6B7F-F75D-4340-B3E6-0F4BA67311D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E203-C114-46E8-976A-8BBF4308E4B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3285-88E1-49E1-BA96-C5C0BE562C0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10A2F-AFD0-4524-B691-A4F991CBA16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5A52D-2C64-47A2-AE4A-85F92881AB4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0B6B1-8016-401C-A952-2DDABF043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0D1C-2189-4C6E-AEF3-FAC08E229F1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FC2946-876F-4FCB-89AF-A0D03DFD17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57D7F-CC07-4352-AF7E-20710DE6F46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90FAA-C042-49A5-BB3A-9AF852DD47F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6A5A6-5EB8-4AD8-96E7-5B27DDCE3F1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FE41A-7F6B-416A-8180-0734E2E6BD2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03783-94CF-44CF-A8ED-56CA14DCAC7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BFA901-6B5F-42F9-950C-1D532A335F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FC244-0D3F-40A3-90B3-4E7F0C1EDA1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CF68A-4359-4E62-A421-1A72A647671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70BB9-773A-40B0-97A8-50C86CEC6B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E078-1432-4EA3-8325-D1BDFE5974C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A05C5-3AA1-4BDE-82E9-96697FB4D7E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725CA-FF90-4D1C-891F-BB5FBC1C37D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68AE7-BF30-4AB9-A98A-F88E718D985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1A7A6-8656-4B04-AF8E-B4534C2252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DA1DA-EF20-4926-9BFE-72FCBC6B9ED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CCCDB-13FF-413C-95D7-E017DD67B10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D6887-A599-4923-9B9C-8C01EA28E6F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139B3-8B08-4777-A7F0-49D514FBDF9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C7CAE-390A-4440-B4B2-AB2124A808D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FC29E-8D82-4281-8874-82155B5CD9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F36F-9492-46AE-A3C7-E678468C692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8280C-6A9A-4F7D-B992-C6A301763B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DDA4-7F71-4EB0-BB8B-ED7F9613A3B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BA65-3BD1-4615-A421-BFF3066932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E5B7-2129-4FF2-85A5-A8B270A42B3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C41C-0FDC-4366-8DF0-1A11022C29E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50F6-45B0-4206-B8F4-2C546E421D5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D258-D7E4-476A-AE13-51582DF653B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F2CD-CA9F-4FC0-80ED-315ADCA0193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BE95-54F8-4F18-B65F-72310CC0887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06E93-FE27-4F5F-8958-302A7842A1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DF58-A01E-44FF-BAB7-3481C0704DB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202F-1B29-46AB-ABDB-0667AC123A9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0EDB-B445-41E1-9349-CC4D325AB4F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6182A2-F53B-44D9-B777-7829480318F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16692-A032-4C0C-A045-4672B7BF0D8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A65FE6-7286-4C24-B5F0-03944DD2852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D1829-01F2-44F1-ADCA-AB646B4EDF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B21AC-632A-41BF-9469-EDB59DFC534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309C2-3B90-4C4D-88D3-782946284A1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C886A1-7F93-45F3-9EE6-6E6D5ED408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7C789-C1FD-4326-AECE-1144677CDF7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FBEFA-B076-4062-9F1B-E40014CF9D9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4F1DA-8207-4446-9963-486D662BA7C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F8390-3315-4184-9060-20FE220C671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619C8-F6A8-4519-94FF-E3BA49DD207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DBB1C-34E2-4EBF-94B7-3D6477DD61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9CFA3-A366-4AED-9B78-346D1BC5A99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7D0B8-157E-4DE5-8739-A0F9DA0F48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5E3D0-FBD3-4CAC-BEDD-4D9A78D6ACB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70988-8A5A-4F25-8F90-28234BFF92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7F012-F338-4E33-8CF3-972945A0A8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9EC92-FCF4-4DC5-AADE-E5B6DA8B56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ACD60-6346-4CAF-BFA3-14AFB8736CA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BC02C-617A-4C3D-BDF9-286C8C66154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7E66E-F553-4383-8C10-811295314D8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96F03-575D-40A4-AA23-2D26E9D1C05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94EF2-8362-49FA-A472-79FD6BEC339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94F0-3D0C-4550-8241-EC278E0FDE6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D6BC-AFD6-40D2-AC47-37484A60BC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52174-1D31-4CA1-A545-41F8FD1CD7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7687-E1E5-4350-9050-50F9215C94D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8F541-DE22-4DC6-92A7-B0F465BC45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4F7DE-4DEC-4754-8DA5-8FCD3A58FA9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F3BF-6169-4463-8462-380B9D88676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3EA8-78CB-4187-89AD-D4EB3B48F57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1DE3-6ADB-4563-9D8B-D19DD11AE85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E774-5A38-415E-9026-FF2E1AEC7ED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80D2-7C1F-464D-99A9-D99684EEFE8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C11F-BE3D-4FE9-A00F-2A0F915544D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829A4-10F6-4349-B2D1-AC702D38E1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7F426-7194-44A9-A78D-DC50DE7E9CA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F0D82F-56B4-4D65-A2B6-6A23D1135AB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2AAFE-5357-4858-B131-4F4BEA1431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5F18FD-A360-46BD-9DAE-D2B9C6F8302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BEF8F6-E3CB-46AA-8963-45BA49FDCFD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369EE-C898-4352-8519-0A8D58D9655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18834-CBD0-4520-95EA-024EC26E28D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98647D-6469-42B5-8603-27E6174891F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0A1C0-994C-4875-AD18-C1C3303035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8F984-2C52-4ADA-A484-BAB40F88F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3405D-94E7-4B3A-B512-5C91E62C163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29615-539A-4E1E-9F2F-210B98C2327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2E4E8-2C12-48B9-AC5B-2B3FE2C238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F5179-400A-416E-87FE-DE9FBF4747C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308D9-C57E-412D-8115-2CDFF40DB9C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17A6D-EB11-4960-B52D-2B7F3F5E888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6A865-1B0D-4192-8545-8D104408912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7C081-9FE0-4D2A-9898-0B6A55446D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E94AD-A678-44CB-B05C-A685A8D0638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681B6-96B5-46EC-A1A9-7C6C7453E0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C2895-9CA9-4309-8564-80E10CD9607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89964-3CCE-4AAE-9650-E54D00BADA7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FF1FF-B8BD-4A4E-9716-A3C3837DD6E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7F04-C781-4DEA-94C1-4387DBA8954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637E-B04E-4B36-A62F-AA7A4EB5556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3CC32-E369-47C5-9129-AED83639D65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29332-77BD-4022-B82A-43B647F49CD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B92D-DC34-4885-90A6-7C421F95749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E1E7-CB2C-44A1-A8A6-FBFC45486F6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5D8B6-316A-406D-9E4C-EDF1AE8F2C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0F3C-7E7F-41CD-AF93-D25FFC38D90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7A04-EA76-4076-AF1F-D2D7DAD1064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A7B3-46F8-4B36-811B-8272387DE20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E192E-01C3-43AF-8F79-9F724652DB3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2550-B28F-44A8-A5BF-504270299A7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AB61-596D-4328-A73F-78E6B68C5A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FBC9-3039-48E2-A202-4BC06852ED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9C77-7B77-4893-A7B8-51F50566E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21C3-7D2A-4300-9F1E-CA8F062330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06B5-C65F-46CE-B89D-E777FBAE45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492E-E0E1-4B25-AB41-4988AEE016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35C0-2B94-4CD5-85CD-57266F3E7F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6DF6-3F52-4682-92FC-37664EF09D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4CF1-C5A4-47B3-A49A-F7BD7952CE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AC71-4F13-4BA3-BC83-022037FEE3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B86F-7428-4139-B63F-ACBDB99FDE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9587-82B2-467A-8FE0-39BD5C3969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10E-7135-4869-B0DE-C43822A24F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363-0FB1-45E5-885A-96DC03925D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D1E-FC91-4E62-BB99-22F0F7B9C6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A88-814F-47DB-B8E5-D99CD39E0E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145-0FB0-4E80-AF08-57E2F3ED38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80C-A321-4F97-9192-9C9984DFA7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A49-86B3-4C2F-989D-20E05C727F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31C-3C6B-474C-91A2-E3B1B78D1E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01E-FD00-4A02-8354-DBA24E351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BFD-C6A1-4A25-A120-F7E3B5DF68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740-0190-45FB-B45F-F2CBD09F05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27C-BEAE-4488-A8D6-2B093943A9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88E21-E99D-44C3-8078-C882928EEE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1A06-F691-4E2D-926E-D416AAAD63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38840-8773-4722-933E-A29FC96FE4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94736-78BF-4382-9467-F45F0BD7F0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F42A0-730A-4468-BC63-751F516EFA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5A6FD-4785-4E21-AC0F-BE92136AB7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20688-0D54-4966-9D29-CFAC7C945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0D2B4-F8E2-40FF-BFD0-7747A1887C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ACE29-E758-433F-9941-709C4308BA4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374F5-4347-4C9B-944E-0069F9B4A9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D54DD-1B68-4BA6-A80D-2530ED096C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1E74F-D18B-43B2-970D-9AFCFDB462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F73A-E444-4BFD-A5D5-5C1DF5CC99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D4AFD-3236-4670-835B-D0DC3B6755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4FF7E-8CE8-402E-8D70-ECE23ACCA1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3647-05C4-4B8F-B996-E51587F05F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5F14-A249-4116-9B86-F8ACD2C04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FF73F-43D7-402B-AAF2-EAA0BDF164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2EC58-146E-4B60-87C0-D8AED486308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5A17-0A50-44FB-9162-3626BC4FE5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9369-E1AA-4A6E-BD42-BB33EFC45A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40F4-E5DC-46DC-B77B-1DE3DF3547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12044-DC6A-47F1-8CE5-0697CC61D6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1A454-8B41-4E1B-8EDD-05485955FE7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E8F-9AC3-470D-B054-308BFBB562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9F0-805D-4656-A1E0-529C07A5EB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9817-5192-44DD-B302-31DE7F6BC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5DE-3FFF-4529-8FB8-6EE959313F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A8D-9436-4826-BC17-FB59735CC29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B99-4D4B-4571-9CBC-92851A08A50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41EA-7CB0-4B83-948A-7787A0EFA0E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C2A-B594-4A47-B78F-61DC7AD4CDF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CD9C-C682-41B9-8456-7ADCB514349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6B4E-BD0F-4CE3-BB0D-183FB4BC1AA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EA1-74E5-4735-AEBF-4D215D1FD9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285-C21C-4103-AC83-D77D26E5622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7CEE-84B9-4C68-B94C-B9FF270BA37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8FD-235B-4BF3-8AC5-23AF94210882}" type="slidenum">
              <a:rPr b="0" lang="es-CO" sz="2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891-D672-4561-8F58-DA5DCEF3DEE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4A16-8445-4CFF-B8B4-4C90F5E477B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AB1-03E4-49AC-8A6A-8D5B907745E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AD5-2E1C-4DEE-8913-C4EF4812352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5C81-0120-45EF-9B41-B9DA5A33830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CC02-1620-4766-A46B-2DF3CB5B287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D0B1-C972-443F-A7FC-5EB1C3A425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11B-59CB-4E12-A188-C8A957A0AE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FA9-CB53-47E9-BAD3-C44ABCBA82B1}" type="slidenum">
              <a:rPr b="0" lang="es-CO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E6F8-EABF-43CA-B194-F9522F07084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3FA-973D-4EC6-9AF8-A756C09AD81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4E3-D6B7-43D5-9381-D687EF0AEDE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EEA-0F45-462A-8A3F-895F3F856C6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 Andr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4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3419640" y="37465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nero - junio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1494000" y="325440"/>
            <a:ext cx="68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5 CuadroTexto"/>
          <p:cNvSpPr/>
          <p:nvPr/>
        </p:nvSpPr>
        <p:spPr>
          <a:xfrm>
            <a:off x="691920" y="4917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663480" y="5167440"/>
            <a:ext cx="764712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Otro incluye patrón empleador,  empleado doméstico, trabajador sin remuneración incluye a los trabajadores familiares sin remuneración y a los trabajadores sin remuneración en empresas de otros hogares y ot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1 Imagen" descr=""/>
          <p:cNvPicPr/>
          <p:nvPr/>
        </p:nvPicPr>
        <p:blipFill>
          <a:blip r:embed="rId1"/>
          <a:stretch/>
        </p:blipFill>
        <p:spPr>
          <a:xfrm>
            <a:off x="1001880" y="1241280"/>
            <a:ext cx="714024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539720" y="3254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5 CuadroTexto"/>
          <p:cNvSpPr/>
          <p:nvPr/>
        </p:nvSpPr>
        <p:spPr>
          <a:xfrm>
            <a:off x="691200" y="4878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684360" y="5157720"/>
            <a:ext cx="82785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2: Otro incluye  patrón empleador,  empleado doméstico, trabajador sin remuneración incluye a los trabajadores familiares sin remuneración y a los trabajadores sin remuneración en empresas de otros hogares y ot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1089000" y="1168560"/>
            <a:ext cx="6950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9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nero - junio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1120680" y="32544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685800" y="543384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5 CuadroTexto"/>
          <p:cNvSpPr/>
          <p:nvPr/>
        </p:nvSpPr>
        <p:spPr>
          <a:xfrm>
            <a:off x="69192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47640" y="1042920"/>
            <a:ext cx="62373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Enero - junio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250920" y="2254320"/>
            <a:ext cx="259236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Enero - junio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6 Rectángulo"/>
          <p:cNvSpPr/>
          <p:nvPr/>
        </p:nvSpPr>
        <p:spPr>
          <a:xfrm>
            <a:off x="2879640" y="5560920"/>
            <a:ext cx="6156360" cy="200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6118200" cy="5915160"/>
          </a:xfrm>
          <a:prstGeom prst="rect">
            <a:avLst/>
          </a:prstGeom>
          <a:ln w="0">
            <a:noFill/>
          </a:ln>
        </p:spPr>
      </p:pic>
      <p:sp>
        <p:nvSpPr>
          <p:cNvPr id="1266" name="2 CuadroTexto"/>
          <p:cNvSpPr/>
          <p:nvPr/>
        </p:nvSpPr>
        <p:spPr>
          <a:xfrm>
            <a:off x="3581280" y="6195960"/>
            <a:ext cx="53690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4 CuadroTexto"/>
          <p:cNvSpPr/>
          <p:nvPr/>
        </p:nvSpPr>
        <p:spPr>
          <a:xfrm>
            <a:off x="3606840" y="6434280"/>
            <a:ext cx="429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enero - junio 201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3"/>
          <p:cNvSpPr/>
          <p:nvPr/>
        </p:nvSpPr>
        <p:spPr>
          <a:xfrm>
            <a:off x="1258920" y="620640"/>
            <a:ext cx="67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nero – junio  (2013 -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9 CuadroTexto"/>
          <p:cNvSpPr/>
          <p:nvPr/>
        </p:nvSpPr>
        <p:spPr>
          <a:xfrm>
            <a:off x="1553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1606680" y="1666800"/>
            <a:ext cx="6073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1198440" y="836640"/>
            <a:ext cx="7380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  (2013 – 2015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87152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77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nero - junio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3"/>
          <p:cNvSpPr/>
          <p:nvPr/>
        </p:nvSpPr>
        <p:spPr>
          <a:xfrm>
            <a:off x="1133640" y="325440"/>
            <a:ext cx="68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1133640" y="5084640"/>
            <a:ext cx="732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5 CuadroTexto"/>
          <p:cNvSpPr/>
          <p:nvPr/>
        </p:nvSpPr>
        <p:spPr>
          <a:xfrm>
            <a:off x="1139760" y="4848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1 Imagen" descr=""/>
          <p:cNvPicPr/>
          <p:nvPr/>
        </p:nvPicPr>
        <p:blipFill>
          <a:blip r:embed="rId1"/>
          <a:stretch/>
        </p:blipFill>
        <p:spPr>
          <a:xfrm>
            <a:off x="1133640" y="1096920"/>
            <a:ext cx="7153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1763640" y="3254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691200" y="5235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685800" y="5495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1042920" y="1041480"/>
            <a:ext cx="66978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0:52:06Z</dcterms:created>
  <dc:creator>mcpuellog</dc:creator>
  <dc:description/>
  <dc:language>en-US</dc:language>
  <cp:lastModifiedBy>Andres Francisco Mejia Bocanegra</cp:lastModifiedBy>
  <cp:lastPrinted>2015-02-03T15:38:35Z</cp:lastPrinted>
  <dcterms:modified xsi:type="dcterms:W3CDTF">2015-08-19T15:11:13Z</dcterms:modified>
  <cp:revision>308</cp:revision>
  <dc:subject/>
  <dc:title>Diapositiva 1</dc:title>
</cp:coreProperties>
</file>