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887B-28CA-418A-AB7E-87BC2A99AC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CE5E-6BAD-487B-9B8B-1FDBB3222CA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45F-E7CF-4D08-B6BF-DADABDA397A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B11-7317-4FA2-B28F-0D0BBFEF84E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B1E-E17F-48F5-806F-CA9EE6B1FC5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C71-A1B2-4C0E-9E6B-85F2B1F1FB4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4FC-2DDF-46DA-80C0-EBB6890683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4012-E82A-4183-84D7-0896F41C34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E8F-65D7-40E0-9250-6228387F14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CDFC-03D7-423C-88A3-CD9C5ED803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FAA-1CB2-42E2-A32A-8E682DBF01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43BE-668D-4D8F-B605-9AE5125BE8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A946-930E-4C2B-9917-67BF445E16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FEA-C48C-4CE6-833D-E669119416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9221-FE61-4672-AC12-DB59D573610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EFE38-280D-41B9-83A5-A1420B7D1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9E3D9-EACB-45DD-BA0B-8395C64FF2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3D919-BABF-4AC4-9AFA-1849082488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30C8E-26F5-4FB5-8E52-86B57968BA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98A0E-97BA-4729-B97A-CE203ACA601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7B381-F9AE-46B5-AA43-2C36A7061A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4D3AF-A2B3-459F-BE77-6E7ABB901A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FE076-3C08-4B75-BA97-E29AD564A8E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4553D-71EB-443B-8337-28E8147E91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4EC46-9C90-4325-BC16-5065B9B74D4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BA9D9-43A9-42E4-9C8C-51CA31538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42624-2B3F-4403-B1B2-3D146F82CCF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6D435-D4DC-443F-8BB9-CAE06AD6431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40572-C422-41C4-B925-300391E360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8A654-2688-48DA-B81A-5A23724DC2F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6FAD7-2801-4BFA-84B1-3708B039770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703D8-3A66-4990-9E08-94F475A13C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8C09A-441F-49DE-AE66-65D7D1E544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3313C-9FB9-4980-BFA1-860F128F66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15388-CF81-4336-A1EE-1E78C823E42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B20EF-8962-4309-8319-0EA49B0FC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B3FA-C8BA-4214-A965-5A0CD313A66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A1706-8104-4E94-93BD-AB0B6B790E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4C32A-110D-4595-8348-912983FE1D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08199-DDE6-4D89-A401-EDCE9F4E17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DDD6-B6D8-4E63-B88D-52F42D07F1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4DC0-D345-48D6-8B12-BDDB9A155C0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B271-EC4B-4842-AD34-4EB476108F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0FCB-1C17-4A4A-8EBF-FC6AFA907CA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9E19-DC39-447E-85DB-8C4127A69A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5070-60E8-4334-84EE-F92B8E60F0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EF67-7635-409F-99AB-0B0BB16C86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1257-DDF6-47B3-A9FE-F428E5FDD28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C564-3C49-4313-9D78-A2B59CDE39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00F3-4D3B-4563-97C8-67A673BE9C1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6D64-44EF-44B0-8E34-95A2E7324D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22A0-59A2-48DD-9AB4-47D18CB516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DD52-EEF6-43A6-A156-0257E54DCFF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34E0A-2F45-4890-BFD1-81A8939647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14F25-FF6C-4E16-8FD3-DB0D8F81CB5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697EB-9A78-41A5-A81B-464C3AA28C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B161F-96DD-4FEF-8B46-BAE99895C4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27C19-A1C9-44A6-A4A6-F903DFDBAD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11D7-CC9A-4FD0-A2F3-9901E3610B2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D9F04-0E25-4C5F-AFC0-5023F2A8544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0F2B6-09B5-4530-9F5F-977A56F7A02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32D0F-ACE0-4EA9-A32F-883D1EBB4E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1122F-28EA-4E6D-8EB0-6E3FD68935C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A0345-DA79-4982-A0A5-4A20D0754E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412B4-846A-4303-9677-EA71AAC90B7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D2D53-C118-4055-A77A-BD7E217AFC8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DB10D-2EF1-4EDF-933D-39EEF700084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8FCC1-2DD6-4054-AC91-283103E57FD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B7532-CD06-456C-A572-F0E15358DA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CFFD-2503-49F5-AC6B-355356AC7FD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65623-35F8-4239-ACE2-08ED661E451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59525-9ECE-4B80-8D72-EC8B89D4CD1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DE677-FE14-49F2-984C-5F94C6B457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78AE6-B084-442B-BCD6-0559418CC7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89E29-522B-4089-A37F-39858BDD0D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259BC-2C27-4195-A328-0FAA3E14332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B4E7F-488B-4512-8DDF-DB091808304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64E03-F632-4E4D-9C80-B941D0FBF93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B5D9F-227D-47E9-A8FD-210334A93D6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E63E-D579-49D8-ABB8-DC27388756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36C6-43CA-4691-BDCF-C8C081E5FE0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C570-1C72-4251-9162-1B81ED26885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9610-537D-4EF7-8904-161EBA70647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6B1D-B25E-4813-B55B-37B93275D57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BDB7-0A87-46E4-B4A2-39319FE2B9B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7599-F8FF-4F19-87E3-CE86654AADF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D390-EAA3-4BAC-9BAA-2B013F1DE3C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A031-0276-4E76-B113-50764EC5D3A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5269-7BB7-4BC7-BF57-615D5F7E7C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F772-4915-426C-B85E-011F7A6E74F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94C3-79DB-402F-B5DC-14AAD69260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C0DD-7691-4D89-8DD3-F8782CE249B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1323-4A1E-4B7C-8330-E032F13594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1D501-1324-46F0-BB6A-F20843F2C48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9BF56-7241-47F3-8CE7-E0194069A73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8E7F9-7D5A-4F57-BE69-042AF92F942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17BEE-ED0D-4E08-8B24-D568D893EBF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ABA67F-892F-41D6-A81F-5C5A3AE1D3B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4FAE4A-8BE8-4D8B-9183-54800A7B3B7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8BFF0-D83C-4DE6-8305-6F7AD9B78D6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3FCD6-1BB5-4706-AC8F-26E2C0FA9B7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6DA63-3277-402D-A215-1D4FB2F112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F7EF-1863-40AE-99DC-9D97540833E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0CBF8-42AC-4F00-9E06-8466769F16F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827F6C-DA1A-4066-8D64-A51232B437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28AEB-0DA5-4248-9802-1E318F94612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02184-CC89-4A83-9A7E-6A94BA0AB09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9249D-B35E-4D7C-9D02-4AFA65293E9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27B62-7D12-446A-BDF4-AEF29B1634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7CB0B-3B9F-4F1A-9662-36230DD44B5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75DDD-315F-4877-B679-6AF40C52100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DF297-5CED-4770-9D90-A8656FFD911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B9F1D-5064-4DA2-9FFD-60AF2D51F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A60F-56C2-45C7-AD81-9301A69E441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AEFC2-2471-424D-9DE5-87D3858D443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F20C9-91C0-4B96-B457-B1379450BD3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5FA34-3CBA-4E17-9C3B-C3801EDD5F6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6E361-3832-4C85-9058-D087F710CC3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7F09A-4E64-4F1D-BC2D-EB0245FB575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DB3B-0463-42A7-B2FA-8C870F307AD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2A7F6-417A-4F01-B9B3-24252E92C66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21426-6E12-45CE-B4E6-DD07E9F64FD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85DA-13EC-45A5-8348-2CEF96144BA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5957-0E16-423B-9BD4-889A189D4F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69AD-A280-4B8E-934A-FD3F62D2B8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CC7AC-A885-4580-AA44-988B401EA0F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0410E-71E5-403A-B4E7-8619E74F521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7ACA-6B91-4303-8BC3-575AB8672DC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FCB2-F3E5-42C2-BA37-9B85FAD1A62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C022-02A6-4F19-9BED-4B1A8376711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E93D-199E-4439-901D-0110B8C3C25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A9AA-958E-4A4A-BFED-BBBCF71BA69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4AA884-608A-490E-ABFD-9BA49D492DA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6D8C2A-76DF-458D-9977-4AFC308047A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26849-029B-437A-87F3-ECF9B4ABCE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7D1A-9B99-4B7D-BA09-F4729292D2D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FAFAB0-FD87-46ED-BD6A-F725A8ABB1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BA6448-E141-43D0-BA6F-978B9CACA28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4B817-57BA-4310-9F8D-1E2085C13AA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70151-0D72-449F-9B07-66B5651F4EA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4F99B-D18A-47E9-9212-B9AB75431A7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0A1166-211C-42D7-8BDE-6BDA04274B6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76EE8-0573-4BA9-9AAF-8450706E011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83A68-1D82-4CBF-B44F-30BFBA0979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FE3659-7D1D-41AC-BE82-89FFE82D5AF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8A391-E3F4-40FC-A1E5-FA199AB0A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F65E-767A-4DD3-A158-C8298596580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65459-7C6E-42C8-8544-53278E6F814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3807C-E0FC-4716-8F68-5470727AD2E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4BE17-D069-472B-A856-F600A15B73F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FDCF3-5F01-4831-8649-5489F1689BF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DD05B-1638-4854-AF2C-DC898946939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6F1CD-AE4E-48E7-B4E9-EFB0BA6D663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675FD-3820-4C43-B49E-54A8411AF8E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0B084-FF6F-4C25-AF3E-DD16DCBEE62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68C68-046B-4076-A174-24127A862CE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981E4-75F1-48CA-9B9B-72C6CC3E9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11EF-7EC9-4F5B-9D6B-816045660A1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0002A-9D11-4CE1-A19F-1C7A8DB2B87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4EBA-2906-4E3F-9B6F-AF9A038595D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8CA3-B498-41E8-9D2A-AE9D7C6F56D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37E3-8A39-473A-BA7B-8E3496F66F9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3FD4-7A3E-4506-AB5F-3C12655453D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EAC6-54C4-4EA3-B8A3-B9AF7CDCC0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A6202-BE12-4460-9B4A-DF6CF2C6BFA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EDAF-DF42-410F-A6BA-B69BFAC5548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C5505-4149-4C31-8627-5AE16002F7D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45CB-4BF3-4AB1-ABA0-ED6BC03466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92E2C-648A-4A14-9296-38E47525174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FAC97-842C-403E-B857-6D30FD5B92A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9340-EFDA-4F82-AA85-89D3FA90E23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D41762-D3DA-4C9A-9DA9-3252BF936E0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329281-298A-448F-B100-168AD2620E4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6327BE-39BD-4AF3-968A-39A0622CDDD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13B3CE-0BE4-4DC7-B1A4-42F0AE64439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1482DE-A6BD-466B-807A-B1D7958CBB3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9084E-A739-41AE-924B-21ACC6F0CEC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E732D1-BC54-4010-B480-FDCDC161AB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907C6-A904-49C9-B895-AC1CFFA1B91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F755E-17D4-4178-BB4C-E81A13A74A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6222D-7DB1-47F8-9570-7F6CA2EB7E8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49F7D3-D544-4273-B2CE-E17BEFC342B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EE346-8579-4502-8550-DD767BC1B46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49EC5-B532-4645-AC8E-6108B5A777B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82C20-B398-49FC-B03A-60E232A1091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7BCDC-ECEF-46CC-91D3-E86CABD94CC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9C157-75A1-4414-8BD6-E7935B535AF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31197-4101-4BD0-A882-52E611E4EC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105A4-82BE-4489-8F12-B75E416273B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B618B-87C8-4F26-B827-FFFC4556BEF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06B73-5E97-4449-B6AA-7BD363580D1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16241-C14E-47A3-B823-414F63C0472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1D85E-257E-4552-8A13-15942693370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3EA3D-624A-4ED7-8EA2-62B9ECE2967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780C6-85BD-4223-A4BA-F4AF3EF50FC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29C3C-FE31-4797-B89A-085E82AC00F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6DBF-9A11-4448-935A-7D44F70DD1E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2512-B2B8-464B-9601-C38002474D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FA5D5-C51B-4622-97EC-07E916660A6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C7D82-0357-4385-9D15-971C22EBB4C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5C43E-87E5-4938-8D9C-8F46EFF926D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9C0B-7D2D-4B3F-B654-A24D60940FD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BB933-A5B6-4B4E-A8EE-85C85C2B4F0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9615-79E0-4F00-94DD-500BE3631D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A111-C87F-404B-AACB-B3EEAF4B417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83EF9-450D-406F-96E3-D5DEB9D1DAE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890F-E958-44B9-8E78-4BAD6D6C0DD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1DD1A8-3CC1-430C-94C6-D5FFE17E71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2B9A8-7DE4-4A3A-A4A8-A05683313CA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ED67F6-8E74-4D38-9C31-CB92D22AB6F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DFCFF-2057-4B24-85B5-93FC9E1CCC3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C3C8B1-7D92-44A2-9625-73F17020726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E82505-8FD9-443E-BA3D-02ABFAA6BA3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DDD779-E680-4408-A72B-C5E6F3BA124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E44CB-32CC-4568-8AA1-114F172C2FA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C7AEB4-03B1-43EB-8A40-0BDB02C4A28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D70C94-57BE-46B0-A638-8E47BBB6353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D0567-C7BF-48DB-9A3C-CF750B71D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6609EC-1BE1-462E-9ABF-AAD6C88B46A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1BA20-AAFF-4A2B-B778-D35CF172E54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3484D-AFB9-4A22-9ABF-87CC2E94739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07D539-CEC2-4EA6-93C5-6F6428A591A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FEC7D-C1AF-44A2-91E9-E6991C024C0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07129-1BE8-4581-B8EC-CD11A05DA2D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DBD23-B7E1-4207-9231-975E890EB1A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65293-DEE9-4000-ABCA-FB1F54C400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AF8D5-B228-4D9E-93A4-8358BF56C45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3C6BF-9689-4402-A551-C97CF53A27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6C8B1-7724-4608-BBF7-D8A30950A1F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5A02A-4213-4115-95A4-B96B5D4C4FE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EE09B-25A2-4493-A57F-D5790DB4A95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E48A-D88A-4C20-B35B-E7AA91812CE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CE09C-7689-4A3C-B61B-C2848FF89F7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7644B-1E9E-4576-AF59-1AA0DFA274D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FE834-8121-4FFA-97A0-B4C4D9F1E13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B3CA-4866-426B-BE53-ABCF26593DC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14EF-E568-4A68-8116-944E84A8F0E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0AB0-3311-4EFD-8716-263BADD447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F7D0-9D45-489B-A532-7209B7D8989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60D99-25C5-44B4-8B3B-C04BADE80A2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37FC9-AA21-4748-AE6F-5607514241A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67102-1086-4B18-AFFF-3F9D8517A9E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32D5B-5EAF-4DF5-A965-DC285645A33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A694-0C4F-4F8B-9FB1-922532BCE5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1B46-8122-48E0-9203-8AD10E8384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558A-62C9-4214-B30F-22BA28244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D489-B765-4A6F-8131-A5DED152D9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3751-9B59-4DA5-B57F-36F15F68FD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3CFA-9C33-44A4-9BE6-BF56E67717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88B7-9947-49BD-8A53-C691E6FE00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28D5-5480-481E-82D7-D1F2CA4D76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0054-0C5F-452D-9722-47B08BBD82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47BD-C5B9-4A38-9E67-9B22CB8473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CB3B-38FC-4004-8AC4-078993BF32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8D3A-0C17-44B1-B522-3A43C825AD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BEB-93E1-4EC8-B0FB-31A27C426C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D78-73EC-48D3-8AAA-844DB0CEDB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9EE-EA51-471B-BD7D-7A9CD19AFF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0AE-6C11-45EF-BE9C-C6F27C5906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030-FC47-4D8F-9828-3062E990B6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601-276B-4422-AB9E-0215ADC5A7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BFA-9B0C-4ED8-B0B3-9EDE9C6B33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AE7-5420-4D24-AA44-23F58E890E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398-3E53-45E2-8B3E-84F8417EF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741-0F69-482F-BBC5-4A73B2DD414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658-00EC-4587-9FB1-2CC617BA6A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B79-93F6-4454-BA33-CB33D9D1F3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5CAFC-7A1D-48CA-A6E8-8C7C7E7AF6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BD31E-5584-49F6-BD9B-D0C73E78C8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F4CCD-CB29-4E02-9746-671F1E42A1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C9654-4AAD-4D2C-8DBE-6CEBA24647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7D207-5467-48ED-BC6B-EB9B578490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615B1-49F8-4075-BE40-740BD90B83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236CF-42DE-46FD-9C07-1649456A3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0EE6-9BAA-4CD2-847E-168ADA22C7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09B4F-64DD-4ABA-A509-C8D8CEF53C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D05EC-C4F9-4A77-B7C5-48F8132ABEE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C2832-4963-429F-B971-51A1F0D4AC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F48AC-D0F6-420D-AB9A-A0788A4AF8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1799C-2189-4EC7-9B8A-0C7F0367F67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AFA2F-10A2-4ED5-8C9E-E814732495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C70AC-D3F4-47BB-A433-98EE55A85A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0767-DB75-4237-AFD3-ED30D97CF3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8EDF-EE78-4BC0-B93E-570B8D834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2C85-C2F4-46FF-8960-2BA2327979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46E4-BB44-4A2B-BFEB-BB221572FE8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20F5E-CBFF-464E-95E9-403CCE70D3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C5466-CDA2-40AB-B186-3FC947D714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2423D-4CCB-4587-802F-0ECCEFD7C4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4045-BAC8-40CD-ABBF-F279C82EE1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6D20-6858-4D64-8B0E-97768D595F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37BB-0088-40B8-86B7-BDE4C90890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193-6A9C-4CD4-B267-12F5E40768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3337-EBE1-4228-8C61-F3A66B503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A242-841D-41F9-8517-D3D4D008FB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673-586D-4CDD-94E9-6FF464D8F3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31A-C84D-4EAF-97FC-AC5C56DB56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EC9-C133-483E-B71B-3A66A74A1D9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383-7EF7-4F71-ACAC-6BBC3A755B8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178-E075-4180-A51D-6BD79ADE190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CF4-7F3A-4CB1-B445-BB4432E6185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CB83-3070-4F81-BE63-C57ED64C2C3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A34-96CE-480D-8AB8-6C2AEC63529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C5F-7734-43DB-8AF6-752F6736F12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208-9060-4CC6-8D87-4E1D5FCA230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A816-4BAD-4A78-BE9D-24A678CE357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149-8D43-4079-A85E-9878CEDAE8D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33B-30B8-4A71-9E35-6E6BE0C0418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AC3C-E706-4A82-A314-6411AA2C8B4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DCE-D960-463A-BAA9-61E2DA17BEE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285-ABE3-4ED4-9B4B-E7BF267F826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2DF7-361D-4C00-8EB6-06C16AAF10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D9EB-8BDA-4361-A6D9-50A005F1CBC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B21-CEDE-4F28-AF54-9DBAC20F1B0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7CAE-3DE3-47FA-A28E-54A31D4F543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01A-9841-4C79-8C8D-7F0279AAF2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0B75-38CF-49D5-94DC-00309AB0853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5A2-0065-4683-B770-B14C8953628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970440"/>
            <a:ext cx="51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Cali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l área metropolitana de Cali incluye a Yumb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47628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22936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38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47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084320" y="1585800"/>
            <a:ext cx="7226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^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5056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758880" y="1614600"/>
            <a:ext cx="76248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69056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^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*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212480" y="4797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690480" y="1773360"/>
            <a:ext cx="77630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620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55880" y="5516640"/>
            <a:ext cx="80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9560" y="1628640"/>
            <a:ext cx="7113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54936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bril -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768320" y="1989000"/>
            <a:ext cx="5683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Cali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258920" y="1751040"/>
            <a:ext cx="6337440" cy="153360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449360" y="3860640"/>
            <a:ext cx="60991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336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Valle del ca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00080" y="1801800"/>
            <a:ext cx="72230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09920" y="3798720"/>
            <a:ext cx="52563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ali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2133720"/>
            <a:ext cx="7575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103560" y="2079720"/>
            <a:ext cx="557208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232080" y="393840"/>
            <a:ext cx="537228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612800" y="1844640"/>
            <a:ext cx="6059520" cy="347976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36680" y="1581120"/>
            <a:ext cx="64706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276640"/>
            <a:ext cx="8194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06-25T15:55:52Z</cp:lastPrinted>
  <dcterms:modified xsi:type="dcterms:W3CDTF">2015-08-03T14:15:00Z</dcterms:modified>
  <cp:revision>170</cp:revision>
  <dc:subject/>
  <dc:title>Diapositiva 1</dc:title>
</cp:coreProperties>
</file>