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AF83-BBCD-4ECC-9466-FD1FB8CDB6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67D5-821F-4437-9660-1F26FA52B74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823-7C46-484F-BE33-3DC826973F9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E4F4-218B-40C7-A969-107633B791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E5FF-16F5-447F-80A3-43464AE5D9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9C66-81D1-493E-9552-C2313851B2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BC3F-21CA-4D6E-A3DB-7B77B4F39DB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0935-DA55-4CB5-A882-66D9891AF9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2303-DEEC-4373-8E63-CA7E3AC5EC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5137-7754-445A-BC3C-13D478ACCA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CE27-2E18-4EA7-B5CC-C26C4D8A96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A26E-4273-400D-8839-9BE02015B3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7B5D-1B89-4BDF-A1D1-9A5D6C32FD0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04CD9-4176-4B1C-8ECA-71E3F6D9B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21D56-7C67-4A1F-AD9C-5D33FF00A7B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48CAC-4E55-41A8-A37F-39348EC6C38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9B60C-941E-402E-9C71-01B3D89BD0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B1646-2DC9-468F-91FB-566861405F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D298A-83C0-4158-8F01-609E11B4089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82509-7AB7-41CF-8836-7F855EC3D35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CE2AC-92B3-4D1C-8C74-2E0F578C5FA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B4096-4FA0-4100-92A0-99E52E38E79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89A8F-5CAF-4164-9316-BD8A471A155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2D719A-2E37-453D-AD42-0F39ABF4C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5A653-2B14-4C46-9D4B-22C1A4B5BCC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CC7B2-AF96-47CD-92A5-905237EC8F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85CAD-FFEA-437C-B3F1-2E699F47044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31683-02D8-4143-8044-1AE3A47DBE2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DED37-11FB-49CC-8976-9ABE8624DFA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F971D-6A72-4016-8866-2306D086C57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ED4C7-1A52-4E30-842F-B3DA89B50A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EDDE6-FCA4-4C77-9200-1267537018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B92C2-EF4F-42FD-90C2-21FBB51D7AA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68B7F-C037-4DD7-AEB8-C7A02A2B3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9FA7-0C2C-4655-917F-1FCED77B61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C8501-46A7-47EA-810D-A0D37F01FE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A2E32-B366-430D-AF76-E24F57F1E1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8C809-D4BC-4E73-BAC7-702073585B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DE9E-EB75-4133-AC1A-5E0B963BCE5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1D4D-B8BC-48C9-9329-24E5217EEA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477C-E4CF-4FB1-A40A-470C3B33AD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4712-938F-48D4-8C50-11D7F9305F5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2BBF-53B2-4310-9D2A-C877847C43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FD71-3C14-4FF2-A606-5A372E53F97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2A29-3493-45ED-852D-23C054B0A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0DC3-5392-44B9-BA9E-A05FCCE5D3A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4F32-878D-40E1-A3E1-7DD9EB83565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D767-D33E-4CAE-B6CA-B5D9C6786E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4469-D0EE-4A7C-859B-FB00BED1CA3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8EC9-A941-43B8-BF2D-DF2BCCE137F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E3A0-FB6F-4913-A63D-ABFE974A06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3B271-41C2-4356-AF0B-9104BA6AE2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E291A-29E5-45E3-B8F8-DC2ABE73B9A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10A2BE-C1DC-44E3-AFCF-B1F0CDF68D7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907BD-3AE4-4779-847E-AEF74F9687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DAAC0-EFA1-4F00-8667-E880B8AF52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02B6-0A6F-4156-945F-AA6340722BE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19042-1037-4554-92D1-0A1BD15AD49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CE1B1-556D-40CF-BDC3-E9F169B959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67919-F71E-4034-89C0-A57BDAAA5E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E5720-DF11-4A20-9D8A-3FC3330E36A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92F97-4E11-437E-AECA-E338070F222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7333B-02F5-477C-B0EB-A4C7AFDD919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FC0BE3-E773-4435-9851-988A4327074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5865E-2CA9-475A-A6B0-EB35B411F89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851C0-1AE9-47C8-AE22-54154182561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D5ABC-614C-4527-A11B-A5CAF4DF09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415B-DE57-411E-A1D9-5D6260B6A18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591AD-8669-4D00-99AF-C1A0D26A2A2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C6DC3-771C-4F7E-8649-F4234ED1817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9B30F-B1CA-44F2-A903-901DB685783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8358D-B04A-49E3-8E81-AB3285F9904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E321C-E119-4FEA-93C1-DA1C46BB152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1D87A-8AEC-43B0-A1C0-7AC968F3151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0832A-4432-405C-A051-5AE33E79954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6D0B9-14F8-4012-A8FE-1B91D72563C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96FE9-143C-421C-9913-7DF29D3B0E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C86A-AEB0-435F-A19A-5F15880A1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54A5-3F22-4CF9-B3D8-C12C987F5B6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67792-2DEA-49F7-AADF-EF7327AF8E1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A505-EC04-47DD-B854-8E45B3C2E24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1B77-05D2-41A2-BFB1-74C4DA7115D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51494-B66B-4732-9346-C9603A19B00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AED7-28AB-4836-8F15-F4764DCBDD4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D40C-0B46-4195-9262-15245EB4B7E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6980A-F560-471B-BAB0-8FBB3EF3A4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FFDF-966D-40AE-A55E-2D13451B48E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7524-93CB-4BE8-8216-3DA1A5791BF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9C0A-ED79-4404-BB9B-BF2BDFA90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754B-4527-4C69-A123-326F8144B87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5C66-D4CE-4DDA-8103-4AAB69F0002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1A6207-4630-49F8-83E2-B0574256834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D4D9A-9F23-44B6-A455-13BB428AF6E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041867-0648-41BC-8EF4-6958FAABB4E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A00C41-F208-471A-B612-686E4842F5B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8A6BEC-57A5-4F77-B738-2A660155EEF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BC7020-2B5A-4433-90D6-26D5441E691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28870-750F-429C-B36F-7C0271B9012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E4EFE-592C-4BCD-A05B-7F4E79677EA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078394-D918-49CB-8A69-3473F8C480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1A26-B96F-48BD-BCF6-8D845B28D66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82F3DC-3190-428F-8725-0F67EA7CB20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0099E0-7DBB-428F-A480-094CF1C46B1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810EF2-348E-49AF-A11A-DE8D69FA921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59477-3C76-4433-847D-7E82979F272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49CD1-515A-46F6-8ED6-12EAA7F8D62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07E2C-70D1-4F5A-9DCB-3D966E57DFC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D7FCB-36E3-425A-AD4C-88FAB886BF2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7ACC6-7D9E-4A14-BE42-5147B19BA76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AC453-55C5-4092-AA89-A6A25B2200E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0ABA4-9D40-4F11-AA97-DD99F6823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658F-3390-4803-8280-DBC47B95068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C3301-D617-46F1-A96A-FFE081CFC40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2C892-477B-4FAE-A392-F62B2BD7FAF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73DF8-3511-4AFC-A121-9A08DB9679F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F84B2-C073-4AAF-B469-D1E3013AE09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F6B67-9E39-44BF-B8C6-B60EC41B284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08CC-DF08-4F88-A26F-0063095B423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5A85-4DA3-4EDE-9EC1-AF17EE11B62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6732-8ED0-4259-BC9B-1AD066C2008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15BD-8328-4790-9B21-95AE0C4C76C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8B36-4F9C-473D-98EA-9CA3BB817C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0D5D-81DE-475D-8FBE-90E723E58BA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589B-1C11-4A5F-9048-CF655221685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7EA7-137F-4DA9-9E91-DC6EF7B7DAD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B3E6A-7EB2-464A-A62A-A3F2EA02340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F830-3870-410F-86E0-F3ED3DD0B8A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A971-8272-4640-AECC-75064D3CC3B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9C39-9936-4699-AE33-AA5EB54C2B9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B786-E0AB-440E-A851-A488B049495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5EDC36-A816-4226-8BD0-83622ECBF58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97B19D-D4B5-4140-9B99-2E31CC04AC2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97B638-3545-4E23-B2F6-1A7DDC5AF5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4819-E4A4-4EC7-9793-D5D06E5F3A6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131C32-7AFB-4324-854A-0A5CDB358C7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D22F9-3352-47EA-9829-9C585A41DA8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03BB49-0A99-4043-AC5E-5F6F3F91A64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FA4D1D-D230-4050-AA42-D21AB644557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13CBC7-97E2-4216-9A99-2B7F31E0ADF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565776-2013-48A6-9167-C95EB9D154E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9C77D1-619C-4594-9A63-5BEFD10E155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AB4DA-C7D7-4BE8-9857-D775BDD23D4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660A1B-77D2-4D2F-8FF4-2EC335A170D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050C0-6276-4A75-8CBD-52D8936893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F6B1-1B9C-4BDF-927C-87547050B32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6345A-BFE3-4F0D-96ED-728BB77F0AD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86979-37A5-43B7-AA2C-0CE609FB6E2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2F6BE-2ABA-4C69-9F03-4F46751822B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DDE4E-48C7-472B-937A-6259278FF0B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66FDF-4C8A-4F85-856A-00956862B30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BC283-23F1-49DB-A5D1-FC515D00F63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0CEA7-092F-4F51-9417-89641CA6D8D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97D37-AADC-4ED7-8F6A-2516E11FC2A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3F6B4-8671-4EB7-8CF6-89332C01CAA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F675B-6809-4543-9ABD-1BFDAFEBB2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E2DD-7C64-4E23-B050-090F6999F57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E2AD1-5F31-4EC9-BA64-403250D44AE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A5AFB-45E0-4A4B-836A-2F9C44695E1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302B-BFB3-48AD-A99A-73BFF3D7E03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E47C9-C8A1-4952-A25A-7DF6D527A12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5C66F-0AEC-466D-991F-B9C4418E646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73AB8-07BF-493E-8B5F-49EB72FC151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C65B-9974-42D6-B12C-22F329FBBFA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822D5-FD9B-4226-8725-EEC3939C99E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0F83-21D9-46E0-AC09-25AE531808F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699F6-F1CC-4066-9DAF-AB91FF597F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C8C0B-963F-4C4B-B7A9-C22DC7900DC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414A-772D-4FB1-9A0C-E09771B30EF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C8911-B831-4011-986A-7FD72C9128A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069BEE-5743-4BF0-84C0-6105D33939C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04C287-09F0-4DF2-B5CB-D22E701A0B6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6D5F64-A042-45B8-9BCE-B0A08215D75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96F84D-9ACE-474E-80C1-D53DE547FF5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0C24D-BC53-43DF-AC11-82866965409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4953DA-6797-4A7E-8E68-E24788D4DF0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4EE897-1267-48D4-A668-C081CC2472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76E6E4-8794-40ED-8A9B-B96529A7A28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0ACADB-E201-4125-90C1-321569BB26E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1DA46F-D74E-4781-B8A8-29CCFFAC76A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F69FCC-C580-4A00-8D44-4B2B15A54D6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3EA5C8-032B-43F7-8C18-0154EC96B09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CFADA-25D4-4D3F-8F0B-A77A3149555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64055-C936-4A62-A1F3-0C26ABBAB6B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1362B-89BC-487A-8ED4-B5609D5C131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B254E-E683-4B41-B1DC-B88D2C64EA8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C9AE3-5F53-4F43-B1FC-98D8FDDD4C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FF1D3-90B4-4EF8-8F54-DC69632DF61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ED2BA-959E-4C6B-8C3D-4827EFE03C9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8FAC7-3CF1-4BE7-81DE-590072F800E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FD9EC-A3D0-48B0-B7CB-467E8C4861C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6188D-E350-4B4F-9608-510EB0A7C7F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0370C-ECA4-467A-89F9-EB64D38B5AA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5E8C4-3E68-460F-9A77-CBF21A04345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5289B-8753-446F-8BA9-4E32EBF7CE5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A314-622D-450B-BE2F-25DBE04D7A3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85AF9-FB82-452B-BB52-269C98D006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76F1-4158-4EA3-938C-CF8606EC2C0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5159-0026-41FE-A233-9CF7700DBE2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273B-A6DB-47F1-A790-4030485242B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43BEE-D936-4597-A913-AF8F603FB37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1841-0461-487E-908C-45BAD8F28B5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26C1-CE31-4E31-BCE6-82CC6BC4A2C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0D12E-40D9-49D9-B738-9A310DF2A77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1F46B-4182-43FE-B66C-90488553EDC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E4B4F-B7A2-474B-B05C-A174DAE6319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F22F47-160F-4B5C-A441-4655D366A8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7FFD21-A990-49A6-B309-4037A6AABC9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A0A3A6-69CB-4D5A-B9C5-1DDBA650840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87486-98B5-4AF7-ACAD-F1BA302EF41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74A72-AEB7-4EC4-BE77-34F948C6D6B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0C23B6-ECE6-4792-8766-B8929AD7A96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2553E2-9CF6-4285-9E08-47EC29DB447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1CCC92-EE1C-4313-9CED-DB5E382E928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3AE1F0-1A2A-4D74-85E4-EB746FAB0D0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1A6E3B-2A63-4C17-8943-8F94DADED3A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90ABC8-EC9A-482B-B67F-19C4FFA966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3C5394-8B97-4D98-91D7-BCA65A5DAD5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B22B5-7A9D-487B-AABD-E9F642420F9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9B757-6154-4907-92B7-C793EEB21E8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F29601-33BC-4B7E-941A-00A57A5FCA7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6E84D-257F-4B30-89A9-A9EE92D6999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2134DA-E75C-49B2-8933-6E02B16083A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5C083-9895-49FB-BF03-AF265EC5DDB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9B164-596E-457D-A977-DD1FA2D2987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C4648-BE6E-46CF-9505-CC9D2103307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8A106-E492-4D7E-978E-10F8101577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5348F-16EA-40CE-BF4C-3CD223B10E5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74B0C-C8AC-4D30-B67F-EA31A235F10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ED619A-DB4F-4D5A-B1EB-4AA7F58396F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1AE4F-C81E-4828-965F-94EDF0D6934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83FFA-9DF6-4578-8D32-C816CDA7BC9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082FA-9913-4FAA-AD98-9C17934FC37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D0B18-06DC-4C14-8C10-36CBCB6F483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CA874-FC31-400E-A1CD-5349041AB9E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073CD-4356-4A66-96CD-D5E33355768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1433F-BC31-4A7F-9F0A-507F6574D9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C9FF1-C5B8-4313-A314-888007977FD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6C77A-0751-477E-A00E-3EF8E845AAF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20B22-B33A-407C-A282-842CB340371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E701F-2A12-47B7-83FB-0740B1FA58E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33912-A621-4D85-9E1C-37C7AAFF850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0174-411E-4957-92A4-8B1C8BC9AA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61D2-2528-46F4-9C6D-0EA601DBB0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DEB2-4454-4643-B61B-0F1847767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A786-1152-4ADB-B799-348B723C5D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7039-6759-4EF3-9FC7-4C55C84E97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2E11-7E3D-48D3-881F-AE7FA4E799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E28E-7705-4191-893B-935F47B86D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02D4-535A-4E77-B5FE-E90E06DCDF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5EBA-EDCC-4FBB-9DE7-BA25175F05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598B-AFED-46BC-8595-A24F2F5EB3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81CC-528D-4743-9072-9BFAEE57C1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9571-5A5A-411E-A96E-2A36A84907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9F7-26FB-4AFE-88CB-CAE1FB1297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F28-CF1D-4DAA-BAD1-429F7DD796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323-0E02-4BBA-B463-646FD6307E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51A-58B2-467C-8D82-198AA13CCB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28F-2F68-48A6-A401-F067918DAA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7F2-F0BD-42EB-8897-3307458CED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675-3FA9-4A89-9D69-2AC8C71D11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E86-B546-4EB2-B5C9-7A3DB518FBB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952-4165-412C-9114-3FD4A9834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992-3FDB-448B-86D8-3EC6E3AD5C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1ED-117D-47DD-A99C-A8133423DC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921-09B9-480A-BF6D-BBCAB418A9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464AF-3EF1-4A38-A5F1-39599EA5FE5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B93A8-0058-4941-B57B-D4473519F86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7EB73-DD16-4DD7-B38C-323BEF66673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8C45B-814E-4E76-AC6E-8677A9054B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416EF-AE60-4322-B420-1A83A8D383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4DAD3-625F-4900-B76E-8AA9CBA63B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2D908-6DA0-4567-8B11-2D75A7B83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51D3D-3CFF-4265-B972-C512CB9C37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504AA-26AB-48F2-A39F-BCBFA45C30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658CD-A86A-494E-ABC4-388B33C1A8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3D222-C31A-4B43-960B-EF9FCD1DA6A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22263-636C-4C33-84F8-E419C21143C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8E463-4495-4775-AA8B-C530A2C316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FB24D-4722-47C6-8DB9-07F8AD605E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4E105-34B1-4226-854F-96068E49650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AF38A-AF9C-4E47-A2FB-43EB76CC73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83C78-71E9-4395-A535-6FF609E31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A18C1-1180-4F2E-8767-E30D7E92F7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344C9-A0EA-4C21-84D2-494C80E5820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ACEF3-4EDE-46BD-9661-BBC34930FE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BEC59-FCF5-4C83-B511-068DBF4479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9F60F-C320-4C17-B18E-376E3AA8AE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E51FA-0942-4B78-BAA3-978F1F8AF3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A65AB-31B7-4FDA-A9F0-19E1686BF26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F576-DC35-4B7A-A954-BDEBE18070E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8387-69F0-47FE-A1AB-364BF30891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B0B3-A88C-48AE-90CA-16A6AC917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7993-F1CB-48AF-BCC8-624EA35338E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A296-7BC2-447B-AC3A-A05754E89D7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E3F4-B2C7-4B3F-9317-E63DB5B09FB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9D94-C094-4532-9FBD-9932196507C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115-11B0-4004-BD7D-B75A34C3A49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5809-AB84-4BF0-AD56-A3BBB70720E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AAF1-D753-4E39-8294-8E88026F471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C151-B16B-402A-8FB0-CB423FDAA6C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EA44-0F6A-4FA6-89B2-F1A26DEB3B1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D256-DADB-4D8B-934D-387BDA1FFAA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4C15-1BB8-469F-9C60-E5DBC351463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614-78F3-4556-9CF0-F95CDE1D08D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C738-A76C-4D4B-879D-C99BF79754C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061-E413-4D68-8E4A-399801EAD96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0EDE-B453-4F58-A5D6-95D9EFC6D5C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930A-8CB7-4D54-B641-5BDE114E066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9FE9-E957-443F-9DF9-D29828C2419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5F8C-E609-4B2C-89A2-5A967A917BA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A0DC-1B54-4BFC-87A0-5714A368115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188-416D-442D-AB7E-D33B80870A6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683-B183-46EC-82BE-CDBF64240E8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63AE-0B01-4D68-AED8-5EB0EEAA7D4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CF24-ADF9-4B89-947A-3ED33D189F3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645B-99BA-4E90-86BD-236D8F37382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incele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3"/>
          <p:cNvSpPr/>
          <p:nvPr/>
        </p:nvSpPr>
        <p:spPr>
          <a:xfrm>
            <a:off x="1238400" y="476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1359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64160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1 Imagen" descr=""/>
          <p:cNvPicPr/>
          <p:nvPr/>
        </p:nvPicPr>
        <p:blipFill>
          <a:blip r:embed="rId1"/>
          <a:stretch/>
        </p:blipFill>
        <p:spPr>
          <a:xfrm>
            <a:off x="1150920" y="1484280"/>
            <a:ext cx="6842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289160" y="5428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5 CuadroTexto"/>
          <p:cNvSpPr/>
          <p:nvPr/>
        </p:nvSpPr>
        <p:spPr>
          <a:xfrm>
            <a:off x="617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-9360" y="5487840"/>
            <a:ext cx="9144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, Trabajador familiar sin remuneración; Trabajador sin remuneración en empresas de otros hogares; Jornalero o Peón  y la categoría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1060560" y="1700280"/>
            <a:ext cx="7070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763640" y="6174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1053360" y="52340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71280" y="5445000"/>
            <a:ext cx="874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, Trabajador familiar sin remuneración; Trabajador sin remuneración en empresas de otros hogares; Jornalero o Peón  y  la categoría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1514520" y="1785960"/>
            <a:ext cx="6975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6681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54576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4"/>
          <p:cNvSpPr/>
          <p:nvPr/>
        </p:nvSpPr>
        <p:spPr>
          <a:xfrm>
            <a:off x="444600" y="544500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°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436760" y="1628640"/>
            <a:ext cx="630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133640" y="620640"/>
            <a:ext cx="68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 la población ocupada en el empleo inform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917720" y="2143080"/>
            <a:ext cx="5305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547640" y="1689120"/>
            <a:ext cx="5904000" cy="202716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724040" y="4008600"/>
            <a:ext cx="5629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uc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700200" y="1700280"/>
            <a:ext cx="75819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r>
              <a:rPr b="1" lang="es-ES" sz="14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10443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987480" y="1773360"/>
            <a:ext cx="7624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39680" y="2408400"/>
            <a:ext cx="2736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8 CuadroTexto"/>
          <p:cNvSpPr/>
          <p:nvPr/>
        </p:nvSpPr>
        <p:spPr>
          <a:xfrm>
            <a:off x="3060720" y="592128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móvil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876400" y="4960800"/>
            <a:ext cx="6201000" cy="2095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384120" y="5049720"/>
            <a:ext cx="223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no incluye San Andrés por tener una distribución de la muestra diferent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898720" y="198360"/>
            <a:ext cx="6010200" cy="5534280"/>
          </a:xfrm>
          <a:prstGeom prst="rect">
            <a:avLst/>
          </a:prstGeom>
          <a:ln w="0">
            <a:noFill/>
          </a:ln>
        </p:spPr>
      </p:pic>
      <p:sp>
        <p:nvSpPr>
          <p:cNvPr id="1271" name="1 Rectángulo"/>
          <p:cNvSpPr/>
          <p:nvPr/>
        </p:nvSpPr>
        <p:spPr>
          <a:xfrm>
            <a:off x="3132000" y="57326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403280" y="404640"/>
            <a:ext cx="64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9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58520" y="54849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025640" y="1628640"/>
            <a:ext cx="700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5 CuadroTexto"/>
          <p:cNvSpPr/>
          <p:nvPr/>
        </p:nvSpPr>
        <p:spPr>
          <a:xfrm>
            <a:off x="90612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1582560" y="1785960"/>
            <a:ext cx="63644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000"/>
            </a:b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111240" y="2349360"/>
            <a:ext cx="89168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Leonel Parias Rodriguez</cp:lastModifiedBy>
  <cp:lastPrinted>2015-04-14T14:37:37Z</cp:lastPrinted>
  <dcterms:modified xsi:type="dcterms:W3CDTF">2015-08-19T22:09:54Z</dcterms:modified>
  <cp:revision>885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