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8.png" ContentType="image/png"/>
  <Override PartName="/ppt/media/image16.wmf" ContentType="image/x-wmf"/>
  <Override PartName="/ppt/media/image7.png" ContentType="image/png"/>
  <Override PartName="/ppt/media/image15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9.jpeg" ContentType="image/jpeg"/>
  <Override PartName="/ppt/media/image23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14.png" ContentType="image/png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DA40C-6835-473F-9BCC-04B48E058A1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54004-89A4-41C3-BD0D-ED4A6C5F3619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1F2BC-F4C4-4389-B7D3-A9C90F099FC8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AE359-AF79-4B6E-8420-595CACB85C0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79310-7B3F-495E-853A-9CEDF4CDBC9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F9231-5073-4239-BB81-95B4F782922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D33AB-5DA5-4FBC-AB19-933731DFE1D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8EA13-C350-47E7-A1BB-7F9903E298E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4B385-951A-4F14-AC3F-315981C1320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AA85F-FC75-4860-A789-623FAB0A51F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D38F7-F3E8-42C5-BE60-47A427FB1F9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C95BE-6918-4692-B406-3EA5008AC43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B75EF-8CFD-4E24-BD33-D5DE9279923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0FE883-4FB7-469C-B53F-38EED1A12E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D50B9B-7BA2-4010-9037-5A12127B832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E6F0A9-5866-4879-BC5B-6B2898366FF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230BBF-717D-4C4D-951A-EE9CC2F5A56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F46199-68B1-4F42-9198-2BA6E09CC43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28FD4F-5C71-44E3-977C-FEE3CAA71AA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6F46B8-2939-4490-B3B4-C20E3E4A424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C4191D-FB8B-4815-9E39-3A1487C41D8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52C2C4-2D58-4373-B2E3-F42220C3492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A04C7B-E09F-4695-A88C-95F8F0B3EA1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166F52-0FC7-4474-BF39-A790482E77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20D616-40EA-4389-834D-7B3E41B383F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46AF32-1C72-4922-BCF8-8E951175D50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A8CF7C-0671-4CA7-B582-CE3428673B4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EB513B-C9F7-4CB3-9975-23DAC81CD67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BCF66E-927D-448F-BC6C-257F2F34F17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ACF21D-7F76-41B2-8452-004DE104D0B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1974B7-056D-4D35-96D8-A910EA313F1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3EA72A-A6EA-41A3-B940-4ACAE8F63F1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53788C-BF31-48AF-B5A0-322789EA6A0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39A5C6-8692-4FBF-9FB3-42884F00E1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0F235-9C67-4CED-874B-F26E40950A8C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25891A-250F-4DBA-A1D9-B16069D60FA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7BE763-C323-46B3-8EBF-4A8994A2949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8412A4-C636-4BF5-ACC4-23B56F25983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C4CF8-BEE4-42B7-8031-CC93094F6107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94C3D-7764-4388-91A8-73EA9AD4E93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93520-8D98-4849-A726-61A36EF6A93F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94F9E-F1E5-4767-8BBE-9D72576D409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9CE91-F4B7-4011-A66C-2892196F9BF4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D31B3-EE38-4A54-8FF2-7A7F6136000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93ABE-B26A-4FF7-98A3-48D9BBADF5A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CF845-7C7E-4024-98AF-943DABB72635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45B39-9879-4A30-8531-1ED058059FF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213A4-6943-4421-A3D1-B4A21AB3F02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A7B0D-F2F8-4CD4-BDCE-01B10D49275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9B84A-4948-46D0-94DB-2EAB3AC3785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7B2D9-AA93-4E52-8AFB-D8F6BEE551A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BC9D59-775A-43E0-8AE4-875F39D2C24F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F25A72-C0A4-4E32-A5E9-377011EE1A3E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20E29D-67D3-40E5-ADFA-CF0212809976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FF9453-60EF-4EBD-975F-C4A176B651C6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378BB1-C9B1-44EB-AF5E-A1DBEEA7E81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FB2BB-44ED-45DF-9B05-355E4B7A690B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76CE91-42A3-4AC8-B58E-9F2A1547BAA6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BAD32A-D829-4E08-B9C6-7A96B90B07DC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038EBA-BD87-4711-829C-C04F57E1AFD7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121ABE-6A88-48B7-82BB-C6C1A196250B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CD5D9B-D6B4-47B1-A1D6-ED5A7484432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71D7CB-50C0-498C-8A0A-C9D0E3DEEAFA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7D9CC8-77A1-4A99-9ED4-7CD7A5F19824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624FBA-FFDF-47FD-AB74-E32E23EAF8EC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11EA7F-43B3-467D-9168-A385E0EF86CA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DE3CDE-A509-4E0D-82BE-B46771B503B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47708-7C2A-4B27-9E9B-6AE3A54BC354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3089E5-0F64-4B57-B115-98572322BEC5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B1574B-648D-4046-A522-2441A43BE1BE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8DDBCD-FB53-4320-B885-E8C1366B3DFB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54BF70-8064-4B0A-8679-A2207774E8A6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8FB439-F0D8-4E29-A5E4-267D9FEF8C00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069670-E14A-4FA9-9F83-8B2C413660CD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8E4890-8CAC-4726-BF7C-75DBA7E0DB37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18C293-CD4E-4F90-805C-D9D778374C18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ACB92B-4540-43B6-90E9-196983B41D60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AC399-02DC-4BDA-BA62-ECF8512AA98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9F979-A85E-49BF-A63B-BC2B4FD664CD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668B1-BC37-442F-A939-D11D6A4AA8D0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545DE-CD7D-435C-A89E-23E469E16205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F099D-5372-43FD-BE71-08B3FDA5EF57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C213C-FD3B-4798-927D-58DC9AB84C08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AE68D-BF7B-4D73-9799-C75082391AB6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FACE7-9C49-49ED-B5D8-B075295060AF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508A8-3AB8-4845-8739-9CECA1DC4EBB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01A79-0F98-4F16-849F-68490910AAC0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A0AEC-0DB8-4FE9-ACBE-115B50379A08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64636-FD67-47D4-90D8-4692606B61C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4E303-BF36-4AE2-844A-E89283EB2866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21019-C9ED-44BB-B6CD-8190BC3A075F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677B47-45FC-4F2D-B9DE-C894968BD7AE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F09EF5A-28F7-4053-840B-41BEEE35AD0B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B8410C-041B-4EBD-9370-BD90B9FC9486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11E293-3C10-41CF-9A77-6F7CEF5F4ACE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88CBF8-5FDD-4092-A464-70ACBBD80ED0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23A674-0D8B-4244-929D-30A5FF507819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1EA7B40-EE34-4963-8FDA-B7FC724E5634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BE6DDA9-322A-4B27-B122-EA58A2F81F15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1FEF14E-24E9-4079-9E83-64F2B4B93E0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EFB6E-FF48-4501-BE25-938E425BBC10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2AE4D4-9DAD-4B79-8A16-B70CF002DB3B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E24530-1072-43BA-93B4-EBBF3B163A54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502958-B7CA-4115-AE02-F84B3F8AC3DB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E3A6F0-2E75-4FF1-980F-8168114F1567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4E572A-754F-4E4D-A444-21C835A9A756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4E0915-567F-49B7-A8D2-A55D6D2FBB04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46D22A-DD69-46CA-A613-00D810A7D9E5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055F9D-473D-45D3-AF36-C57DE1DFF891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F8D731-A96A-400E-8369-AA66E9833807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91B4BB-ED41-4160-AFEA-C981BD5364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97147-D634-449E-8414-FAF6676015E8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3A2163-E081-4234-8CB1-C33E38C5EE11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2700FF-180F-480E-9330-D1F89407D241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249CEF-94B0-46B4-A05A-55735FECAD33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C1059F-E64E-4865-A329-4581F6336A4A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8C672F-814E-4A9F-940A-B2B4E2B5EC13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1F00E-7B92-4F29-8415-08FF0200327A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712AE-8336-44A4-8EA5-7584C46FCAEE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7A898-F61F-4256-951D-73B871450E7A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FA4C8-9F77-47A7-B801-4B922F161E42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C6960-FBBF-467E-970E-62A6EB85EF9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EB84A-AD9E-4615-9F90-90022595D2F7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815D8-DFE1-4C8E-B32C-E9DC492DBDD3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39C80-2B2B-42A0-BA74-E7D559930E48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C9B70-E29E-4CF7-B5DA-5ED19C1646CC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F0997-30B4-484C-9A1C-CEE909AC0506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70F50-6A26-42C0-B2C6-98329E1E0B12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37D53-081D-4FD6-84E8-E991FF93FF99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898C3-2918-48E7-B87C-8F0CEDEA29AA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22D4B9-BE14-4F0E-9FD3-1EFE6B457845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2D07AA6-727B-43B7-B47C-D9FF1D667464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DA48A3-4DFA-4D39-9DF2-175B8B053E1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BCD53-F0AF-4EDD-900B-471BD7EC9676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E4EC92-0559-47FE-A58C-E6F6FA5F6B53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22C17D-3ED8-4DBE-BDE3-7957CFB54F94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09EBF6-39BD-4A7C-A8E3-926AD79149A7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14298B-1067-4741-B131-3336FEA59FFF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FEB16C-0611-4C45-80D7-51FB084BCDAE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370E3F-AE95-41BA-AB48-EC7768938C4F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D9EC85-1182-46AE-93D1-C3F8A1207CD1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362A2C5-1C4A-4EE5-9D33-08049FDB5508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3BDE61-A6C0-42D1-AF2A-AD78A168C6A1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71E8A3-BA33-498A-80AF-888C7761512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F6051-5766-4B53-A5B9-63FA80DE6BA4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586325-1ACB-433F-A7AB-221929854DC9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666F45-5B93-4A3B-91AD-CFC4F231DB81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5DBF6B-927D-4185-9742-6AC9B50AC2AD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BEF4CD-8D6F-4FAE-9DC7-A98BC0D58B44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7DB41A-47D5-4AB1-A7C3-482BF412BD41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02A88D-08D8-4F77-90DF-A0FB45BCC854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B1C337-15AC-4C4A-81C6-A3AE7AAF62A7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9952AB-C311-4CD0-82C9-82A4101FB2F7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7712B0-35D4-41B9-A4EE-40A27148A187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A4FFD2-0F9C-45A7-AB64-9E4CBC46D01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E6A73-F4F6-42EB-8111-C47979064FDB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771785-7273-4EA3-B609-2B5C52553574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727335-4F6A-4AE4-842A-B06210C48F75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B417EF-F31C-4CE9-9802-3A25CC2EE4D8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1F428F-DDA7-4BF3-B094-8CBA21C0601D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08339-B3BA-4716-B142-2935041503D9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2E774-8234-4DFD-AEA5-3E3950E9D6B6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D3CEE-9A9F-43F6-9683-C017D54BBF88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DFCC3-981D-40E8-AAAA-2AD76684FF68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A73E9-80BE-4400-894E-5390950C783E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CD5FB9-87D4-4E30-B4E3-B3D24B52720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71182-F2FC-4A8D-96CA-8ACFBED2A88C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31EB2-4220-44D9-9886-EA145AFD2D51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3ABF2-A760-4EBA-A837-0A6089DA228F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A0642A0-BEB4-42E5-AED9-83E0543B5799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0C149F4-4ECF-4A2B-9B04-C70EB275C6F8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D9BB591-5132-4228-BDC2-50162C30E404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3F117F-4F0A-4A84-ABDE-27F269FCDF2F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118BF2-55CE-4D8B-8046-3C7224637B8F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DCED77F-2456-4AFD-B9F9-B358B8C20FC1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B7F54C0-4190-43AB-B0E8-713DE4ED48E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76910AA-C796-43DF-B5B8-A5D6363CD888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4FFE529-D3A9-4F58-8F7D-9380E0F426E0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234B9EA-173F-4D53-9CE4-8DB825976126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A615069-6A2D-4E5A-B637-5F52F26D8E10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D1208DF-C665-4AC6-957D-602916535873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89E683-4AB6-448F-AFE5-6FCC9FE68D78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2C50E3-3EBA-49F6-838A-787758D3F490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ADDE7C-E494-4147-A585-751610CB3FB0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09AB59-554A-47E0-98B4-DCDFF4AA7B7D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6494FC-14FB-4EF8-98AA-C1D994B1454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CE1E58-AEB0-48BA-86C3-091BE49B1894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58BAFD-DFE8-40A7-BE2D-91A8E9A7AF3D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5E7F5E-CD90-43A2-9F09-D9695886A1D2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C523FA-0A79-4B8E-8100-3B5FD4A81349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907F0C-F763-4BD5-AFEB-7E6009B156D0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7767FE-D0C5-4106-9223-860C45C0F898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72B959-8EF1-4437-8E63-6A5CA9A09100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1F63A-7DE6-422C-B1A0-25E8A62FF0F1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172EF-62AA-43D2-B471-83F9D0332E6A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5CEC0-C6C7-49CA-B2F6-37216974378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87DCB-A1C4-4F70-ABEC-851FE646D668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9C23F-362D-47E5-BFCD-599E251D7BA1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09B62-5F44-41E7-B74C-78BEC2C290DF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0323BA-3793-42E7-85C8-BD5A43C2EDE9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19126-A32C-4CDE-AA5F-27901E576519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75887-4867-4A65-A4D2-E4FFCFC776BC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2D4B05-43F6-4C3C-B6AB-2A9D87C346CB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7F756-0510-4715-89CC-3683D9317924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9C3FB-3A87-4663-B643-FCF41FBADC85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3EB0AE4-E4D1-4267-8925-61B75B5D789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A52773E-90B2-4266-B364-636924829D26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4EAC33B-06B6-47FC-B59B-A7900A7CA064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4B35AA3-A7C0-4CD0-B836-A1386145846E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52491DE-C6C4-4328-871A-5A7D57D20005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04C2827-FCCC-4571-896E-BB93B265C4D9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26A4F68-7AEE-4A08-84BA-25DCE2883B46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7ECE5C5-8FF6-4ED0-B202-0117FE7EFAF8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950D139-95D5-477F-B81A-75329C29BDA8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0552C3E-7D60-4C7A-9406-31714B034AE8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3455BA0-4CD7-4C39-B0D5-C0BD46ACEF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81127DB-22D0-4237-B672-3A1F907A38D1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40F1E1-6AF7-48E1-AE6D-C7D0D54CCAE7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91C149-19B1-4165-9002-6F7FA2C5C1B3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C48DBC-62A0-42CD-987A-93102C8F38A8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7B5BE5-5479-49F7-9853-1754EF3DE9FD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0F9735-78D2-4A47-AAE6-23C138A27647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EF2754-5D4E-4B8C-BE88-BBF9A18735BE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F5A8E7-42DA-451C-A3C2-06584242CB2A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ABC695-4A5B-4077-88AC-3F54A5DA6A28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FB5201-1E3D-418E-8CF4-1E66AC6874F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AA64D4-41E9-4475-8A74-91D0B8A2419E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E11981-1800-49DA-B84B-22E9C6E412B9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1246B2-D738-4526-8992-A43E844FF0C9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6B9151-8691-41A4-82F9-C534613FD15E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AE81B6-6D1C-4A92-AD69-AB5045C8F9CD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03FBEA-4D7F-4A8D-82CA-5E0514A87666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36FD95-3321-4058-A023-FE9B48DA0C4C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C583FC-B4AC-49FA-A594-6E26A2771844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35561-7B03-4141-B074-55A6E7A78636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3E3593-C846-4352-A826-1FF25BB025D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30CB74-8DED-4BFC-97BF-DEC124425DEA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A9F8C2-240D-44FE-A219-3249543B8744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E5389F-6373-4ADB-B34E-947397D4C611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64FCD-743F-409A-B373-D31F51801318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125EAC-1704-4EB3-A3B1-D2267A87BB11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FD877-FD86-437B-B5ED-5A677F998C2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9F15A-D926-406F-8423-910D4727D3D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52B02-F076-4D22-8C09-19179070A2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475A2-2C04-4798-AC43-85D965DBB86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9F96E-2D09-478D-80E8-82C311CB066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3D0CB-7E05-4E48-A931-37384B071B3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AA91A-AA9A-4888-A28E-BAB37615E1D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88126-4802-42A6-A2D3-21953167760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5175B-03A3-4764-A199-16C782AC393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D18FB-77C3-4CC0-B6CE-CA0DF01EDEE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31D04-0ED6-4904-B4B3-4A6329C0B93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DADEE-A871-44EC-9E61-F75CEA6648A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9FD9-C2B6-4319-AE60-668E9773028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666A-3A44-4C86-8EF6-81FDD763CF0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CDD0-BA4F-4527-8182-AFF88FCA6F0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18A1-1F41-44F9-8148-C46B0E0231A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88A3-E090-4234-9F1A-069D86DC402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46E7-ECAC-45E9-8099-355077AA44F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A3C9-9FA3-4BFA-903C-41C0DE70428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4D20-162A-4049-B963-5685DE8CEC4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422B-A5FF-4CCE-AF58-0B797AAAB0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E68D-355A-489D-ABCB-B57CAD58D49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A688-A1D7-457C-B5F8-B7BA7E6C902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AD73-20E8-45B3-B53A-55BACCFAD9F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090F41-735C-4E05-8EB0-719C83CA2D9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4F2F07-F70E-476D-B0FC-2E72F32229E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0BA538-1512-4BE1-97EB-23531818F7F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EF392C-013C-46A9-AAD5-9959A8B8E0C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59A354-99BE-4D09-9BDD-AC56D5637AC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B9FD6A-CF74-4AC6-9FB7-62D58FD7791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AE6C5B-8AA1-4EE4-8FDA-CE0077C2C6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712B41-35FF-4C54-8EBE-C6C5C123FF0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5DA1EC-36D4-40B8-BBF2-121BD27BD8A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22BED9-88FB-4882-819B-E62E4C7B0B5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31DF68-CFF9-44A2-9ADA-EC46B5285A8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505A60-758A-42AA-8C58-EBFA29F1E36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8899E5-BF18-4D1B-9ECB-F365C4A7F5E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EC9454-2274-43D5-BC38-8148FA7CE4F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FE70AE-BE78-43EE-A04F-851922D3FCF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AF345F-63CB-4D14-AEF0-FEF3CB7A2BD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9B2545-2B1F-4FCF-9FF0-BEE480383E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74AE0E-5815-4CB9-859F-51663856185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3A1405-37CC-4BC1-AA34-45ABC5B0B55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28D91F-578E-42D6-A708-35FC469944C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26BC95-D6C0-4829-A591-5233F397E71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BE21BD-B7CE-4A60-8359-A3DAE4EE2EF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D93418-DAF7-4D0B-8542-29404C511A7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D73B64-F107-4FF4-8E48-EB871804FCB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19D15-4872-45CD-B849-F615D9F4730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83A38-0B83-43DD-BF71-7E5A1C7E353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033ED-52E4-4AE3-AAC5-1B47957424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s://twitter.com/dane_colombia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s://www.facebook.com/DANEColombia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www.youtube.com/user/danecolombia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dane.gov.co/" TargetMode="External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1.png"/><Relationship Id="rId3" Type="http://schemas.openxmlformats.org/officeDocument/2006/relationships/image" Target="../media/image9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6289560"/>
            <a:ext cx="9144000" cy="5684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32360" y="336600"/>
            <a:ext cx="34560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10 Imagen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4720" y="6454800"/>
            <a:ext cx="1041480" cy="237960"/>
          </a:xfrm>
          <a:prstGeom prst="rect">
            <a:avLst/>
          </a:prstGeom>
          <a:ln w="0">
            <a:noFill/>
          </a:ln>
        </p:spPr>
      </p:pic>
      <p:pic>
        <p:nvPicPr>
          <p:cNvPr id="4" name="11 Imagen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0360" y="6450120"/>
            <a:ext cx="914400" cy="237960"/>
          </a:xfrm>
          <a:prstGeom prst="rect">
            <a:avLst/>
          </a:prstGeom>
          <a:ln w="0">
            <a:noFill/>
          </a:ln>
        </p:spPr>
      </p:pic>
      <p:pic>
        <p:nvPicPr>
          <p:cNvPr id="5" name="12 Imagen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67480" y="6454800"/>
            <a:ext cx="927360" cy="237960"/>
          </a:xfrm>
          <a:prstGeom prst="rect">
            <a:avLst/>
          </a:prstGeom>
          <a:ln w="0">
            <a:noFill/>
          </a:ln>
        </p:spPr>
      </p:pic>
      <p:pic>
        <p:nvPicPr>
          <p:cNvPr id="6" name="15 Imagen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57080" y="6431040"/>
            <a:ext cx="1438560" cy="274680"/>
          </a:xfrm>
          <a:prstGeom prst="rect">
            <a:avLst/>
          </a:prstGeom>
          <a:ln w="0">
            <a:noFill/>
          </a:ln>
        </p:spPr>
      </p:pic>
      <p:pic>
        <p:nvPicPr>
          <p:cNvPr id="7" name="10 Imagen" descr=""/>
          <p:cNvPicPr/>
          <p:nvPr/>
        </p:nvPicPr>
        <p:blipFill>
          <a:blip r:embed="rId10"/>
          <a:srcRect l="0" t="0" r="920" b="17297"/>
          <a:stretch/>
        </p:blipFill>
        <p:spPr>
          <a:xfrm>
            <a:off x="-36360" y="6105600"/>
            <a:ext cx="9180360" cy="779400"/>
          </a:xfrm>
          <a:prstGeom prst="rect">
            <a:avLst/>
          </a:prstGeom>
          <a:ln w="0">
            <a:noFill/>
          </a:ln>
        </p:spPr>
      </p:pic>
      <p:sp>
        <p:nvSpPr>
          <p:cNvPr id="8" name="1 CuadroTexto"/>
          <p:cNvSpPr/>
          <p:nvPr/>
        </p:nvSpPr>
        <p:spPr>
          <a:xfrm>
            <a:off x="6868440" y="645336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www.dane.gov.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11 Imagen" descr=""/>
          <p:cNvPicPr/>
          <p:nvPr/>
        </p:nvPicPr>
        <p:blipFill>
          <a:blip r:embed="rId11"/>
          <a:srcRect l="0" t="84078" r="0" b="0"/>
          <a:stretch/>
        </p:blipFill>
        <p:spPr>
          <a:xfrm>
            <a:off x="-36360" y="-27000"/>
            <a:ext cx="9251640" cy="14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7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D023A-3697-47FF-A791-F0AED434F57E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8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0F018-5B2D-44E8-BD15-44430447F709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Num" idx="9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45F35-5031-4638-AE36-166B08783E62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0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8D820-F2C9-4E33-95F1-6F24CE9ECFF1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sldNum" idx="1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7C3B4-CAC4-4C94-944A-05323AEF68E6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6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sldNum" idx="12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8CCA-59BE-43AD-884F-F9C29D943159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Num" idx="1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89540-2700-4491-A2D8-E865BB918FFE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Num" idx="1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7BE46-CA7F-4E48-A2C7-0A0F2BCCB172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sldNum" idx="15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243AE-4535-4A95-AAB4-36CAC16ABE8C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sldNum" idx="16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29B3B-268C-4782-BA78-2B2627C07B73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sldNum" idx="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2EC92-2D9D-49B7-A44B-A7E38AA26C41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sldNum" idx="17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9B033-DCA9-4DE6-AC11-E7FEA82BE072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21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sldNum" idx="18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1C5E8-4BBC-4281-A1C2-E0A98A1EDC3A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sldNum" idx="19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C1796-2960-4247-BDA3-D0307AD0D8D1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 type="sldNum" idx="20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B6CB8-BE27-4F83-8D07-5E4D196ABA60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sldNum" idx="21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BD6AB-4EAE-4FF9-BE53-173B069F1722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 type="sldNum" idx="2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99710-55C7-4C99-8E55-60F9D2BC0137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sldNum" idx="23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16646-FBC1-4B30-B8A7-0D31AFA9CC0F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6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 type="sldNum" idx="2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E27BA-5818-42A7-89D0-89E0497BB609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4427640" y="2639880"/>
            <a:ext cx="47149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image6.png"/>
          <p:cNvPicPr/>
          <p:nvPr/>
        </p:nvPicPr>
        <p:blipFill>
          <a:blip r:embed="rId2"/>
          <a:stretch/>
        </p:blipFill>
        <p:spPr>
          <a:xfrm>
            <a:off x="4427640" y="3932280"/>
            <a:ext cx="4714920" cy="109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dane_logo_2015_lema.jpeg"/>
          <p:cNvPicPr/>
          <p:nvPr/>
        </p:nvPicPr>
        <p:blipFill>
          <a:blip r:embed="rId3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image1.png"/>
          <p:cNvPicPr/>
          <p:nvPr/>
        </p:nvPicPr>
        <p:blipFill>
          <a:blip r:embed="rId4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image2.png"/>
          <p:cNvPicPr/>
          <p:nvPr/>
        </p:nvPicPr>
        <p:blipFill>
          <a:blip r:embed="rId5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image3.png"/>
          <p:cNvPicPr/>
          <p:nvPr/>
        </p:nvPicPr>
        <p:blipFill>
          <a:blip r:embed="rId6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27640" y="2852640"/>
            <a:ext cx="4114800" cy="71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sldNum" idx="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84513-652F-43E5-A92C-D1F1C41C64BB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" descr="dane_logo_2015_lema.jpeg"/>
          <p:cNvPicPr/>
          <p:nvPr/>
        </p:nvPicPr>
        <p:blipFill>
          <a:blip r:embed="rId2"/>
          <a:srcRect l="0" t="17330" r="0" b="17330"/>
          <a:stretch/>
        </p:blipFill>
        <p:spPr>
          <a:xfrm>
            <a:off x="0" y="2276640"/>
            <a:ext cx="9142560" cy="214596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2"/>
          <p:cNvGrpSpPr/>
          <p:nvPr/>
        </p:nvGrpSpPr>
        <p:grpSpPr>
          <a:xfrm>
            <a:off x="2279520" y="6019920"/>
            <a:ext cx="4581720" cy="287280"/>
            <a:chOff x="2279520" y="6019920"/>
            <a:chExt cx="4581720" cy="287280"/>
          </a:xfrm>
        </p:grpSpPr>
        <p:pic>
          <p:nvPicPr>
            <p:cNvPr id="184" name="Picture 3" descr="image1.png"/>
            <p:cNvPicPr/>
            <p:nvPr/>
          </p:nvPicPr>
          <p:blipFill>
            <a:blip r:embed="rId3"/>
            <a:stretch/>
          </p:blipFill>
          <p:spPr>
            <a:xfrm>
              <a:off x="22795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4" descr="image2.png"/>
            <p:cNvPicPr/>
            <p:nvPr/>
          </p:nvPicPr>
          <p:blipFill>
            <a:blip r:embed="rId4"/>
            <a:stretch/>
          </p:blipFill>
          <p:spPr>
            <a:xfrm>
              <a:off x="52873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5" descr="image3.png"/>
            <p:cNvPicPr/>
            <p:nvPr/>
          </p:nvPicPr>
          <p:blipFill>
            <a:blip r:embed="rId5"/>
            <a:stretch/>
          </p:blipFill>
          <p:spPr>
            <a:xfrm>
              <a:off x="377604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Rectangle 6"/>
            <p:cNvSpPr/>
            <p:nvPr/>
          </p:nvSpPr>
          <p:spPr>
            <a:xfrm>
              <a:off x="259524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@DANE_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Rectangle 7"/>
            <p:cNvSpPr/>
            <p:nvPr/>
          </p:nvSpPr>
          <p:spPr>
            <a:xfrm>
              <a:off x="410688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Rectangle 8"/>
            <p:cNvSpPr/>
            <p:nvPr/>
          </p:nvSpPr>
          <p:spPr>
            <a:xfrm>
              <a:off x="5592960" y="6053040"/>
              <a:ext cx="1268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5CFF5-8E3D-4A4E-B32C-70FC5787902E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4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40F04-E715-49D2-BBBC-B937A77477C8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sldNum" idx="5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E244E-1BB1-44C0-B9A8-264D4ABEDFEA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6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47C36-1807-4F02-8DB8-C7811AF87989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0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0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6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26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6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6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9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812880" y="44280"/>
            <a:ext cx="77184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ffff"/>
                </a:solidFill>
                <a:latin typeface="Verdana"/>
              </a:rPr>
              <a:t>Mercado Laboral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5" name="Picture 3" descr="C:\Users\maarias\Desktop\Fotografias_Boletin_Comunicado_Prensa_23_12_14\Fotografias_Boletin_Comunicado_Prensa\Boletin_DANE (1).pn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665440"/>
          </a:xfrm>
          <a:prstGeom prst="rect">
            <a:avLst/>
          </a:prstGeom>
          <a:ln w="0">
            <a:noFill/>
          </a:ln>
        </p:spPr>
      </p:pic>
      <p:sp>
        <p:nvSpPr>
          <p:cNvPr id="1256" name="Text Box 5"/>
          <p:cNvSpPr/>
          <p:nvPr/>
        </p:nvSpPr>
        <p:spPr>
          <a:xfrm>
            <a:off x="324000" y="3859200"/>
            <a:ext cx="408600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6014c"/>
                </a:solidFill>
                <a:latin typeface="Arial"/>
                <a:ea typeface="Arial"/>
              </a:rPr>
              <a:t>Tun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20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Bogotá D.C., Agosto de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Text Box 3"/>
          <p:cNvSpPr/>
          <p:nvPr/>
        </p:nvSpPr>
        <p:spPr>
          <a:xfrm>
            <a:off x="1225440" y="404640"/>
            <a:ext cx="68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 y variación de la población ocupada, según ramas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5 CuadroTexto"/>
          <p:cNvSpPr/>
          <p:nvPr/>
        </p:nvSpPr>
        <p:spPr>
          <a:xfrm>
            <a:off x="672840" y="5300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Text Box 4"/>
          <p:cNvSpPr/>
          <p:nvPr/>
        </p:nvSpPr>
        <p:spPr>
          <a:xfrm>
            <a:off x="-36360" y="5516640"/>
            <a:ext cx="925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*Otras ramas: Agricultura, ganadería, caza, silvicultura y pesca; explotación de minas y canteras; suministro de electricidad, gas y agua e intermediación financie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Nota: La suma de las participaciones puede diferir de 100%  por la no inclusión de la categoría “no informa” y por efecto de decimales.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0" name="1 Imagen" descr=""/>
          <p:cNvPicPr/>
          <p:nvPr/>
        </p:nvPicPr>
        <p:blipFill>
          <a:blip r:embed="rId1"/>
          <a:stretch/>
        </p:blipFill>
        <p:spPr>
          <a:xfrm>
            <a:off x="611280" y="1390680"/>
            <a:ext cx="773100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Text Box 3"/>
          <p:cNvSpPr/>
          <p:nvPr/>
        </p:nvSpPr>
        <p:spPr>
          <a:xfrm>
            <a:off x="1728720" y="404640"/>
            <a:ext cx="608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de la población ocupada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ramas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Text Box 4"/>
          <p:cNvSpPr/>
          <p:nvPr/>
        </p:nvSpPr>
        <p:spPr>
          <a:xfrm>
            <a:off x="682560" y="5237280"/>
            <a:ext cx="785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*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Otras ramas: Agricultura, ganadería, caza, silvicultura y pesca; explotación de minas y canteras; suministro de electricidad, gas y agua e intermediación financie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5 CuadroTexto"/>
          <p:cNvSpPr/>
          <p:nvPr/>
        </p:nvSpPr>
        <p:spPr>
          <a:xfrm>
            <a:off x="891360" y="5033880"/>
            <a:ext cx="1360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4" name="1 Imagen" descr=""/>
          <p:cNvPicPr/>
          <p:nvPr/>
        </p:nvPicPr>
        <p:blipFill>
          <a:blip r:embed="rId1"/>
          <a:stretch/>
        </p:blipFill>
        <p:spPr>
          <a:xfrm>
            <a:off x="1095480" y="1504800"/>
            <a:ext cx="66769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6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97" name="Rectangle 3"/>
          <p:cNvSpPr/>
          <p:nvPr/>
        </p:nvSpPr>
        <p:spPr>
          <a:xfrm>
            <a:off x="1403280" y="29559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SEGÚ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POSICIÓN OCUP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– junio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Text Box 3"/>
          <p:cNvSpPr/>
          <p:nvPr/>
        </p:nvSpPr>
        <p:spPr>
          <a:xfrm>
            <a:off x="1295280" y="620640"/>
            <a:ext cx="68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5 CuadroTexto"/>
          <p:cNvSpPr/>
          <p:nvPr/>
        </p:nvSpPr>
        <p:spPr>
          <a:xfrm>
            <a:off x="873000" y="4970520"/>
            <a:ext cx="1611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Text Box 4"/>
          <p:cNvSpPr/>
          <p:nvPr/>
        </p:nvSpPr>
        <p:spPr>
          <a:xfrm>
            <a:off x="900000" y="5343480"/>
            <a:ext cx="77392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Otras Posiciones º :  Obrero, empleado del gobierno; Empleado doméstico; Patrón o empleador; Trabajador familiar sin remuneración; Trabajador sin remuneración en empresas de otros hogares; Jornalero o Peón  y Otr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2" name="1 Imagen" descr=""/>
          <p:cNvPicPr/>
          <p:nvPr/>
        </p:nvPicPr>
        <p:blipFill>
          <a:blip r:embed="rId1"/>
          <a:stretch/>
        </p:blipFill>
        <p:spPr>
          <a:xfrm>
            <a:off x="826920" y="1711440"/>
            <a:ext cx="7566120" cy="32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Text Box 3"/>
          <p:cNvSpPr/>
          <p:nvPr/>
        </p:nvSpPr>
        <p:spPr>
          <a:xfrm>
            <a:off x="1763640" y="69228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de la población ocupada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Text Box 4"/>
          <p:cNvSpPr/>
          <p:nvPr/>
        </p:nvSpPr>
        <p:spPr>
          <a:xfrm>
            <a:off x="1022400" y="5861160"/>
            <a:ext cx="183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8 CuadroTexto"/>
          <p:cNvSpPr/>
          <p:nvPr/>
        </p:nvSpPr>
        <p:spPr>
          <a:xfrm>
            <a:off x="1191240" y="4923000"/>
            <a:ext cx="146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Text Box 4"/>
          <p:cNvSpPr/>
          <p:nvPr/>
        </p:nvSpPr>
        <p:spPr>
          <a:xfrm>
            <a:off x="1114560" y="5218200"/>
            <a:ext cx="77054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Otras Posiciones º :  Obrero, empleado del gobierno; Empleado doméstico; Patrón o empleador; Trabajador familiar sin remuneración; Trabajador sin remuneración en empresas de otros hogares; Jornalero o Peón  y Otr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7" name="1 Imagen" descr=""/>
          <p:cNvPicPr/>
          <p:nvPr/>
        </p:nvPicPr>
        <p:blipFill>
          <a:blip r:embed="rId1"/>
          <a:stretch/>
        </p:blipFill>
        <p:spPr>
          <a:xfrm>
            <a:off x="1119240" y="1623960"/>
            <a:ext cx="697536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9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310" name="Rectangle 3"/>
          <p:cNvSpPr/>
          <p:nvPr/>
        </p:nvSpPr>
        <p:spPr>
          <a:xfrm>
            <a:off x="1403280" y="29559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INACTIVA 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TIPO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– junio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Text Box 3"/>
          <p:cNvSpPr/>
          <p:nvPr/>
        </p:nvSpPr>
        <p:spPr>
          <a:xfrm>
            <a:off x="1133640" y="692280"/>
            <a:ext cx="687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inactiva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tipo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5 CuadroTexto"/>
          <p:cNvSpPr/>
          <p:nvPr/>
        </p:nvSpPr>
        <p:spPr>
          <a:xfrm>
            <a:off x="1282320" y="49831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Text Box 4"/>
          <p:cNvSpPr/>
          <p:nvPr/>
        </p:nvSpPr>
        <p:spPr>
          <a:xfrm>
            <a:off x="1262160" y="5199120"/>
            <a:ext cx="7342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Nota: la categoría “otros” incluye: incapacitado permanente para trabajar, rentista, pensionado, jubilado, personas que no les llama la atención o creen que no vale la pena trabaj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5" name="1 Imagen" descr=""/>
          <p:cNvPicPr/>
          <p:nvPr/>
        </p:nvPicPr>
        <p:blipFill>
          <a:blip r:embed="rId1"/>
          <a:stretch/>
        </p:blipFill>
        <p:spPr>
          <a:xfrm>
            <a:off x="1517760" y="1630440"/>
            <a:ext cx="6149880" cy="33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5 CuadroTexto"/>
          <p:cNvSpPr/>
          <p:nvPr/>
        </p:nvSpPr>
        <p:spPr>
          <a:xfrm>
            <a:off x="2093760" y="557388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Text Box 3"/>
          <p:cNvSpPr/>
          <p:nvPr/>
        </p:nvSpPr>
        <p:spPr>
          <a:xfrm>
            <a:off x="1133640" y="836640"/>
            <a:ext cx="687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Proporción del empleo informal en la población ocupad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unj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 abril – junio (2014 – 20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8" name="1 Imagen" descr=""/>
          <p:cNvPicPr/>
          <p:nvPr/>
        </p:nvPicPr>
        <p:blipFill>
          <a:blip r:embed="rId1"/>
          <a:stretch/>
        </p:blipFill>
        <p:spPr>
          <a:xfrm>
            <a:off x="1951200" y="2144880"/>
            <a:ext cx="5305320" cy="34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4 CuadroTexto"/>
          <p:cNvSpPr/>
          <p:nvPr/>
        </p:nvSpPr>
        <p:spPr>
          <a:xfrm>
            <a:off x="1476360" y="981000"/>
            <a:ext cx="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5 CuadroTexto"/>
          <p:cNvSpPr/>
          <p:nvPr/>
        </p:nvSpPr>
        <p:spPr>
          <a:xfrm>
            <a:off x="703080" y="504720"/>
            <a:ext cx="7252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Límites de confianza y error relativo de la población de la fuerza 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trabajo e indicadores de mercado labo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cc0066"/>
                </a:solidFill>
                <a:latin typeface="Calibri"/>
                <a:ea typeface="Calibri"/>
              </a:rPr>
              <a:t>Tun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1" name="1 Imagen" descr=""/>
          <p:cNvPicPr/>
          <p:nvPr/>
        </p:nvPicPr>
        <p:blipFill>
          <a:blip r:embed="rId1"/>
          <a:stretch/>
        </p:blipFill>
        <p:spPr>
          <a:xfrm>
            <a:off x="1579680" y="1617840"/>
            <a:ext cx="6394320" cy="2197080"/>
          </a:xfrm>
          <a:prstGeom prst="rect">
            <a:avLst/>
          </a:prstGeom>
          <a:ln w="0">
            <a:noFill/>
          </a:ln>
        </p:spPr>
      </p:pic>
      <p:pic>
        <p:nvPicPr>
          <p:cNvPr id="1322" name="2 Imagen" descr=""/>
          <p:cNvPicPr/>
          <p:nvPr/>
        </p:nvPicPr>
        <p:blipFill>
          <a:blip r:embed="rId2"/>
          <a:stretch/>
        </p:blipFill>
        <p:spPr>
          <a:xfrm>
            <a:off x="1755720" y="3994200"/>
            <a:ext cx="615168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1 CuadroTexto"/>
          <p:cNvSpPr/>
          <p:nvPr/>
        </p:nvSpPr>
        <p:spPr>
          <a:xfrm>
            <a:off x="684360" y="333360"/>
            <a:ext cx="784836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Boyac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Anu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2007 - 20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4 CuadroTexto"/>
          <p:cNvSpPr/>
          <p:nvPr/>
        </p:nvSpPr>
        <p:spPr>
          <a:xfrm>
            <a:off x="1048320" y="56959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5" name="1 Imagen" descr=""/>
          <p:cNvPicPr/>
          <p:nvPr/>
        </p:nvPicPr>
        <p:blipFill>
          <a:blip r:embed="rId1"/>
          <a:stretch/>
        </p:blipFill>
        <p:spPr>
          <a:xfrm>
            <a:off x="747720" y="1773360"/>
            <a:ext cx="729612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8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59" name="Rectangle 4"/>
          <p:cNvSpPr/>
          <p:nvPr/>
        </p:nvSpPr>
        <p:spPr>
          <a:xfrm>
            <a:off x="1050840" y="1979640"/>
            <a:ext cx="77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Indicadores</a:t>
            </a:r>
            <a:r>
              <a:rPr b="1" lang="es-ES" sz="3200" spc="-1" strike="noStrike">
                <a:solidFill>
                  <a:srgbClr val="a7a7a7"/>
                </a:solidFill>
                <a:latin typeface="Arial Narrow"/>
                <a:ea typeface="Calibri"/>
              </a:rPr>
              <a:t> </a:t>
            </a: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del mercado lab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Rectangle 3"/>
          <p:cNvSpPr/>
          <p:nvPr/>
        </p:nvSpPr>
        <p:spPr>
          <a:xfrm>
            <a:off x="2124000" y="295596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23 ciudades y áreas metropolita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– junio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1"/>
          <p:cNvSpPr/>
          <p:nvPr/>
        </p:nvSpPr>
        <p:spPr>
          <a:xfrm>
            <a:off x="0" y="763560"/>
            <a:ext cx="46432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Text Box 3"/>
          <p:cNvSpPr/>
          <p:nvPr/>
        </p:nvSpPr>
        <p:spPr>
          <a:xfrm>
            <a:off x="412920" y="87012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Resumen indicad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Tunja</a:t>
            </a:r>
            <a:r>
              <a:rPr b="1" lang="es-ES" sz="1600" spc="-1" strike="noStrike">
                <a:solidFill>
                  <a:srgbClr val="cc0066"/>
                </a:solidFill>
                <a:latin typeface="Calibri"/>
                <a:ea typeface="Calibri"/>
              </a:rPr>
              <a:t>  </a:t>
            </a: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– Total N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5 CuadroTexto"/>
          <p:cNvSpPr/>
          <p:nvPr/>
        </p:nvSpPr>
        <p:spPr>
          <a:xfrm>
            <a:off x="545760" y="48229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4" name="1 Imagen" descr=""/>
          <p:cNvPicPr/>
          <p:nvPr/>
        </p:nvPicPr>
        <p:blipFill>
          <a:blip r:embed="rId1"/>
          <a:stretch/>
        </p:blipFill>
        <p:spPr>
          <a:xfrm>
            <a:off x="395280" y="2349360"/>
            <a:ext cx="851544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Text Box 4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Text Box 3"/>
          <p:cNvSpPr/>
          <p:nvPr/>
        </p:nvSpPr>
        <p:spPr>
          <a:xfrm>
            <a:off x="179280" y="2408400"/>
            <a:ext cx="2737080" cy="14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Indicadores de mercado laboral por ciu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0066"/>
                </a:solidFill>
                <a:latin typeface="Arial Narrow"/>
                <a:ea typeface="Calibri"/>
              </a:rPr>
              <a:t>Abril – junio 201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8 CuadroTexto"/>
          <p:cNvSpPr/>
          <p:nvPr/>
        </p:nvSpPr>
        <p:spPr>
          <a:xfrm>
            <a:off x="3567240" y="6043680"/>
            <a:ext cx="5576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(+) (-): Aumento o disminución de la TD de cada ciudad frente al mismo trimestre del año anterior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*El total de las 23 ciudades no incluye San Andrés por tener una distribución de la muestra diferen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Los resultados presentados para San Andrés corresponden al período enero - junio 2015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3 Rectángulo"/>
          <p:cNvSpPr/>
          <p:nvPr/>
        </p:nvSpPr>
        <p:spPr>
          <a:xfrm>
            <a:off x="2916360" y="2492280"/>
            <a:ext cx="5903640" cy="20808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0" name="1 Imagen" descr=""/>
          <p:cNvPicPr/>
          <p:nvPr/>
        </p:nvPicPr>
        <p:blipFill>
          <a:blip r:embed="rId1"/>
          <a:stretch/>
        </p:blipFill>
        <p:spPr>
          <a:xfrm>
            <a:off x="2987640" y="309600"/>
            <a:ext cx="600084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Text Box 3"/>
          <p:cNvSpPr/>
          <p:nvPr/>
        </p:nvSpPr>
        <p:spPr>
          <a:xfrm>
            <a:off x="1441440" y="250524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Text Box 3"/>
          <p:cNvSpPr/>
          <p:nvPr/>
        </p:nvSpPr>
        <p:spPr>
          <a:xfrm>
            <a:off x="1332000" y="692280"/>
            <a:ext cx="6408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unj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Abril – junio (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2009 – 20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5 CuadroTexto"/>
          <p:cNvSpPr/>
          <p:nvPr/>
        </p:nvSpPr>
        <p:spPr>
          <a:xfrm>
            <a:off x="1949400" y="55008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4" name="1 Imagen" descr=""/>
          <p:cNvPicPr/>
          <p:nvPr/>
        </p:nvPicPr>
        <p:blipFill>
          <a:blip r:embed="rId1"/>
          <a:stretch/>
        </p:blipFill>
        <p:spPr>
          <a:xfrm>
            <a:off x="1616040" y="1971720"/>
            <a:ext cx="610560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Text Box 3"/>
          <p:cNvSpPr/>
          <p:nvPr/>
        </p:nvSpPr>
        <p:spPr>
          <a:xfrm>
            <a:off x="992160" y="404640"/>
            <a:ext cx="714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asa de desempl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un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s móviles 2011 - 2015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5 CuadroTexto"/>
          <p:cNvSpPr/>
          <p:nvPr/>
        </p:nvSpPr>
        <p:spPr>
          <a:xfrm>
            <a:off x="2525400" y="58053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7" name="1 Imagen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7272360" cy="42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4"/>
          <p:cNvSpPr/>
          <p:nvPr/>
        </p:nvSpPr>
        <p:spPr>
          <a:xfrm>
            <a:off x="1908000" y="765000"/>
            <a:ext cx="489600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Población ocupada, desocupada e inactiva </a:t>
            </a:r>
            <a:br>
              <a:rPr sz="2200"/>
            </a:b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Tunj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Abril - junio (2014 – 2015)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9" name="1 Imagen" descr=""/>
          <p:cNvPicPr/>
          <p:nvPr/>
        </p:nvPicPr>
        <p:blipFill>
          <a:blip r:embed="rId1"/>
          <a:stretch/>
        </p:blipFill>
        <p:spPr>
          <a:xfrm>
            <a:off x="200160" y="2421000"/>
            <a:ext cx="86421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1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2" name="Rectangle 3"/>
          <p:cNvSpPr/>
          <p:nvPr/>
        </p:nvSpPr>
        <p:spPr>
          <a:xfrm>
            <a:off x="1258920" y="3068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COMPORTAMIENTO DEL MERCADO LABO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4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5" name="Rectangle 3"/>
          <p:cNvSpPr/>
          <p:nvPr/>
        </p:nvSpPr>
        <p:spPr>
          <a:xfrm>
            <a:off x="1403280" y="295596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RAMA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– junio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7T13:39:03Z</dcterms:created>
  <dc:creator>jcolarteb</dc:creator>
  <dc:description/>
  <dc:language>en-US</dc:language>
  <cp:lastModifiedBy>Jeanette Consuelo  Olarte Bustos</cp:lastModifiedBy>
  <cp:lastPrinted>2015-02-02T21:17:46Z</cp:lastPrinted>
  <dcterms:modified xsi:type="dcterms:W3CDTF">2015-08-14T19:46:38Z</dcterms:modified>
  <cp:revision>917</cp:revision>
  <dc:subject/>
  <dc:title>PRINCIPALES RESULTADOS DEL MERCADO LABORAL JUNIO de 2012 Resultados Marco 2005.  Datos expandidos con proyecciones de población elaboradas con base en los resultados del Censo 2005  Julio 31 de 2012</dc:title>
</cp:coreProperties>
</file>