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72C5-77E4-46E4-B7BE-AD22A11DDF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31F4-92FB-460A-BBC5-7A8998419D3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31BE-2103-4646-AA8C-E9D6B7B506F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4C87-D4A0-41F9-AC8D-7C419B8E1BA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BDBA-F681-4CE4-A765-BB89C763495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0615-8E83-4B7E-9ED8-AA8E2D178AB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92A5-F927-40B9-8CB8-006A359A684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BB39-92CA-47E6-8787-9D90F96DAD6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8365-9292-474B-B4B4-B622BD8AA1C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32FC-E6D6-45B2-B26E-18CB4344E51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E13B-AC19-4B0D-8A28-43B5669B5FC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B3B9-21B8-4664-BF51-16EF4ECA97A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0134-7341-43AD-8DEF-BB5FD7A022A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4150-523E-40F8-8A94-A440FCABCBE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2234-4E03-44AF-AF32-0AE1BB11F2B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A8834-64E4-41A9-A75E-E45AC81A2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01C398-D075-4F3E-8729-9E408EF240A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F188B9-92A4-41C0-8EA9-571F4E9E04C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7A14A1-A23D-476E-9926-A2A4736D5C0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D4E3DF-6215-4EED-B6A0-0BB0E6DEB84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9EF4A-0FC3-4AD7-B8B8-3C294C7A582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E3189C-1E34-458B-BC78-61F4F7E3AB8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4DB24-C5C2-4070-90AB-CC16105D0CB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B06692-DF56-4351-B58B-2CA44374023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1D6AC2-DBD8-4FA9-BAFD-54E0F1BF581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E94724-5FB7-4DB4-B0EB-C4ED6DE38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2F33BE-DBBD-42E8-9941-C6E62E6F5AC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060E3-8D43-4644-87DB-7EC3CDE0C91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433E5-4369-44EA-A6F8-6AD68A72B24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93571-3398-400B-9DE4-40D647CB88A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8CF47-99DF-4ABF-A29C-81837C13BF5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D03AD-B38A-4102-8559-79AE9A667C5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77E1A-A0C1-4DCD-A72A-277907F36EF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B5F61-3290-45B1-AE04-AA5EBF76379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C5619-3FF4-4B3A-BAA6-FF09E1336FC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8BCB9-9122-4875-B763-D121F91C2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6436-5F07-403A-951C-3131DF84E3B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6A0CE-C4BA-4F6B-91D8-0CAF3E685E4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D1336-0AAD-4564-ADE2-B970523F210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E3242-BCA6-496F-8695-2B767C38B0D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983D0-C1CA-4798-B8C8-79AEA963F4C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99689-2CF9-44A1-84F0-DB8180432AF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755C4-8AFF-4BE6-88A1-B7D96BF315E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CF1E9-E2AB-4789-9918-F3D737B98A0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3CDA-D132-43AD-947D-20F3EFE48E7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6768-4FD0-40BA-8438-702B6EEBBB8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D2DB5-10D3-47B7-AE68-0C0251C552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DD5C-83CE-4E01-91D5-F8AD2502735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137B1-C5AC-42C3-B116-89E11E007FD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1E0CC-14C8-4D08-8CF6-F944F1ABF33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1C40-49EA-48F4-BF7F-C71EA79DEED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C37C-3B63-4D67-9DCF-AB1EBFC1F31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32060-02E0-4EC7-AE52-3D863FB9314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60B9D4-C476-495B-BB3F-3F31B9D27FE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3F51B6-3697-448B-9C16-B640A000D4A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EBA22-9641-40F2-B28E-B7DA58EEAC1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D3596C-06ED-4826-9D79-8EE72917A25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865EE0-6FD3-47FD-9295-230F6E4338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5250-AB33-42E2-86B4-65581334B2E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A5C0AD-926F-48F3-9382-256C4773234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F18328-05A5-4EFD-B0D1-1D6C38C00E9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811624-BB35-4022-B107-CD805441403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5691F-AE8E-4DC1-9F39-D8B70FA0F06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FF4ACE-8A73-42FD-B1EE-FE2E7B29B69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D5C2A-080A-4BAF-9B16-42180C57900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3E29B0-A1C6-40A8-B9B3-0C884B454FE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E2BB9-FA32-4950-9377-E612A36DEB7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E20725-483E-4A8A-BD2F-B03EF8FCB06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940EE-AA2A-4623-8AE4-10D40A0F64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8791-99E4-4F44-849D-21482AAD87C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42C5C-3BD1-4DC6-8199-9573ED85EA9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EE5E3-4563-4C2C-8D69-078F1104845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F0775-85F0-4AD1-A733-7504B563C2D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335537-D51E-4407-BF06-77F38FC93D3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981066-7285-4F67-B228-0EEE967F6BB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F60F47-4062-442F-BB1A-DFCE7E4CEED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A4B65-71C8-4D83-B1EF-DB83A5D81CF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F87E8-2567-48AD-BD3C-6F90D311612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0E7F2E-F961-476E-A262-DA70941B6F6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6FD14-3BBC-47FD-A0F1-61C4CE6900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1EEE-8E8A-4C27-999D-E470F67B0EC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B8A93-8B40-4BD3-96EE-99113FE89B0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00441-5886-4EEA-816C-C1D0D890448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583BB-B1FD-4329-9BD3-A83B88E4E10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27128-FBA2-47B3-929D-F371B86CBDC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5C350-B83F-4DE0-9AAF-5EE7358512E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E3381-457E-473A-BC9F-88C6B3C8766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CD6BC-A991-48FC-BD21-A34E5E60F0F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FAC4B-26B6-4DC1-B0AD-B2E9BB7F0FF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6F97F-B572-4FF1-B780-73270BC199E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3FD0-ADA5-4EC0-8BC2-33165FC7A0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2BCA-2A84-473B-B714-4E88AE21C29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77CE7-7148-4117-9B97-044658D7BC5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5326D5-0E3C-4787-9CFA-CF958AB64AE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7699F8-98F5-432F-A57D-30B53BEBBCD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20BE70-7E41-438C-B447-323BFEBE2D4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8BDF0F-CF83-4FA1-9A62-4B177D67663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80472B-24F8-4942-952B-2953C77AA0B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03AC1A-C3F9-4008-A227-B352CFE046C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7F47E7-DCA8-48E5-8680-18053E0DC09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C87DBA-79E2-496D-B4F2-2824EE67CB3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5900E5-1BAA-4B1C-ACF8-3EE50C6DE3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6CE5-4E49-48E8-ABE8-1B4EFD17FF9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B00EDD-D574-4478-BB19-23D5444E26C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FE35A6-EC03-4B6C-B79E-C2B6C99D372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A96B41-79CB-4CE9-AFF4-32326020656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88A9F-CFD3-499F-B588-03393D1D53E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91C72-71DB-4C36-A938-1C3AB0489AF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BA1CD-7A36-4672-B641-851ADD001A7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4A955-8B1C-4886-9069-9A669047AD9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7A4AD-0D99-4709-9546-425852682B3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FB572-6671-40CE-B570-7F614F954F1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A01C5-EBF3-44E3-AD26-CB06150275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3A3F-C3D7-4470-AA60-FDD12BE83C2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3A747-FC7B-4A69-A51D-2BF0AE17D5C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A0215-3D1D-4D42-93BB-0736DEBD305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99E6A-2F99-44AC-B9AE-647A5247444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9E80EA-BD52-4C29-9910-62C8561B2F0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B500A-20F5-4601-A4F9-2FE08C88308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4EF19-75C3-496C-9144-79655E88B75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02204-ADD7-4296-A928-0CE699E711D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9A51E-96B7-4EC0-B9AF-06011695E5F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FB2BB-D799-474D-9BB1-0767B217E64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E8A30-A7CB-4FF3-990B-09DFA57818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14B5-DA0A-4AC0-945B-BB6EF42B9A7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14337-EBD8-4928-AB12-F8D9AFAA7A7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7E964-8437-40D7-974E-63F325DD0C8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1EE0D-44F1-44D2-8B8A-F4FCB0BF1ED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E6732-17F5-4916-A06D-DB5311F3F70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79048-C29C-43D7-AE0A-08207A1F21E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507B2-5614-4B63-97BF-2AF210C99C2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FDA26-FB5C-425F-935A-C6A0C3E3AEF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C22D83-EF7E-4C1A-8C9C-2271666A6A2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8A93BA-4CBA-49D2-9BB3-6D6CAF00EF6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65D741-E1A9-4FA0-9964-B3D101ED69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9E61-8079-4EB3-AA74-954DE14AEDF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1CB6B9-1961-467C-B49C-C86BE28CA51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9B0576-5DF5-428E-9B0E-D71AFE3C14C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3CD178-9350-47A7-AC7B-1BB10E7394D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A1074B-76B9-497E-AEDA-9D817AB5D6D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FDC75E-5A13-479D-ACCF-9B51DE087E2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61484E-D236-4092-90F6-5086974FB83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33A264-EB6C-455D-AD98-E2205BFADFA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C5F6A6-B352-4775-816D-025D106B809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1FD60B-6B5F-484E-A64C-1E2AAFC3C23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8EE2C-7797-4C30-B95B-46644A13D5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CC13-7013-4135-AF93-5395ACD383D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988D7-4292-44F9-B480-F0A82D737E0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E33C9-7173-47AC-A0ED-863FCBD793F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7E9AD-8B72-4E91-945D-F3CA9B5C67F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6B8D96-11D0-4C67-9D17-6BBBD41EFA3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3833E5-4431-4753-8F51-2377AEBA829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B7897C-E0A1-4B10-AF68-EB4BF7A7954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3D6D6B-1E3E-417F-A669-9AD47FF930A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792589-A8CF-4A9C-A357-CFF5AE1D94A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E9823-7F20-4966-AAB9-A8DEFAB2D2E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6AE5FC-DBCD-450D-A716-8BB7A0B9D5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393C-22F0-428F-9A03-C1EDE4ACEB8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106520-0B20-4FEE-903C-7A74097A256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BB5EC-5760-41D3-ABC9-B5B7ED84C08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2775A-BE7D-4DBD-AC86-02A4181EE31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7AE8C-4948-42E4-A0B0-2236F37DB9C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7D3F0-7C74-4887-9E36-6709E7DAB9B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1D3B5-E5BF-46A7-91D7-7C81684707C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7985B-2632-406A-81DB-2FE6218F98D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4FF16-7798-4569-9252-8EFCB7463FF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28608-77E2-425D-AA3B-6ECC4404614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7B30E-1BC5-4FAE-9ED7-DF35DC2E98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7AACA-2FAF-4C09-9F17-444AF4C145A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89800-FC93-4269-98D9-4FCBF599581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20461-DA79-4A05-BBE2-7D89373F0B7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6D0EB6-E1B0-4BF6-9863-38EA81C571C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3FDA00-5C51-4772-AEFE-F84D1C043D0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328280-C560-4B6A-BA94-8D08F3BD2C2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44F04D-7A89-4A93-9E06-0521545AA4C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0A6707-4558-4FE5-9EFA-186CCA1D749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98114B-1B3A-4A94-A097-55E2175CAD5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4D37CF-DB20-4C4C-99D9-38E9A5D15A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F2FA73-D10C-4F8D-9162-CE00BED76F1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AD5A95-4741-45B1-ACAA-EA8E3314F1A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4AB484-95FA-48DD-8FBD-F028CC317BA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CF606D-EFDB-42EF-8C53-04D374FF48E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D99BEE-94C5-42F9-9379-CBB669AF4D3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043C2-801E-4AA2-9EBC-34FD9E0F9F8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CEA4AF-70B8-422A-B247-CF2C98A31F7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2C56C8-A33B-4A85-AE33-E5F0904F431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5E297A-8758-4823-A6AB-3D166A2E5A7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CC190-571E-4E82-B613-4695EC57EB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3D0AC-3DCE-4986-B6D5-4395EF1D782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BD739-5C2A-4D69-8F34-2F76EB8A2B2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E4294-C24A-45AA-80BA-28A5DB9EA57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67C84A-77BC-483B-8E8C-8DF130F6A9A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F258D-43E8-4194-9F8D-F3575556821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5AF320-FB5E-40B4-AD4C-22783C3EA83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9BA60F-330D-494C-BCED-8920DFA1A95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1DD7A-A80D-449D-B57E-3F6320EAE4A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00C78-14A0-456A-BBCF-528B3378015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7E35A-36DE-4FAD-B6A9-ED019AC0B6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7B79C-3197-423D-A8F6-7B5C7B7751B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35300-96D3-4137-AE03-461B7ECD86B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DE23F-4476-4D03-89FF-C8A35EA2D25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6653A-A7E4-4C43-BEC4-5693DC843AE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CB679-F91D-4B52-9AE4-A1D936806D3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DB5AE-9B98-407E-8E46-3C1517A7C59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8E80A-70B4-48C5-A8B7-4F73F44FBF7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5D917-F1C7-4682-A7B2-7C10B2941A5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990B8-43EA-4BE9-BF12-8371C6073EE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70FFD4-AEEF-4B35-9B72-FD4C144EDC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E4038D-593F-46D7-82C3-29BD3EEE785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D076D1-94CB-48AC-B815-055322FE455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021656-53BC-4302-A324-ACF8548C144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260A95-BD63-4F38-A19B-522C3AD296F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6B57B8-A664-417A-9E8E-554DD28FCF5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24D93B-11B1-40C7-821A-3AE4A144521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9B5AE5-1888-4710-99CB-1FCF17B5BBC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F5E984-3A47-4770-9E8D-65DEFB9266F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58607A-9115-49DD-B27D-6A133B12AD5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B4E618-C3D6-4C62-B94D-A72DDF5860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0AED48-F4B8-404F-B4BF-335520FD672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075DBF-259A-41B1-A81C-B6189669556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445A04-BD29-4BB9-BE10-81A29311BFE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60A969-D451-4818-B970-6BE57B052ED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4751A6-A220-47B9-AC60-BEA819335EF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452499-68A9-4F42-B611-685AA876926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89A788-5F52-4E1D-827E-DCDD835A265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4DC591-7CCA-44E3-8E0C-3D5A5779831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D5E8A8-06FF-4DBB-8169-5451722BE49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0B2686-67FD-4A47-AAE4-11E18B03EE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A70454-48DE-4E10-92EA-8A2A83C64EA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8572BF-B05E-4F73-AE3B-A2A893CEB45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FF5648-3DDA-4329-9F9A-F545F9636B1A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28DD8-9846-4563-A04C-1DDF69A0627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D3D41-8F00-4CD2-9C69-F9F8D876DDF0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25AC3-0D1A-4BCB-9B90-67C604961BE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24803-B71F-4343-B307-DA6F84129E8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1E4AA-B01E-48E9-B4A6-81F3C7329126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BD3A2-4D35-4EA2-88B2-12C40E0EB4E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6D4E6-31E4-4786-8BED-5773EA2B11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91AD5-8755-452B-B542-2D9A67F8C2D4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13DF0-EBB5-4C4E-B0BA-6ECBE4FE31A8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E96BE-AC11-4DCB-99E6-63DD2893D4C6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AA2C3-CD7E-42BA-A370-BBC6ADE8397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48BCC-CEE7-4E75-B7E8-A7C697E1312E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ADCB1-E5D5-4EF5-854F-AB8A943A05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0354-DD73-4682-87F9-7CB5A4C67B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E930-9BB3-4D8D-ABAA-DB77EA44B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92F1E-6ADE-4218-9693-E2B8D459FF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2E62-2462-44F7-B5AF-1021C6D974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ED54-1701-47C8-94F5-A54748407E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3CBD-FF05-40F3-B0AA-B36F819458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F8B42-AFF9-4E29-B864-F25192AA8E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59C6-ABC3-4BE3-B96A-BB185BA316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CE73-E095-4B81-BE84-235001E8ED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5357-8912-4560-88F8-4194355B52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02DCF-2BB8-49B8-B228-D2D348B5FAC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48F-D1F5-4128-BA7E-96262300DA6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207-748E-4B81-BC00-EB731336EC3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E2C-251E-4D4D-88E1-4C2B54012C6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272-5E59-4533-8474-F13E293D6E6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96A-F00E-440B-B10E-97686324744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6AE-8157-4BC1-8DDF-9363C9DE865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41C-7726-46E3-A19A-5D3B973389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A0E-A536-4998-A2AD-C86AC5F92C5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2AE-CB56-4AA4-B8C7-2176E2C6E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04B-51F4-4B3D-8A40-21F1948657A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97A-68EA-40A3-B79C-87BE0F6D14A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CFA2-4F92-4FE0-9306-C692D7006BB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38EBE-18BD-400D-B541-B2AEFF7EC7A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F8555-F2EF-4F8B-876F-3CB451CCA7C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ED3E1-BF6C-483C-9C52-228348B9E59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A1202-EBBD-4994-B767-91AA3015BC4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B1C8D-66A6-47F7-9624-369F12C754E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8B8EB-2C2A-4576-82F4-73852F678B4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FF91F-0C32-428E-92CD-ABA98C952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63603-A8ED-4B5A-968F-16A7E010C53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8F2A6-ED00-40BB-A761-E78ADA743AD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E1CE1-A59F-482F-A9C4-14092008269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12C77-1926-46D6-B343-C2C92E56418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65F10-402E-496C-96A2-F87647FEB76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8362A-84A0-4735-A682-75B26733F13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AA28C-0112-4A78-B52E-D3286CAE777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5E11E-ABD7-4AC9-ABC7-B7A85120F20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66F3D-93F8-4424-97C8-6D86C545F78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B4DEA-C169-4DF3-8A16-6A6B6F7B7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C4669-D012-4163-AAE9-1BCC07E3519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3AA38-58CE-4A30-9D70-93C1F5DA3CD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25738-094B-4626-BF0C-6EB644012A8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FCCE5-67BE-4948-B185-861F65DA269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982F7-4918-4031-AD37-8CD493D237C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C699A-8C13-4864-8709-2BF8B15399D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ED100-343D-4F28-8AD0-546F54B2A2E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DE38-2FCB-4989-95CB-DE9A8E1045F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B21B-C664-4D3D-94F5-C0B7618BCAB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2BB2-DCC7-4529-A768-7F3A6E315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7B9C-85AD-43D3-A9BF-FCCA8CC2EF7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5895-A798-4553-B377-F6A4CE3159C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FF6A-9FA8-4606-8F48-AEA13D5D41E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0C82-3572-475F-8BFE-31B76A7428B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B7B1-1F6B-4CC6-AB01-FD6E6C9E33A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0F76-4F60-44D2-9DA5-F4045046C87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4327-F436-4FD8-82C8-F5B9E00B0CC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2E89-522E-4F8B-86D9-47D4D68B6EF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0EF8-6C77-46BA-A286-F278AB9D663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C3F1-D523-48FB-8DF7-1B0B24FAEC6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7848-0B2D-4E23-9A52-EFB8402712F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686D-14E6-42EF-AA9B-864BC91823D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323E-70C7-43AE-920C-787C1B21B8D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43D7-E255-4D06-AC93-8FF0606281E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C4AA-FBDC-48A7-8CFF-57ED4CC00CD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C364-4E3B-43FC-8F17-2D0140E604A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7EEB-8E49-47FB-B564-6F8F8C42287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B9EC-CB11-405C-A1B7-0461737755B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B017-B72B-4C28-A191-6903666CDA9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35C7-979F-449F-8EB2-FDBB2236EF8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C9F0-15C7-48B8-953C-4F2C663CB1E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2F5D-5F37-4CDE-BF5D-4F90586094F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2E01-7DC4-40F4-9AD5-1D16C233E06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56D5-CC68-4C32-AC5D-3A019443781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Quibd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1 Imagen" descr=""/>
          <p:cNvPicPr/>
          <p:nvPr/>
        </p:nvPicPr>
        <p:blipFill>
          <a:blip r:embed="rId1"/>
          <a:stretch/>
        </p:blipFill>
        <p:spPr>
          <a:xfrm>
            <a:off x="692280" y="1341360"/>
            <a:ext cx="7603920" cy="372744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3"/>
          <p:cNvSpPr/>
          <p:nvPr/>
        </p:nvSpPr>
        <p:spPr>
          <a:xfrm>
            <a:off x="1150920" y="47484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468360" y="5157720"/>
            <a:ext cx="820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 suministro de electricidad, gas y agua;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suma de las participaciones puede diferir de 100% debido a la no inclusión de la categoría  “No informa” y por concepto de deci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6 CuadroTexto"/>
          <p:cNvSpPr/>
          <p:nvPr/>
        </p:nvSpPr>
        <p:spPr>
          <a:xfrm>
            <a:off x="1122120" y="4869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1117440" y="325440"/>
            <a:ext cx="690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1101600" y="1413000"/>
            <a:ext cx="6610320" cy="3895560"/>
          </a:xfrm>
          <a:prstGeom prst="rect">
            <a:avLst/>
          </a:prstGeom>
          <a:ln w="0">
            <a:noFill/>
          </a:ln>
        </p:spPr>
      </p:pic>
      <p:sp>
        <p:nvSpPr>
          <p:cNvPr id="1296" name="1 Rectángulo"/>
          <p:cNvSpPr/>
          <p:nvPr/>
        </p:nvSpPr>
        <p:spPr>
          <a:xfrm>
            <a:off x="539640" y="5445000"/>
            <a:ext cx="777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suministro de electricidad, gas y agua; intermediación financiera 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7 CuadroTexto"/>
          <p:cNvSpPr/>
          <p:nvPr/>
        </p:nvSpPr>
        <p:spPr>
          <a:xfrm>
            <a:off x="122544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865080" y="511200"/>
            <a:ext cx="690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299880" y="5322960"/>
            <a:ext cx="84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696960" y="1389240"/>
            <a:ext cx="7620120" cy="3624120"/>
          </a:xfrm>
          <a:prstGeom prst="rect">
            <a:avLst/>
          </a:prstGeom>
          <a:ln w="0">
            <a:noFill/>
          </a:ln>
        </p:spPr>
      </p:pic>
      <p:sp>
        <p:nvSpPr>
          <p:cNvPr id="1307" name="7 CuadroTexto"/>
          <p:cNvSpPr/>
          <p:nvPr/>
        </p:nvSpPr>
        <p:spPr>
          <a:xfrm>
            <a:off x="1131480" y="5111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1187280" y="5284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1055520" y="1496880"/>
            <a:ext cx="6685200" cy="3587760"/>
          </a:xfrm>
          <a:prstGeom prst="rect">
            <a:avLst/>
          </a:prstGeom>
          <a:ln w="0">
            <a:noFill/>
          </a:ln>
        </p:spPr>
      </p:pic>
      <p:sp>
        <p:nvSpPr>
          <p:cNvPr id="1312" name="7 CuadroTexto"/>
          <p:cNvSpPr/>
          <p:nvPr/>
        </p:nvSpPr>
        <p:spPr>
          <a:xfrm>
            <a:off x="833040" y="5037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6"/>
          <p:cNvSpPr/>
          <p:nvPr/>
        </p:nvSpPr>
        <p:spPr>
          <a:xfrm>
            <a:off x="252360" y="5373720"/>
            <a:ext cx="84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6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1114560" y="52056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6 CuadroTexto"/>
          <p:cNvSpPr/>
          <p:nvPr/>
        </p:nvSpPr>
        <p:spPr>
          <a:xfrm>
            <a:off x="279360" y="5373720"/>
            <a:ext cx="832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1 Imagen" descr=""/>
          <p:cNvPicPr/>
          <p:nvPr/>
        </p:nvPicPr>
        <p:blipFill>
          <a:blip r:embed="rId1"/>
          <a:stretch/>
        </p:blipFill>
        <p:spPr>
          <a:xfrm>
            <a:off x="1625760" y="1535040"/>
            <a:ext cx="5636880" cy="3505320"/>
          </a:xfrm>
          <a:prstGeom prst="rect">
            <a:avLst/>
          </a:prstGeom>
          <a:ln w="0">
            <a:noFill/>
          </a:ln>
        </p:spPr>
      </p:pic>
      <p:sp>
        <p:nvSpPr>
          <p:cNvPr id="1322" name="5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5 CuadroTexto"/>
          <p:cNvSpPr/>
          <p:nvPr/>
        </p:nvSpPr>
        <p:spPr>
          <a:xfrm>
            <a:off x="2381040" y="5616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Text Box 3"/>
          <p:cNvSpPr/>
          <p:nvPr/>
        </p:nvSpPr>
        <p:spPr>
          <a:xfrm>
            <a:off x="1332000" y="69228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 la población ocupada en el empleo inform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Quib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1 Imagen" descr=""/>
          <p:cNvPicPr/>
          <p:nvPr/>
        </p:nvPicPr>
        <p:blipFill>
          <a:blip r:embed="rId1"/>
          <a:stretch/>
        </p:blipFill>
        <p:spPr>
          <a:xfrm>
            <a:off x="2116080" y="226548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264360" cy="2071800"/>
          </a:xfrm>
          <a:prstGeom prst="rect">
            <a:avLst/>
          </a:prstGeom>
          <a:ln w="0">
            <a:noFill/>
          </a:ln>
        </p:spPr>
      </p:pic>
      <p:sp>
        <p:nvSpPr>
          <p:cNvPr id="1327" name="Text Box 3"/>
          <p:cNvSpPr/>
          <p:nvPr/>
        </p:nvSpPr>
        <p:spPr>
          <a:xfrm>
            <a:off x="826920" y="376200"/>
            <a:ext cx="777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Límites de confianza y error relativo de la población de la fuerza 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abajo e indicadores de mercado labo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Quib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8" name="1 Imagen" descr=""/>
          <p:cNvPicPr/>
          <p:nvPr/>
        </p:nvPicPr>
        <p:blipFill>
          <a:blip r:embed="rId2"/>
          <a:stretch/>
        </p:blipFill>
        <p:spPr>
          <a:xfrm>
            <a:off x="1160640" y="3860640"/>
            <a:ext cx="66070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1 CuadroTexto"/>
          <p:cNvSpPr/>
          <p:nvPr/>
        </p:nvSpPr>
        <p:spPr>
          <a:xfrm>
            <a:off x="1403280" y="33336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Choc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4 CuadroTexto"/>
          <p:cNvSpPr/>
          <p:nvPr/>
        </p:nvSpPr>
        <p:spPr>
          <a:xfrm>
            <a:off x="1264320" y="57164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1" name="1 Imagen" descr=""/>
          <p:cNvPicPr/>
          <p:nvPr/>
        </p:nvPicPr>
        <p:blipFill>
          <a:blip r:embed="rId1"/>
          <a:stretch/>
        </p:blipFill>
        <p:spPr>
          <a:xfrm>
            <a:off x="541440" y="1552680"/>
            <a:ext cx="804384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46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Quibdó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412920" y="2205000"/>
            <a:ext cx="82850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6 CuadroTexto"/>
          <p:cNvSpPr/>
          <p:nvPr/>
        </p:nvSpPr>
        <p:spPr>
          <a:xfrm>
            <a:off x="2987640" y="5877000"/>
            <a:ext cx="561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ciudad frente al mismo trimestre 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34920" y="2421000"/>
            <a:ext cx="313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Abril - junio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949480" y="1165320"/>
            <a:ext cx="5870520" cy="206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1 Rectángulo"/>
          <p:cNvSpPr/>
          <p:nvPr/>
        </p:nvSpPr>
        <p:spPr>
          <a:xfrm>
            <a:off x="2987640" y="57196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3030480" y="203040"/>
            <a:ext cx="60008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1332000" y="1488960"/>
            <a:ext cx="6800760" cy="4005360"/>
          </a:xfrm>
          <a:prstGeom prst="rect">
            <a:avLst/>
          </a:prstGeom>
          <a:ln w="0">
            <a:noFill/>
          </a:ln>
        </p:spPr>
      </p:pic>
      <p:sp>
        <p:nvSpPr>
          <p:cNvPr id="1271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150920" y="47304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Quibd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(2009 -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5 CuadroTexto"/>
          <p:cNvSpPr/>
          <p:nvPr/>
        </p:nvSpPr>
        <p:spPr>
          <a:xfrm>
            <a:off x="1193400" y="56545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68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Quibd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474480" y="571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58844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971280" y="753840"/>
            <a:ext cx="7380360" cy="101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Quibdó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</a:rPr>
              <a:t>Abril – junio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- 2015)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200160" y="2565360"/>
            <a:ext cx="8607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Diego Alejandro Martinez Jimenez</cp:lastModifiedBy>
  <cp:lastPrinted>2014-12-01T21:57:13Z</cp:lastPrinted>
  <dcterms:modified xsi:type="dcterms:W3CDTF">2015-07-29T16:20:04Z</dcterms:modified>
  <cp:revision>171</cp:revision>
  <dc:subject/>
  <dc:title>Diapositiva 1</dc:title>
</cp:coreProperties>
</file>