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6FCC-E567-4D32-B1A1-E6C5F71D6F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1045-7F9E-4696-A8C6-ABCA7EC9DA9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3F6-AF82-4B80-A72B-3145901B00D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290B-9F68-4D22-A75F-5AF2BB5DDF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353A-3BBF-4AA9-9019-67FE2883AE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D42A-7449-49AA-97ED-EE7E760C3A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EF15-B11B-4B24-B78A-8615874FBCD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0D82-0CA3-46A2-8C44-0BBE80E0FA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51E7-885D-4311-A45A-991BF011DF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2277-0F64-45F9-AE7D-23DCF7BFC92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BA0D-5FD7-4BA3-8AF5-03D3E36318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C125-E23F-456F-8947-6280C72F5F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F328-4742-48D6-BAC4-F92507A2F6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07E28-B4E5-48B0-B37C-DCBDA12A3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ECD6B-6C64-4CD7-91E7-300B1BBABC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FD6B5-8650-40F8-9F6F-753D0E561B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38FC7-5122-4126-B888-200E901015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9B934-34A1-423B-A641-DFD56A2C7D3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E5AD3-C2B7-44D7-B27D-45399DCECB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685FAB-0C73-4EED-9471-A43852AC442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BF6FF-6DB3-468F-B9A9-7D9E2F5F9E5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AD0D3-4E51-4B52-BBD9-DBD3129B43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50B0AB-04CB-487C-986A-6A01D7823A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92B6C2-F03C-4201-9913-689A5E9F2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27F34-A444-4A47-832E-2910997B403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200CD-383C-4429-920E-5DA20EB2EB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ADD67-8A17-486B-8849-1F9AF8315D7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7A0E9-D1AB-4E53-BDF5-1A726B2BD85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0E85A-22A1-4C6A-B8B8-CA286E9B10E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9CE56-7A86-4D12-A803-FEF79980B89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2DC20-E3D9-4E27-9649-469712B443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E0B6F-5295-4913-8FB9-AD4DFDD328C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C496B-FB66-461A-A024-482645C1D95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B1B94-1390-4E38-B5B6-03A72C364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2929-0EEA-4284-9942-924E5E8C722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072C1-AF84-45CC-B014-9408126397E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748F3-ED08-4103-841E-4D2748E05FA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E3EFE-C077-464D-96BF-4AB33CDC4E5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9CC5-DA6D-4203-9F34-28F3DBBECE1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A8FA-D227-4961-B0CB-C41CB7975D0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DBEF-6577-457B-90C4-96945080EA8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C5F1-F10F-437F-919C-4A18FC5DC90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84EB-B74B-4A3D-86E2-C472C3FE59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CB2A-889D-4968-A67D-AF31E47F536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E007-C044-4B5F-8AE9-85409A55CA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BB51-7E60-4398-A23E-E4A50316905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E25B-354F-4DB5-9381-2233CC4093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7091-6195-4F3D-B227-3A776C22D4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A5F9-3B12-4368-9319-C1E2435108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1244-1035-440D-87F4-3609C8D06B1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1C6F-198A-49B4-9758-18B2A84B6FA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064E9-E30A-490B-8710-76E1C3CFC4D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5F21E-929B-41C9-9757-F011F976504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672DA-89A6-4D9F-8FE7-B74ACBFC93F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77579-DEA5-4FF0-93CC-C344465A148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E74B2-D885-47A7-8D13-728A72BE83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7958-24F2-4827-AE51-B746E016AEF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BD0AE-2F7B-4DE9-918C-8170845DF1C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6536A-E3E5-4324-A828-E372758B3CD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6835B-BF7A-4338-8E73-FA6B942F4A1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8209F0-1F3B-4494-B362-C2C3076381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69FDE-A8C4-4894-889E-9527FFA3F66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1395B-BF00-4BDE-85D3-72DDBD660B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CFA663-D95D-4648-8668-7D103D9A542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7C97A-CD41-41BD-BAFA-DC65A4476FE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1A945-5312-4A72-815C-E09FCCB5255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133E5-8B21-46B9-A252-A5CFFBDBDE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2494-402F-49A7-BC33-83185B37323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6BCF9-7AFE-4AB7-8B5B-AB627917B64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82091-D115-44C2-B237-C614135C0C0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9C1CE-00F5-4B4B-8AFA-455B10DB2F9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80146-A9E4-4F83-AEFE-F7E8A0EE226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BB842-CA09-4450-A35B-CB7545FB7B1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A221D-A05A-4037-B8A2-8D7C5731434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BF235-2998-4B1E-856C-D4E640A222A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61E9C-D664-4992-BC98-5EA82E605F3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4C6EF-FD5B-4969-92D1-373E033D483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EE329-867A-4637-8ACD-B879C000D9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D25D-0348-4948-B586-366B2EE7DDA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73C0-9351-423A-BCBA-5799BBAD2BD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85543-C76C-4C5C-87AB-A6A63803EA9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274F1-E61B-425E-8E55-7EAD5B32EF8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1B03-8A3C-4089-ACF0-4D72F66E976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42C3-2D72-4D1A-835F-F591DAAC4C9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9F5F-A8D7-43CD-B235-16710CB2076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5A813-94CA-42EE-B199-BF5C7BE28F0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AA35-1083-4055-843E-A3B01D0BA5E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A361-D9AC-4234-92A7-20A22C890B0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D42D-E9A4-461E-9895-8B591C6E4A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E443-4E5D-4749-944D-41F36CFEE44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DA3F-F688-4C12-93FF-E91FCC9099D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80F2A8-4D96-4DBA-9134-F026151EBF7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3AEF5E-1A33-41F5-A386-773483A6EA2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9E96AF-EC2C-484E-BE1F-E66FEC43A68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E706CE-1BA3-47C7-AE17-34F13145073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C3F4DD-795B-4F9B-B2ED-1F132D8CF02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55D6C0-85F3-4FCE-91BE-7B6EA30CEC1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B2CC81-BEF6-4D63-A6B3-B809C2F5C6F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B17B85-B711-4E0E-B759-EFCC56D1021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9C4471-5619-43C8-990B-82AC35F26D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EA61-58AC-4B27-A7ED-C7618D3EFE7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313E1A-4341-496B-AD55-6440268C676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09AED4-38E7-47CB-8D9F-530812F0F40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A61547-4E50-4B4F-9D47-7DE1AA86254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05518-A607-445B-BF21-29BF68CB274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D2049-E997-46F2-8A37-0C2418780DF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D21C0-8F47-4533-8C89-01C4391925F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7AD83-9B38-4868-8E78-66733ED8E9F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5260A-4D34-41C2-B51E-688E70D075F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0494C-00F4-4724-8AEA-CE00D66CD5E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1806F-CCA3-471D-A7BA-41E96B020E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98F2-EE78-4D86-A246-88BFBE3455A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F74F9-C6B7-4241-A1FD-25F2F250CD4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BDF8B-E841-406D-AB2F-55E42C01A6B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DBE3F-6357-4537-AA34-CC741824B4A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D5A30-F7C5-4D49-AE57-96FF142224E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5FF2D-2ECF-4993-8F2A-704FD01BCAB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8DF8A-EACD-41D6-B554-6DACA648B73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2925-C777-4FDE-9643-82F847F085F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8A57-E238-4D74-994B-CA96BBB0909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49F7B-F5F1-47B7-A7FC-20AAD04D85F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41F12-BFA4-4858-9FC2-07A1F728F6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AB75-9413-4BC5-B5D9-2CACBF86100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DEDE-8CE0-422C-8F3B-D39969965EE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60AD-550E-4E55-9B90-D03C2DFFB48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7151-34DA-4B0E-B89E-154CE2187BA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AF4EC-D016-4100-BBFD-B585E8427F8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C674-A5B9-46F8-926A-584A8D68D37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3FD78-4C17-4AAE-A274-5CC65996325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52E4-6E1E-4750-9676-98D1ED89B9D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E78FAC-33F9-4769-B933-E9EF536FA20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0A449-893E-43EC-B744-49F81BEF728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168AB8-04B3-4659-88BA-20CD99FB09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3A64-7B1D-4ADF-8265-CF840B58733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0EC72D-8229-4C89-9A24-08999438229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9ADE9A-DFE2-4306-A51D-5312D61E516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28D9CE-0505-4703-8D7F-DDB69B9C4DE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14F8F9-D249-455F-A8EF-190BEC463A9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195A1-5B28-4233-BAA5-10D1BEE97F4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FC0C7-6DCF-46C5-A58D-089328C2386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A8F47-1152-4CC9-859A-85EE61839B3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619CAF-551A-475F-B1DB-2AFCFA310DC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E59753-B19F-4DBC-9FF3-7FBB1CEECFD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6AB44-6C67-48DB-A187-866E634056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C92B-C548-4612-A243-A26288A32F3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AD9FD-DD70-405E-B5BF-5E2D45E9685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ED099-766A-468B-8656-63E594C40B5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86602-AD50-43FF-B177-AEA58562749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08D69-2828-473B-A0E7-FF0108A9A3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E2325-5ED6-44E3-8562-D227AB9D118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7B5F9-93A2-4085-B441-58B2A803CB7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F0B1C-2067-4B2C-B059-AA4C0F3E124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2163B-76A5-45AC-AD06-DF1D240142D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E6AC4-3F7F-4A5B-8F4C-F0113ADD95C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DB2CD-9491-4499-B32D-FA6E5181A6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A002-3F38-4209-8261-11CBD062099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85369-EFD7-4181-863C-9042BC5A344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CB7B-69C2-41E9-8F6F-01853C7E768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031D7-792E-4E86-83A7-41EAF248CCE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4CCD3-AFF6-4A41-9C42-B28D6C8D969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43896-C454-40E8-989E-08966312822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25A2B-4B9B-42AD-A5F3-68914FB2DCB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C5661-FE23-4CCC-9B38-FD680C2377F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D3A0E-DABC-4593-B34F-7FE7B788E45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0176E-D477-44AA-BF88-41CA51EF1C6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11939-A41C-4698-9F3B-8DA44BB855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EB1BD-955B-4B01-AE3B-819CF7BC688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1D5C1-A1E8-4A09-A983-CDB30ABC87D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533D-4069-4FD6-BF91-F626AAF035B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F6BED1-F2DB-4875-913E-E76AB8C184A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7A0BF7-0168-4387-83AE-48CBFD80EA2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4D8AFB-601F-49BD-BAB1-8A3073EEA60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B4AB74-BBD5-43F3-BC99-A6E73CD7E11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BB9F9D-B3DD-49D5-8D05-A3320ECFD34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688C07-05D2-4CEE-B3CA-EC046301EED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A4C6DD-5D68-46CF-A699-2C123C8981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DB17B4-E908-48AE-B2FD-10425E4C34B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074C11-EC40-47C6-B687-9D0F61453AF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093CDD-2E35-4CC8-ABDA-561045449F2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EBB18A-1C51-4136-839D-3BB5298217B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7460F-8C0C-4EA5-869A-3DF7F8313D4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40A26-CE29-4F51-AE5F-F790DB265FE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22228-2FE1-4091-A594-77A16D99F45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3202C-8A61-4A88-8808-896A7ED316C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F36FB-E1ED-463C-8959-FC8B5970BA7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CEE09-6CAE-44FE-98A2-599E371A28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7BC5B-9B3F-4154-9204-2DD68A4BC26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518D9-99A4-497B-A2AA-816E2D13433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6EDA4-9B84-4E76-AF25-CF7A5679456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95F1C-8DD0-43DB-8D3B-E0E9E0D1A2B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EADE8-E14F-4075-B338-3D5DBD368B6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B638A-BD90-41F2-A7BA-9D9D5967293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CEB48-32D2-4162-86C3-95C0F2735C0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E4480-A719-4ACA-908D-982C5F8B787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DAD00-CDC9-4FBB-9996-E981DC3AD9B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B073C-5E3B-4CF0-BC01-4196F01A75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E361C-A23F-4436-BE27-1A284886E5E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903EC-46FA-424A-A539-E0702AAC346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5BA3-D049-4CAF-BA89-0F3EBB36CE0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269B3-F30E-4FED-B524-1603420D275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3194-3FAF-4E8A-BEDC-9E7A3134411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09143-3A8B-4A51-8631-B56A9B61C4A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D423D-248F-4064-A817-30BDE30C9FE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A7322-0514-473C-9CF7-39E09BBC78A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946B-6A30-41DB-9CBC-746B2D239EC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F95DDA-1AFE-4594-8B3B-37019FD6D6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F2A5CA-3485-438F-92B9-C8F20E03442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223188-D9B2-4BFA-8F47-AF0F9D61945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0F3BA-1A73-4491-92A4-3AB13ABCF32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D2F15B-4BDE-43CF-A6C8-2A1C176B676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FA3E2E-14ED-4C09-8D59-F95F4F37C13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87E764-7828-4D1C-8246-0DFBEF03695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6A6951-AD6A-469A-8180-A591B7B7BB3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D594AC-8288-4ED7-989C-81554A7C0CF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D56156-2631-4FE4-ADF1-C5F5F03C51A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EFBBD3-0650-4D08-B841-0DBC4CE07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9169CD-EA11-4B00-A16B-0FB14903761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717F34-86A6-4E6C-B4CF-782FB65D32A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E2F0D9-6DE0-4C20-80A0-8AA88CD45DA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F24C0-B4F2-4DBD-BA8D-29F07524A65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A8391F-D2FE-432F-A833-004777F7298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FDA4A1-D7C9-4F04-BBEB-2CE51A00DF2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39E4F7-8600-4BFD-83CE-C48BD87007F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FE02EA-8FA8-4D47-B9DB-576ABF03F6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F9FD16-DEFD-43F9-97B5-3A7BF3D47FC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F364F-909C-4A75-AFB3-A0D156540E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4292E6-E639-4B8D-B9BD-06C4772B250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E23C45-2C70-4297-BD61-A5FD6FB03D0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C872C-0C02-46BD-A739-0B5A275B669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2349F-8DC6-4431-9870-B4A9B97ED74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73A70-1695-4421-B0FC-65B7CAEB2F8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3F17-C692-491B-90A9-BEE53D9748B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AB9D5-1CC9-43CD-98D5-E9CDD8EE9AE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62E27-F3F9-4395-ADC7-88899783448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B4AB7-F768-49C7-B8ED-214CB72BA06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E6EAA-ECA3-4228-8199-60879E5913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CC335-28E1-4C4A-9BC6-0C95BB3C80C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864CF-50A8-49BF-8C5E-A15CA86ABC0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71011-5596-4096-931F-99940CC3769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587D1-DC19-4026-81B2-F0214C05D9D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BA091-9215-4C45-A633-69A15F3A8FD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4C57-7EAC-478E-A050-367CFD6A51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E3DB-5BEB-4340-9E4F-8813DBBA43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E695-7287-4532-B91D-FD8C27A3A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EF69-EFBB-4443-9368-C9A463D732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B106-CAE1-4DE1-8E2D-06D51FCAC3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7FC9-3D99-40FF-9AAD-2C7CE35A56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C04D-0671-44A8-84B4-6C18E3B46C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4D95-C771-4E13-9B08-3410CE27F0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B6F7-EEE1-4C91-B638-4CFB52D785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FFB3-3B8E-4970-A75C-0B00EA63E7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3EFB-D8BF-49FE-9CA2-1118EF0ED3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3F4F-54E4-4A8C-9F18-61665E3E75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23E-696F-4FA5-9397-19C56AAE5B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455-4271-42E2-AA2F-A4795E20AF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7A2-312D-435D-95DF-A828836A9AA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FD3-8302-4A2B-B698-6DCDEAC235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AA0-6F51-4D8A-A977-039CFDACAD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6AA-A3F5-474F-AB88-CB82ACCD85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1B0-84CD-48FF-B0D2-D336B1931D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6C8-170A-4A3F-89B8-91EC16D30C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B71-A89E-42E4-AC53-BE44252AD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7FF-35AC-4051-8AB8-417C6E585DF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141-93C3-4B20-AE8A-C082229B3F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AE3-9676-42BF-8CC1-FCF9223605B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6ADE9-0C19-4C04-A12D-F1BC32F25D2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BDAD7-EF8B-4E5C-A540-15652323A4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0E7B0-D601-4AEE-9CB4-EFF2AD6B81F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BC608-E973-4B72-BFDD-1DB092ED133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181C0-2BAF-40DF-A89E-07AB506A77B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C7AE9-0317-49C2-8F61-725176E19AA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509FC-33AE-4E9A-819F-DED69FDEA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BB6E4-409D-4780-A21E-374B8F00FE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120B2-6437-4090-BDFD-461C776836F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833CE-726B-491F-A111-ED36D164E84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CD7DE-6F7D-4117-8DE9-D91CDAE6E7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7FEBC-BC94-4176-BBFF-030AB14CA0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ACAB1-9391-4D84-90D9-781E1F1CBB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78ADE-A99E-45AF-B42E-8FC137AB087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EBA81-1F3B-4A58-906A-44212D2AA51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8A280-7B8D-4140-8608-FC92087E895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14A79-D95B-4AF4-9146-0619C6563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5DD36-94BD-4CDA-9FA6-A5B4F3AD357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99C68-5FDB-4CB4-8D3A-F3DD9DA99C6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ECC67-82A5-478E-90F6-D6709199AB0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9FC77-B694-4EE0-91A9-D268BE1041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9EE18-01C1-45FE-9F21-78E70C297E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F20CA-4FD3-4BEA-AC2B-EBC1B076A0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6F6B6-0049-44F5-B018-DCB0E7FC23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A93B-266B-4A89-BD53-FD41EFE853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B843-1101-4E4E-8F3E-A42F82ED9A7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711C-6AA2-461A-89FF-A587B5169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1C16-0E2C-4102-A409-D275B2A5284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7990-2FCC-4908-BF34-66680A31C9F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BDD-012E-4A9D-A7B6-F22CBD57974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0A32-E724-4D5E-AB4A-D812F4120AD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A938-8FFA-4313-B629-A887C7ED046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DE97-22F8-45EA-8AD7-87F6245ADAF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CEFC-FA93-4DFA-B5BF-66676F6915C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EBAF-8455-4AEB-BD66-86FD5AC72C0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2B3B-8CE1-4F3F-A9AE-3C6B21B5C1E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6C4B-AE41-48A1-912D-1CEEFB6A070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7AAE-3A63-4803-AC6D-28B921AE866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4EDD-B105-423A-BA55-799D2DA1FD9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3A8A-FFAB-4E75-9191-CEACDB3FE38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938B-9866-4D49-8185-B90CB6C21CB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207B-FCF5-4AF1-8926-54BC557DD47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BE9D-A93A-4E39-9710-95FE1CADA1B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6541-C30B-4A63-AAD0-CB90DA7E61D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653-6B4B-4077-903E-84127203C2F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FE30-0E14-4831-85BB-7157A2EA650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A8A2-7F6C-4446-89B4-4B353D2712B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1E87-EBB1-43E7-9ED8-39B1F8D5C6D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397B-04D0-45E9-A531-D501E264479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F313-229D-4E61-8BCC-5C3CFD02D93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642A-15A7-409A-A52E-CD2D86C839A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Villavicen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22544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76176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162000" y="5478480"/>
            <a:ext cx="873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736560" y="1484280"/>
            <a:ext cx="77835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728720" y="3254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5 CuadroTexto"/>
          <p:cNvSpPr/>
          <p:nvPr/>
        </p:nvSpPr>
        <p:spPr>
          <a:xfrm>
            <a:off x="891360" y="515772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611280" y="1282680"/>
            <a:ext cx="78580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3"/>
          <p:cNvSpPr/>
          <p:nvPr/>
        </p:nvSpPr>
        <p:spPr>
          <a:xfrm>
            <a:off x="1273320" y="4046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5 CuadroTexto"/>
          <p:cNvSpPr/>
          <p:nvPr/>
        </p:nvSpPr>
        <p:spPr>
          <a:xfrm>
            <a:off x="576000" y="5172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1 Imagen" descr=""/>
          <p:cNvPicPr/>
          <p:nvPr/>
        </p:nvPicPr>
        <p:blipFill>
          <a:blip r:embed="rId1"/>
          <a:stretch/>
        </p:blipFill>
        <p:spPr>
          <a:xfrm>
            <a:off x="628560" y="1341360"/>
            <a:ext cx="8129520" cy="3913200"/>
          </a:xfrm>
          <a:prstGeom prst="rect">
            <a:avLst/>
          </a:prstGeom>
          <a:ln w="0">
            <a:noFill/>
          </a:ln>
        </p:spPr>
      </p:pic>
      <p:sp>
        <p:nvSpPr>
          <p:cNvPr id="1304" name="Text Box 4"/>
          <p:cNvSpPr/>
          <p:nvPr/>
        </p:nvSpPr>
        <p:spPr>
          <a:xfrm>
            <a:off x="0" y="537372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^: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* : Trabajador sin remuneración incluye a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8 CuadroTexto"/>
          <p:cNvSpPr/>
          <p:nvPr/>
        </p:nvSpPr>
        <p:spPr>
          <a:xfrm>
            <a:off x="1053360" y="51674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1 Imagen" descr=""/>
          <p:cNvPicPr/>
          <p:nvPr/>
        </p:nvPicPr>
        <p:blipFill>
          <a:blip r:embed="rId1"/>
          <a:stretch/>
        </p:blipFill>
        <p:spPr>
          <a:xfrm>
            <a:off x="690480" y="1413000"/>
            <a:ext cx="7761240" cy="381456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6"/>
          <p:cNvSpPr/>
          <p:nvPr/>
        </p:nvSpPr>
        <p:spPr>
          <a:xfrm>
            <a:off x="108000" y="5661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*: Trabajador sin remuneración incluye a los trabajadores familiares sin remuneración y a los trabajadores sin remuneración en empresas de otros hogar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5"/>
          <p:cNvSpPr/>
          <p:nvPr/>
        </p:nvSpPr>
        <p:spPr>
          <a:xfrm>
            <a:off x="232560" y="5454720"/>
            <a:ext cx="440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^: Jornalero y peón está incluido en la categoría obrero, empleado particula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324000" y="54878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474480" y="5257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1401840" y="1484280"/>
            <a:ext cx="63388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5 CuadroTexto"/>
          <p:cNvSpPr/>
          <p:nvPr/>
        </p:nvSpPr>
        <p:spPr>
          <a:xfrm>
            <a:off x="545760" y="5543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915000"/>
          </a:xfrm>
          <a:prstGeom prst="rect">
            <a:avLst/>
          </a:prstGeom>
          <a:ln w="0">
            <a:noFill/>
          </a:ln>
        </p:spPr>
      </p:pic>
      <p:sp>
        <p:nvSpPr>
          <p:cNvPr id="1322" name="1 Rectángulo"/>
          <p:cNvSpPr/>
          <p:nvPr/>
        </p:nvSpPr>
        <p:spPr>
          <a:xfrm>
            <a:off x="1944720" y="461880"/>
            <a:ext cx="55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 la población ocupada en el empleo inform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áreas y Villavicenc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2 Imagen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904000" cy="1942920"/>
          </a:xfrm>
          <a:prstGeom prst="rect">
            <a:avLst/>
          </a:prstGeom>
          <a:ln w="0">
            <a:noFill/>
          </a:ln>
        </p:spPr>
      </p:pic>
      <p:pic>
        <p:nvPicPr>
          <p:cNvPr id="1326" name="1 Imagen" descr=""/>
          <p:cNvPicPr/>
          <p:nvPr/>
        </p:nvPicPr>
        <p:blipFill>
          <a:blip r:embed="rId2"/>
          <a:stretch/>
        </p:blipFill>
        <p:spPr>
          <a:xfrm>
            <a:off x="1233360" y="3933720"/>
            <a:ext cx="6167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1 CuadroTexto"/>
          <p:cNvSpPr/>
          <p:nvPr/>
        </p:nvSpPr>
        <p:spPr>
          <a:xfrm>
            <a:off x="684360" y="333360"/>
            <a:ext cx="7848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509760" y="1700280"/>
            <a:ext cx="82785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1916280"/>
            <a:ext cx="78058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08000" y="2408400"/>
            <a:ext cx="2736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8 CuadroTexto"/>
          <p:cNvSpPr/>
          <p:nvPr/>
        </p:nvSpPr>
        <p:spPr>
          <a:xfrm>
            <a:off x="2916360" y="584676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 del año anterior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2916360" y="2494080"/>
            <a:ext cx="5903640" cy="172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291636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3025800" y="198360"/>
            <a:ext cx="601020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76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75852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330200" y="1628640"/>
            <a:ext cx="70311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54576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85640" y="1413000"/>
            <a:ext cx="81900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106640" y="620640"/>
            <a:ext cx="6408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144360" y="2421000"/>
            <a:ext cx="8882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iego Alejandro Martinez Jimenez</cp:lastModifiedBy>
  <cp:lastPrinted>2014-02-24T23:06:42Z</cp:lastPrinted>
  <dcterms:modified xsi:type="dcterms:W3CDTF">2015-07-29T16:22:05Z</dcterms:modified>
  <cp:revision>873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