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3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C3D4-3297-4910-8EC0-B3D53635ADF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81DF-4E12-40BC-B810-C210342E99E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EC17-F1B6-4EB5-83C8-745EEC15449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3152-FCA2-4D42-BBB8-730B87CBFB7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DDFB-026F-4E18-8DC9-7E6BE50DFF0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10D6-34C2-41EE-B77D-343D3A00347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8163-69A1-41D3-9749-A693A34873B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D568-822D-4F9E-A554-65C14677BB1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5430-DB0E-4F4D-AE80-642366BD964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D9C9-C644-492F-8704-68E11D83C06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B0BF-5E98-438B-B597-F3F8877D6B5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EA37-783B-48DB-9368-37211D1445C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09F0-3FCB-455B-8947-C56826286B1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F7D5E0-5B9A-4425-9DB2-C69A51D19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1E4CBD-E35B-4B8A-A066-3422248B077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77C34B-C29B-4CA3-92B5-DD862D1167E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0C06D3-0B36-47E0-A8F5-6E57B7E3648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44BF37-4264-4712-9C62-AAA2B1A59E6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100AF0-5E5F-424E-A1D9-D25DAE74686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EF0731-82CD-40A5-8C02-99D405D8225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C63AA0-8888-4BD6-89A1-00D0639C838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93D89E-AF12-4943-AC1F-30228944DDC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B1DEF6-B270-4C81-A996-2DCD824F9EA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36BB04-CFEA-452C-BEB6-F9BD62EE5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DFCCDA-A6C9-41E8-ABAD-BA3CFB12072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C806B-EA8C-4C82-A9BB-12B6BE1B7A9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84290-4ADE-45D2-B4D9-E914DD16066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3FAAE-31F2-40F3-8A66-D8B6C92DF8A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75BDF-3150-475A-8A88-9621611E4BF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CDD84-D05D-4FCA-B380-92C41654E5A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CBCFB-0F02-4F30-876A-F3893E32F58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7DAFE-010C-47A5-8993-D2ECABF6F45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D7310-3ADB-4CA1-8621-FD92B8CD3DD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B0D92A-05D2-488C-9DBE-0188B8966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F477-0659-41DD-92CA-1DB4EB15F43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911C66-BA14-4276-966C-3DF86AAC846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90DAE-2704-4116-B2C9-83624DE5D5B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8F3310-0703-4EF6-94EB-0C41A537238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05D3F-97B4-40B0-B1CB-73D088C5339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9424C-A5F8-4760-B393-2E32D7A23C5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A7F00-32BA-4826-915E-2C5AD701D37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BC4B2-2EEA-4307-AA64-85260B89D68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4599C-AB13-46FB-843D-CD39DC23B44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C0A78-B428-4D04-9A51-E0C8C6E1042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03DC1-BC2F-4510-A12D-42ADF849A7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5702A-1FA3-4CF3-AEC8-5A1BACEC921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14297-4D8D-4F71-B572-ADFCD84AE0E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71FDD-6733-4434-91B5-B121A7FAA63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8497F-B2CF-4760-9FED-0EC9ED49851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A1D84-1BAB-435D-9E44-A2757571A65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C2EE1-7A36-423B-8401-39E092AF76E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69659E-9AFD-4FB4-8A00-0433E25B24E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4F7FC4-BADE-4959-94EE-6194F0B9B7C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32D290-9CAB-4B67-B5AB-DF6022EB4E6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B8F31F-2771-4F79-AACB-D1242EA926E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AAFE46-B06F-400C-8784-8CE70E5C4A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82B8-7E17-4C11-85BB-4CEF3375034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754758-4FDA-4B8A-B25D-166F0E231C4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C22A54-C0E2-4BC1-B7A2-BE8253E0AE5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01B09D-FA88-41A0-8487-6F2732F86F5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A16F66-E2CE-4549-A324-9D7338001A7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3CDF9F-E835-4087-9BAF-52634922C9A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06B2FC-F652-45DF-AB0B-F8215731DE3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25B986-DB44-456A-9A06-5754F70662A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4A1D75-3A5B-407D-ABA2-C79F74C7B80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C86C24-D9A5-4770-BEF0-6636F0862ED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C1C980-756B-4A7B-8677-2BB722EA6D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D023-4699-468F-8DA7-725F51B5E5B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A11169-D01F-4A91-9623-C05B065180D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C32182-9FBF-4FB1-B500-7799286467F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B3E1CB-CAE3-4754-B332-7EAEF85E2A1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E7A708-6172-4298-AF64-814032869A6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9279A5-06EC-4CED-9D1C-2FE86F4CDF8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E0ECF1-C08C-45CF-9982-924DC78B662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C21A73-EB9A-4CC2-9564-B5520C25B47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8E16FE-5AA8-4788-BF89-F3C2BFCDF6C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749700-D9A8-4EA4-9DB2-F10787D5BE7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46CB2-595D-47CC-B996-24823AA56B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170AE-3328-41FC-AC35-E11CC68AB19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1C505-81AB-48AC-8776-9BD9B8BC656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17D55-9EA2-4EE5-8B3B-E7706EA358E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AA2A0-AAF8-4405-BF3F-03D789C2C55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32ABB-A745-4ED3-9A3D-B207928694A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5C487-2405-430E-8A88-6D1859B808F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57EA8-05D7-4FA1-994B-051A1C24895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A2B2E-1869-4634-8448-E4068F37A69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5EF55-E35D-41FA-A276-2FF281A1630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6D44F-3908-4F78-850D-27BF7336283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B9865-70F8-438F-A650-6F18B0D3A8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770A5-24DD-4B6A-8F3C-5C6CA2215B9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B063D-B35E-4659-8289-12162D7A046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0396C2-F9E0-4AD2-B166-393AE093021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BDDB0C-1B05-4F60-ADD1-A17DF3BFD2E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03CA82-E721-4E11-90D9-CA859AB3C27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F69B34-59F5-4E62-BF5C-30BFD02F63A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30CCD8-9783-4AEF-9AB2-AB73C4D283D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07EDD5-BD47-4102-A81C-AFBC711E1CC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A1E3EB-DAB0-49DE-841D-3DE854C8F00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52D436-1D49-4009-BCB4-F181CBDAB65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EAC65E-E332-4450-8D5E-1BB8045D46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54FD-80F6-41A4-872D-3FEB6EAE517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840C0F-EB5F-4FB3-BE25-A95E0E138D5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112C87-8C41-4982-9531-9F4C174CA72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EDC975-E4E1-47F3-806C-65C2DF8DA46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04474-9209-4EA0-B161-E52184D8636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DFC7AB-F5FD-4D1A-8154-A556CBE40B6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B28A7C-3133-4B38-AF7B-9E302409FD7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278471-3082-4E95-B73A-849F88D7ED9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536139-F2E6-48DA-A7B8-D827BD4F0C5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B3A8A3-A284-46BF-87DA-7C7653E1074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A851DF-DCAF-4798-8C08-977FB61E02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3A6C-F249-420E-B775-A21A0C06A2D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C72A79-F96B-44D2-8EB5-95EB41BB5C8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E46DC3-668A-4589-8D1E-110212178DA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ED2946-9402-4C92-A038-487D010EA0E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548983-1572-4CA9-94BD-E9A60606B46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E137EF-52CB-4314-BB4C-93561BDE091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22390-6C3C-44CC-8A8A-9548EBC11BC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DDA95-1326-40D8-8B25-CF5059EC4E5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53CCE-0819-4485-8255-5756C23D0C8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C6FE9-A969-4DAF-912B-FBE29CBB581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2DA8F-C139-44FA-A1F0-826A0CC133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F1206-1541-4209-B9CF-974C35F2F09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4309E-B071-410D-8EB3-9C1922B8F01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4803A-6A5E-4705-B734-A703870965C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C81DC-BFFE-4977-9F54-8282AB6EFFA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C946B-D88C-4957-B7ED-E486726FE5A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47923-E191-4BB2-863C-500695FA5DF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09639-5C23-4726-9D66-27F8BA6341F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6F751-588F-4F29-A24C-5AF3C196B8D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9EF39F-9122-4AD8-897F-013E0B1565B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74B46E-45BB-4186-A6E2-27A6B3D9387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47AD34-4C22-4B41-A9F7-FD00AB1A98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2456B-C86E-4DDC-8074-9C4B65317C5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E7DB06-EA05-4D80-B976-5580623227F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DAC10E-934B-44AE-B497-587B8AB3992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4CBEA7-84C7-4935-9F92-F4FA5C9FDBA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BEB7A8-45C1-4C16-87E1-6F960AB2F0E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E49DE5-AEA4-4892-A550-873EE918B62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9547CE-1262-4E5B-A49B-0019B19B55A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D8EF90-B63F-45F9-942F-B510E3F93C9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BF54D6-93CE-4E65-9200-22A51D3E918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0F8B49-04F4-48F8-A888-3B5DEDD6583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B7CB46-D9F1-41BE-AB41-265D30130E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0A41B-C281-4C4E-B60F-10E137FC30F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9DD60F-4249-4EC8-823E-06D75A0115C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527314-D12B-4E7C-96F1-9121DA3B3B7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A3A2D9-C58C-4922-844F-AC8A0793CA8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693401-B8E1-4697-A0F1-708062F0774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A376AB-F6C6-4004-BFE4-5D82AF9BEB9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EC1A3D-86EA-4D2B-A556-8DC84DA17A9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711CA0-9A57-4E42-81E3-FFCC97F7806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E6E08B-7CEC-447E-8287-E113F4104BF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A19C7E-FC45-4F38-BB43-AA76A1A1924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86168F-8906-4BB5-A307-90378D27E6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A8997-08DF-44C9-8214-EEA0A396428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1712DA-5D64-4182-AA0D-1243B592492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857A6-B514-475E-BB22-104E32596CC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4EA5E-D04C-4511-B700-DF1CA682838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AEF37-25EB-45F0-ADF3-2C1CA8D50E9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A6633-892E-405C-8739-461459E2D11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60E8F-5E4E-4481-801D-D3B9BE5A1F8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1E25E-7A9D-4F2F-A3A1-B8CDE6A3220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8AE97-FC3B-4C9E-B268-B66B4397D77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26961-C701-4650-AA7C-FC49A2F6E30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72135-0D4C-42DF-8459-B5401FB67A8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CBAED-4A6F-450B-94E1-1B219B62C9B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DE32E-A30A-49E2-A642-04AF488DD1F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4312B-2F33-44A2-B750-AA05556369B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917DE-1A9B-43AA-B0D7-1D2EE2A441D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D554F5-E3E7-4C21-A103-EA1A1DA2D97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6FE13E-023E-49E8-9E2C-197ADF5270B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FB9EFC-C5FF-43DF-B94F-1CBCCF3B44D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40B5E7-9F14-434E-9C35-DEDD03CBAED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46E033-CE74-4DF6-9A72-562C01EB2EA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F550EE-5721-47CD-9ACB-CC88E570714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ADD457-5C96-437D-8113-3E70255F49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62E34-EC4B-4319-8E55-53EA2D17609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45E4A3-078B-427E-B690-83DB476057D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954C69-9697-4295-BA0F-0B9FE367845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5FF70B-D69A-4C1C-B6DE-CBD630C2EDD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02DEB6-201B-4A9F-9DA5-F2B16BA3081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99DD77-B17D-488F-921A-66935A19EC2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FB9B3F-BD2E-4B08-B1C8-94D717CA0F6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6B818C-CA23-4F1B-B880-A2E0182F291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7A33F6-466C-4287-A4E0-1BDB5854786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E8608E-79C2-40DB-BF1B-3DE5596C274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6AC216-719E-4433-A95B-AE90F2C1BF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BBD30-B583-443D-ABE8-D751883BF2F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3A608E-8897-45E1-9A1B-2BEE7297B2D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B45412-2203-447A-BE7D-BA1D992F4AA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895119-DFBF-45CD-8125-11325A462D8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531FA8-A66B-4AD7-B4CE-763AB144C7C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75F2FE-9343-4F47-AADF-C7311ADA053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691528-CD55-4FA1-98B9-6AB49C422C7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75602D-EDA9-4BE0-ABCB-ED46CF0448D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12F74-84F9-4053-A621-9A2080075B3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61731-EFCD-4D9B-8026-8859827F831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D6E91-1A0C-4354-9C15-D2F53AD363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F0889-D254-4822-8D49-46074D22B9C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A9DAD-3839-4453-88FE-F68557AFEA1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C33A4-6A5D-4948-AFA6-E203352676C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BA688-2024-4A8E-BDEF-407CFB94180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81BEB-D865-4B8F-90F5-6BDC60D88C9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3A397-0C17-42FC-8C33-804015343A3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528F8-7FFD-41FB-8CAD-1378AB14576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89FCD-4CC4-4907-AB65-AE5443B8D64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B2227-64D9-4A2E-BAB3-984A6162C60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5B983-69D5-4B40-A22B-560EB881B86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1E4A31-3A6E-4AC6-92D2-153D82B2FC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B25D6-F3A4-48D3-873A-DFB24B96C84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C9EE32-4655-4CA2-A80B-8FCDCAE2B33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970E75-2997-4C7A-9540-C6A02BB8653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8A5D72-4F9F-45EC-88EE-7C97BC41270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3D3018-1A50-4384-B9F7-36ADD43611A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9CFBEC-42C6-46C1-BFA5-C119C478A0F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2AB99A-F0D9-40A1-AB7F-FDC27EC483E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5192AC-8B6A-40E8-9786-DFD01A89C40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11D28E-C4E3-47E4-A042-6677386EF1E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A7DD7A-6140-4017-AA60-4B1E66B6CFD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844783-C3D0-4F68-AFBF-6CF8710C29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C30B8-1CF2-4A4B-A350-324B6E9C0642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222085-1268-4DF1-986F-B2E62A17F2D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EC788C-1D85-4E22-A8AA-0B573594C33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C86895-41DC-488C-A139-1E7CBB75339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284B3D-BDBD-448F-8070-31329C5CE2D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E8B547-9EE6-4DF3-ADA9-6AB7DAA9FE8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34D7FA-74E6-4E1B-BDC8-1F14A2A04CF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16B80E-DEDA-4101-9DA4-D66FD663A5A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4EAA8B-C4E1-479B-8A69-9063D494837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F8BB2C-5A81-425C-A544-0E0166FD3F5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E233EC-6232-4680-921B-ED22A2A9E1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5430C-4E13-4085-ABC8-B88F048E9F0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F1A8F9-4D84-43D4-B7C8-E740981A6C3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F1D868-B587-43ED-8FBC-AA126B41B27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B81D11-1DE9-4C65-938F-93DCFD064A88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4CB26-10E9-43AE-B999-594E3018E93E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09B71-2C8D-413A-AD5E-6EAF510D3483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9D96F-DA7F-41F6-AFEA-40134D9694EE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2E9A9-0AA4-4851-8B2D-867CE2ECEED5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50784-F56F-4CBC-8F34-99D8616F7F74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69497-6D55-462C-A4E0-63343D9C4722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2E86D-4ACF-4D51-BA77-D9513B7B54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4C854-1209-4FC2-8527-31A4FB20AB6F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BCA7B-1EA1-4137-9D91-B304BF799B84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DCEC4-680A-46EE-BAD5-84AF1248B0B6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AB70E-7498-4EAF-A0CF-FB98B332E568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0E1D6-587D-407A-9107-98C254660829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E09DC-4DF7-4D74-8F0A-B7CFDF5C864F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1CB8A-E1E1-4972-ACDC-A1B9E7408A2E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0317E-3227-4F8F-8B97-839DB78002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5C3A9-D3BA-4219-848E-44F284FCE0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4E183-003C-49D1-8C2C-89A6E48A79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EBCF-B4DA-4CE3-92FC-5CDBDF106A0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B14-40D6-47B7-932D-B24F2526B31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4D75-4895-41C2-893D-9B42AE69170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050E-46C1-4718-801D-0E155E2CA8F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5B28-25DF-48C1-8AD5-91E3B330401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CBF-243E-436A-9A17-CD548ADFF3F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5C10-9002-4C49-95CC-03BFDB2A531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C2A1-5F5A-4BD5-8A00-825C2B54A00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7419-4DF2-417C-A8EB-E807332E7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8AF0-0D23-4949-B9C9-6770A66311D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A272-FA5B-4211-B020-22A7C875891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A2E6-CDFA-43CE-B611-2E01ABECAD6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68393-E809-4C4B-9703-03BC323F994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4D9F1-9881-419A-944B-9F6AA3A84A6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D05FE-2D17-48AD-8C9D-6D3110F1D94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2E9DE-F21F-48AD-88BF-E91D53208C2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445CB-B628-46FD-84E1-FD691ED816E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59BE7-530F-4185-B0CC-965D64A3F7C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EADBA-121E-4187-ADA3-1EA49EC5E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1B637-0B71-43D4-BC79-E99DEEADA5E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C0C5C-3034-46EE-8E48-94D3E4F507D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2ECF7-7593-4136-97F0-584D1CDAABE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2D4AA-C755-4ECB-842B-E22FFC9ECF2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475EA-B731-423D-8087-2359E015677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AAA95-086F-469B-9B40-70635C3A821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52E2D-9324-4821-B532-EC97D1E097E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EB7FE-EEC4-4090-8EC0-02F3829F3C8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80127-9AB3-40D0-93FB-8B4AC1277A0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C8E4C-1156-4F3F-863F-3E92FE8C9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2FE42-E518-4B9B-B01D-005E7B0DA6E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05EE8-EDF3-4915-971B-3184E795211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361F4-2B29-4E17-907D-C4A3A3B0800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68B86-5939-443C-9EDF-4E410FEE191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56A61-699F-438F-8951-57FE44103D8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05F1C-AC35-4513-A0EC-3E16DB8E1DA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A0E82-0865-4C91-910D-51DE6C88BF2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3044-1D68-4A3B-807E-802C004EFEE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50FA-A630-4CE5-9936-B57D9E03337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90D9-619B-4BE2-AF85-BB09F20F3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0E76-DED5-40FE-BF29-FFEA7F00DF4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EDE7-9620-4D14-AC17-B582988D293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F122-7592-46AC-A828-9115F01C1C5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DC1A-0E00-4E3D-87BC-B9AC11E11A6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1654-F0E4-4700-9830-2C5C87DFF96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19A6-307D-4D5F-B341-DE453AD77A1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CC8B-D6AC-43F7-AD49-E7674BC809A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E52F-4F22-4A7A-99C9-5E8A0978769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EDBA-3CFD-4BB8-B3E8-DA3D3B7CF6D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7966-D74A-4652-8961-DAC66391B05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46A0-751F-4687-80AB-7BB2662F7E1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BBD3-A415-4884-8906-49D523589A9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C29F-7BBD-4256-8620-E7086638C4D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1F70-7A13-4979-B849-0CC8F6D389F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880A-7D9C-4814-A6C9-C78BDBD58D6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ADB7-FC96-4850-875D-3E85DA586BB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FD5F-BABB-41A3-9C6A-2F00BF8CA3F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4C37-C93C-444B-BFFD-1CDB2135E8F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AF01-A2A4-4882-B9A0-2D0BA337421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79F1-3E08-48A6-A4D8-EBD9B770F7D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7060-A45B-4384-90B7-7F0786EAF3B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6812-FA43-4ABD-8791-EE3BEAA5965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97C8-4B31-4EA6-B5AF-D869AEAB74B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8F53-20D1-40BE-8D78-F1111513BAB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Florenc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agosto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Text Box 3"/>
          <p:cNvSpPr/>
          <p:nvPr/>
        </p:nvSpPr>
        <p:spPr>
          <a:xfrm>
            <a:off x="1224000" y="62064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5 CuadroTexto"/>
          <p:cNvSpPr/>
          <p:nvPr/>
        </p:nvSpPr>
        <p:spPr>
          <a:xfrm>
            <a:off x="67284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179280" y="5516640"/>
            <a:ext cx="864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; suministro de electricidad, gas y agua e intermediación financier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2" name="1 Imagen" descr=""/>
          <p:cNvPicPr/>
          <p:nvPr/>
        </p:nvPicPr>
        <p:blipFill>
          <a:blip r:embed="rId1"/>
          <a:stretch/>
        </p:blipFill>
        <p:spPr>
          <a:xfrm>
            <a:off x="750960" y="1773360"/>
            <a:ext cx="764208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3" name="1 Imagen" descr=""/>
          <p:cNvPicPr/>
          <p:nvPr/>
        </p:nvPicPr>
        <p:blipFill>
          <a:blip r:embed="rId1"/>
          <a:stretch/>
        </p:blipFill>
        <p:spPr>
          <a:xfrm>
            <a:off x="611280" y="1841400"/>
            <a:ext cx="7921440" cy="3591000"/>
          </a:xfrm>
          <a:prstGeom prst="rect">
            <a:avLst/>
          </a:prstGeom>
          <a:ln w="0">
            <a:noFill/>
          </a:ln>
        </p:spPr>
      </p:pic>
      <p:sp>
        <p:nvSpPr>
          <p:cNvPr id="129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1728720" y="68580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108000" y="5635800"/>
            <a:ext cx="903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5 CuadroTexto"/>
          <p:cNvSpPr/>
          <p:nvPr/>
        </p:nvSpPr>
        <p:spPr>
          <a:xfrm>
            <a:off x="541800" y="518328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9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00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Text Box 3"/>
          <p:cNvSpPr/>
          <p:nvPr/>
        </p:nvSpPr>
        <p:spPr>
          <a:xfrm>
            <a:off x="1295280" y="69228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5 CuadroTexto"/>
          <p:cNvSpPr/>
          <p:nvPr/>
        </p:nvSpPr>
        <p:spPr>
          <a:xfrm>
            <a:off x="617400" y="51958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4" name="1 Imagen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819920" cy="3471840"/>
          </a:xfrm>
          <a:prstGeom prst="rect">
            <a:avLst/>
          </a:prstGeom>
          <a:ln w="0">
            <a:noFill/>
          </a:ln>
        </p:spPr>
      </p:pic>
      <p:sp>
        <p:nvSpPr>
          <p:cNvPr id="1305" name="Rectangle 6"/>
          <p:cNvSpPr/>
          <p:nvPr/>
        </p:nvSpPr>
        <p:spPr>
          <a:xfrm>
            <a:off x="34920" y="5457960"/>
            <a:ext cx="8929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Otras posiciones º : Obrero, empleado del gobierno; Empleado doméstico; Patrón o empleador; Trabajador familiar sin remuneración; Trabajadores sin remuneración en empresas de otros hogares; Jornalero o Peón y otr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3"/>
          <p:cNvSpPr/>
          <p:nvPr/>
        </p:nvSpPr>
        <p:spPr>
          <a:xfrm>
            <a:off x="1763640" y="69228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8 CuadroTexto"/>
          <p:cNvSpPr/>
          <p:nvPr/>
        </p:nvSpPr>
        <p:spPr>
          <a:xfrm>
            <a:off x="1029600" y="517680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Rectangle 6"/>
          <p:cNvSpPr/>
          <p:nvPr/>
        </p:nvSpPr>
        <p:spPr>
          <a:xfrm>
            <a:off x="88920" y="5532480"/>
            <a:ext cx="90010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Otras posiciones º : Obrero, empleado del gobierno; Empleado doméstico; Patrón o empleador; Trabajador familiar sin remuneración; Trabajadores sin remuneración en empresas de otros hogares; Jornalero o Peón y otr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1" name="1 Imagen" descr=""/>
          <p:cNvPicPr/>
          <p:nvPr/>
        </p:nvPicPr>
        <p:blipFill>
          <a:blip r:embed="rId1"/>
          <a:stretch/>
        </p:blipFill>
        <p:spPr>
          <a:xfrm>
            <a:off x="922320" y="1773360"/>
            <a:ext cx="7299360" cy="3446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33640" y="525600"/>
            <a:ext cx="718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111240" y="5589720"/>
            <a:ext cx="895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5 CuadroTexto"/>
          <p:cNvSpPr/>
          <p:nvPr/>
        </p:nvSpPr>
        <p:spPr>
          <a:xfrm>
            <a:off x="556920" y="52783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1243080" y="1700280"/>
            <a:ext cx="6584760" cy="3425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2130120" y="5608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1152360" y="692280"/>
            <a:ext cx="68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Flor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abril – junio 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1697040" y="2158920"/>
            <a:ext cx="5524560" cy="3449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Flor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2 Imagen" descr=""/>
          <p:cNvPicPr/>
          <p:nvPr/>
        </p:nvPicPr>
        <p:blipFill>
          <a:blip r:embed="rId1"/>
          <a:stretch/>
        </p:blipFill>
        <p:spPr>
          <a:xfrm>
            <a:off x="971640" y="1828800"/>
            <a:ext cx="6624720" cy="1492200"/>
          </a:xfrm>
          <a:prstGeom prst="rect">
            <a:avLst/>
          </a:prstGeom>
          <a:ln w="0">
            <a:noFill/>
          </a:ln>
        </p:spPr>
      </p:pic>
      <p:pic>
        <p:nvPicPr>
          <p:cNvPr id="1327" name="1 Imagen" descr=""/>
          <p:cNvPicPr/>
          <p:nvPr/>
        </p:nvPicPr>
        <p:blipFill>
          <a:blip r:embed="rId2"/>
          <a:stretch/>
        </p:blipFill>
        <p:spPr>
          <a:xfrm>
            <a:off x="1258920" y="3645000"/>
            <a:ext cx="6192720" cy="1508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Caquet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1 Imagen" descr=""/>
          <p:cNvPicPr/>
          <p:nvPr/>
        </p:nvPicPr>
        <p:blipFill>
          <a:blip r:embed="rId1"/>
          <a:stretch/>
        </p:blipFill>
        <p:spPr>
          <a:xfrm>
            <a:off x="569880" y="1825560"/>
            <a:ext cx="764532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Florencia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5 CuadroTexto"/>
          <p:cNvSpPr/>
          <p:nvPr/>
        </p:nvSpPr>
        <p:spPr>
          <a:xfrm>
            <a:off x="758520" y="46306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4" name="1 Imagen" descr=""/>
          <p:cNvPicPr/>
          <p:nvPr/>
        </p:nvPicPr>
        <p:blipFill>
          <a:blip r:embed="rId1"/>
          <a:stretch/>
        </p:blipFill>
        <p:spPr>
          <a:xfrm>
            <a:off x="439560" y="2060640"/>
            <a:ext cx="8380440" cy="226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79280" y="2408400"/>
            <a:ext cx="27370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3 Rectángulo"/>
          <p:cNvSpPr/>
          <p:nvPr/>
        </p:nvSpPr>
        <p:spPr>
          <a:xfrm>
            <a:off x="2916360" y="1341360"/>
            <a:ext cx="6119640" cy="1857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6 CuadroTexto"/>
          <p:cNvSpPr/>
          <p:nvPr/>
        </p:nvSpPr>
        <p:spPr>
          <a:xfrm>
            <a:off x="3635280" y="5877000"/>
            <a:ext cx="561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(+) (-): Aumento o disminución de la TD de cada ciudad frente al mismo trimestre del año anterior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1 Rectángulo"/>
          <p:cNvSpPr/>
          <p:nvPr/>
        </p:nvSpPr>
        <p:spPr>
          <a:xfrm>
            <a:off x="3672000" y="57196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0" name="1 Imagen" descr=""/>
          <p:cNvPicPr/>
          <p:nvPr/>
        </p:nvPicPr>
        <p:blipFill>
          <a:blip r:embed="rId1"/>
          <a:stretch/>
        </p:blipFill>
        <p:spPr>
          <a:xfrm>
            <a:off x="3024360" y="195120"/>
            <a:ext cx="6000480" cy="5524560"/>
          </a:xfrm>
          <a:prstGeom prst="rect">
            <a:avLst/>
          </a:prstGeom>
          <a:ln w="0">
            <a:noFill/>
          </a:ln>
        </p:spPr>
      </p:pic>
      <p:sp>
        <p:nvSpPr>
          <p:cNvPr id="1271" name="6 CuadroTexto"/>
          <p:cNvSpPr/>
          <p:nvPr/>
        </p:nvSpPr>
        <p:spPr>
          <a:xfrm>
            <a:off x="3635280" y="60786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El total de las 23 ciudades no incluye San Andrés por tener una distribución de la muestra diferente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Los resultados presentados para San Andrés corresponden al período enero - junio 2015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Text Box 3"/>
          <p:cNvSpPr/>
          <p:nvPr/>
        </p:nvSpPr>
        <p:spPr>
          <a:xfrm>
            <a:off x="1332000" y="40464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Flor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(2009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75852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144440" y="1544760"/>
            <a:ext cx="6855120" cy="3930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Flor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5 CuadroTexto"/>
          <p:cNvSpPr/>
          <p:nvPr/>
        </p:nvSpPr>
        <p:spPr>
          <a:xfrm>
            <a:off x="162540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9" name="1 Imagen" descr=""/>
          <p:cNvPicPr/>
          <p:nvPr/>
        </p:nvPicPr>
        <p:blipFill>
          <a:blip r:embed="rId1"/>
          <a:stretch/>
        </p:blipFill>
        <p:spPr>
          <a:xfrm>
            <a:off x="1353960" y="1662120"/>
            <a:ext cx="6418440" cy="3710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angle 4"/>
          <p:cNvSpPr/>
          <p:nvPr/>
        </p:nvSpPr>
        <p:spPr>
          <a:xfrm>
            <a:off x="1908000" y="62064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Flor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 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bril – junio 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1" name="1 Imagen" descr=""/>
          <p:cNvPicPr/>
          <p:nvPr/>
        </p:nvPicPr>
        <p:blipFill>
          <a:blip r:embed="rId1"/>
          <a:stretch/>
        </p:blipFill>
        <p:spPr>
          <a:xfrm>
            <a:off x="492120" y="2708280"/>
            <a:ext cx="8232840" cy="2165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6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7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Juan Camilo Riveros Botero</cp:lastModifiedBy>
  <cp:lastPrinted>2014-10-03T19:19:10Z</cp:lastPrinted>
  <dcterms:modified xsi:type="dcterms:W3CDTF">2015-08-10T13:55:23Z</dcterms:modified>
  <cp:revision>941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