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5.wmf" ContentType="image/x-wmf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6954-6164-4174-B5E0-B87040CBF0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631-ADC7-4B92-828D-9ED34F5F0C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E1B4-897D-425B-ABC9-1E3093FC19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BCEE-A137-4A54-AD23-4253A4D53B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BCAE6-F3AE-40F8-BF7E-FD5F5FD173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1AC33-79CC-4E8C-9C86-5B63E72F95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541EA-EF86-4B8C-AC82-8E87C9D4D9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2D77CD-B793-4A70-A43E-F42B9E0C3F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6054F-FE6B-487C-9534-DE5A42E05E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F04FE2-7A20-4073-B6C4-599C0EFD86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DE5E8-0B79-4194-B72D-0BCF445E4A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1BF22-C712-42C7-90DC-BD0A0F9EA3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4B5A7-D5DF-4815-84ED-9CCB9C72CC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26C31-52ED-4434-96E9-36C64D22C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AB093-1E71-489C-9EA1-3318206108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396A8-91B6-4F0C-8C94-E8A7CFBD33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63A96-F452-46E0-8BFF-4796A5739F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318CC-B7B3-4B25-BBA3-937827C7B7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E2EBB-AE2E-4B63-89CB-68249FE522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51224-B2EB-46D7-AD31-59954BAF10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8AC47-0583-4A44-A6D3-6D4EA66E99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16A03-E953-43D1-B248-8C97368128B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0E099-9B74-475E-AC71-1918EDF0FF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C28C1-83DC-4B45-8D1E-0D719127E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747F9-3516-46BC-9851-8DDE97D036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6C42-5178-4DD2-88B5-AE78FF33C2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F826-A192-4ABB-97DA-8074A7FB1F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BD83-0B4D-41E0-B925-F5DEBC09CD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23A4-4324-4606-952B-D2DF37D430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77E8-9E28-4724-B3E2-819A500B586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FEA4-DE90-4E8E-BBAE-0F1C163468B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D194-8C35-40B9-A17D-6C0242CD73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10B1-958B-4DA9-8752-4D9F4606B0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BC54-36EB-4775-880D-F5AB247AB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991A-61BD-4346-B4FD-E30575F0839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A11B-B1CB-47E7-B5AF-9EDC30995F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2280-EEE6-4541-A899-8BA6FBE509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9A07-F304-4D28-AB36-F6B5E6CC579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82D04-FEE1-489F-ACBB-0ED1B36CCF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9CBD5-D658-4091-953D-ED8143E577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BDF74-0190-4EAD-8B68-65665DCA08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72213-9B76-451A-9C5E-E5ECD79C77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AB09C-3AF2-4E60-A4DB-7DD4BC067B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FDF32-09AB-494D-B8A9-36F8E65944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B7B26-4742-4CE2-ACA1-FF788A374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EE90-9447-4E3B-AD6B-0508E37577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EA457-9713-4098-8094-9F0CC044AA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88601-DEBF-45EE-A385-A76FB45980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42E25-92DA-479A-A5D0-67617926DF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FB014-BEF4-4BD9-8287-F3224C93B7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123FC-3483-4DDA-84C3-7B3F42B1211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BBE25-924D-486A-AEFB-C5E4091847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6979F-F431-4CB0-BBD2-812CFB2D17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196FB-1B11-4B9E-956A-32503623387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5B612-47D0-4976-B79D-A383EE3572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C4E49-7E02-4348-B446-F5C57FEE3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75ED-8207-46EB-9795-59361347224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0C757-647D-468B-AF05-E8C8703A6A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0E268-890E-4556-B0A3-8FE3EA08E17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1C9DF-9F8C-46FF-A418-813D73A520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33E0F-B876-40B0-842D-C4F4843E9B0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0E346-0E68-4DAA-8702-8D1D564C09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B08F2-2B78-4050-9A3B-66DA290958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8880D-0A03-432D-A5B0-F035B731EA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61D8-43CA-4A0F-8CDC-0EFABC23FB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3831-645D-4265-8571-8ED6C27393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3A94-DD2C-4FE0-BEBA-4EC5677869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060F-8928-464C-A345-D612FA0549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F19E-A84A-44DE-894E-8EA035B298F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38CB-BFA5-432F-A0D1-59F408E3062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AD40-561C-4A69-957E-2EA790103D7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88DD-2480-481F-9AA8-E2A0D3742B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C37C-3EA5-4345-A4CD-6AFEF78DF99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9FD0-94B8-49FF-96D2-D7259C9F838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4572-A3CD-4125-8E80-1B79D4BA7E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E87A-C68D-4C25-98DC-1E78EB77D15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FA84-2FD0-4BDD-91A7-8EF4CD1BF6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B090D0-6B53-4D3D-A9BC-AA21A5C2EF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9E22-7B5A-456F-9914-08D5710867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E5850-9840-40BF-A2F3-7EEE2209D6F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88215F-D57F-4A56-810C-BCCA26345F5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9AD29-26C9-4816-836B-F760403190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45BB97-A6EA-41CD-931E-4BEDE52885A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3D6EB-4C75-4DAA-B0A6-5486085B19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B96A43-35B1-487F-98AB-6675199121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BA56F-5711-4B21-925D-5E455575043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6390E-9814-4E17-9B25-C8314991D93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F57FC-77CA-4CB2-9A7E-43442FB5F00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7A8F7-956E-42D1-A196-63B0A1B212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E5B1-E966-4970-B0B0-CE6A2736215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50A4E-A9BC-4465-B339-7DE509E9E2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D4C6-1AA6-4355-96C2-EEAD42BBB2D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D3A27-FE3B-480E-8980-9649C795527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3A49E-8B9E-42CC-9648-38F12F39283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F55F3-E99E-441D-A1D1-4F68334DF66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12C5A-87EC-4839-BC97-75BE7B49158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E0748-B870-42A6-9C3A-F13CEF9AE37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203D7-0D44-4D72-9BC6-A6340746C0B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E20D0-A5E4-4872-9B2A-E5AB72F92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9349-9454-4C08-A151-4308BA7976F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A347C-9533-4CF2-8990-3CE580A51DE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1D09C-504E-44FD-B88A-CBAB94186DF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E2ECE-D1F5-4925-B40F-2DA358E7B92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8FC7A-724D-493E-95D0-1C8BF44F83A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4EBF4-605B-443B-90EF-10F41354851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6305-BA67-4D2A-9DF9-7878685142F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05C0-9504-4976-940B-C15EC1E9CCD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2412-EA57-4FEE-B641-20C79E34585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B6219-2C3C-4284-9031-8AD1B0155A3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C730-FD75-49C5-9DBD-701CD964F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63D2-0127-49C8-8A14-8EC1B4232BC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BDCD-ED4E-46FF-9F1A-3BE552C2000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17803-B867-4E5D-8AC2-155B7469121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5F1A-74FB-4A12-A87E-06DAF009E94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B582-DC03-4710-A601-E02A1664034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69A48-1783-4B3D-B216-9B84C052FD6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6549-ABA2-46FF-B044-5EBDB00BC6F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A7A56-3C3D-4BA8-A507-183762CBF04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D20A1-94E2-4DB7-B5CF-130CBB4C1E5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C11EA-AFDB-4048-9ADD-486CAC40D74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9F43E-4018-459B-A5DA-336C749D9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6B1E-A0A2-4FDE-A324-5F5BA4B5290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919FA-045F-443E-9083-F071BA21CED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9EC5B-0155-460C-9C2D-444F7893318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C57AF9-DF19-4827-9A68-3A140AF65F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1F5CF-F275-4CBD-BF54-C05C1E52D7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F55877-356F-414E-924C-D0158D2E3F9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F7EC5-B866-44A8-B3B3-CD188D24571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77FE3-88BA-4E4B-A4F4-93B3112E0D6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EE456-EDA8-4BFF-B662-20B80CEFEB2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5B016-BEA1-4DA4-9C36-D6DA7899949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B225F-C27E-477B-B842-8FE885D3A9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0601-0B28-4383-ADAA-DD8556C0278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D6CCA-0B70-4107-944E-D7D7FFD720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02187-A8B8-489B-B889-0C42EB372A7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E9CCB-ED09-4398-AC52-116F1600754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A9FC2-A657-4F75-ADA9-0FDF6179876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C1BC6-80EC-4A12-A058-02762901FD5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E10AB-003F-4CB5-8EE7-5688ED4FA76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056F1-71C9-4DD8-9B71-D1BC901AED1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C50F3-93BD-423E-B803-CADF926F333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FD433-3784-460B-9FB0-392D2A49B5F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E7A3E-B319-4D90-B12A-17FCC50989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8232-51C9-4F02-BDB9-3434DA94D8F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26126-B1E4-4C91-9933-2F07E1AC4BA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ADEC-5B1F-4373-8FD2-5A0A7B2EEF2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26C0-EA06-43C9-9C02-0D5C5EBDD31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D85D-81A3-4A59-A80B-9EB623A7604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A9A2-5F66-4B1E-A93D-7872B5914BF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67ED-6A3A-4F37-95B7-5C3CD2C48A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2C75-F3D9-477B-B835-BC1443B86FD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CDA0-9239-46C7-8EEF-6EEE05B2142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544B-F933-4546-8343-0F5A3CB5AF1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5625-5ADE-40EA-AAA3-60257EA653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601D-8A7E-42E0-A404-9625E2FCCD0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9E4E-107D-402C-9961-C7849119044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A184-9595-449D-90E5-72A8E017E44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F09EE-D64F-4F99-867A-E4118A16AAF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DA1C1F-A11A-4D33-9424-8F1FE3D2BA2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DE043-44A5-425E-8AD5-71F6E7074B3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FF663-DA8C-4BD5-8781-778B67352F6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1E91C-AB22-4261-8B91-6B5DC49AD2A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2FFFE-CCBA-4D31-8294-36817B0B1DE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11113-669B-4F81-9B17-31410D40E8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A6E3D-EECD-4513-A646-93DBD619BD8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C1EF0-DAF5-479E-8460-E6110EBB688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32E20D-B6C0-42E4-A9B6-24BEF463140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DD123-6C23-41A1-88EA-D6031E8E2E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A3B0A0-70A0-4F0C-AE9C-5137A48D753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118D0-7413-456F-9840-583412FA6B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970DB-E5D2-43BC-ABA8-7DEE810756C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C03F4-A75E-48F8-A30C-28DE692CAD2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3B789-9875-4324-A184-6F6C54CF74B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01668-A6FD-4DDF-829E-4C9797B602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95D6D-0ED1-4101-AAB6-093EBA9DE01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8BBB3-CFFC-4CF8-BD3C-DA84F7D1473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4D08C-84A8-4DDC-B845-9F87D23BDCE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E1825-4FBE-4222-95E2-AF90DDD68F1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15244-927A-496A-9879-0569BB72635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8E5D1-C9D3-471F-9D93-1DBFF3CADBE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96313-5380-4690-AD28-A81F25CD047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FCC5-A113-4C5B-88E9-B853331C915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AA88-5583-4171-BC6A-D0752458F85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51F7-3BC2-4A2B-B357-0FCC88A6D4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9427-DD61-41B1-8A07-92CC58C3874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695B-DB02-4166-A840-901CCC5C880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F4B5-9E46-45B0-8F6C-F120732453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3851-0F5D-4C19-AC09-853AC62BFEA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8D46-3F1A-42C6-8294-9042F182CF6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8B9A-4ED0-43C3-9BC4-83F4F4B1D78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522DD-DD22-4E13-8A8E-4E6196741BB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D6C5-232A-4A5D-9448-1BEC81D839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5FA2C-284F-4E30-88D8-20E510A4214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34324-885C-431C-A7DC-CA862BA08C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910D5D-BA3F-447A-A78A-166CDEA6090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7EEDD-FAC6-42A5-910E-17C2EFB9A7B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6B5DA-1A3C-46B3-BB13-E574E3800A2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01241-9AC9-4F66-9D45-E4B14332C80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2148E2-E790-4AFF-9FD9-35D831216CE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72967-FABD-4178-87C9-1847BF73A34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B9A4E-243C-459B-B3B8-4CDDC2EEFDE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F968E-8B30-4758-8B99-F2D114A6095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97FC1-FA0D-4D97-B013-C66F2B9DF36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BB2B7-A69E-4B21-BFF0-E44ACEC23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4E04F8-C048-4074-A27F-7027D0A26C9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783DB-99C3-43D9-A153-F8C61465322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97672-1F9E-4C1B-ACF9-77C71C28CB1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19D38B-11A0-4429-8677-019240BC825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4418E-1A58-407A-A480-A3091C4C246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AEA81-2815-4097-B2DA-47722626C9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478C7-56E3-4704-89F1-93C1C83771D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30E6C-1B67-45F8-BFF9-AC9E4773660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FE8C2-FB61-4811-8AA2-1A5D50F690E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DA36C-FC3A-4D37-9604-7F9C184A41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AB168-D0F5-4795-ACF5-7F140D4BFCD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0A1EA-9B8A-4CE1-A6D0-8689DD1E4C5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C16FF-4DC6-4B88-901B-83F3ED8A99E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5472D-1B0A-46F3-992D-2329334715D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30AAE-1E9B-41F2-A324-47063B81B5A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3ACB-33BE-4FE7-85B6-3186BC332DF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9F7DD-99B6-4C4F-8253-74903C4A96E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2643-6169-406D-A628-CA7A30C5E62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15AE-1ABD-4D65-AFE6-F8F2EB0F83B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4A04-CA95-4599-B1A0-7D34E929E9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DCE2-CFBA-4E75-A201-818CA80AD1A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E63DB-6508-4361-8AE4-C009BDE7DB2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5E452-568C-49D6-81CD-AB22F369931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7E5E-3BF0-490F-98FB-A91D4354C49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D98E4-C606-4FA4-8891-67B9DA04FC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4424-DD16-49D6-A206-970B9A8145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E04C-8B7D-454F-82D7-DD930E9BE2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3464-E3B1-48B5-84EC-3BEF66EAC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6260-1DE2-4C9E-9405-9BBD230E0F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EDE5-372C-4606-B21A-33F16FB5BF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AC95-E7AA-45A0-8B5A-741E6BECF3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F0B7-75A8-4AD9-BAC3-0BC92CC247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DB9A-0F82-48F5-A4DF-F8D57E9753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4CF3-D3AA-404A-8422-068B61C0B5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222F-A7EE-4D62-B9A9-3A61F848F6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5748-885B-47B0-85B7-D770AFA9C6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23F8-126E-4FF1-989B-ECCF477918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841-E55A-4F7A-87D2-98DB023E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4A7-48D9-42FD-BC0B-647965D372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650-9381-42D5-A9B6-F1738207A8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BF7-445C-45AE-83B0-FAC3C8F8D0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3E1-95D4-4591-82B1-429EA44453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0CF-F4A6-40C7-9D06-6F3A86AEED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135-0106-41BC-B10D-61DCCAD364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D1-87C4-4E91-8272-5F3CC8630C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F3B-735F-4751-969B-97BEE7A6E03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13D-69B5-47B2-A105-E70506D89E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93E-6713-42FF-B979-E7EC84781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F9F-055D-47BF-8B3A-A54E7E904A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B43A5-B8A3-49BB-853D-C24E8353E7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ABDE-6A18-4AF9-A568-D2B1E2C3BC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CC1B3-73B9-4FD7-9EE2-56FED23577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3C772-09EC-4B2C-B8E9-64324FD4AC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2DA4-0026-426B-B7C0-F1FEA78EE5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94B9D-E48F-4577-A8AF-036E5324CD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A213E-87C8-43F9-B63F-1AE342CE46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BBE0-4E18-4265-BBD9-7D8357CA86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95B75-2D87-4FAD-8175-701C528AE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633E2-FC24-448B-840E-D71FB473BC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17504-9F82-471D-A3D1-2AF8944F67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7ACFA-B214-49DA-8042-7323F7C8BE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6578-5CA3-48CD-843E-7A73C74588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7EFD3-0B01-41B9-B06B-C4229865AC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12B0-7E88-4E41-8ABB-0D59EEEF61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55518-F1C9-4ED0-A7C1-7FDF2D3407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728E-6A4C-47C1-BAFA-8C6269F9BA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140DA-6013-42F1-AC57-EDCBFEC380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60B9-7B19-4EAC-83BB-5133F1DBB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7A4A-372D-4818-BCE4-D61F2A7BCE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114A2-B3D9-4366-8303-5AB7AED6F1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519F-F03A-4121-A81B-9CFF35CC3EA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74CF8-C14F-477F-A6B7-4C771E777C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C937-3946-4FB2-8C15-29311EB20B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D666-A6AE-4BAA-934C-B69D65AB3A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6364-B734-48A3-8034-A65659949B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6483-97C7-4FFF-86DE-9EAE79D5C7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C223-B43D-47F7-A389-5F803956AD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7368-1F84-4C4E-8938-31153C2E5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B07-C3E1-4F29-8B03-8C767E8DCD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3504-B0C8-4831-BFC4-715982B689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161F-5140-4626-BEC1-CAF14C2B45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8EE-3E0A-4A91-A03A-9BF85E9A2B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3E81-6902-487B-8A2C-9DF6EEB01E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DCF1-40CF-41F8-B9D1-47E3799F52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B725-E7B6-4641-A0C1-2B58365C66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D3E2D-C37A-4C12-A645-3A6AF3F88C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24B7C-D0FD-4666-B1C9-27BFBD1AEF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9243F-A91B-4646-B4E8-8D30A7BDA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DDE-3EF0-483B-BD79-C7940C5924A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E2B4-1843-4515-8089-E1D77D8B15E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1D1-ACCC-45D4-8682-34F4852B743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ACF-8C23-434D-A117-0E9415E580C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BD3-7D60-44F9-97CD-7C7259F3103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817-0735-4184-951C-040A835455F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1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07E-743E-45A7-8575-C0E286C18C9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18F-899A-47C6-9336-308A6E4B7F9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1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A0A-DD00-4B9D-AC8D-10E64529BD3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ldNum" idx="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D36-32B6-4E6C-AD06-570B3E36ED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1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DE5-77F9-4CA1-B868-95CA1CA80A2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sldNum" idx="1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9AB-55D8-44BD-9EC3-104CB6375E7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CF52-73A1-4F4E-BA0F-340765F3660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9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2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46D-AB28-48B9-9618-471534D636B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2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74F3-C3AE-468A-93B4-9DE86814ECF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2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D1C-E934-499B-9F36-9CC7D7248F3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sldNum" idx="2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5E2-45A7-4813-89F5-124F273804A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46D3-E1D3-479C-B0A9-50DA15A3389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89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ldNum" idx="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50A-DD3A-484C-910D-C0C7A77814E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089-BFE9-40FD-810F-B570D942883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126-C1BC-4CDE-8CB5-A4684CD5E3E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F98A-BBA9-4349-B6F9-87FEB238BD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6C1-FD7C-47CE-A9C8-CF05CC8BC5E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5941-9828-4D67-BE98-B125A16257D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8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Monter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3"/>
          <p:cNvSpPr/>
          <p:nvPr/>
        </p:nvSpPr>
        <p:spPr>
          <a:xfrm>
            <a:off x="1251000" y="450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5 CuadroTexto"/>
          <p:cNvSpPr/>
          <p:nvPr/>
        </p:nvSpPr>
        <p:spPr>
          <a:xfrm>
            <a:off x="672840" y="5254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71280" y="5551560"/>
            <a:ext cx="896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3" name="1 Objeto" descr=""/>
          <p:cNvPicPr/>
          <p:nvPr/>
        </p:nvPicPr>
        <p:blipFill>
          <a:blip r:embed="rId1"/>
          <a:stretch/>
        </p:blipFill>
        <p:spPr>
          <a:xfrm>
            <a:off x="392040" y="1700280"/>
            <a:ext cx="819468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1728720" y="512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250920" y="5627520"/>
            <a:ext cx="871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1 Objeto" descr=""/>
          <p:cNvPicPr/>
          <p:nvPr/>
        </p:nvPicPr>
        <p:blipFill>
          <a:blip r:embed="rId1"/>
          <a:stretch/>
        </p:blipFill>
        <p:spPr>
          <a:xfrm>
            <a:off x="527040" y="1932120"/>
            <a:ext cx="7705800" cy="3454200"/>
          </a:xfrm>
          <a:prstGeom prst="rect">
            <a:avLst/>
          </a:prstGeom>
          <a:ln w="0">
            <a:noFill/>
          </a:ln>
        </p:spPr>
      </p:pic>
      <p:sp>
        <p:nvSpPr>
          <p:cNvPr id="1248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1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1 Objeto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3657600"/>
          </a:xfrm>
          <a:prstGeom prst="rect">
            <a:avLst/>
          </a:prstGeom>
          <a:ln w="0">
            <a:noFill/>
          </a:ln>
        </p:spPr>
      </p:pic>
      <p:sp>
        <p:nvSpPr>
          <p:cNvPr id="1254" name="Text Box 3"/>
          <p:cNvSpPr/>
          <p:nvPr/>
        </p:nvSpPr>
        <p:spPr>
          <a:xfrm>
            <a:off x="1312920" y="522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5 CuadroTexto"/>
          <p:cNvSpPr/>
          <p:nvPr/>
        </p:nvSpPr>
        <p:spPr>
          <a:xfrm>
            <a:off x="61740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 Box 4"/>
          <p:cNvSpPr/>
          <p:nvPr/>
        </p:nvSpPr>
        <p:spPr>
          <a:xfrm>
            <a:off x="250920" y="5365800"/>
            <a:ext cx="878508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 Box 3"/>
          <p:cNvSpPr/>
          <p:nvPr/>
        </p:nvSpPr>
        <p:spPr>
          <a:xfrm>
            <a:off x="1763640" y="71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1 Objeto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7572240" cy="36464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4"/>
          <p:cNvSpPr/>
          <p:nvPr/>
        </p:nvSpPr>
        <p:spPr>
          <a:xfrm>
            <a:off x="324000" y="5396040"/>
            <a:ext cx="871200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5 CuadroTexto"/>
          <p:cNvSpPr/>
          <p:nvPr/>
        </p:nvSpPr>
        <p:spPr>
          <a:xfrm>
            <a:off x="61740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65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1133640" y="51264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539640" y="55357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0" name="1 Objeto" descr=""/>
          <p:cNvPicPr/>
          <p:nvPr/>
        </p:nvPicPr>
        <p:blipFill>
          <a:blip r:embed="rId1"/>
          <a:stretch/>
        </p:blipFill>
        <p:spPr>
          <a:xfrm>
            <a:off x="755640" y="1282680"/>
            <a:ext cx="7561440" cy="3946680"/>
          </a:xfrm>
          <a:prstGeom prst="rect">
            <a:avLst/>
          </a:prstGeom>
          <a:ln w="0">
            <a:noFill/>
          </a:ln>
        </p:spPr>
      </p:pic>
      <p:sp>
        <p:nvSpPr>
          <p:cNvPr id="1271" name="5 CuadroTexto"/>
          <p:cNvSpPr/>
          <p:nvPr/>
        </p:nvSpPr>
        <p:spPr>
          <a:xfrm>
            <a:off x="545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158840" y="54936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y 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- junio 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4" name="1 Objeto" descr=""/>
          <p:cNvPicPr/>
          <p:nvPr/>
        </p:nvPicPr>
        <p:blipFill>
          <a:blip r:embed="rId1"/>
          <a:stretch/>
        </p:blipFill>
        <p:spPr>
          <a:xfrm>
            <a:off x="1768320" y="2205000"/>
            <a:ext cx="539604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Objeto" descr=""/>
          <p:cNvPicPr/>
          <p:nvPr/>
        </p:nvPicPr>
        <p:blipFill>
          <a:blip r:embed="rId1"/>
          <a:stretch/>
        </p:blipFill>
        <p:spPr>
          <a:xfrm>
            <a:off x="712800" y="1557360"/>
            <a:ext cx="7427880" cy="2232000"/>
          </a:xfrm>
          <a:prstGeom prst="rect">
            <a:avLst/>
          </a:prstGeom>
          <a:ln w="0">
            <a:noFill/>
          </a:ln>
        </p:spPr>
      </p:pic>
      <p:pic>
        <p:nvPicPr>
          <p:cNvPr id="1278" name="2 Objeto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7416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órd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1 Objeto" descr=""/>
          <p:cNvPicPr/>
          <p:nvPr/>
        </p:nvPicPr>
        <p:blipFill>
          <a:blip r:embed="rId1"/>
          <a:stretch/>
        </p:blipFill>
        <p:spPr>
          <a:xfrm>
            <a:off x="960480" y="1779480"/>
            <a:ext cx="729612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1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6" name="1 Objeto" descr=""/>
          <p:cNvPicPr/>
          <p:nvPr/>
        </p:nvPicPr>
        <p:blipFill>
          <a:blip r:embed="rId1"/>
          <a:stretch/>
        </p:blipFill>
        <p:spPr>
          <a:xfrm>
            <a:off x="861840" y="2205000"/>
            <a:ext cx="76438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1 Objeto" descr=""/>
          <p:cNvPicPr/>
          <p:nvPr/>
        </p:nvPicPr>
        <p:blipFill>
          <a:blip r:embed="rId1"/>
          <a:stretch/>
        </p:blipFill>
        <p:spPr>
          <a:xfrm>
            <a:off x="2903400" y="282600"/>
            <a:ext cx="6180120" cy="552276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3 Rectángulo"/>
          <p:cNvSpPr/>
          <p:nvPr/>
        </p:nvSpPr>
        <p:spPr>
          <a:xfrm>
            <a:off x="2771640" y="3716280"/>
            <a:ext cx="6131160" cy="190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6 CuadroTexto"/>
          <p:cNvSpPr/>
          <p:nvPr/>
        </p:nvSpPr>
        <p:spPr>
          <a:xfrm>
            <a:off x="2843280" y="5732640"/>
            <a:ext cx="572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6 CuadroTexto"/>
          <p:cNvSpPr/>
          <p:nvPr/>
        </p:nvSpPr>
        <p:spPr>
          <a:xfrm>
            <a:off x="414360" y="4581360"/>
            <a:ext cx="2357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Los resultados 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presentados para San Andrés corresponden al periodo enero – junio 201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1357200" y="728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2 Objeto" descr=""/>
          <p:cNvPicPr/>
          <p:nvPr/>
        </p:nvPicPr>
        <p:blipFill>
          <a:blip r:embed="rId1"/>
          <a:stretch/>
        </p:blipFill>
        <p:spPr>
          <a:xfrm>
            <a:off x="534960" y="1868400"/>
            <a:ext cx="8140680" cy="374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5 CuadroTexto"/>
          <p:cNvSpPr/>
          <p:nvPr/>
        </p:nvSpPr>
        <p:spPr>
          <a:xfrm>
            <a:off x="151740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1 Objeto" descr=""/>
          <p:cNvPicPr/>
          <p:nvPr/>
        </p:nvPicPr>
        <p:blipFill>
          <a:blip r:embed="rId1"/>
          <a:stretch/>
        </p:blipFill>
        <p:spPr>
          <a:xfrm>
            <a:off x="1438200" y="1465200"/>
            <a:ext cx="62676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onter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2" name="1 Objeto" descr=""/>
          <p:cNvPicPr/>
          <p:nvPr/>
        </p:nvPicPr>
        <p:blipFill>
          <a:blip r:embed="rId1"/>
          <a:stretch/>
        </p:blipFill>
        <p:spPr>
          <a:xfrm>
            <a:off x="184320" y="2637000"/>
            <a:ext cx="87246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38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6-07-25T14:36:50Z</cp:lastPrinted>
  <dcterms:modified xsi:type="dcterms:W3CDTF">2016-08-02T21:53:24Z</dcterms:modified>
  <cp:revision>1010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