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9804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954600" y="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203480" y="685440"/>
            <a:ext cx="45734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E689-6EAC-4582-89EB-46FD5AA31D0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E812-B789-46D6-B138-ADE5B809FE5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725A-522C-4AF9-BE4C-3DE0103EE11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8FAD-11F9-4BC1-B5C0-E5D120DB38A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9DD2-16F3-4D5E-B570-40D4518FCA8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7EF3-FD69-4CCB-A374-D6CE14EA1D7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FAAA-5DC2-4B32-890E-C1EE6CB3AC4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70A5-7064-477E-BD83-FB1C43CAB98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6EA2-174C-4B9D-9F3C-106E4F4D88A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7A1A-428F-4A9F-BA7D-5C9AA0CF39A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2161-A475-4279-B207-82075A60359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482A-E6D7-47AD-80A8-41FDB36E8E6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18A6-7164-411D-8001-A79A7C356DF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4AC8F3-D6F5-4E38-86AB-6B1A8B987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063BD1-EF51-4AF5-A0A0-685D6346715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B90AE5-8CB9-4190-8BE4-D365AEE6C9E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FF732C-BA82-44B1-80E6-EDB0DB723E3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4290DA-B14D-4345-BD0B-846ABF46C09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398AFD-4B5D-44EB-83A6-18F072F4210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DCD9F8-D589-4C45-B33D-0BA638E9D43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7C8746-43C7-4BE6-8208-DBD71002740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613CFF-70F2-4332-9A81-65D40C44D78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897FE8-CDD2-4DD2-8318-66B7FE3081D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6E29CB-4F70-4F96-89E0-D3354AE45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C6BFD7-A4CD-4CDE-A8DB-D8A5C9B0F02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AEF35-02BA-4AA7-99F8-B087DA156EE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CB818-C87B-4226-9F55-F0585C2ADBB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D4B3C9-49D2-4DE0-819B-0EBBDC9C6DB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971485-EDF6-4254-A10B-8AEC98B4E4F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64F9D4-A5B8-4111-B0DF-0FE1556FAA9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FE882-B37C-4CA2-887A-5DC88FF0798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22BC3-84E8-4AE4-995D-BA687802097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99F33-CBD8-4B75-9756-D08CFD4C015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B77E0-B47A-4E16-80B9-C7696D716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7FE0-217E-4AC0-91DE-87A2BAE31B6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915E8-BE4A-4EF5-9EC7-79A6CDDE0A4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A66544-3FFD-4096-9A72-F243DE764E1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1A6B9-2610-461D-937A-5733C986C24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5C866-43DE-4BBB-97A7-B5504C2E135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D69B5-D4C8-4624-90FC-95A0863EB9C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A32CC-84CD-44EE-9BEF-B99B0C7112D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6E508-F803-4FCC-A56D-4AE93FB597A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3498D-CC01-4E4E-A09F-1E456868E50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7084C-0DD7-45A3-BD1B-83AB5653D8B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C72FF-C3BF-4E47-8E6B-4B2E849CEB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CBBF-5D5D-4E1D-AB28-4DFECD1C939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A77B6-EF23-45B5-BABA-A4DD30EDA39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B3360-46F6-45C7-BA30-B0912DE2DA0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C2657-1730-48E7-89DB-A3858927B40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86596-B6C6-4262-90FF-5EFCEE7EE4E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7B76B-3A59-4BF1-8147-3A7690BDF44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802B87-39E8-4D96-AC21-711DB70E33A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B26894-CEA2-44AD-A956-9A948BBD2D3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5824E8-8B83-41CE-9A06-E0C092ECA96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E7631D-6ED0-4300-BA09-DEFAE1F86A4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6DE5A2-9BEB-4ADE-BE6F-FAB2CFF4EE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98A57-BBC5-4E6C-99D0-83B825EA78E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12B421-298D-47F0-A16C-DE3332DC68E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37B0C1-02DD-4A4A-AD99-AF80F942E87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5BB2D8-2AAC-4189-B689-3F0365B95B3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10832E-812E-45D5-AA75-17235937743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2CA6FD-D54B-4E4D-8226-84857639C9F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814A7A-4988-4D04-BBBA-5A8046DDE6F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57E77C-ECCA-4A9F-9030-EF551DE68D5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08F7D9-95A7-48B6-A17B-99F3E9A7E6C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B83291-259B-4417-8AA0-254F5156E68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0E42A6-CFD1-4A4D-ADC6-551E67D06F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6A6B-82B3-48A9-B307-6B0B1A55D19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CDC3EF-3A16-48D0-A341-22C709CACF1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4FEA6E-2688-4214-B3FE-48813C5533E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82AB61-5F71-426D-9229-542175C183E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74D59A-D82A-466D-BC92-9D7531C01DE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F74F1F-F334-4B5A-B003-D1A2AACE0ED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EB8459-E2D6-4DEB-81A3-10E5DC861DE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0BC06A-3CE7-4885-B640-215FBA9C18D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AD0C21-6285-4593-A5BE-31D086FC68E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008BCB-DA27-41A7-B92E-3BA5BC9AC61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880CB-B506-4E88-B69F-002CA68CA5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3D52-48C1-4021-BA25-981E8F2F877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7ED0C-D3A4-4A4D-9CF3-8D5D29074FA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92369-61B3-4E75-97D0-853408441E5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CD93C-94C7-4836-AB17-A5B82175C95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7A7D5-6D69-4DB6-A89D-5EA75790098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00C5E-8AD1-499D-A721-70F262AF18C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9E209-26E1-4406-B486-27434D9B0A2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370EF-21D8-4534-8ED6-CBFBB89096B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31ED8-FF59-4A64-8612-282158C7CE9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2D3DB-DF53-4DFB-BAC2-4E1FB9BA490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A20E7-5493-45DE-A341-A7ECDA92C8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0014-C09E-41C3-9218-3853506A477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7F1AD-1964-499A-B4D8-D21E809B481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907112-D3FA-4E6F-B9F8-ADF4988E43D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A3382F-139F-4D08-8747-E4618E39BA9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99732C-232F-4A41-B89A-179FB7C525A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32F49D-F25D-427D-A44A-C081841DA5A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BFB662-53E9-470B-AE45-FE37C74B637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33010E-705C-404E-A1BA-C3757EBD017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01CCEF-A873-42C8-B734-EAB06BBCC0B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FC57EF-11A8-4A9D-814E-A08255A52A8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37E29E-76A2-40D3-85BC-990B47A49C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031F-B0FF-4365-8FE8-3D83C870B83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22C2CF-DD82-4400-B76B-E7A82EF1AFE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F1F045-4952-4DDE-8B4A-82510D8EF47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A35110-8057-4613-ABBD-FB79A296AFF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6467E-4A5D-4A60-8C67-68898CC3181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11B816-3847-4B09-BAE5-0FD50FD27ED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00D286-AA37-4B40-81B0-2F0BBF5A039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E92938-A5B1-4022-B0A0-23DF352300F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7E942A-398D-4F6F-B768-E522BC7EAD7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5D8B80-126A-4EC6-812B-F1C70019C16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31B204-9B4B-4186-B883-42CA89B2CC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D5DFA-9D88-46CC-9B32-9540FDA222F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CF1539-9704-4247-9262-60554612721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51136F-C345-4E8C-9D30-27E93BDB70C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922C56-520D-434A-AF3D-AB41CDBAC55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541E69-ADA2-4D9A-BF55-C4DFFB98C22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B99906-7E1A-4F23-9EDD-6DF95C670E4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11FA5-FCE3-4FF4-93D0-B280EDF82C4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0EACB-C388-4D0F-9A87-DE1F1D15F33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32D7D-4D64-4417-BF68-189C9C1BEF1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CD428-070F-4E35-B4D5-584B8942951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FFDC9-9A20-4DEA-A3C6-20E2290FA7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73FE-AF80-44AA-AA73-C3C74663310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6AFCE-F94D-4007-8DDE-BB0A7C6E534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E7A9D-9BC8-49A1-AEBB-DD6A8D48C4F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58181-49C2-431F-A7FB-34762772937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CE4A3-9919-49A3-9B26-AC1670296A2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412F7-5ED5-4654-A932-34E1E223D83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7279B-B851-4571-A2C6-A2E4ACC7527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B94CF-7CE3-4C8C-9065-E5896902354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1AE8DF-37EC-43A5-B109-0D6351B6A5B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6B59CD-4F38-4EDF-8BD7-C0ABFE4ABEE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1F705F-08C1-4945-8C86-22857F9AA6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D289-A36A-474C-B07F-355AEE2BFC9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B94092-A418-42AA-B43D-EEE0A6DA3AD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C02D85-91F0-41A2-B9BC-EC2783F1AE9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7DC972-E677-42CE-A6B1-64DCB01D46B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10BBC8-04DC-488F-80F1-423FF6119F7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83B2B0-7757-4C11-ABF5-FA368E3569E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52C271-7878-4021-AB28-5C5A712839B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BE6D5E-7686-4119-AECE-C0EBE496E04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CCF566-DA21-49B8-B6E3-FC662173169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8CCB60-F739-45A7-BC63-F95DC9F208A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5AA9B4-F358-4928-A952-1A3CB63748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46AE-B1DD-406A-A62E-A08248BD097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95C3FC-9F03-42EF-82D2-810177E619D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D5BD97-84DA-4ECA-9A6A-AA7910DDB98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9DE883-3D50-432F-8D23-4B063589648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25863A-8B7F-4DA0-8403-7F099EDC53F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9B1838-DA2E-4ABC-86CD-E6F68750F40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E2A579-3294-46F9-B1CE-F7414F84631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84CBC8-AABF-460A-ADE9-325D2F06C98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FFAB84-885F-410C-8C4E-226074140BE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5FFB10-D86A-4CE4-B67D-CD0A611321F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1BCD6C-BDF7-4D24-9156-4E4922785C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2A57-9730-4690-89A9-58DDC80D4DA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CAB732-DC48-4AC5-A1CC-EE59FB4FBAC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E0254-3E42-4762-85E4-6B8F0D23629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D1569-4FD2-4A87-811E-1181BD48811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43BD0-3F88-4F70-8471-FAF2DAFDD10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4DDB3-B426-4C09-904C-913B4FF1BDA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ACC49-C641-4843-B36E-1F631EA4EC3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8E624-ECD7-4E41-A6B7-39ECDCB380A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324C3-897E-45E4-9432-847B8F024D5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E344E-218A-45E6-A855-A1FE7E72BED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B176B-1158-4434-A1D5-BBF0DE1051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B4584-22B6-4A2D-85E2-0A2CBC23BAB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610FC-04A3-4F69-8539-B478070E1D8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CA75B-35A4-461B-AA55-6AB64E0800A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A0D5E8-FEF0-40A7-9EAB-6135F6A2EED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B4412A-8D45-4020-A0BC-DC12B357E66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9FCD4D-4A5F-412E-A54D-9CAB3D3A94B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EAE7AC-6790-4A0C-8595-7CED87D1F7A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87D7C9-D590-44C2-8EED-B50D86D4772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360398-C16A-4873-9F6D-6C79F35D7E5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9AC219-BF28-42F1-B16D-9E7B1947A6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6BA7A5-AD1A-4E9F-B2CC-8A1ADC9994B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DE401C-96E6-462B-B92A-C9A1B0B42F0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BF8EA1-0AE4-4A2A-9246-D74AF791A8F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6545A0-D55D-40A4-8C71-493DD1061B6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1CB06E-C20C-47E6-A6F7-22AF088BB23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9003D1-B0EB-448A-A040-09209389A85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14072E-F6C4-47AE-A322-6CA5C8F3B32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174889-752A-44E8-A61F-F47BEE235E6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5600EF-1277-4441-979D-1484386A084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0B06BD-1F9D-4CD7-B2CB-8A16F18C08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20E6B2-077E-4867-A414-F47537A6CF2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D80C2D-3B6A-4E1A-8807-AA1C8B5A552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DCDC26-9BD0-46FB-AAF0-8A016A161D3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F01BD7-1404-46B4-9FB9-712486933FF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C47229-9764-4B4C-9E0C-D8857F3857C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5E2A5D-481B-4441-A2B2-63509E2E72F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610E32-1FBA-4E63-88CD-429128956D0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C8463-F968-438E-B91A-F61D72B6D7E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97E1B-CD8A-44D0-A4DD-0C3B26D2A66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074B4-7F25-40B6-A4A0-C84652B164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520E6-B58D-4D76-8626-AA1F16ECCEB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63187-B0F7-458F-8815-5B0FBF26309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9416E-76BC-4FAB-A9EC-64A51573769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CE451-A933-4F39-817D-E05C3D2F764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CACC1-D5D2-4124-99D5-ADF1EC123EA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2ECF2-08C5-47B0-B5AA-3FBB4D8CE3A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AA6CA-320B-4249-B906-93FEA679185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622B0-4A7B-4DB2-A102-741EC0E560F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067C1-A044-4D5D-B861-6ADF6A20751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AD891D-A197-4A8F-AFF8-6F3A7C6ABF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F60BA5-33F2-4D53-88BF-26BAE40B48E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973209-D485-4B3D-8D0D-68FF14D7C34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941C3D-954D-4BC4-86A8-B09C6AF9172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C3E3DB-D9F0-4316-8AB1-BC52B34422F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B85720-63B0-414A-AF24-CB055ED9F13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BD7E92-9FD7-4A73-A87F-93CDD93702D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24C8AA-D722-414B-9252-12783077ED0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65AED7-631D-4365-948B-C793A72CED7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8169BC-927A-4C2C-9C51-8121A10F49C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2E263A-1C26-4A42-B5F7-D38F7E4DBD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BBA3D7-B7B0-46DA-A8DC-1EA3FE18CC3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938390-25B1-4310-9891-8222E3C5D6F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3F2FD1-F051-4706-8A8D-D6AD277EE3C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51B805-F2CB-415F-A0D7-FB523257AB1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0BE6D8-298A-451D-99AA-DA447F48799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A4DA41-BE8B-446A-B015-88DDE3E7CF0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B78716-ABC5-4A12-888A-2E3A786C1E0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4F9384-46F8-44FE-806D-281A6280199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17193D-CF82-4FD8-B90B-67680BC8A2B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B20404-D3DE-4D3E-8CB0-BC4164DEC8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C8EADB-2956-4421-ABDC-43E90030CA7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A5955D-0247-41F4-A2F5-8AC39776DF1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5EF004-2CDA-4DA6-83A7-688E31A67645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0185C-4520-404F-987C-32EE2B99076F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627AC-7EB6-4D4A-AFCC-1CCC88B7986B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E925B-AED5-4F55-B56E-0049762B0D4F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24210-D455-4413-BF45-555E996D67AC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B4C8E-DE35-4391-84B6-14792A45118B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A13EC-2FA5-4DD2-9679-DB08F5C6F2AF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4637F-0CD4-4697-8425-A912F9A978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B06EA-1BD7-4DB6-9B08-4BEC1179C79A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8D539-D506-4CA1-A570-C903DB2AF46D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2A402-447B-4285-BDE4-5A9A490CDD68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35DC0-850E-4D79-94CF-D2CC4D467143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E1DF4-4AB6-4AE3-928A-5C7F3B8CCF80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94646-B6B1-4F9D-A786-E9C1EF676B1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3C331-5D7B-47D7-BD1A-6E71C314EDE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F95CD-AB4D-47E6-8170-3C835213C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0FBCE-6BFB-45BE-ADE9-B573E1E464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E657E-411E-4537-833F-62D05AF954F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3F410-756F-4406-B344-F0A687955E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B7951-B830-48C2-B988-FF57A390E6E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9FE9C-9DF5-420D-A571-5B746695FC3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8F88C-BCBC-4F5A-AF2F-C8C613AB001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D1122-3195-4642-9E6E-5C92EF5EEB2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1A9CD-8540-471F-8743-0133C1D012D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3DCF8-58C6-4C95-BFC2-C7629A79093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35CF-3471-4D6E-B0EF-95E57D27B6B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2EF1-45D8-4CF8-A875-92E04E82789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5242-7CAA-4587-90CD-82661AB1445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FA31-70B0-4D72-BBD2-7E05EA80931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A18F-B4DC-45D9-83EA-BF9B98DA32E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303D-4A80-4ECE-BA58-3F0FEA23791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EE27-CFDD-4275-A159-9A2C7A7A362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B6B8-D0FA-4338-A33F-5692C7F902D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BDD7-EB80-478F-BFDC-929A1FBBD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4BE-A0F5-416F-A40B-696108FC8ED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AF70-8C40-4444-9C67-D85FDBD6A3B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CA5B-3D07-413A-AF47-59898A7B9CF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A4421-91E3-4F4C-9BA0-F188231529B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A82BC-045F-46D4-B585-10941D0B252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50412-72B1-4BEE-A021-03F80E32D13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CE93E-B8DA-494B-B2F6-836A7FFF411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63F5A-982F-4C82-87FE-82A76D6B696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C3CF3-F6E9-470E-85FE-077160C288C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39394-C681-442F-A5F9-D6FBB079D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AE48C-4E45-4D7E-B46F-2CC22CB7538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40D11-CE36-447A-BBC1-56B45D7C2A3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3151A-9E7E-41EA-91AA-F1D9C169C15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AD99C-9CB9-471A-A93F-80C54A6C0E4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3D50B-5A65-490A-BD9A-448BA372C79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99599-84B0-4A3B-9D2D-A928F255BF1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1E145-CF0B-44EE-9ACF-1D5966AC89B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E3227-D51E-45C3-B1EF-1915D0B7817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5A720-FD54-4E3D-B699-7A1F470EA04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121E3-5902-4DFC-BF17-694016C31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7864A-D481-44AA-AD0B-F9FF9781F3C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F665A-416A-4D9A-A346-6A9F4B554A1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5C33A-4414-4D9C-81A9-A7328C3E5DA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91EB3-ACBE-4896-A626-D54C4B9E0E4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31474-9A84-41A7-A4AC-CCD5E5460D2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CA27F-0015-4480-A776-DE4D885C94E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B0A51-350A-4DA0-8D27-91A0A1CFD2C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59E3-829B-4CCE-97DC-40CF6CA5AD2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9F13-8F20-4909-B1AA-D87CA099882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288B-FB0F-440E-B649-17C179CEE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3CA3-B101-4872-A629-FB120A34D98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85E9-C6FF-42F8-80DF-CEE2CEFC686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0819-A640-4D5E-B435-096ABA15B90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D10E-600E-46E6-8A1E-5B8CF39A821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AA45-F865-47ED-B0BB-DA10AA056A6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4E98-5C66-407C-A6DA-B5962C77F3B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B749-DA69-449A-9BEB-C6EAB7CF5AC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BB18-C069-450E-A6D2-F814CC3AC1A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BF85-3B9F-4671-9AF9-A470F0E6B38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4CD8-FF09-4700-8C88-358B3A1310F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54C8-DBAD-4399-98B6-ED9E9AB85B9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42DA-F76E-403B-B704-A92D8DF86FA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55A8-1500-463A-A74F-EE0B47AD13F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49BC-EB48-4BB1-A465-EDB9431E2F1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9144-4DB0-40F8-B45F-6F6AC7E1923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878D-E72F-40ED-A27E-DCEA251AB12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D3F8-02EB-4E1A-8B07-6721AC33DD0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9696-B200-4D16-82B3-0F441B86CF4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6488-5988-428F-B60C-592E513C4F5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F5F8-03CC-4FB6-88E4-D3EFA14489A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1650-2B86-496C-BCCE-B4D955C58F8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4832-DD01-4B5A-92BC-B0D539798B0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F1BB-0351-4A9B-BFF5-10085F10F0B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58FD-0367-4CD1-BF14-39B4C49F75F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Tu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agost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Text Box 3"/>
          <p:cNvSpPr/>
          <p:nvPr/>
        </p:nvSpPr>
        <p:spPr>
          <a:xfrm>
            <a:off x="1225440" y="40464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5 CuadroTexto"/>
          <p:cNvSpPr/>
          <p:nvPr/>
        </p:nvSpPr>
        <p:spPr>
          <a:xfrm>
            <a:off x="67284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-36360" y="5516640"/>
            <a:ext cx="92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;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9" name="1 Imagen" descr=""/>
          <p:cNvPicPr/>
          <p:nvPr/>
        </p:nvPicPr>
        <p:blipFill>
          <a:blip r:embed="rId1"/>
          <a:stretch/>
        </p:blipFill>
        <p:spPr>
          <a:xfrm>
            <a:off x="611280" y="1174680"/>
            <a:ext cx="78483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Text Box 3"/>
          <p:cNvSpPr/>
          <p:nvPr/>
        </p:nvSpPr>
        <p:spPr>
          <a:xfrm>
            <a:off x="1728720" y="40464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682560" y="523728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;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5 CuadroTexto"/>
          <p:cNvSpPr/>
          <p:nvPr/>
        </p:nvSpPr>
        <p:spPr>
          <a:xfrm>
            <a:off x="891360" y="503388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3" name="1 Imagen" descr=""/>
          <p:cNvPicPr/>
          <p:nvPr/>
        </p:nvPicPr>
        <p:blipFill>
          <a:blip r:embed="rId1"/>
          <a:stretch/>
        </p:blipFill>
        <p:spPr>
          <a:xfrm>
            <a:off x="1095480" y="1484280"/>
            <a:ext cx="66769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6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Text Box 3"/>
          <p:cNvSpPr/>
          <p:nvPr/>
        </p:nvSpPr>
        <p:spPr>
          <a:xfrm>
            <a:off x="1295280" y="47628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5 CuadroTexto"/>
          <p:cNvSpPr/>
          <p:nvPr/>
        </p:nvSpPr>
        <p:spPr>
          <a:xfrm>
            <a:off x="873000" y="4970520"/>
            <a:ext cx="161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Text Box 4"/>
          <p:cNvSpPr/>
          <p:nvPr/>
        </p:nvSpPr>
        <p:spPr>
          <a:xfrm>
            <a:off x="900000" y="5343480"/>
            <a:ext cx="7739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Otras posiciones º :  Obrero, empleado del gobierno; Empleado doméstico; Patrón o empleador; Trabajador familiar sin remuneración; Trabajador sin remuneración en empresas de otros hogares; Jornalero o Peón  y Otr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1" name="1 Imagen" descr=""/>
          <p:cNvPicPr/>
          <p:nvPr/>
        </p:nvPicPr>
        <p:blipFill>
          <a:blip r:embed="rId1"/>
          <a:stretch/>
        </p:blipFill>
        <p:spPr>
          <a:xfrm>
            <a:off x="826920" y="1246320"/>
            <a:ext cx="756612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Text Box 3"/>
          <p:cNvSpPr/>
          <p:nvPr/>
        </p:nvSpPr>
        <p:spPr>
          <a:xfrm>
            <a:off x="1763640" y="69228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4"/>
          <p:cNvSpPr/>
          <p:nvPr/>
        </p:nvSpPr>
        <p:spPr>
          <a:xfrm>
            <a:off x="1022400" y="586116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8 CuadroTexto"/>
          <p:cNvSpPr/>
          <p:nvPr/>
        </p:nvSpPr>
        <p:spPr>
          <a:xfrm>
            <a:off x="1191240" y="492300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Text Box 4"/>
          <p:cNvSpPr/>
          <p:nvPr/>
        </p:nvSpPr>
        <p:spPr>
          <a:xfrm>
            <a:off x="1114560" y="5218200"/>
            <a:ext cx="77054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Otras posiciones º :  Obrero, empleado del gobierno; Empleado doméstico; Patrón o empleador; Trabajador familiar sin remuneración; Trabajador sin remuneración en empresas de otros hogares; Jornalero o Peón  y Otr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6" name="1 Imagen" descr=""/>
          <p:cNvPicPr/>
          <p:nvPr/>
        </p:nvPicPr>
        <p:blipFill>
          <a:blip r:embed="rId1"/>
          <a:stretch/>
        </p:blipFill>
        <p:spPr>
          <a:xfrm>
            <a:off x="1119240" y="1623960"/>
            <a:ext cx="6975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09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Text Box 3"/>
          <p:cNvSpPr/>
          <p:nvPr/>
        </p:nvSpPr>
        <p:spPr>
          <a:xfrm>
            <a:off x="1157400" y="47628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5 CuadroTexto"/>
          <p:cNvSpPr/>
          <p:nvPr/>
        </p:nvSpPr>
        <p:spPr>
          <a:xfrm>
            <a:off x="1282320" y="51004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Text Box 4"/>
          <p:cNvSpPr/>
          <p:nvPr/>
        </p:nvSpPr>
        <p:spPr>
          <a:xfrm>
            <a:off x="468360" y="5343480"/>
            <a:ext cx="813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4" name="1 Imagen" descr=""/>
          <p:cNvPicPr/>
          <p:nvPr/>
        </p:nvPicPr>
        <p:blipFill>
          <a:blip r:embed="rId1"/>
          <a:stretch/>
        </p:blipFill>
        <p:spPr>
          <a:xfrm>
            <a:off x="971640" y="1349280"/>
            <a:ext cx="706104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5 CuadroTexto"/>
          <p:cNvSpPr/>
          <p:nvPr/>
        </p:nvSpPr>
        <p:spPr>
          <a:xfrm>
            <a:off x="2093760" y="55738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Text Box 3"/>
          <p:cNvSpPr/>
          <p:nvPr/>
        </p:nvSpPr>
        <p:spPr>
          <a:xfrm>
            <a:off x="1133640" y="83664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unj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Abril – junio (2015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7" name="1 Imagen" descr=""/>
          <p:cNvPicPr/>
          <p:nvPr/>
        </p:nvPicPr>
        <p:blipFill>
          <a:blip r:embed="rId1"/>
          <a:stretch/>
        </p:blipFill>
        <p:spPr>
          <a:xfrm>
            <a:off x="1951200" y="2060640"/>
            <a:ext cx="530532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5 CuadroTexto"/>
          <p:cNvSpPr/>
          <p:nvPr/>
        </p:nvSpPr>
        <p:spPr>
          <a:xfrm>
            <a:off x="845640" y="31896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Calibri"/>
                <a:ea typeface="Calibri"/>
              </a:rPr>
              <a:t>Tu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2 Imagen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41920" cy="2008080"/>
          </a:xfrm>
          <a:prstGeom prst="rect">
            <a:avLst/>
          </a:prstGeom>
          <a:ln w="0">
            <a:noFill/>
          </a:ln>
        </p:spPr>
      </p:pic>
      <p:pic>
        <p:nvPicPr>
          <p:cNvPr id="1321" name="1 Imagen" descr=""/>
          <p:cNvPicPr/>
          <p:nvPr/>
        </p:nvPicPr>
        <p:blipFill>
          <a:blip r:embed="rId2"/>
          <a:stretch/>
        </p:blipFill>
        <p:spPr>
          <a:xfrm>
            <a:off x="1258920" y="3645000"/>
            <a:ext cx="6588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1 CuadroTexto"/>
          <p:cNvSpPr/>
          <p:nvPr/>
        </p:nvSpPr>
        <p:spPr>
          <a:xfrm>
            <a:off x="684360" y="3333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Boyac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4" name="1 Imagen" descr=""/>
          <p:cNvPicPr/>
          <p:nvPr/>
        </p:nvPicPr>
        <p:blipFill>
          <a:blip r:embed="rId1"/>
          <a:stretch/>
        </p:blipFill>
        <p:spPr>
          <a:xfrm>
            <a:off x="960480" y="1903320"/>
            <a:ext cx="729612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870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unja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5 CuadroTexto"/>
          <p:cNvSpPr/>
          <p:nvPr/>
        </p:nvSpPr>
        <p:spPr>
          <a:xfrm>
            <a:off x="545760" y="4822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4" name="1 Imagen" descr=""/>
          <p:cNvPicPr/>
          <p:nvPr/>
        </p:nvPicPr>
        <p:blipFill>
          <a:blip r:embed="rId1"/>
          <a:stretch/>
        </p:blipFill>
        <p:spPr>
          <a:xfrm>
            <a:off x="352440" y="2349360"/>
            <a:ext cx="86011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Text Box 3"/>
          <p:cNvSpPr/>
          <p:nvPr/>
        </p:nvSpPr>
        <p:spPr>
          <a:xfrm>
            <a:off x="179280" y="2408400"/>
            <a:ext cx="27370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3 Rectángulo"/>
          <p:cNvSpPr/>
          <p:nvPr/>
        </p:nvSpPr>
        <p:spPr>
          <a:xfrm>
            <a:off x="2916360" y="3122640"/>
            <a:ext cx="5903640" cy="2080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9" name="1 Imagen" descr=""/>
          <p:cNvPicPr/>
          <p:nvPr/>
        </p:nvPicPr>
        <p:blipFill>
          <a:blip r:embed="rId1"/>
          <a:stretch/>
        </p:blipFill>
        <p:spPr>
          <a:xfrm>
            <a:off x="3060720" y="272880"/>
            <a:ext cx="5759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 Box 3"/>
          <p:cNvSpPr/>
          <p:nvPr/>
        </p:nvSpPr>
        <p:spPr>
          <a:xfrm>
            <a:off x="1441440" y="250524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332000" y="40464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unj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(2010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5 CuadroTexto"/>
          <p:cNvSpPr/>
          <p:nvPr/>
        </p:nvSpPr>
        <p:spPr>
          <a:xfrm>
            <a:off x="1830240" y="56307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3" name="1 Imagen" descr=""/>
          <p:cNvPicPr/>
          <p:nvPr/>
        </p:nvPicPr>
        <p:blipFill>
          <a:blip r:embed="rId1"/>
          <a:stretch/>
        </p:blipFill>
        <p:spPr>
          <a:xfrm>
            <a:off x="565200" y="1544760"/>
            <a:ext cx="76788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333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u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2 - 20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1989000" y="5635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336680" y="1562040"/>
            <a:ext cx="684216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4"/>
          <p:cNvSpPr/>
          <p:nvPr/>
        </p:nvSpPr>
        <p:spPr>
          <a:xfrm>
            <a:off x="2052720" y="620640"/>
            <a:ext cx="489564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unj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(2015 – 2016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498600" y="2205000"/>
            <a:ext cx="8197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Ivan Mauricio Zubieta Ortiz</cp:lastModifiedBy>
  <cp:lastPrinted>2016-07-28T14:38:05Z</cp:lastPrinted>
  <dcterms:modified xsi:type="dcterms:W3CDTF">2016-07-28T20:48:21Z</dcterms:modified>
  <cp:revision>981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