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D4F0-8C59-4F94-AC79-FE15E48D98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A5FF-EE03-415D-87E8-0EC86BC9B09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2CDA-AEDB-4FF7-BB41-1E73B88592E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9805-8883-49E0-AE37-B314BB43E0C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525C-A0E0-451C-A793-59A9C7F3920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C31F-821A-47B9-A3FA-2F940960542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C5F5-11AC-4E89-AF57-1116329587E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C41E-D238-4DE9-AEE1-D1F29B39625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D118-8095-464E-9C09-EE6DD997B01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59AC-C53C-4ED1-8C76-F5F8BD4F1C1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AFCE-B802-4013-9E71-7A8D798F73A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E5F5-E54A-4748-8D8B-A2FC8F13D37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ACAF-FDFA-4638-B4D9-7B171BC2829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46D2-99E5-4158-8AD8-83607A4FAFA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16C0-43AA-4275-9816-4E7885DCFA6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C68AE9-35C2-4ED4-91E4-08C2D10B6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EC1565-474C-461D-A7F5-2EBC4741D95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3BA5ED-910F-4155-8BCE-71B2A9EBA5C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C655A5-1F42-4689-89B0-023DF257F1B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3C455F-4712-4A1C-A3E5-B09DEC74AFA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F9FAC2-8741-4F8F-BB96-ECB26F25616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9A113A-1640-4A43-9319-C79CC5424B2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FD31AE-E975-4805-9BF2-AD6C4449B4C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43E236-3611-4388-8B0B-921E16DFBEB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14322F-D282-453A-B401-9113AB05255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961559-1F7F-4F50-980D-FBA3C4FDF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755500-7B6A-4460-AD37-D89E51D10AD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C310E-1C22-4051-9B4E-3DC793829AD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D9952-F4AA-4C9E-A7DB-2C222E4DFB3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99E7A-79C7-4A38-9BEF-D2E193752B4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360A4-5ADD-428C-9714-CBBA8D74493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84434-79B2-492B-A748-B5322C86DFF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2F1E6-9055-44F0-8CC0-F23488E9E65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8509F-35F5-4526-8D16-ED50BEEA27D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6CC0FE-8226-4943-A9F1-255966882DB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8A047-F2EE-4C42-A04B-F6DF55102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1B41-14EB-4528-BE29-B76FBD78E83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68C0C-02FE-48F1-92F2-882C47A7D93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E19CE-D508-4ED4-8CA3-1AC2B28C9E2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FDB1D-37DE-490E-B493-765D71C03A0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408FB-CBF7-44FB-BD48-B8ADD565442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581C2-27F1-47B4-8D4C-6E8705E7CE8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561AA-B89D-43AC-90AA-3C54CCE5B4D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59C70-5C88-4BD6-BB7B-350E84A23E8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67EE3-6D6A-4849-9E53-9C978640288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D0B4F-9C35-4585-B258-11139A8B15A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11DC2-8D12-48F9-8986-4104D35256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062D-A17D-4DF1-9C7D-F6539CDD27B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3F8D4-F0D7-4A80-B038-352CDF04E61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D5A53-2913-4110-8071-86D32FC2DBF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BBDD5-BE6E-46D9-9DAF-44B520497FC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02E1F-D1B1-4FA4-AFCF-D8CC5B2F6C6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A642B-B6D6-4A5A-8D9F-944B3562C39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B87298-D302-43E1-AD64-9F21B0998F0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52451F-0490-4911-B04D-FB2447705CF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B4E647-2F60-42FD-A14F-00B8AB40262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601EA1-FFC7-48DE-9E2D-830885D8235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11C4B1-E433-4EC6-AA54-FD54EEFADA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11E2-86DC-41E5-8891-402222ECA68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EC48E2-9363-4768-B22A-B9A066CBE76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1007B4-CDB9-463C-B851-E631BE861A0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8BE1C5-362A-48B4-BFE4-3E320B86980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51F358-413D-496E-AB8B-8F4A5ED062F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0124F2-2903-44B6-8662-3A14F573C8B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4E9A24-C45B-4E24-BBDC-2356672A4DD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0F3B51-242F-4DE2-8AD5-AE5D2898C5C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04361D-1A27-420D-9241-F3BBE2F672B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B16E6-6B35-4405-96C9-F942C17D23B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17025-ED1D-4C86-AC49-51DD7218D6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9532-F664-4F1A-AAFB-CCAF92DF88F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9AF268-9C9D-4077-868C-5F9F68ECB90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D7F6F8-3814-4C9C-960C-CF25B55F474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5B203B-030D-4F4A-A2E4-100A2289823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1959D5-BAE3-4E5C-B4AE-E5ACC179817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6F7E6A-0D63-4968-8B1E-435A88DE1A9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8A25F-47A9-4CE3-B846-AF62A16F784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B6482D-D83B-45B6-85F8-9B8C6105FD9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CEA452-CE78-4FD0-BCE9-CA5DA519B86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54B8E2-B6C8-4391-B008-58B3D0DAF7B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4F4E1-2182-4AD4-8E70-37D3AB96FA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C928-EA59-4A8B-9FF5-72F249097B2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2C523-43B1-4FDB-9DF4-9CC0C5E4FDD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690E2-13F4-41FD-BD03-1452E81B468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83293-26C1-45CD-B730-900CD5D8399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90FF7-0E54-4B2D-AA5F-C6747C07D3F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E5491-B178-422A-B82D-8F369B94C44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1E601-A980-46AE-8C58-5448FA5A660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F96B3-3D2B-4791-BD8B-AB3CEDF4067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45D21-56F2-4C59-A4B1-BB5888C57C8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6E5E6-65AA-4061-BB2C-AA55344968F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E9027-7006-4864-B6CA-AB2D2AD310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A438A-703A-46C0-B36D-10A929ECB76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E13FC-A3BE-49BF-8DF2-BE0C7493148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B9D293-65A1-4955-A0E1-F722AE96E86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00F727-8AEE-42FD-A269-F9D5C83D9B9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E7F997-A11F-47EB-AD1C-6A65538DFE4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86F4ED-4E60-4C71-887E-89CB87240EB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0C3A8C-A20B-4A82-9909-FD5DC307357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1F3D32-B4F6-4173-89F0-0874A4AFC4D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60B420-E9D0-448F-B567-6E7B301DC8C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87FC41-2C8A-4807-A0F1-DBB57AED24E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CD0B34-1788-4C19-A13A-95666E5C72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98C1-8651-4BC4-A396-0E1A49D3BA6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F9B4C1-CCB6-4124-94A3-A55387C4F1A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D9793F-59C5-4E5A-AD39-71ED6330891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E205C7-05E6-471D-9EFA-1AEE64F7ABE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0102A6-EABE-470C-A513-CBD053F19C1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503EDA-0290-4C14-85B5-3C3E3498090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F09EA4-00F8-4006-8D76-4624BD66C0C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13CB20-589C-4A78-AC95-5C44EFF6F61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CF769-F9E0-424D-B893-535EB16B2C3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6D8DB-FC36-42A1-8CED-1349D71D9F3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12AB1C-2101-45C7-92CE-5B1B51EC7A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903D-DC3A-43E0-BBA7-B6A46209F73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0B3498-27DB-439D-BFB2-246D21FD890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E498EA-2408-4109-A100-DF044F57412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5C400-400F-4F4C-A970-CF5C86DDE5E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11944-1BD6-4BB0-80FD-68D0B2EB381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0F6B46-3784-4C2B-B841-EB8F984319B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8B015-AC04-4793-A32B-BB136A1BC09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3F88D-DB8C-463D-B5A4-847E874237A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75E57-0568-4BA0-939A-848FB9F7DAF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7FA3F-1605-44E4-9F49-CF9726CEF05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17974-CC31-4626-85CD-06D9AA5F9A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EFDB-B459-49EE-8DBA-6652A8C8D63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96E2F-B65A-4828-AC5B-03765B498F3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93DBF-A5EF-4602-BD8E-B7E99CC1029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8F7B9-2B33-4D7E-8D14-B36520D6B59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EB6E7-166D-4315-A1D7-D4961E6E0C4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A7E5B-35EA-4251-A9C6-C6E87B1A1D2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69AE3-CC81-47AB-AD8A-809567FE702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3C75A-D9CB-4241-9925-7174CEF6B66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2D307A-DAF8-4F79-A141-B05EDF013AB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B13DD7-18D3-4729-A364-1DDC8F0D21F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750E9B-3ADC-480C-A562-2B1EA10845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0C05-9180-4DB5-BA25-14742B837C9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97E24D-1A31-41F5-B854-092A5764C93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8AD369-C9D8-4985-BD75-5F5C6519999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971E79-EFC6-425A-A0F8-A9CB5C9ED05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D2BD03-5E6A-430E-BFED-5F68B6AC930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9C0F67-59E6-4106-834C-5C474C658E7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2613FC-2B90-4C30-9ED0-3581DBAFEAB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28EC4B-40B2-4DD9-B6B1-583F668926A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D00056-C634-4DD5-8721-170DEF42C6E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E60E34-3975-4333-80E0-F27ADD25528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E0ED7-D172-4EB2-AB64-105E6856DF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0724-CE25-4083-8D3E-6793828FBAC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486C36-893C-44CE-8E0A-CAB3D03B683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0BB1DD-C22D-4000-905D-87A2A2EE8C7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42E06A-F3DB-4A8C-A6E3-C5766E11C56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8BD773-17F2-4FCB-8081-13B123CF1AA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CDE871-1EB0-46DA-8B5C-62D0CB07530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AE1B52-9985-4808-A39D-9F34C81072D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A69B4-2729-447D-99E0-B60402E7EFA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57496D-8A15-402D-8F1F-B0B589F984C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3D3502-8E02-44FC-8FF5-CDB4CD05644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1B7A15-95AC-4C45-95FE-2D13B4B47C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351F-271A-49C4-B2B0-03CD5BFE2AB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EEE54D-B5AC-421A-9681-7D35AB5EDB1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6919E-BC0C-4A2D-A1AA-B0CC2B328ED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5E625-54B1-4D34-B7D5-B9A349E4543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8E7D9-55BF-4709-B300-553FBA695C4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85A6A-D59C-4F21-9B03-014D3536F7F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B9316-E252-44BC-8DCD-3C21F19DD3C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DD921-2873-422F-B150-6C3583F2220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A2C93-A229-467A-8CF7-6BF98E649A1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2CD10-AA15-41DA-B086-EF8D4962E14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B2A55-9059-4A21-971B-5B6520094E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2FD10-4B45-446B-96C8-78AEC3DA5A9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79411-E328-4291-A28A-006739C1D99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E5F5B-3F1B-4F29-92BC-28520F01DF8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44D7DD-F03F-4183-9244-B37352DBF40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2266D6-079B-4016-9A12-F0565BC24D1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1484B7-6A9C-4411-9C76-DF43826195C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18D396-201C-49D8-BFBD-6165B133739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5322FC-9A51-4EA7-9155-F330923AAEF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9AF47D-AD16-4EDB-B15C-642C9F6D03F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350420-E5A3-4C53-ACF9-0228F7BC41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3E4ED4-6550-429F-91E3-E00A598530D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4EED26-C435-4B0A-8798-F0694683CFF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AB8601-B986-46E1-93E7-582ED51C2B7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D7D3E2-0839-4A69-A071-3851CDDCC53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6BC17C-8682-4E88-BB6B-0471CD7334B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720F2F-48FC-45A5-8032-C65DAC46C5A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6F9F73-286F-4803-A4A4-50D993E5F78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6BCAD2-332D-4ABB-BA82-2C1CF9D8A41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8006F3-468F-42CF-AEE1-1352E3D616B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1E898A-89D5-49D4-99D2-174E5DC3A3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087AAD-DED5-4E41-AA41-53FC4E931F3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6C2AFA-0DC8-414B-B992-B40DC1C1B78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BB80F9-0CB8-4C4E-97DC-3F0C67B1A33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BCFC0A-3833-48AA-80E8-BE96AC5413C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F1BF86-3359-46AD-9713-551119BE5C1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8304A5-01BB-4C6F-A7EB-D11F2F66450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6DFDF6-2E31-48BE-B144-68AD9A7EE96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0E359-3EF8-4E92-8D66-7CC159CEB54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8ABF5-1B4D-4CD3-A974-57B0E80B2A8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B76A2-2070-4F64-A404-C7CBB0BAFF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129F0-7947-44FF-9FBC-8A96121FF31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E7C1C-E352-4F4E-941D-089A8964F63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FC827-5D66-420C-B8FA-633E4EDD1C7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DB9D2-E963-4FB0-8B71-EB281CD73F7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56F92-B400-4526-B66E-FE604BA273A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F0140-060B-4EEC-AFB1-BBFCA09EF8E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EDC9A-57F0-42D6-99D6-4092BF6DFC5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4F69B-A21A-4A8F-BFF7-E968F60669A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1866D-62FD-43B8-8448-44E33D60B88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AA06FA-BFAC-4D3C-9AE6-D787E39476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F83E21-900F-48F6-8303-A2A1FC29E07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677177-63CB-4CB1-940D-1781E3884F0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E75F84-57C8-49B5-A046-C374E9BD578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7D4E2F-4D8C-4329-A0E4-07F078C01D1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B71705-C5A3-410A-9A89-D7D277F026D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FF2106-1EDF-487B-A719-098CCCB8D44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D4C522-ABE0-4BD8-99CB-8601D23C440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5F1BFC-0081-488D-A544-1073693CFDE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AF95D7-B6F3-46A9-8B02-F28AFB73396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C23070-1770-463A-94FC-B632060762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967EC3-C435-4530-8DA8-273E525327D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46FEAB-9B4E-4FF3-96D4-90664ED725F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D3982E-7F57-4C57-A200-2F8ADC064F1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16E2F7-1F08-4A91-943A-FA4CD8B0FEF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AFC3CD-A907-48BF-B097-4FC92381307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8E6576-EAC3-41A2-AFFF-CB08CD7F7E5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97CBAB-EA3A-4D1B-A56F-5BC1EFCC78D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4F7C7A-0552-4D55-BD35-044E75F6D29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8CF6DA-EBBF-4069-B4CC-76DB8A196F6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ABE43B-4E09-44AB-8F0D-0C510FA20E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8A26FB-1DA4-49F8-8D1C-E4C9E6B2015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5E7EE8-2961-4B90-99C1-369FF157D21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643A9F-E226-474B-8D69-D05598AE3CD7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D8636-926E-440F-8D6B-7A95B895CB6B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33B9F-7860-4787-818C-3791B443B583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6E223-B003-42C4-A3FE-7317225E022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CF0F9-0CA1-4290-ADBF-9FB3C94C8293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334BC-C539-44ED-B9D7-1AEE9B27DD07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851EB-C7B0-4D0E-B617-9616D05FB668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FE70A-9E83-4ECF-9E3C-43E7327F7B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E3AED-B714-4C17-9FB2-07A4DB8F678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8811C-1DB7-4DB3-BC6C-591AC61A4A90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E7806-5442-416C-A208-0B7C86724314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6C178-1E10-4AFA-A580-F4793CC32911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E2CED-D820-459B-9C0D-3C98651F149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5E30E-193D-4979-9E6C-A6BFD0FBD0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5387C-5D57-423E-9DA4-D6BED2DA9F3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F405E-CDFE-43F6-9AC8-D3971BF02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6DDF7-ED82-4B3B-BC64-5F568AAB36F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C3623-226F-41E8-AE91-B3B27C92A2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E873-DFB2-486F-980A-C17CDB259FB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266DE-0017-43E5-9235-EAD5190A33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C504E-2E5E-48BF-AD69-44A587FEC27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AFC94-B24C-4E64-9B54-40B84511F6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1786D-8415-4A39-B32C-4C6535252F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EEC77-F596-4BA3-B6DF-0A3DEB250A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B3A6F-BE97-46EB-8ABB-11AE6A058FC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9DE7-D668-4922-A2E8-56EC5F54030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460-5225-4C25-A225-DB78F0FE943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123-6E20-48CA-AD8A-EDC528F504C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22F7-250C-4362-A239-E6AA08FBEEF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60C3-3863-4BF5-8C57-44B3B6BC102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7D93-31BB-4B7B-B7AD-99D1DB81CC8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0E1E-B75E-4D5B-982D-E8332DE0915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E4E-BC53-4F4F-8D3A-665AD91BBB7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D33-BAB4-4507-B6CA-A29B62E29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CCD6-D6E0-448D-9D60-69085379FFD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B2CC-16E8-4959-A588-0E1D062F112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6B08-05A1-4C57-A88A-2C88FD4E079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A40A5-664D-490E-9CA4-CB656F072FB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325CE-F467-49BA-963D-5E26BF163E3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6ADF2-6A45-42D9-89B6-8784F80D854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3C9E1-5A8C-4FF5-BCC2-E21F0E9458D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03229-C85D-4086-BDB0-C0404ED8C30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51465-6D7E-492B-A330-C2E21F37FE1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50A30-FB90-43F4-BBAC-C03FA4D6E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53E88-C9BA-4CF9-9A88-0FF6B16AD2F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B4D3A-C2A5-4C90-AB7A-F37FC6AA010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1055A-C82E-42AB-9625-18F69570D8E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10102-DBAC-48EB-9D84-AAFBD20413F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40750-5B11-428A-8B63-67D13AF8B71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6962C-0C65-4101-B271-12A031CA818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0928B-B14D-4B5E-BBFA-67B160ACAD1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ADF5B-25F1-41E3-B9EC-2EDEC91DD3E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F2372-50CC-46A2-A20E-480161D81EF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88CCD-B209-4073-930A-EF66D82B0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98CF7-3206-40DA-9248-C41DE349F49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81D00-D77F-4564-8143-C4DA21D4022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428A2-CD9D-447D-B685-66FECE2EE45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48D96-9B66-41B5-AF2D-A53CBF839C5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31D8F-57C7-4E62-9737-C30E01BD6D8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585D1-B020-4BE7-9EEE-BF00C5C94BD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B332F-45E9-422E-91A7-7342CA8BBB8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280C-2D32-49D4-AEA5-CD6E0451484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CF80-F268-4F66-8882-12937E4547A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525E-2935-412F-9BE5-F7A5B6278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D506-66F9-4705-9832-19216A2A651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3C6A-E824-4C53-803B-C3009B22277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BA7C-FD07-45AC-B2E1-4C9CC138D72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07FA-7448-428C-AE21-BD82AA00457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E8F0-DF4F-450D-838B-FD1FC265137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74B3-113C-4500-947F-8FA74327AFB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0059-39FE-4520-8155-600E87B27A9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C60E-382B-49E2-86B9-6E9D75F1351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1957-AB75-43A2-AC2F-6CCDDC8DCDC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48C0-2123-4B89-A65E-BE009D3BD36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E290-0EF0-4A20-9A43-20C3F76CA7B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055B-EADB-4925-A116-C76311A65C3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F7B6-AF78-44B3-906D-F3349BC013A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DC7A-A995-4D44-A10A-2B3F50BB688F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2099-D152-4D1B-8561-8E222A047A0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07E6-BD5D-4B5C-B5FF-C8FE3FAD62D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FA3E-7DCF-49F2-90CD-8CE710C1CC4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9DDC-ABFF-4ECB-B768-846DB3B7337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C1D9-5A4C-49D2-A02B-08E3A42746E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89DC-EE0D-4CA2-A429-AA17F7BEE64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E244-784A-4264-965D-61AC400D419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2DE3-91C3-49C5-8544-584D67FC86A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50AA-2E42-4881-8232-68880E2837D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3C43-F384-4E22-B45F-60C5EF9CE1A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789360"/>
            <a:ext cx="806436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Medellín 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agost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El área metropolitana de Medellín, incluye el Valle de Aburrá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685800" y="682560"/>
            <a:ext cx="74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468360" y="5283360"/>
            <a:ext cx="83516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9" name="1 Imagen" descr=""/>
          <p:cNvPicPr/>
          <p:nvPr/>
        </p:nvPicPr>
        <p:blipFill>
          <a:blip r:embed="rId1"/>
          <a:stretch/>
        </p:blipFill>
        <p:spPr>
          <a:xfrm>
            <a:off x="485640" y="1446120"/>
            <a:ext cx="7883640" cy="3591000"/>
          </a:xfrm>
          <a:prstGeom prst="rect">
            <a:avLst/>
          </a:prstGeom>
          <a:ln w="0">
            <a:noFill/>
          </a:ln>
        </p:spPr>
      </p:pic>
      <p:sp>
        <p:nvSpPr>
          <p:cNvPr id="1290" name="6 CuadroTexto"/>
          <p:cNvSpPr/>
          <p:nvPr/>
        </p:nvSpPr>
        <p:spPr>
          <a:xfrm>
            <a:off x="474480" y="5038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1 Imagen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41880" cy="3448080"/>
          </a:xfrm>
          <a:prstGeom prst="rect">
            <a:avLst/>
          </a:prstGeom>
          <a:ln w="0">
            <a:noFill/>
          </a:ln>
        </p:spPr>
      </p:pic>
      <p:sp>
        <p:nvSpPr>
          <p:cNvPr id="129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3"/>
          <p:cNvSpPr/>
          <p:nvPr/>
        </p:nvSpPr>
        <p:spPr>
          <a:xfrm>
            <a:off x="1371600" y="6984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4"/>
          <p:cNvSpPr/>
          <p:nvPr/>
        </p:nvSpPr>
        <p:spPr>
          <a:xfrm>
            <a:off x="1204920" y="5445000"/>
            <a:ext cx="704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6 CuadroTexto"/>
          <p:cNvSpPr/>
          <p:nvPr/>
        </p:nvSpPr>
        <p:spPr>
          <a:xfrm>
            <a:off x="121104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1020600" y="6969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6"/>
          <p:cNvSpPr/>
          <p:nvPr/>
        </p:nvSpPr>
        <p:spPr>
          <a:xfrm>
            <a:off x="468360" y="5229360"/>
            <a:ext cx="8136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^Jornalero y peón está incluido en la categoría Obrero, empleador parti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*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4" name="1 Imagen" descr=""/>
          <p:cNvPicPr/>
          <p:nvPr/>
        </p:nvPicPr>
        <p:blipFill>
          <a:blip r:embed="rId1"/>
          <a:stretch/>
        </p:blipFill>
        <p:spPr>
          <a:xfrm>
            <a:off x="206280" y="1494000"/>
            <a:ext cx="8469360" cy="3616200"/>
          </a:xfrm>
          <a:prstGeom prst="rect">
            <a:avLst/>
          </a:prstGeom>
          <a:ln w="0">
            <a:noFill/>
          </a:ln>
        </p:spPr>
      </p:pic>
      <p:sp>
        <p:nvSpPr>
          <p:cNvPr id="1305" name="8 CuadroTexto"/>
          <p:cNvSpPr/>
          <p:nvPr/>
        </p:nvSpPr>
        <p:spPr>
          <a:xfrm>
            <a:off x="545760" y="5013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6" name="1 Imagen" descr=""/>
          <p:cNvPicPr/>
          <p:nvPr/>
        </p:nvPicPr>
        <p:blipFill>
          <a:blip r:embed="rId1"/>
          <a:stretch/>
        </p:blipFill>
        <p:spPr>
          <a:xfrm>
            <a:off x="882720" y="1460520"/>
            <a:ext cx="7377120" cy="3481200"/>
          </a:xfrm>
          <a:prstGeom prst="rect">
            <a:avLst/>
          </a:prstGeom>
          <a:ln w="0">
            <a:noFill/>
          </a:ln>
        </p:spPr>
      </p:pic>
      <p:sp>
        <p:nvSpPr>
          <p:cNvPr id="1307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3"/>
          <p:cNvSpPr/>
          <p:nvPr/>
        </p:nvSpPr>
        <p:spPr>
          <a:xfrm>
            <a:off x="1582560" y="520560"/>
            <a:ext cx="597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6"/>
          <p:cNvSpPr/>
          <p:nvPr/>
        </p:nvSpPr>
        <p:spPr>
          <a:xfrm>
            <a:off x="749160" y="5229360"/>
            <a:ext cx="73519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^ Jornalero y peón está incluido en la categoría Obrero, empleador parti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*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8 CuadroTexto"/>
          <p:cNvSpPr/>
          <p:nvPr/>
        </p:nvSpPr>
        <p:spPr>
          <a:xfrm>
            <a:off x="83304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89080" y="51264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1476360" y="5229360"/>
            <a:ext cx="669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“otros” incluye: incapacitado permanente para trabajar, rentista, pensionado, jubilado, personas que no les 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6 CuadroTexto"/>
          <p:cNvSpPr/>
          <p:nvPr/>
        </p:nvSpPr>
        <p:spPr>
          <a:xfrm>
            <a:off x="1482480" y="5038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611280" y="1461960"/>
            <a:ext cx="7896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2777760" y="55562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300320" y="692280"/>
            <a:ext cx="687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Total 13 ciudades, áreas metropolitanas y Medellín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abril – junio (2015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2217600" y="1928880"/>
            <a:ext cx="56674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2 Imagen" descr=""/>
          <p:cNvPicPr/>
          <p:nvPr/>
        </p:nvPicPr>
        <p:blipFill>
          <a:blip r:embed="rId1"/>
          <a:stretch/>
        </p:blipFill>
        <p:spPr>
          <a:xfrm>
            <a:off x="1208160" y="1628640"/>
            <a:ext cx="6361200" cy="1656000"/>
          </a:xfrm>
          <a:prstGeom prst="rect">
            <a:avLst/>
          </a:prstGeom>
          <a:ln w="0">
            <a:noFill/>
          </a:ln>
        </p:spPr>
      </p:pic>
      <p:pic>
        <p:nvPicPr>
          <p:cNvPr id="1325" name="1 Imagen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6265800" cy="1724040"/>
          </a:xfrm>
          <a:prstGeom prst="rect">
            <a:avLst/>
          </a:prstGeom>
          <a:ln w="0">
            <a:noFill/>
          </a:ln>
        </p:spPr>
      </p:pic>
      <p:sp>
        <p:nvSpPr>
          <p:cNvPr id="1326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Medellín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1308240" y="404640"/>
            <a:ext cx="68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ntioqu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299240" y="57038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1327320" y="1898640"/>
            <a:ext cx="67690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Medellín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Calibri"/>
                <a:ea typeface="Calibri"/>
              </a:rPr>
              <a:t>AM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934920" y="1989000"/>
            <a:ext cx="74059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-109440" y="249228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bril - junio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2629080" y="3686040"/>
            <a:ext cx="5829120" cy="17460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2855880" y="298440"/>
            <a:ext cx="5532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1 Imagen" descr=""/>
          <p:cNvPicPr/>
          <p:nvPr/>
        </p:nvPicPr>
        <p:blipFill>
          <a:blip r:embed="rId1"/>
          <a:stretch/>
        </p:blipFill>
        <p:spPr>
          <a:xfrm>
            <a:off x="743040" y="1859040"/>
            <a:ext cx="7502400" cy="380844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187280" y="711360"/>
            <a:ext cx="67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Medellín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(2007-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1 Rectángulo"/>
          <p:cNvSpPr/>
          <p:nvPr/>
        </p:nvSpPr>
        <p:spPr>
          <a:xfrm>
            <a:off x="1187280" y="56498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DANE - Gran Encuesta Integrada de Hogare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Medellín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2-20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55376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700280" y="1849320"/>
            <a:ext cx="6210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7" name="1 Imagen" descr=""/>
          <p:cNvPicPr/>
          <p:nvPr/>
        </p:nvPicPr>
        <p:blipFill>
          <a:blip r:embed="rId1"/>
          <a:stretch/>
        </p:blipFill>
        <p:spPr>
          <a:xfrm>
            <a:off x="324000" y="2178000"/>
            <a:ext cx="8640720" cy="2114640"/>
          </a:xfrm>
          <a:prstGeom prst="rect">
            <a:avLst/>
          </a:prstGeom>
          <a:ln w="0">
            <a:noFill/>
          </a:ln>
        </p:spPr>
      </p:pic>
      <p:sp>
        <p:nvSpPr>
          <p:cNvPr id="1278" name="Rectangle 4"/>
          <p:cNvSpPr/>
          <p:nvPr/>
        </p:nvSpPr>
        <p:spPr>
          <a:xfrm>
            <a:off x="2050920" y="549360"/>
            <a:ext cx="48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Medellín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5 - 2016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Arles Daniel Mayor Pachon</cp:lastModifiedBy>
  <cp:lastPrinted>2016-07-25T14:19:08Z</cp:lastPrinted>
  <dcterms:modified xsi:type="dcterms:W3CDTF">2016-08-01T15:17:36Z</dcterms:modified>
  <cp:revision>1006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