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74D-B1C9-4EDD-BA59-79EAE0EDA9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C4F-3756-4EB4-9809-3F3710A565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2C9E-8071-4A78-99A3-6DCF577852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56C-CD48-44EB-83E5-D1547B4529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24AF-790E-42C8-94DC-7D0B240B07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7B8-9DD2-48A2-967D-4D49644E87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E95-29C9-4525-BE4F-3E7EEDABA00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9B82-1B5F-42A0-8F0F-58DA68837C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361B-60C6-49ED-BA4F-A7303EBC60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1E2-36B5-4D18-B6EF-9A7C76D178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B59-9A4E-4563-8811-F960BCD2AC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891-AE0D-4D7B-A77F-86899AFA8B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E36F-C360-4A8D-A330-1E8EF2F9BF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74CAE-D2AE-4CFB-9AE1-17C183AB3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C3370-4A89-49FD-BFAD-C61EFF969F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7AC65-92BA-4738-A3F7-1DD6A8F864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B4A10-2274-4D74-A99A-4AB56DE760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A002C-CEED-499E-9B5A-F97D905FD3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CDC99-30EF-4A92-8B1E-D96E1635AD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8679B-61F0-40FF-B032-CF5B5C6B1F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FB7D9-A783-424B-93B8-2014E4D8682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3EE01-DEC3-434E-B978-932A8733FF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B2DA8-7F4B-4C67-8D84-CE316B2D8DA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528B3-5E6D-4042-A1CA-67FC2551C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A758C-0908-4B0C-BDBA-3A4476F56E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72256-E18B-4831-9AD9-1F346C7EBE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F0349-7293-423B-B529-DB990DCAAD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D78C3-011C-4BB0-A2B4-D08FE1D27A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0C1FB-593A-4E28-BFE1-7054D24FC92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31210-FA2A-47F9-9809-7413308782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7D0E9-CCE8-4A15-9CB6-F6F7F158DD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B8C40-AA78-43B7-87F7-38A3E11518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2337B-DB35-4BBF-B3B0-B13FF32016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6315B-DF79-4958-A35E-507074539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BEFA-37B5-4006-8A25-5364478C4A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8A335-2A50-431C-995B-AFE0D576A4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5282D-BC29-4995-AD43-0DCB4F1F594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BF1C6-DE5D-49BB-BE4A-B91205BAE2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E413-02EE-4A65-B431-C855BBE0006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86F9-6F7D-4570-8F19-6873D94E5F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964D-02BD-4A74-AE9F-978D73ED65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04A0-A0D2-4F39-9D84-DCA7609A9B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487B-2BA1-4677-B893-16AF0FFD82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BE30-557A-46B8-9C3D-F865544D4B6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AF3F-5586-48B4-BE8E-F2C7DB66EB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84D3-F8CC-4E10-8396-C59E76AC8EB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990C-121E-45A6-87BB-00AD82B7C8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E00F-FC2F-4869-83AF-C6C7ACBC89F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BFA9-BEA0-4350-9B29-C90927BFD8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E49B-8E06-4646-B459-3C6CD27F4D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A3B2-DDC9-44CD-8996-7074BEB7D2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61865-B5C4-41AC-B525-F4240176734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AEE0A-39E7-4E81-85A4-DA56C451B31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211BD-4F60-41B4-9C9B-0753940044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7D11A-8194-441C-8B95-7AD35A91AE5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F2B2A-6723-472C-A531-DFC53BA89E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86A1-7403-4E12-B4C0-D6A46F2B3E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8B05A-12BB-49EE-85FE-ACD1A2FB59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F5390-15C3-41C1-A706-06477A35851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570A1-EA5A-4F9B-90BA-91CD767BEA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5B99C-F477-4287-83B4-EDE9B0BD155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9624D-447C-40D2-95AF-037E89DEBB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B82A6-B617-485E-91CD-044571B437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1A4D7-BF71-4979-9F81-5815FF11F7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D66B7-1866-4189-ACD4-E63296A81D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BAE06-BB4E-4FEE-BA5A-3BA7507311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829DD-82CD-4FB6-9B83-FD15B63F7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B018-8B54-4A93-9717-E8182D7C961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72196-2A3A-4251-AE70-BC4A83DEA14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1F5F3-9AD6-409B-906F-93935AFE16C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52D30-C708-4FBF-9C2A-11BA4A5EC1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AF189-D312-4CB7-88EA-69A563416C8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54AA3-1B6F-44B2-8CBA-9EB3AC7AC6C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46D02-1FB6-4A3D-A3EC-7FF53B375D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BD749-B01D-41F1-9291-DCAD3B75889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D9C40-82CD-4164-89B2-A954C840A32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8DC86-52C1-4DAA-A5E1-B5E2861AE75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93E9-2BEB-416C-A18E-D54218F895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C301-2C2E-4D8E-BE12-C9E010570E2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6013-00C9-4307-BBBC-D9808F27A4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2B2C-1818-40E2-A913-9294B6602C4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0556-8BFB-4688-BD87-17B282F252E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9F45-43F3-458E-BF0E-A97D1E552E0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D97D-5AC3-44B8-BDE6-2B95E90946C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DAE5-7A1A-4550-B6A2-C2B7D82A2D1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6BF4-E6F8-4507-8E85-318D74E694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9234-E382-4935-AE70-6828562BAD8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4319-C3EE-4299-9290-BA611408988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D559-6F44-4F27-81E2-32B5CD2979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C1F3-3F31-4D0A-80BA-777C36F563E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B462-B53E-4E8B-8C48-0CC4C6CA084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0C305-4FE9-4C1C-A91F-FECFDAADC9D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8AC4D-BB33-4611-A3E3-5A29CE74FD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2EFA2-30CE-4CE9-8BE9-E6B01152028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082A7-90A7-4E68-82C9-3E785574E76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FEF44-BA43-4309-BF2E-0071F8384E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939F0-A0AE-4ADD-97B9-B95C7DB9B97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FED8F-F5E4-4523-91DF-0F8AD939C3E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2DC3B-F1DF-4C11-B7F1-CA63A099DBA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B33769-E0B4-4E92-BBB2-163E4FE8A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8430-83A1-4152-9110-22C7B1A4F95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11699-B177-4A2C-B7B4-08F8AE936C0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47BDB-BFDB-4C06-B29D-130921F2547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2DE64-3E26-499F-A33C-43DDF115E55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A6622-957D-4ACB-A86B-2ED18070F9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FE335-DB3B-4167-B628-C6613ED870F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993BB-9620-4108-8D3E-DDCB97D0B7B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35B84-39DC-41CE-8550-7BADD8A6C92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F4655-00DE-4AFF-A076-594BFF40AF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C49B0-60EB-4599-82CC-316B424B8F0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D58AB-8BEF-405B-9889-30A1C337C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4E1D-903A-43E8-9528-9BC1FA70F0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DCC63-26BA-4A29-A71F-87FDE543E9E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CB869-5BDD-45A5-9F87-180C86D6A2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80993-B2E0-4174-B824-6FA49F98F2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CCBDB-C8F6-4E5B-83B3-718C1F794E1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C0202-6504-423D-BD55-0AEC6F7CF3A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78B6-3781-4963-A9B4-DD3C58B8677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E0FB-AD77-481F-9CE6-1C0B23998E4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499A-F58E-4F4E-B31C-0777ED54A3A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B218F-DE5B-4449-AB05-9B9DACD0EA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F55A-F9A2-4447-97B5-E1C736383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F985-A8E4-43C4-9F41-9907621D22C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2DDE-F79F-4D04-8F07-EF6AEF119D8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07FF-2055-42B5-8C5D-EFD39BE9474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89F6-FF17-4406-A99F-DB96C545206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87A4-4B64-4A39-BF27-2D9C2744A30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F654-5A6E-4B61-AE73-CB73815D114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D3D06-4C42-4942-9CF4-06A92B118DC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74D9-3DC3-4874-BBE5-566B39440C3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C47B4-5FAC-45B6-91CF-090408B3BE6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BB8DF-4FD8-47FF-B5AE-7407C31E745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4ED5E-DB03-4B0A-958D-A1BD676CAE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CBB7-B882-46A4-B233-64EB1C059FB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BFDBE5-25DA-4EAC-8C13-DA3E90AEED3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6F862-CCA2-4838-AF8B-027EC5B7D3D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9C936-EC8C-4BD5-8A50-FE834F3C63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388D5-35BA-429A-8E80-630D31825FB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A667D-47A2-4096-BA2E-72ADA493C5E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3E1CC-7F07-47DA-BA88-E6BB75656E8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7BD43-44D3-4F72-8C6A-C6FC5545318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57D91-852C-4BE9-9CA0-46DC3C50A3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57965-CB7C-41CB-9E8E-CE7FC5D29A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AC0BC-300B-4ECF-8440-64E1A411D8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FF71-6FCC-4CCE-9ED5-F1640F54D7D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0076A-EAF0-4B36-982E-B2715AC84FE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EA504-5821-4307-98EA-7231F2DB689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C7D9B-2C8B-4022-AB0B-44DA02EAC35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80CB1-B5A8-4121-A99D-512B3A08914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B88D6-AB30-4C06-82BB-C2246CCDE46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1030E-0E98-4CFB-8DBD-B3B15FCFBD1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7B315-932C-497E-856D-36C0BF36E8C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64022-FDC6-43EF-9422-E4D645842EF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1C05A-DA1B-4E39-B5CA-900140018A7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79860-5BC7-4783-9399-0853326BF0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C37B-FA0D-45E7-B944-6C59A502F4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A6675-7845-4DC2-AD94-5896CDB0C2A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BB4A-46F2-4335-98FB-4D862F7FC37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8AA3-3ED7-445A-836B-D5D86BDEA3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57F4-6A8C-4830-8DB5-994253579C2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95868-DD36-4176-9239-71A05278711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986E-A657-4A7A-99BA-61736B0E741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6110-F080-458E-B62A-4E1CD9CF551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4457-B293-46C2-8AE8-D1AB4248E8F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82977-8627-4ACB-B1D2-C2A3AF3DF82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853BD-EBE6-49E8-B637-9BB17AB1D6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05BF1-5C1A-43B4-81C8-A6E2ADF2242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1567-A39D-4F36-97AA-2C87925136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095D-175B-40B6-AE32-6648FAEA73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583E3B-D180-4F61-B06B-21C0E7EABE1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2D14F-7D6E-4B46-837C-EA10DE80B95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7FCF66-6DEE-410B-B160-5FFCC70838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5AE15-7023-475D-AC56-5CBE01DCB0B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A2CD8-9838-401D-A4FE-23FFA40538B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AA919C-45F8-475C-BF9C-B82D6BF9206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0DD009-D4B2-4DE0-A157-D0A0E55B34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E76A0-483D-4094-9BB8-86C22030CD8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8EDA0C-E980-4AF6-BBCE-8534B751C52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0689B1-9AE5-4BD0-944F-55F3AF3CEC4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A8DD7-2BE2-490F-BA1D-12DFEDEDD63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75D3BC-33F2-445C-8CD7-163A6E790C3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3CD93-F909-4A52-9551-9E2830BD33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3D6A7-7E55-4E71-B711-640FB408A89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055CD-F649-4846-95FB-6FA85D2BCEC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AF06A-1128-4EB2-8327-87B2323A3EA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53012-76D4-4F1B-A3AC-CDE55DC648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0D459-C78D-41CC-B8A6-2CEB9D566A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F2358-60AE-41E4-A419-54B54EA3E4E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AA22D-D4A6-4A75-8810-58EB3FAA485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99EC3-C85C-4882-99FF-6B70DFB9185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F7683-A8DC-4CEE-BE47-BD879ED483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CCABB-238E-47C6-A289-5B0A2CCE7AE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82E6E-8C2A-49E7-B2E4-D3AC9480C3C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3CC1-866C-492E-BA0C-37877D34C0B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E40E-BD91-4352-9531-0C40013B0A7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C391-56BB-4D66-A3BD-6B80F5EA9C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4BADA-76D0-4F9C-8574-E10F6A02CB3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0CE8B-17A5-4FB5-80B7-5C7ED50D0C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2F874-E8E3-42F0-A673-BBD58CAC868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C0C62-4254-463D-BFBC-573308231F5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02379-C24C-4F97-BB02-410A31CDBAE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9FDA-6DFB-4314-A1BC-7D2E0614EBF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EAE8-8525-4142-B321-7A3F802B341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30D6-F5D1-40A1-95B0-FE9E1578051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1FF4-D5AB-4D83-ACF8-05EBE9AA81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5A362-2C95-4760-8602-DFA827E3FF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21637-33C2-4FFD-8F55-2034EDED731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9BB6DF-0B52-4FD6-98D7-462FD318FA5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54BC4-CBC6-40F1-9403-4E424B57AC5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A60BFA-3378-47AE-9335-116370FF5B4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D0EC4-B67A-4EEC-A022-72E7641B03B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8938D-69F0-4F02-BD9E-6EDAC28560F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35C25-4BB6-4E6C-8A85-4CEA09E9020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ECC3D-B35D-4C44-BB35-BC15BA3C1AC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4357DE-3952-443E-8B51-B8EC9606B86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6E6F3E-21B2-492D-93CC-B1EA7D6C2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D3AD8E-4744-49CF-A8DC-CA60C8EC7BE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B7532-87C4-4D98-A36D-987CF29441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80BE4-00EE-481C-93A7-664E22E03DD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C4113-42F3-419A-B677-74E032CC12E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6A00B-60C7-468E-95A1-66EB1BD2A09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453B9-00E5-4481-9849-7BEB56E7C5A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F014A-B2F3-4F92-838E-3787807FAE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6120A-59C1-459A-BBF4-8A4BD763E23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A1D77-F72B-40E8-A0E0-929F695E674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830D92-C7B3-414B-834F-FEFE679C19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47C5D-C7EA-42CF-A568-EF092A53E6A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478AB-69D6-4B8A-B0CD-A5A0F59BA15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57033-CAD9-4D1D-A70F-9723935B2E6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86E5E-72D7-4362-A66E-850F60D17DE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127CE-20E2-4010-A079-9014670D50A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72AB-7FC8-4F1D-8C8D-0CECD42E670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21085-0EC2-409F-B07F-6BA8FD9978B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69890-2E10-4EF3-B3B2-4BDEA6A0052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0155-022F-4C67-A46B-EBBF8FACAC0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E482-51F2-44E0-8E3F-696A57C570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AF0A-2482-4258-BFB6-E88F0F827F5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F5B1-2082-4F1D-AFE1-EC107B3951E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AB1F-4E4B-4A55-B289-F43C85CAEEF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BB240-3C5F-475A-8BAA-8CA5D7F87EB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EC0A6-BBEF-4332-8861-028827A3703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701C-FDD4-4D3E-9AF2-44A4201A99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02E4-9B3B-4EE2-BBD3-F9C6BB4BAF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18D3-7D85-4B96-A67F-51C2E2899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E3B8-6C0A-4FDC-A479-E9E7155E17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E8B5-98BF-4B3A-8D42-7A47405A96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5CAC-049C-45DE-972A-041BE7557C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6E03-DAEE-4BE2-A5C7-D5F006CE57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C945-E1E6-4875-8603-2BE2E289B7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C07B-679B-4FB7-9677-55DF8E2001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85A2-4623-4EAE-B5AB-8617B834D0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EB88-3226-4452-9986-B3BB755D14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29F0-9F9E-4D14-A0CD-5B61F9F4BB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CCC-A994-47B7-8D18-FD5CD52E84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5B5-76E4-4E3B-BCA9-63B183EA59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020-E6C9-4725-A7D8-D3AFF54242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9A3-40B3-4442-8139-9F02261D41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DBD-6ADF-424A-B762-6BF13656F4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4E7-20B7-41EA-BBFD-1E4063CBDB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2E5-96A9-448C-9826-AF78AAF440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5D4-8716-45F4-8ED6-2993BEBDEB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434-B5B6-4FF7-ADAE-9C45389B4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60C-16B6-4CEB-AC50-846AB5396C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B48-8FB6-4E91-91F5-D72886D644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121-90E6-4553-B071-CB574C06FF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962A1-A11A-4BA8-9CBE-0C69C1D6F3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CF13A-E249-4907-A1E4-D73B33039D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BF55F-7451-4CCD-A0A1-804B5F94AE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2BE07-1352-4B09-9A69-B1459494910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B8EA-7177-4E07-9856-7B43223FC5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0F82-B4F6-4559-B798-EB82D075E0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14EC-13A3-43BB-95D1-E7F9CBEA0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6882F-29D7-4EE4-B9B9-2E85F5597E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E67C-ABCA-48B4-905D-B3B5D62A29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A9A9-500A-4068-B418-2C1F41DD7D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4F60D-2B5B-43C3-9328-37CB3F74F2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A50AC-AB38-4600-8A88-90F8BF8AE1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57FA6-EEEB-4882-9037-EF8D8DBA5F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14702-0970-4764-A7D1-030D4AAB9D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C3920-7CDB-43C5-AEF8-662925008D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7919-C1E6-4E20-A896-11189D923E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9BC2-C428-41E7-A965-934F0AAF6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34318-D82B-44ED-9FC3-95E4C6B2AA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FE04-0305-492C-8AD1-8BBDBF7BA6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B79E-D3E8-426A-83EB-ED6F89393B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9D04-4D05-48E8-9F49-6CF4D56522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C05B1-27F4-4EF8-B43D-E81B202A87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0724B-8655-4DA8-BF37-A832F6FF2D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DFC8-BC97-44E5-A5D8-B10445D34F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4258-5D20-431B-BD92-96A097B058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7EF-E6DE-4407-8046-BE56EBEBCF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69F-2A58-4CC9-BEC0-C75E875C0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413-736A-48D4-8625-30C977DAAC57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894-A3D9-45F4-A423-5081DD478E0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AB1B-5F4A-4BD1-8C14-DA15D336439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4597-CDBE-4CCA-876C-D94E95AAEBC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C34-4FF8-4290-96E3-406B9EF1C77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024-5087-43F0-A382-02165E0E575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0426-66C9-4759-9CAD-B4AC0BAB97D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8D02-F176-41A0-B729-50B9FA51710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57BE-34B0-4120-82DA-6C996845D14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6F7-6D0B-4A0C-AF01-F8278B8A90C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EFBD-0084-4C70-9F2D-53A4CD3226A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DE8-F0CD-4B6A-B130-166BC1E61C9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1C5-C510-4396-8245-E48ED1DC44C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04C-EADA-43EF-BCBB-475CDAA5D1A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9442-4828-406C-891B-365617DE56E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75F-D2CD-4391-9CE6-E34FB7DCD2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74D-026B-4858-9775-BEBA206D587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9EF-E882-4164-8A98-8B13CAA8865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CD50-7984-40EC-B0B0-F248E3FA1F3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144-2004-47B2-A8CD-4372A11372DA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407-8FDA-427B-82C1-4B63F12B28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8AB-FF66-4519-B6A6-CFB1A423677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74F-10F5-489C-8806-042DF134D71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FFF-ED03-4259-8C06-5A42DFAF76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Ibagu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3"/>
          <p:cNvSpPr/>
          <p:nvPr/>
        </p:nvSpPr>
        <p:spPr>
          <a:xfrm>
            <a:off x="1225440" y="5857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5 CuadroTexto"/>
          <p:cNvSpPr/>
          <p:nvPr/>
        </p:nvSpPr>
        <p:spPr>
          <a:xfrm>
            <a:off x="365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324000" y="5516640"/>
            <a:ext cx="871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8" name="1 Imagen" descr=""/>
          <p:cNvPicPr/>
          <p:nvPr/>
        </p:nvPicPr>
        <p:blipFill>
          <a:blip r:embed="rId1"/>
          <a:stretch/>
        </p:blipFill>
        <p:spPr>
          <a:xfrm>
            <a:off x="473040" y="1727280"/>
            <a:ext cx="7978680" cy="357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1728720" y="52236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891360" y="525456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382680" y="1700280"/>
            <a:ext cx="80755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312920" y="333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250920" y="5445000"/>
            <a:ext cx="864540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617400" y="5183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53320" cy="3456000"/>
          </a:xfrm>
          <a:prstGeom prst="rect">
            <a:avLst/>
          </a:prstGeom>
          <a:ln w="0">
            <a:noFill/>
          </a:ln>
        </p:spPr>
      </p:pic>
      <p:sp>
        <p:nvSpPr>
          <p:cNvPr id="1306" name="8 CuadroTexto"/>
          <p:cNvSpPr/>
          <p:nvPr/>
        </p:nvSpPr>
        <p:spPr>
          <a:xfrm>
            <a:off x="830880" y="479736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287280" y="5421240"/>
            <a:ext cx="85694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44440" y="5634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108000" y="530064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08000" y="1333440"/>
            <a:ext cx="8710560" cy="38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198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1154160" y="39852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 y áreas metropolitanas e 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 abril – junio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053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cc0066"/>
                </a:solidFill>
                <a:latin typeface="Calibri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201600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806436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ol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832320" y="5737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852480" y="1776240"/>
            <a:ext cx="737244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1 Imagen" descr=""/>
          <p:cNvPicPr/>
          <p:nvPr/>
        </p:nvPicPr>
        <p:blipFill>
          <a:blip r:embed="rId1"/>
          <a:stretch/>
        </p:blipFill>
        <p:spPr>
          <a:xfrm>
            <a:off x="1003320" y="2349360"/>
            <a:ext cx="7277040" cy="25210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384120" y="8366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Resumen de indicadores</a:t>
            </a:r>
            <a:br>
              <a:rPr sz="2400"/>
            </a:br>
            <a:r>
              <a:rPr b="1" lang="es-ES" sz="2400" spc="-1" strike="noStrike">
                <a:solidFill>
                  <a:srgbClr val="cc0066"/>
                </a:solidFill>
                <a:latin typeface="Calibri"/>
                <a:ea typeface="Calibri"/>
              </a:rPr>
              <a:t>Ibagué  – Total N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5 CuadroTexto"/>
          <p:cNvSpPr/>
          <p:nvPr/>
        </p:nvSpPr>
        <p:spPr>
          <a:xfrm>
            <a:off x="97776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3"/>
          <p:cNvSpPr/>
          <p:nvPr/>
        </p:nvSpPr>
        <p:spPr>
          <a:xfrm>
            <a:off x="179280" y="249228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8 Rectángulo"/>
          <p:cNvSpPr/>
          <p:nvPr/>
        </p:nvSpPr>
        <p:spPr>
          <a:xfrm>
            <a:off x="2792520" y="2165400"/>
            <a:ext cx="6114960" cy="183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1 Imagen" descr=""/>
          <p:cNvPicPr/>
          <p:nvPr/>
        </p:nvPicPr>
        <p:blipFill>
          <a:blip r:embed="rId1"/>
          <a:stretch/>
        </p:blipFill>
        <p:spPr>
          <a:xfrm>
            <a:off x="2868480" y="260280"/>
            <a:ext cx="6181920" cy="5519880"/>
          </a:xfrm>
          <a:prstGeom prst="rect">
            <a:avLst/>
          </a:prstGeom>
          <a:ln w="0">
            <a:noFill/>
          </a:ln>
        </p:spPr>
      </p:pic>
      <p:sp>
        <p:nvSpPr>
          <p:cNvPr id="1268" name="6 CuadroTexto"/>
          <p:cNvSpPr/>
          <p:nvPr/>
        </p:nvSpPr>
        <p:spPr>
          <a:xfrm>
            <a:off x="2792520" y="5732640"/>
            <a:ext cx="56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414360" y="4581360"/>
            <a:ext cx="2357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Los resultados 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presentados para San Andrés corresponden al periodo enero – junio 201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1 Imagen" descr=""/>
          <p:cNvPicPr/>
          <p:nvPr/>
        </p:nvPicPr>
        <p:blipFill>
          <a:blip r:embed="rId1"/>
          <a:stretch/>
        </p:blipFill>
        <p:spPr>
          <a:xfrm>
            <a:off x="565200" y="2060640"/>
            <a:ext cx="8110440" cy="335736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3"/>
          <p:cNvSpPr/>
          <p:nvPr/>
        </p:nvSpPr>
        <p:spPr>
          <a:xfrm>
            <a:off x="1438200" y="620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7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11221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1442880" y="1467000"/>
            <a:ext cx="6258240" cy="392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4"/>
          <p:cNvSpPr/>
          <p:nvPr/>
        </p:nvSpPr>
        <p:spPr>
          <a:xfrm>
            <a:off x="2052720" y="620640"/>
            <a:ext cx="48956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1 Imagen" descr=""/>
          <p:cNvPicPr/>
          <p:nvPr/>
        </p:nvPicPr>
        <p:blipFill>
          <a:blip r:embed="rId1"/>
          <a:stretch/>
        </p:blipFill>
        <p:spPr>
          <a:xfrm>
            <a:off x="552600" y="256536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5-09-24T21:10:51Z</cp:lastPrinted>
  <dcterms:modified xsi:type="dcterms:W3CDTF">2016-08-02T21:50:08Z</dcterms:modified>
  <cp:revision>1035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