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22F2-401B-456F-B651-7AE0EA9377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17E7-5E62-44F6-82D7-41DA4849556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ED6C-0604-43C9-AC80-AC75538B8D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3211-CD60-4B16-9EAC-0786A4E664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B207-E964-4044-9CD4-1B373F2E893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048B-E240-46D3-A739-6C67FF31F25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345F-D593-4386-B3EE-5820BDEE76A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CF92-6BEB-4FA1-A2F6-91A1907C15D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07D7-C3DE-4CA7-8F81-9373BD90C9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9AA5-5AFC-46B8-8F62-C4F49C6A177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065F-E505-4F54-AFBC-6A35B669EBD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3A88-7B2A-46E3-8298-D5C08610A73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C3EC-7E8B-4F28-8C6E-0A532A4995A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58775-BB19-465F-9202-AAF09C124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9DD66-A61A-48BE-9E85-07DBFCFC433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DAC5E-0F5C-4C41-82D1-699BF8C0D5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2F5BFA-75E5-4D15-90B6-B00F31D7B8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68FA25-9AC4-41B3-883F-7F000432340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20E4B-56B2-4D55-BA7F-6C0B71D0960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D2BEC-761F-487E-97B5-F674F2D945E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55D374-5BD5-40A5-B03C-03BB9019B7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FD41A-5C7B-48D4-969C-5D622C6AE96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C43C5-5F18-45CF-BC90-1EC6D74F42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6DD33-E559-47AC-AF55-A251FD41A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5FF81-D100-4147-A3FC-18D6A6656E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F2186-F22A-4C2C-AF80-2186D5B345D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59F67-C722-49E1-BE97-68E5131450E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6EB8C-02A1-4387-832E-2D505242164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4DA24-59D7-438A-8D0D-D7175C5F67B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2BF90-70E2-4EAC-B763-A520514608C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49BB9-E1AA-4291-A271-08D5E88B04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3B634-FFA6-46FD-865D-0A6F5E93CA0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1DA1B-8DFD-4C6D-B8C0-B82541134BB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37562-283E-48A6-8415-CB8209D37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FACB-59DA-4196-A51A-83182EC8C8A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93C50-E0F2-4B8B-9A16-C6DC9227BA8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70918-60B3-46EE-B12E-D3C0CB60F55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37BA9-2FB7-4AFD-8144-7045F73292A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AA23-643E-4545-8841-AA3F76E730A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8683F-9BDE-4B28-8888-DA69F9F420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D0CD-86FD-4307-91C1-DB4B0BA8951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C03C-9501-4038-9C37-12E77741DAE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4D2F-3B74-4EEE-9423-9CA0F3F631F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FF151-CBE6-4D59-B0E6-9F8ADF79597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82E66-9B36-4282-B585-37858B858D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E7EE-1D34-41B6-8214-E5431AD586A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4E92-1D94-4851-81FB-18DD6C7DC08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BFDF0-F629-4639-967B-F197333897A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D12F-4BC8-4B1D-B4C4-5561D3E4877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7DA3-1C9D-4971-87C9-F0A9A865201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3286-6C3F-41E0-9253-C905ECAA0B1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DA1DF-DFF2-49D6-8FED-8ECA05E06B8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22EA3-5BAF-40F0-83A9-34F25C37746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92B5D-5D64-477F-AD33-4C92D0F22A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B06DA-1436-4CA7-A6F5-39534A9AED1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03DB2-AF9F-4487-B909-1E87EFB72B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763D-7648-49DC-9C2A-AFC7B266FD8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A8DB6-0921-496F-B583-1CE34EE8247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13CA4-5D88-404F-83AC-2FCA1CD968F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A820F-73F2-4848-A00C-28F83A386B4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A11A0-4636-4EB1-B63A-CCA366FE958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6926C2-3A27-4A59-BA8D-293F0E17718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4A6B43-D78D-4B1E-985D-EB67797A9E8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2BC81D-8793-4D20-B433-D59295CE1E1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3511FA-680B-4082-BF17-508EF1817FB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02A50-957A-41F9-B0AE-C86259D897A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D7FFF-A406-42EE-8A7F-CDB54C3CBD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4FE6-2DD2-4F7C-982F-A1A2C0D109A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5D774-3E1E-418B-8B09-4607FEE8633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83ACD6-1C73-490A-B8C1-107ED73900E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2EEAA-A229-41E9-B353-57061345390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5E82C2-97A7-414F-AADE-34560C666AE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611F3A-76D9-438A-86A7-C11545D7DD5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BA81C-6EA9-4ABA-B0C4-094D4F0EF42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7D7B8-8819-4589-ABEE-65121E796A1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1AA69-6390-46C2-B234-262F2D19210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246D2-2112-4BCB-991A-8064FEED0A1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B8585-A896-40F0-9BAE-6F14E28035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C3DA-BC44-4E27-AF81-52152AC8B0E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9DC2-0BC7-4554-AF46-E56C5F91342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78B1E-1AFC-4482-B7B0-4D651C951FF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839E-61C4-4F86-8265-C04B147A0F6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75C5-FB71-4E4A-B202-5E4EAB09A4C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3566-9D76-4494-A798-369366C9F1B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C46A-5185-4EED-BF09-2E682842FCB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F3B36-DBF0-4C9A-9508-375B9CDF5D1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F0CE3-CEDC-4A7C-91DA-86E3DF20CA9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E3183-C132-45B6-BA33-7D09F9F8D78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A823-FA3B-408C-8AEF-3845812199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F7A4-17DD-4554-95CF-2AF4C1EC7A7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9297E-A776-42B0-9379-0DC7617AF7C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5FB0D1-26FF-48B1-9C4A-D3A80061BCC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9AF132-1888-43EB-B15C-A149AFB0E17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873306-3C2A-47E3-9E15-A18F52A4E6C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31ECF2-073C-4A36-89B4-0C5F8131515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1DF63-3047-4177-BBF0-27E2BF16A1B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F5ACC3-491B-4E20-9264-F455EF7DD3B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03ADA0-B53E-4988-9AE2-9348AC2E968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6C70C2-9114-49F2-8F0E-8A82F73A101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73291-63A8-40B2-9D74-19B98BDFC3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9F0A-01A2-453E-9632-F089A3CCC1D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5EDCD3-CB08-42A4-9EDD-11CC67D5153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4CE64B-B7B2-4B52-BE4A-1E6BA6CFC44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020532-B532-49E2-8598-0DB8C9A3089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6B669-650F-4610-9F68-8C0C90AE44E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74740-3DB3-4F28-856C-BBC0B1E7C01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C9FE9-83E9-4F25-A956-A9AAE7100D3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D4078-B545-4126-999B-BBCB5DE4025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61151-98DC-4216-B211-C431543DC41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440AE-E19A-418C-A3EA-FCA91249A6F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56E26-9445-481B-8850-47B53FECC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328C-0F24-406E-B0AC-8FAC39E544D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0A26E-8AE3-41EA-877D-CB7B75AC00E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48A1B-9489-4B89-9A76-0CFE2681F38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CF144-1897-4603-B128-D43E860F9A5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AA423-7F44-413E-A885-CAF994FD1B5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B1C59-8B0E-402C-8A18-490BC94C09D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6672-DB3F-4D17-843D-21BD7AD1BF2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3D46C-78CA-475C-9AAC-2724C42DD08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D2C3-1799-417E-9869-555AF68A784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057E-0005-4AA8-9160-8EB4A330ED6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A0E49-874E-48D4-BC9D-773438CF1B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FFC5-5749-4AC7-97D2-D24C5977843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C2793-4B3C-4FDF-834F-47AB92B3A29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AE510-7A5B-42B1-83F7-3A73FE9BE8D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166E6-EA67-4FE4-AD23-5BD3CBFF219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A8240-D1AA-4464-B247-962D19BB023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3DD7C-FB81-4E38-9E9B-09C9E671C29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1BDC2-BB2F-416D-95E3-711A8AFC0FD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668AB-89E0-4CF5-8E1C-89742AB316B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A1048F-5D5E-426E-8BB8-86ECCE929FE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EBE875-A25D-4827-AD2A-59DB362313B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1C0DB7-0251-4A60-B199-8F0DF7C0A4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D0DF-83C7-4F55-B4C7-9986439C159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1EE892-D825-4FDD-A62E-47FB10BB2EC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47BB16-9CD7-4DC8-AE42-1C959B765C3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EAC1D-EB49-4F3D-930C-A860D0D0923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44DFE7-9F21-4AF6-9EF8-D41B2A30796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93EF3-E270-40F5-9DA2-2D54EAF942B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4AA878-1EAA-49C9-B6A2-0112E400AF6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FEAF52-2884-41E5-9CBD-00A028C2801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C44779-BDA3-4BBA-B30C-96A6DF247BB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70CEC1-63B1-495B-B2D2-5F256F0FD93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DDEBB-2BCF-43EB-94B4-1EAE500834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8BFB-789B-4520-BB97-D4E436CE541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93A01-8647-4F48-815B-F0BC7F48495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64F60-66B4-41E7-AE09-A68B548AE63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BC9BF-2E7B-497B-A594-D168B024AAE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BDE5F-D5AF-4965-A341-8931315311B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2893A9-2320-4AF2-965C-929212F16A0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6CE45-3834-4735-8006-0CAB0D20496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0DC29-B6EA-4969-A665-0438B9EEFD5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AA985-2194-4F58-906A-FA75A7CC948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71977-8FE8-421D-950F-8DA0D3FEE89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5603F-14CB-418C-ABE3-C5580BECFD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DA11-085D-4586-B4C4-079CE1D7502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75E3B-6C4D-45A1-A2E1-DF9A300E2DC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02BF0-E119-4AF8-A938-A6A80399E6B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9B6BB-341C-407A-9FDA-D9614E63B50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87F4-72BB-4609-AB6C-604395CE0D4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0905-41A7-447B-8760-972279DC21E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6112B-887F-448D-9B75-E1DA395F3E8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6D921-AC13-4DA5-A6ED-90D4BD77477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59DBF-2104-45C8-AED7-77A3AF1CEDA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84E67-E8AD-403A-9EA3-5258D5F58D2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B9705-A4DB-4EA4-8850-0D0532A348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EFF42-3BDA-41BA-A235-4D9249752B1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4917-6DC7-4EDA-9047-BC7458C5059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B6F82-7A9D-4F48-8851-47AD418B83F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ABFB46-755A-4F51-8DF2-6B3896A3EC2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F4BCD5-0760-4078-B1BF-4AD6205969C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A37043-C081-4B3B-A44F-96370620684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D0A1B0-34A9-4C59-A217-002D290D787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E9FD1C-EB6B-4CF3-A3AF-068994D6008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5DC470-1523-4085-AEF9-0068116612C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B6139-9901-4FBD-B72C-87030DC927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72B4DA-F6D2-4788-968E-D4546AB43BA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7A3F2B-9498-4B5F-94F0-6A7C69D1F4A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E8EC68-A541-4F79-8E0E-E29BCAECC02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399C36-577F-4B4C-99D4-F1EDDD7DDC1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F50010-E277-4DC1-B98B-D1CD6808B54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5A9E7-E876-44C5-8144-F42999BA4A8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3FDCD-4FFE-415A-9ED4-8FD719AF35A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2952E-718C-41F5-9017-489663D743D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70404-0BC6-449D-8C3A-597A1B1EDE9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306C8-36B0-4C3B-8B89-AD08DA7DB9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A96C0-BC3C-4784-A8C3-C8155270F90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5C1C6-E578-44E7-8DDB-ED69CC81D7A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DCF6F-60F6-4A46-8404-C78B1577E27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0CB2F-6739-44C6-91C1-02E1C2F4225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4750C-B0FC-4EA2-AA3F-14455F6849B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A23064-8F48-47C6-8A17-70153903369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2F41E6-32EB-4995-8A68-99119799966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8736D-9D2A-4B32-9A0A-E9FBA725846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0DE72-FA00-4F46-BE87-C0A81B69AE1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A7D76-854E-42AF-9DCA-7721E2BA10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0C651-3BBD-4732-B310-B221913154C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1001F-0CF9-43B3-A7D2-37F6538F170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BA3B3-56C6-45C4-876D-A1AB79BD303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0553D-C4AD-4FD4-B012-C4DA97FC3F3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928B8-11B6-452C-856A-BBBDDE00260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5FCFA-5DBB-4895-BEE4-1AB37F5969B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85C52-C3F6-44D2-B6C3-5310C2AEA37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A99EF-80B3-46B9-88DB-441561630AE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B8091-5B70-44DA-B704-20799DF80D8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736451-5B90-4D02-8B52-9943485103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CB80A9-A27E-4A57-8E90-D52B650888E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07F2C9-BB53-4EA0-AFA5-DDFA022CC69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3FF8A1-92AE-466F-AE6E-A87C49D78AA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01571D-E3A5-4414-9998-734A08DBB7C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2EAE68-5103-4803-A42C-58C1EDAA211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07E35-E45F-4AB6-8A1F-0CD7DAC77CF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5520DE-365E-4673-BD94-C42C7C90523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DF8254-D903-439F-A907-E6C0A2D51A0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3316EA-D464-424E-AF3E-5D1EBE63B09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C44878-98E8-432F-9B59-D6C5B8633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674FFB-8262-4875-BBAE-7C4BEDCCD2C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9FC64-B472-4606-9D7D-AE6D3E2F900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C2E38E-BFCF-4DA6-A72E-81392021B93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32FA18-3613-4132-8B5F-3669D90A991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5BB39B-5203-41D6-8630-4B8B684E0A6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AC86AE-8E44-4646-BE3E-750F0C3B451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B6FF39-65D5-4C80-ACD7-4D409EF9543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1968E-63C3-4FCB-B127-B9A9A2E531F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739C3B-F8ED-49C7-9B2D-8D780521145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E2FF9E-C5EA-429F-BFB0-A7086ACD55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9188E-156C-4076-874F-751C9F2F946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B503DD-1C7D-4018-887B-323D5EA87C9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AA5F20-A2BC-4776-8BE1-90238D69B08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24EDF-3C67-4857-BE66-91230B9DA2E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49943-AEE1-4A66-99C4-AAA03AEFFA3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77078-0016-497A-9642-F059A5CA953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4004-3032-4920-B2F0-A71DBDC7AD6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A3771-DCF9-4422-84B5-80FCB996143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319B4-3A89-40E5-913A-A11649B142E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D8517-9D30-470D-8FB4-121880C7B3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16B36-5BC7-406C-81DA-2BB15E73F4C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CD3EC-23E0-4C47-9693-D6BF921DC4E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F1EE4-EDAD-4F84-9713-887FF1DE00A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DD38A-48FE-402A-8F96-86B6699D99C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99E4A-192D-448C-BEE9-1DA73E7D36A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8E32-B1DF-43DB-A224-F72A12B412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0A61-4936-42EC-84FE-A76CDE3E7C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A3C3-0354-4EC3-92DB-7234E51C7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0500-15C2-4F35-9C15-3E75E3E8DE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599A-4D72-4CBE-A79D-348AEED08F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B394-A54D-4991-8926-DD3938700E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8480-90DC-4A3B-95FB-07E6754089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DA08-7CD9-4EB7-8CE4-789692C518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FEB1-EBCA-42C1-BDF5-1FD4B96966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49E3-C3B9-4385-B563-66A0002A42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7D83-8747-409A-9536-18B032C73A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0F2A-A792-490B-BBCF-7369E791B7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85E-BF26-49A2-B8D1-B0CE6BF765B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494-6799-496D-8A4C-0D445E3843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13D-D1C5-4A13-B5BD-C373546B958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6BD-09C5-4301-9E59-666271CBC4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2F0-DDBE-40E0-BF3E-E5941DAAF2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55A-F0EB-49DE-85FC-D5E9B12E6F1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D92-4F6B-4A87-9A4C-31FEDC393C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277-2E26-4D02-827B-D1B5332F934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891-F3A9-49A9-B032-9A3A4A361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EFC-B685-48AE-A9A3-A5664D8C473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503-BE3E-472D-8CDF-8A9DC0F4B6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55A-70E7-4806-A834-AB50D0E46A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57945-3647-48A4-8683-97485433B6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C707C-F8BE-4DB9-9E7B-628B9B44B7E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A9037-1287-4D98-88AB-A9273F63F8A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11FC2-21EC-4E96-8250-0F90644FCB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E2086-5008-4FDB-91C6-AEA85056077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E2B44-A5AC-49BB-8EC1-B3AB1AF3B3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FE612-89C3-4D53-8296-153CDAAC6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1A23D-D79B-434B-A0D1-7ED148FB97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D10FB-5FFE-4CB8-A536-9C08C2560CD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D8D10-EF32-4A8F-8BB6-245F295FFD7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57B3F-5C1D-40F6-8986-85623338C1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D57AD-53BC-4D2D-AA7B-EAE91954156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6E748-7B72-4048-A805-4D968AF26E5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33603-0DC1-43A0-B257-CC90B260C30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3A1EF-06CA-41F0-BCCA-F5F9E5C6C57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472AF-E4C3-4B98-8A9D-01C5C0F5AB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98BD6-A28B-4141-86C7-1096F3EC6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A6FFA-C515-4B18-A8A5-91ED16D7DE1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8859A-55EC-46DD-A678-01221A975C5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46232-DD56-4465-BD89-9A8F3E332C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AB67B-596D-42E6-B7B6-DC4D8D2F5A7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BA141-E026-45F6-9E97-99D392F5A0C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FBC66-37DB-4B74-9175-4318C59869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C2298-6D2C-4DBD-BBB5-BDF43F5A2CC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066C-49D0-4231-B211-1CB54CB1424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B56A-C338-4F51-85AD-BC592597C0C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1178-269B-4788-8ADF-72ED8DD01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rcRect l="0" t="0" r="920" b="17297"/>
          <a:stretch/>
        </p:blipFill>
        <p:spPr>
          <a:xfrm>
            <a:off x="-36360" y="6105600"/>
            <a:ext cx="9180360" cy="779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5CC9-DB27-4134-9CD2-3E82B1CB3585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96F6-2556-41DA-A8C7-CCC8ADD644C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49DB-B3E1-4ACC-AEE6-6C7102770D7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F3AC-BDE7-4ADF-8CB1-4D91EDC2CC3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6F6D-A1BB-4284-87C1-82CC6227B95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A43C-02B9-4883-A8D8-D0B4E4EF62D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B706-EE82-40EF-BD6D-E7D1D47A5EDF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1FD5-7005-448F-9B0B-0E0EA271348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A1AC-F0AD-48C4-A204-1F90F20DD50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ABF9-9832-431F-BEA2-ADDBEF7EBAF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6435-7B69-45E5-9DA9-35BFC0C2CA4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3654-C419-49BF-9290-63FFBDAAFE67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0C91-D7C0-4C09-8037-661C1D2B093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0061-CC89-4F52-AE8E-328CFBD983E6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0DE2-1978-44EC-BBC4-7398AB364EF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FBDC-CC20-4885-AD28-F9DC9D5B82B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8F55-33C0-49B8-9505-224EEA767E5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87E1-2A7A-4D21-A1F6-16E8232AD16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CEDF-B52F-4F95-B7F1-1C8909490B49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F026-07ED-4EE0-8DE6-66654E3BEF61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79D-D0F6-42EB-AE9B-77DBF2FAB60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C7B4-FEF8-46BF-8FFB-E17240D9CE2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37A4-FADD-4794-BDB3-2A7AA82F8026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DA17-86D8-4158-B7E4-DFB638100A8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408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ogotá D.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3"/>
          <p:cNvSpPr/>
          <p:nvPr/>
        </p:nvSpPr>
        <p:spPr>
          <a:xfrm>
            <a:off x="1225440" y="69228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5 CuadroTexto"/>
          <p:cNvSpPr/>
          <p:nvPr/>
        </p:nvSpPr>
        <p:spPr>
          <a:xfrm>
            <a:off x="672840" y="5157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0" y="5445000"/>
            <a:ext cx="925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Otras ramas: Agricultura, ganadería, caza, silvicultura y pesca; explotación de minas y canteras;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1 Imagen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119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3"/>
          <p:cNvSpPr/>
          <p:nvPr/>
        </p:nvSpPr>
        <p:spPr>
          <a:xfrm>
            <a:off x="1728720" y="62064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38268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: Agricultura, ganadería, caza, silvicultura y pesca; explotación de minas y canteras; suministro de electricidad, gas y agua e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5 CuadroTexto"/>
          <p:cNvSpPr/>
          <p:nvPr/>
        </p:nvSpPr>
        <p:spPr>
          <a:xfrm>
            <a:off x="545040" y="5183280"/>
            <a:ext cx="136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1 Imagen" descr=""/>
          <p:cNvPicPr/>
          <p:nvPr/>
        </p:nvPicPr>
        <p:blipFill>
          <a:blip r:embed="rId1"/>
          <a:stretch/>
        </p:blipFill>
        <p:spPr>
          <a:xfrm>
            <a:off x="1047600" y="1484280"/>
            <a:ext cx="71787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6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3"/>
          <p:cNvSpPr/>
          <p:nvPr/>
        </p:nvSpPr>
        <p:spPr>
          <a:xfrm>
            <a:off x="1182600" y="40464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4"/>
          <p:cNvSpPr/>
          <p:nvPr/>
        </p:nvSpPr>
        <p:spPr>
          <a:xfrm>
            <a:off x="31680" y="5396040"/>
            <a:ext cx="90043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5 CuadroTexto"/>
          <p:cNvSpPr/>
          <p:nvPr/>
        </p:nvSpPr>
        <p:spPr>
          <a:xfrm>
            <a:off x="761760" y="4986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1" name="1 Imagen" descr=""/>
          <p:cNvPicPr/>
          <p:nvPr/>
        </p:nvPicPr>
        <p:blipFill>
          <a:blip r:embed="rId1"/>
          <a:stretch/>
        </p:blipFill>
        <p:spPr>
          <a:xfrm>
            <a:off x="826920" y="1374840"/>
            <a:ext cx="7632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1763640" y="620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8 CuadroTexto"/>
          <p:cNvSpPr/>
          <p:nvPr/>
        </p:nvSpPr>
        <p:spPr>
          <a:xfrm>
            <a:off x="1053360" y="51577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1 Imagen" descr=""/>
          <p:cNvPicPr/>
          <p:nvPr/>
        </p:nvPicPr>
        <p:blipFill>
          <a:blip r:embed="rId1"/>
          <a:stretch/>
        </p:blipFill>
        <p:spPr>
          <a:xfrm>
            <a:off x="690480" y="1628640"/>
            <a:ext cx="7620120" cy="3473640"/>
          </a:xfrm>
          <a:prstGeom prst="rect">
            <a:avLst/>
          </a:prstGeom>
          <a:ln w="0">
            <a:noFill/>
          </a:ln>
        </p:spPr>
      </p:pic>
      <p:sp>
        <p:nvSpPr>
          <p:cNvPr id="1307" name="Text Box 4"/>
          <p:cNvSpPr/>
          <p:nvPr/>
        </p:nvSpPr>
        <p:spPr>
          <a:xfrm>
            <a:off x="17640" y="5445000"/>
            <a:ext cx="9108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^  Obrero, empleado particular incluye al Jornalero o Pe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*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0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1133640" y="69228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 Box 4"/>
          <p:cNvSpPr/>
          <p:nvPr/>
        </p:nvSpPr>
        <p:spPr>
          <a:xfrm>
            <a:off x="392040" y="551664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Calibri"/>
              </a:rPr>
              <a:t>Nota: La categoría “otros” incluye: incapacitado permanente para trabajar, rentista, pensionado, jubilado, personas que no les llama la atención o creen que no vale la pena trabaj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5 CuadroTexto"/>
          <p:cNvSpPr/>
          <p:nvPr/>
        </p:nvSpPr>
        <p:spPr>
          <a:xfrm>
            <a:off x="545760" y="517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6" name="1 Imagen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653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5 CuadroTexto"/>
          <p:cNvSpPr/>
          <p:nvPr/>
        </p:nvSpPr>
        <p:spPr>
          <a:xfrm>
            <a:off x="545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8" name="1 Imagen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5905440" cy="3502080"/>
          </a:xfrm>
          <a:prstGeom prst="rect">
            <a:avLst/>
          </a:prstGeom>
          <a:ln w="0">
            <a:noFill/>
          </a:ln>
        </p:spPr>
      </p:pic>
      <p:sp>
        <p:nvSpPr>
          <p:cNvPr id="1319" name="Text Box 3"/>
          <p:cNvSpPr/>
          <p:nvPr/>
        </p:nvSpPr>
        <p:spPr>
          <a:xfrm>
            <a:off x="1133640" y="76500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Total 13 ciudades, áreas metropolitanas y 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– junio </a:t>
            </a: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15 –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Bogotá D.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2" name="2 Imagen" descr=""/>
          <p:cNvPicPr/>
          <p:nvPr/>
        </p:nvPicPr>
        <p:blipFill>
          <a:blip r:embed="rId1"/>
          <a:stretch/>
        </p:blipFill>
        <p:spPr>
          <a:xfrm>
            <a:off x="1130400" y="1628640"/>
            <a:ext cx="6608520" cy="1871640"/>
          </a:xfrm>
          <a:prstGeom prst="rect">
            <a:avLst/>
          </a:prstGeom>
          <a:ln w="0">
            <a:noFill/>
          </a:ln>
        </p:spPr>
      </p:pic>
      <p:pic>
        <p:nvPicPr>
          <p:cNvPr id="1323" name="1 Imagen" descr=""/>
          <p:cNvPicPr/>
          <p:nvPr/>
        </p:nvPicPr>
        <p:blipFill>
          <a:blip r:embed="rId2"/>
          <a:stretch/>
        </p:blipFill>
        <p:spPr>
          <a:xfrm>
            <a:off x="1116000" y="3789360"/>
            <a:ext cx="662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1 CuadroTexto"/>
          <p:cNvSpPr/>
          <p:nvPr/>
        </p:nvSpPr>
        <p:spPr>
          <a:xfrm>
            <a:off x="684360" y="333360"/>
            <a:ext cx="784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4 CuadroTexto"/>
          <p:cNvSpPr/>
          <p:nvPr/>
        </p:nvSpPr>
        <p:spPr>
          <a:xfrm>
            <a:off x="1048320" y="5695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1 Imagen" descr=""/>
          <p:cNvPicPr/>
          <p:nvPr/>
        </p:nvPicPr>
        <p:blipFill>
          <a:blip r:embed="rId1"/>
          <a:stretch/>
        </p:blipFill>
        <p:spPr>
          <a:xfrm>
            <a:off x="844560" y="1717560"/>
            <a:ext cx="72961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r>
              <a:rPr b="1" lang="es-ES" sz="1600" spc="-1" strike="noStrike">
                <a:solidFill>
                  <a:srgbClr val="cc0066"/>
                </a:solidFill>
                <a:latin typeface="Calibri"/>
                <a:ea typeface="Calibri"/>
              </a:rPr>
              <a:t> 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500040" y="1989000"/>
            <a:ext cx="8074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408400"/>
            <a:ext cx="2737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- junio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3 Rectángulo"/>
          <p:cNvSpPr/>
          <p:nvPr/>
        </p:nvSpPr>
        <p:spPr>
          <a:xfrm>
            <a:off x="2843280" y="4724280"/>
            <a:ext cx="6119640" cy="181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049560" y="333360"/>
            <a:ext cx="57117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4414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332000" y="765000"/>
            <a:ext cx="640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(2007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5 CuadroTexto"/>
          <p:cNvSpPr/>
          <p:nvPr/>
        </p:nvSpPr>
        <p:spPr>
          <a:xfrm>
            <a:off x="20570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1 Imagen" descr=""/>
          <p:cNvPicPr/>
          <p:nvPr/>
        </p:nvPicPr>
        <p:blipFill>
          <a:blip r:embed="rId1"/>
          <a:stretch/>
        </p:blipFill>
        <p:spPr>
          <a:xfrm>
            <a:off x="992160" y="1984320"/>
            <a:ext cx="75452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40464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Bogotá D.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-20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761760" y="5589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371600" y="1424160"/>
            <a:ext cx="640080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1908000" y="620640"/>
            <a:ext cx="4896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ogotá D.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</a:t>
            </a: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(2015 - 2016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368280" y="2492280"/>
            <a:ext cx="8380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39:03Z</dcterms:created>
  <dc:creator>jcolarteb</dc:creator>
  <dc:description/>
  <dc:language>en-US</dc:language>
  <cp:lastModifiedBy>Arles Daniel Mayor Pachon</cp:lastModifiedBy>
  <cp:lastPrinted>2016-01-29T14:41:16Z</cp:lastPrinted>
  <dcterms:modified xsi:type="dcterms:W3CDTF">2016-08-01T15:14:37Z</dcterms:modified>
  <cp:revision>1037</cp:revision>
  <dc:subject/>
  <dc:title>PRINCIPALES RESULTADOS DEL MERCADO LABORAL JUNIO de 2012 Resultados Marco 2005.  Datos expandidos con proyecciones de población elaboradas con base en los resultados del Censo 2005  Julio 31 de 2012</dc:title>
</cp:coreProperties>
</file>