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D338-943B-484D-9C98-D357C69BB8C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2F5C-CFF8-4935-A92C-F3C5CDA9882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598D-5870-4558-A7A1-B5CC2E0AF2E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229A-C778-4C2E-B144-D539E59637E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A54D-333B-4F28-9432-EAB9464149D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6267-45DC-400C-A397-3F8E07EBFA9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3270-C0B7-4931-9358-8FE4D56E778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774E6-586B-48F5-8B52-037EA70EAD1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7E89E-9CD3-4FEC-80E8-5722669B157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B2E0D-901E-4BD6-B43C-C069D47C8DC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D734-7431-4027-AA82-26E98939C5A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EA0B-498D-4938-A637-0AE4D78857E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2DC3-0359-4F7F-816B-6DF1A20888B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8A0FAF-5092-4E58-824C-B7EC3BB8F0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6A5809-50C5-493C-BF41-CA3CE4FE0D0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17770D-5EAC-46DE-990B-92049EF9BFA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90B531-61C3-4B36-8EB6-FC9C97E7CF1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50F288-C367-45A4-8AA0-D5A3D13089D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38CBDB-5D88-4C3C-8FDC-7C44C17DA63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A7ADF0-B1F4-4873-8358-56FEFAD5946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D7E6DB-6466-4C94-9AC1-63819A34CCE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7EEBE5-8C22-4A73-A584-54BE6D76B08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B23940-D8A6-4122-A70B-489F35107BD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6C3135-4616-448A-B332-70A0355E07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47A2C0-52D2-4156-A73A-67E8DDD2783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3A68DB-C58A-460E-A189-7DF86697791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5DC95E-1993-4A1D-8C51-2CB097056B2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CD50BD-9958-43C6-AEB2-19051ED9F3E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A79739-B4C6-4A10-8FCB-847262573FB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F09B57-7D54-4915-89DC-D5357387919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78A81D-2E3D-4F95-9738-C64F3DAF6FA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748345-7E1F-456C-A805-4B4148C7BD1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1CEE70-3457-483E-AAA1-9079610CE98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A110FF-15F8-485D-B3CB-7819DAAF10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9C237-849D-4C41-AAEB-04791E8E312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825C9D-B808-4EE5-8973-8B8D1296A91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1AD57D-65E6-4E4E-91B6-B72DC778C74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503001-C61D-4C6E-AD8E-C347ABF46E1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C3EAF-8CCB-4B7A-8C9D-BE9DEF43167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443F6-0BB8-44DE-9334-71887053979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18A04-40BC-4DFF-AF55-99DC0D11848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A6736-04A1-4E55-B238-2679E791CE2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94081-5CA4-4F20-AE4E-43DBA5BF5BB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9D977-C0D4-43D9-BAB7-D01E773AC20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87CFB-0544-49A8-B47C-42D21FD771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0F183-0BF5-4542-8FEA-F604331938A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83A87-45F8-4A65-B1F7-1A2928A4AEB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C8904-8263-4834-9A94-D49AF36D286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1E2A5-FCD8-437E-A732-044FCDE3AC4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18968-1A44-4862-8F43-8C62E245182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D22EC-6BBA-48EC-9247-AC3AEF4FC22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E9AD0B-2484-407F-BC23-325613073D8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0B6FFE-3DE3-43F0-AB8C-1987ABC3A38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E48F5B-8729-4E0F-BA13-274A6262C91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A3FD8E-503B-4BE8-A264-2084ABEF252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9FDEE3-1733-49AF-A157-21A507B97A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E5C70-F3B8-42ED-9D2F-517AF50B894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6126CC-EE72-4945-87C2-210B0C4390C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C17093-3AAB-45DD-9FC4-234E8A9E39B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4A44CE-5438-4A94-BDF7-8FE70BAF44A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4C00DA-5484-454C-B733-3453D69DBB0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2D467A-C611-4018-A6F2-82DF76A03AC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1FE421-62A1-4602-9297-B185D56C594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45EE84-F85D-4006-B7E8-8486C180F2E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6E22EF-0CB0-4533-B427-5383E293F5F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BCA429-F6D9-48F7-884D-98E7D603942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80C2AC-CF56-4752-8AA7-0C6F64DC5E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A3C55-FAE7-4DFF-8852-64257491CFF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A23D01-B23D-426F-AC33-8277D386F1D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F71240-F10B-4651-972F-09F91C3E56D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462E83-FA79-41A0-A7F6-0B99DBF2116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B9FD2D-8DB8-478B-A71B-468A4178DB2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D4818E-839B-4F88-8FF7-E9A6D564556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362311-87D3-4208-B535-ECFDB19FC8C2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7FB0DC-CCAF-49A5-85E2-A11524C40AD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D38411-CDAA-4F08-A509-BD8A4C652D4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6F6898-67E6-4164-904D-D88C08B40A4A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846EA-3EAF-4C8C-BFE6-B3739ABFD4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0A69F-DA84-4621-BC71-956879AC5C3E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363A9-867B-4063-AEDC-3FDBC61D879E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480FF-A696-47BB-A1C7-64DA22BA3B2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01C92-FE70-4E33-8C1F-C42890D240B7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753F8-9547-497D-85B6-D647ADE2491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BB6BB-093A-48F4-BBE2-88229A81322F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0F6E2-892F-47A3-BB94-D23A4D66D15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EC861-CC53-4A60-9DDC-85DFAE2451A0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979E5-BB3B-4690-8C4A-CBAC92FB77F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8984D-4847-42E6-8E30-63CE499D1D5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6CF16-2368-41E5-A1A5-4607CA78D7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D2282-1542-41DB-BA45-E3019ECF109D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03197-5A47-45A4-AA05-A589F4534F0A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E9D3BC-1E3E-4833-B575-09FB121B21C9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E5F54D-6F67-404F-8E96-27171B64D9E5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C1C563-0832-435F-B982-2DBCF79F641C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381910-236B-410C-AF88-F6BC2D94E9F6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9893B2-40A1-4FA0-B30F-1F12F88313CC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81B260-D9C8-4A1A-914C-EBF46D55D998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A37865-E1F2-46BE-92AE-D13DDB3D58FF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FF48D9-6E0D-45BA-8BAE-6FD9893812CE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1C9EB2-60F2-4B2C-9D08-1A623DE624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160AD-53B0-457E-8A75-E6BCD277A8D8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76B3C7-596D-452D-9A3A-AA5DCD81F190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13421F-38C3-42E7-95D7-C5C5581AFB8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20103A-1C17-4D5A-9B8D-1FFEE7400251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9EA1A7-643F-4C8D-B92A-CA71206FBBB2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0BE3E6-FD2E-4B98-A522-E18234B198AD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DFDB68-BAD6-4213-A5BD-4B3EF049945E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96B56A-AA87-4A78-8688-970564ADE596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569BCA-1721-496A-8958-36DAE801B970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B586D7-FC4C-4BCE-98C0-0012AC0126A0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807AE2-7C2E-4C00-AA19-AB6B616296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3CE46-35F7-403C-A575-986C3B13FB02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1733AF-EC6A-4AB3-8908-A32D80DDEE45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8CBF02-13D9-4ED1-8559-B526838EDB11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626A85-14B5-4309-A8AB-18F797BCEA68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E19FEC-EF95-4173-9DA5-71640494BDCA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524AC2-6028-46AC-AD50-265496EACDCB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A5500-5ADE-440F-BA89-40F999049F4B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C4CE9-7ACF-4A72-AFC8-CB8104398EFE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DC8CE-EBE0-49AC-BE84-BEA5D329E6FE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7F771-0084-4617-A51D-CB9B27A0428C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E4740-734E-4E00-96FA-0EDB376CBA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5995D-12EC-4D23-B9C5-8AA72322CC30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DEE2B-897F-4C66-AFFD-444B3E97CD43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DBBDB-2C81-4407-9DD6-A192048904D4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6B2F2-895B-499E-8452-B26FE1CACFCF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886F9-69E0-4E29-8B62-417888AD6EC7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02753-2287-4E83-A1DE-0FCFD8B84F88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E6B00-96FA-4C7B-BE53-8C9F9A728DD9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2AD97-1AA0-49B4-8156-1EA413DBAA2E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AF1390-B567-4008-AD48-1B35384B0478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1BB36E-6231-4515-B19A-05763F16C2BF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9C3521-AEA6-4325-B886-E06CD133B1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F0D4C-D70D-4AFA-B008-D1FAC8EFC5E8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CE83ED-1291-4E09-B799-E4CFD02A8A73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2B5194-4693-405E-91FB-9AA18AFDA939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311D11-6B7B-4145-B66B-D1FE51F45694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5F09F5-A49A-4FC3-909F-18E234126102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78C199-70F1-4F40-B209-EFE90F64CC54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EEFE0A-40CC-4E21-AD0F-3885FC4938E0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20ADF7-0F8F-4D10-B287-1DC142D4202C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BD616E-80A0-437E-A0C2-1EEEF23683B4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5E2006-2B61-4EDB-A904-868F7663A003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BEA4D5-7FCB-4CEA-AE49-A0AA816D1D4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B6D18-A092-4223-8019-9AB70E4CBA86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BDDF41-22A6-447D-AADD-462106ED9909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8EAEC4-288B-42A6-8E2F-6DA81A7AF0AF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7CC472-8069-4CEF-A1A7-182E622134AE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4BA13F-9140-48B1-91A1-1F1E78040B13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7631CF-272D-4F3D-884B-816A0C3FAEBC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5F656A-A00E-4E12-AB6B-AF07FC68491D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DDBFAE-2337-4934-8EAD-F8165EDADE1C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B7D0D7-DEDA-4939-8C27-AE20D744C2F4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45B30B-8339-4F6C-84AD-CBC991DC252A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9DB09B-04DE-4433-859D-707D92C9A2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9F6F6-1F17-4108-8524-62D619F11588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4DFFD2-B4F2-44BF-A397-C9C172232D14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38130-B9F5-49D6-86E0-9F2C889E2274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AC591-7BE7-4072-B5AA-9C73B507F9E4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B88BD-9E3C-4A93-B659-2910FDFA43BC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7F533-BB2C-4D02-AE1E-DE95984A7A0D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016E3-C292-460D-ACF8-4672CAC75B0C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D0D2A-AA0F-47BD-8A80-0C7B18575636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AD587-8ADF-488E-9282-C0A31650982B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01AFF-9581-45D3-BC8C-5A6717683327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CF4B5-A0B2-433F-B8B4-C71D4754BE0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952A8-95B2-40E3-96F8-9C994DA09BDE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15850-0811-48A4-922A-6972E362D7AC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4A2BE-6703-483D-9840-76BC42FACB2B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743ECE-2758-488B-A01A-8AED8FF39779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E5E664-7144-415E-9AAE-C6CA4017EDA0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209302-6B96-4D11-B2EA-79F5D29EAF0D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2A67CC-B3FB-4F40-85FB-E417B79E5C4B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068B8B-ED96-48F7-BDA1-42358B81B1F3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23D98A-5CAD-45DC-97BC-554B603FF092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AA6DE9-05B6-4CA8-B865-E8A93D5F33D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814BAF-780D-46D3-8F5B-FAFCB56D1FF5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7C8DF7-E84D-4DDC-9BED-C89968FF427F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3A9CCA-B5DA-49F6-A7BF-6B3B551C551C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65FE55-18B2-4814-992A-035FCCCA8BB9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BF8769-86EA-42E3-BCC2-E1CDFA07587E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CC3B6D-D4FC-436D-8BBB-17AFB60C65CF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CD565F-F154-412C-9975-F9BDBF7B14AC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A91D3C-2706-49BD-AB76-7BE8B09EFED9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56C82F-4B20-4D1F-9E28-AA10B90B08D1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BC0F76-F98B-4016-9F2F-232000CB33D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69E06F-EFA2-484F-94C8-BF6603C16AAB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06F060-5C26-432D-9282-935128387193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B4B06A-5BCD-4DA4-86DA-315E42142980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155CEE-BCEF-4931-8E35-6E3B6E40A2C9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EA81D7-8B6B-4FEF-ABB2-811D1B1DDDC9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34516A-22D7-4C9A-97A7-CA0A8A928DF2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603189-DB20-4157-BA6D-6879B273244B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83963-29C3-499C-BE59-9378E54A328E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BCF9B-35AE-4EBB-BC69-22ACC55592BB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0AC4E-69C9-4A3A-8FD8-102DA607A18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9C2C7-7A5A-4B9D-A4B1-2A23E7A53E29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D769F-6021-4A63-98C7-F87E2A0A03B8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BC924-CC2E-437C-A685-3483F4D23030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931F4-F100-44DB-B608-A218640F45E7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94EFD-89BD-4103-9BC8-4826DF9BB635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E5C9C-892A-44DE-9EA5-DE32302FABF5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33116-4A79-42E0-9DE1-2CCD30CEB144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90180-26DE-49E1-A319-2429CC987B6C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BB1D5-F85F-423D-A159-6B50B22D5971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D7DF92-AC4D-4010-9029-C796D85A668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254F07-1691-4F80-BBFE-05AEEEABC28B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6CEDD2-7D83-446D-8937-F60F603E38EB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B54045-2E9E-4BC8-A12B-B0C5034AB8EB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B5034D-F63F-4D66-8685-1F9A04CFE17A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7D2363-2B77-4366-A5C7-AFC80B7D4EAA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F6B5C1-90AA-4457-8DB2-8AACF976324D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B573D3-075B-4CAD-835E-106179613FCD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BAE71F-D0C6-4323-BB99-3A4045ED4989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2AA6EB-4278-4AB5-A03F-AB9C6069196D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59F911-F81F-437B-9C02-7A59146631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2F2174-6ADF-4598-97E1-0704C14508F9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E0D396-38FF-453D-B371-394D42523765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21D389-AFA8-40B5-89C1-12937E9DFA00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42BDF3-18C3-4525-A078-C23D3D4A8287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32EC7F-0D71-4498-AEAC-6CBA2E914793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F4ABF9-CFEA-4146-86A8-89FD47730B2D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015B20-9A84-4512-A379-66EE668CF33C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D33F47-588A-40E5-B7BA-25C6AEF0A2A6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7A82A9-B103-4FEF-840E-FF94679BF44C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F049B4-2ECA-4CC5-AF33-6B373D4A785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AAD018-6D3E-45F5-AFBB-DA52850535C6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1ABB6A-F4A2-470A-BA9F-79E564E0DBB0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600598-2FA8-4FD0-B26F-8F81812C928C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54037-3E20-4C3A-AD85-04767074CB06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D180A-2DB5-4C39-9D6E-C2A6958D05F8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0391F-E360-409E-9878-D47B9B3D2363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7ACA3-9DF9-4309-95BC-E8B59B324588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0B735-BEB8-45C8-9E54-FD4AF668EA92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44363-DD32-4F3F-A14C-8E293C09E60A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94326-83D7-4429-946D-BD560CC7C62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88F43-1AE2-47E7-A4B6-01228812AF2E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073B1-4F59-4CC8-8170-9D5FF9EB0E4B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A4C89-F274-48C6-90B6-E7ABC21068D7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EEBB8-826F-48AC-A26D-CA1C82909627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AE2DF-0DDE-4D96-AFFA-4C6672938DC3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45896-809D-490F-B545-A257DBC6D7C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D30AB-602F-4942-A0AA-4D93E45E06B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03C89-AF9A-4EB7-8B1A-7EEA0E033A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E86CC-7D67-4FC1-9F61-FB0F5BC21B3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7F9D8-2884-44BB-9453-F8F5511338E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E6BEE-07AC-4296-9E93-2767B49C53C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62759-FF48-476B-99AB-3BACD710FB1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89899-6740-40B4-A635-AF519ACE469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B82BB-3E46-45D0-9D20-CD9DB2B6B0D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B3E43-F011-4221-9182-DE5545CBD80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371E9-B314-4485-93BD-0B84E6A8A8F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FBF93-B36A-47C9-BE77-E247898EA4F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51E6-6B35-4113-9974-66FD00CF091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4B77-1E91-4998-8C1D-C1714B9BE32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575A-EECF-4675-A661-1E3A45377D0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EC3A-76B4-44DE-8F37-80ED1EE67CA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9C53-C1F7-4F64-8F33-6D5430CCF7B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F554-4CA7-48FA-AB15-356EBC1A0BF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0F8E-D9A2-49A7-97B0-D9B4AE0B7CD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194D-C656-43A1-B5B5-931956C7E2B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5724-6510-4DEA-94B4-9FF2CA0883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CBA5-4B46-414A-B5C0-A3827F5F518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3357-BB4C-4616-AAA2-B926B8BCB50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6D19-29C7-41D4-B1A6-F133BA80117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61E07-3DEF-488E-87CC-DA2CE7ECAF1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74E52-B38E-483F-BA09-B8FB31B3DA4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612A9D-752D-4204-A94F-7A7621F56F7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A89B00-0BAD-4C03-B9A3-F420B541463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DC6F65-BE8C-4F10-BC4E-0B9BE35603D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11D26-ABB6-4A02-9AE4-59FB7BB493B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87ACF2-941C-4C45-8E4F-1BF696D03E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5A9B6-47CF-406C-9E30-31A5D18BD65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EB81C-6B5F-4380-A269-4AA81A1B062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D4F85-212B-4DCB-844F-B507C23586E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BD72A8-869C-4772-A5D0-C640F8F54A0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BB051-4D66-447C-B77D-BCF0B784E91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ABDE4-E705-4F22-87AE-6BDE31E2837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7038B-365C-48F7-B6E2-6631BA48992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40FBD-0ABA-4C8D-8C02-F383EDFCDB9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25B3F-A762-4771-879A-979ED431C78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9E6BAB-1383-47F6-8243-7380ED6E50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CFFC41-D3FE-4241-8D6D-6593CB075E0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E4FA32-298D-49D0-A2B3-4A4AAA540AA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3A90C-C4FE-4B1E-8119-2A4111051C8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0F3E49-8536-4DCF-9D53-17A127B5366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754EA-D1DD-4AE8-B787-F28D74C3957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76920-E6C8-401F-B780-7D0DBB09E2A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96720-2DAB-4FA9-935E-CB99A0ECB18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F6CC-F4F5-4547-8430-7E61E739165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7ABA-41B0-41CB-8FFB-87440F7F983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2F10-D95F-4301-B398-35F92A7919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rcRect l="0" t="0" r="920" b="17297"/>
          <a:stretch/>
        </p:blipFill>
        <p:spPr>
          <a:xfrm>
            <a:off x="-36360" y="6105600"/>
            <a:ext cx="9180360" cy="779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075A-280C-4E92-AE81-12AEF1CD2896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8ED8-F072-4837-A4A1-FA3245E16E59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D125-D3A0-4626-958E-30C385C2FA2B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DC22-9870-424F-ADE1-E114F949D2C8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171B-9D8A-4FC7-BE45-AA31C2C310E9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1C60-3E13-4946-B612-BBAC1F60BBB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82EFD-A18B-4D12-9D49-D1843D1E420B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BD20-AE9B-431D-A024-19A85049CE74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44EC-42D8-4231-B1CE-1D8506481679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34D1-4680-4651-BFF4-D111E71E7E0A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AB5C-EE37-4732-85D0-B5FCD6638282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7A878-E83B-4C05-8342-7C07C06D1EF5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E5AF-F9BC-4A01-A275-0FA120D59D7B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58DF-0FB6-4F19-9A66-4C2D8289205D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57CA-2AA5-4704-B1EB-5D554D861F0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9F8E-CF35-40D7-9D14-EA180A8B7E4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CE52-A9C3-4505-9039-0261FF85CC1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4442-B76F-4876-996E-B28DCF8EDAC3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772C-7BA1-4675-B0E0-45F900E7A11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5963-43ED-420D-93DA-6269E5CBC86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266C-4BD1-4982-870B-3CAAB3EC0DAB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2B79-36A7-405F-9D72-E5AE2FEA3FE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0E00-8CC4-43D1-93E4-4CC9FD72D9E3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6F90-4734-4E55-9912-CD8812A62BA5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0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859200"/>
            <a:ext cx="408600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Calibri"/>
              </a:rPr>
              <a:t>Pas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Calibri"/>
              </a:rPr>
              <a:t>20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Bogotá D.C., agosto de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Text Box 3"/>
          <p:cNvSpPr/>
          <p:nvPr/>
        </p:nvSpPr>
        <p:spPr>
          <a:xfrm>
            <a:off x="1244520" y="573120"/>
            <a:ext cx="68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5 CuadroTexto"/>
          <p:cNvSpPr/>
          <p:nvPr/>
        </p:nvSpPr>
        <p:spPr>
          <a:xfrm>
            <a:off x="672840" y="5300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Text Box 4"/>
          <p:cNvSpPr/>
          <p:nvPr/>
        </p:nvSpPr>
        <p:spPr>
          <a:xfrm>
            <a:off x="0" y="5516640"/>
            <a:ext cx="925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*Otras ramas: Agricultura, ganadería, caza, silvicultura y pesc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suma de las participaciones puede diferir de 100%  por la no inclusión de la categoría “no informa” y por efecto de decimales.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0" name="1 Imagen" descr=""/>
          <p:cNvPicPr/>
          <p:nvPr/>
        </p:nvPicPr>
        <p:blipFill>
          <a:blip r:embed="rId1"/>
          <a:stretch/>
        </p:blipFill>
        <p:spPr>
          <a:xfrm>
            <a:off x="898560" y="1557360"/>
            <a:ext cx="756900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Text Box 3"/>
          <p:cNvSpPr/>
          <p:nvPr/>
        </p:nvSpPr>
        <p:spPr>
          <a:xfrm>
            <a:off x="1728720" y="55548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Text Box 4"/>
          <p:cNvSpPr/>
          <p:nvPr/>
        </p:nvSpPr>
        <p:spPr>
          <a:xfrm>
            <a:off x="382680" y="5457960"/>
            <a:ext cx="78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Otras ramas: Agricultura, ganadería, caza, silvicultura y pesc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5 CuadroTexto"/>
          <p:cNvSpPr/>
          <p:nvPr/>
        </p:nvSpPr>
        <p:spPr>
          <a:xfrm>
            <a:off x="891360" y="5254560"/>
            <a:ext cx="1360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5" name="1 Imagen" descr=""/>
          <p:cNvPicPr/>
          <p:nvPr/>
        </p:nvPicPr>
        <p:blipFill>
          <a:blip r:embed="rId1"/>
          <a:stretch/>
        </p:blipFill>
        <p:spPr>
          <a:xfrm>
            <a:off x="1060560" y="1706400"/>
            <a:ext cx="7134120" cy="35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7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98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– junio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Text Box 3"/>
          <p:cNvSpPr/>
          <p:nvPr/>
        </p:nvSpPr>
        <p:spPr>
          <a:xfrm>
            <a:off x="1312920" y="557280"/>
            <a:ext cx="68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5 CuadroTexto"/>
          <p:cNvSpPr/>
          <p:nvPr/>
        </p:nvSpPr>
        <p:spPr>
          <a:xfrm>
            <a:off x="617400" y="5157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2" name="1 Imagen" descr=""/>
          <p:cNvPicPr/>
          <p:nvPr/>
        </p:nvPicPr>
        <p:blipFill>
          <a:blip r:embed="rId1"/>
          <a:stretch/>
        </p:blipFill>
        <p:spPr>
          <a:xfrm>
            <a:off x="952560" y="1778040"/>
            <a:ext cx="7734240" cy="3300480"/>
          </a:xfrm>
          <a:prstGeom prst="rect">
            <a:avLst/>
          </a:prstGeom>
          <a:ln w="0">
            <a:noFill/>
          </a:ln>
        </p:spPr>
      </p:pic>
      <p:sp>
        <p:nvSpPr>
          <p:cNvPr id="1303" name="Text Box 4"/>
          <p:cNvSpPr/>
          <p:nvPr/>
        </p:nvSpPr>
        <p:spPr>
          <a:xfrm>
            <a:off x="71280" y="5373720"/>
            <a:ext cx="8748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*Trabajador sin remuneración :  Incluye al Trabajador familiar sin remuneración; trabajador sin remuneración en empresas de otros hog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Text Box 4"/>
          <p:cNvSpPr/>
          <p:nvPr/>
        </p:nvSpPr>
        <p:spPr>
          <a:xfrm>
            <a:off x="34920" y="5589720"/>
            <a:ext cx="8748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^Trabajador particular incluye jornalero o pe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Text Box 3"/>
          <p:cNvSpPr/>
          <p:nvPr/>
        </p:nvSpPr>
        <p:spPr>
          <a:xfrm>
            <a:off x="1787400" y="51264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8 CuadroTexto"/>
          <p:cNvSpPr/>
          <p:nvPr/>
        </p:nvSpPr>
        <p:spPr>
          <a:xfrm>
            <a:off x="1053360" y="5157720"/>
            <a:ext cx="146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Text Box 4"/>
          <p:cNvSpPr/>
          <p:nvPr/>
        </p:nvSpPr>
        <p:spPr>
          <a:xfrm>
            <a:off x="71280" y="5373720"/>
            <a:ext cx="8748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*Trabajador sin remuneración :  Incluye al Trabajador familiar sin remuneración; Trabajador sin remuneración en empresas de otros hog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0" name="1 Imagen" descr=""/>
          <p:cNvPicPr/>
          <p:nvPr/>
        </p:nvPicPr>
        <p:blipFill>
          <a:blip r:embed="rId1"/>
          <a:stretch/>
        </p:blipFill>
        <p:spPr>
          <a:xfrm>
            <a:off x="1293840" y="1773360"/>
            <a:ext cx="7004160" cy="3305160"/>
          </a:xfrm>
          <a:prstGeom prst="rect">
            <a:avLst/>
          </a:prstGeom>
          <a:ln w="0">
            <a:noFill/>
          </a:ln>
        </p:spPr>
      </p:pic>
      <p:sp>
        <p:nvSpPr>
          <p:cNvPr id="1311" name="Text Box 4"/>
          <p:cNvSpPr/>
          <p:nvPr/>
        </p:nvSpPr>
        <p:spPr>
          <a:xfrm>
            <a:off x="71280" y="5661000"/>
            <a:ext cx="8748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^Trabajador particular incluye jornalero o pe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4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– junio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Text Box 3"/>
          <p:cNvSpPr/>
          <p:nvPr/>
        </p:nvSpPr>
        <p:spPr>
          <a:xfrm>
            <a:off x="1133640" y="711360"/>
            <a:ext cx="68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inactiv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tipo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5 CuadroTexto"/>
          <p:cNvSpPr/>
          <p:nvPr/>
        </p:nvSpPr>
        <p:spPr>
          <a:xfrm>
            <a:off x="691920" y="4869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Text Box 4"/>
          <p:cNvSpPr/>
          <p:nvPr/>
        </p:nvSpPr>
        <p:spPr>
          <a:xfrm>
            <a:off x="444600" y="5354640"/>
            <a:ext cx="850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categoría “otros” incluye: Incapacitado permanente para trabajar, rentista, pensionado, jubilado, personas que no les llama la atención o creen que no vale la pena trabaj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0" name="1 Imagen" descr=""/>
          <p:cNvPicPr/>
          <p:nvPr/>
        </p:nvPicPr>
        <p:blipFill>
          <a:blip r:embed="rId1"/>
          <a:stretch/>
        </p:blipFill>
        <p:spPr>
          <a:xfrm>
            <a:off x="971640" y="1123920"/>
            <a:ext cx="73454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5 CuadroTexto"/>
          <p:cNvSpPr/>
          <p:nvPr/>
        </p:nvSpPr>
        <p:spPr>
          <a:xfrm>
            <a:off x="545760" y="54133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Text Box 3"/>
          <p:cNvSpPr/>
          <p:nvPr/>
        </p:nvSpPr>
        <p:spPr>
          <a:xfrm>
            <a:off x="1133640" y="620640"/>
            <a:ext cx="6875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roporción del empleo informal en la población ocupa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otal 13 ciudades y áreas metropolitanas y Past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 abril – junio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(2015 – 201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3" name="1 Imagen" descr=""/>
          <p:cNvPicPr/>
          <p:nvPr/>
        </p:nvPicPr>
        <p:blipFill>
          <a:blip r:embed="rId1"/>
          <a:stretch/>
        </p:blipFill>
        <p:spPr>
          <a:xfrm>
            <a:off x="1935000" y="2063880"/>
            <a:ext cx="530568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5 CuadroTexto"/>
          <p:cNvSpPr/>
          <p:nvPr/>
        </p:nvSpPr>
        <p:spPr>
          <a:xfrm>
            <a:off x="703080" y="50472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cc0066"/>
                </a:solidFill>
                <a:latin typeface="Calibri"/>
                <a:ea typeface="Calibri"/>
              </a:rPr>
              <a:t>Pas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6" name="1 Imagen" descr=""/>
          <p:cNvPicPr/>
          <p:nvPr/>
        </p:nvPicPr>
        <p:blipFill>
          <a:blip r:embed="rId1"/>
          <a:stretch/>
        </p:blipFill>
        <p:spPr>
          <a:xfrm>
            <a:off x="1042920" y="3716280"/>
            <a:ext cx="7058160" cy="1800360"/>
          </a:xfrm>
          <a:prstGeom prst="rect">
            <a:avLst/>
          </a:prstGeom>
          <a:ln w="0">
            <a:noFill/>
          </a:ln>
        </p:spPr>
      </p:pic>
      <p:pic>
        <p:nvPicPr>
          <p:cNvPr id="1327" name="2 Imagen" descr=""/>
          <p:cNvPicPr/>
          <p:nvPr/>
        </p:nvPicPr>
        <p:blipFill>
          <a:blip r:embed="rId2"/>
          <a:stretch/>
        </p:blipFill>
        <p:spPr>
          <a:xfrm>
            <a:off x="1071720" y="1484280"/>
            <a:ext cx="70419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1 CuadroTexto"/>
          <p:cNvSpPr/>
          <p:nvPr/>
        </p:nvSpPr>
        <p:spPr>
          <a:xfrm>
            <a:off x="684360" y="333360"/>
            <a:ext cx="78483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Nariñ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An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2007 - 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4 CuadroTexto"/>
          <p:cNvSpPr/>
          <p:nvPr/>
        </p:nvSpPr>
        <p:spPr>
          <a:xfrm>
            <a:off x="1048320" y="5695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0" name="1 Imagen" descr=""/>
          <p:cNvPicPr/>
          <p:nvPr/>
        </p:nvPicPr>
        <p:blipFill>
          <a:blip r:embed="rId1"/>
          <a:stretch/>
        </p:blipFill>
        <p:spPr>
          <a:xfrm>
            <a:off x="1039680" y="1700280"/>
            <a:ext cx="712476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– junio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Rectangle 1"/>
          <p:cNvSpPr/>
          <p:nvPr/>
        </p:nvSpPr>
        <p:spPr>
          <a:xfrm>
            <a:off x="0" y="763560"/>
            <a:ext cx="4643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654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Pasto</a:t>
            </a:r>
            <a:r>
              <a:rPr b="1" lang="es-ES" sz="1600" spc="-1" strike="noStrike">
                <a:solidFill>
                  <a:srgbClr val="cc0066"/>
                </a:solidFill>
                <a:latin typeface="Calibri"/>
                <a:ea typeface="Calibri"/>
              </a:rPr>
              <a:t>  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5 CuadroTexto"/>
          <p:cNvSpPr/>
          <p:nvPr/>
        </p:nvSpPr>
        <p:spPr>
          <a:xfrm>
            <a:off x="617400" y="45608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4" name="1 Imagen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786600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5" name="1 Imagen" descr=""/>
          <p:cNvPicPr/>
          <p:nvPr/>
        </p:nvPicPr>
        <p:blipFill>
          <a:blip r:embed="rId1"/>
          <a:stretch/>
        </p:blipFill>
        <p:spPr>
          <a:xfrm>
            <a:off x="2916360" y="477720"/>
            <a:ext cx="5808600" cy="5615280"/>
          </a:xfrm>
          <a:prstGeom prst="rect">
            <a:avLst/>
          </a:prstGeom>
          <a:ln w="0">
            <a:noFill/>
          </a:ln>
        </p:spPr>
      </p:pic>
      <p:sp>
        <p:nvSpPr>
          <p:cNvPr id="126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Text Box 3"/>
          <p:cNvSpPr/>
          <p:nvPr/>
        </p:nvSpPr>
        <p:spPr>
          <a:xfrm>
            <a:off x="179280" y="2357280"/>
            <a:ext cx="2737080" cy="14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0066"/>
                </a:solidFill>
                <a:latin typeface="Arial Narrow"/>
                <a:ea typeface="Calibri"/>
              </a:rPr>
              <a:t>Abril – Junio 201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3 Rectángulo"/>
          <p:cNvSpPr/>
          <p:nvPr/>
        </p:nvSpPr>
        <p:spPr>
          <a:xfrm>
            <a:off x="2836800" y="4365720"/>
            <a:ext cx="5905440" cy="16488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Text Box 3"/>
          <p:cNvSpPr/>
          <p:nvPr/>
        </p:nvSpPr>
        <p:spPr>
          <a:xfrm>
            <a:off x="14414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Text Box 3"/>
          <p:cNvSpPr/>
          <p:nvPr/>
        </p:nvSpPr>
        <p:spPr>
          <a:xfrm>
            <a:off x="1428840" y="711360"/>
            <a:ext cx="6408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ast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Abril – junio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 (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2007 – 201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5 CuadroTexto"/>
          <p:cNvSpPr/>
          <p:nvPr/>
        </p:nvSpPr>
        <p:spPr>
          <a:xfrm>
            <a:off x="758520" y="5614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4" name="1 Imagen" descr=""/>
          <p:cNvPicPr/>
          <p:nvPr/>
        </p:nvPicPr>
        <p:blipFill>
          <a:blip r:embed="rId1"/>
          <a:stretch/>
        </p:blipFill>
        <p:spPr>
          <a:xfrm>
            <a:off x="500040" y="2092320"/>
            <a:ext cx="807552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Text Box 3"/>
          <p:cNvSpPr/>
          <p:nvPr/>
        </p:nvSpPr>
        <p:spPr>
          <a:xfrm>
            <a:off x="992160" y="549360"/>
            <a:ext cx="714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asa de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ast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s móviles  2012-201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5 CuadroTexto"/>
          <p:cNvSpPr/>
          <p:nvPr/>
        </p:nvSpPr>
        <p:spPr>
          <a:xfrm>
            <a:off x="2139840" y="5445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7" name="1 Imagen" descr=""/>
          <p:cNvPicPr/>
          <p:nvPr/>
        </p:nvPicPr>
        <p:blipFill>
          <a:blip r:embed="rId1"/>
          <a:stretch/>
        </p:blipFill>
        <p:spPr>
          <a:xfrm>
            <a:off x="1457280" y="1782720"/>
            <a:ext cx="621036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4"/>
          <p:cNvSpPr/>
          <p:nvPr/>
        </p:nvSpPr>
        <p:spPr>
          <a:xfrm>
            <a:off x="1908000" y="620640"/>
            <a:ext cx="489600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ast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Abril – junio (2015 – 2016)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9" name="1 Imagen" descr=""/>
          <p:cNvPicPr/>
          <p:nvPr/>
        </p:nvPicPr>
        <p:blipFill>
          <a:blip r:embed="rId1"/>
          <a:stretch/>
        </p:blipFill>
        <p:spPr>
          <a:xfrm>
            <a:off x="552600" y="2492280"/>
            <a:ext cx="82245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1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2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4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5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– junio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7T13:39:03Z</dcterms:created>
  <dc:creator>jcolarteb</dc:creator>
  <dc:description/>
  <dc:language>en-US</dc:language>
  <cp:lastModifiedBy>Andres Felipe Virguez Clavijo</cp:lastModifiedBy>
  <cp:lastPrinted>2015-06-02T14:27:28Z</cp:lastPrinted>
  <dcterms:modified xsi:type="dcterms:W3CDTF">2016-08-04T14:21:57Z</dcterms:modified>
  <cp:revision>1001</cp:revision>
  <dc:subject/>
  <dc:title>PRINCIPALES RESULTADOS DEL MERCADO LABORAL JUNIO de 2012 Resultados Marco 2005.  Datos expandidos con proyecciones de población elaboradas con base en los resultados del Censo 2005  Julio 31 de 2012</dc:title>
</cp:coreProperties>
</file>