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70D2-25E9-4671-A3B3-041F77B53A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DC1A-512A-47FE-81C4-3067C0DD599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7078-EAAC-4A6E-A41A-F1F13D50CB7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2134-3CF7-41BF-BA81-FB3EB71455E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FC11-005F-4C09-B13C-95DFA1AB767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A795-3E96-401F-BF33-DDAE0022D2D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874D-03C4-4318-AD8B-22A44D1CB75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51D7-43D3-4FFC-8DC7-A0BABDE1348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58E8-9F58-411F-B1D4-FF389585F0F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668A-7774-4FA2-84CF-1837E36AC20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4F96-65BC-4C9C-AC34-E4544697520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41E6-36DD-4CFC-B897-8FBBED6C103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8CB4-CC07-4B41-88E5-C02B10EA3F9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FC9A-1FB5-4758-8996-4097CEB80F8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6E51-042B-401E-B4D0-F8DC052F7C9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B6030-D54F-452C-A519-4B4D3F986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343F0E-70C7-46FF-AA91-4F0D3895D7B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8E3B1-D015-4878-9BB5-20C43E9E404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14597-4D3B-4785-BB14-47716396A4D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AB725D-12E4-4175-8EF4-AE53512DFD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44022-0950-4F34-A773-650B020110D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8D45A-B9E6-4898-AC48-247AD546314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12D22-D837-4CB8-A49F-3D86BED768B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E484E-55E0-4851-BA1A-DFD1FFD897C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0E353-C80D-41AF-A2CA-E102871CC4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0B19A-6137-4385-9A6B-461355807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A9854-29BC-46F3-8FFD-1750A7D23CC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0911E-B959-49BC-B670-08BADB79D91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7F4C2-08EA-42F2-AE22-F2BF94F6BF1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05729-A3D0-4FB2-BF2E-75A12CC294E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304EB-476F-4AE3-A2EF-21E28D5C699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15950-86EB-45BF-9ECB-C2769BB9614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02117-3B5D-4BCB-BB26-7BE5394A9B7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E87E1-62B1-4B3F-A3C3-AC683118C04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BBFD4-09A0-4328-9334-E6F66381E99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123C4-8F6E-4F47-B295-A22B841B4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EDE0-4B5B-452D-8791-1BC866587F5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BB7C8-5110-4C2E-A29A-5DA2B0FDF0F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508C5-E3D4-45EF-880C-048ABF7CD13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4D453-BB66-40C0-9452-0AFE0F917F5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1AA0F-3D37-4B10-8539-35EAC7D9D0C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E84F1-97CF-4AF5-9E83-1A37B4A982C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F9DD-F555-4A57-AB21-F28D65CDFD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DF8D-D7F9-4DD4-8ABD-1BD51CFFE9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A8F6-5370-46C1-B7F7-B5BD629BB3E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694C-7954-4588-8F81-6FA561AD8AD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95D2B-15B2-44F4-9A02-A8DD65E9D7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772E-BB8D-4A0C-AA5F-CBEB48DE6A4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81CD-5C50-4A88-9742-BF7D491BB92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437F-E4FB-42DB-9C5A-37F29F4B028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830AF-A0BD-4E74-8128-CA25D281022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FDD8-0D95-4C7B-8CC8-1B0494D1201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04D6-AFE1-4FB0-AA3C-A506D0DEB5C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B47FE-915F-4A9B-96A0-739452056C5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766C8-379D-4426-AB6E-BE0D0BC848F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CB9CB3-97D9-495A-BC5C-4C06E6966A5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73D55-DFEF-45A3-BA47-57297CB5404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8C00D-5DC0-4BC1-BF2A-2886608247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80FF-22A1-4FC3-9620-BA48F0BB396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FFA975-E322-48E8-B564-E3E421AC9B5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A52F7-C09B-47EA-85E1-342F95B5256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03EFF6-53DC-471B-8ED4-BF5E67AACFE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EC5DD-BDBB-48D8-A5D8-22EC9133311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104B8-4556-4CB0-82FC-7585ABEA231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C47A3C-BB6C-4002-AD07-974B63D3E80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65E35-D054-436F-BAF8-48315CFDEEB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E0A34-DC13-4F11-A813-755450B7DC7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7C3DD-510D-48D4-A0C0-92B0E66CFFA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C62C0-A194-47BE-9B4C-FCBCE26DEE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E95C-E1D2-40F9-AB74-28F4535B5C7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B8DB1-AB7B-40A3-93BF-4BFB913B54C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F2786-0055-483F-9609-B05063713C4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2095D-E34B-421A-917F-BF439FD311D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A4A59-AF84-495B-A582-4279D25969A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654AF-B0C0-411B-A1CA-E0F08803DC8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FFAC7-699C-4A62-90CF-CD2199D755A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453D8-151D-4F97-B9A2-DE0A9CDBA64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967D1-5587-461A-9868-4791D6284A2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FE8C2-20CE-4532-9B2F-8283697409A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BF08-1620-4A44-AB80-E8CCC37B08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FB3D-F0AB-41DD-929B-024573AD779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B71F2-62B8-4A44-857C-140B7DA0DC7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E64DF-CFE1-4FF5-BAE2-CAB5D022374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C45E-12CB-4B5D-AD88-E8B9C1825DF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0AFFC-AFED-4083-9BC3-82B2A081436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88C8A-4987-4420-902A-6984C47979F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EA70-23AF-4A9D-AE76-DE9C30E183B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FA556-BDAB-45C1-ADC5-083FFBBB31B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8EF7-B8F2-444D-B39A-F94B4694A7A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6074C-BF1D-4806-8623-A52413A4E8C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6E178-5555-4D41-A141-5CD9476975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A10E-08BE-4765-AA40-E102DB7BF3B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3ACF-0D60-4455-9666-B27F2E81E65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270762-F73F-4B5C-9D42-C75679A631A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56D8F8-55E2-4912-8770-E6BE3979252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4EB108-D30C-481D-B9E3-C5B6816F3D3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32A4A0-C56D-410E-849E-B0E8C6C0F44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8061ED-ECAB-4B5C-9FB4-A6215A045D0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AF38DA-FBCA-4178-9E40-E1D86392513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86F6E3-A89C-4A8C-80D8-6D5F1F9E23D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48222D-7719-4C6D-BD33-910F41CA7ED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5B2F62-127E-49DA-B394-5C418D214E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84CD-CA02-4229-B781-3099D66BE53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78D9F5-82C2-4EE9-A64C-EFB7238D73B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1178EB-97B6-42AC-88F3-A1670D22360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37957B-FA74-4CC3-AE4A-AEF7D3B2243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69D21-E9ED-4B2D-B37C-2876E89DCBC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CFC5B-3943-4AF3-A21A-70E2F6972E5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6FF42-0D08-4F71-8C3F-0133291B586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91A66-8083-4A2E-9BB0-C82C1DB50C0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7AA3F-F15C-4ED4-8707-77FAA9A90BD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CC674-07CD-48E2-859D-CE410E101F7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10EAF-7ED8-45E8-AB5C-6103E754B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35CA-ECA9-4F20-8059-AA3959AA135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C0D90-28F4-427E-8081-3A16F4F1F52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69AA9-0906-46CE-A55D-5D017A256C2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79315-E108-4FB1-8166-A8A45CA24E8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48514-49CD-4AE7-BC66-88B950FFA4C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EBBAC-15DD-4DA6-8FCD-AEBE718B72D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1F5DA-C1F1-4B78-A62B-782BD8BA08A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34A9B-045C-4985-895D-411E0C294EC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BD77-8692-44DE-8457-86B0F15805F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B8E4D-6EBB-4783-AD8C-296CF0244AF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DDD8-0F41-4BFB-B2AF-5B3FC2895F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6D67-EC79-4199-9281-D2B91B35409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497EB-2A21-48FB-8FF0-2F3424C8748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9D565-3E76-42ED-A411-4F840E105EA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A5CE1-5299-4792-B921-A854F318AF4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ED67A-E82E-42E9-95DD-0197F8100AE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4B8C4-C561-43B6-A9AF-215B68D63B1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117B-EA39-47CF-BF99-6F58CF952CE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3AAEE-BF35-4493-9C35-912E1FFC8D9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11A1B0-5A01-413B-AEF9-38BCD2B6089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090512-9C1F-4D35-A42C-A8764DFA49A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2E65BD-A471-4F61-818A-BCBC720C05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98FA-BEBE-4312-AD6A-50328BFDB61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BFA48C-A2FC-4031-A7F9-B8B40E9B701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FF12BB-3C29-4A2F-999B-6B24CAFF141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027A6C-D32E-4083-B8A8-258A33D8B48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82AA0B-4049-48D5-B2FA-9D8E70935F0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3088F5-37E2-4520-A817-4D304F7F3FE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EC9C0C-5955-494D-8F87-DE128C39CB2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F76793-7035-4FF1-8163-8B9FC8807B2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BDACA8-92B8-46F7-908C-4A94D794E07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80C0F1-914C-4ECF-994E-D72821BAA18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EBA4D-7850-4FA3-A658-F528FE495F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5E61-026F-4E93-A07D-82B0F1C8646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5208C-B388-428D-BAD4-DF6DADCCFAA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651FE-A4D7-416A-9CFA-6A1175A12FE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1333C-909B-46C5-A5E4-2FF3BD69E30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32E9E-599A-4F6E-9B88-F9D6BA2578E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68FED-07BD-4502-8037-13365C76BE3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06264-0772-4F87-BA63-9B2EC9D2261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06782-B985-4CE6-81E5-F957CE5EFB1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A019D-A0B9-496D-92A2-4044513DEC9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27997-0058-4E09-8D88-CF3485AA6F7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F35DE-77B7-45B7-BA4F-719DD3C821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E4A6-78B4-4582-8224-F35E9C76854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479F3-2A7E-4203-AAC3-8200C26F8F1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E4AE8-6035-481B-9934-A054BFC6DB8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B24D6-8BA8-4B41-B589-050914BF67D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C5F66-313B-434F-BA9F-FBC7AC8547C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D3C30-217A-43FA-89BB-9F87563B362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B6ECC-7ED7-485A-B441-E97F89072CD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E48F6-7A26-4509-99D7-F65E236A949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31CA-6CE6-4C1A-AC4B-F7A22BC6756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6D8A-9D65-452B-B8FC-A53A427EF9B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B2CD1-D9C8-4C62-9A28-BE5E05C307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F637E-B5DB-4F70-B567-DFE872EB4FE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8D3E7-7433-4E8D-AEFE-B9E9E9DE4CC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C9539-192E-47BF-A2BA-8F4CD1C0AEB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8E6E65-A710-41FE-BFC7-6C0C97B0E2C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C3B48B-9B8C-4FF0-926E-BB6DC0FCF90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5786E2-1396-4223-B7ED-1B8CFFE1AFA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22DD8A-F69B-4872-9972-592753B6FB9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55FB8C-6B74-4233-9D2E-3C9CED525D1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6C741A-0EA1-432B-A155-CEE575BD66E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5A1ED3-B4CC-4A48-997E-BA44DF7F5B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4C94FD-31C3-4D1E-A318-3DCB7770C85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134B96-01DD-4882-8BB9-152004C1713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CDF151-39E0-4B8E-B03B-761323E5EFB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F18477-2F6E-4090-94DA-7E43C9BF854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7B994D-597C-4C96-97AC-032CD70A6DF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AF1B4-C49D-4EFE-8806-CBEB4BBA280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4BDC6-7F30-4757-A00A-D01C27DB5AC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D8BC0-006F-4A03-953E-32B78879EDD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E98224-FC6E-454F-95C2-EC698A39553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8D933-B5DF-4298-BE84-E9ACAA6D2A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A3915-8E95-49F8-A6A8-7C0D6D3AA76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E02F0-8B57-42AE-8FE2-A6FFA78954E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70672-CBA8-4CE6-9B3B-F04CD5CB883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D694B-1413-436C-BAE2-2CA7B607F32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D4F4C-B2BB-4F70-9BDD-05433654996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BA328-9B01-47BB-8F33-ADF518FECEE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52B3C-F9D0-46D2-9223-1EE2D34BC51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24043-7C81-4CA9-8A01-BEF050A1290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BA17B-FF7D-4FAD-B723-F77AADB1D5E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D776-5A8D-4331-A408-C6672904AF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B2E04-FBC5-434E-875C-2495E855C89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78783-E3E8-474E-BFDA-AC674862D37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75F33-E38B-47BF-BC52-40BCA36DB81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60012-5366-49C7-B765-FF0DDF3E30B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2B55A-79A0-498E-8B6B-DFDC510AB4C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57FA5-E724-4246-890C-6DFA83A0063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DC475-2DCD-4607-A055-901B2CC8AF9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692AE-318C-4107-ABFE-D35A327E973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5B9E7-52BE-407B-B6E7-49F7B59C0A7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F265D0-20CA-4106-B3B5-B0BB6391E3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EC2608-A3A2-4EB7-8DBA-D8D5F204121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3029E9-DD14-440A-B511-E3C9FC8CE30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780D10-392B-4E62-80C6-75909835181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A07C36-0C7E-4583-A2F8-35FD7AED3E7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AC8FE2-5351-416F-BA2B-CE9E9D16DCD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B1EE47-BB48-4405-951E-AAA7F6053F1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D6077E-2006-449D-867D-5DE477E0E21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AB040F-F124-42E2-B34F-7039C7AB264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FA3670-4E73-4709-8FC5-2B54E6611B4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4BAF9-698A-49A5-9CDE-5C7B651C85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033743-89F2-4507-A8CA-AB5621D28AA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6E3F09-368A-4E4C-AD88-B1FB4EA501E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29E8D4-566C-48A5-89B5-67496850D7C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E153D-5AA9-420A-BA9F-B8289586FA1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923C1E-5474-4823-9591-A288D3A1B84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225FE-7179-4429-98AA-C418DDE047B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56F59-1176-4E78-B860-C9EB506EC0B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C8A407-F56D-4BBF-851B-A33E628D7AF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DC7A23-D847-4949-90FB-E41621D3E86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5F9A9F-8EB2-4402-87BB-61A6870B5D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9501C-4459-4794-8EE5-2479975DA95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EB1C2A-1B9B-4A0B-A9FB-2E9BA053971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504A63-C267-4E2D-82B4-3DF45242FA1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7C5D2-3E5F-4806-A778-C449BCFDAD9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0BF3F-90F0-44EB-A4B8-91EEC876226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52393-FE6B-45A6-8D5C-08CFE28738B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020EA-A614-432A-AE02-0D4942A3923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C5395-EF03-4C0E-AD5E-BE8B01F57F7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2EDDA-8C2B-4F3A-A677-65ABC554389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3B138-0F1C-45FE-8C44-5F00B63B83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F1972-81DB-4529-A60C-2D0F3E429598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30B44-7C84-4661-8A9C-BF0EA773884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C12EE-4C13-46D7-90F5-9EB86B2AB99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54B25-A4E1-4BA8-9DC3-0D3258A04684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87DB6-04BC-424B-B908-79A5D028479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B02F-41E9-4134-A3F0-9321315725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59E2-59E8-4FE3-92F8-DEB3A3683D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CD69-CA9B-4EA5-AEC5-29CACFB3A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4B28-F6D9-4BEC-AE61-F11617D2A3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51F6-133D-47E7-BE2B-ACD3CBD291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A9D0-36D0-4BC2-AB2A-822BB599B5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BE07-5C1D-488D-ACE8-9022E92C5E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21CD-4527-4AF3-AF37-D8EB45F9A3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2AB5-7CFA-470A-B83D-9978F1450F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3B8B-2A9A-4C63-8312-908D50CF25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C70B2-93F0-4509-8B1A-8A4C848AFC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8CAC-95FF-446E-90C3-A5E13D911E7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E1B-369C-4442-9295-89C57B0F4E8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CBD-7AA6-4893-A17D-AC2C3681232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C55-7C9F-425F-A565-6AE6FF04782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207-DB1A-4FB3-9D3B-4BBC2D7775F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C82-5E0E-4BD3-9311-F179F2081C2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CE5-2EBC-48AC-A46F-FE05097FE18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D03-C077-4B2F-B1E7-3B3A17BF953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CBD-F1CC-47CF-A3F1-A84D06BD5A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BBF-7190-4202-BA66-4BBA724CC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B4B-0ECF-4B34-B438-31BE07B294D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BC9-1EDC-42E0-94D5-6173DD2A1F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A39-4375-4320-A862-CFB0B1FA44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A431A-A4C4-492C-B371-1EF368C945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C4613-481E-4BF6-9751-AE4626AE65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79E0E-B934-4154-AA54-5361CF98F4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CC754-A825-439A-9743-ED15F03976C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681F4-3883-4094-950F-F41C5AB05D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6142D-7157-4E1D-BC53-2C92DE30B7D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8E36F-F45D-4201-AB83-3C9D0708B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AB150-81D9-450B-A187-238E6AE631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7992D-5509-4165-B792-909031C9A9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8AD87-F993-4987-A241-60654A75BB1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0B415-0C83-4277-A579-C891431F15A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B691C-C000-4F25-81D1-624B5649110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5573A-24CB-47DD-910D-4FB422FB7BF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716F6-7DE1-4087-B173-AB5265C4C78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E2349-8D12-4E68-963B-B7E74C30560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C4712-A5DD-4F0A-8F81-90D8BEFBA53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A7EDD-03F8-4F85-A0D1-0364502F1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205A3-6E52-4998-AA01-20B50149B3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FE35F-13B9-4949-9418-0AAF55DD293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6A2D2-CFA7-4FE5-BAF4-96E1765EAF0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C4CF5-FE4E-459B-81F9-329D18BA4A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A63F3-BB2E-4978-809D-E8B317A8393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4EFDA-7681-4243-9793-075F5A54F2B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F9E53-6F6A-4E77-9868-EEF86C7BA49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DF2A-8833-4E94-85F9-478A3F3CE2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122C-25E7-42BA-B6C5-D920D56A6E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2CD8-CECD-4880-B4CF-B1D4140CE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32F5-5048-44EC-9BFC-5391FDEC21D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FAA0-54F7-441C-B510-757C2659CCE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37FF-5AFA-4861-B515-36D28A7FA70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A156-D93F-4B44-98B2-11EA4B19C0E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D737-DEB5-4E2F-93B3-1D865E927BB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D415-D7AA-41BD-AD15-5CE3C4EEC6C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F42A-A7D5-4576-9F81-C04CD6048DED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33EB-C575-4439-B8CF-3DDB5D8E256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E000-58BF-4689-B621-DC94F46C288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16C7-C856-4541-946B-EC6E06880EB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46EF-7B12-4E95-989D-E06238619A3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2CC8-8B77-4E08-815F-38E4986D639C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4FE7-BDC2-43FC-8735-52D6A14E0BA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FB73-435A-4950-BE5A-55F6F34034B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C32B-8D9B-4079-9ED6-2890508D3B9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C96A-17E4-470A-AAC9-B9AF4C24D09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08D9-4F49-45FC-8495-5678C5778E7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BDDB-6657-4086-A994-147EF7B503F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8B1E-D7D4-40D9-9207-54A17CA49CD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FED9-2980-4735-B2A3-F84426BE112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C8AA-556F-457C-BFF2-14F7FF4B0053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15F8-CF8B-4ED9-8244-A63BE9C2A82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08F3-4FD4-499E-9896-46D3439AE59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01C3-AAAA-43B5-8898-63622B91587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970440"/>
            <a:ext cx="51847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Cali AM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* El área metropolitana de Cali incluye a Yumb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685800" y="47628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250920" y="522936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*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6 CuadroTexto"/>
          <p:cNvSpPr/>
          <p:nvPr/>
        </p:nvSpPr>
        <p:spPr>
          <a:xfrm>
            <a:off x="126504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1 Imagen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38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1366920" y="4046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6 CuadroTexto"/>
          <p:cNvSpPr/>
          <p:nvPr/>
        </p:nvSpPr>
        <p:spPr>
          <a:xfrm>
            <a:off x="12110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1 Imagen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008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1403280" y="2852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971640" y="33012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468360" y="537516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^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8 CuadroTexto"/>
          <p:cNvSpPr/>
          <p:nvPr/>
        </p:nvSpPr>
        <p:spPr>
          <a:xfrm>
            <a:off x="1150560" y="503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7" name="1 Imagen" descr=""/>
          <p:cNvPicPr/>
          <p:nvPr/>
        </p:nvPicPr>
        <p:blipFill>
          <a:blip r:embed="rId1"/>
          <a:stretch/>
        </p:blipFill>
        <p:spPr>
          <a:xfrm>
            <a:off x="758880" y="1092240"/>
            <a:ext cx="7624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1690560" y="33012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6"/>
          <p:cNvSpPr/>
          <p:nvPr/>
        </p:nvSpPr>
        <p:spPr>
          <a:xfrm>
            <a:off x="749160" y="5229360"/>
            <a:ext cx="7351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^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8 CuadroTexto"/>
          <p:cNvSpPr/>
          <p:nvPr/>
        </p:nvSpPr>
        <p:spPr>
          <a:xfrm>
            <a:off x="1212480" y="4797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1 Imagen" descr=""/>
          <p:cNvPicPr/>
          <p:nvPr/>
        </p:nvPicPr>
        <p:blipFill>
          <a:blip r:embed="rId1"/>
          <a:stretch/>
        </p:blipFill>
        <p:spPr>
          <a:xfrm>
            <a:off x="690480" y="1413000"/>
            <a:ext cx="77630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3"/>
          <p:cNvSpPr/>
          <p:nvPr/>
        </p:nvSpPr>
        <p:spPr>
          <a:xfrm>
            <a:off x="1403280" y="2852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1189080" y="51264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 Box 4"/>
          <p:cNvSpPr/>
          <p:nvPr/>
        </p:nvSpPr>
        <p:spPr>
          <a:xfrm>
            <a:off x="141480" y="5516640"/>
            <a:ext cx="80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6 CuadroTexto"/>
          <p:cNvSpPr/>
          <p:nvPr/>
        </p:nvSpPr>
        <p:spPr>
          <a:xfrm>
            <a:off x="162540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1 Imagen" descr=""/>
          <p:cNvPicPr/>
          <p:nvPr/>
        </p:nvPicPr>
        <p:blipFill>
          <a:blip r:embed="rId1"/>
          <a:stretch/>
        </p:blipFill>
        <p:spPr>
          <a:xfrm>
            <a:off x="237960" y="1413000"/>
            <a:ext cx="84520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5 CuadroTexto"/>
          <p:cNvSpPr/>
          <p:nvPr/>
        </p:nvSpPr>
        <p:spPr>
          <a:xfrm>
            <a:off x="216504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 Box 3"/>
          <p:cNvSpPr/>
          <p:nvPr/>
        </p:nvSpPr>
        <p:spPr>
          <a:xfrm>
            <a:off x="1319040" y="404640"/>
            <a:ext cx="68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otal 13 ciudades, áreas metropolitanas y 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 Abril – junio (2015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1 Imagen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975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Arial"/>
              </a:rPr>
              <a:t>Cali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8" name="2 Imagen" descr=""/>
          <p:cNvPicPr/>
          <p:nvPr/>
        </p:nvPicPr>
        <p:blipFill>
          <a:blip r:embed="rId1"/>
          <a:stretch/>
        </p:blipFill>
        <p:spPr>
          <a:xfrm>
            <a:off x="880920" y="1751040"/>
            <a:ext cx="7094520" cy="1533600"/>
          </a:xfrm>
          <a:prstGeom prst="rect">
            <a:avLst/>
          </a:prstGeom>
          <a:ln w="0">
            <a:noFill/>
          </a:ln>
        </p:spPr>
      </p:pic>
      <p:pic>
        <p:nvPicPr>
          <p:cNvPr id="1329" name="1 Imagen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6553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1 CuadroTexto"/>
          <p:cNvSpPr/>
          <p:nvPr/>
        </p:nvSpPr>
        <p:spPr>
          <a:xfrm>
            <a:off x="1308240" y="33336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Valle del cau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4 CuadroTexto"/>
          <p:cNvSpPr/>
          <p:nvPr/>
        </p:nvSpPr>
        <p:spPr>
          <a:xfrm>
            <a:off x="1410480" y="56372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2" name="1 Imagen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344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09920" y="3798720"/>
            <a:ext cx="525636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Arial"/>
              </a:rPr>
              <a:t>Cali AM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46280" y="2133720"/>
            <a:ext cx="765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3160800" y="2478240"/>
            <a:ext cx="5905440" cy="174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276720" y="333360"/>
            <a:ext cx="57355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47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(2007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230480" y="1778040"/>
            <a:ext cx="6825960" cy="361296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13012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1332000" y="47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asa de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Trimestres móviles 2012 - 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5 CuadroTexto"/>
          <p:cNvSpPr/>
          <p:nvPr/>
        </p:nvSpPr>
        <p:spPr>
          <a:xfrm>
            <a:off x="213012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1467000" y="1681200"/>
            <a:ext cx="6210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Cali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(2015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1 Imagen" descr=""/>
          <p:cNvPicPr/>
          <p:nvPr/>
        </p:nvPicPr>
        <p:blipFill>
          <a:blip r:embed="rId1"/>
          <a:stretch/>
        </p:blipFill>
        <p:spPr>
          <a:xfrm>
            <a:off x="474840" y="2276640"/>
            <a:ext cx="81943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2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Ivan Mauricio Zubieta Ortiz</cp:lastModifiedBy>
  <cp:lastPrinted>2015-12-21T21:51:42Z</cp:lastPrinted>
  <dcterms:modified xsi:type="dcterms:W3CDTF">2016-07-28T20:47:11Z</dcterms:modified>
  <cp:revision>230</cp:revision>
  <dc:subject/>
  <dc:title>Diapositiva 1</dc:title>
</cp:coreProperties>
</file>