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4530-3F65-4B9F-8998-7CB3C4F76C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3C4-E846-4D60-8679-FADD6C3A37B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DA26-9A60-4166-9070-6EB687CD34A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8C4-C77B-4DAC-81F2-47DC32D7D32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824-C107-4E41-8BFB-5A943C169FE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4371-49C1-4E39-A709-826415FCE36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BEA-6F16-46F2-8030-70D781D770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20E3-CEDC-4D20-8CB6-3B28CB1A34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8856-24D2-4859-B558-54F908BD01B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E708-0ECE-416C-A18A-216F578C12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C4F-9C8A-47B4-8AC1-E3CFC208CD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4ED2-0154-4246-883D-6A78161E1CA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42E-641B-49C2-A32A-9BE5537217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34F8-FA9D-4198-903C-F92FFCD35C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5D4-ED90-4681-88E2-B022E9015C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B8CCC-AE31-4322-A6E3-520018F53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4BEE1-26CC-4619-A9E7-EF057EB98C2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7876B-EA0C-43F8-8915-7526A9163BF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F1615-F234-4899-A549-79D5F48CBB3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04E37-6740-4015-AB42-E577292D4B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2EDE3-5E9C-4317-A91D-F3BE69C7AA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182BA-6BB4-4DFE-ABCD-A5367878CD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86263-B952-4B4F-8502-1C76190CE09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2C58A-91C4-4FCD-B939-B826ACB761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D0179-71E1-41FC-A840-8C5DD2AC2F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39634-659E-4864-B3BA-264EBAB18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74F99-6331-41B8-B802-99B9B7D6F2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BB9D1-C5C3-4DD4-BCE4-037EAE1F485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0DE38-0204-4F79-BAF7-F4C6387A869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BCDEF-9D83-4BC2-8912-E5DD2052DB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A24ED-3998-4CFC-B7E6-EC29910F3F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F3E24-6C35-46B3-8E9D-174C31025AE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ED9EC-0B84-4794-8F8E-D5AEB73A7FB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E9320-A3D0-4D5C-8F6F-C339A120DF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ED744-E1D0-4015-AB4D-7D8AED5112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A2EA7-E0A3-4585-BF54-AEA33C9B4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C439-AECA-42B8-AFF7-99C8DB720E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2E20E-CE99-429B-8A99-BCF1559C50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E3949-C872-4EF4-9C85-8F4D331425E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0D527-CA7B-4D99-96C3-555C0C7A926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79E7-A544-439C-81BC-6747C2564CE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5890-ABC7-481D-9C9F-74F04DCD9E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DAD8-FE18-417F-A9BC-30AB800BC09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6527-D4E7-4E24-BB63-24F2D04848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2E01-B71F-41EC-A2DB-BB4892875B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A1CF-AB72-463F-A9D1-E1E54F3A2A7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5A1E-0F10-45DF-9F0C-878FC204A9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C36B-5F37-46DE-B9B0-26D9729792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FA7C-90A6-4007-A868-0336C0EBFA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4334-2E9F-4C8B-8550-85C426197C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6D97-69EC-43B5-98ED-501F9FC7F0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B2F8-1B50-4B24-A715-D27B0CA7F2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A1C8-26DB-4292-B543-F662435E1B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84B39-BD7A-4131-A3B1-79307CAB660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2ECF52-2A4C-4306-A52F-597988AFA7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1279C-1C88-408A-9009-EDB542674C9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56D8E-8833-4DFB-9B66-725950E6472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427C7-3658-4058-BA6B-276B02BF1C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0EF5-6787-4F90-A5D0-83EAC0032B6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FC14D-DC29-42D3-9854-51675B01EE0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474F8-BE72-45B4-935E-0E56B85FE1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2BB42-6B51-4FD8-A075-CA4B3E0370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3F904-13F8-4F19-A1AF-FBE900AA022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8B2C0-B491-48C1-8A2F-55458A4FEE7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A7728-066A-43CA-A6EF-80143F27E1A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C3EFD-5B1F-4F65-8822-756C8A3FF27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99BE8-6101-4CE4-A609-1DE76B3B04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357A5-BF7F-4728-AEA5-41B0288A52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E4B41-4292-45CA-97D3-4D83245FC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0E21-F88B-4178-BE2E-50CFB5FAC44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22E3D-2265-4DCF-AE5A-B9212B328BD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C11F5-FF4A-4381-9607-C76AC9ABF31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BD945-4877-4E50-A851-C0ADC46ACC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AC5D8-CFB0-4E62-ABCE-144927FB94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AADBF-F534-44C6-A367-55A8D309C43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D5270-FC83-4523-B899-70E2065DC8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11A42-CF29-4DCF-93AA-56DAE63EA7A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231F2-2978-4E2E-938A-47F7CD14F94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4FF5A-AE31-4FBF-88F0-D821037A02F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B69C-C317-4B5A-9973-7EFD1D4594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1E10-5A77-40ED-9240-E57A7A15C57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F7A65-1F1A-47A1-AB48-00F67850D41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76F6-0EF8-407D-A342-F94B5307C4C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9C2C-6981-4367-9568-C65BA868ECB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9CB5-09BE-49BA-813C-9F85EF90734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BEB7-2481-421C-84DD-4799E3E1526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79E3-0221-4F45-B96C-7C09422CEBF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1511-B249-4B59-B2CD-B029DB12D48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7719-8D98-4093-B923-57325609B0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D962-B808-43A8-B34F-BB3317EDEC6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BA37-3A43-485E-8D18-E29809E643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4D52-D1D2-41EF-8433-905BE2477DA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472B-6764-440B-B96F-834800F60FF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509919-5187-4828-A830-5CF97BC8B51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8687ED-C475-4E0E-BB24-2F3F16A8B59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E09B5-B946-47EF-AF5F-5CBE3AE1AF1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267DD-D631-495E-B30D-734D97BEABE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2F444-4909-4FFB-BE84-FB16EA9A051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81A58-F308-477E-B25E-8709D5B8BB5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F1AC7-C7D4-40FE-9191-65DD0EE7D42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86D4F-1318-46D2-9EFC-57170C5A858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AA62D-3E59-44AB-BF5B-6323E2526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712A-735F-45EB-9856-E56FA1C87C9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7D2CF-C9C4-411C-BD8E-7330C8C082C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BC4FCF-B7C7-4F13-A5AA-F7833FD4C4F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0EB81-FD11-4719-BF67-2EE43ABA555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75F70-E176-4608-995E-4F17461BD1F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57033-9C69-41B9-9475-8CB481F6564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C7A3A-8AF7-4D52-B26A-3AAC5943608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A0E68-4912-4A6E-8396-1D27FA1480F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F09A3-8925-4660-9164-54BB3665688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82158-FA03-49A4-BAC8-BB348E7FC23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96A04-3ED9-41FF-B528-D6D2246D7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4EEE-BA03-4AA4-BF7E-25DAA013D5D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67A43-3C94-4923-A5A8-06A47F4B9F7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4C1A0-92F0-42BE-BE76-F486552303C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29D60-F094-4BFA-A37F-CF3097DCCCD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2D49D-BD8A-46A9-8CCB-8C73A48E1AF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6DE5E-A40F-4551-982B-FCC2F719FC5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6E066-6195-420B-90AD-C548524EFD7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F9578-B7EF-4724-BF01-36890FC9622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FE7AB-1BA7-4C8F-ADDF-5C3F3C6FC7E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E4F2-34CB-4E07-86F3-9A4152CE57A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8520-1027-4D35-BC1E-AFADEB454C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0B42-41B0-4AA5-8C74-AC35600DBC6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A0A32-90C7-4A47-84F1-1127044042D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8AB1-21F1-4B5F-A549-18A41D4933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2B44-F894-49CF-ABBA-5EDA7516FFC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37CA1-C60D-4A75-BE84-483F20040A7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45831-0DA5-42FD-89EB-365E2F444F9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DB19-2DD5-4F1E-AB42-9CDD76933CC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26D5-0B64-484B-9B1A-6CA6C597710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C67E8-6949-4D1F-A200-73EBCCEC1F4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61038E-4BBF-4B3C-81F8-504626E3460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7EE78F-7272-4435-B299-F51F42C798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7F8F-20F3-447F-8878-074D7A005BD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C0ABED-8886-4402-A8FB-B1D79417FC2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78761-3C8D-42DE-9FFD-09F1075DF98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24230-5D3E-4915-A965-447DF5EA11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B97FCF-A5B2-46FE-85AD-8A8BB83AD2B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B7E8B-202E-4E43-8C12-BD8E2668D1C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9C94A-79B0-409B-8C89-D683C36F711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98646A-41D2-4A3D-9DE7-68202515E55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ED1384-B3F9-4CDF-B187-89468C50A79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96BAB-A903-4F1C-88E5-801B4751334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124E6-BA0A-4E42-BD6B-30F1315B16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AB5F-B4EC-4146-AE01-85C38564B93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DBC02-6F19-4AF0-A7F1-E24167D1874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60AAB-1A29-4931-9B1F-2D036D1446C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A1EB5-57A2-4902-B43E-EB3C2B000F4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95BAC-1E7F-4E35-8594-961F14CC36F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5BDE4-5FB7-4F6A-A324-BEE1E9661AA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16556-440E-4994-BC7A-47C37AECE1B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1DE71-E3C5-4D38-AEC3-E6B67086607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12D5E-035E-417F-B8D2-C4B1CFDDB50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58923-42AD-44F1-9BEC-52684AB18BC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0298A-0A20-4CF0-BA4C-744B7F3A5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D453-5FC7-4CE5-9E57-494161D6490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B387D-EF7A-4F80-990C-87D2117CBA7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F9A6-49DB-4648-8DDC-7934BEC60D1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BD8D8-0CE9-420C-A81D-5E7DB6F0C11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3341-811E-4590-BDA6-E405ABB3B90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2264-46E6-42C3-8679-D244FB54D88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F341-66C8-4191-A42A-9BDCD7E4370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1161-B295-40E0-B37D-5950A97D423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DA79-4822-41B4-8921-4212F736485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EFA76-C470-49DE-A53F-5A77C68FE31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56BC-EF95-46DB-A468-C0B9F86611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301E-4255-4482-8310-E285353FD0A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497D-D7F3-4C79-82A2-6DB7EBE50B2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8AA0E-19F5-40E3-92C5-407607F7985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A556E-FE3C-4995-8302-3F50BC6C462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81E48F-1D90-44AD-A136-396CEE619D1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36C8B4-83A2-455A-A05B-C1F9042F859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9280D-6978-4226-969C-29E040C4B4D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F3568-90E5-4CC3-813F-68E9D70CF8C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8C7EDE-6F37-4BD4-A509-35B40596D52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826F51-3949-4DE9-862C-00C15183B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7BDE2-31A7-4034-B824-58932B30C78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705DFE-7EC4-490C-BCDD-85296C6FAF5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8A1E7-E439-40BA-BEE5-173B209304C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A457E4-9433-4D80-B89D-BBF6FBD2D01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3D18FE-851B-4BF8-8A38-A693E1562E4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953C2-607A-4657-A66A-2501025E6B6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E8B3E-3F66-4A80-98C6-15E67B7BE8B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48C4A-435E-45B1-9654-40C60384C35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5C4D7-70F4-4D89-933E-3ACA6EC740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A0EF0-AB02-45AA-85E5-6BFD82E7B6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B8CDF-F2F1-42EC-B31C-33261E6FA2B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48280-4A47-49FE-8E96-E49E810CE2C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6B103-2AE4-4804-A200-04FA106E4C2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DEB0D-EDF1-4008-921D-6477CCA6C14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F0577-C0DC-41EB-9488-F7552DF55A3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4B1CE-4006-4A84-8EB0-D8C95386ED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E5B4F-8C52-4171-836F-163380CC933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C3DA-BE1E-490C-B259-DA6E1AD838B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1048A-E5D9-4D25-9344-E879D6A0359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C5B0-8D70-4717-94BC-82F8FA77F4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350B-3961-4F94-B9EF-9ED12872870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D68B-D21D-4E71-A667-71CE9E6A37B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C96D-B2DD-4204-9FF7-57DDE2C1481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754A9-19DE-4DDF-8116-E787EBB844A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D2361-F446-4C65-BED8-3F0728B761A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44A30-A63E-43A8-983E-7CFBE7F2C41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EF92A-28C1-40DF-B2A6-990FEC44504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5662-A47F-448C-B8E1-EBEB76BBD85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19B6-EB20-46A7-8053-F1BA1193275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F21B79-D014-4F3E-9583-F634D8E5B3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A712D4-5EE3-4796-A0B7-871D05F525E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104928-EBE8-43A2-AE54-0FC887007C0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CFB3A-A075-4340-AD87-3634CBB5565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09C512-DD3D-4D9F-AE77-0131280A3F0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29D3A-2010-454A-8A26-81B471CD560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6C1DE6-7897-4153-AA67-C188C84F629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F113ED-18AB-4394-83B3-A06A8C4F2F0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1ED4E-5E45-4DDB-A33B-68211D226D6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CCE68-E5CA-4270-A964-C225B3A5B82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7AF93-C7E9-47DC-9E09-C99E1818A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7D43E2-6380-47B9-BD4C-D358954522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C8AE40-2FE1-4A9B-B733-B973264F1E3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3FF3B-DDDA-4A1F-B52F-4CECB3E36A7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BCD30-CA03-47D2-8A0B-C8936D171A1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A68325-F677-4792-8992-A2A4CABD121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77689-4296-4FAD-BE41-7E93CBFB889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60B9E-16C2-428A-9B8B-45FAD74859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9D1CD-9851-4A5F-BABA-7BF1674B09B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B4A337-1771-4935-ADF9-BC7911EEA8B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90463-DF6B-46E3-B5AF-821E375EFC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B8A63-8773-4222-81F8-04EEC7F3D3F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2849A-C7E0-4FA7-9496-C1C24D89487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A31E7-6F8E-4869-9DCF-62183EC19CD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1ED5-C9D7-41A9-83E4-8EDE2AF43CF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BDC2-A70B-4B24-919E-6D1FA2A80B7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6A2B1-C424-4199-A6AF-AFC2E1FE136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E6454-7E9A-4D7E-A777-FB30EDDDD9A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D518-688C-4A79-A6A3-DD3C30FF012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19CEE-F20A-4FA2-B68F-8368E245DE9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F48D-8CEE-4E71-B7C3-569A1D3931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C658-3D7E-4816-9531-71CD0F68264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0C9F3-C02B-49BD-87C7-4560D799795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37706-D92E-47A4-93C8-427E31025D0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D788-44BC-49F4-871D-2E25567A816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CB4E-5589-473B-B926-ACD7F3D131F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4FEE-C4D5-4424-A4BF-7765E925E9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76E3-2341-4E6F-8BD3-670ED0D231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4137-299F-4D97-9EC7-73568F59C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0669-F9B0-4DD1-B689-16CEC041A6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6B26-1B95-4485-B43B-3BDD41D135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1AF2-5085-40FA-AFAF-64E2FA7C2C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873C-041A-4B71-9829-2DE986018F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1019-F35F-4EF5-944D-6C4CE13245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95B7-8ECE-4421-ABC3-E11B31EE45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C341-96EF-4E9B-940F-D5FBDF66F2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59AA-8ED8-4D8C-9624-2E2CA927D4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C549-F79C-4836-9777-100FA87A24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49D-44CA-4DB0-8E56-0FA2A3CFA5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8C6-F548-44BC-9E1A-506BF68FBE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520-F388-4422-80DD-94665F04EE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F98-E720-494F-8991-73C10E4F10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789-A20F-4974-90EC-4FC93F43DC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94F-08C3-4032-AE74-BCEB198308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6F4-68B9-4D39-954D-77E1C00556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3E8-42C5-4F32-B332-2D4C6F728A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C6E-1C90-4D4E-AE43-23B23D8FB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20F-FD6D-47BC-BDED-835C444CAE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D23-5E23-452C-9C6C-BF788F78C4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3FF-EDF5-4223-BDE7-040F592FC1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316C0-912F-4FDE-9E1D-843BCA088A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C4D46-0A45-44A7-9589-0794878723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49EA1-BB2B-4FBF-9CFF-06440EF02F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5885E-7D44-4DCC-8E05-653BB950E7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C260B-4922-4143-B9B8-6FAD3E27E1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35116-6CD3-4D54-877F-74302D3A7F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0690-CB89-459F-BE1D-0B9875F21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1F2EC-406F-4F57-B911-2A2FE5F00F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AA1A4-005A-4533-9C99-438456E1CF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4F7C4-C7AA-4719-BFCC-BBEA423CA4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A8182-FB36-4B3C-AE81-EDC9964BA5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0BC8-314D-42B5-800B-A5F34A7BCA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EF086-D042-48EC-96D5-51BFC1F1B58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6D75-82AB-4B1B-A960-0594FCF669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F2536-891B-41A7-AADE-5C2EDF49D3B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E513C-A30E-46BB-8680-6597DF6729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98E7-5C93-4866-BEF4-AB2486E2E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7C35-DBB7-42AD-BB84-FE7FD87A31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916E-C3B3-4E58-A0A4-EA350E2DB31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0946-7A86-439B-AC09-6AFC381EA4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35A13-141E-47AD-A4C7-3A2B777D10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9F4A-06E0-41D4-8374-ADD3D12FB54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76C7D-8C37-46F2-B1B5-CAA9018E25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730F-A80A-4C4F-9243-F8BF276DD37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A6FD-DD38-49B4-A221-586753F689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3B81-CA1C-4351-BE7C-698742ED97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F81-BEC1-4A0A-BDF7-FC9CC3B07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62C6-BA6D-44B6-8A74-37B54D5A854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1BDA-EF3A-47B5-9953-663CE098F61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62C-76BB-4A91-81B4-45A686FBB2F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65F-E50E-42E3-A6DF-AA7B91FDCBD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80BE-C8D0-4E55-BC6D-2AF7D616815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92D-74AB-4FEE-8DEB-70049F07E03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369B-5372-4CB4-9DAA-0E7143B1334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2ED-5599-4CDD-B0CC-9CEEC041C11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A1E7-E62C-47DE-8B27-99D3785560B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642-AC0E-4E11-9B35-C1B09BBA3C6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54A8-F7B0-4CA7-8D38-C17567E80D0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0CBE-31ED-44C9-ABF9-982EFB414F6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94D0-D8CB-47C7-AE48-D599C94470E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BF4E-5DF2-4811-BF65-F1FB7B4027F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A91-5C03-45AF-80E3-F370B6E41B1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6F4-24AB-45C9-8FAF-848E303878D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9140-6072-4FDE-859F-4D878690636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5363-A16A-4C7A-9C7D-46909AA80FB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E23-08D2-462D-81AE-1B59AE8BE54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F813-7C0D-4050-95E5-F9F65B6FD16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8FE0-6824-4435-84B2-43AC915A562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F42-558D-4DFA-889E-FBF7BE10C28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81E8-CB93-499E-B2CD-D0FF58373CC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436-AE85-4C20-9DBB-6C61427F2BF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Santa M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4360" y="506520"/>
            <a:ext cx="74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50920" y="530712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328680" y="1346040"/>
            <a:ext cx="79088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211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706320" y="1413000"/>
            <a:ext cx="761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627120" y="1847880"/>
            <a:ext cx="7756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403280" y="620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2617560" y="5200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250920" y="555948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711360" y="1631880"/>
            <a:ext cx="74548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7142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213480" y="5516640"/>
            <a:ext cx="80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 a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465120" y="1773360"/>
            <a:ext cx="8210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689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9079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bril – junio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143080" y="217656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1149480" y="1557360"/>
            <a:ext cx="7040520" cy="21589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392120" y="3860640"/>
            <a:ext cx="634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3380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Magdal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31040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988920" y="1808280"/>
            <a:ext cx="7305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Arial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Arial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87320" y="2205000"/>
            <a:ext cx="7885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2600" y="26431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024360" y="2798640"/>
            <a:ext cx="5940360" cy="198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106800" y="289080"/>
            <a:ext cx="57816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333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0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10780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684360" y="1336680"/>
            <a:ext cx="7707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209600" y="1652760"/>
            <a:ext cx="70279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Santa Mar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95360" y="2349360"/>
            <a:ext cx="82058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Arial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Ivan Mauricio Zubieta Ortiz</cp:lastModifiedBy>
  <cp:lastPrinted>2016-07-28T14:36:38Z</cp:lastPrinted>
  <dcterms:modified xsi:type="dcterms:W3CDTF">2016-07-28T20:47:44Z</dcterms:modified>
  <cp:revision>242</cp:revision>
  <dc:subject/>
  <dc:title>Diapositiva 1</dc:title>
</cp:coreProperties>
</file>