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9804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954600" y="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203480" y="685440"/>
            <a:ext cx="45734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EDE3-6674-491A-A3E9-D07F624D954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727B-26AF-4A00-81E8-393A98BF2B8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CF85-F2FC-4843-BF10-219E1A54735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B301-B309-4E7B-A9B0-18BA06FF092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A328-CE40-4F86-8067-4C3AD611A49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9F57-1288-41FD-B92D-A6A8FEC4A53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AAE1-AB1C-497A-A3F3-F66A7AF9B56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FE74-15D5-42D0-B357-619F10019C6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CD71-C55C-43C4-932B-24BB98ED577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AA33-71B2-4456-A9CF-E0071FE2F7C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76B4-6CDF-46CC-BE5B-BB293730C86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7ACA-9C90-4EB5-BE51-E286F681C6D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06B2-5041-4DE1-BF3F-5CA02D49CD5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FDE0D2-0024-4B71-B76C-E79527CD3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D57033-9548-4B8D-8377-1E75BF57A50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33E1A6-83BD-4E76-B398-E012E8C67A2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CCC960-8AE4-4AB9-9790-06231782E8C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E457FD-BB71-4C99-ABE3-BF84E6F9971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8C2DFF-BDF5-4154-ABA3-8712C42962D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E75E1D-F425-44C4-86B1-AF542D43E96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052E4A-57C2-4901-B324-71D0D386039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9838AF-CB5F-4C71-87DE-35B247FCC70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9B9A12-6823-4B09-BFEF-D32734D1C68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D661EC-3925-4D04-B535-D55EBA0177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ADF42D-663C-4700-BAFC-917E3A08034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72338D-6F54-4B3C-938A-112B7AB9B3D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73D6A1-87C4-42AB-A7CF-C4FF6758C2F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5048F7-702C-49A9-9D9B-2BB22822737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88AE66-3EF8-4BB2-9916-AFA01C65404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4D1318-FD32-411C-82E6-45880D9D4B4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7B6470-FEFC-4FAF-AD97-D76D2AAC8F8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68B5CB-6C6B-4EC0-A571-6FCA978AFE1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A46EFB-BD8A-4D8D-BBAD-D45E9EF606B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C4AEB-AA56-4FA7-A47F-EC2F2A4A6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A17F1-EEEA-4466-A71D-E2E40B6A9A4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7EE7DF-D87C-40D5-9FB4-C7B801D9F2B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9A5E2-BE99-4928-A37D-9B492BE3F7D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FCF4A2-6C15-4E1A-9C3D-8FA6E665FA1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62F39-D3B0-4B9B-ABA0-21C99EE198A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CAF35-972C-4A85-8C00-FEF841EBEE5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DAE05-0CF7-43E7-9E85-D04545B5D1B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95CEC-8A27-4190-9AEB-7FF81604AC7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9C458-1AD1-4611-9259-204335AB172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6A4E4-4803-46F0-9F85-B74361F745F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74599-29F7-4414-B639-130D341686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8833B-B166-444F-9699-CB117D6A997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751CE-63F6-46AE-8D1C-90442F5FB4D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C657D-8767-421C-B67D-E159913CDA1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FAA88-8DD7-4775-95E9-E66F0CD1CBA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51A5F-2CB2-4C16-87C3-BABF581289A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722EF-5F04-40FE-82EE-0FD68D6DF9A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173E38-D4D8-4C2F-925B-0F407DB5B8C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CA975D-EB6B-4B65-B46C-BCF345F28A0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03051C-49D3-4FA1-84AB-94C395CE83A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1BF60D-99B6-433B-83F4-313587F2057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394C0E-4686-431A-AB4B-EEC96CADEE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3612-BE65-48AB-A1A5-A1902588767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BEA7D1-C6F8-4EBE-A98F-1A9BC8F4DD6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3C63F9-6F7C-4D00-9217-18C15BF5D9C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1F08CD-16C7-469D-9F53-12F40CF759B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1BE78E-C719-4961-82E9-1E3BE8D52F9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A0C809-3033-431B-AEFC-10642E05C73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97EB03-1B05-4542-B202-43D66E5835A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62773C-8409-447C-B800-FC62AA4CA06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2C750C-01D9-4256-B85D-3ADB2046D2E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18E41A-6F6A-4CE9-A462-51236472E7E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10682F-6F5E-419E-9A68-577A561564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2BDB7-BB9C-4E49-B888-A7D0A75446B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16BA2A-1505-4A28-A94D-271E9B49EE7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EC1933-D1D5-4DD1-8BEA-5F3F2C766E3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AB390C-0F6C-4DC8-81FB-CB4EDA586AD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428C74-0FE0-4E09-BBD8-F18A03C1CAB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7DF7A6-047F-4183-8FF4-57C0F4E3A73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9E7C4E-C957-41B7-8715-A4FB29725E4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1826C4-7843-496E-9E18-8B90594D3C6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6CE6DF-3CE5-4138-8E6B-6AFDDFE5EC9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A956B3-BA63-4202-A4D2-B62018ABB3F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653A4-0DEE-441B-9625-927F551FDA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6E4F-ECD3-4435-A2BD-A0FAB57956E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2F3F7-EDBD-4257-94F3-7C9FCCA015C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A2913-D3E0-4A04-B2DB-8A6B5048F38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CE8B8-0859-4954-8E36-F641C3E00B8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F3D75-E1F1-49AF-A5D8-C0A3288AACD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23CA3-8C99-4398-9507-4EC4652AFF2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21A17-20DC-416A-917E-C41B6F2E5CD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5B225-EC40-4362-989B-0480557CCB1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C5E9A-8AC2-4A78-AD1A-6C74A1E52BC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C3F89-A273-4CD5-A873-0505F512913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48C38-D8CC-421B-BD8B-9015676255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83AD0-64C1-4A42-9381-3647FE8CB48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10289-CA62-487C-AE92-7E1988942EE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39F45F-830D-4C02-A540-19458DA69F7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1B0BE5-051D-4A11-917E-ED12484CC61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936A38-8198-4798-8425-33CB9C8AE17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7E85F0-1E81-4714-9AF8-4329EBD6F8F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57ABC1-A70B-4FB0-90BD-096F594366F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3C4FE2-5882-4604-B67F-633C024F2EB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A742E0-2E6F-48A2-8D0F-2CC75599EC0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4BCB2D-CAC9-41FC-984C-21E95F43B28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D0C482-584C-4E36-8638-184D6DDE19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61E34-C6E9-4948-9C5E-021FEA68C41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F973B9-C855-4082-B522-3A787A26CF3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A74B66-3992-4138-BD0C-065A0A51D68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EC4927-418D-4AC7-BF94-9A821847F3A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2BC6CC-DBC3-40A7-836C-7B9B2D9ADCA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F3ABFB-E3F0-4FC2-9712-5A0883FDA3D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86ED78-B546-4FCC-B376-EB559A01AD2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30A0B8-8753-4F79-BB8D-7F7E69C771C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BB71B8-0422-498E-BDCE-7F63EC0F0E1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EE4E5D-04E1-4C66-9CC0-C0F8E641D5A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1CF044-95B1-4FE3-99AE-DA632F6045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B5955-6227-4B9F-BF48-49E0214D995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A4A9D6-8F85-4DD5-834F-406FA9C6128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048172-304D-4C1F-98BE-CD70EB1DE45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37997A-3814-4B6A-A393-B89332B1914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0DD577-2CFB-4325-8E42-2F35F7CE25C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E877DC-BA43-4D36-8E82-8455E82AF6C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ADC5D-CDB4-454A-A527-A7CB27A7CE2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993D9-B90C-485D-9387-6959B37727A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05859-B358-4454-A64A-F4EF1D9400A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646C5-FFB4-4ABA-A323-34D4436501D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8B60C-F200-4ED0-954D-01C7D94AB4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970CB-A2DF-4F7D-BD86-90AFB7803DA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35891-604B-43B2-933D-4AFCDC7B216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A62B4-BE54-45D8-8C1B-BACA2283B3C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ACD81-731B-4568-A7EE-578107AF781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FBE46-D5CC-4902-92E5-576203D18AD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9AC31-7A08-46FC-A439-314383D37D0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B35D9-86F4-403B-A06B-455A9C6F9F9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FC9A0-8ED7-4E60-AF3D-2EE6760FE7E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E7A6A5-4423-42AD-B16E-81CA4001928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6ED12F-CE35-4970-B533-018A6F7AF40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3C84C9-B56C-4A25-8D1C-12AFF286AF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43A1-83DA-4FC6-8D4B-FAA1FE9C02A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3C4544-C63A-4DD7-8E01-11B460E8CEB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A0E633-22D5-47C8-BA6C-36F1EE5666B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DF08E3-DCDB-4DE8-A988-56473912523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F41083-9F5C-442E-82F9-FB37BD6BB18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61F877-FD4D-4891-9C8B-1FB208F1DBD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B3296D-9B13-4441-8862-355C919F5E0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0D901F-02A3-4B22-B9FA-B2495DEC135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412310-3CC6-4584-B1BA-7B7F89FEE81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14C763-CDE2-4D9A-90A3-4F805A2518A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538150-36EA-40A1-B8F0-B4150D48A6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E33E3-F83D-4616-81FE-C7EFDDD73B5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AEFD63-B566-4436-B02F-65B5813C363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982B81-8936-4741-A34A-E1096C12E8B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855F23-6653-46BE-AEA9-F4E14356D1F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3EC079-20EE-4B6C-833D-DD98B425F1C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4EF423-87BF-46D8-B47C-5DB5B2F3E8E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12B8D8-1442-45ED-85B8-173F2A8B608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1896CD-8E50-4402-9397-563DCE526BB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093912-0A0E-457E-B8D1-2FF3646FFE1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D88E8B-54FC-4CA2-B7BB-1B609DDB200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E488DB-466C-4FD8-B64A-4DED9ADBA9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8479D-69EB-4CEE-9A07-E0EA2D0E93D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5417A4-E09C-41BC-BBC4-B2E250F66C0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6A3D5-91F0-4819-8AEC-351C5A4E1A0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A79A7-32A1-45D7-91A5-3A568AAC046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449F2-3490-4868-9B4A-559A71BEE32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C15E8-820F-4B09-95F2-5E4C95A2FAF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33604-E60A-4274-A85D-3A2E7CB98A0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FE77A-1987-4361-94F5-5BD8C4CAB72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CCA36-3995-4FC2-B76B-F389C2582D1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AEF2D-4C46-4DA1-83D6-B82E5A44604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40532-5217-48BA-9AB0-095A1ECD693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FEE53-4BC7-47C0-A459-2CCBD2C0618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4DEB0-FAC4-4E28-9BC6-850A6EA5684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EC7B7-A6DC-4C5C-97B3-23CFC037200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596FE8-AFAB-4FBA-9762-47C8A88F685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927D66-0F7A-460C-B935-931DA82F41B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20C4FF-5D48-476E-B91D-FD5C2A3A342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B10A80-9CFC-405F-8F8A-6A53F420921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73411F-5469-4858-B417-E43B7FC6292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5B9FF4-84ED-4613-A0DD-39EFCD21F2F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93302C-0889-41D9-B8EB-C213A22B4D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DEC544-84F9-44AC-927D-ABD6EB15317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E9732C-BA5F-4930-8CE1-AC2DCD99D85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890E67-C42A-458C-8F75-5A97D6D2D2A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0D0EE0-80F1-4572-8244-04AD8F97609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1FB0C4-228A-4BC4-A92F-53ABD8D83AA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D724A5-89F8-487E-BD75-C62A1516472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6C48DD-EFE5-42CB-96E5-7FDBA3E597F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2F2802-F2B4-49D5-9E73-AF705677DA9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31AC99-102C-497D-94EE-9A88B19C1ED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E033F5-24FA-49ED-91D6-49EB048695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F3DAC5-437B-4FF3-8E9B-C4CF1C2D60B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BADD9F-C5F1-4BD6-BC30-0F211C508D3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EDC1E0-D859-47AA-9297-C3E72C9674B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A3685C-C11C-4E21-9EEC-8B9AA9883DD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500890-AF59-4AC0-968E-26DF7581D41E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841190-5A7C-41D7-8BDC-2BC65795228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D180FC-8A48-4CF9-9AD3-6C74945BF0E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6E4E4-7BAD-4748-95E8-FC48883647B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81B31-CD81-4634-8E15-DEDF4CA12FC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01C18-0EE1-4B4F-B978-23869F6AD1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FE90B-41FF-4E9D-97FB-CFF4930F5BA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7159E-081E-438A-80E9-3065BC42F5D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03AC1-DAC0-47AD-962E-93902E03AA3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F9E8C-D825-400D-ABC0-3AD601BF561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173AE-BB63-4DEF-B8FE-1EC7C82D719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3983C-9141-4C42-B338-71C56F13C03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87641-E1A8-476B-B1F5-C7D6120FEED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2C735-D07F-4691-9F49-46EB950F58C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D5AF9-0012-424D-B6F0-B7B8AF7E454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2D489E-DE55-47F7-A168-F341B9F22E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254770-F7A2-434A-9093-AE4985DFEA6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43C4AE-198B-4A2A-AB83-5887F7F8A7C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E023C0-1774-4DA6-B820-1F3D03F9DA10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DD8C13-774F-4901-893E-C5BAEF275D6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C06C71-05A2-4B09-8CFD-A0627B27794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266BB7-1637-476E-9189-718E4A9368A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DD9406-E53B-49D9-B342-696016AE559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85044C-A1A3-4F02-8604-0EB40E8AAA2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5442B3-9846-4173-AB80-7E02B849CD0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7F2EC4-FCDF-495B-B799-53B1F96070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A88A80-BBC0-4DC9-A1F5-0E00354277E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D96AA2-E460-42EC-AF1F-A827E1EC850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77D1AC-10B7-4939-AFC3-1EB9FB1D5CC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0ED0DA-EAE4-4E65-B2FD-8C369DB841A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34D4C9-0368-4807-ABBF-875638B0A447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00F1E5-50BF-470F-A90A-B502F0BCF643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C6F0DD-5161-42B9-A35D-2387051655A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096DE3-1D8C-4E64-A89A-9A87953261E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25F1FA-2523-420F-BFC6-8F29244D6C92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F01C58-8670-4211-BE51-8B91BA692F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AF2133-82BD-431D-B599-55E9B2EE2FE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B313E9-4182-4938-997D-04EB37F91C0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705995-3780-4C63-A70A-FE7A7F30DD99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04C5C-4624-41A4-94DC-B702A059AB4C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8D688-A89D-4679-9C2D-95053365C4C7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EF73E-FD15-4C53-96E4-3D63E47CA8ED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EBA20-9765-43FC-BF3A-4C92BFD4466D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49FC7-B15C-493E-AE45-4EB0AEAF23CD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5F513-9A26-41AF-A4C4-3DB288CC145E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AACBD-D103-4C8D-8B7A-D5173C5976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CE594-3A0B-4723-9032-5177EE3FE9C3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0B231-0CA4-4EE1-8C45-BAAE7221305E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BA256-4CF1-4DB8-86FE-30D66ABC3CFF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E178E-12F9-4FC4-B90C-1967950FAA49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5EF63-4956-4D5D-A9F3-ACDDFB6E2010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00EB6-4FCA-48FC-AB79-2D5B666CCA0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45921-81C7-45EE-ABA5-0AB349D6704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2C469-350C-4B14-817C-2F4F6CB60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20AAE-6EE4-411E-B14F-492558C8B13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3A1D9-3B77-42A9-80A8-A6376550C84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07CE6-FF50-42AC-A6BD-7589FAAC803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44270-B147-444D-BCDD-99A1825F8E6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801C1-5FB4-448F-803F-D95ACED3861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FC009-4410-46A6-97D5-10FB8D910BB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7848A-B9AC-4220-9771-134BAAA613D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9E57B-A749-4457-BCFE-3226C2C3950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F2233-278D-4C2E-B3B1-DA274FAD690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0C43-016B-4E46-9EB1-46929032D43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AAF9-1E4A-41A1-B9FF-5F28DAEF966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607F-1912-4BC4-9A83-D3B73403D56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04E3-2D3F-49BA-9FEA-821B2810B0F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D55A-F695-4C80-89FE-58961737320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607-BBF5-4684-A5A1-22BDEC6DC56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4461-0C41-475F-A91F-89745D484D3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3AF0-528A-4317-B613-40CEFC4F7B1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B3A0-02A6-45B4-AB5B-8039B1EBD3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8997-E28F-4367-BE49-5334E6AD9FE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5763-0467-4261-B0D1-293CB3F3B7A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D310-3E52-4880-A889-3860950843D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F2DB1-9822-48D8-AE4A-F659A7E2BC0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32712-4518-412E-9FCB-6C278A20C29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10D66-A125-429A-9069-864A842C6B7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B9958-1A27-4ACB-8A0E-2DB5572C24B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373B3-E210-45EE-BB58-76D768B03CD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EAA78-7223-416A-9932-DA1A1BC5446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F8946-9966-4279-88A7-93A948A402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18E65-3076-45A5-9EF0-92E21C645D0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FEB9E-4D40-474D-B2A7-1C0DCB6EEBD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535DB-774A-4460-A928-E719B3F9A1D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FE642-917E-492D-97CE-EAD8BBE8754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2E5A7-F331-4A78-9476-85C649126CA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E1A27-5984-40F9-8E3D-F7D0A64B1A2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EB231-1B7D-41FE-8929-4F0967E396D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532F7-3053-46F5-96FB-A006839A77B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84E99-1AFE-493F-BF88-B15DA00C4DB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8D4E7-47DE-44CC-873F-AEC3A9337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3EE47-FBD5-45F5-A889-791828CAC16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FCD94-E1B1-40E4-9FF9-25EF5AE0095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B29E5-4775-4080-9251-D8F5FF95541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25E5D-E932-419B-8EA8-D2CE00E1935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A86F9-1410-4BF7-9C25-1100C319472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15935-D404-40F7-9F7C-362B6389940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ABD29-104C-4AF4-8F13-CB985E398E4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BA0E-60A7-42D9-98F5-4749B935B6D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CCC4-B5EB-43F7-91A7-F0001AD7010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3D32-4A76-409B-8861-4D45283B2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2C31-8C81-43D3-A16A-AEB427CE62B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9C31-AB5D-4FCB-9649-E40AAD07FAC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C7AE-86B9-492F-BD6F-3F69661B240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6B90-C3D8-45B5-A9EB-1F71EE380BB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6BF5-F2A5-48B6-8E05-441373518C4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EBFE-D60F-41DA-B43E-887B140EFA4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A9E5-85D4-464F-A810-9EEC2CF27FB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8528-C5CB-431F-A1A8-B3423BF53F2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3C01-D42E-47BE-AE39-60D6E26E270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44A4-7E95-4E75-8DFC-7B512F8F442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7F7B-1A10-46A8-99C6-493D0CFD830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E4D2-2B5B-484E-AAD8-CD4DAFEE4FB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A66E-2E96-418B-8999-4B974051358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A476-0395-497B-B0A4-B07BF8664EA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461F-5D6B-4C7C-990D-17BBFCD7674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32DA-E9BF-45AA-8466-F380232DCA1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3566-DF30-4AAD-8D40-A1555E867D4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A7ED-8930-44EA-9BAA-6DD678FFE51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55CD-79AB-4797-B00E-92AD5A1E573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515D-2FF9-40A1-B092-AF61C6A725F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4189-934F-4601-BCBC-3E54DC5CC1E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4CD1-8F73-49FC-9AD6-D4C19A687C9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63C8-EAB4-4E43-8634-B1F08DC44CB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1494-2E6E-45D3-BA3C-CE2D5710174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Villavicenc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agosto d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Text Box 3"/>
          <p:cNvSpPr/>
          <p:nvPr/>
        </p:nvSpPr>
        <p:spPr>
          <a:xfrm>
            <a:off x="1225440" y="57312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5 CuadroTexto"/>
          <p:cNvSpPr/>
          <p:nvPr/>
        </p:nvSpPr>
        <p:spPr>
          <a:xfrm>
            <a:off x="761760" y="51832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Text Box 4"/>
          <p:cNvSpPr/>
          <p:nvPr/>
        </p:nvSpPr>
        <p:spPr>
          <a:xfrm>
            <a:off x="162000" y="5478480"/>
            <a:ext cx="8731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1" name="1 Imagen" descr=""/>
          <p:cNvPicPr/>
          <p:nvPr/>
        </p:nvPicPr>
        <p:blipFill>
          <a:blip r:embed="rId1"/>
          <a:stretch/>
        </p:blipFill>
        <p:spPr>
          <a:xfrm>
            <a:off x="736560" y="1484280"/>
            <a:ext cx="778356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 Box 3"/>
          <p:cNvSpPr/>
          <p:nvPr/>
        </p:nvSpPr>
        <p:spPr>
          <a:xfrm>
            <a:off x="1728720" y="32544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 Box 4"/>
          <p:cNvSpPr/>
          <p:nvPr/>
        </p:nvSpPr>
        <p:spPr>
          <a:xfrm>
            <a:off x="382680" y="545796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5 CuadroTexto"/>
          <p:cNvSpPr/>
          <p:nvPr/>
        </p:nvSpPr>
        <p:spPr>
          <a:xfrm>
            <a:off x="891360" y="515772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6" name="1 Imagen" descr=""/>
          <p:cNvPicPr/>
          <p:nvPr/>
        </p:nvPicPr>
        <p:blipFill>
          <a:blip r:embed="rId1"/>
          <a:stretch/>
        </p:blipFill>
        <p:spPr>
          <a:xfrm>
            <a:off x="611280" y="1282680"/>
            <a:ext cx="785808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9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Text Box 3"/>
          <p:cNvSpPr/>
          <p:nvPr/>
        </p:nvSpPr>
        <p:spPr>
          <a:xfrm>
            <a:off x="3419640" y="387036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Text Box 3"/>
          <p:cNvSpPr/>
          <p:nvPr/>
        </p:nvSpPr>
        <p:spPr>
          <a:xfrm>
            <a:off x="1273320" y="40464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5 CuadroTexto"/>
          <p:cNvSpPr/>
          <p:nvPr/>
        </p:nvSpPr>
        <p:spPr>
          <a:xfrm>
            <a:off x="576000" y="51721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3" name="1 Imagen" descr=""/>
          <p:cNvPicPr/>
          <p:nvPr/>
        </p:nvPicPr>
        <p:blipFill>
          <a:blip r:embed="rId1"/>
          <a:stretch/>
        </p:blipFill>
        <p:spPr>
          <a:xfrm>
            <a:off x="628560" y="1341360"/>
            <a:ext cx="8129520" cy="3913200"/>
          </a:xfrm>
          <a:prstGeom prst="rect">
            <a:avLst/>
          </a:prstGeom>
          <a:ln w="0">
            <a:noFill/>
          </a:ln>
        </p:spPr>
      </p:pic>
      <p:sp>
        <p:nvSpPr>
          <p:cNvPr id="1304" name="Text Box 4"/>
          <p:cNvSpPr/>
          <p:nvPr/>
        </p:nvSpPr>
        <p:spPr>
          <a:xfrm>
            <a:off x="0" y="5373720"/>
            <a:ext cx="9144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 ^: Obrero, empleado particular incluye al jornalero o pe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 * : Trabajador sin remuneración incluye a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Text Box 3"/>
          <p:cNvSpPr/>
          <p:nvPr/>
        </p:nvSpPr>
        <p:spPr>
          <a:xfrm>
            <a:off x="1763640" y="40464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8 CuadroTexto"/>
          <p:cNvSpPr/>
          <p:nvPr/>
        </p:nvSpPr>
        <p:spPr>
          <a:xfrm>
            <a:off x="1053360" y="516744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8" name="1 Imagen" descr=""/>
          <p:cNvPicPr/>
          <p:nvPr/>
        </p:nvPicPr>
        <p:blipFill>
          <a:blip r:embed="rId1"/>
          <a:stretch/>
        </p:blipFill>
        <p:spPr>
          <a:xfrm>
            <a:off x="690480" y="1413000"/>
            <a:ext cx="7761240" cy="3814560"/>
          </a:xfrm>
          <a:prstGeom prst="rect">
            <a:avLst/>
          </a:prstGeom>
          <a:ln w="0">
            <a:noFill/>
          </a:ln>
        </p:spPr>
      </p:pic>
      <p:sp>
        <p:nvSpPr>
          <p:cNvPr id="1309" name="Text Box 6"/>
          <p:cNvSpPr/>
          <p:nvPr/>
        </p:nvSpPr>
        <p:spPr>
          <a:xfrm>
            <a:off x="108000" y="5661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  <a:ea typeface="Calibri"/>
              </a:rPr>
              <a:t>Nota*: Trabajador sin remuneración incluye a los trabajadores familiares sin remuneración y a los trabajadores sin remuneración en empresas de otros hogar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5"/>
          <p:cNvSpPr/>
          <p:nvPr/>
        </p:nvSpPr>
        <p:spPr>
          <a:xfrm>
            <a:off x="232560" y="5454720"/>
            <a:ext cx="440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  <a:ea typeface="Calibri"/>
              </a:rPr>
              <a:t>Nota^: Jornalero y peón está incluido en la categoría obrero, empleado particula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2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3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Text Box 3"/>
          <p:cNvSpPr/>
          <p:nvPr/>
        </p:nvSpPr>
        <p:spPr>
          <a:xfrm>
            <a:off x="1133640" y="51264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4"/>
          <p:cNvSpPr/>
          <p:nvPr/>
        </p:nvSpPr>
        <p:spPr>
          <a:xfrm>
            <a:off x="324000" y="5487840"/>
            <a:ext cx="85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5 CuadroTexto"/>
          <p:cNvSpPr/>
          <p:nvPr/>
        </p:nvSpPr>
        <p:spPr>
          <a:xfrm>
            <a:off x="474480" y="5257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9" name="1 Imagen" descr=""/>
          <p:cNvPicPr/>
          <p:nvPr/>
        </p:nvPicPr>
        <p:blipFill>
          <a:blip r:embed="rId1"/>
          <a:stretch/>
        </p:blipFill>
        <p:spPr>
          <a:xfrm>
            <a:off x="611280" y="1330200"/>
            <a:ext cx="763272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5 CuadroTexto"/>
          <p:cNvSpPr/>
          <p:nvPr/>
        </p:nvSpPr>
        <p:spPr>
          <a:xfrm>
            <a:off x="545760" y="5543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1" name="1 Imagen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329080" cy="3915000"/>
          </a:xfrm>
          <a:prstGeom prst="rect">
            <a:avLst/>
          </a:prstGeom>
          <a:ln w="0">
            <a:noFill/>
          </a:ln>
        </p:spPr>
      </p:pic>
      <p:sp>
        <p:nvSpPr>
          <p:cNvPr id="1322" name="1 Rectángulo"/>
          <p:cNvSpPr/>
          <p:nvPr/>
        </p:nvSpPr>
        <p:spPr>
          <a:xfrm>
            <a:off x="1944720" y="461880"/>
            <a:ext cx="552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Total 13 ciudades y áreas  metropolitanas y Villavicenc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</a:t>
            </a:r>
            <a:r>
              <a:rPr b="1" lang="es-CO" sz="1800" spc="-1" strike="noStrike">
                <a:solidFill>
                  <a:srgbClr val="cc0066"/>
                </a:solidFill>
                <a:latin typeface="Arial Narrow"/>
                <a:ea typeface="Calibri"/>
              </a:rPr>
              <a:t>(2015 – 201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Villavicenc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5" name="2 Imagen" descr=""/>
          <p:cNvPicPr/>
          <p:nvPr/>
        </p:nvPicPr>
        <p:blipFill>
          <a:blip r:embed="rId1"/>
          <a:stretch/>
        </p:blipFill>
        <p:spPr>
          <a:xfrm>
            <a:off x="981000" y="1557360"/>
            <a:ext cx="6608880" cy="1942920"/>
          </a:xfrm>
          <a:prstGeom prst="rect">
            <a:avLst/>
          </a:prstGeom>
          <a:ln w="0">
            <a:noFill/>
          </a:ln>
        </p:spPr>
      </p:pic>
      <p:pic>
        <p:nvPicPr>
          <p:cNvPr id="1326" name="1 Imagen" descr=""/>
          <p:cNvPicPr/>
          <p:nvPr/>
        </p:nvPicPr>
        <p:blipFill>
          <a:blip r:embed="rId2"/>
          <a:stretch/>
        </p:blipFill>
        <p:spPr>
          <a:xfrm>
            <a:off x="1233360" y="3933720"/>
            <a:ext cx="61675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1 CuadroTexto"/>
          <p:cNvSpPr/>
          <p:nvPr/>
        </p:nvSpPr>
        <p:spPr>
          <a:xfrm>
            <a:off x="684360" y="18900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Me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9" name="1 Imagen" descr=""/>
          <p:cNvPicPr/>
          <p:nvPr/>
        </p:nvPicPr>
        <p:blipFill>
          <a:blip r:embed="rId1"/>
          <a:stretch/>
        </p:blipFill>
        <p:spPr>
          <a:xfrm>
            <a:off x="955800" y="1628640"/>
            <a:ext cx="73054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Villavicencio 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744480" y="1916280"/>
            <a:ext cx="788508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-108000" y="2408400"/>
            <a:ext cx="313056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bril - junio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8 CuadroTexto"/>
          <p:cNvSpPr/>
          <p:nvPr/>
        </p:nvSpPr>
        <p:spPr>
          <a:xfrm>
            <a:off x="2771640" y="5661000"/>
            <a:ext cx="56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(+) (-): Aumento o disminución de la TD de cada ciudad frente al mismo trimestre  del año anterior</a:t>
            </a: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3 Rectángulo"/>
          <p:cNvSpPr/>
          <p:nvPr/>
        </p:nvSpPr>
        <p:spPr>
          <a:xfrm>
            <a:off x="2771640" y="1928880"/>
            <a:ext cx="6054840" cy="1839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9" name="1 Imagen" descr=""/>
          <p:cNvPicPr/>
          <p:nvPr/>
        </p:nvPicPr>
        <p:blipFill>
          <a:blip r:embed="rId1"/>
          <a:stretch/>
        </p:blipFill>
        <p:spPr>
          <a:xfrm>
            <a:off x="2843280" y="189000"/>
            <a:ext cx="6191280" cy="5533920"/>
          </a:xfrm>
          <a:prstGeom prst="rect">
            <a:avLst/>
          </a:prstGeom>
          <a:ln w="0">
            <a:noFill/>
          </a:ln>
        </p:spPr>
      </p:pic>
      <p:sp>
        <p:nvSpPr>
          <p:cNvPr id="1270" name="6 CuadroTexto"/>
          <p:cNvSpPr/>
          <p:nvPr/>
        </p:nvSpPr>
        <p:spPr>
          <a:xfrm>
            <a:off x="422280" y="4653000"/>
            <a:ext cx="224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*El total de las 23 ciudades no incluye San Andrés por tener una distribución de la muestra diferente. Los resultados presentados para San Andrés corresponden al período enero –  junio 201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 Box 3"/>
          <p:cNvSpPr/>
          <p:nvPr/>
        </p:nvSpPr>
        <p:spPr>
          <a:xfrm>
            <a:off x="1332000" y="47628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Villavicenc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bril - junio (2007 –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5 CuadroTexto"/>
          <p:cNvSpPr/>
          <p:nvPr/>
        </p:nvSpPr>
        <p:spPr>
          <a:xfrm>
            <a:off x="758520" y="5589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5" name="1 Imagen" descr=""/>
          <p:cNvPicPr/>
          <p:nvPr/>
        </p:nvPicPr>
        <p:blipFill>
          <a:blip r:embed="rId1"/>
          <a:stretch/>
        </p:blipFill>
        <p:spPr>
          <a:xfrm>
            <a:off x="836640" y="1628640"/>
            <a:ext cx="801828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Text Box 3"/>
          <p:cNvSpPr/>
          <p:nvPr/>
        </p:nvSpPr>
        <p:spPr>
          <a:xfrm>
            <a:off x="992160" y="40464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Villavicenc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2 - 20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5 CuadroTexto"/>
          <p:cNvSpPr/>
          <p:nvPr/>
        </p:nvSpPr>
        <p:spPr>
          <a:xfrm>
            <a:off x="545760" y="5661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1442880" y="1488960"/>
            <a:ext cx="668196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4"/>
          <p:cNvSpPr/>
          <p:nvPr/>
        </p:nvSpPr>
        <p:spPr>
          <a:xfrm>
            <a:off x="1106640" y="620640"/>
            <a:ext cx="640872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Villavicenc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bril - junio (2015 – 2016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1 Imagen" descr=""/>
          <p:cNvPicPr/>
          <p:nvPr/>
        </p:nvPicPr>
        <p:blipFill>
          <a:blip r:embed="rId1"/>
          <a:stretch/>
        </p:blipFill>
        <p:spPr>
          <a:xfrm>
            <a:off x="144360" y="2421000"/>
            <a:ext cx="88822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2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3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6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3419640" y="387036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Diego Alejandro Martinez Jimenez</cp:lastModifiedBy>
  <cp:lastPrinted>2016-06-23T16:07:38Z</cp:lastPrinted>
  <dcterms:modified xsi:type="dcterms:W3CDTF">2016-08-03T14:20:51Z</dcterms:modified>
  <cp:revision>936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