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dt" idx="25"/>
          </p:nvPr>
        </p:nvSpPr>
        <p:spPr>
          <a:xfrm>
            <a:off x="3954600" y="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Img"/>
          </p:nvPr>
        </p:nvSpPr>
        <p:spPr>
          <a:xfrm>
            <a:off x="1203480" y="685440"/>
            <a:ext cx="4573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30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 type="sldNum" idx="27"/>
          </p:nvPr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02A-70EE-4F97-9BA1-24BB03C24D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994A-4406-4F27-AEC4-483C7D8CA2C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8490-049B-48E9-8CF0-FEF072DB114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E27E-D34D-495C-9CC8-B48F99412BC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D305-4228-4138-880A-9B76537D31C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954600" y="868536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D693-AFA6-44C6-82D5-449AA867A59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0636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98040" y="4343400"/>
            <a:ext cx="558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C773-652B-46F1-940E-8FFFF17C131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5F97-BB87-40DB-A976-9BD34C21A8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8782-B0ED-4A0F-A334-AF416AE17C3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D654-14F4-4D44-95A3-9D225795FD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1E3-FE95-4BF7-A1D6-942BF9AE9D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8636-FF10-4B0E-B859-EA4D98413D9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025F-0E15-4AF3-AD74-A1465A86DC6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CFD0-58BF-4C52-9D62-A0E9B59854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2FBC-F7A2-413B-91B2-ECCD3487C07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78651-4C7A-4CB9-88C3-FBF16E80A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8CA65-5CAB-4C72-AAAF-8BA7EC95F4D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B4217-2CE6-4B39-9978-8C897C572B6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99AC3-EF7C-46C3-A7EA-D33E16282CC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753D7-C9C1-4F38-8E9F-F185547017E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7939B-A4DD-4B78-989B-2F691358709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6099E-5461-4829-99DC-652E2A24E6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8D309-F73A-46EA-AD36-3D72A7E330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FB47EF-582B-43D6-B330-D8DD116FA8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03928-77D4-4F3C-872C-53E50722A9F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0DFCC-86F0-4843-BE6D-505EB6D1C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B80C8-D898-49F3-BD53-D82D9BD7FC8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C8F7D-D51E-4519-9BD1-0E9B30AA233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DCE66-D344-42F3-B855-49E363415B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5363F-5CE1-4527-871E-5FD9D64715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1EEEB-DE09-4B8A-8F26-DBF415319BB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EE747-4FEA-4A57-88DE-D60269735C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238AD-7756-4BEA-81C2-1E51B167EDC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6B0FB-4F8B-40F3-89A0-C1D236E777F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60F7E-BE1A-451C-A329-F9AF436994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D8CF8-9EAD-45AB-89E5-76F95C022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33C1-F296-433E-84A0-72059413DC8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3077B-769F-480A-8785-028680E947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91F05-4B79-4C0D-B541-EBE2EACF06E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A2422-530F-4BFD-9B06-27D08B4D133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E20C-289F-4883-8381-C0F41D6FE1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4271-E532-4A13-B864-BA755ED80AB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DB2A-CC19-480A-9EE6-E55C6C1A041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6CAF7-A317-42FE-BAE2-B46ECFB78CE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8F13-AFAD-453C-91BC-26DCEB20A01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09F2-126B-4610-986E-A8681F551EA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B2EB-9666-4FF5-9AD5-FC9DB8D7F7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2AA2-BF9A-4AD5-A09C-4F6B2B0E28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68D1-5EA1-43F9-ABB3-BBAEB7DBEA2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0AD3-2242-4307-A550-BD0A634B6FA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E059-8407-49CF-ACE3-ECC83C1AEC2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7F29-9E88-4C8B-86AD-EB5775A5DE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D3C7-A2FA-4DA7-AF86-156BBC8FDF8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194F3-798E-4AE4-B773-7E1C97B8239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12748-9181-4DDB-A1BC-36405EA0510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4EB6A-77DF-4DF8-8EDF-DAB3CDCA71C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E9F92-F192-4DE0-8642-F565619BC6B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ADFE2-FC01-484D-8E03-3D8DF882B0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2893-286D-4E70-99C2-D2D237443CA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677FD-640F-4D69-A276-7D73711D9EE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F96E7-94A1-427D-8790-CE18D83411E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99910-8D81-4BAB-92A0-0CF9DE67C09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B913F-CF65-40F6-89A9-D8201DF8278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800B3-8281-402D-BC45-8CF9FAA216E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87456F-B9EA-4AA4-B135-4932BA8DADB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8B36D-DA38-43F0-B2C2-6C94D08DC39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B6C6C-E254-44DE-B7B9-DEAF71012E5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79FFD-98D6-4DA2-8AA0-D06DF3C479F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6E12E-83B7-47C0-8814-F55D8E7F3B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01E0-C829-4D02-8552-09DDF377B2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6534C-114A-4871-8E96-1AF98DFEA97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3CF32-9414-47F8-B864-54A5316B1A2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D1BFD-A5CF-4430-B64F-FDAEE9A698B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79E34-6950-475F-9256-9858CE8172C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E8EA4-0902-481A-99A1-AA9081EBD72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3EDFC-B42D-412E-BC85-0056AF6A13D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65A87-0387-4353-AC88-4E3B1FD8508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AA3BF-F79C-435F-9CBB-06996B7E43C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0B09C-8258-41C7-AFD6-7756B4B8C27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9D897-445D-455A-ADD6-E932E6F02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E2FF-0081-40F9-AE37-D134F84B463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E678C-1162-43D7-A0CF-ABFBA9F8CDE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214B-A3AC-432D-A83E-8E78449A11E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3299-7783-4E90-87A0-FAF4A16A064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FEB5-1255-4AE8-A74C-F67EE09CDC6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897AC-06F8-4292-8A50-1EDE8DE80A9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A7A2-7A74-4C83-AEF5-D568A854E95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3DF3-A90D-4F37-B35D-D020483D951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4C1E-0FB2-4960-BA5E-004909EEA3B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F42E7-F508-4211-885B-0F07F0F1C01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8CAB-6FFC-4F89-963B-523BB5219B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5052-182A-429D-83B3-AE60B49E796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D09B-3448-4F24-A921-DF8B400A7D5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F35FA6-0A75-4CFF-9494-B3F553BC089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3DE495-E097-434E-9F90-B1D68C6BE88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EC2B67-12A7-4ED5-BA39-6DF1EDDE7EF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3651DF-0448-4D94-8A0B-6D53DF49091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1CE4AE-F616-41D9-BD31-4EF62F71C6E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196528-37F6-41EF-8EA6-F81F00344AE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974AB2-4CAE-480E-94F1-1D2F7AB531F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08AD0E-305C-4E4D-AD84-389C44FFBA4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3B4171-4AAE-4631-8859-B89F6C7E10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A079-D1A2-4716-8D58-629CDDC7731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436CD-8740-4B4A-9941-5CD6E94AFB9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92CD10-B1A9-4101-A0D0-9E58C817B04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552153-FE59-49C1-8492-EF947BDCBF3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70943-0A5A-496D-8880-548268E1EC5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9C4BF-7EE8-49C6-88DA-5CC4ECD8D40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0F950-E84E-4A32-B466-753EB7BB507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6B4E3-4443-4C4C-B78B-E8F34A91062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B2E5D-FA3F-4000-831C-74938B80633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C0CA1-91EA-4258-904F-84BC7AC24D4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380DB-3160-4604-B07F-354B99F44C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A136-DE16-462D-B9A8-98861897B08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9FC75-C887-4645-B9A6-94486975464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40503-E964-4126-94FA-89B70EDBDC6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614BB-AF7A-467D-B894-0E3A195F9CC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E4D54-6F42-4A1A-B1FD-51E6558E8B2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C865B-931A-4194-9097-CB60FFD8B10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7846C-99C0-4768-BA29-605E14A3F49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4A01A-88B9-497E-834A-3CE2AC014E3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1934-1B30-403F-B6B2-E6D282F9A67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63AF-697A-4779-9FB5-A205E708052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6856-B757-4B35-9988-D75DEE6704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2A28-982A-4C7F-9509-F0EAF9BF7BE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E9F3-C40B-43AA-9B00-81648753D32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5D597-D5A8-4957-ADFB-0D69C7BADF8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C958-429B-45DB-B848-92ABEE67DF4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33279-B5E0-4A33-A9D2-D377167DDE7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EBC59-ED20-4B35-97BB-E4889D590A4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7EBD7-78C9-48CC-9C48-A5A270B775E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5186-AC75-440D-8BA5-84717855DE5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E2E4F9-2A83-40B5-BB8B-76B2F544B7D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BFB851-11FC-4522-B78B-C3D2B9CAA47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742BE-BA9C-463B-BA70-A0EF74EE87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D3AF-7A5B-4514-9B8D-0C9A8FC6F0D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1C5D1-AD39-4592-900C-97B2DDC27CB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46013C-BABB-4440-AE90-8BA2E48370A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9D4C9C-3ABA-473E-A70A-440A22DCA4F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34247-1119-457F-943C-B09FD517E7B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BCE143-1E19-402E-9B59-86544C7A856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39F5F7-6A09-4C70-A2B0-B740C2CF8D3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1413B-906A-42DD-B388-740834CA770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1D1598-ADDF-417B-B4CA-B3DD8DA6543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859240-9722-4E1D-9E9E-75CF9BF176C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F4FEF-BC33-4308-8271-09305ACD3B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22A9-7310-471C-B002-CA68C31CA80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E066D-DAF5-4522-A742-B23BFE7CB79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FD5B7-D7E5-44EA-9449-88C0BD93D52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44DA3-3E28-48BA-A08E-193EB62350C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008F6-EC9C-4E08-B50B-11277133E63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86164-441C-46D9-BF80-945E8B79BAE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CC942-6491-416F-BC97-0F7903788B5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49B5F-1763-4C3F-8C10-3BE29474EA8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658BD-128E-48DF-B4DD-95F9DF08348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BC7CD-061C-443D-BE0E-A556DD848E6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E119C-A671-4039-BEBE-0105439E1B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D9E9-B6C4-4D25-B1B3-73715AAA7A1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08F26-3EB7-4112-AD8B-25B625CA3B9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5985D-FFD4-4E0F-9ABF-306FF187116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0A642-7634-453B-B4AB-1165C750497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264CD-D780-4F3F-AA3E-164F36A0555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0BBF7-6DDE-40A2-9745-CF735564A47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335D2-A33F-4885-BF33-89172002EFA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E1335-AB86-496C-B45D-27EF1CEBDD0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5CE5-655E-44CF-9B7D-3B01F623B95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8BE06-C26A-487F-9CEB-AF75DBFF759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66303-1ADC-4493-B12E-27878B2CF6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CFACE-79A7-43FF-8C8C-C2E20655289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86B40-F679-407D-91D3-BA8B33530A6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0DAB7-8680-4FD9-99EA-D0125842D41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DFF35B-644F-4A86-B806-7409BBB6C15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0033C9-3005-4AF2-8482-EBFD94AF116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B93B93-01C0-4133-90B7-149BE16EAA2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728415-56AC-4A4D-AA09-C2D29A9914A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FDFD2E-BAFF-489A-BC00-8829392101F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BB0029-BEED-4FFA-B225-FD79FD1801A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92D2D4-8862-477A-9B0A-61A1E2B380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B0D0B3-4719-418D-ADF1-074906ADA28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8B4B8A-F55C-4D13-9DE2-39EEB2849E8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F4544-BBD8-4941-A39E-22D2669BA09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ECA7C2-B735-4671-A52E-DEC8DA6E0F1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5367D7-21DB-4BB8-9517-F2B01CA5A6B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2BB2B-4E48-4F7C-8D48-EB201A5D9B9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717EE-F87F-4B40-B925-BA8E9871507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A433F-AF8A-4EBF-A759-3763C374AA5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5BF12-3AF5-4183-A6B4-C64B7016436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612F6-671A-4D2A-AD74-2B4A09A8E6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90433-9FED-456E-A95A-7D0C8D9ADE4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0F340-3137-45D0-A0D2-4875C332962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10E14-46E0-4DAE-B774-B2D68D1A831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AA01F-0253-4C70-90B8-1AF860B73B9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BF13C-66AE-4D69-A6CA-92DEFA58699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64BA9-17DE-43DF-B871-9C44F661F8E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695A5-50D0-45A9-A315-1B28E687BB4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638AE-DF7A-45E3-B31C-8E69AC0729E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8B50D-7478-4D8B-B65C-A4BA7CAE2DE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2FABB-3AD4-479B-8D75-F8B8297B2D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5A39F-CB38-4EFB-8B0D-5BBBAB308E6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E9F5-1330-424C-9079-6D853CBEF06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895B-4CCB-436F-9634-04E1687A36E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8D237-E7CA-4793-A5B3-33C05570C41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DE066-C1D8-45E7-9A8D-FE621B0CFC1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2F82C-CBC2-485D-9DBC-FF8D5B19680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0AB6D-FADD-44B5-AD12-B2FC898E66B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B73B9-D07B-489D-BB2B-F5D3933C653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AD736-E0F8-4836-AF43-A8E01C35638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B12E8A-6A43-4335-8523-EF883F3AAC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9858DC-6B68-4FF2-8EB2-B90964733A3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594548-1744-4B09-B628-D24ADDA0BFF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A7D40B-40A7-46BA-841A-8336FE39575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9A0F4D-EBAD-43FF-A800-CF4F5A92E58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6D9301-7F37-4BC8-BDC7-A235C00B5D8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5E14BD-C50D-4A65-9CC1-DC557EE5FCB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35A1A6-9BA3-4222-91E9-31147998ED7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34ED75-E681-44FF-9DE7-B44C0A9F8EE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00EAC2-A311-4A80-A930-B7BE2C228D0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6C20A0-F951-4224-9302-A92F09496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3014A4-83AA-47C0-80C9-C36AF560D44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13EA3-B215-46BD-B110-C607B3B255F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D06D8A-BD92-469C-AC92-54E3D953BC7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E514A6-3B03-49E4-ACCC-F5473C24245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8BF67D-01CF-4675-BD29-B2841D244AF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319BE2-169B-4C14-AAB2-1E5D1FDF707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D39335-312B-4BCB-8413-2661078868B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FAC8D3-0E84-4986-A601-B6F8F987925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45125-ACD5-4E36-A678-23F51CBF6BB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A2FC6-318C-4AB8-B9FF-C87A5D26F6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91C4FB-E0F2-4117-8F71-D03E4687306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B33C6-BE94-4303-9143-2CD88E1FB7B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9D972-5DB7-4132-9788-845423D0E2B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E124C-7612-40CB-8481-54FD4BE5811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4262A-9908-4EFD-8A89-234E26658B0B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05676-446F-4321-9719-BDD61D0E304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0448B-28F8-47C3-90A7-EEFA61386D5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DD82C-95C9-4227-B87D-522266FF86A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E2FDF-72A4-4F1D-88C4-F2AB25EFA37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7273-9CDA-4776-B9C5-4264F86F91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366BB-7265-453E-8C28-3EF520DB47D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374CC-436E-4CFA-B1F5-F1ADD325935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B3488-8707-4E3D-8DF8-81A54613520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4CD3B-9A72-4DFB-94DF-D0FB03374B4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012CF-075E-4BE8-96E3-3713BD6825B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45E4-9E5B-4F3A-AA9F-AE644CCC62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187D-B79E-4BAD-97AE-6570A712F0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AA9C-301D-4676-ABBA-D34F64FE6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9082B-D659-4086-9B62-A875E15CD7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14BB-540B-4ECA-92CE-6F34B21BCE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0B43-C3DA-49A6-9B88-1BBDCBE834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D06B-3CDC-43EF-B580-42D5F834DE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6055-2B46-421E-A71E-555EA39B3F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58EE-EE97-4594-94BB-E565AFC5BF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AF9E-6C7D-4807-9671-C2D3CFFCDC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CB1F-C0B1-4478-B5A4-1B72AD700E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B900-1ABE-403F-94F0-84E5E7023E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CE1-EC57-4D5F-BD19-DE70516DDF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67C-5F29-45AA-8FB2-885479572D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C5A-7D2E-4037-9EFD-DBE044581D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BD2-FEB9-477F-87C4-85EAAD489B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F48-4E32-441D-9016-24CC3FC972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789-FB35-4890-AAF1-CF0229E436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706-9AAD-4275-9B83-99DAA3B768D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679-B430-4194-9FB8-BACE6919AC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C69-B81C-46E6-8B1E-363D140B6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0D8-BA0A-4326-8809-CE27D4DB85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07A-9879-44F2-B023-851D8CCC539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A7A-117C-4F3E-80F4-879C03BC56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F0357-1929-43B3-AC3A-9B550E78EF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3A4B2-A354-43DA-98BC-2F4EC1C162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A0D04-E6CD-4E94-8C61-93824890B4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A873E-B30B-4460-B6C0-DC397831C83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F1B29-E5C4-4B76-A81E-B6BD9BCCF6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94061-7BFF-48D4-88F9-FD97F345C2F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CFCB3-D163-47D5-9F1E-19A278A01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7CADA-11F1-409B-923F-675FEB9A50D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83CAB-98A7-4971-AAEB-84D2E3CE36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5D9B9-51FB-4F65-8469-F1D86B035EF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02CC5-95AE-4554-ACE5-F4A09B9D2E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77AF1-8F14-4EDB-A620-6B53C6E157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01205-26F5-4F3D-8F88-BF9285043D0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AB5CA-A51D-484D-BBD8-D88D1EFCD7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C64C2-2D09-4A3D-A545-5371FD94D9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57D1B-470F-407A-9676-D912E72395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9087E-97F8-43D2-9C64-5F40A2DEA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23232-5FEE-426D-9E36-DEC9A8FC149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6EF00-D9FF-4E45-BFD7-0DB539BB86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C8A1E-E35E-45E3-9D50-ED22BC1CEA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3550F-956A-41DB-865F-79464F9DBB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DFB35-C41E-469C-B615-44E7522313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8FB5D-8586-4C12-85C3-D783D01019B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A985A-6236-42AF-8E49-6C7E62F336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B0F4-CE66-40A9-AFDE-39576F8CE21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9DF6-797B-4E09-AA36-5AFED5157B9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FAD9-0342-4B09-880C-C6F1E7604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8E3C-2C45-480F-93AE-918E99A1B20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8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A529-9D45-46C8-B132-0752867A76B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F0F2-456B-4B05-8F98-184FC82B069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0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50E7-18E2-456F-BA5E-1E43337BCFD9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171E-98EB-4890-9C88-2DA398AA55B2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12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190F-E4EF-446D-AF1A-A7E5534BACDA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B2E4-8BDF-4654-A3BD-1CAB57BE7354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163F-6556-4737-A689-0F5C9AD1C8D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5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440D-C299-4583-9B2D-77A5E790001E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6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5BC4-5909-452D-9063-49F09086F752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ldNum" idx="1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021D-5E20-4401-8841-74FF5A7914EC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17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CDA9-C03F-4224-8CE1-B588F040A534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7604-C42A-4A2C-B54C-1D4E10F6FBF5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19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9F26-DF72-49C9-9363-15106165150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sldNum" idx="20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7072-0E1E-4263-8769-7E73F4E3267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C92A-704A-437E-B040-AC1392393C03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sldNum" idx="2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2437-FA77-43FD-905E-9B4141719CB0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23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33AC-DC7E-462A-8A2A-B4AB0EB12C5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24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C59B-4D6B-4832-991D-8F33AA06258B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427640" y="2639880"/>
            <a:ext cx="47149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image6.png"/>
          <p:cNvPicPr/>
          <p:nvPr/>
        </p:nvPicPr>
        <p:blipFill>
          <a:blip r:embed="rId2"/>
          <a:stretch/>
        </p:blipFill>
        <p:spPr>
          <a:xfrm>
            <a:off x="4427640" y="3932280"/>
            <a:ext cx="4714920" cy="10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ane_logo_2015_lema.jpeg"/>
          <p:cNvPicPr/>
          <p:nvPr/>
        </p:nvPicPr>
        <p:blipFill>
          <a:blip r:embed="rId3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age1.png"/>
          <p:cNvPicPr/>
          <p:nvPr/>
        </p:nvPicPr>
        <p:blipFill>
          <a:blip r:embed="rId4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mage2.png"/>
          <p:cNvPicPr/>
          <p:nvPr/>
        </p:nvPicPr>
        <p:blipFill>
          <a:blip r:embed="rId5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3.png"/>
          <p:cNvPicPr/>
          <p:nvPr/>
        </p:nvPicPr>
        <p:blipFill>
          <a:blip r:embed="rId6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640" y="2852640"/>
            <a:ext cx="41148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ane_logo_2015_lema.jpeg"/>
          <p:cNvPicPr/>
          <p:nvPr/>
        </p:nvPicPr>
        <p:blipFill>
          <a:blip r:embed="rId2"/>
          <a:srcRect l="0" t="11168" r="0" b="11168"/>
          <a:stretch/>
        </p:blipFill>
        <p:spPr>
          <a:xfrm>
            <a:off x="322200" y="5827680"/>
            <a:ext cx="3529080" cy="98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mage5.png"/>
          <p:cNvPicPr/>
          <p:nvPr/>
        </p:nvPicPr>
        <p:blipFill>
          <a:blip r:embed="rId3"/>
          <a:stretch/>
        </p:blipFill>
        <p:spPr>
          <a:xfrm>
            <a:off x="0" y="-270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ldNum" idx="2"/>
          </p:nvPr>
        </p:nvSpPr>
        <p:spPr>
          <a:xfrm>
            <a:off x="6552720" y="641340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E793-77E6-4FC4-A6B0-E9E8F45CAD08}" type="slidenum">
              <a:rPr b="0" lang="es-CO" sz="12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6600" indent="-7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3440" indent="-889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632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428400" indent="-99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428400" indent="-99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dane_logo_2015_lema.jpeg"/>
          <p:cNvPicPr/>
          <p:nvPr/>
        </p:nvPicPr>
        <p:blipFill>
          <a:blip r:embed="rId2"/>
          <a:srcRect l="0" t="17330" r="0" b="17330"/>
          <a:stretch/>
        </p:blipFill>
        <p:spPr>
          <a:xfrm>
            <a:off x="0" y="2276640"/>
            <a:ext cx="9142560" cy="214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2"/>
          <p:cNvGrpSpPr/>
          <p:nvPr/>
        </p:nvGrpSpPr>
        <p:grpSpPr>
          <a:xfrm>
            <a:off x="2279520" y="6019920"/>
            <a:ext cx="4581720" cy="287280"/>
            <a:chOff x="2279520" y="6019920"/>
            <a:chExt cx="4581720" cy="287280"/>
          </a:xfrm>
        </p:grpSpPr>
        <p:pic>
          <p:nvPicPr>
            <p:cNvPr id="184" name="Picture 3" descr="image1.png"/>
            <p:cNvPicPr/>
            <p:nvPr/>
          </p:nvPicPr>
          <p:blipFill>
            <a:blip r:embed="rId3"/>
            <a:stretch/>
          </p:blipFill>
          <p:spPr>
            <a:xfrm>
              <a:off x="22795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image2.png"/>
            <p:cNvPicPr/>
            <p:nvPr/>
          </p:nvPicPr>
          <p:blipFill>
            <a:blip r:embed="rId4"/>
            <a:stretch/>
          </p:blipFill>
          <p:spPr>
            <a:xfrm>
              <a:off x="528732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image3.png"/>
            <p:cNvPicPr/>
            <p:nvPr/>
          </p:nvPicPr>
          <p:blipFill>
            <a:blip r:embed="rId5"/>
            <a:stretch/>
          </p:blipFill>
          <p:spPr>
            <a:xfrm>
              <a:off x="3776040" y="6019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59524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@DANE_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106880" y="6053040"/>
              <a:ext cx="127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592960" y="6053040"/>
              <a:ext cx="126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/DANEColo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14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42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381400" indent="-5526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381400" indent="-552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3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069A-A98E-4233-BBED-5E65A9D4451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4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96D8-3C7C-4860-942C-DC198BD93DB8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5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0B22-E6A3-4C90-980D-360C8F8D26A0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-27000"/>
            <a:ext cx="9144000" cy="13082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image1.png"/>
          <p:cNvPicPr/>
          <p:nvPr/>
        </p:nvPicPr>
        <p:blipFill>
          <a:blip r:embed="rId2"/>
          <a:stretch/>
        </p:blipFill>
        <p:spPr>
          <a:xfrm>
            <a:off x="25092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image2.png"/>
          <p:cNvPicPr/>
          <p:nvPr/>
        </p:nvPicPr>
        <p:blipFill>
          <a:blip r:embed="rId3"/>
          <a:stretch/>
        </p:blipFill>
        <p:spPr>
          <a:xfrm>
            <a:off x="3260880" y="6308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image3.png"/>
          <p:cNvPicPr/>
          <p:nvPr/>
        </p:nvPicPr>
        <p:blipFill>
          <a:blip r:embed="rId4"/>
          <a:stretch/>
        </p:blipFill>
        <p:spPr>
          <a:xfrm>
            <a:off x="1747800" y="6308640"/>
            <a:ext cx="289080" cy="287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5540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@DANE_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06676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552840" y="634212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Calibri"/>
              </a:rPr>
              <a:t>/DANEColomb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8" descr="dane_logo_2015_lema.jpeg"/>
          <p:cNvPicPr/>
          <p:nvPr/>
        </p:nvPicPr>
        <p:blipFill>
          <a:blip r:embed="rId5"/>
          <a:srcRect l="0" t="11170" r="0" b="11170"/>
          <a:stretch/>
        </p:blipFill>
        <p:spPr>
          <a:xfrm>
            <a:off x="6154560" y="6018120"/>
            <a:ext cx="2845080" cy="7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image5.png"/>
          <p:cNvPicPr/>
          <p:nvPr/>
        </p:nvPicPr>
        <p:blipFill>
          <a:blip r:embed="rId6"/>
          <a:stretch/>
        </p:blipFill>
        <p:spPr>
          <a:xfrm>
            <a:off x="0" y="3873600"/>
            <a:ext cx="9142560" cy="274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2880" y="0"/>
            <a:ext cx="77184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200" y="4279680"/>
            <a:ext cx="756108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 marL="164520" indent="-16452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7480" indent="-29808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4840" indent="-3564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8528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14320" indent="-397800">
              <a:lnSpc>
                <a:spcPct val="90000"/>
              </a:lnSpc>
              <a:spcBef>
                <a:spcPts val="1001"/>
              </a:spcBef>
              <a:buClr>
                <a:srgbClr val="b6014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14320" indent="-39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6"/>
          </p:nvPr>
        </p:nvSpPr>
        <p:spPr>
          <a:xfrm>
            <a:off x="4962600" y="6356160"/>
            <a:ext cx="2133360" cy="33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F7E2-0A02-47BE-A2B6-87B247529A11}" type="slidenum">
              <a:rPr b="0" lang="es-C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12880" y="44280"/>
            <a:ext cx="7718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Verdana"/>
              </a:rPr>
              <a:t>Mercado Labo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5" name="Picture 3" descr="C:\Users\maarias\Desktop\Fotografias_Boletin_Comunicado_Prensa_23_12_14\Fotografias_Boletin_Comunicado_Prensa\Boletin_DANE (1).pn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324000" y="3859200"/>
            <a:ext cx="5616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6014c"/>
                </a:solidFill>
                <a:latin typeface="Arial"/>
                <a:ea typeface="Arial"/>
              </a:rPr>
              <a:t>Barranquilla AM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C, agosto de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* El Área Metropolitana de Barranquilla incluye a Sole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6858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685800" y="5493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216000" y="523404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*: Agricultura, ganadería, caza, silvicultura y pesca; explotación de minas y canteras;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6 CuadroTexto"/>
          <p:cNvSpPr/>
          <p:nvPr/>
        </p:nvSpPr>
        <p:spPr>
          <a:xfrm>
            <a:off x="1252440" y="498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0" name="1 Imagen" descr=""/>
          <p:cNvPicPr/>
          <p:nvPr/>
        </p:nvPicPr>
        <p:blipFill>
          <a:blip r:embed="rId1"/>
          <a:stretch/>
        </p:blipFill>
        <p:spPr>
          <a:xfrm>
            <a:off x="1046160" y="1557360"/>
            <a:ext cx="7050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1366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549288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Otras ramas*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6 CuadroTexto"/>
          <p:cNvSpPr/>
          <p:nvPr/>
        </p:nvSpPr>
        <p:spPr>
          <a:xfrm>
            <a:off x="115704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1 Imagen" descr=""/>
          <p:cNvPicPr/>
          <p:nvPr/>
        </p:nvPicPr>
        <p:blipFill>
          <a:blip r:embed="rId1"/>
          <a:stretch/>
        </p:blipFill>
        <p:spPr>
          <a:xfrm>
            <a:off x="1190520" y="1727280"/>
            <a:ext cx="6761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7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98" name="Rectangle 3"/>
          <p:cNvSpPr/>
          <p:nvPr/>
        </p:nvSpPr>
        <p:spPr>
          <a:xfrm>
            <a:off x="1403280" y="29559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SEG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POSICIÓN OCUP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-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971640" y="549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468360" y="515772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 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 : 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8 CuadroTexto"/>
          <p:cNvSpPr/>
          <p:nvPr/>
        </p:nvSpPr>
        <p:spPr>
          <a:xfrm>
            <a:off x="1141200" y="4941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5" name="1 Imagen" descr=""/>
          <p:cNvPicPr/>
          <p:nvPr/>
        </p:nvPicPr>
        <p:blipFill>
          <a:blip r:embed="rId1"/>
          <a:stretch/>
        </p:blipFill>
        <p:spPr>
          <a:xfrm>
            <a:off x="870120" y="1628640"/>
            <a:ext cx="74023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1327320" y="4762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 Box 6"/>
          <p:cNvSpPr/>
          <p:nvPr/>
        </p:nvSpPr>
        <p:spPr>
          <a:xfrm>
            <a:off x="719280" y="5222880"/>
            <a:ext cx="7351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^: Jornalero y peón está incluido en la categoría obrero, empleado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*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8 CuadroTexto"/>
          <p:cNvSpPr/>
          <p:nvPr/>
        </p:nvSpPr>
        <p:spPr>
          <a:xfrm>
            <a:off x="112212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1" name="1 Imagen" descr=""/>
          <p:cNvPicPr/>
          <p:nvPr/>
        </p:nvPicPr>
        <p:blipFill>
          <a:blip r:embed="rId1"/>
          <a:stretch/>
        </p:blipFill>
        <p:spPr>
          <a:xfrm>
            <a:off x="833400" y="1413000"/>
            <a:ext cx="74772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3"/>
          <p:cNvSpPr/>
          <p:nvPr/>
        </p:nvSpPr>
        <p:spPr>
          <a:xfrm>
            <a:off x="1403280" y="29559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INACTIVA 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TIPO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1189080" y="54936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42920" y="5516640"/>
            <a:ext cx="80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6 CuadroTexto"/>
          <p:cNvSpPr/>
          <p:nvPr/>
        </p:nvSpPr>
        <p:spPr>
          <a:xfrm>
            <a:off x="1625400" y="52941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0" name="1 Imagen" descr=""/>
          <p:cNvPicPr/>
          <p:nvPr/>
        </p:nvPicPr>
        <p:blipFill>
          <a:blip r:embed="rId1"/>
          <a:stretch/>
        </p:blipFill>
        <p:spPr>
          <a:xfrm>
            <a:off x="361800" y="1319040"/>
            <a:ext cx="84823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5 CuadroTexto"/>
          <p:cNvSpPr/>
          <p:nvPr/>
        </p:nvSpPr>
        <p:spPr>
          <a:xfrm>
            <a:off x="216504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1332000" y="620640"/>
            <a:ext cx="68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Proporción del empleo informal en la población ocupa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otal 13 ciudades, áreas metropolitanas y 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 Abril – junio (2015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1 Imagen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4 CuadroTexto"/>
          <p:cNvSpPr/>
          <p:nvPr/>
        </p:nvSpPr>
        <p:spPr>
          <a:xfrm>
            <a:off x="1476360" y="9810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5 CuadroTexto"/>
          <p:cNvSpPr/>
          <p:nvPr/>
        </p:nvSpPr>
        <p:spPr>
          <a:xfrm>
            <a:off x="703080" y="504720"/>
            <a:ext cx="725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Límites de confianza y error relativo de la población de la fuerz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trabajo e indicadores de mercado lab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Calibri"/>
                <a:ea typeface="Calibri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2 Imagen" descr=""/>
          <p:cNvPicPr/>
          <p:nvPr/>
        </p:nvPicPr>
        <p:blipFill>
          <a:blip r:embed="rId1"/>
          <a:stretch/>
        </p:blipFill>
        <p:spPr>
          <a:xfrm>
            <a:off x="770040" y="1635120"/>
            <a:ext cx="7440480" cy="1649520"/>
          </a:xfrm>
          <a:prstGeom prst="rect">
            <a:avLst/>
          </a:prstGeom>
          <a:ln w="0">
            <a:noFill/>
          </a:ln>
        </p:spPr>
      </p:pic>
      <p:pic>
        <p:nvPicPr>
          <p:cNvPr id="1327" name="1 Imagen" descr=""/>
          <p:cNvPicPr/>
          <p:nvPr/>
        </p:nvPicPr>
        <p:blipFill>
          <a:blip r:embed="rId2"/>
          <a:stretch/>
        </p:blipFill>
        <p:spPr>
          <a:xfrm>
            <a:off x="1270080" y="3716280"/>
            <a:ext cx="65530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1 CuadroTexto"/>
          <p:cNvSpPr/>
          <p:nvPr/>
        </p:nvSpPr>
        <p:spPr>
          <a:xfrm>
            <a:off x="1308240" y="404640"/>
            <a:ext cx="68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tlán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 </a:t>
            </a: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2007 -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4 CuadroTexto"/>
          <p:cNvSpPr/>
          <p:nvPr/>
        </p:nvSpPr>
        <p:spPr>
          <a:xfrm>
            <a:off x="1461240" y="5732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1 Imagen" descr=""/>
          <p:cNvPicPr/>
          <p:nvPr/>
        </p:nvPicPr>
        <p:blipFill>
          <a:blip r:embed="rId1"/>
          <a:stretch/>
        </p:blipFill>
        <p:spPr>
          <a:xfrm>
            <a:off x="1095480" y="1879560"/>
            <a:ext cx="70358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8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4"/>
          <p:cNvSpPr/>
          <p:nvPr/>
        </p:nvSpPr>
        <p:spPr>
          <a:xfrm>
            <a:off x="1050840" y="197964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Indicadores</a:t>
            </a:r>
            <a:r>
              <a:rPr b="1" lang="es-ES" sz="3200" spc="-1" strike="noStrike">
                <a:solidFill>
                  <a:srgbClr val="a7a7a7"/>
                </a:solidFill>
                <a:latin typeface="Arial Narrow"/>
                <a:ea typeface="Calibri"/>
              </a:rPr>
              <a:t> </a:t>
            </a:r>
            <a:r>
              <a:rPr b="1" lang="es-ES" sz="3200" spc="-1" strike="noStrike">
                <a:solidFill>
                  <a:srgbClr val="808080"/>
                </a:solidFill>
                <a:latin typeface="Verdana"/>
                <a:ea typeface="Calibri"/>
              </a:rPr>
              <a:t>del mercad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2124000" y="29559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23 ciudades y áreas metropolit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"/>
          <p:cNvSpPr/>
          <p:nvPr/>
        </p:nvSpPr>
        <p:spPr>
          <a:xfrm>
            <a:off x="0" y="763560"/>
            <a:ext cx="46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3"/>
          <p:cNvSpPr/>
          <p:nvPr/>
        </p:nvSpPr>
        <p:spPr>
          <a:xfrm>
            <a:off x="412920" y="6541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Resumen indic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  <a:ea typeface="Calibri"/>
              </a:rPr>
              <a:t>Barranquilla AM – Total 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1 Imagen" descr=""/>
          <p:cNvPicPr/>
          <p:nvPr/>
        </p:nvPicPr>
        <p:blipFill>
          <a:blip r:embed="rId1"/>
          <a:stretch/>
        </p:blipFill>
        <p:spPr>
          <a:xfrm>
            <a:off x="746280" y="2060640"/>
            <a:ext cx="765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6 Rectángulo"/>
          <p:cNvSpPr/>
          <p:nvPr/>
        </p:nvSpPr>
        <p:spPr>
          <a:xfrm>
            <a:off x="2886120" y="4941720"/>
            <a:ext cx="6048360" cy="144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8" name="1 Imagen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58338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87280" y="90792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Calibri"/>
              </a:rPr>
              <a:t>Abril – junio (2007 - 20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1 Imagen" descr=""/>
          <p:cNvPicPr/>
          <p:nvPr/>
        </p:nvPicPr>
        <p:blipFill>
          <a:blip r:embed="rId1"/>
          <a:stretch/>
        </p:blipFill>
        <p:spPr>
          <a:xfrm>
            <a:off x="1081080" y="2036880"/>
            <a:ext cx="7346880" cy="3512880"/>
          </a:xfrm>
          <a:prstGeom prst="rect">
            <a:avLst/>
          </a:prstGeom>
          <a:ln w="0">
            <a:noFill/>
          </a:ln>
        </p:spPr>
      </p:pic>
      <p:sp>
        <p:nvSpPr>
          <p:cNvPr id="1273" name="5 CuadroTexto"/>
          <p:cNvSpPr/>
          <p:nvPr/>
        </p:nvSpPr>
        <p:spPr>
          <a:xfrm>
            <a:off x="2030040" y="56214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992160" y="549360"/>
            <a:ext cx="71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asa de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Barranquilla 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66"/>
                </a:solidFill>
                <a:latin typeface="Arial Narrow"/>
                <a:ea typeface="Calibri"/>
              </a:rPr>
              <a:t>Trimestres móviles 2012 -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5 CuadroTexto"/>
          <p:cNvSpPr/>
          <p:nvPr/>
        </p:nvSpPr>
        <p:spPr>
          <a:xfrm>
            <a:off x="155376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Calibri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1 Imagen" descr=""/>
          <p:cNvPicPr/>
          <p:nvPr/>
        </p:nvPicPr>
        <p:blipFill>
          <a:blip r:embed="rId1"/>
          <a:stretch/>
        </p:blipFill>
        <p:spPr>
          <a:xfrm>
            <a:off x="1467000" y="1681200"/>
            <a:ext cx="6210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2050920" y="549360"/>
            <a:ext cx="48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Barranquilla 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66"/>
                </a:solidFill>
                <a:latin typeface="Arial Narrow"/>
                <a:ea typeface="Arial"/>
              </a:rPr>
              <a:t>Abril – junio (2015 - 2016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1 Imagen" descr=""/>
          <p:cNvPicPr/>
          <p:nvPr/>
        </p:nvPicPr>
        <p:blipFill>
          <a:blip r:embed="rId1"/>
          <a:stretch/>
        </p:blipFill>
        <p:spPr>
          <a:xfrm>
            <a:off x="474840" y="2421000"/>
            <a:ext cx="8194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0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1" name="Rectangle 3"/>
          <p:cNvSpPr/>
          <p:nvPr/>
        </p:nvSpPr>
        <p:spPr>
          <a:xfrm>
            <a:off x="1258920" y="306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COMPORTAMIENTO DEL MERCADO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1187280" y="2639880"/>
            <a:ext cx="7956720" cy="130968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image6.png"/>
          <p:cNvPicPr/>
          <p:nvPr/>
        </p:nvPicPr>
        <p:blipFill>
          <a:blip r:embed="rId1"/>
          <a:stretch/>
        </p:blipFill>
        <p:spPr>
          <a:xfrm>
            <a:off x="1187280" y="3932280"/>
            <a:ext cx="7955280" cy="109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3"/>
          <p:cNvSpPr/>
          <p:nvPr/>
        </p:nvSpPr>
        <p:spPr>
          <a:xfrm>
            <a:off x="1403280" y="29559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POBLACIÓN OCU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Calibri"/>
              </a:rPr>
              <a:t>SEGÚN </a:t>
            </a: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Calibri"/>
              </a:rPr>
              <a:t>RAMA DE ACTIV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3419640" y="3798720"/>
            <a:ext cx="5256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Trimes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Abril – junio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Ivan Mauricio Zubieta Ortiz</cp:lastModifiedBy>
  <cp:lastPrinted>2016-06-28T14:32:29Z</cp:lastPrinted>
  <dcterms:modified xsi:type="dcterms:W3CDTF">2016-07-28T20:46:39Z</dcterms:modified>
  <cp:revision>234</cp:revision>
  <dc:subject/>
  <dc:title>Diapositiva 1</dc:title>
</cp:coreProperties>
</file>