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990D-CEBB-48FF-BF2A-5BABB364F4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35B-D564-4B5E-8F89-D88C2C9A13E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15A-F142-4E64-BA5E-F3E09EF64F8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5C4A-EEE5-4EFE-9133-2311401BD15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DE8-DC09-4936-ACE9-28E86DB6AA2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9F0-CDA8-4D69-A6AB-652B0F148A2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2068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50F-91B8-484B-AAFD-615BF838F2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DC56-5FA0-4ECB-905D-19ACE8C6D49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35DB-83F9-46CB-AA8B-56BD42A8CD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AC8-A9F6-4A17-A9A9-A0BB47A663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DA99-E2D1-45D0-8B5A-61455D7463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247-668C-49F2-8747-C25AB6062D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E696-FBDF-4525-A9E8-58B23B5C06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51B0-EC6E-4019-8694-B012DA0471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0E3A-E53D-4750-B7EA-C5E5C47856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D07BD-BF3F-48A6-AA57-A0309A669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93263-EC28-42B3-A118-F80611253D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02464-578F-44FF-8BC3-79782AA2088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7A889-4E92-4BB5-89CD-F61BE68082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C5DC4-CCC7-4E27-B633-4344562FD2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52C31-98C5-4BED-A553-D7E65CFE7B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59E70-9D3D-4EC9-B475-9CF174AF10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F544F-BE84-48FA-A9C0-1A56D376DF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E3697-0425-45EC-858A-39F7479C02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581BD-B698-4D44-B2DD-51D87E18CA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09797-978E-476C-A420-1D02BBEE4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182FA-87F6-40B7-A041-3D30F8F441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D4A4-399A-4347-A301-189962CDA8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A360E-62F4-4C4C-B49A-E528C21139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6956C-4A07-4A77-9A63-5F1166F15D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F1F35-633F-4B2B-9621-C7A8EF6AC1E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870AA-C0D5-4A31-A4E1-E1717CC8404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5F5C3-5E7B-4B2A-BFF7-85925C76CA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8ED63-3034-4E4E-A979-06FEFEC415F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DADA0-F737-4DB8-A5BE-FAB0EE85E3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C2C5E-50C3-477F-BE52-38D682673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F23B-6101-4344-8B63-48C50EE16E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C3B1D-2724-4CBA-8610-BBC22591CE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BD51F-CF6E-48A4-9575-5F62DBB42B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F28F5-BC5C-4C43-A3D5-025776AE36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B776-90DA-4B17-9506-5E8F6C6648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8A0A-6E29-44B0-9BED-AB3EA7225D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655E-AA3A-49EC-9ABF-5566BC215FF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9D1E-E1C7-4D99-A54A-A00F5247581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4621-1312-40F3-968B-D197EAD560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B3E1-1E38-49BF-9FD3-7FD2A1CBBD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267E-7C66-4D90-B32B-4B520AFD71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3D7A-0A18-48AA-97BA-22B7070B44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B592-F660-4DFB-ADDC-9196673D31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ECB4-C444-43E2-B66F-6697CED2C67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7256-175A-4A47-AF63-F8D9879F6D8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A49E-FD78-4CBE-8528-6BC6CCAA87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5A78-7A3D-4193-8C02-5B62DD9DBEE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22B3B-7994-4235-9C3C-BDE7D9E2B9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2F93D-36C7-40DE-A431-823E43E261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DA78E-6FBD-4462-84E3-69CD3AFD41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221F8-361E-40B9-BB6F-9B7DA3B2B4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34DFB-40B5-4D37-9C7D-3C6A43AA35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E918-4875-4CD4-9F94-11650FDFDA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A84E8-EA9D-42EA-862A-EF0CC1BFBF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93FFC-D452-4B9B-9F2B-EA01DD0ABC8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49153-22C4-426F-9AFC-277DE48E04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6B508-8CA3-4280-B116-A54935A893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74E30-6724-47BE-AE3F-5F10C652E9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78C94-72EF-4CA3-AB4A-3E781882F2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0AB1E-6BAD-4388-BDDE-8ECFAEFB1B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3AF6D-7754-46A4-97E1-CE90390459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9751A-1AFE-452C-917D-7829960409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2E6CA-7068-48D8-8A31-55662F45E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D805-6FFA-4D4C-A497-96F64B8186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18EBF-C549-400E-9F2B-B147686918A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3D790-0FB2-46A1-BF98-6F5A76E770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36222-E65B-4222-8F91-0B2C2B6C330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DBAEF-A05A-421A-86D6-BA1BF8F1D4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A3E2F-4306-41B0-B3AF-27668D3FF4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8835D-F13D-4F61-8531-AA2BAE7667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FE27C-4B44-4F46-BEA1-5110D3304F0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F80A0-89DD-48E2-A0EB-EE9607317F2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674DB-D774-48F5-B78B-623E8CC955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434F0-2333-46BF-951B-CDC311CD8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1582-84FC-4419-809C-C394B26F36E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B3B0-8FE9-4EB6-8A76-EA93ED932C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5FC7-8D74-4BC0-A007-DF3DC1A075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337F-926D-40CF-932C-ED0AD90701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B664-3E51-45C8-856A-C3E808FA94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3C71-F2D4-4115-B8FD-CEB22A9425C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2F90-712A-4C45-90A1-30B2DF76F4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36FA-C575-4FCF-8E23-8EF8F015F1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D85C-DF95-4520-B759-BEFD055A73D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C85A-0754-436B-AF07-BC2D11D9F2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D624-4E7F-44CF-863B-81983A819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E6AF-7D1E-47CD-A409-E2E935D5A3A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4743-80FC-487E-B5F4-19E100D56C7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DCE40-0481-472D-B151-298D70BAECF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629E3-84DD-4F5B-AF4F-E7AC3EFF94A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7881D-8AB7-4B22-8432-655740A311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EE41AC-6A88-4581-BE5C-C33620A770E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E0159-B14D-4A4E-98B9-04EAF40A645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F4C59-4E28-4E63-A7FD-E6E8FC41FD7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43FAA-BC6B-42C7-8353-25F64F89AA2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66188-93C2-43FA-86CF-19B52CD81F3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A2C4C-1701-4BF9-ADFC-7B6E1242C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A5B4-4996-418D-98D8-67387FF8A95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E6601-0DC2-4BDE-AC5C-BC502FD397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0C6DD-69D5-488F-A227-3FC7A5608E3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3B254A-2F2A-46CC-9FA4-7699DDE802F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EEEE8-B709-4930-9751-4B7A47B6373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ECF4E-9999-4903-9CA0-0A2B5EEC536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90BFC-DA2E-426F-A257-580AF6EF315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6980B-036F-4444-A5B4-77B214FAF62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F6C01-A18D-495A-AD04-BB2E0572518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8EC8E-5E1E-4C49-84FE-108F2FA02BE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5697E-EF2E-44AB-9375-5D3944028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02F9-9B25-4430-90CD-6C1E93369BA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C2DD7-E419-428C-A630-475303F271C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45621-FF57-46D8-A59D-C79129ED2EB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A8C85-D9DD-4C10-94EE-94BA2B8AE4D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21D2C-03BC-447A-93B8-BAD31DD4F6E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85062-8D91-4357-AE78-3488D64D720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DE3B-5315-4117-81A2-3BDAA813FD2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A23E-2EA0-4E51-9745-6D84D8CDD8A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08A1-80B8-45E3-95D8-207C64B8D4B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99F4-1CE8-4917-AFA5-26B36498707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F279-4F7C-4453-9890-BCA2B110E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E003-57F7-4795-862A-F8747E6182A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78DA-7D5F-4B98-A318-5F6EE510FF7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E55E-53FE-49C1-8200-7E640353C5F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CF35-6210-4AC9-A29B-CFC73A6F323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BA0F-6D91-443F-A1C1-BA4E727B7C3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5B24-5467-4963-8DD1-B355F07429F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0F6D-243F-43F9-8FA2-7D87D8A1C5C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950CC-7311-4FDA-B135-A0D70BFF074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63FFD-41AB-43E2-9678-CA3118BF3A8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714A5-CC98-47C3-858B-40A07A9877D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A0DBB-B66E-4BE5-B814-4A2365DA0B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E1C-13AB-4754-9983-087EC1660B2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2D3199-EA70-4220-9D54-23ABA0C5CE6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49FD3-1C0D-45EF-BFBE-3744D7CF7F2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2EED7-92E1-4338-B9C8-B1752891BB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2B0A7B-E39D-4FF3-BA88-1AF72E38EB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99CEA-8993-49F8-8229-2627F8158CC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A45B8-95A7-4911-AD7A-0114D837500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014C63-9FF3-46B5-A057-5E24E50BADA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17FB5-BA22-41EA-93EC-A9F5246FA98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98D004-58DE-4206-B16C-95B4C39FA26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FBB98-9704-4CA3-B09C-436EAE80E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997B-9EEA-444C-888B-AFEB1C2F229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3C04E-B91D-4ED8-B56E-5B2D76C9D3E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710CD-5BD7-4B68-A490-8F6AB06717C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A2A91-944F-4E80-B675-31899204208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06448-14BD-4679-83A3-77CE997D68A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DE37A-A35D-49FE-810C-D14CA0D85CA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8FE28-1C35-4539-9019-956AD042A0D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183C7-FB77-464C-A66E-4257A8B4D7C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BE4A4-BB99-4801-AED5-1E3470BCE5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E328D-B4B2-48B9-8101-B4095646EDC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9A25B-6992-4DDF-86EA-FB89A78DC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FD34-4591-4EF4-BB3A-72FBB6903BC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75D11-BACB-4E13-906E-E8FBA7743A4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672C-ABF5-4FF1-A086-5D8012F076E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F50C4-3254-4D33-AC50-8C1643C2AE5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25DE-AA01-4C75-9E73-0BAF49E1906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265D-6C89-40FF-B0C1-B5B6FC98B23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B665-0182-4D85-A879-EBF402D312D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3383-F8C2-4FDC-8945-2356710490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A60AC-0F20-4230-885D-207401ADA00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A055-4789-4861-B665-C6BA79B156D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EB9C-C396-42A2-8B09-763C545BB0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E305-6117-46F1-B1CF-4856E31C06E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A09A-0EC8-4FBE-9B9A-174E75585FF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412D-3EEF-4B1F-9CB6-16A72D989AF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D2C29-124B-49A9-870A-586F9983DAF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B3833-394C-4E25-84C8-5D330F69BCA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7194B-808E-47CD-B5C0-91DFE898FC7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DA2C58-AE14-4F95-B34F-A527B1CD6FE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3BEF7-E773-450C-A6D9-2290CD8715C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815E6-83EB-4CE2-9BA8-63792CB88F9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FEA94-0FDE-4973-AE95-17AC5735DD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0C378-7D27-448D-94EC-F573BEC8036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03648-4A26-4814-9D9F-E14C32BBB07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AAAA21-2DB8-4C5B-8E4F-8CA38A800D6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DD3B7-6501-4596-BEE4-60FBBBA8E02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73573-1F9D-4EE8-8B79-2861710C6B4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A5C52-5D3C-43F9-BC24-73B9840973E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4236D-64A2-434B-8292-D42C405391A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149F8-DD98-41D8-BAF2-46CADFF5ED3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A109A-74D0-4E89-A00F-9D1A1F3B7A5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1C382-1B81-42E0-AE3C-7D16D41A95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5B68B-81CE-4FCD-95F7-447ADDB68DC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A1F83-3C00-4B98-A129-047D808CD2C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CF626-A9EA-4C10-AAD5-C6B23DA19DD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F3C02-1AC8-4D7B-B1C9-B277CA7FA1B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3203E-7BB0-46FD-801B-EE167A2E6E3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8AC16-15E2-4CBC-AC73-0AE97C1CFBE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313D7-6577-48D9-B5A4-D864BB48FF5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ABFC-E120-4EE8-A6E3-346A61714F8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F75A-F472-4FB0-BB2E-461AFBE8E70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93BD-66A8-4199-87AE-16D103085C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9E73C-4471-4C32-8FFA-252CFAC0F21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6A90-4A09-4312-B3A8-8ABB68A15B0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4D07-D7A5-4439-B933-A1790538693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6120-0EF1-40C9-B5B4-54283EBB747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FF272-1799-445A-9736-0587B8D5B9D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4BAA2-C721-4100-A10A-08E4DD3988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8B18A-A60D-4E20-B1BC-2365331266E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0BD1-9AF5-437B-99E8-1BB4C9B224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2CEA1-F9C7-4752-AC69-ACBABB04D2A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EC207B-D1B3-4C76-AFAB-70DC3D3F0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303DD-8E95-4993-BFA3-32CD41959E3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AF88A2-23EB-4279-B7A5-F8659DFE9F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23030-AE1C-4362-9D87-A52FB576DE5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A26F5-59A3-4A90-A25E-AFC8CF57AB7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35CA35-A5B8-4874-84BF-32B1FD7FEBC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682704-2AB3-4936-AB31-4D705E76563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5406C9-2366-4DAE-9E3A-C985E8D8DA1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3A88B-7EC3-4397-B43F-AF06F90CC35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8E552-B9A5-4FEA-93C8-97EE47A6D47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40E38-5C53-4125-B3E3-ED5B2ADD4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3430ED-5D41-42A8-A996-0387A69D5E7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CB149-9289-4DFE-9B9E-B5830A360DE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0A4EF-A51D-4E06-B4F1-76C31B7B6C8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618F8-0C08-4FDB-8ECE-DE541084235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EC673-E0C8-4155-92D2-E5FD1E3A0C2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8BECD-6969-471A-9EBA-3DCA684BCF9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15914-69EB-481C-8E14-EF4194FC605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1F607-665B-4E5F-988C-8FB60DF0E12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AE9A6-4845-4C07-B388-D0450B17F4A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A6DA0-C7EA-4528-8CA5-A2AE3EEE42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C48EE-E077-45B2-B472-8820BC81F82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C5828-FD09-4AFA-A6FB-A846D767B23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A9A79-93D1-4D19-BCDE-6206530F3DA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C9B2C-8A12-4ADE-9D9E-7F3EF857994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096C-0542-4FF3-BF87-5B4B086A979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C603-8BA3-4B33-9D95-C760823DBD4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76362-6457-4E14-BA3E-664DFD4E318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2236-F830-4F36-80ED-BAE6F37958B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BD1AA-83EB-4EF5-B1C6-1D2A523E08F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2889-64E2-4500-A93E-973EDED196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6A017-2738-4A95-BAF3-D3B4B2FE97E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FE6EE-CA70-4A82-BF8E-9D1AA1C6D5F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7C2FF-256F-42AF-B31C-113AF9CEAE9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DBE0-9B63-4B09-A322-B03DC6785B7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DE459-7D60-4CFF-B46F-942FE232D2A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F607-E1E9-44B0-A36C-3404AFFB2A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BF74-8ED2-4964-8AD8-B4512712AF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7319-0938-44DA-9D5F-CAAA8FBE7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C03F-02B9-4A75-A736-7275B08700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F320-EC0C-485B-8D02-DEA3C4C599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2501-C11D-4BBB-B0AB-A82DBB08B4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04DE-3A04-48E4-9175-A6D666FE51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E8E3-6461-4FE3-9035-F2944C57D3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556C-1AEE-45D0-A80B-D32B36A92E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3D38-E8BE-43CF-A0D5-E7BDC61439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09E8-1FB6-4E1D-B374-30F4E6ADF3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67A9-6C12-4F8E-B3F2-F1133F0056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5D4-7681-450F-9B8E-F72FB18969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54B-4F51-41C2-AACC-A36C524042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A86-E25F-46B8-A740-7E95D34756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078-727E-4972-8B46-4A9B8009B4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B05-CA33-4A23-B410-5649B58BAB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DDF-BE83-45D1-A05E-036A5FE105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AD1-A7AC-4D7E-BA8D-59C057B917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026-1F63-4C86-9709-E9AF25AFAF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C9A-70F9-407F-8C3A-F266F8C7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69E-85A3-423E-85C9-6C508345B9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7E6-5048-4C48-ADEF-C9B97A8631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ABA-1925-40CE-B21F-C5BDFEBD37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88A5-AA4E-445E-ABFC-227EAC6C7D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C19EE-76B4-430D-99D9-68A8D3296E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7078D-BB6B-4BD0-A72C-575316CD29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B040F-4CD0-495C-9C5B-00E7DFD613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68686-4020-4772-8F27-0F8A7B400C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95FC-F675-4785-B155-9E0C1648EE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FFC1-DE5F-4618-B8FE-B8AA3A8B0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A24B6-6103-4565-9DCC-309524BC4E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AA1A0-CD92-462B-9509-7E1D215826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1C5E-3DAE-4AF0-BA68-AAD85D69E82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B08B8-4D5F-4A67-B26C-852CF9EA8F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9497B-ED88-4377-B7C8-18D933C3230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E94F-81B4-4911-BA4C-FDE26A7D44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D327E-EE62-4FAE-AF52-069033F7FB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3A5E7-8E38-449A-9BB6-38D0129F5A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8FA76-FC3B-46F4-8885-CCFD10BD38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E2F6D-1877-4038-A3A0-3A6FE0132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F461A-EA4D-495A-924E-5FE7B7E2F1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0265-E841-4C84-9561-206C5DA5DF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7FEA-A8A3-4BEC-80B5-78F791C54A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BA8BE-19A9-4942-B667-54507E5093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E99B-538B-4DFF-BBB3-A93255C65DF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A717C-4448-413F-8217-9FB60E7EB1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32036-92BD-4AC3-BD07-BB4C16CDFD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D23-0B94-4206-8624-AF824246B9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BCAF-74CB-4979-BFA5-6BD64D7C67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9C6-EC4F-49AD-81E4-F2ACB99EA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7AF-7664-4C92-942F-D67C8A8924E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68B2-62B1-4711-B289-58948F1937D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FC37-7C40-4BD6-9D74-86BC9F31B21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312-88DA-43EF-9021-D08F464B08A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4D99-0981-4927-BE8A-89DB1F0099E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7DD-543C-4964-BAC2-86EFDF400E5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6802-4DD9-4A66-87D5-1152D61C096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FC7-1DA9-4367-AFEB-5B03EEACDD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C4C-696B-47FE-9D1C-1BBCBEAD2F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4B5F-E284-4D17-9FA2-A9A1E584309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CA91-0E95-4162-B952-C8928D4B455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669-09FD-4FEE-862B-A63B05E3626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0B8C-3E05-4942-89F7-8E36F86EA6A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9EE5-FEC5-464D-A31B-33260565F5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C1F-DFE2-4A2F-B8FE-DC97AC25F42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1DC-2C43-4049-836C-725B789A4E5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876-715C-4AE6-A4CE-FF294759159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95E-638A-4954-B646-FE0E2446AFA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A594-B89C-4D44-AA7E-96F01023C0A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D17-3D7B-4732-90A5-4A09B834D90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6FE-2980-457D-BF3D-5E30599D890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EEA-D672-4F7A-8EF1-1F4E611D6E2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DD67-0CB2-4C71-BF95-94E91D05349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156-5D7D-40E4-AC10-7E9BB2D507E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1 Imagen" descr=""/>
          <p:cNvPicPr/>
          <p:nvPr/>
        </p:nvPicPr>
        <p:blipFill>
          <a:blip r:embed="rId1"/>
          <a:stretch/>
        </p:blipFill>
        <p:spPr>
          <a:xfrm>
            <a:off x="692280" y="1341360"/>
            <a:ext cx="7603920" cy="372744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3"/>
          <p:cNvSpPr/>
          <p:nvPr/>
        </p:nvSpPr>
        <p:spPr>
          <a:xfrm>
            <a:off x="1150920" y="4748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468360" y="515772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6 CuadroTexto"/>
          <p:cNvSpPr/>
          <p:nvPr/>
        </p:nvSpPr>
        <p:spPr>
          <a:xfrm>
            <a:off x="11221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117440" y="32544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01600" y="1413000"/>
            <a:ext cx="6610320" cy="3895560"/>
          </a:xfrm>
          <a:prstGeom prst="rect">
            <a:avLst/>
          </a:prstGeom>
          <a:ln w="0">
            <a:noFill/>
          </a:ln>
        </p:spPr>
      </p:pic>
      <p:sp>
        <p:nvSpPr>
          <p:cNvPr id="1296" name="1 Rectángulo"/>
          <p:cNvSpPr/>
          <p:nvPr/>
        </p:nvSpPr>
        <p:spPr>
          <a:xfrm>
            <a:off x="539640" y="544500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7 CuadroTexto"/>
          <p:cNvSpPr/>
          <p:nvPr/>
        </p:nvSpPr>
        <p:spPr>
          <a:xfrm>
            <a:off x="12254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865080" y="51120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299880" y="532296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6960" y="1389240"/>
            <a:ext cx="7620120" cy="3624120"/>
          </a:xfrm>
          <a:prstGeom prst="rect">
            <a:avLst/>
          </a:prstGeom>
          <a:ln w="0">
            <a:noFill/>
          </a:ln>
        </p:spPr>
      </p:pic>
      <p:sp>
        <p:nvSpPr>
          <p:cNvPr id="1307" name="7 CuadroTexto"/>
          <p:cNvSpPr/>
          <p:nvPr/>
        </p:nvSpPr>
        <p:spPr>
          <a:xfrm>
            <a:off x="1131480" y="511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187280" y="5284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1055520" y="1496880"/>
            <a:ext cx="6685200" cy="3587760"/>
          </a:xfrm>
          <a:prstGeom prst="rect">
            <a:avLst/>
          </a:prstGeom>
          <a:ln w="0">
            <a:noFill/>
          </a:ln>
        </p:spPr>
      </p:pic>
      <p:sp>
        <p:nvSpPr>
          <p:cNvPr id="1312" name="7 CuadroTexto"/>
          <p:cNvSpPr/>
          <p:nvPr/>
        </p:nvSpPr>
        <p:spPr>
          <a:xfrm>
            <a:off x="833040" y="5037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6"/>
          <p:cNvSpPr/>
          <p:nvPr/>
        </p:nvSpPr>
        <p:spPr>
          <a:xfrm>
            <a:off x="252360" y="5373720"/>
            <a:ext cx="84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°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14560" y="520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6 CuadroTexto"/>
          <p:cNvSpPr/>
          <p:nvPr/>
        </p:nvSpPr>
        <p:spPr>
          <a:xfrm>
            <a:off x="279360" y="5373720"/>
            <a:ext cx="83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1 Imagen" descr=""/>
          <p:cNvPicPr/>
          <p:nvPr/>
        </p:nvPicPr>
        <p:blipFill>
          <a:blip r:embed="rId1"/>
          <a:stretch/>
        </p:blipFill>
        <p:spPr>
          <a:xfrm>
            <a:off x="395280" y="1535040"/>
            <a:ext cx="8589960" cy="3505320"/>
          </a:xfrm>
          <a:prstGeom prst="rect">
            <a:avLst/>
          </a:prstGeom>
          <a:ln w="0">
            <a:noFill/>
          </a:ln>
        </p:spPr>
      </p:pic>
      <p:sp>
        <p:nvSpPr>
          <p:cNvPr id="1322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2381040" y="5616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332000" y="692280"/>
            <a:ext cx="68752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2116080" y="226548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958680" y="1628640"/>
            <a:ext cx="7012080" cy="207180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3"/>
          <p:cNvSpPr/>
          <p:nvPr/>
        </p:nvSpPr>
        <p:spPr>
          <a:xfrm>
            <a:off x="826920" y="3762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Límites de confianza y error relativo de la población de la fuerza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abajo e indicadores de mercado labo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1 Imagen" descr=""/>
          <p:cNvPicPr/>
          <p:nvPr/>
        </p:nvPicPr>
        <p:blipFill>
          <a:blip r:embed="rId2"/>
          <a:stretch/>
        </p:blipFill>
        <p:spPr>
          <a:xfrm>
            <a:off x="1160640" y="3860640"/>
            <a:ext cx="6607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1 CuadroTexto"/>
          <p:cNvSpPr/>
          <p:nvPr/>
        </p:nvSpPr>
        <p:spPr>
          <a:xfrm>
            <a:off x="1403280" y="33336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hoc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4 CuadroTexto"/>
          <p:cNvSpPr/>
          <p:nvPr/>
        </p:nvSpPr>
        <p:spPr>
          <a:xfrm>
            <a:off x="1264320" y="57164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1" name="1 Imagen" descr=""/>
          <p:cNvPicPr/>
          <p:nvPr/>
        </p:nvPicPr>
        <p:blipFill>
          <a:blip r:embed="rId1"/>
          <a:stretch/>
        </p:blipFill>
        <p:spPr>
          <a:xfrm>
            <a:off x="1179360" y="1700280"/>
            <a:ext cx="7286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46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371520" y="2205000"/>
            <a:ext cx="83678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2854440" y="388800"/>
            <a:ext cx="6181560" cy="547236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6 CuadroTexto"/>
          <p:cNvSpPr/>
          <p:nvPr/>
        </p:nvSpPr>
        <p:spPr>
          <a:xfrm>
            <a:off x="2771640" y="587700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-108000" y="2290680"/>
            <a:ext cx="31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6 Rectángulo"/>
          <p:cNvSpPr/>
          <p:nvPr/>
        </p:nvSpPr>
        <p:spPr>
          <a:xfrm>
            <a:off x="2843280" y="958680"/>
            <a:ext cx="6121440" cy="206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522360" y="4954680"/>
            <a:ext cx="22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Arial"/>
              </a:rPr>
              <a:t>Los resultados presentados para San Andrés corresponden al período enero - juni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500040" y="1328760"/>
            <a:ext cx="8082000" cy="455292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50920" y="4730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(2010 -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1193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68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474480" y="571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996840" y="1536840"/>
            <a:ext cx="7258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71280" y="753840"/>
            <a:ext cx="7380360" cy="10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Quibdó</a:t>
            </a:r>
            <a:br>
              <a:rPr sz="2200"/>
            </a:b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- junio (2015 - 2016)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200160" y="2565360"/>
            <a:ext cx="8607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Diego Alejandro Martinez Jimenez</cp:lastModifiedBy>
  <cp:lastPrinted>2016-04-26T20:04:17Z</cp:lastPrinted>
  <dcterms:modified xsi:type="dcterms:W3CDTF">2016-08-03T14:25:14Z</dcterms:modified>
  <cp:revision>242</cp:revision>
  <dc:subject/>
  <dc:title>Diapositiva 1</dc:title>
</cp:coreProperties>
</file>