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9144000" cy="6980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9144000" cy="698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5179680" y="0"/>
            <a:ext cx="396252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2827440" y="523800"/>
            <a:ext cx="3489120" cy="261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914400" y="3316320"/>
            <a:ext cx="73152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6629400"/>
            <a:ext cx="3962520" cy="3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5179680" y="6629400"/>
            <a:ext cx="3962520" cy="3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AAF2-3DB2-4148-9643-4CEE94E7B3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2827440" y="523800"/>
            <a:ext cx="3489120" cy="261792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3316320"/>
            <a:ext cx="73152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3 Marcador de número de diapositiva"/>
          <p:cNvSpPr/>
          <p:nvPr/>
        </p:nvSpPr>
        <p:spPr>
          <a:xfrm>
            <a:off x="5180040" y="6629400"/>
            <a:ext cx="3962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9BCC-953A-4619-836C-0D24B735078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5180040" y="6629400"/>
            <a:ext cx="3962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465-5D6A-4E30-8DE7-9258FAEBA5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2832120" y="523800"/>
            <a:ext cx="3486240" cy="261612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3316320"/>
            <a:ext cx="73152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5180040" y="6629400"/>
            <a:ext cx="3962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79A1-4C48-4F71-9EAC-2426E9954B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2832120" y="523800"/>
            <a:ext cx="3486240" cy="261612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3316320"/>
            <a:ext cx="73152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5180040" y="6629400"/>
            <a:ext cx="3962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9C48-B365-44B5-B72B-4E93728D60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2832120" y="523800"/>
            <a:ext cx="3486240" cy="261612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3316320"/>
            <a:ext cx="731520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17BA-145F-41F8-B88D-A00093ED84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78E0-3307-4126-842E-4D2E4C9879C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4870-3D6F-48B3-8DBA-1223B913F4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E850-4B3A-4DC7-A97E-82BF71E045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DD23-977C-4EE6-BBF7-E31D6FC4A4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AE52-E79A-4609-BB35-3E8C8B779D9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7659-30AD-42EB-A4FF-477DE5A821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7ABE-2ABD-417E-A777-29512EDA59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79AC-C326-469D-9A56-D80615BA06C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E7065-DD17-4586-9474-D2101222A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D3891-6ABB-4B98-8CB3-4C1AAD90A49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A2CE2-7F99-45AD-9BD8-C0E496870CB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8F62AE-F64C-4A36-9533-F5DE5DB0DD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DDD32-F98E-421E-980A-C7287C3E6C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07892-C565-4742-8808-B11831040D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C6796-10F2-46F3-81F4-A430EC2528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C52E7-4CC3-46D1-9191-EBB67D297F9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7BE2B-B392-4720-A8F3-ADD9CFD4F12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99263-7896-4181-812E-C6D28664A7C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E0AA4-CAA1-49E7-85E4-2D3E3C583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4EC17E-D946-4EDB-8AD9-F3FDE49F196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E580D-8C26-4414-823F-F108C7739D3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4732D-8D84-4B14-8520-1873D81328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996BF-0B53-4A68-8FDA-4274962675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FDCD7-BBD2-4AB6-BA3B-003C50FD7A2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28A64-67D2-466C-A44F-2F07124586D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D1588-FE15-4AE3-A3F6-D237645D9AC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47B89-6B14-4EDD-82E0-1A7BB5F45CF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45E0A-ED88-4408-BFF1-A4C78C45C7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5D6CB-D7F3-4B48-9346-CB5B1D553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224C-DDBF-4212-A0FB-4E013FDD026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22016-FD8C-4AC9-9574-42D1662097B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F97E6-CB22-482D-8DCF-C8CF8DE0AD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790F2-BFAE-4867-9BDB-E62ECEF33DA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BE19-2F43-46C8-9F4B-D14B0DE60E0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7892-C290-4462-966B-6B97A8192F4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D0B3-9C2D-4BB6-B1A5-82FB822EDF5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8DDD-390D-49F6-9342-2495970A4B2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C2D34-2EF4-4ADF-B8DF-0449BEE8A87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EC60-D394-4CDB-8836-13BFA1D80C5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D15F-E54D-4922-8E95-7A8DE3DB2B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9D2E-4409-4B9F-B1A3-C2CBAD8034E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4953-9C86-479E-AAC8-5DCD95DF871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28A8-08B2-4299-B0DE-FD14C348A31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7CED-8A84-48D3-84B1-F7F773D8B39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11FF-B2E0-432B-A41D-96F7E521BCC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348B-3BCE-4A82-B3FC-57B780B64BA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BD270-89DA-425E-A428-3299F445A32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50A39-C3F3-4965-B7C7-566B296854D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F921BF-4413-4855-919D-A9A8BDB4E5C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F8A804-BD0F-4484-8E3D-6D0D94428CB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61FC4-84E5-44CC-8B79-780149D0B4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E6CC-659C-4E9C-B3DD-061621950D6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2B173-6661-4188-9305-2ADD12E6E64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0700C-133D-4EAB-8825-BE5C4ADF95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8B5F9-22A6-42BE-B840-BD13506C20D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B88D08-8053-4656-9A1C-60B8F7237EE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1E5AA-97F7-4F5D-822D-3A76CCDC1AB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D9474-7C72-490A-B19D-4D52A205FCD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1865D-2CF4-4631-B2EA-8E776275741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66B2B-460A-467F-8F99-1351A7B8EF6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A9005-37D6-45FC-B5F4-1B329B41EA4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9D657-3E8C-4967-8C2F-B972A4FC67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F691-2B9A-434B-A075-B6A88BC1EBA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45BBC-F22A-4419-AEE0-B35847DF3F7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C1FD7-F575-45A0-9404-08227DF7014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396A7-AA34-482D-ADD4-16099C095DB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CDCA3-20A0-4FBB-9B9C-C6DF031C33D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5A267-C3B4-4F19-B3A4-DB8EC68846C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85936-CD1F-4E66-BBCB-7CB6FF39EE7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2A228-2818-4E62-9DEC-339770BFE0B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BC97E-2ECB-477F-AF19-6FF42DCF752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EB0C65-D4E9-40A1-8A59-0B3E3D9F4FA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87B0-C1AE-40CC-812D-AE3D6B3072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1DE8-E64F-4766-9A75-116894BD294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B5FF9-0F01-4FEB-AE10-3AD269564BA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FB83E-09A5-4059-AF59-7B66465EE25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44ED-AF17-45FB-AC96-03BB3A13EF4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4E33F-A642-4F37-96AA-28BA5311F5D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45838-2A82-46EF-87C0-5B30BA93ABE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5A3E-0B5F-4D4B-B259-AC1595C41E7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328BE-0166-4CB5-A54B-94EFBEF7FB8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2B74-52AB-4F6A-AAF9-32B6197975D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6CF9-50F2-43C8-BB1F-F8CFFEAC904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2BBE-6729-4C17-9511-60A011C450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EB55-E69A-4403-B880-6D77E3866D3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7105-26C6-42FC-8CE8-7CA31BCD2A5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0F2F98-2382-4BD8-8FD9-F5F501E634E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A0E647-94ED-4B3E-B897-A7CC239B031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0198D-42A8-4B48-AF02-506A7E924F2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FBC37-9D33-406A-A41E-D8FA61EFC9C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6EBBA-ECFC-414B-A212-C72B6B28BEC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E43A0-F594-460A-8756-442D31BBA6E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CF71C8-33E5-401C-B60D-4FD95544DD6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A96E60-4DD7-483E-B7DB-CBCB649FFAB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2CB59B-A311-42D4-A796-EB24624C50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4B56-F9EF-437C-B9E1-98D8806D7C1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55901D-000B-456C-BC9F-6C48446B389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8E811-56AD-4C8D-823B-AD004613365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DF870-3ABD-4883-88DC-B90512CAEC5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29CEF-3865-467D-B082-BB82F7F19B2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FD32E-4258-491F-BD50-7DB90FE317E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F5CAF-6AD9-4654-8DF8-A9899A6BC95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8753D-4703-482A-AE13-01C2E9A1DCB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CA4F9-014A-4B03-B2AE-3618D78ED34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2DEE2-4D95-4CF8-9AD9-554FAE718C3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D0BF4-0C11-4E04-B8BA-890A001A23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70A1-F482-462C-A463-BA0F2B9F331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8382C-34F4-4C80-9210-EF5B8F51213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8177E-F588-425A-ACAC-9DAB808EE8B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2DC81-95BB-4F26-9BD1-3ED406DEAB5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45E1F-BD11-4FAD-9B8F-203A1D49033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AE98D-6C50-4F9A-A880-2642D80D204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32941-8279-4901-AD16-6EF2C2BE606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BA38E-8B35-4A8F-940A-04D8BDCCC5E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B270-03CD-40F0-86EF-0108CE1A518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4460D-C5A3-4639-9904-7A07083C107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117A1-0B18-4271-A8FE-8413B3173C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1AED-D050-4404-B63E-78E1D89F4E1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25B7D-8179-49AD-ADA9-1224F6EEB6B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420D-C0AD-4D75-AB65-0A4E42477AB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8765B-B6F5-4620-9990-1536D153435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65F8-6AD9-48BF-A082-AFE6158E3D4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83138-F8AC-4899-BE61-36D50EFAE6E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D74D5-E885-4E22-8914-04E70BF2A24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79A5B-D0C5-47BF-9716-4815B789885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543221-7BD3-4D8A-92D3-47E34D25FD9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0AC843-13E2-4995-BC5E-F372B533D72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BA82A-0358-4567-BBD8-752BBDC1AE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9E63-EB38-41F0-BF73-B39DB435671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CC29C2-4B20-4C87-A115-0B78D01E424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82FD7F-002C-4A5A-9C62-DE39FD0FDFE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C0E667-2EE1-4617-B7FA-E577815B8BF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E31E55-E312-435B-A4E4-AC202C59379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0280A9-8AB5-4186-8B86-65971FCDBF4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EE0834-F419-4F14-8EB1-DC6E9D0C39D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CB72CD-C527-4938-90B1-1558D15495A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1E8BD-0070-440E-B04F-5F2990A657F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116BA8-7BAA-4926-AB17-762A5A33A68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C1A57-B850-4E70-8D34-DB6D9B566C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E31A-CE04-483F-9DE2-3A415F4CCA6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BFD5C-8D3E-4371-B1AE-E930DA28CAE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0CF51-A9CB-463B-8F9D-84AB3DE8C1D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29B43-9432-46B4-B564-17796171BFD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7A196-304D-403C-A44D-991E279FEA0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861F8-4E66-4B9B-A7C9-77A7DA5C179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69919-3B67-47B6-83F0-A7DB84DF869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BE9C5-4C83-441E-BA79-C95871D93AA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7C346-32F0-404F-A706-767C45A2224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922B8-85DC-4938-9A1D-311EEEC9524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F84E6-947B-4142-9456-174E7B77D5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F0DB-3ABE-429A-B159-117F940FFF2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3936C-07B4-459F-A716-5D4BA70A330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EACCB-B2F9-48B6-B644-D744DE4A5C0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34D9-F57C-4FD0-BA8D-B66909C3E09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7AAF-35E6-4373-992D-A99D9A012E1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13580-EF5D-44B1-944B-4F0F7619DF1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81EE-B6DD-44BA-B609-4AD43C85B53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6BAB1-589E-4335-B7B8-FAB204B6B22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30962-A3D2-46DF-BDAF-844FB56A125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C8B37-CD93-4CDC-ADB2-BA4F62B86B7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D1172-6B42-41DC-B568-A816021C68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A94F-85CE-4994-ACEA-F6B46BF4650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F50AF-8029-493C-B309-B75044751D5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89D44-BF3E-4C84-9CDC-833362FEA2A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0429-4B8A-4128-83D8-53BD26BA5CE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69BFAC-709C-4DEF-8F4A-EC4E38B0B25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061298-7E24-4929-83A1-743C5BBEC42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18EAEE-715A-4F36-A4FB-9019784058E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747E06-4161-44D7-8941-DEE9ED12DEA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9AF89B-5848-42F1-B1E0-9A155C48827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CA546-EBD5-4BAE-B398-090D57E0364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BFA304-5368-413A-9C7E-FF41BFA8F4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ECFB-49E0-4DE0-B20D-9120B39E284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2C6448-9FF0-4F91-BDB4-13A82A77DCD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6C4EC9-8547-4304-9DAB-CA98F9ABB23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D49DFD-8DBA-49A8-BBD9-AAD2948D367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F8D1AF-0365-4F81-A765-8BD6BBF2B98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B452DF-288B-4F59-889C-9AA4F292761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A8CB8-71EF-41C9-B4D3-2140BDD1FA0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E9744-853A-480C-9A4D-9AA423C3627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58CE9-217C-49DC-8F25-8CB3E15930F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CC791-824B-49A3-A84D-56AEEFE93E0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19260-71B8-480C-9F71-10655CF0E8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D3BD-AF54-4D06-9C75-1BF26E3BB5D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4A2A5-5C75-42B4-B746-804B3591309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DBBBD-7F12-4F72-9FC3-4D0B2360CBF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F2E4F-190A-437C-A7A9-B960F38ECB6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08FA7-78D6-42C7-A55E-1FBA7416CFF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4E181-4443-49E8-B087-B88648E4EB4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4E132-FB9F-4C5C-8778-4DB6D7C1640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58C29-DB98-47C5-A6E0-034D6F4FC27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E680B-AF85-4B27-B09A-B376524BDE5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77BD0-B215-4EF8-B13C-70978762BA8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78A09-9A8F-4058-98EB-AF6DD29204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5398-A0CA-4779-AF93-0B398D5AA1D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6A71-39C3-4018-9D45-F05318B690E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4E3B9-E29A-413A-8184-B893840CA5D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239D9-64FF-4F03-A996-60C336B71A5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A56B7-44B1-45FE-A238-FFAD7220817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1EA36-5813-4617-BE97-E2D5AFEA109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663C-D6AA-47AC-AACE-D392D5000DD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818DB-908D-4D53-9E06-BAEB8ACBB43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5C0B6-FE5B-454C-81C1-D7E75FA7935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4A565-430D-4D26-ADE3-3DC706D511B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20BB31-4BC4-4FF8-9C70-550BBBD9AA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C401-500F-447B-A149-314E074C99D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EF47A8-A92E-43A8-851A-3E8FA16B0F3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F191CA-D7B9-4AB0-BAA6-C29C1EC081F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F1BAA-1358-45B6-8894-EDB25A8A78D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FF0BD8-29AD-4938-B2DD-41B720D44C5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5B3892-A190-40B9-A989-7152DA2154D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CE0563-64E1-4BBC-9D86-DCAA20D4173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B3E793-6EB9-44D6-A775-C3F18694ACD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EB054C-B2D0-4594-BF66-D0AC56E66BB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F0CEC-DBBB-4EF0-A3E0-2890B519789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20C0B0-21E2-4ACB-89F1-00D873F76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0D4D-1138-4C79-B040-67249E1C7CE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19303-A0AD-439D-BB5A-3D7287AB2BE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D1886-D831-4ECF-9132-80B031CDE4D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A1254-41FB-4966-9F2D-332A2A95AD1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E21CEC-EBE5-49ED-A4B0-A22460C12AC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44BC42-7764-491B-AD73-86C6EAB7A5A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169F7-EED8-43CE-8912-AB18EBC0587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05EA7-5B20-4CBA-8F6F-0BF3D951208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1E606-8F67-4D3E-BC63-42659F60203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2020C-D8E8-4A4A-A077-F35E48BD8F2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69571B-5C21-4DA4-8B69-6C0821F428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B418-3B39-4842-9356-C5C0A7A386E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0A9AF-0367-48AA-A677-9E11DB4B67E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792B1-3C87-4D9B-8568-58B2DB3AA01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A02600-4FE3-4F61-AE46-0D307199A6B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0B76-C94B-487B-952F-A872D98EA5C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6F9BD-153D-486C-B411-1C667DF508B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6DAD6-3AAF-4EB1-B5F0-28044533213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DDC6C-648B-43F6-955A-9AA2E82AF32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25164-6FA5-4695-935A-A18DAD12260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28FDF-8D09-4D8F-8E8E-5B3A9ECFA36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6434-49F9-4736-8BB8-914DC0589B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3A6E-3A53-4E3C-89BC-7B353E491CD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8116-973B-46B0-B7A6-792CFF2FE3B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F7A69-B347-4BAA-B8CA-0B521DEBCB2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10695-AAA7-45A0-B559-600FAC359BD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61A4-84AB-4968-8B7C-A22D65AEE91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53740-C116-4E1F-9E01-C557548B9AF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BF29-F3C8-48F3-8702-F8CA84F6CD8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E5A3-0959-4EA0-9970-B67874A480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9D09-63E3-48F9-BF5F-99D91C9C2F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71D4-6CDD-4902-B4CD-1DBB6E25BB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9BA-3365-45CE-9CC8-6E6BCFFDE0D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269-55A6-4BDF-ACE7-909E165425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274-BF8E-4301-AEA0-E713AE0427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4B1-FDBC-4ED6-9F29-9936C0663E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313-3C02-4A39-833A-75CDFF64CB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E51-4A47-4D7D-A1DD-A870FD9058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6B8-EAD0-4DB0-B6A5-875CC733C5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61F-36DB-4293-A61B-1F51A266BD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1B1-26F4-4C2C-BD98-E10F27DE5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BF2-D3B5-4F26-BB5F-C0603B450B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6A4-E9C0-4190-AC1B-3B3B79351C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6F0-DF53-49C9-A7D4-5FD6E0EF68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C4AE-4B7A-4F53-97AE-D959AA4F56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E88D1-F998-4BCA-9D85-D0622EC1D3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B940D-176B-4E43-A6C4-4313123E5C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2B613-8D62-4FFF-A6D9-35AEB99BEF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D7E85-6958-458D-A059-A1A3C94F04A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EB146-17B5-4E1E-9287-B0CA875105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C51D1-096E-47CB-A51D-F4FD53436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AE404-ABDC-49C8-A6B9-7C12003803B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463DE-0598-4711-A932-0F8D8A0388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E34D0-3765-4A49-A291-260F40721BF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48827-EFE0-4FB7-99AE-F2BCA9760E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C7F9A-5A18-4BBA-86AB-751D21AA983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AEBB7-D758-44E0-BF54-5E2289F98B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2B4FD-85C7-4AB6-A7CE-D194C53E1A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9251D-67F6-42DA-B0A4-19B848C931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72092-332C-4234-9FB3-D775B3040BA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3051C-7F49-45F3-A73D-9D1FADC44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8E3B0-939E-4C5F-B30F-3E839234C1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65FB6-5C19-418E-9559-88E065BAF6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7426C-388E-43B8-AB44-A6B596A80A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ABE0A-FA16-4D4F-B52A-B40350F7E6D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44AA8-EB26-4633-95E9-CCE81B1534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D3FAD-B39F-447F-8646-B12A094BD1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EFBD4-D3EC-4FC4-9288-60552E20B4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CED9-BAAC-4E76-AFF3-F61F40CFA2F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823A-8111-4DC7-A26E-47974C4C684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7599-44BE-465B-A0B4-905C7CB98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8BCC-7F26-4CB3-8954-B288DD593E4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F0F7-3BD7-41D6-AEF9-4131598AEEC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ED56-D52F-42ED-8BDB-5263574CBB9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528-A99B-494B-8F5A-55861B9A072E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4D3-08B4-4214-B761-081EBEF13E0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CEBA-7456-4E93-9245-5D408D3A030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2204-7136-4968-B1D3-09341BB7018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47EB-3223-4CCC-9883-20850BBA1FC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B889-E0A7-4918-807D-7744FD81DA3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8151-2382-4464-A592-AFEC47422D4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7398-690A-4AE1-A73B-E0267BEF72D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E0CF-96D1-41E9-A5EC-B5E3FC19905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34F3-0178-4901-987C-CBB3208CCBF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5BD-0C18-4080-9088-F09649CBE43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C4BD-E02C-4194-A465-A5A1A6CB969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431D-6178-4A87-B768-03ADCC8EADB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83B0-5451-47BA-A7D6-28050365C17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F089-E34F-47A8-9932-E3CBD88CFE5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DA70-F2E1-4879-A974-8D9BE993F53D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EBC2-D425-468B-9A12-1F4F39A6DC5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590E-41B7-40AC-BD9A-AD9B58B3F64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10CC-91EC-4FDF-834D-1608B5BD105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AEFD-7F82-400A-8F79-6EF7C715E42B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6171-5541-41BA-9CFD-E6377654E03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Calibri"/>
              </a:rPr>
              <a:t>Flor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224000" y="62064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5 CuadroTexto"/>
          <p:cNvSpPr/>
          <p:nvPr/>
        </p:nvSpPr>
        <p:spPr>
          <a:xfrm>
            <a:off x="6728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179280" y="5516640"/>
            <a:ext cx="864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1 Imagen" descr=""/>
          <p:cNvPicPr/>
          <p:nvPr/>
        </p:nvPicPr>
        <p:blipFill>
          <a:blip r:embed="rId1"/>
          <a:stretch/>
        </p:blipFill>
        <p:spPr>
          <a:xfrm>
            <a:off x="750960" y="1557360"/>
            <a:ext cx="7642080" cy="369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611280" y="1841400"/>
            <a:ext cx="7921440" cy="3591000"/>
          </a:xfrm>
          <a:prstGeom prst="rect">
            <a:avLst/>
          </a:prstGeom>
          <a:ln w="0">
            <a:noFill/>
          </a:ln>
        </p:spPr>
      </p:pic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728720" y="68580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395280" y="5635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5 CuadroTexto"/>
          <p:cNvSpPr/>
          <p:nvPr/>
        </p:nvSpPr>
        <p:spPr>
          <a:xfrm>
            <a:off x="54180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3"/>
          <p:cNvSpPr/>
          <p:nvPr/>
        </p:nvSpPr>
        <p:spPr>
          <a:xfrm>
            <a:off x="1295280" y="692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5 CuadroTexto"/>
          <p:cNvSpPr/>
          <p:nvPr/>
        </p:nvSpPr>
        <p:spPr>
          <a:xfrm>
            <a:off x="617400" y="51958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3" name="1 Imagen" descr=""/>
          <p:cNvPicPr/>
          <p:nvPr/>
        </p:nvPicPr>
        <p:blipFill>
          <a:blip r:embed="rId1"/>
          <a:stretch/>
        </p:blipFill>
        <p:spPr>
          <a:xfrm>
            <a:off x="611280" y="1461960"/>
            <a:ext cx="7819920" cy="3638520"/>
          </a:xfrm>
          <a:prstGeom prst="rect">
            <a:avLst/>
          </a:prstGeom>
          <a:ln w="0">
            <a:noFill/>
          </a:ln>
        </p:spPr>
      </p:pic>
      <p:sp>
        <p:nvSpPr>
          <p:cNvPr id="1304" name="Rectangle 6"/>
          <p:cNvSpPr/>
          <p:nvPr/>
        </p:nvSpPr>
        <p:spPr>
          <a:xfrm>
            <a:off x="34920" y="5457960"/>
            <a:ext cx="892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763640" y="692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8 CuadroTexto"/>
          <p:cNvSpPr/>
          <p:nvPr/>
        </p:nvSpPr>
        <p:spPr>
          <a:xfrm>
            <a:off x="1029600" y="517680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Rectangle 6"/>
          <p:cNvSpPr/>
          <p:nvPr/>
        </p:nvSpPr>
        <p:spPr>
          <a:xfrm>
            <a:off x="88920" y="5532480"/>
            <a:ext cx="9001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1 Imagen" descr=""/>
          <p:cNvPicPr/>
          <p:nvPr/>
        </p:nvPicPr>
        <p:blipFill>
          <a:blip r:embed="rId1"/>
          <a:stretch/>
        </p:blipFill>
        <p:spPr>
          <a:xfrm>
            <a:off x="922320" y="1773360"/>
            <a:ext cx="7299360" cy="3446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1133640" y="525600"/>
            <a:ext cx="718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111240" y="5589720"/>
            <a:ext cx="895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5 CuadroTexto"/>
          <p:cNvSpPr/>
          <p:nvPr/>
        </p:nvSpPr>
        <p:spPr>
          <a:xfrm>
            <a:off x="556920" y="5278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9" name="1 Imagen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112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5 CuadroTexto"/>
          <p:cNvSpPr/>
          <p:nvPr/>
        </p:nvSpPr>
        <p:spPr>
          <a:xfrm>
            <a:off x="2130120" y="5608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1152360" y="69228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– junio 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1697040" y="2158920"/>
            <a:ext cx="5524560" cy="3449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Flo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2 Imagen" descr=""/>
          <p:cNvPicPr/>
          <p:nvPr/>
        </p:nvPicPr>
        <p:blipFill>
          <a:blip r:embed="rId1"/>
          <a:stretch/>
        </p:blipFill>
        <p:spPr>
          <a:xfrm>
            <a:off x="782640" y="1628640"/>
            <a:ext cx="7416720" cy="2087640"/>
          </a:xfrm>
          <a:prstGeom prst="rect">
            <a:avLst/>
          </a:prstGeom>
          <a:ln w="0">
            <a:noFill/>
          </a:ln>
        </p:spPr>
      </p:pic>
      <p:pic>
        <p:nvPicPr>
          <p:cNvPr id="1326" name="1 Imagen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61927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Caquet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9" name="1 Imagen" descr=""/>
          <p:cNvPicPr/>
          <p:nvPr/>
        </p:nvPicPr>
        <p:blipFill>
          <a:blip r:embed="rId1"/>
          <a:stretch/>
        </p:blipFill>
        <p:spPr>
          <a:xfrm>
            <a:off x="950760" y="1789200"/>
            <a:ext cx="73152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5 CuadroTexto"/>
          <p:cNvSpPr/>
          <p:nvPr/>
        </p:nvSpPr>
        <p:spPr>
          <a:xfrm>
            <a:off x="419040" y="43689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1 Imagen" descr=""/>
          <p:cNvPicPr/>
          <p:nvPr/>
        </p:nvPicPr>
        <p:blipFill>
          <a:blip r:embed="rId1"/>
          <a:stretch/>
        </p:blipFill>
        <p:spPr>
          <a:xfrm>
            <a:off x="398520" y="2060640"/>
            <a:ext cx="846432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1 Imagen" descr=""/>
          <p:cNvPicPr/>
          <p:nvPr/>
        </p:nvPicPr>
        <p:blipFill>
          <a:blip r:embed="rId1"/>
          <a:stretch/>
        </p:blipFill>
        <p:spPr>
          <a:xfrm>
            <a:off x="2792520" y="291960"/>
            <a:ext cx="6172200" cy="5513400"/>
          </a:xfrm>
          <a:prstGeom prst="rect">
            <a:avLst/>
          </a:prstGeom>
          <a:ln w="0">
            <a:noFill/>
          </a:ln>
        </p:spPr>
      </p:pic>
      <p:sp>
        <p:nvSpPr>
          <p:cNvPr id="1266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34920" y="2565360"/>
            <a:ext cx="2736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3 Rectángulo"/>
          <p:cNvSpPr/>
          <p:nvPr/>
        </p:nvSpPr>
        <p:spPr>
          <a:xfrm>
            <a:off x="2700360" y="1803240"/>
            <a:ext cx="6119640" cy="1857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6 CuadroTexto"/>
          <p:cNvSpPr/>
          <p:nvPr/>
        </p:nvSpPr>
        <p:spPr>
          <a:xfrm>
            <a:off x="2700360" y="5773680"/>
            <a:ext cx="561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(+) (-): Aumento o disminución de la TD de cada ciudad frente al mismo trimestre del año anterio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6 CuadroTexto"/>
          <p:cNvSpPr/>
          <p:nvPr/>
        </p:nvSpPr>
        <p:spPr>
          <a:xfrm>
            <a:off x="223920" y="4606920"/>
            <a:ext cx="23572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El total de las 23 ciudades no incluye San Andrés por tener una distribución de la muestra diferent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Los resultados 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  <a:ea typeface="Calibri"/>
              </a:rPr>
              <a:t>presentados para San Andrés corresponden al periodo enero – junio 201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1332000" y="404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10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5 CuadroTexto"/>
          <p:cNvSpPr/>
          <p:nvPr/>
        </p:nvSpPr>
        <p:spPr>
          <a:xfrm>
            <a:off x="75852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5" name="1 Imagen" descr=""/>
          <p:cNvPicPr/>
          <p:nvPr/>
        </p:nvPicPr>
        <p:blipFill>
          <a:blip r:embed="rId1"/>
          <a:stretch/>
        </p:blipFill>
        <p:spPr>
          <a:xfrm>
            <a:off x="733320" y="1569960"/>
            <a:ext cx="7678800" cy="4091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1482480" y="5535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120680" y="1633680"/>
            <a:ext cx="6685200" cy="3878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15 –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492120" y="2708280"/>
            <a:ext cx="8232840" cy="216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ndres Felipe Virguez Clavijo</cp:lastModifiedBy>
  <cp:lastPrinted>2016-05-27T16:00:00Z</cp:lastPrinted>
  <dcterms:modified xsi:type="dcterms:W3CDTF">2016-08-02T21:47:30Z</dcterms:modified>
  <cp:revision>1037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