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3.png" ContentType="image/png"/>
  <Override PartName="/ppt/media/image4.png" ContentType="image/png"/>
  <Override PartName="/ppt/media/image28.wmf" ContentType="image/x-wmf"/>
  <Override PartName="/ppt/media/image10.png" ContentType="image/png"/>
  <Override PartName="/ppt/media/image30.wmf" ContentType="image/x-wmf"/>
  <Override PartName="/ppt/media/image5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11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26.wmf" ContentType="image/x-wmf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15.jpeg" ContentType="image/jpeg"/>
  <Override PartName="/ppt/media/image25.wmf" ContentType="image/x-wm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dt" idx="13"/>
          </p:nvPr>
        </p:nvSpPr>
        <p:spPr>
          <a:xfrm>
            <a:off x="3954600" y="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sldImg"/>
          </p:nvPr>
        </p:nvSpPr>
        <p:spPr>
          <a:xfrm>
            <a:off x="1203480" y="685440"/>
            <a:ext cx="4573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 type="sldNum" idx="15"/>
          </p:nvPr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27D2-7060-413C-9622-0487B2477D4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20348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3 Marcador de número de diapositiva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1E97-01A4-421B-9B76-870DC1C2ABB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2B52-9041-452F-8B96-4A5DADB6B42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187E-48BA-4D71-9049-B5AD2A2B5E2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DA0D-4A05-4CA0-9A89-FEEE7F82264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49E3D7-8640-4173-8E57-7A52516A897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7CF580-2C89-45AF-A165-5137A594D9E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8324C5-77D3-465D-964A-92BB7BA4DD7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C466F7-4E58-405D-9C92-4FFEFD2619F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2A25A3-656A-42F6-88C5-BBADD048A23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52DF20-A8CC-4F47-9BA7-C50350074A2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D1EBD1-2DA7-47ED-A19C-520FD6A5AA2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89C160-3E5F-49C8-BA40-B2D5E750C36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62FFCE-9DCC-4193-8E6E-485E0F1A08B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EB6BC-9463-4004-8AD1-DAA270996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08826-4F01-4DDC-AA76-7C5B46452E2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5150EE-F8A2-465A-9975-E8D1B9FB7BC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07F06-478D-4C50-9F69-D3340F3B441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5ECB7-28E6-4341-9D15-303E00008E9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13229-7418-40BE-BDB7-1930C473C75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73F22-FA43-455A-80C4-287AAF084B1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9BE33-74CF-40BE-A28D-F13DB38D807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5EBED-51A6-43F8-B15D-4BE68110CC8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4DDE7-9FE1-409D-9958-13207792728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248163-FB1E-4512-B4DA-508EF10A5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7A549-ABB5-4EF1-89E4-ED733A11A24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5D91B-B8E4-45FC-8FB9-5ECC8FD05F1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AF894-4302-4490-BA3A-7B9D26B9BB4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D1EED-EDFA-433F-B335-F48E101DD17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39730-4F88-4C4F-9D8C-1FD8157A1C0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CFBDD-E960-4C4F-B047-25B37B2F10F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65473-6788-4D37-BB65-451DC43DD63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30532-A806-48B6-8C7D-4CC224C58C6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0E2D7-2224-46EE-BC7F-3593D4DBE2D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E6B4F-90AC-43B9-A472-2DB66BD0E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6A50-131C-44B1-991D-1ADF9098DB2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41CE2-0A80-47B6-91A4-CB5CF9740D0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457C5-2300-4AE3-A4D2-02658972DB1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5928A-28FF-46CC-A1FC-0D415294E4A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22E561-2232-4BFE-A165-38DAB13D625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0C11A7-47F4-45CF-881B-0536D7AC725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D2C205-6E1F-4280-80B2-E620DC5E43A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6A080C-70D7-4869-8554-87B443E51FB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F158B7-8BB3-4129-BBA9-BC3B5FD2A48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4748A8-815B-4FBF-B24E-83A320FD9B6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546E48-0C2E-414A-A039-40D705AFE9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4ED72-E434-46D5-9FCF-509184D74BC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4D36EA-B6F4-4A6B-AE2F-A6B4B83EAB4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3EF697-B608-4AB7-9119-C425B4F851C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06F750-71D8-4B45-8041-DD92C3C28F0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0A4AEC-A88D-456F-8140-9C06DB52478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7A4FA8-9E1D-4FCC-97D3-2E4F41A027F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0ED88D-4F11-4D5D-A315-DC2F2BC3E71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E2CD5F-7F7D-43C2-8FFC-A9C7986800F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3CCFB7-E829-45F7-B699-76AE86835E6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DA95E7-C25F-4721-B9AD-FFF3C88971D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D403EB-F141-41BD-9004-D9394B35FA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A594-2B62-4DB5-A578-C3849E6E4D9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207F23-D09A-4546-897C-58AA52E4693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42C47B-FE3D-41F9-A072-DB3A5382D55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EE2697-B5BB-44E1-9729-EAD1F55E7B8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5B739-07F5-443D-8A80-72AFF97759C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F01227-4D2D-45B7-B924-0D79939B5D6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87173A-8C84-4BDD-B5F3-BDC2E1A1A4F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F8C4CA-E7A6-4EE5-ACB3-806D5BFD308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757F4-27DD-4749-B128-DE2CD4FD6A6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E2B1C-21A9-4515-9828-970FBA2648E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3B4B3-9662-4798-A7D3-4B6958403C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3C73-CF5D-4929-8754-D1C3F949AA5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102A3-0656-4DBA-8B06-8AB05228514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B6B7C-3D92-41E0-BF0D-24CAAE631F6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6B487-8BB5-4789-9B90-C1BF15744A5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71078-6434-489A-A9BA-AD7021B8E73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DBA87-2241-486C-8796-621CE378772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01347-ADF9-4D8E-9E95-5D47221BFF9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91D5A-9EBF-4402-BDF8-3304359DF45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D783E-7463-42A9-80F6-56E863835EC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78143-5517-4BC7-9450-FB2C9391290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E139-90C9-45B8-B694-04CC6FB6153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B96CC-4BBD-4752-ABBC-0678ED55C0A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491C-FCE5-4FCE-84DE-B48338F2D4B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D54C-8A44-4D5D-97E3-20B95A7C5B6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0D72-2842-4075-A1B9-C168A7740BD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A846-8EB0-494D-B53A-EB0B8827ED0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90F3-8F95-45AD-9AD6-1525F7316FE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EDC85-579B-438F-8701-5A5957837BF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A8BF-83E6-4ED4-8C00-EB57ADC08C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E22E1-3E16-4133-8240-41C384CE63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CE43A-7313-476C-9A53-7E7344539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0C500-05AB-459C-AC56-A03E3886C5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3DAE0-241A-454B-9CDC-78B09F41E2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6EA7D-F8FF-46CE-9B6F-71C97F9F7F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25F92-29BF-437D-9BF5-819CF14588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25E82-A023-428A-9652-679204E0B4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960AF-2E03-45C8-82DC-AB15F808589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FEE01-06B3-41F9-B6D6-EDFE29BB5D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0E4CD-98C3-4364-B5CB-4FC6808E96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7EB0-9C1C-4320-BE01-AED540F08F6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FC2-FBF7-419C-BA6D-A744ED4FE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9B6A-CED7-41E1-A201-00F3830D1E3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BA4-5222-42B7-9BC5-41FBEAAC1E7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559D-553F-4FCA-8E7E-B79236B3446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61C-1019-4C77-82CC-F456FE21AF4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F0CB-EC01-466E-8591-D15FEA2C37E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59E3-37EC-4BE2-84AA-8776A9CA44B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34AC-17A8-4D54-A149-6FB3FB33255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42D8-2028-47AE-AF7D-47A1B81A5BA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5656-CA83-42DE-A550-456F87BA105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980-13CC-46DA-A8E1-DD86BF885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165-D0C6-464E-B1F2-0EF3B92A0CB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6E325-1875-479F-9136-87DCDC5C94A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2AF94-16AF-4C75-B62D-CFEB2BB9AB4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6CCE9-A08A-462A-A2B5-B39537DD302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8FFDC-2331-4AC6-85C6-D8AA622B3A9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BB3E6-D557-4DDF-AF12-A5ED779CFF8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64ACA-64B3-4979-9A70-1D31FC173A4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2EF17-867F-46CD-9595-40C3CC8C015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4C019-5B2B-4C4C-9D06-20C789CB58C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D9391-D831-44F6-A0F1-229713444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53AE8-8D62-48F5-B6A4-A1CD7597FF7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F8B00-94FF-48FC-9895-10C932C8FF5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5C548-292D-4EFE-A7FA-809DF3216B1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65AC8-8911-4ADD-BD82-9744E6D046D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51A58-307A-4AE5-ACAE-5D2BABEAAD8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54BD5-B32E-4764-8A11-DA41B0AE231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05022-0FAA-49C3-8A41-164DBC6F945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98B2F-74C6-46F7-BA47-C6C485FE044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3D5F7-92A1-4600-8AD4-9837FB9A180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30B5C-DD80-40A2-8CAE-157E12B61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0215E-6CB4-4B6A-B829-5D5F0060C6B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5B714-7DB5-4A45-AD75-FF191D9F9CA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BBB01-DD98-46A4-AF67-978775D8901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252E4-33F2-4233-8E72-D4B1410863F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144C1-D3F8-425D-8871-D90901698D8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20AB-F40F-472A-9088-A271443D6FA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9B8A-82AE-4694-8C11-9699D885328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A0FE-F266-4959-9061-1206FFC996A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F850-D79F-4A02-8325-BCBED2B71B6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8D54-66D7-405E-A529-D7CA0F18F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A93B-6B2E-4F39-B84F-AAB1FEC2FDD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4ED5-4ED7-44E2-AC28-217F19AE29C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1C85-E15E-463A-B01B-D82FA9F39E5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E40F-3385-4894-A0BA-4F539F18A1D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578A-0DDD-4B2C-B0A8-4D9A3499959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02BF-7AD4-47F0-8CA6-BCE1DB70A54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63A1-E8C6-4021-A824-D0641F4B52E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C25A74-4AB8-4301-83E1-CA50BB6CEC9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A53000-B89A-4055-BD93-E38BA55E92C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F60FB7-0F6C-47FC-85B1-7A360FFE0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81.xml"/><Relationship Id="rId9" Type="http://schemas.openxmlformats.org/officeDocument/2006/relationships/slideLayout" Target="../slideLayouts/slideLayout182.xml"/><Relationship Id="rId10" Type="http://schemas.openxmlformats.org/officeDocument/2006/relationships/slideLayout" Target="../slideLayouts/slideLayout183.xml"/><Relationship Id="rId11" Type="http://schemas.openxmlformats.org/officeDocument/2006/relationships/slideLayout" Target="../slideLayouts/slideLayout184.xml"/><Relationship Id="rId12" Type="http://schemas.openxmlformats.org/officeDocument/2006/relationships/slideLayout" Target="../slideLayouts/slideLayout185.xml"/><Relationship Id="rId13" Type="http://schemas.openxmlformats.org/officeDocument/2006/relationships/slideLayout" Target="../slideLayouts/slideLayout186.xml"/><Relationship Id="rId14" Type="http://schemas.openxmlformats.org/officeDocument/2006/relationships/slideLayout" Target="../slideLayouts/slideLayout187.xml"/><Relationship Id="rId15" Type="http://schemas.openxmlformats.org/officeDocument/2006/relationships/slideLayout" Target="../slideLayouts/slideLayout188.xml"/><Relationship Id="rId16" Type="http://schemas.openxmlformats.org/officeDocument/2006/relationships/slideLayout" Target="../slideLayouts/slideLayout189.xml"/><Relationship Id="rId17" Type="http://schemas.openxmlformats.org/officeDocument/2006/relationships/slideLayout" Target="../slideLayouts/slideLayout190.xml"/><Relationship Id="rId18" Type="http://schemas.openxmlformats.org/officeDocument/2006/relationships/slideLayout" Target="../slideLayouts/slideLayout191.xml"/><Relationship Id="rId19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D81E-8EE3-407D-A0D6-FD9DD00D1F4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F349-BCE1-4B8C-A1AD-801A43F0BDC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820C-1921-4752-A7C8-9FF7F2603D2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1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E1C2-99BD-48A9-A964-A4D440C1F5F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1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2F49-B3BD-44AC-98C6-27BF1CCF566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pic>
        <p:nvPicPr>
          <p:cNvPr id="616" name="20 Imagen" descr=""/>
          <p:cNvPicPr/>
          <p:nvPr/>
        </p:nvPicPr>
        <p:blipFill>
          <a:blip r:embed="rId4"/>
          <a:srcRect l="0" t="0" r="11721" b="0"/>
          <a:stretch/>
        </p:blipFill>
        <p:spPr>
          <a:xfrm>
            <a:off x="0" y="6732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617" name="7 Imagen" descr=""/>
          <p:cNvPicPr/>
          <p:nvPr/>
        </p:nvPicPr>
        <p:blipFill>
          <a:blip r:embed="rId5"/>
          <a:srcRect l="0" t="26969" r="0" b="14563"/>
          <a:stretch/>
        </p:blipFill>
        <p:spPr>
          <a:xfrm>
            <a:off x="0" y="1628640"/>
            <a:ext cx="9155160" cy="3453120"/>
          </a:xfrm>
          <a:prstGeom prst="rect">
            <a:avLst/>
          </a:prstGeom>
          <a:ln w="0">
            <a:noFill/>
          </a:ln>
        </p:spPr>
      </p:pic>
      <p:pic>
        <p:nvPicPr>
          <p:cNvPr id="618" name="10 Imagen" descr=""/>
          <p:cNvPicPr/>
          <p:nvPr/>
        </p:nvPicPr>
        <p:blipFill>
          <a:blip r:embed="rId6"/>
          <a:srcRect l="0" t="0" r="27995" b="0"/>
          <a:stretch/>
        </p:blipFill>
        <p:spPr>
          <a:xfrm>
            <a:off x="5508720" y="5662440"/>
            <a:ext cx="3355920" cy="719280"/>
          </a:xfrm>
          <a:prstGeom prst="rect">
            <a:avLst/>
          </a:prstGeom>
          <a:ln w="0">
            <a:noFill/>
          </a:ln>
        </p:spPr>
      </p:pic>
      <p:pic>
        <p:nvPicPr>
          <p:cNvPr id="619" name="7 Imagen" descr=""/>
          <p:cNvPicPr/>
          <p:nvPr/>
        </p:nvPicPr>
        <p:blipFill>
          <a:blip r:embed="rId7"/>
          <a:stretch/>
        </p:blipFill>
        <p:spPr>
          <a:xfrm>
            <a:off x="684360" y="5877000"/>
            <a:ext cx="2981160" cy="28872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8"/>
    <p:sldLayoutId id="2147483845" r:id="rId9"/>
    <p:sldLayoutId id="2147483846" r:id="rId10"/>
    <p:sldLayoutId id="2147483847" r:id="rId11"/>
    <p:sldLayoutId id="2147483848" r:id="rId12"/>
    <p:sldLayoutId id="2147483849" r:id="rId13"/>
    <p:sldLayoutId id="2147483850" r:id="rId14"/>
    <p:sldLayoutId id="2147483851" r:id="rId15"/>
    <p:sldLayoutId id="2147483852" r:id="rId16"/>
    <p:sldLayoutId id="2147483853" r:id="rId17"/>
    <p:sldLayoutId id="2147483854" r:id="rId18"/>
    <p:sldLayoutId id="2147483855" r:id="rId19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20 Imagen" descr=""/>
          <p:cNvPicPr/>
          <p:nvPr/>
        </p:nvPicPr>
        <p:blipFill>
          <a:blip r:embed="rId2"/>
          <a:srcRect l="0" t="0" r="11721" b="0"/>
          <a:stretch/>
        </p:blipFill>
        <p:spPr>
          <a:xfrm>
            <a:off x="0" y="6732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659" name="2 Imagen" descr=""/>
          <p:cNvPicPr/>
          <p:nvPr/>
        </p:nvPicPr>
        <p:blipFill>
          <a:blip r:embed="rId3"/>
          <a:srcRect l="0" t="26969" r="0" b="14563"/>
          <a:stretch/>
        </p:blipFill>
        <p:spPr>
          <a:xfrm>
            <a:off x="0" y="1628640"/>
            <a:ext cx="9155160" cy="3453120"/>
          </a:xfrm>
          <a:prstGeom prst="rect">
            <a:avLst/>
          </a:prstGeom>
          <a:ln w="0">
            <a:noFill/>
          </a:ln>
        </p:spPr>
      </p:pic>
      <p:pic>
        <p:nvPicPr>
          <p:cNvPr id="660" name="10 Imagen" descr=""/>
          <p:cNvPicPr/>
          <p:nvPr/>
        </p:nvPicPr>
        <p:blipFill>
          <a:blip r:embed="rId4"/>
          <a:srcRect l="0" t="0" r="27995" b="0"/>
          <a:stretch/>
        </p:blipFill>
        <p:spPr>
          <a:xfrm>
            <a:off x="5508720" y="5662440"/>
            <a:ext cx="3355920" cy="719280"/>
          </a:xfrm>
          <a:prstGeom prst="rect">
            <a:avLst/>
          </a:prstGeom>
          <a:ln w="0">
            <a:noFill/>
          </a:ln>
        </p:spPr>
      </p:pic>
      <p:pic>
        <p:nvPicPr>
          <p:cNvPr id="661" name="7 Imagen" descr=""/>
          <p:cNvPicPr/>
          <p:nvPr/>
        </p:nvPicPr>
        <p:blipFill>
          <a:blip r:embed="rId5"/>
          <a:stretch/>
        </p:blipFill>
        <p:spPr>
          <a:xfrm>
            <a:off x="684360" y="5877000"/>
            <a:ext cx="2981160" cy="28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1 Imagen" descr=""/>
          <p:cNvPicPr/>
          <p:nvPr/>
        </p:nvPicPr>
        <p:blipFill>
          <a:blip r:embed="rId2"/>
          <a:stretch/>
        </p:blipFill>
        <p:spPr>
          <a:xfrm>
            <a:off x="0" y="0"/>
            <a:ext cx="9109080" cy="1057320"/>
          </a:xfrm>
          <a:prstGeom prst="rect">
            <a:avLst/>
          </a:prstGeom>
          <a:ln w="0">
            <a:noFill/>
          </a:ln>
        </p:spPr>
      </p:pic>
      <p:sp>
        <p:nvSpPr>
          <p:cNvPr id="699" name="18 Triángulo isósceles"/>
          <p:cNvSpPr/>
          <p:nvPr/>
        </p:nvSpPr>
        <p:spPr>
          <a:xfrm>
            <a:off x="5348160" y="1440"/>
            <a:ext cx="3692520" cy="1094040"/>
          </a:xfrm>
          <a:custGeom>
            <a:avLst/>
            <a:gdLst/>
            <a:ahLst/>
            <a:rect l="l" t="t" r="r" b="b"/>
            <a:pathLst>
              <a:path w="3939813" h="1074726">
                <a:moveTo>
                  <a:pt x="0" y="1074726"/>
                </a:moveTo>
                <a:lnTo>
                  <a:pt x="712892" y="0"/>
                </a:lnTo>
                <a:lnTo>
                  <a:pt x="3939813" y="8209"/>
                </a:lnTo>
                <a:cubicBezTo>
                  <a:pt x="3936827" y="364624"/>
                  <a:pt x="3938332" y="716856"/>
                  <a:pt x="3935346" y="1073271"/>
                </a:cubicBezTo>
                <a:lnTo>
                  <a:pt x="0" y="10747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3 Rectángulo"/>
          <p:cNvSpPr/>
          <p:nvPr/>
        </p:nvSpPr>
        <p:spPr>
          <a:xfrm>
            <a:off x="6012000" y="0"/>
            <a:ext cx="3132000" cy="10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20 Imagen" descr=""/>
          <p:cNvPicPr/>
          <p:nvPr/>
        </p:nvPicPr>
        <p:blipFill>
          <a:blip r:embed="rId3"/>
          <a:srcRect l="0" t="0" r="11721" b="0"/>
          <a:stretch/>
        </p:blipFill>
        <p:spPr>
          <a:xfrm>
            <a:off x="0" y="672948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702" name="17 Conector recto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6480">
            <a:solidFill>
              <a:srgbClr val="b6004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23 Imagen" descr=""/>
          <p:cNvPicPr/>
          <p:nvPr/>
        </p:nvPicPr>
        <p:blipFill>
          <a:blip r:embed="rId4"/>
          <a:srcRect l="0" t="0" r="27995" b="0"/>
          <a:stretch/>
        </p:blipFill>
        <p:spPr>
          <a:xfrm>
            <a:off x="6084720" y="225360"/>
            <a:ext cx="2853000" cy="61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1 Imagen" descr=""/>
          <p:cNvPicPr/>
          <p:nvPr/>
        </p:nvPicPr>
        <p:blipFill>
          <a:blip r:embed="rId2"/>
          <a:stretch/>
        </p:blipFill>
        <p:spPr>
          <a:xfrm>
            <a:off x="-15840" y="5608800"/>
            <a:ext cx="9172440" cy="1204920"/>
          </a:xfrm>
          <a:prstGeom prst="rect">
            <a:avLst/>
          </a:prstGeom>
          <a:ln w="0">
            <a:noFill/>
          </a:ln>
        </p:spPr>
      </p:pic>
      <p:pic>
        <p:nvPicPr>
          <p:cNvPr id="741" name="20 Imagen" descr=""/>
          <p:cNvPicPr/>
          <p:nvPr/>
        </p:nvPicPr>
        <p:blipFill>
          <a:blip r:embed="rId3"/>
          <a:srcRect l="0" t="0" r="11721" b="0"/>
          <a:stretch/>
        </p:blipFill>
        <p:spPr>
          <a:xfrm>
            <a:off x="-15840" y="6705720"/>
            <a:ext cx="9159840" cy="152280"/>
          </a:xfrm>
          <a:prstGeom prst="rect">
            <a:avLst/>
          </a:prstGeom>
          <a:ln w="0">
            <a:noFill/>
          </a:ln>
        </p:spPr>
      </p:pic>
      <p:pic>
        <p:nvPicPr>
          <p:cNvPr id="742" name="3 Imagen" descr=""/>
          <p:cNvPicPr/>
          <p:nvPr/>
        </p:nvPicPr>
        <p:blipFill>
          <a:blip r:embed="rId4"/>
          <a:stretch/>
        </p:blipFill>
        <p:spPr>
          <a:xfrm>
            <a:off x="0" y="0"/>
            <a:ext cx="9155160" cy="10731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" descr=""/>
          <p:cNvPicPr/>
          <p:nvPr/>
        </p:nvPicPr>
        <p:blipFill>
          <a:blip r:embed="rId5"/>
          <a:srcRect l="21817" t="29838" r="31764" b="44793"/>
          <a:stretch/>
        </p:blipFill>
        <p:spPr>
          <a:xfrm>
            <a:off x="1928880" y="1444680"/>
            <a:ext cx="5522760" cy="1697040"/>
          </a:xfrm>
          <a:prstGeom prst="rect">
            <a:avLst/>
          </a:prstGeom>
          <a:ln w="0">
            <a:noFill/>
          </a:ln>
        </p:spPr>
      </p:pic>
      <p:sp>
        <p:nvSpPr>
          <p:cNvPr id="744" name="5 Conector recto"/>
          <p:cNvSpPr/>
          <p:nvPr/>
        </p:nvSpPr>
        <p:spPr>
          <a:xfrm>
            <a:off x="2000160" y="3395520"/>
            <a:ext cx="5329440" cy="0"/>
          </a:xfrm>
          <a:prstGeom prst="line">
            <a:avLst/>
          </a:prstGeom>
          <a:ln w="9360">
            <a:solidFill>
              <a:srgbClr val="b600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5" name="6 Imagen" descr=""/>
          <p:cNvPicPr/>
          <p:nvPr/>
        </p:nvPicPr>
        <p:blipFill>
          <a:blip r:embed="rId6"/>
          <a:stretch/>
        </p:blipFill>
        <p:spPr>
          <a:xfrm>
            <a:off x="509760" y="3778200"/>
            <a:ext cx="8165880" cy="129528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ldNum" idx="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40DE-84BF-4760-95F4-E74895D4DDB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1 Imagen" descr=""/>
          <p:cNvPicPr/>
          <p:nvPr/>
        </p:nvPicPr>
        <p:blipFill>
          <a:blip r:embed="rId2"/>
          <a:srcRect l="116" t="2316" r="0" b="5097"/>
          <a:stretch/>
        </p:blipFill>
        <p:spPr>
          <a:xfrm>
            <a:off x="0" y="-27000"/>
            <a:ext cx="9144000" cy="5465880"/>
          </a:xfrm>
          <a:prstGeom prst="rect">
            <a:avLst/>
          </a:prstGeom>
          <a:ln w="0">
            <a:noFill/>
          </a:ln>
        </p:spPr>
      </p:pic>
      <p:sp>
        <p:nvSpPr>
          <p:cNvPr id="785" name="object 934"/>
          <p:cNvSpPr/>
          <p:nvPr/>
        </p:nvSpPr>
        <p:spPr>
          <a:xfrm>
            <a:off x="471600" y="6145200"/>
            <a:ext cx="230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500" spc="-1" strike="noStrike">
                <a:solidFill>
                  <a:srgbClr val="414042"/>
                </a:solidFill>
                <a:latin typeface="Arial"/>
              </a:rPr>
              <a:t>www.dane.gov.c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6" name="20 Imagen" descr=""/>
          <p:cNvPicPr/>
          <p:nvPr/>
        </p:nvPicPr>
        <p:blipFill>
          <a:blip r:embed="rId3"/>
          <a:srcRect l="0" t="0" r="11721" b="0"/>
          <a:stretch/>
        </p:blipFill>
        <p:spPr>
          <a:xfrm>
            <a:off x="0" y="530064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787" name="10 Imagen" descr=""/>
          <p:cNvPicPr/>
          <p:nvPr/>
        </p:nvPicPr>
        <p:blipFill>
          <a:blip r:embed="rId4"/>
          <a:srcRect l="0" t="0" r="27995" b="0"/>
          <a:stretch/>
        </p:blipFill>
        <p:spPr>
          <a:xfrm>
            <a:off x="5508720" y="5805360"/>
            <a:ext cx="335592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17B5-B743-4278-B961-4B4D7EB64DD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8E7F-EBD6-46B2-B7AB-B5AB4E1328D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B4C2-2DDA-43B3-ABC4-585F543C20E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A3A7-3E63-455B-98CD-66D2AA404CD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AFBE-34A3-4DEC-B3E6-88DF7B1D246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8E45-D51D-42F7-BC39-931FFF3E4D4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414440"/>
            <a:ext cx="9144000" cy="2803680"/>
          </a:xfrm>
          <a:prstGeom prst="rect">
            <a:avLst/>
          </a:prstGeom>
          <a:ln w="0">
            <a:noFill/>
          </a:ln>
        </p:spPr>
      </p:pic>
      <p:sp>
        <p:nvSpPr>
          <p:cNvPr id="832" name="4 Rectángulo"/>
          <p:cNvSpPr/>
          <p:nvPr/>
        </p:nvSpPr>
        <p:spPr>
          <a:xfrm>
            <a:off x="468360" y="2205000"/>
            <a:ext cx="8207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RCADO LABORA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5 Rectángulo"/>
          <p:cNvSpPr/>
          <p:nvPr/>
        </p:nvSpPr>
        <p:spPr>
          <a:xfrm>
            <a:off x="468360" y="2874960"/>
            <a:ext cx="82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OGOTÁ D.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object 9"/>
          <p:cNvSpPr/>
          <p:nvPr/>
        </p:nvSpPr>
        <p:spPr>
          <a:xfrm>
            <a:off x="5940360" y="4653000"/>
            <a:ext cx="259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Arial"/>
                <a:ea typeface="Open Sans"/>
              </a:rPr>
              <a:t>Marz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10 Conector recto"/>
          <p:cNvSpPr/>
          <p:nvPr/>
        </p:nvSpPr>
        <p:spPr>
          <a:xfrm>
            <a:off x="684360" y="2781360"/>
            <a:ext cx="792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11 Rectángulo"/>
          <p:cNvSpPr/>
          <p:nvPr/>
        </p:nvSpPr>
        <p:spPr>
          <a:xfrm>
            <a:off x="324000" y="4653000"/>
            <a:ext cx="30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ogotá, Colomb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3"/>
          <p:cNvSpPr/>
          <p:nvPr/>
        </p:nvSpPr>
        <p:spPr>
          <a:xfrm>
            <a:off x="0" y="13176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ibución a la variación de la població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cupada, según ramas de activ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 Box 4"/>
          <p:cNvSpPr/>
          <p:nvPr/>
        </p:nvSpPr>
        <p:spPr>
          <a:xfrm>
            <a:off x="382680" y="544500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; suministro de electricidad, gas y agua e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5 CuadroTexto"/>
          <p:cNvSpPr/>
          <p:nvPr/>
        </p:nvSpPr>
        <p:spPr>
          <a:xfrm>
            <a:off x="545040" y="518328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8" name="1 Imagen" descr=""/>
          <p:cNvPicPr/>
          <p:nvPr/>
        </p:nvPicPr>
        <p:blipFill>
          <a:blip r:embed="rId1"/>
          <a:stretch/>
        </p:blipFill>
        <p:spPr>
          <a:xfrm>
            <a:off x="1047600" y="1484280"/>
            <a:ext cx="71787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3"/>
          <p:cNvSpPr/>
          <p:nvPr/>
        </p:nvSpPr>
        <p:spPr>
          <a:xfrm>
            <a:off x="611280" y="2276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</a:rPr>
              <a:t>COMPORTAMIENTO DEL MERCADO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4 Conector recto"/>
          <p:cNvSpPr/>
          <p:nvPr/>
        </p:nvSpPr>
        <p:spPr>
          <a:xfrm>
            <a:off x="755640" y="285264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6 Rectángulo"/>
          <p:cNvSpPr/>
          <p:nvPr/>
        </p:nvSpPr>
        <p:spPr>
          <a:xfrm>
            <a:off x="611280" y="2852640"/>
            <a:ext cx="806436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</a:rPr>
              <a:t>POBLACIÓN OCUPADA SEGÚ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</a:rPr>
              <a:t>POSICIÓN OCUP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Text Box 3"/>
          <p:cNvSpPr/>
          <p:nvPr/>
        </p:nvSpPr>
        <p:spPr>
          <a:xfrm>
            <a:off x="-12600" y="190440"/>
            <a:ext cx="58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stribución porcentual y variación de la población ocupada, según posición ocup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 Box 4"/>
          <p:cNvSpPr/>
          <p:nvPr/>
        </p:nvSpPr>
        <p:spPr>
          <a:xfrm>
            <a:off x="31680" y="5396040"/>
            <a:ext cx="9004320" cy="5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 Obrero, empleado particular incluye al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 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5 CuadroTexto"/>
          <p:cNvSpPr/>
          <p:nvPr/>
        </p:nvSpPr>
        <p:spPr>
          <a:xfrm>
            <a:off x="761760" y="4986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5" name="1 Imagen" descr=""/>
          <p:cNvPicPr/>
          <p:nvPr/>
        </p:nvPicPr>
        <p:blipFill>
          <a:blip r:embed="rId1"/>
          <a:stretch/>
        </p:blipFill>
        <p:spPr>
          <a:xfrm>
            <a:off x="826920" y="1374840"/>
            <a:ext cx="76327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Text Box 3"/>
          <p:cNvSpPr/>
          <p:nvPr/>
        </p:nvSpPr>
        <p:spPr>
          <a:xfrm>
            <a:off x="-33480" y="189000"/>
            <a:ext cx="49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Contribución a la variación de la població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ocupada, según posición ocup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8 CuadroTexto"/>
          <p:cNvSpPr/>
          <p:nvPr/>
        </p:nvSpPr>
        <p:spPr>
          <a:xfrm>
            <a:off x="1053360" y="515772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0" name="1 Imagen" descr=""/>
          <p:cNvPicPr/>
          <p:nvPr/>
        </p:nvPicPr>
        <p:blipFill>
          <a:blip r:embed="rId1"/>
          <a:stretch/>
        </p:blipFill>
        <p:spPr>
          <a:xfrm>
            <a:off x="690480" y="1628640"/>
            <a:ext cx="7620120" cy="3473640"/>
          </a:xfrm>
          <a:prstGeom prst="rect">
            <a:avLst/>
          </a:prstGeom>
          <a:ln w="0">
            <a:noFill/>
          </a:ln>
        </p:spPr>
      </p:pic>
      <p:sp>
        <p:nvSpPr>
          <p:cNvPr id="881" name="Text Box 4"/>
          <p:cNvSpPr/>
          <p:nvPr/>
        </p:nvSpPr>
        <p:spPr>
          <a:xfrm>
            <a:off x="17640" y="5445000"/>
            <a:ext cx="9108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  Obrero, empleado particular incluye al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 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3"/>
          <p:cNvSpPr/>
          <p:nvPr/>
        </p:nvSpPr>
        <p:spPr>
          <a:xfrm>
            <a:off x="611280" y="2276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  <a:ea typeface="Calibri"/>
              </a:rPr>
              <a:t>COMPORTAMIENTO DEL MERCADO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4 Conector recto"/>
          <p:cNvSpPr/>
          <p:nvPr/>
        </p:nvSpPr>
        <p:spPr>
          <a:xfrm>
            <a:off x="755640" y="285264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6 Rectángulo"/>
          <p:cNvSpPr/>
          <p:nvPr/>
        </p:nvSpPr>
        <p:spPr>
          <a:xfrm>
            <a:off x="611280" y="2852640"/>
            <a:ext cx="806436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  <a:ea typeface="Calibri"/>
              </a:rPr>
              <a:t>SEGÚN TIPO DE ACTIV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Open Sans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Calibri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0" y="189000"/>
            <a:ext cx="61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stribución porcentual y variación de la població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activa, según tipo de activida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 Box 4"/>
          <p:cNvSpPr/>
          <p:nvPr/>
        </p:nvSpPr>
        <p:spPr>
          <a:xfrm>
            <a:off x="392040" y="551664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5 CuadroTexto"/>
          <p:cNvSpPr/>
          <p:nvPr/>
        </p:nvSpPr>
        <p:spPr>
          <a:xfrm>
            <a:off x="545760" y="5176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9" name="1 Imagen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653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5 CuadroTexto"/>
          <p:cNvSpPr/>
          <p:nvPr/>
        </p:nvSpPr>
        <p:spPr>
          <a:xfrm>
            <a:off x="54576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1" name="1 Imagen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5905440" cy="350208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3"/>
          <p:cNvSpPr/>
          <p:nvPr/>
        </p:nvSpPr>
        <p:spPr>
          <a:xfrm>
            <a:off x="0" y="115920"/>
            <a:ext cx="57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Proporción del empleo informal en la población ocupad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Total 13 ciudades y áreas metropolitanas y Bogotá D.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Trimestre noviembre – enero (2015 – 201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5 CuadroTexto"/>
          <p:cNvSpPr/>
          <p:nvPr/>
        </p:nvSpPr>
        <p:spPr>
          <a:xfrm>
            <a:off x="-27000" y="150840"/>
            <a:ext cx="673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Límites de confianza y error relativo de la población de l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uerza de trabajo e indicadores de mercado labo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Bogotá D.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5" name="2 Imagen" descr=""/>
          <p:cNvPicPr/>
          <p:nvPr/>
        </p:nvPicPr>
        <p:blipFill>
          <a:blip r:embed="rId1"/>
          <a:stretch/>
        </p:blipFill>
        <p:spPr>
          <a:xfrm>
            <a:off x="1130400" y="1628640"/>
            <a:ext cx="6608520" cy="1871640"/>
          </a:xfrm>
          <a:prstGeom prst="rect">
            <a:avLst/>
          </a:prstGeom>
          <a:ln w="0">
            <a:noFill/>
          </a:ln>
        </p:spPr>
      </p:pic>
      <p:pic>
        <p:nvPicPr>
          <p:cNvPr id="896" name="1 Imagen" descr=""/>
          <p:cNvPicPr/>
          <p:nvPr/>
        </p:nvPicPr>
        <p:blipFill>
          <a:blip r:embed="rId2"/>
          <a:stretch/>
        </p:blipFill>
        <p:spPr>
          <a:xfrm>
            <a:off x="1116000" y="3789360"/>
            <a:ext cx="662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1 CuadroTexto"/>
          <p:cNvSpPr/>
          <p:nvPr/>
        </p:nvSpPr>
        <p:spPr>
          <a:xfrm>
            <a:off x="0" y="115920"/>
            <a:ext cx="536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Tasa global de participación, ocupación y desemple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Bogotá D.C. Anu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2008 -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9" name="1 Imagen" descr=""/>
          <p:cNvPicPr/>
          <p:nvPr/>
        </p:nvPicPr>
        <p:blipFill>
          <a:blip r:embed="rId1"/>
          <a:stretch/>
        </p:blipFill>
        <p:spPr>
          <a:xfrm>
            <a:off x="844560" y="1717560"/>
            <a:ext cx="729612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4"/>
          <p:cNvSpPr/>
          <p:nvPr/>
        </p:nvSpPr>
        <p:spPr>
          <a:xfrm>
            <a:off x="979560" y="2514600"/>
            <a:ext cx="776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INDICADORES DEL MERCADO LABO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3"/>
          <p:cNvSpPr/>
          <p:nvPr/>
        </p:nvSpPr>
        <p:spPr>
          <a:xfrm>
            <a:off x="1979640" y="321300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23 CIUDADES Y ÁREAS METROPOLITA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 Box 3"/>
          <p:cNvSpPr/>
          <p:nvPr/>
        </p:nvSpPr>
        <p:spPr>
          <a:xfrm>
            <a:off x="3419640" y="3645000"/>
            <a:ext cx="52560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6 Conector recto"/>
          <p:cNvSpPr/>
          <p:nvPr/>
        </p:nvSpPr>
        <p:spPr>
          <a:xfrm>
            <a:off x="755640" y="314172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3"/>
          <p:cNvSpPr/>
          <p:nvPr/>
        </p:nvSpPr>
        <p:spPr>
          <a:xfrm>
            <a:off x="179280" y="11592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Resumen indicad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Bogotá D.C.  – Total 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2" name="1 Imagen" descr=""/>
          <p:cNvPicPr/>
          <p:nvPr/>
        </p:nvPicPr>
        <p:blipFill>
          <a:blip r:embed="rId1"/>
          <a:stretch/>
        </p:blipFill>
        <p:spPr>
          <a:xfrm>
            <a:off x="500040" y="1989000"/>
            <a:ext cx="8074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 Box 3"/>
          <p:cNvSpPr/>
          <p:nvPr/>
        </p:nvSpPr>
        <p:spPr>
          <a:xfrm>
            <a:off x="90360" y="44280"/>
            <a:ext cx="50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Indicadores de mercado laboral por ciu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Trimest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Noviembre 2016  - ener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3 Rectángulo"/>
          <p:cNvSpPr/>
          <p:nvPr/>
        </p:nvSpPr>
        <p:spPr>
          <a:xfrm>
            <a:off x="1951200" y="4508640"/>
            <a:ext cx="6119640" cy="180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7" name="1 Imagen" descr=""/>
          <p:cNvPicPr/>
          <p:nvPr/>
        </p:nvPicPr>
        <p:blipFill>
          <a:blip r:embed="rId1"/>
          <a:stretch/>
        </p:blipFill>
        <p:spPr>
          <a:xfrm>
            <a:off x="1963800" y="1052640"/>
            <a:ext cx="6141960" cy="55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-33480" y="5724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Tasa global de participación, ocupación y desempl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Bogotá D.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Noviembre – enero (2007 - 20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5 CuadroTexto"/>
          <p:cNvSpPr/>
          <p:nvPr/>
        </p:nvSpPr>
        <p:spPr>
          <a:xfrm>
            <a:off x="205704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2" name="1 Imagen" descr=""/>
          <p:cNvPicPr/>
          <p:nvPr/>
        </p:nvPicPr>
        <p:blipFill>
          <a:blip r:embed="rId1"/>
          <a:stretch/>
        </p:blipFill>
        <p:spPr>
          <a:xfrm>
            <a:off x="992160" y="1984320"/>
            <a:ext cx="75452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 Box 3"/>
          <p:cNvSpPr/>
          <p:nvPr/>
        </p:nvSpPr>
        <p:spPr>
          <a:xfrm>
            <a:off x="0" y="27000"/>
            <a:ext cx="714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Tasa de desempl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Bogotá D.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Trimestres móviles 2013-201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5 CuadroTexto"/>
          <p:cNvSpPr/>
          <p:nvPr/>
        </p:nvSpPr>
        <p:spPr>
          <a:xfrm>
            <a:off x="76176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5" name="1 Imagen" descr=""/>
          <p:cNvPicPr/>
          <p:nvPr/>
        </p:nvPicPr>
        <p:blipFill>
          <a:blip r:embed="rId1"/>
          <a:stretch/>
        </p:blipFill>
        <p:spPr>
          <a:xfrm>
            <a:off x="1371600" y="1424160"/>
            <a:ext cx="6400800" cy="40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4"/>
          <p:cNvSpPr/>
          <p:nvPr/>
        </p:nvSpPr>
        <p:spPr>
          <a:xfrm>
            <a:off x="20520" y="41400"/>
            <a:ext cx="498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Población ocupada, desocupada e inactiva 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Bogotá D.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Noviembre – enero (2015 - 20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7" name="1 Imagen" descr=""/>
          <p:cNvPicPr/>
          <p:nvPr/>
        </p:nvPicPr>
        <p:blipFill>
          <a:blip r:embed="rId1"/>
          <a:stretch/>
        </p:blipFill>
        <p:spPr>
          <a:xfrm>
            <a:off x="368280" y="2492280"/>
            <a:ext cx="8380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3"/>
          <p:cNvSpPr/>
          <p:nvPr/>
        </p:nvSpPr>
        <p:spPr>
          <a:xfrm>
            <a:off x="611280" y="2276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</a:rPr>
              <a:t>COMPORTAMIENTO DEL MERCADO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4 Conector recto"/>
          <p:cNvSpPr/>
          <p:nvPr/>
        </p:nvSpPr>
        <p:spPr>
          <a:xfrm>
            <a:off x="755640" y="285264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6 Rectángulo"/>
          <p:cNvSpPr/>
          <p:nvPr/>
        </p:nvSpPr>
        <p:spPr>
          <a:xfrm>
            <a:off x="611280" y="2852640"/>
            <a:ext cx="806436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</a:rPr>
              <a:t>POBLACIÓN OCUPADA SEGÚ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</a:rPr>
              <a:t>RAMA DE ACTIV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 Box 3"/>
          <p:cNvSpPr/>
          <p:nvPr/>
        </p:nvSpPr>
        <p:spPr>
          <a:xfrm>
            <a:off x="-25560" y="18900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stribución porcentual  y variación de l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blación ocupada, según ramas de activida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5 CuadroTexto"/>
          <p:cNvSpPr/>
          <p:nvPr/>
        </p:nvSpPr>
        <p:spPr>
          <a:xfrm>
            <a:off x="67284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 Box 4"/>
          <p:cNvSpPr/>
          <p:nvPr/>
        </p:nvSpPr>
        <p:spPr>
          <a:xfrm>
            <a:off x="0" y="5445000"/>
            <a:ext cx="9255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; suministro de electricidad, gas y agua e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4" name="1 Imagen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119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Andres Francisco Mejia Bocanegra</cp:lastModifiedBy>
  <cp:lastPrinted>2017-03-16T16:54:35Z</cp:lastPrinted>
  <dcterms:modified xsi:type="dcterms:W3CDTF">2017-03-17T19:46:27Z</dcterms:modified>
  <cp:revision>1079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