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6E45-D1DA-4FD3-B64B-C5038F9ED7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0348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9B4E-03C6-42EE-B155-FB8A94B11D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0886-A6D3-40F6-BFFC-7B2429891C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AF7D-BC00-4C02-8BF9-6D6CF93807B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6D91-5DAC-47C4-819C-3F55892637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B33B2-732E-476E-8C34-119251D83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7C50-CF0D-4002-A169-3A2D4A14F39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B1B39-4937-422E-86C7-8A4205616D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858E7-4564-4258-8520-1C14322C185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0E9D3-AAB5-4822-99B7-79AA3AF70D1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DA236-7328-4442-81E3-0BB6127E630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75C50-0193-4455-B3C3-9EEF9443658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24DAD-09E5-44D9-85A9-45575FF1D8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00749-DDC9-40B9-9AF1-A41B62A24C7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A8331-D6A2-406D-A164-6083BCAC850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58B28-DA24-4A82-BDE9-215701F61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AB08-05AD-4897-B127-253DDFCFE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AE74-CB9A-4942-97E5-551915DEB7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1844-5C97-4D32-97CE-A6971C14DC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3B8F-7F08-4B1D-8623-4048A916EBC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F137-258B-44CD-ADB5-9F0E2FCFC6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4E27-1219-4833-A490-734AA753B4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9365-DC2C-42CD-919C-7707A97A78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EF5E-677B-4BBB-91BC-64B42AF34C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260B-A199-41E1-92CE-6EAE384D8C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0699-E81B-42B3-B99C-B6D9A6BF1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F7A9-C501-45E1-B2DC-6CEFE811C5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AC7E-33EE-4FAF-BB02-073F0CD636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EA13-031E-4381-83D6-9C06D255CE6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829C-17AD-4D72-AFAA-BBF0A23971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5C7E-497C-43CE-8CC2-5B532A5A08C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88A5-084E-482A-BE77-450F2BB528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EE53-E693-46BB-8191-48CB019923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8AC9-DF41-4AC7-BF71-81BD421E13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FDAD-07E3-45AA-81CA-A49AD51B63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64B7-9542-4DC3-A6E6-A5D42FD54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58BF-0A07-4538-9039-65D6B4546B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BC38-AC59-4CAB-84FB-F2562C073C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64BE-114D-4816-864D-E5561B25B8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012E-E57B-4BF3-AF36-FAC7E7FFF0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CAB2-652B-41A3-A1BD-1330D8DA65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01E-54E2-4D90-B451-ED8D5ED6708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1CC-FE3B-4269-ABDA-E6B11F2BA8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5C7-43AE-4B8A-97A1-958120A689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920-A785-4364-8122-E9DAA168AF3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4D0-791A-499D-8774-276AABF83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1EF-EC69-4E51-A0A2-DF456C90D0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AE3-420A-4ACC-A5A9-D0AB506EFE7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C14-2BAA-4BDC-A1B3-D6A73DE325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5DE-B85F-4F97-A255-124EA2E980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F28-3BA9-4838-94ED-307FF4839D5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8CF-725B-462F-AB4F-72DDDBB0B3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2C4-6EDE-4A2D-BAC0-681947A48D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Num" idx="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AA31-1AB2-4251-8723-0ADB09E6D904}" type="slidenum"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0 Imagen" descr=""/>
          <p:cNvPicPr/>
          <p:nvPr/>
        </p:nvPicPr>
        <p:blipFill>
          <a:blip r:embed="rId2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3" name="2 Imagen" descr=""/>
          <p:cNvPicPr/>
          <p:nvPr/>
        </p:nvPicPr>
        <p:blipFill>
          <a:blip r:embed="rId3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84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7 Imagen" descr=""/>
          <p:cNvPicPr/>
          <p:nvPr/>
        </p:nvPicPr>
        <p:blipFill>
          <a:blip r:embed="rId5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18 Triángulo isósceles"/>
          <p:cNvSpPr/>
          <p:nvPr/>
        </p:nvSpPr>
        <p:spPr>
          <a:xfrm>
            <a:off x="5348160" y="1440"/>
            <a:ext cx="3692520" cy="1094040"/>
          </a:xfrm>
          <a:custGeom>
            <a:avLst/>
            <a:gdLst/>
            <a:ahLst/>
            <a:rect l="l" t="t" r="r" b="b"/>
            <a:pathLst>
              <a:path w="3939813" h="1074726">
                <a:moveTo>
                  <a:pt x="0" y="1074726"/>
                </a:moveTo>
                <a:lnTo>
                  <a:pt x="712892" y="0"/>
                </a:lnTo>
                <a:lnTo>
                  <a:pt x="3939813" y="8209"/>
                </a:lnTo>
                <a:cubicBezTo>
                  <a:pt x="3936827" y="364624"/>
                  <a:pt x="3938332" y="716856"/>
                  <a:pt x="3935346" y="1073271"/>
                </a:cubicBezTo>
                <a:lnTo>
                  <a:pt x="0" y="1074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Rectángulo"/>
          <p:cNvSpPr/>
          <p:nvPr/>
        </p:nvSpPr>
        <p:spPr>
          <a:xfrm>
            <a:off x="6012000" y="0"/>
            <a:ext cx="313200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672948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17 Conector recto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6480">
            <a:solidFill>
              <a:srgbClr val="b6004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23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6084720" y="225360"/>
            <a:ext cx="28530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1 Imagen" descr=""/>
          <p:cNvPicPr/>
          <p:nvPr/>
        </p:nvPicPr>
        <p:blipFill>
          <a:blip r:embed="rId2"/>
          <a:stretch/>
        </p:blipFill>
        <p:spPr>
          <a:xfrm>
            <a:off x="-15840" y="5608800"/>
            <a:ext cx="9172440" cy="1204920"/>
          </a:xfrm>
          <a:prstGeom prst="rect">
            <a:avLst/>
          </a:prstGeom>
          <a:ln w="0">
            <a:noFill/>
          </a:ln>
        </p:spPr>
      </p:pic>
      <p:pic>
        <p:nvPicPr>
          <p:cNvPr id="165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-15840" y="6705720"/>
            <a:ext cx="9159840" cy="152280"/>
          </a:xfrm>
          <a:prstGeom prst="rect">
            <a:avLst/>
          </a:prstGeom>
          <a:ln w="0">
            <a:noFill/>
          </a:ln>
        </p:spPr>
      </p:pic>
      <p:pic>
        <p:nvPicPr>
          <p:cNvPr id="166" name="3 Imagen" descr=""/>
          <p:cNvPicPr/>
          <p:nvPr/>
        </p:nvPicPr>
        <p:blipFill>
          <a:blip r:embed="rId4"/>
          <a:stretch/>
        </p:blipFill>
        <p:spPr>
          <a:xfrm>
            <a:off x="0" y="0"/>
            <a:ext cx="9155160" cy="1073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5"/>
          <a:srcRect l="21817" t="29838" r="31764" b="44793"/>
          <a:stretch/>
        </p:blipFill>
        <p:spPr>
          <a:xfrm>
            <a:off x="1928880" y="1444680"/>
            <a:ext cx="5522760" cy="1697040"/>
          </a:xfrm>
          <a:prstGeom prst="rect">
            <a:avLst/>
          </a:prstGeom>
          <a:ln w="0">
            <a:noFill/>
          </a:ln>
        </p:spPr>
      </p:pic>
      <p:sp>
        <p:nvSpPr>
          <p:cNvPr id="168" name="5 Conector recto"/>
          <p:cNvSpPr/>
          <p:nvPr/>
        </p:nvSpPr>
        <p:spPr>
          <a:xfrm>
            <a:off x="2000160" y="3395520"/>
            <a:ext cx="5329440" cy="0"/>
          </a:xfrm>
          <a:prstGeom prst="line">
            <a:avLst/>
          </a:prstGeom>
          <a:ln w="9360">
            <a:solidFill>
              <a:srgbClr val="b600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6 Imagen" descr=""/>
          <p:cNvPicPr/>
          <p:nvPr/>
        </p:nvPicPr>
        <p:blipFill>
          <a:blip r:embed="rId6"/>
          <a:stretch/>
        </p:blipFill>
        <p:spPr>
          <a:xfrm>
            <a:off x="509760" y="3778200"/>
            <a:ext cx="816588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Num" idx="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389C-BEA3-4DD4-B5E0-496E797F066F}" type="slidenum"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0675-6203-40FE-87B7-9CBB15CF0FF1}" type="slidenum"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Num" idx="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C4BB-4D5F-4310-BDFD-A80658B315A6}" type="slidenum"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Imagen" descr=""/>
          <p:cNvPicPr/>
          <p:nvPr/>
        </p:nvPicPr>
        <p:blipFill>
          <a:blip r:embed="rId2"/>
          <a:srcRect l="116" t="2316" r="0" b="5097"/>
          <a:stretch/>
        </p:blipFill>
        <p:spPr>
          <a:xfrm>
            <a:off x="0" y="-270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320" name="object 934"/>
          <p:cNvSpPr/>
          <p:nvPr/>
        </p:nvSpPr>
        <p:spPr>
          <a:xfrm>
            <a:off x="471600" y="6145200"/>
            <a:ext cx="230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500" spc="-1" strike="noStrike">
                <a:solidFill>
                  <a:srgbClr val="414042"/>
                </a:solidFill>
                <a:latin typeface="Arial"/>
              </a:rPr>
              <a:t>www.dane.gov.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530064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322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805360"/>
            <a:ext cx="33559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2803680"/>
          </a:xfrm>
          <a:prstGeom prst="rect">
            <a:avLst/>
          </a:prstGeom>
          <a:ln w="0">
            <a:noFill/>
          </a:ln>
        </p:spPr>
      </p:pic>
      <p:sp>
        <p:nvSpPr>
          <p:cNvPr id="404" name="4 Rectángulo"/>
          <p:cNvSpPr/>
          <p:nvPr/>
        </p:nvSpPr>
        <p:spPr>
          <a:xfrm>
            <a:off x="468360" y="2205000"/>
            <a:ext cx="8207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CADO LABOR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5 Rectángulo"/>
          <p:cNvSpPr/>
          <p:nvPr/>
        </p:nvSpPr>
        <p:spPr>
          <a:xfrm>
            <a:off x="468360" y="2874960"/>
            <a:ext cx="82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LLAVICEN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bject 9"/>
          <p:cNvSpPr/>
          <p:nvPr/>
        </p:nvSpPr>
        <p:spPr>
          <a:xfrm>
            <a:off x="5940360" y="4653000"/>
            <a:ext cx="25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  <a:ea typeface="Open Sans"/>
              </a:rPr>
              <a:t>Marz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10 Conector recto"/>
          <p:cNvSpPr/>
          <p:nvPr/>
        </p:nvSpPr>
        <p:spPr>
          <a:xfrm>
            <a:off x="684360" y="2781360"/>
            <a:ext cx="792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11 Rectángulo"/>
          <p:cNvSpPr/>
          <p:nvPr/>
        </p:nvSpPr>
        <p:spPr>
          <a:xfrm>
            <a:off x="324000" y="465300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ogotá, Colomb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0" y="0"/>
            <a:ext cx="60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Contribución a la variación de la población ocupad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según ramas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382680" y="616572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5 CuadroTexto"/>
          <p:cNvSpPr/>
          <p:nvPr/>
        </p:nvSpPr>
        <p:spPr>
          <a:xfrm>
            <a:off x="886320" y="590400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1 Imagen" descr=""/>
          <p:cNvPicPr/>
          <p:nvPr/>
        </p:nvPicPr>
        <p:blipFill>
          <a:blip r:embed="rId1"/>
          <a:stretch/>
        </p:blipFill>
        <p:spPr>
          <a:xfrm>
            <a:off x="600120" y="1839960"/>
            <a:ext cx="785808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6 Rectángulo"/>
          <p:cNvSpPr/>
          <p:nvPr/>
        </p:nvSpPr>
        <p:spPr>
          <a:xfrm>
            <a:off x="611280" y="2852640"/>
            <a:ext cx="806436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SICIÓN OCUP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3"/>
          <p:cNvSpPr/>
          <p:nvPr/>
        </p:nvSpPr>
        <p:spPr>
          <a:xfrm>
            <a:off x="19080" y="46080"/>
            <a:ext cx="548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Distribución porcentual y variación de la población ocupada, según posición ocup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5 CuadroTexto"/>
          <p:cNvSpPr/>
          <p:nvPr/>
        </p:nvSpPr>
        <p:spPr>
          <a:xfrm>
            <a:off x="576000" y="5830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1 Imagen" descr=""/>
          <p:cNvPicPr/>
          <p:nvPr/>
        </p:nvPicPr>
        <p:blipFill>
          <a:blip r:embed="rId1"/>
          <a:stretch/>
        </p:blipFill>
        <p:spPr>
          <a:xfrm>
            <a:off x="569880" y="1628640"/>
            <a:ext cx="8129520" cy="39132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4"/>
          <p:cNvSpPr/>
          <p:nvPr/>
        </p:nvSpPr>
        <p:spPr>
          <a:xfrm>
            <a:off x="0" y="609300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Nota ^: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Nota * : Trabajador sin remuneración incluye a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3"/>
          <p:cNvSpPr/>
          <p:nvPr/>
        </p:nvSpPr>
        <p:spPr>
          <a:xfrm>
            <a:off x="12600" y="-1584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Contribución a la variación de la población ocupad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según posición ocup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8 CuadroTexto"/>
          <p:cNvSpPr/>
          <p:nvPr/>
        </p:nvSpPr>
        <p:spPr>
          <a:xfrm>
            <a:off x="1053360" y="58039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1 Imagen" descr=""/>
          <p:cNvPicPr/>
          <p:nvPr/>
        </p:nvPicPr>
        <p:blipFill>
          <a:blip r:embed="rId1"/>
          <a:stretch/>
        </p:blipFill>
        <p:spPr>
          <a:xfrm>
            <a:off x="798480" y="1700280"/>
            <a:ext cx="7761240" cy="38145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6"/>
          <p:cNvSpPr/>
          <p:nvPr/>
        </p:nvSpPr>
        <p:spPr>
          <a:xfrm>
            <a:off x="108000" y="6310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Nota*: Trabajador sin remuneración incluye a los trabajadores familiares sin remuneración y a los trabajadores sin remuneración en empresas de otros hoga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259560" y="6127920"/>
            <a:ext cx="44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^: Jornalero y peón está incluido en la categoría obrero, empleado particula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6 Rectángulo"/>
          <p:cNvSpPr/>
          <p:nvPr/>
        </p:nvSpPr>
        <p:spPr>
          <a:xfrm>
            <a:off x="611280" y="2852640"/>
            <a:ext cx="806436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IN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SEGÚN TIPO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6480" y="-7920"/>
            <a:ext cx="68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Distribución porcentual y variación de la población inactiv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según tipo de activida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14280" y="616572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5 CuadroTexto"/>
          <p:cNvSpPr/>
          <p:nvPr/>
        </p:nvSpPr>
        <p:spPr>
          <a:xfrm>
            <a:off x="474480" y="5880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1 Imagen" descr=""/>
          <p:cNvPicPr/>
          <p:nvPr/>
        </p:nvPicPr>
        <p:blipFill>
          <a:blip r:embed="rId1"/>
          <a:stretch/>
        </p:blipFill>
        <p:spPr>
          <a:xfrm>
            <a:off x="747720" y="1700280"/>
            <a:ext cx="76327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CuadroTexto"/>
          <p:cNvSpPr/>
          <p:nvPr/>
        </p:nvSpPr>
        <p:spPr>
          <a:xfrm>
            <a:off x="545760" y="6237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1 Imagen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284720"/>
          </a:xfrm>
          <a:prstGeom prst="rect">
            <a:avLst/>
          </a:prstGeom>
          <a:ln w="0">
            <a:noFill/>
          </a:ln>
        </p:spPr>
      </p:pic>
      <p:sp>
        <p:nvSpPr>
          <p:cNvPr id="467" name="1 Rectángulo"/>
          <p:cNvSpPr/>
          <p:nvPr/>
        </p:nvSpPr>
        <p:spPr>
          <a:xfrm>
            <a:off x="0" y="149400"/>
            <a:ext cx="57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  <a:ea typeface="Open Sans"/>
              </a:rPr>
              <a:t>Proporción del empleo informal en la población ocup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  <a:ea typeface="Open Sans"/>
              </a:rPr>
              <a:t>Total 13 ciudades y áreas  metropolitanas y Villavicenc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Open Sans"/>
              </a:rPr>
              <a:t>Noviembre - enero </a:t>
            </a:r>
            <a:r>
              <a:rPr b="1" lang="es-CO" sz="1600" spc="-1" strike="noStrike">
                <a:solidFill>
                  <a:srgbClr val="ffffff"/>
                </a:solidFill>
                <a:latin typeface="Arial"/>
                <a:ea typeface="Open Sans"/>
              </a:rPr>
              <a:t>(2015 – 201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5 CuadroTexto"/>
          <p:cNvSpPr/>
          <p:nvPr/>
        </p:nvSpPr>
        <p:spPr>
          <a:xfrm>
            <a:off x="0" y="2556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2 Imagen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310520" cy="2233440"/>
          </a:xfrm>
          <a:prstGeom prst="rect">
            <a:avLst/>
          </a:prstGeom>
          <a:ln w="0">
            <a:noFill/>
          </a:ln>
        </p:spPr>
      </p:pic>
      <p:pic>
        <p:nvPicPr>
          <p:cNvPr id="471" name="1 Imagen" descr=""/>
          <p:cNvPicPr/>
          <p:nvPr/>
        </p:nvPicPr>
        <p:blipFill>
          <a:blip r:embed="rId2"/>
          <a:stretch/>
        </p:blipFill>
        <p:spPr>
          <a:xfrm>
            <a:off x="1093680" y="4076640"/>
            <a:ext cx="71582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1 CuadroTexto"/>
          <p:cNvSpPr/>
          <p:nvPr/>
        </p:nvSpPr>
        <p:spPr>
          <a:xfrm>
            <a:off x="0" y="-651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Me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2008 -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1 Imagen" descr=""/>
          <p:cNvPicPr/>
          <p:nvPr/>
        </p:nvPicPr>
        <p:blipFill>
          <a:blip r:embed="rId1"/>
          <a:stretch/>
        </p:blipFill>
        <p:spPr>
          <a:xfrm>
            <a:off x="826920" y="1490760"/>
            <a:ext cx="77216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979560" y="2514600"/>
            <a:ext cx="776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DICADORES DEL MERCADO LABO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1979640" y="321300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23 CIUDADES Y ÁREAS METROPOLIT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419640" y="3645000"/>
            <a:ext cx="52560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6 Conector recto"/>
          <p:cNvSpPr/>
          <p:nvPr/>
        </p:nvSpPr>
        <p:spPr>
          <a:xfrm>
            <a:off x="755640" y="31417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3"/>
          <p:cNvSpPr/>
          <p:nvPr/>
        </p:nvSpPr>
        <p:spPr>
          <a:xfrm>
            <a:off x="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Resumen indi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Villavicencio – Total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1 Imagen" descr=""/>
          <p:cNvPicPr/>
          <p:nvPr/>
        </p:nvPicPr>
        <p:blipFill>
          <a:blip r:embed="rId1"/>
          <a:stretch/>
        </p:blipFill>
        <p:spPr>
          <a:xfrm>
            <a:off x="711360" y="2924280"/>
            <a:ext cx="7885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27000" y="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Noviembre 2016 - enero 20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8 CuadroTexto"/>
          <p:cNvSpPr/>
          <p:nvPr/>
        </p:nvSpPr>
        <p:spPr>
          <a:xfrm>
            <a:off x="1116000" y="613584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(+) (-): Aumento o disminución de la TD de cada ciudad frente al mismo trimestre  del año anterior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Rectángulo"/>
          <p:cNvSpPr/>
          <p:nvPr/>
        </p:nvSpPr>
        <p:spPr>
          <a:xfrm>
            <a:off x="1042920" y="2739960"/>
            <a:ext cx="7489800" cy="1843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5 CuadroTexto"/>
          <p:cNvSpPr/>
          <p:nvPr/>
        </p:nvSpPr>
        <p:spPr>
          <a:xfrm>
            <a:off x="1157040" y="6480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1116000" y="6308640"/>
            <a:ext cx="554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El total de las 23 ciudades no incluye San Andrés por tener una distribución de la muestra diferent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1 Imagen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416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55440" y="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Villavicenc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Noviembre - enero (2007 –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5 CuadroTexto"/>
          <p:cNvSpPr/>
          <p:nvPr/>
        </p:nvSpPr>
        <p:spPr>
          <a:xfrm>
            <a:off x="758520" y="6262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563400" y="1484280"/>
            <a:ext cx="8017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0" y="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Trimestres móviles 2013 - 20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5 CuadroTexto"/>
          <p:cNvSpPr/>
          <p:nvPr/>
        </p:nvSpPr>
        <p:spPr>
          <a:xfrm>
            <a:off x="1122120" y="6218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43080" y="1700280"/>
            <a:ext cx="6889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0" y="0"/>
            <a:ext cx="64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Población ocupada, desocupada e in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Noviembre - enero (2015 – 2017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1 Imagen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882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6 Rectángulo"/>
          <p:cNvSpPr/>
          <p:nvPr/>
        </p:nvSpPr>
        <p:spPr>
          <a:xfrm>
            <a:off x="611280" y="2852640"/>
            <a:ext cx="806436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3"/>
          <p:cNvSpPr/>
          <p:nvPr/>
        </p:nvSpPr>
        <p:spPr>
          <a:xfrm>
            <a:off x="0" y="-6480"/>
            <a:ext cx="55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Distribución porcentual  y variación de la población ocupada, según ramas de activida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5 CuadroTexto"/>
          <p:cNvSpPr/>
          <p:nvPr/>
        </p:nvSpPr>
        <p:spPr>
          <a:xfrm>
            <a:off x="906120" y="5799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162000" y="6060960"/>
            <a:ext cx="873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1 Imagen" descr=""/>
          <p:cNvPicPr/>
          <p:nvPr/>
        </p:nvPicPr>
        <p:blipFill>
          <a:blip r:embed="rId1"/>
          <a:stretch/>
        </p:blipFill>
        <p:spPr>
          <a:xfrm>
            <a:off x="635040" y="1844640"/>
            <a:ext cx="7783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ndres Felipe Virguez Clavijo</cp:lastModifiedBy>
  <cp:lastPrinted>2016-06-23T16:07:38Z</cp:lastPrinted>
  <dcterms:modified xsi:type="dcterms:W3CDTF">2017-03-15T14:22:38Z</dcterms:modified>
  <cp:revision>979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