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1D8-6096-4E70-96F4-C4CE197C91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64B-9499-4199-982E-CA2C5860EAC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226-C819-491F-9E34-130AA5C82C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49A-E823-4621-9AAF-C98B4FC25A8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F49C-E7E0-4C37-92F1-461CF261B56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BC76-7530-4A2F-8E76-C56DEFAC934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D8E-D760-4FAC-82B9-78892ADBDE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42F-26A0-49C4-B7D1-186169A80E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040-97DF-4A6D-8A94-F080035E83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F1F-2FFD-4939-A10C-9BCD6480FF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C21D-3F9C-45A4-8B1E-CCE107A6D3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BD54-50B9-494A-B4B9-06387A3C5CC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0529-F0B5-4193-AAA0-58034232494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ACE-7623-430A-B22C-14C494C374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EF55-A3F7-4717-96E0-8AB89658DA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4B484-1953-4488-B7C1-69C9D3A5D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64C30-5FD2-425E-9A02-2F49867A76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0C3AD-F0CF-4682-B517-7FB638F511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77A3A-B971-4784-859C-4D88190292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C29CC-BD29-4D40-85BB-FF4535E6F1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73123-914A-4CF2-BC0A-7BA6BBEC63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D095C-AF05-4E56-A071-B8A7A7A2B9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DFDB1-D713-41AA-8C84-6C6BF74EC2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32645-23A8-4B37-A504-6AF1D07243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6EFB2-9CC7-46B9-AEFD-B8C723978D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39D56-0446-49A7-A2C4-6C9D7F667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AA83C-BE12-4460-9D35-6268641B14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53344-3F76-4278-ABB6-A239589D9A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E0747-6ECA-488E-BDC5-07CB30674D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889E5-1B06-4BEB-A67D-36CEAE53BD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34598-033C-4DCF-9B6B-7D5F43073B9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19663-58C7-4289-BA99-B689E3581D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1E707-1FEC-4B75-B25D-C9B632FC44A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34CDE-BDA4-4999-9849-AB60BC07E7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5370F-C380-4479-8BC1-39BC278963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6D00F-A6C5-4F94-8C47-CED8AE8D3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0A58-68AF-4C72-8CD1-22A5BA0B20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D7371-67AF-42FA-989C-DF27D1A352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4D602-12D9-4769-B48E-0E0A82832A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71792-6930-447B-B24F-8CB18895FD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20E9-3E91-4544-BC71-2E2DDAE8F3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9F59-D981-4AA6-B53B-FD398D94BB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DA91-109D-4CB6-90C6-DA6515D18F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5E90-AC00-45EF-AD54-5929DD269B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9469-DAFD-4A2F-AF05-245EF613E8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3786-DF2F-4CE8-9841-2D0DB5D02F0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F8A1-7584-47E1-A8B4-EFABFEB17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9919-43EB-4FC8-BC49-5087439F4DB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18A9-6B63-49BB-88FA-83B476A7614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4588-BBAB-4EC3-AE7C-198A098565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845A-27F9-4FA3-A4BF-69B3739CC9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D50F-B0CE-4EE0-B229-325F658313C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56D5-B8C0-449D-85F2-CA485DA91E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156F1-C1A8-41B3-AEBA-1F7EA22FE52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D0BF5-1EDB-4326-AFAE-4ACA6D375FE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7C2B1-D8E8-4AB1-8506-C98510FBD32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55691-F46F-46F3-9F86-7C9A70EB15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FE31A-AD1B-4B0D-9D5E-7BD9C350A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9B22-64D3-4F1D-8B4F-4624351AD9F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6CA2A-3494-4656-AEDC-D6E1364A9D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3A12E-8928-48A4-9732-59D123243E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D9EB3-D042-4512-8356-F1BC01C545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002EF-100C-41A6-A09F-588A491AE6A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9BE9-37A1-4FBD-8E69-8DEF4E848A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EFCBC-09B4-4546-82FA-06BBCD033D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1CC3C-EBA5-4360-8CB8-0878E89911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F2324-2F36-4143-B883-F7B270AB59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C47DF-A183-4481-B7FB-7637464DB66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508A9-934D-43D9-8479-82809D26B5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9802-5C0B-463E-9B6E-319F6E0C874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5D084-F9EF-48C9-ABDA-C9D0DCBB9C2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94A7A-FAFC-479A-9E27-695DE05D735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E261C-18DE-4FE3-958D-5D067104510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E164B-A977-41CA-8212-06C01B333B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F5E30-3A8D-48E4-9C05-FE9F8E0548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40AF7-94FD-4EE0-B2BD-941CA17368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E40B8-EC10-4EFD-A581-24F4D8C96D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90CBD-6B84-44BD-B62F-C899C25D60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9B4D9-9D7B-4E92-871C-E0B58A763EC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8949-F063-4813-8508-3614F1A66B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C661-7CF2-4ADC-980F-032F67BA1C6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356E-60CE-43F9-B09E-927B7C1D4E5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E068-1544-4D5A-BCC1-53846EEF91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A1C4-ADD7-4E03-8960-19F3221908E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9AA7-D6AA-4E20-9B40-ECADA2A914F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5343-D872-42C1-95FB-E82E8237A53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993F-7F8E-4ADC-899C-A41E3A4343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EEF6-FCD2-4A4A-BB94-B07EB8C7C1F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E0FD-00C6-4DAA-B79B-A198670FFD5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0C76-5476-4EF9-997D-D7BF4126AF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80E7-9F39-420D-9F0B-BDE7141C06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C1DE-5E8E-4004-A2BD-7C53CFA113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9164-7676-4924-95F7-8CC09F5376F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CEA82-E475-4F43-BDAD-80F571AA7C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5C184-98CE-42C6-8457-E3701688E1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2043C-00A4-4C70-AEF9-0F62D65F227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1B88F-8CFE-457C-8BF3-D38B99C7DF2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865C72-F3E0-4C24-A9F8-AC1264AA70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E8E66A-D7E5-4348-AC51-3276DD41DCA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61D234-8A75-4D3D-8F4B-BBD844BAF32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4F1C5-C256-4C53-A929-784433620E8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4946D-E012-433B-B29F-46EC01D6C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B5B7-2AD1-41AE-86B1-291867309D6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87283-D6A8-42CD-9731-61FBBB2720B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8D163-D6E8-4EC8-8C4E-F03F0B40A3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EE129-2A16-4249-9D05-E9F1EE73EE2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0F0B9-1098-4981-B92B-C3AC39937B7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922B5-D1EB-49E4-A900-9B84B4513CA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FA848-EE62-4709-87BE-2C71B53D842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A0E7B-A87A-4C49-A80D-EC50BC472B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27E41-F17E-4DF4-A5B5-3C41586C85B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3C47E-1A33-413D-849C-DBAFFEA8DFC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344B2-7DD7-4569-A712-F9B808F58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2B43-9B2D-4B52-A03E-BEDA33EDEC3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7D870-0927-40E0-AAF8-69C0B42C500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37824-75F1-40C4-AF35-710181C0337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2ED98-3597-4318-AFE8-09974E9E259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70CF2-5338-4962-99D6-3BBCB97AA0C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ECF6C-A858-4DE7-ADE9-C58135E2CCF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FC02-36DF-49C3-BD7C-DAE38EE86C0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AD04-A135-4C7D-BB42-B9327A2E19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1289-9182-4197-9097-33EEE45B31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57D34-2D26-4E45-A696-6917F8F73AA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7C4B-87E9-462E-9276-2D6F5A320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7E8A-EB78-4B47-8A4B-190AB6F9C2A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270E-239D-40EF-85E6-09828D919E0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2645-5E51-4939-A7B9-F0B458CB358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D2FB-59DB-4637-A45B-4CFAF30A2E1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4D18-3EE7-4788-81A5-89F5BBA6C4B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481C-C3A3-4FDA-ADB4-E6E77D333BC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9CB1-BD30-482D-87C1-E8331D48E11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721F-5E5F-4370-B100-42B57DA28F0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4F975-39C8-4D2D-B0B4-6017D7D5003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FE478-E126-4526-A746-E0789055B7D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ED6903-EC92-41C6-9147-648466FF7E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CB4D-152C-414C-A341-9268AD3A8CD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DBAAB-69F2-4844-8CC1-2CDE6DD6AE5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47E09-9482-40A8-9621-4CC389F16BD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081CC-1DC5-45E3-8A33-A5399B17490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22F0B-4F6B-4D26-B29A-96DF9D1094E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6E55C-CDD8-40EA-9C84-39383593FAC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83A6C4-AF7D-4FAE-AC1C-12503D51DE0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3AA2B-2484-4C6C-8E6C-55181DBD210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13B12D-55CF-4667-951C-EB3AB55D627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80531-E24C-4837-9971-363A730FAFB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4FC47-2212-48C7-AE42-CF68B8B81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9E62-57C2-4FE8-B568-9D979BDFFB2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0D79E-0355-47CB-9ACE-3E07B1EC0F6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29E40-03EF-42ED-961A-1049CC7A7B6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6B558-22E0-4199-85D8-B35D83EB21A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92F12-E9F5-4674-B368-C3BDD6CE1A7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7F0EA-214B-4190-B7F6-8E26D665F0D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17ADA-93CF-466C-87A8-0448E90DB24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66B2A-F942-4FCC-95E6-A6CFB2177C0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F6155-6C73-4BB4-946A-F9D7E0CEAAD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2AD00-6563-4017-9274-063A20953DB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0420B-2BB0-4A9B-A6D0-E047D78BFF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D8CE-72FA-4955-B963-FB5AAD2330B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DD2C7-6B2B-4D46-AAF0-F365420529D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FB47-BCCA-450E-9656-6CFAE71BEE7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5686-9325-4D6B-8A7D-7FD7961B25F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8ED90-7182-44B2-A3A5-99D4F240326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780A-5569-43CC-8630-4D98D54AC80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72EF-9092-41B0-B388-62E6D254BC6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E404E-FC2A-472F-BF9B-3816328B626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0D75-6933-41D4-A35E-80562865439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0291D-1421-44E8-ACC2-E9EAC5DB499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AAAB-F3E0-4FB9-846E-79B5AF3154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19256-BCDC-4CA6-A556-0B42A55FBCD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B007-7A64-4040-8487-0D5F45DD95D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D74D-76AF-4F7E-A076-1DDE6EF719D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237D9-CA48-4D72-A1AF-2C283708E06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E946C-0470-4348-9A2A-43F66A40110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F40F4-F126-4549-91C5-4ED924D6D48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6EA6F3-C0F9-4BC3-A4B9-428CAF0185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BC2B1-5125-4A7F-920D-EB4FF1345DB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17B25-CDD1-4DF1-858F-64026E1D373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2E04C6-A6B0-4F5E-A53F-B3CA34F877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638F1-F305-4C2C-92B5-AC2B3FC1873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D03677-EBC2-48C6-A3C4-94A7BEBE4FF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0CC9F-5EBC-45B3-91F1-DF46EAD6C7F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23C4B3-B82E-4423-B15B-9B616D580F7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62C0A-39B9-49B4-9EF6-CC31BB43DF4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D982B-6B7F-4220-B8B8-5525EEC73BA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CB74F-0420-496B-B520-28FE7E771B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BB35B-D664-4A9B-81DC-00808AF73E0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D1F81-B700-405E-8136-BB449533E99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E8546-4A8E-49BF-9229-BF275813A3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49F72-25FD-481F-ACEA-763685D8041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F0DF5-8197-43E6-8DAA-CDF1941593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6C83F-250A-4D12-AD69-A07AC2BE65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02046-8F2E-4ECB-B421-33874BA26CC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EE98B-9605-441B-ACFB-2E397827A5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D68DC-75A4-4B51-B0DA-C69C62F8807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74679-1914-4B1D-97AE-18AE8A3BD0D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9F96-C72A-4ED9-BE7B-DFE4933DDFD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B325-9704-40B2-B4B4-4ED9C88F054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8125-C1D7-49C2-9659-3F4F8DB68B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A511B-64BB-490B-9B59-1FB5826FC08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1AE4-0BC1-402B-84EA-E46126B8BC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5DE2-BDFF-4EA7-859C-D2676DC1AA2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1500-5FD7-4B3F-8B1C-7C4EF01CC51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D00C-9507-47F6-962D-C0E7620A5EF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1DEC-077F-424A-AB73-4D35B915EE0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DF7B-E3AB-414C-B473-70458DB58A3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43AA-E5F4-48BE-BA5A-D892B148A06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76C2-496B-46CF-8487-BAD445BB254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950D39-7A87-4BFB-8A58-225AD3AF5C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D89FA-B876-4F60-9FDE-88FD4334FA0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880961-A124-4239-8936-5015F4C59DD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788BFC-11F1-42F0-A45B-FB11855CCE1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D0982-7A2A-486E-B76E-253E158E321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3DFA9-ED13-4EDE-BA30-4F6DC4AC69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4A55D-2E2A-49F9-A42F-F71423075EA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6E061-AC66-4323-BE93-A5F2BB1F431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7AF97-DEFC-4484-824D-ED8A2D1671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0F181-396F-4179-82E8-D579A963C7A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23FCB2-A43B-41DE-9BE6-3E116BB61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23ADCA-D84D-4163-BE75-5CE79EF9CF1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83895-CF1E-4B68-B1CD-E7109BCFEC7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30502-0D8E-41ED-994F-08627430345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97039-FD9E-426E-A825-BB5E32D84E4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CD922-DF31-431B-8A83-419866AF680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4F625-19D6-488A-9101-A5B42DE2922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DEDCF-8925-4299-807E-397D6A16EEE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0CE24-005B-4DAB-A3AC-D4777E7D4DA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BD0F5-47A4-44F7-84E0-5D7A310566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C2015-6F51-4A68-9628-DAE1701161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27D0F-EBBE-4C71-A103-31B3B821828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4FD76-0A3A-4A22-8586-9E2F1C60F2C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10324-26D7-4B1B-A0A4-208D311883D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E52A-6C32-45E9-9FF8-0627FCC01C1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0D0D-488E-4F5C-99F1-B46AE560771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E7A2-BF67-43A5-91B6-ACEE87A0E2A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B7BA-74BC-483E-B8C9-678063E41BA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E1D55-CE09-4AD1-99FF-2E58E5FB7BF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0A7C-7D42-4841-B0BC-A865F0FF51E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C27E1-06DE-4113-A6FC-648E899887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901F-824A-434D-9CD8-E8995F7C3C2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6B6F-0C34-4B62-97B4-163D8EDD7CC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D75F-BBED-4E4D-8B1A-07BDB6FF744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E7CE-E886-44E6-B98B-5D10433E99A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15323-82EA-48C9-B34C-265083846C9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EED7-12CC-4976-A496-C902048939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579F-2A24-433C-A775-3255CCBF2B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A483-A03C-4E00-B4E8-8F9519963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20DA-1794-4F95-BF1E-51F42D5085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4449-DB8C-47CF-9649-ED9BDBFBEF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FC74-33A1-457F-A6D9-8C0165015C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AD08-862D-4A97-93E5-1A078FEC4C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F12E-5911-470D-AC35-8BF624E28C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556A-357F-4934-8BAF-750F58B19F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78DC-8125-4CEF-8159-1B7B2AE4B0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45A0-72C5-42B9-B4ED-61548F3ED0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6732-18C3-4A64-AB8E-468F318563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4A7-6160-46DC-9D5C-D81F4C1AAF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432-96AE-4598-8C6B-AB49E8E688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452-1074-484B-811E-C742047AF8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EE6-87C4-4565-A924-8287B585C9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9DF-02DC-4253-88CE-BB418DF783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316-2B7F-483C-8E70-02C2ECC433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90-BCDD-4421-8EAB-772B92F1B4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26F-0ED7-4C6F-887A-AB8060B50E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014-4E82-4108-AD58-15B2B6C6D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0EB-C359-49B4-AAA8-8E9FA99A6B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0C8-1326-45CE-B0A8-89C987BDA5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63E-C88C-4506-BD11-228412251F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DE105-30FB-4B29-971D-CC7ADADB9E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7940A-6509-42DF-A77C-4D2B8CF8CA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243B2-AD62-41A0-9504-489A4DF1A0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25CCB-E3EB-4EA2-9E40-3236A6FB4F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06C74-10CC-4749-B544-89D4C762D6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6031-ABB1-4FDF-8213-10E2FBC7B8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57BFC-01AC-44BD-BE89-3DA23BB22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BFC9A-98E3-4723-9FBF-551E2B0126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00542-5681-4DFF-BD13-2F60904150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77109-5BC8-47F3-8CDA-791472D526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19B1-E583-418B-87A2-82BCF3C0EA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D62EE-C53A-4926-8B13-46ACB6A9E1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16EA5-65AF-4DF2-961B-E86A5B6FFC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4D232-5272-473C-B862-E343D195B6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61981-8AA0-49A3-A2F4-F345BCD344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F8075-1033-422E-B7E9-5C42DBAD15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0EE2-5ECC-4D67-8C01-1BEA43723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FDB2C-67CD-49A6-8861-6C60D3E614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08DD-DCBD-4F41-8CB1-5D40A69B6F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F2F8B-EEFF-42EB-A52E-CBBC10AE00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8F223-4A38-4D4B-AF59-EC2271C744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BDFDF-D915-461C-979B-1DBECFC6CA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4E6BC-46DD-440C-8BB0-FF1DA23180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DD285-C283-4C94-B720-8F3425508F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219-5A24-4C59-A4F6-63B1DE4A98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4FB3-6692-41BC-9E6A-872C76B82D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7A43-B6C5-4CDD-8E7D-372B905FA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B47E-9A03-4A11-81A6-177948A5AD5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450-C0CD-414C-8C2A-B104B4EDDA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E4A-7205-42AB-9A25-9CE50D980E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EA4-3328-4386-A6C4-56A49B8E83A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DF55-9BF3-4693-AC9B-BFDA0BDFC58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EA8-704C-45DC-9353-AF8D8537F83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B3CC-C9DA-4E04-9278-40DB1B31EEF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B82-8EC8-476F-9868-1F43D2989D4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5FF-1FBE-4620-9695-DE4569F5730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78F-6E8D-4AFF-952A-B669F37ABC3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F6E-3C2B-4E12-8FB8-5ADC13A205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627-0F04-4F76-AF20-E37EB1F6770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602-2C29-4ABF-9B86-02E4B13881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6E08-04CD-4CF0-AD3D-43AFF6F427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66F3-2420-49AF-9F55-62D5498DBA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12DA-909B-4BE8-BB48-669060378EE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E44E-DBB4-49BF-AB48-2ABF687467E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535-EC6D-429C-9BAA-14E0BAD2DEC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CE3A-059F-4A66-82C3-9AB3D789A37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0DC2-39DC-4244-B8B5-8106F3E3AA8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B50-A4DC-45CF-ABD3-658A42385B1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DD8-974E-4526-A142-4398B5499B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A95-3155-4DE9-95FB-08FEABC7540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F240-C25A-4BB2-983F-4A2561EA0A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50652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328680" y="1346040"/>
            <a:ext cx="79088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706320" y="1413000"/>
            <a:ext cx="761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27120" y="1847880"/>
            <a:ext cx="7756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711360" y="1631880"/>
            <a:ext cx="74548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465120" y="1773360"/>
            <a:ext cx="8210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octubre – diciembre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143080" y="217656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49480" y="1557360"/>
            <a:ext cx="7040520" cy="2158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92120" y="3860640"/>
            <a:ext cx="634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88920" y="1808280"/>
            <a:ext cx="7305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7320" y="2205000"/>
            <a:ext cx="7885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Octubre – diciembr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3276720" y="290520"/>
            <a:ext cx="5867280" cy="5794200"/>
          </a:xfrm>
          <a:prstGeom prst="rect">
            <a:avLst/>
          </a:prstGeom>
          <a:ln w="0">
            <a:noFill/>
          </a:ln>
        </p:spPr>
      </p:pic>
      <p:sp>
        <p:nvSpPr>
          <p:cNvPr id="1268" name="6 Rectángulo"/>
          <p:cNvSpPr/>
          <p:nvPr/>
        </p:nvSpPr>
        <p:spPr>
          <a:xfrm>
            <a:off x="3203640" y="4697280"/>
            <a:ext cx="5940360" cy="198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333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Octubre – diciembre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10780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782640" y="1563840"/>
            <a:ext cx="751032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2160" y="1666800"/>
            <a:ext cx="7194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Octubre – diciembre 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95360" y="2349360"/>
            <a:ext cx="82058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7-02-14T18:27:52Z</cp:lastPrinted>
  <dcterms:modified xsi:type="dcterms:W3CDTF">2017-02-14T19:18:57Z</dcterms:modified>
  <cp:revision>280</cp:revision>
  <dc:subject/>
  <dc:title>Diapositiva 1</dc:title>
</cp:coreProperties>
</file>