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8.png" ContentType="image/png"/>
  <Override PartName="/ppt/media/image14.jpeg" ContentType="image/jpeg"/>
  <Override PartName="/ppt/media/image16.wmf" ContentType="image/x-wmf"/>
  <Override PartName="/ppt/media/image7.png" ContentType="image/png"/>
  <Override PartName="/ppt/media/image15.wmf" ContentType="image/x-wmf"/>
  <Override PartName="/ppt/media/image1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28.wmf" ContentType="image/x-wmf"/>
  <Override PartName="/ppt/media/image5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9.jpeg" ContentType="image/jpeg"/>
  <Override PartName="/ppt/media/image23.wmf" ContentType="image/x-wmf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  <p:sldId id="272" r:id="rId47"/>
    <p:sldId id="273" r:id="rId48"/>
    <p:sldId id="274" r:id="rId49"/>
    <p:sldId id="275" r:id="rId50"/>
  </p:sldIdLst>
  <p:sldSz cx="9144000" cy="6858000"/>
  <p:notesSz cx="6980238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slide" Target="slides/slide17.xml"/><Relationship Id="rId48" Type="http://schemas.openxmlformats.org/officeDocument/2006/relationships/slide" Target="slides/slide18.xml"/><Relationship Id="rId49" Type="http://schemas.openxmlformats.org/officeDocument/2006/relationships/slide" Target="slides/slide19.xml"/><Relationship Id="rId50" Type="http://schemas.openxmlformats.org/officeDocument/2006/relationships/slide" Target="slides/slide20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"/>
          <p:cNvSpPr/>
          <p:nvPr/>
        </p:nvSpPr>
        <p:spPr>
          <a:xfrm>
            <a:off x="0" y="0"/>
            <a:ext cx="69804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 type="dt" idx="25"/>
          </p:nvPr>
        </p:nvSpPr>
        <p:spPr>
          <a:xfrm>
            <a:off x="3954600" y="0"/>
            <a:ext cx="302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 type="sldImg"/>
          </p:nvPr>
        </p:nvSpPr>
        <p:spPr>
          <a:xfrm>
            <a:off x="1203480" y="685440"/>
            <a:ext cx="45734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 type="body"/>
          </p:nvPr>
        </p:nvSpPr>
        <p:spPr>
          <a:xfrm>
            <a:off x="698040" y="4343400"/>
            <a:ext cx="558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302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6"/>
          <p:cNvSpPr>
            <a:spLocks noGrp="1"/>
          </p:cNvSpPr>
          <p:nvPr>
            <p:ph type="sldNum" idx="27"/>
          </p:nvPr>
        </p:nvSpPr>
        <p:spPr>
          <a:xfrm>
            <a:off x="3954600" y="8685360"/>
            <a:ext cx="302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1F30E-0058-49D6-A0C3-39A4912FED6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954600" y="868536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A60F2-31F2-41F7-8D76-B8DDBA324D13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20636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98040" y="4343400"/>
            <a:ext cx="5583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954600" y="868536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6CAD6-6266-49A9-BA89-9A9E8DE5308D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20636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98040" y="4343400"/>
            <a:ext cx="5583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954600" y="868536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5B4CF-4B19-47CA-B163-F72978266008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20636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98040" y="4343400"/>
            <a:ext cx="5583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954600" y="868536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1FF88-283A-43CE-9B60-36CC536E1C29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20636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98040" y="4343400"/>
            <a:ext cx="5583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954600" y="868536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4B3AD-F309-4FF0-A628-3BD654C42B52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20636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98040" y="4343400"/>
            <a:ext cx="5583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E2A6B-4640-43F7-A693-D793AF2598E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78A88-FB99-4254-9637-959A0CA5AE9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D44CA-AD80-4DF3-AE97-9755A9DADF4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F79F3-C5D5-4AC7-ADF6-7EDD7E6B00A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6466E-1F79-4B0C-A817-3CAFA648F72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53786-DA2F-45EC-AB89-A1B22F0BDADF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7C75C-2554-4898-9B88-5C24EA1C7F3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DC7EB-0B67-4D8E-9CAE-21EE2912F08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27FA8-05B2-4F93-8D77-A6C5CB43F2E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89C816-6D05-4402-AA21-0669A4A9EF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7BA82F-963B-4070-9D7F-D5BF5EC6191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00E5EA-A23E-41C1-B321-00937915B81B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62FA97-6B21-4107-8FD4-510DF94ADB4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95C546-088D-4074-9430-E72236047A94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26476A-2EBA-4ECB-A1D0-63FB273A675D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B0C61F-E5B2-4FCB-8006-A0C9A4599FD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87EAD9-37B8-48FD-B47C-080C9F14E6D9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2BDE3F-F569-4DC7-AFF3-8820F47D2C1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F9E1A8-9C13-4964-96A6-5A1C957C42BB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8C762F-D0E6-485C-A8FA-BF3F4D3AD7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94DC2A-3B81-418E-9F74-84F4892077E9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D387C6-382D-41F6-B01A-A0DE734FD511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73669B-4C0C-46B7-A2AE-6D5512DC092F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994015-B7BC-468E-BAB4-91D1FA0EDD18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5FD8F9-6B4A-4F21-9CD8-D088E132B48C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20CA44-624D-4D59-88FA-0B45CD287386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855B46-D2EC-4903-828B-21D8214DD547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9ECD27-6123-42E1-9ADF-15846755BA41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1BA8C5-97CE-4AC2-BC60-49A8C8DE487C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B37BCC-4C7F-4396-A313-FE130F155E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D8293-0B04-41FF-9E07-C48DEFF1B154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B7017F-AC9D-4A3F-9879-95D0FC1DCC28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2B1A1E-29B0-405D-9615-AD9A2384768D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05789F-4AE4-42EB-A5A2-81D8CDFD87B5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7857A-1F51-417B-88D0-C09A8C474B11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D47FB-4BA0-491A-930D-70CE1840D88F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95EC4-62DC-41D3-A54B-4B94A7AB5B3A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C5B47-98F2-49C4-AAEF-8E29D8AEBD9C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57EC9-2CDE-466C-BAD1-37BDA308480D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FAC88-15A9-404B-8833-EA40A709EAA8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FCAB2-FE5F-449A-8DB1-407EC8FA4F3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FCC3B-9ED9-4DD7-9F5F-AB42605127F6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21948-9462-4F9B-A627-4177E4EAD5E4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86E5A-DF1F-40C5-B8D9-06AC0DD2FC7E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63794-DD2E-4C59-9211-51BE2495D9FA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F2D0E-694D-468E-8828-CE9884F4CC1C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B5D56-90F4-4FD6-9DAC-9AAD412DE218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3BBBF8-F15A-4E14-9EDD-A18858FFD9E4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CB7979-01D7-4DC6-9CCD-4B594720D496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A35E69-B9CA-4782-A652-71FDD4CD211B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E04A67-505F-4C8F-A2DB-97FFEF0EE0F6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E0B652-EA8D-4313-A256-013AAA7111C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8A49A-1BD3-4A28-8B19-7AEE98C80F5A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DB4EF7-0104-49FF-B95E-9A4D7947991D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706889-4BC9-4724-8DAC-5CA2651BF57F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C6A8C9-B9EE-483C-9CC7-5779848CBB2A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7703BB-85E2-4A1C-94D0-AE7AAFD147D0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07D9DD-6F2D-41D8-BF2A-59EA97819354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ACE453-DC30-4489-8B22-F2464DFC623C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5DD22F-CCFA-4A68-905D-1FD2AB41F323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F88C94-6AED-43E3-886C-D492522D61FF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300FF9-C348-4A64-B5E2-D30D619C1B12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2EB3E6-C5C7-41C1-A125-D333AA46911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F4106-FD02-4EF8-BCAD-7DBCBBF13B57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FA902A-DBEF-4A41-9426-26E0F7F842E0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DBAB5B-E880-4194-9E82-B8808BBB3948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1FF9E8-25E4-419A-9381-457C23FE0D92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182BE4-A676-4E5A-AE7A-D45CAB10102A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0D24F8-9C85-45F9-B3F9-F2B1053F0C72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49D525-1249-470E-9210-CB64E79341AC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6BB42E-3438-4644-B8BE-3E51A6759DFE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461EE2-C6C0-4EDA-A618-C8F1085F7940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9C266A-C30C-4AF1-B5A6-D02A6ED20898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01706-DAF3-4660-9FE5-085F76EA2DB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533EF-43F6-4180-A18F-753B65EE0D57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FE1E0-1342-43C6-A950-8DC386EC1449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E38DF-51B9-4176-83A2-9C8F1A2F8FBD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FB308-E5D2-47D9-9B5B-30B31E8ED5DE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98E5A-508D-46C0-975D-E17F057DE909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32655-A25E-4040-BFBE-FB5E7F3D6CEE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C675E-3DD7-4F4A-8EC9-E4AC65DF28C2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6C7B5-1816-4295-8EC2-A777FA66A5BA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8C775-491E-491D-8767-5AEE86698340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B0CF8-8B97-4C5A-A144-FBB3F43B9A4A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E61CB-6412-41CF-90DB-ED6D3457287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CC22D-F629-414A-A171-AD0CCEF58F83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7DA0E-3DCF-443B-ACF5-67AED6F0B3A6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9110D09-8BA1-43ED-AAF1-07A7D4633312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91957BD-7A79-4B0B-9BD3-36B61E16BB13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CC0326D-BAD4-4AB6-B5A9-41A65AFE7D49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89E81DA-E32D-4940-88BA-37DA2060F7FB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F086132-75B6-4B0A-8EF3-9606C7459968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836A60A-B5C9-4499-AAAA-3EE7B5B84007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A87559B-91B7-4A30-AF78-20782F9AED3E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3E9B52C-1130-46E2-8F40-671FA0B7C301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7C6E09D-1FFE-4A1B-B180-9122BA4D7E2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9CB43-588C-4578-A5FA-830F53EDC588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5FD961E-19E3-4BDF-8BB4-F7D7EDB07278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F24515C-C1E7-4222-80A0-81C850501FF0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434B9C2-F684-4A59-BD65-31C88A8D11D1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F64709-85A9-458B-B523-023146B3E023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F381BF-AA67-4974-9D42-6D018A791292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EC7B16-4F29-470C-BFCF-02D7DDA0FB19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B7AA50-C450-407E-8EDF-A26AA8F7BF35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5BA270-419D-407C-B818-AA2A61FE15EA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0BF9C5-0079-4DA9-9855-C5580A51AC94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BADA3F-898A-46B9-93DF-279D6727C7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1C06B-75A1-4DF4-9EC1-BB39ED40E8FC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759167-4EB6-4AA0-92C2-AD29FACDF2CB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B926D7-3D80-45FA-AF1B-D0CF37A78A97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8BBCFA-7CB2-46C4-ADB5-3B2BFD4B17AA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F61C0C-C680-4C63-95BF-92A66ABCD3C5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280E79-9AEF-41E2-80D0-FC6512DC4EC0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B5503-4AC5-40B2-8B0F-F749F0CE505A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20FFB-C3F1-4845-8BE7-F8718ADC50B5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3499B3-58DD-40CF-8F3B-7E2AB2E159CD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BD6BF8-F030-4762-9866-56C0CA99E03B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4B6030-AF74-4DFB-862A-D16B2181BF2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71CD7-7A71-4603-A18D-CB7A59E3A3B7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E5916B-C4B6-4382-9211-B9F49169FE6F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B7A3B-AC09-42D0-9BB2-1D8917DD0C43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FE35F-7784-4C36-802E-B247F74AB169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937552-054C-4820-8117-82B99A10F543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AC717B-5CBE-422A-86A7-95138641A0E9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048E28-2EF1-4DDF-865F-4087E2978A77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6C0383-258B-46ED-B6B0-817D1EFD6479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0C5CE9D-5D36-478F-9722-23704060E18D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9886F79-C871-4C91-BD50-D7B2C5F65E0B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F1F27B3-66A8-40DA-BC55-A810EE0A7EB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F082E-B731-4AEE-A996-25CCE41FCD2D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2CC80F6-A5F4-403D-9495-7F6F622DD18A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6B3B311-40D6-4EF1-83BE-51B9A92EF03F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12E85D4-EFFA-437A-A799-34F27A620863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93C3E7C-956C-4C55-9819-F7536520F2C2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1E587EF-C9BD-481C-BE35-E96B125D3D20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6671338-AFA9-49A1-BC51-04C9D3DDA948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C59F2D7-9475-487A-BCDA-811F8FC6047E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3CAED1B-AA4D-4A4F-B23A-FC1E53C53E67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2A12BEE-42CB-4532-A927-37114CDEDA83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E58F21-6E77-4A3B-8741-A17D425FE69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28641-2292-40AB-BDF8-CEE810FF3161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A2FA3B-7B82-4A45-A528-9B25EA9641F9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720EC5-155D-45E5-98DA-F3BAB2DD2E9A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A55083-08B6-4EF9-BD45-69CF836BEA77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826FFA-7011-4662-B124-36B5F06CA22F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3A7767-39C8-4B63-98EF-36317B09E9A9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263268-0486-4BB3-8D6B-6A5D047FFF20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3CA710-F6A8-495D-B433-3B0BA1926580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28E46F-E4EA-410A-A09D-177FE94CD244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4E718E-2FB3-4964-93C2-BCEC071CAD52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F549C8-B248-4886-978A-69123034972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7C57D-383C-4D9A-B3D9-74A64A5ECB77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DF2F73-9962-4F56-AC90-0018CC469FF7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2AA2AE-F532-438D-9B39-266170EB25C2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6F1EDC-5416-46AD-B346-4E15421028FC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1718A3-5731-4CD8-A6F3-0655586488BB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A6164A-A9AF-4CEB-9A84-35DD495FEBCA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9E88E2-1DB6-4B85-BCE9-AFAD8B486F98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5A463C-1992-4B20-9561-8CDFFF4430CE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DF295C-6475-4E5E-B044-1D1A6D9230CE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74881C-46E1-4934-8890-24E32F126B22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47D9D8-CAFC-4232-B106-56E2E08F02A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AB1089-75AF-45A2-BBA8-709F77CF015C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8D2768-8C5F-4C37-A00B-D4F23C1D2CA6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22617B-1020-4FA7-B584-6C6AEA1CC982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3E120CB-63B0-4DBC-9BB9-B8DD6247A5BC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497DE8A-6B6E-4732-A3B0-C58164848431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5ACCCA8-2400-4C61-87D3-E327068FBE3D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69EB0E0-8BDB-406C-967B-1A3CC0BDFE80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E8E0C3A-710A-4ED3-B432-9EB35C42B3B7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0F47DAC-97EF-4CFA-BB57-457B873DE0E2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4077473-845D-4083-8804-18B48F2A3EC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69900CE-03E8-494C-AD05-CF720A148503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D919DA1-CF8D-4318-93DA-31AF16DC3178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592F940-B085-4C12-B8D9-528F72A4D5F5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A3EACC3-1937-4DF0-8AC5-B4F48E983B41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9E639F4-62AE-4D9D-BC2B-1E13872D35E5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99B928-6BFC-41C4-8BEC-E60F7A55DAEA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F135F8-CF94-4B33-B091-1F46941EF955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A913FB-B447-4599-A5B5-4A0F2758105E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6E2013-CB5C-438F-A51B-B4B61614505A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897108-8AE8-4AFD-B31D-6AF9EB5255D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206BFD-81D0-4169-9027-732428B4737B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D47B04-2FC1-40A4-A51B-0F807C1F01F2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48B2B3-6390-4FB4-A86C-1EF319D84694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5F7AFC-75D8-4446-A928-858BC391AF63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89D5ED-975D-4D55-A0D3-D4ECAA924AC3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58F93C-0082-47C6-BC16-14EDEF60ED3E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49E285-ADF4-4AED-8171-E633174C9B59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0FB804-E708-4201-A5B2-F35C927CF34F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B313BA-7E05-4D86-B841-1CDD4553B868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659F8C-EA33-4E3B-B648-2E5B40ABA64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39EF0D-824B-4007-8B37-90C16F9CD8D5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5E4186-C0CF-4223-8638-A5CB13E27616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8574A9-8E60-448F-BE0B-327852D424D1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B4B556-802E-431F-84BE-F29F9F66BAA0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B15D32-4977-41D3-91C7-D6F7C99E91F7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EC27E0-67E3-4823-B40D-385B5F1912E7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37C7F7-CB77-4D1F-A861-777F903F1101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E21579-5346-4B20-BF2E-98AD98C75AA3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4FC82A-51B5-4E99-BCA0-68F6EB6B626E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0369B87-27F1-452D-B1B0-EE9068D3A3D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BA119CA-B6A9-4209-84E7-57262AB19780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79E6CAC-B09E-4990-835D-D18C9B4732E8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8151E88-0F27-447F-9544-E874F7FDC5B8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288586E-1A37-45E6-B0ED-A0F19BD0C76D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DD049A2-3157-4A8B-AD75-F1796B2B9F72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5774439-14E8-4C04-A6CC-6C638FDC1BDC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E926386-9877-4279-B7FA-C338ED2D39AB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7BBB2F1-A03A-4614-8B3C-2427FCC02D92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E7F6DBD-7347-4045-A99F-6F36B59B5559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5A33603-70EC-404F-B93D-AB0D136C16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3668CBC-FB93-4CA1-B088-F1FD23ADF6CF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34C9BEC-D029-4426-B9C1-49E99FE93E77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5C94450-2C56-4697-AC94-6F458D5F713E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9A6A962-5A6F-400E-B6DC-6D3D24D01EFD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752D4A2-38D4-4DEA-9859-04F115A68CDA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A489296-6882-4B43-BB2A-DD4B140A51EA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13C5D60-132A-45EA-A1FA-973A9261D521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957C9A9-B81D-4BC5-8CF2-F0E0C0A370D4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DE389F-ECEF-4340-AE5D-55C154B20BAB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172A13-EEDC-4C9B-8DFE-383F576AC99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BBE5F8-7291-4BAA-8E27-8EFC59C42981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47A48B-88FD-422A-887D-B592227024F1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09E7827-0E9E-4456-A3EB-F04C9E5A7641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B7D56B-96F9-46CB-A545-A0019239CDE3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D90157-04BD-4AB7-9CB6-26B92E8F80D8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D4B14F-BD77-482C-9AFB-47C629AAF707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98DB1F-1812-4E79-B4EF-3429A6C537A4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2D4FEA-5B7B-4642-8A9B-E89A8B1CDFA0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FC8F1D-ADD7-4AC0-87B0-BB543F080F24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CDD650-2877-48DD-B358-989CA8874DB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5DB246-75A0-4522-A57B-6809FA5EFDCA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1B9076-3E27-4D02-BBBF-191E7C89F140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3A6E3D-6BAD-4A30-8AED-0A3D93D2CC55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869D11-1A7D-46F3-AE28-CE47F8194237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6F74F4-5F99-4809-B290-4A6E38290F49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F3C94-E908-4C42-9B7A-4089CB7CD9A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4F715-D40B-4640-B113-AD23E0C9FF0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90A28-8C2A-4DE3-97F3-BC66DBA108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1E436-053A-46EB-B2B2-B25270C9DB5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6248E-9FFA-4D80-AC0C-ED1193A8093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5553A-84A4-48B6-A734-03B3DA31662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7629C-629C-479A-B636-DD05608B364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5D0C7-DE26-40FB-A0F8-2064D525741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27978-66C9-4AF9-8FC2-DA375019B25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523E2-E4EC-4C95-804B-9F47CC8C869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652B8-EFE3-4912-A06B-4D5DDC1FBC7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419A6-F25C-4681-9CAD-DF96135B541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F6B8-D2D7-4F6D-855C-F2BAE207AE6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5658-7BC6-4DD5-8DCE-29E963C0FDC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D36D-ADD1-4085-9417-496AE424640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AF73-B3A2-42F3-86BA-EEA63EB8F79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0C1A-8582-4665-BD48-57AD70E02DE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1A24-D1DE-419A-A579-3BF9F0FBC32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00D5-34D6-46DC-8842-40EFEF366F0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0799-E13D-451A-A648-8592A53A0F8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7D5F-87D7-4F22-853F-4C649B70D6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B902-F479-4A15-BDEB-6C99CB32C78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AE08-28C4-4E36-AA12-1434359A090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3016-D19F-4954-BEA1-66C68083446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750F11-B52A-4693-B820-7901160345A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6AB9B9-9C34-41D5-BCD3-3725D7209AB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DA225A-2167-4B51-A994-BF6FC4E939F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482446-8CDD-4B9A-B79B-58BBA2B5DEE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3FFC2E-3C6A-4E4D-9345-B2615998529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75FD50-6ECA-4175-B682-A35B3B356FA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A1EF9F-01C5-4F15-AEFB-4947CB1E84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F2DF22-EAFD-43E8-9D7A-A759FEC7704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05E4EB-CFA5-4DE5-B436-274B1340F29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F1FF3A-F069-476E-B138-61CFADD483D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CEF260-D47F-4058-9E4D-F53D8CB3E5F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FC55D5-CD9C-44FF-9868-0A36597729A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EADC5D-07AF-4660-AC28-B1EC6FF55AD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D34266-91DF-4ED2-9238-00B7D3710373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329761-273C-4E70-9DED-6F19BB9FF90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D84D58-9D0E-42B4-8B91-C64674AC792F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351EB2-7B84-4FB6-BC52-ABA512FF9A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BE208C-CE4F-4376-8F67-4E6D01A0223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4DC069-FE15-43E5-88FB-D56AB3805D8F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655B17-518D-43E0-B58E-5E6E283346AD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0342B0-ABF7-4FBB-B590-91F83B1DBFF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73ADE5-3F26-42BF-8C58-8D9D97CFA77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DABE85-9B48-4C25-BF7E-F403F8B95FF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F10E85-48BF-496C-89E3-4147AA8C438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CBF72-7397-4C7F-8003-6BED61647C4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9B257-6750-454C-93BF-7D67CEF8333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05169-7889-4865-868A-B211E64784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s://twitter.com/dane_colombia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s://www.facebook.com/DANEColombia" TargetMode="External"/><Relationship Id="rId5" Type="http://schemas.openxmlformats.org/officeDocument/2006/relationships/image" Target="../media/image2.png"/><Relationship Id="rId6" Type="http://schemas.openxmlformats.org/officeDocument/2006/relationships/hyperlink" Target="http://www.youtube.com/user/danecolombia" TargetMode="External"/><Relationship Id="rId7" Type="http://schemas.openxmlformats.org/officeDocument/2006/relationships/image" Target="../media/image3.png"/><Relationship Id="rId8" Type="http://schemas.openxmlformats.org/officeDocument/2006/relationships/hyperlink" Target="http://www.dane.gov.co/" TargetMode="External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81.xml"/><Relationship Id="rId8" Type="http://schemas.openxmlformats.org/officeDocument/2006/relationships/slideLayout" Target="../slideLayouts/slideLayout182.xml"/><Relationship Id="rId9" Type="http://schemas.openxmlformats.org/officeDocument/2006/relationships/slideLayout" Target="../slideLayouts/slideLayout183.xml"/><Relationship Id="rId10" Type="http://schemas.openxmlformats.org/officeDocument/2006/relationships/slideLayout" Target="../slideLayouts/slideLayout184.xml"/><Relationship Id="rId11" Type="http://schemas.openxmlformats.org/officeDocument/2006/relationships/slideLayout" Target="../slideLayouts/slideLayout185.xml"/><Relationship Id="rId12" Type="http://schemas.openxmlformats.org/officeDocument/2006/relationships/slideLayout" Target="../slideLayouts/slideLayout186.xml"/><Relationship Id="rId13" Type="http://schemas.openxmlformats.org/officeDocument/2006/relationships/slideLayout" Target="../slideLayouts/slideLayout187.xml"/><Relationship Id="rId14" Type="http://schemas.openxmlformats.org/officeDocument/2006/relationships/slideLayout" Target="../slideLayouts/slideLayout188.xml"/><Relationship Id="rId15" Type="http://schemas.openxmlformats.org/officeDocument/2006/relationships/slideLayout" Target="../slideLayouts/slideLayout189.xml"/><Relationship Id="rId16" Type="http://schemas.openxmlformats.org/officeDocument/2006/relationships/slideLayout" Target="../slideLayouts/slideLayout190.xml"/><Relationship Id="rId17" Type="http://schemas.openxmlformats.org/officeDocument/2006/relationships/slideLayout" Target="../slideLayouts/slideLayout191.xml"/><Relationship Id="rId18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1.png"/><Relationship Id="rId3" Type="http://schemas.openxmlformats.org/officeDocument/2006/relationships/image" Target="../media/image9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3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6289560"/>
            <a:ext cx="9144000" cy="5684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32360" y="336600"/>
            <a:ext cx="34560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91640" y="1125360"/>
            <a:ext cx="759636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10 Imagen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84720" y="6454800"/>
            <a:ext cx="1041480" cy="237960"/>
          </a:xfrm>
          <a:prstGeom prst="rect">
            <a:avLst/>
          </a:prstGeom>
          <a:ln w="0">
            <a:noFill/>
          </a:ln>
        </p:spPr>
      </p:pic>
      <p:pic>
        <p:nvPicPr>
          <p:cNvPr id="4" name="11 Imagen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40360" y="6450120"/>
            <a:ext cx="914400" cy="237960"/>
          </a:xfrm>
          <a:prstGeom prst="rect">
            <a:avLst/>
          </a:prstGeom>
          <a:ln w="0">
            <a:noFill/>
          </a:ln>
        </p:spPr>
      </p:pic>
      <p:pic>
        <p:nvPicPr>
          <p:cNvPr id="5" name="12 Imagen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467480" y="6454800"/>
            <a:ext cx="927360" cy="237960"/>
          </a:xfrm>
          <a:prstGeom prst="rect">
            <a:avLst/>
          </a:prstGeom>
          <a:ln w="0">
            <a:noFill/>
          </a:ln>
        </p:spPr>
      </p:pic>
      <p:pic>
        <p:nvPicPr>
          <p:cNvPr id="6" name="15 Imagen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57080" y="6431040"/>
            <a:ext cx="1438560" cy="274680"/>
          </a:xfrm>
          <a:prstGeom prst="rect">
            <a:avLst/>
          </a:prstGeom>
          <a:ln w="0">
            <a:noFill/>
          </a:ln>
        </p:spPr>
      </p:pic>
      <p:pic>
        <p:nvPicPr>
          <p:cNvPr id="7" name="10 Imagen" descr=""/>
          <p:cNvPicPr/>
          <p:nvPr/>
        </p:nvPicPr>
        <p:blipFill>
          <a:blip r:embed="rId10"/>
          <a:stretch/>
        </p:blipFill>
        <p:spPr>
          <a:xfrm>
            <a:off x="-36360" y="6165720"/>
            <a:ext cx="9266040" cy="941400"/>
          </a:xfrm>
          <a:prstGeom prst="rect">
            <a:avLst/>
          </a:prstGeom>
          <a:ln w="0">
            <a:noFill/>
          </a:ln>
        </p:spPr>
      </p:pic>
      <p:sp>
        <p:nvSpPr>
          <p:cNvPr id="8" name="1 CuadroTexto"/>
          <p:cNvSpPr/>
          <p:nvPr/>
        </p:nvSpPr>
        <p:spPr>
          <a:xfrm>
            <a:off x="6868440" y="6453360"/>
            <a:ext cx="16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www.dane.gov.c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11 Imagen" descr=""/>
          <p:cNvPicPr/>
          <p:nvPr/>
        </p:nvPicPr>
        <p:blipFill>
          <a:blip r:embed="rId11"/>
          <a:srcRect l="0" t="84078" r="0" b="0"/>
          <a:stretch/>
        </p:blipFill>
        <p:spPr>
          <a:xfrm>
            <a:off x="-36360" y="-27000"/>
            <a:ext cx="9251640" cy="14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7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DA2DF-F8CF-4AEF-AA06-9432C8FBF589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8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A50D5-1D5B-4468-9992-10AC52767FDE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2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sldNum" idx="9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A49FD-F128-448E-B337-15ACCC685833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6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10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1F21B-AA9E-4781-A811-61714C018978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sldNum" idx="1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712C4-F942-4D0A-B563-BBC221278514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6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sldNum" idx="12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4C5D7-5B24-42B0-AC1F-A904E766B798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sldNum" idx="1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2464C-41AC-479A-8E36-3F50EB075AB4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7"/>
    <p:sldLayoutId id="2147483845" r:id="rId8"/>
    <p:sldLayoutId id="2147483846" r:id="rId9"/>
    <p:sldLayoutId id="2147483847" r:id="rId10"/>
    <p:sldLayoutId id="2147483848" r:id="rId11"/>
    <p:sldLayoutId id="2147483849" r:id="rId12"/>
    <p:sldLayoutId id="2147483850" r:id="rId13"/>
    <p:sldLayoutId id="2147483851" r:id="rId14"/>
    <p:sldLayoutId id="2147483852" r:id="rId15"/>
    <p:sldLayoutId id="2147483853" r:id="rId16"/>
    <p:sldLayoutId id="2147483854" r:id="rId17"/>
    <p:sldLayoutId id="2147483855" r:id="rId18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sldNum" idx="1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211DB-B931-449D-986B-687439346CDE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 type="sldNum" idx="15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CAD35-611A-4202-837A-5406C76B3389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sldNum" idx="16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50AE9-DC4D-4D48-93B4-FCEF5D8146BE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sldNum" idx="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525C3-C6BA-4C02-94FE-CC5DBF6A960B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sldNum" idx="17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29587-EDF3-48CE-BEF6-870A0AAFD6A9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21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sldNum" idx="18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9EBFA-1274-4DA0-8919-D4181ABE75CF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sldNum" idx="19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80BC1-4470-4DB4-9974-1B60513A5798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2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03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 type="sldNum" idx="20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662F0-0BBC-4FF4-920A-423FF487C8F2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 type="sldNum" idx="21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60EFF-CD9B-4668-B868-F896357FCC20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4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 type="sldNum" idx="2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1928A-2B67-42B1-92D1-324B1C174366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 type="sldNum" idx="23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1D858-32F6-49A5-99E0-84E5E96C1192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6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 type="sldNum" idx="2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7E1B6-4AA9-444A-85C4-77209A17FAAC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20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4427640" y="2639880"/>
            <a:ext cx="47149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image6.png"/>
          <p:cNvPicPr/>
          <p:nvPr/>
        </p:nvPicPr>
        <p:blipFill>
          <a:blip r:embed="rId2"/>
          <a:stretch/>
        </p:blipFill>
        <p:spPr>
          <a:xfrm>
            <a:off x="4427640" y="3932280"/>
            <a:ext cx="4714920" cy="109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dane_logo_2015_lema.jpeg"/>
          <p:cNvPicPr/>
          <p:nvPr/>
        </p:nvPicPr>
        <p:blipFill>
          <a:blip r:embed="rId3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image1.png"/>
          <p:cNvPicPr/>
          <p:nvPr/>
        </p:nvPicPr>
        <p:blipFill>
          <a:blip r:embed="rId4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image2.png"/>
          <p:cNvPicPr/>
          <p:nvPr/>
        </p:nvPicPr>
        <p:blipFill>
          <a:blip r:embed="rId5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image3.png"/>
          <p:cNvPicPr/>
          <p:nvPr/>
        </p:nvPicPr>
        <p:blipFill>
          <a:blip r:embed="rId6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7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27640" y="2852640"/>
            <a:ext cx="4114800" cy="719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sldNum" idx="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CDCAA-7BEB-4DAF-9FE3-A1D13180B866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" descr="dane_logo_2015_lema.jpeg"/>
          <p:cNvPicPr/>
          <p:nvPr/>
        </p:nvPicPr>
        <p:blipFill>
          <a:blip r:embed="rId2"/>
          <a:srcRect l="0" t="17330" r="0" b="17330"/>
          <a:stretch/>
        </p:blipFill>
        <p:spPr>
          <a:xfrm>
            <a:off x="0" y="2276640"/>
            <a:ext cx="9142560" cy="214596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2"/>
          <p:cNvGrpSpPr/>
          <p:nvPr/>
        </p:nvGrpSpPr>
        <p:grpSpPr>
          <a:xfrm>
            <a:off x="2279520" y="6019920"/>
            <a:ext cx="4581720" cy="287280"/>
            <a:chOff x="2279520" y="6019920"/>
            <a:chExt cx="4581720" cy="287280"/>
          </a:xfrm>
        </p:grpSpPr>
        <p:pic>
          <p:nvPicPr>
            <p:cNvPr id="184" name="Picture 3" descr="image1.png"/>
            <p:cNvPicPr/>
            <p:nvPr/>
          </p:nvPicPr>
          <p:blipFill>
            <a:blip r:embed="rId3"/>
            <a:stretch/>
          </p:blipFill>
          <p:spPr>
            <a:xfrm>
              <a:off x="22795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4" descr="image2.png"/>
            <p:cNvPicPr/>
            <p:nvPr/>
          </p:nvPicPr>
          <p:blipFill>
            <a:blip r:embed="rId4"/>
            <a:stretch/>
          </p:blipFill>
          <p:spPr>
            <a:xfrm>
              <a:off x="52873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5" descr="image3.png"/>
            <p:cNvPicPr/>
            <p:nvPr/>
          </p:nvPicPr>
          <p:blipFill>
            <a:blip r:embed="rId5"/>
            <a:stretch/>
          </p:blipFill>
          <p:spPr>
            <a:xfrm>
              <a:off x="377604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Rectangle 6"/>
            <p:cNvSpPr/>
            <p:nvPr/>
          </p:nvSpPr>
          <p:spPr>
            <a:xfrm>
              <a:off x="259524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@DANE_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Rectangle 7"/>
            <p:cNvSpPr/>
            <p:nvPr/>
          </p:nvSpPr>
          <p:spPr>
            <a:xfrm>
              <a:off x="410688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Rectangle 8"/>
            <p:cNvSpPr/>
            <p:nvPr/>
          </p:nvSpPr>
          <p:spPr>
            <a:xfrm>
              <a:off x="5592960" y="6053040"/>
              <a:ext cx="1268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Num" idx="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40897-17D3-491E-B7B6-16C4AC5674AF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Num" idx="4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22111-AF06-46AB-B6BD-10BE9AEDD763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sldNum" idx="5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16129-4A65-4895-B74F-2435E3942DC2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sldNum" idx="6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0A6E1-708E-4520-8314-2A3AFB1ED3D4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6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26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9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6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6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26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812880" y="44280"/>
            <a:ext cx="77184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ffffff"/>
                </a:solidFill>
                <a:latin typeface="Verdana"/>
              </a:rPr>
              <a:t>Mercado Laboral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5" name="Picture 3" descr="C:\Users\maarias\Desktop\Fotografias_Boletin_Comunicado_Prensa_23_12_14\Fotografias_Boletin_Comunicado_Prensa\Boletin_DANE (1).png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2665440"/>
          </a:xfrm>
          <a:prstGeom prst="rect">
            <a:avLst/>
          </a:prstGeom>
          <a:ln w="0">
            <a:noFill/>
          </a:ln>
        </p:spPr>
      </p:pic>
      <p:sp>
        <p:nvSpPr>
          <p:cNvPr id="1256" name="Text Box 5"/>
          <p:cNvSpPr/>
          <p:nvPr/>
        </p:nvSpPr>
        <p:spPr>
          <a:xfrm>
            <a:off x="324000" y="3859200"/>
            <a:ext cx="561636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6014c"/>
                </a:solidFill>
                <a:latin typeface="Arial"/>
                <a:ea typeface="Arial"/>
              </a:rPr>
              <a:t>Barranquilla AM*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20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Bogotá D.C., febrero de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* El Área Metropolitana de Barranquilla incluye a Soled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Rectangle 2"/>
          <p:cNvSpPr/>
          <p:nvPr/>
        </p:nvSpPr>
        <p:spPr>
          <a:xfrm>
            <a:off x="68580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Text Box 3"/>
          <p:cNvSpPr/>
          <p:nvPr/>
        </p:nvSpPr>
        <p:spPr>
          <a:xfrm>
            <a:off x="685800" y="549360"/>
            <a:ext cx="741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 y variación de la población ocupada, según ramas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Text Box 4"/>
          <p:cNvSpPr/>
          <p:nvPr/>
        </p:nvSpPr>
        <p:spPr>
          <a:xfrm>
            <a:off x="216000" y="5234040"/>
            <a:ext cx="835344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Otras ramas*: Agricultura, ganadería, caza, silvicultura y pesca; explotación de minas y canteras; suministro de electricidad, gas y agua e intermediación financier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  <a:ea typeface="Calibri"/>
              </a:rPr>
              <a:t>Nota: La categoría  “No informa” no se incluye en la gráfica. Por esta razón la suma de las participaciones puede diferir de 100%.   </a:t>
            </a:r>
            <a:r>
              <a:rPr b="0" lang="es-CO" sz="1800" spc="-1" strike="noStrike">
                <a:solidFill>
                  <a:srgbClr val="000000"/>
                </a:solidFill>
                <a:latin typeface="Calibri"/>
                <a:ea typeface="Calibri"/>
              </a:rPr>
              <a:t> 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6 CuadroTexto"/>
          <p:cNvSpPr/>
          <p:nvPr/>
        </p:nvSpPr>
        <p:spPr>
          <a:xfrm>
            <a:off x="1252440" y="49849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0" name="1 Imagen" descr=""/>
          <p:cNvPicPr/>
          <p:nvPr/>
        </p:nvPicPr>
        <p:blipFill>
          <a:blip r:embed="rId1"/>
          <a:stretch/>
        </p:blipFill>
        <p:spPr>
          <a:xfrm>
            <a:off x="1046160" y="1557360"/>
            <a:ext cx="705024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Rectangle 2"/>
          <p:cNvSpPr/>
          <p:nvPr/>
        </p:nvSpPr>
        <p:spPr>
          <a:xfrm>
            <a:off x="685800" y="404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Text Box 3"/>
          <p:cNvSpPr/>
          <p:nvPr/>
        </p:nvSpPr>
        <p:spPr>
          <a:xfrm>
            <a:off x="1366920" y="54936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Contribución a la variación porcentual de la población ocupada, según ramas de activ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Text Box 4"/>
          <p:cNvSpPr/>
          <p:nvPr/>
        </p:nvSpPr>
        <p:spPr>
          <a:xfrm>
            <a:off x="395280" y="5492880"/>
            <a:ext cx="7850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Otras ramas*: Agricultura, ganadería, caza, silvicultura y pesca; explotación de minas y canteras, suministro de electricidad, gas y agua e intermediación financier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6 CuadroTexto"/>
          <p:cNvSpPr/>
          <p:nvPr/>
        </p:nvSpPr>
        <p:spPr>
          <a:xfrm>
            <a:off x="1157040" y="5084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5" name="1 Imagen" descr=""/>
          <p:cNvPicPr/>
          <p:nvPr/>
        </p:nvPicPr>
        <p:blipFill>
          <a:blip r:embed="rId1"/>
          <a:stretch/>
        </p:blipFill>
        <p:spPr>
          <a:xfrm>
            <a:off x="1120680" y="1703520"/>
            <a:ext cx="6902640" cy="34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7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98" name="Rectangle 3"/>
          <p:cNvSpPr/>
          <p:nvPr/>
        </p:nvSpPr>
        <p:spPr>
          <a:xfrm>
            <a:off x="1403280" y="295596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SEGÚ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POSICIÓN OCUP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Octubre - diciembre 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Text Box 3"/>
          <p:cNvSpPr/>
          <p:nvPr/>
        </p:nvSpPr>
        <p:spPr>
          <a:xfrm>
            <a:off x="971640" y="549360"/>
            <a:ext cx="68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y variación de la población ocupada, 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Text Box 4"/>
          <p:cNvSpPr/>
          <p:nvPr/>
        </p:nvSpPr>
        <p:spPr>
          <a:xfrm>
            <a:off x="1022400" y="6095880"/>
            <a:ext cx="183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Text Box 6"/>
          <p:cNvSpPr/>
          <p:nvPr/>
        </p:nvSpPr>
        <p:spPr>
          <a:xfrm>
            <a:off x="468360" y="5157720"/>
            <a:ext cx="8136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^ : Jornalero y peón está incluido en la categoría obrero, empleado particu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* : Trabajador sin remuneración incluye a los trabajadores familiares sin remuneración y a los trabajadores sin remuneración en empresas de otros hoga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8 CuadroTexto"/>
          <p:cNvSpPr/>
          <p:nvPr/>
        </p:nvSpPr>
        <p:spPr>
          <a:xfrm>
            <a:off x="1141200" y="49417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5" name="1 Imagen" descr=""/>
          <p:cNvPicPr/>
          <p:nvPr/>
        </p:nvPicPr>
        <p:blipFill>
          <a:blip r:embed="rId1"/>
          <a:stretch/>
        </p:blipFill>
        <p:spPr>
          <a:xfrm>
            <a:off x="870120" y="1628640"/>
            <a:ext cx="7402320" cy="31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Text Box 3"/>
          <p:cNvSpPr/>
          <p:nvPr/>
        </p:nvSpPr>
        <p:spPr>
          <a:xfrm>
            <a:off x="1327320" y="476280"/>
            <a:ext cx="59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Contribución a la variación porcentual  de la población ocupada, 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Text Box 4"/>
          <p:cNvSpPr/>
          <p:nvPr/>
        </p:nvSpPr>
        <p:spPr>
          <a:xfrm>
            <a:off x="1022400" y="6095880"/>
            <a:ext cx="183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Text Box 6"/>
          <p:cNvSpPr/>
          <p:nvPr/>
        </p:nvSpPr>
        <p:spPr>
          <a:xfrm>
            <a:off x="719280" y="5222880"/>
            <a:ext cx="735156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^: Jornalero y peón está incluido en la categoría obrero, empleado particu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*: Trabajador sin remuneración incluye a los trabajadores familiares sin remuneración y a los trabajadores sin remuneración en empresas de otros hog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8 CuadroTexto"/>
          <p:cNvSpPr/>
          <p:nvPr/>
        </p:nvSpPr>
        <p:spPr>
          <a:xfrm>
            <a:off x="1122120" y="489600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1" name="1 Imagen" descr=""/>
          <p:cNvPicPr/>
          <p:nvPr/>
        </p:nvPicPr>
        <p:blipFill>
          <a:blip r:embed="rId1"/>
          <a:stretch/>
        </p:blipFill>
        <p:spPr>
          <a:xfrm>
            <a:off x="833400" y="1413000"/>
            <a:ext cx="7477200" cy="35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3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314" name="Rectangle 3"/>
          <p:cNvSpPr/>
          <p:nvPr/>
        </p:nvSpPr>
        <p:spPr>
          <a:xfrm>
            <a:off x="1403280" y="29559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INACTIVA 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TIPO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Octubre – diciembre 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Text Box 3"/>
          <p:cNvSpPr/>
          <p:nvPr/>
        </p:nvSpPr>
        <p:spPr>
          <a:xfrm>
            <a:off x="1189080" y="549360"/>
            <a:ext cx="676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 y variación de la población inactiva, según tipo de activ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Text Box 4"/>
          <p:cNvSpPr/>
          <p:nvPr/>
        </p:nvSpPr>
        <p:spPr>
          <a:xfrm>
            <a:off x="142920" y="5516640"/>
            <a:ext cx="8030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Nota: La categoría “otros” incluye: incapacitado permanente para trabajar, rentista, pensionado, jubilado, personas que no 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llama la atención o creen que no vale la pena trabaj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6 CuadroTexto"/>
          <p:cNvSpPr/>
          <p:nvPr/>
        </p:nvSpPr>
        <p:spPr>
          <a:xfrm>
            <a:off x="1625400" y="529416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0" name="1 Imagen" descr=""/>
          <p:cNvPicPr/>
          <p:nvPr/>
        </p:nvPicPr>
        <p:blipFill>
          <a:blip r:embed="rId1"/>
          <a:stretch/>
        </p:blipFill>
        <p:spPr>
          <a:xfrm>
            <a:off x="361800" y="1319040"/>
            <a:ext cx="848232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5 CuadroTexto"/>
          <p:cNvSpPr/>
          <p:nvPr/>
        </p:nvSpPr>
        <p:spPr>
          <a:xfrm>
            <a:off x="2165040" y="5516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Text Box 3"/>
          <p:cNvSpPr/>
          <p:nvPr/>
        </p:nvSpPr>
        <p:spPr>
          <a:xfrm>
            <a:off x="1332000" y="620640"/>
            <a:ext cx="687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Proporción del empleo informal en la población ocupada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Total 13 ciudades, áreas metropolitanas y Barranquilla 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 Octubre – diciembre (2015 - 2016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3" name="1 Imagen" descr=""/>
          <p:cNvPicPr/>
          <p:nvPr/>
        </p:nvPicPr>
        <p:blipFill>
          <a:blip r:embed="rId1"/>
          <a:stretch/>
        </p:blipFill>
        <p:spPr>
          <a:xfrm>
            <a:off x="1547640" y="1916280"/>
            <a:ext cx="6264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4 CuadroTexto"/>
          <p:cNvSpPr/>
          <p:nvPr/>
        </p:nvSpPr>
        <p:spPr>
          <a:xfrm>
            <a:off x="1476360" y="981000"/>
            <a:ext cx="7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5 CuadroTexto"/>
          <p:cNvSpPr/>
          <p:nvPr/>
        </p:nvSpPr>
        <p:spPr>
          <a:xfrm>
            <a:off x="703080" y="504720"/>
            <a:ext cx="7252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Límites de confianza y error relativo de la población de la fuerza 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trabajo e indicadores de mercado labo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Barranquilla 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6" name="2 Imagen" descr=""/>
          <p:cNvPicPr/>
          <p:nvPr/>
        </p:nvPicPr>
        <p:blipFill>
          <a:blip r:embed="rId1"/>
          <a:stretch/>
        </p:blipFill>
        <p:spPr>
          <a:xfrm>
            <a:off x="770040" y="1635120"/>
            <a:ext cx="7440480" cy="1649520"/>
          </a:xfrm>
          <a:prstGeom prst="rect">
            <a:avLst/>
          </a:prstGeom>
          <a:ln w="0">
            <a:noFill/>
          </a:ln>
        </p:spPr>
      </p:pic>
      <p:pic>
        <p:nvPicPr>
          <p:cNvPr id="1327" name="1 Imagen" descr=""/>
          <p:cNvPicPr/>
          <p:nvPr/>
        </p:nvPicPr>
        <p:blipFill>
          <a:blip r:embed="rId2"/>
          <a:stretch/>
        </p:blipFill>
        <p:spPr>
          <a:xfrm>
            <a:off x="826920" y="3716280"/>
            <a:ext cx="7345440" cy="18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1 CuadroTexto"/>
          <p:cNvSpPr/>
          <p:nvPr/>
        </p:nvSpPr>
        <p:spPr>
          <a:xfrm>
            <a:off x="1308240" y="404640"/>
            <a:ext cx="684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Tasa global de participación, ocupación y desemple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Atlánti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Anu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 </a:t>
            </a: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2007 -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4 CuadroTexto"/>
          <p:cNvSpPr/>
          <p:nvPr/>
        </p:nvSpPr>
        <p:spPr>
          <a:xfrm>
            <a:off x="1461240" y="5732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0" name="1 Imagen" descr=""/>
          <p:cNvPicPr/>
          <p:nvPr/>
        </p:nvPicPr>
        <p:blipFill>
          <a:blip r:embed="rId1"/>
          <a:stretch/>
        </p:blipFill>
        <p:spPr>
          <a:xfrm>
            <a:off x="1095480" y="1879560"/>
            <a:ext cx="703584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8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59" name="Rectangle 4"/>
          <p:cNvSpPr/>
          <p:nvPr/>
        </p:nvSpPr>
        <p:spPr>
          <a:xfrm>
            <a:off x="1050840" y="1979640"/>
            <a:ext cx="77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Indicadores</a:t>
            </a:r>
            <a:r>
              <a:rPr b="1" lang="es-ES" sz="3200" spc="-1" strike="noStrike">
                <a:solidFill>
                  <a:srgbClr val="a7a7a7"/>
                </a:solidFill>
                <a:latin typeface="Arial Narrow"/>
                <a:ea typeface="Calibri"/>
              </a:rPr>
              <a:t> </a:t>
            </a: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del mercado lab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Rectangle 3"/>
          <p:cNvSpPr/>
          <p:nvPr/>
        </p:nvSpPr>
        <p:spPr>
          <a:xfrm>
            <a:off x="2124000" y="295596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23 ciudades y áreas metropolitan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Octubre – diciembre 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Rectangle 1"/>
          <p:cNvSpPr/>
          <p:nvPr/>
        </p:nvSpPr>
        <p:spPr>
          <a:xfrm>
            <a:off x="0" y="763560"/>
            <a:ext cx="464328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Text Box 3"/>
          <p:cNvSpPr/>
          <p:nvPr/>
        </p:nvSpPr>
        <p:spPr>
          <a:xfrm>
            <a:off x="412920" y="65412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Resumen indicado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Barranquilla AM – Total N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3" name="1 Imagen" descr=""/>
          <p:cNvPicPr/>
          <p:nvPr/>
        </p:nvPicPr>
        <p:blipFill>
          <a:blip r:embed="rId1"/>
          <a:stretch/>
        </p:blipFill>
        <p:spPr>
          <a:xfrm>
            <a:off x="746280" y="2060640"/>
            <a:ext cx="76514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Text Box 4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Text Box 3"/>
          <p:cNvSpPr/>
          <p:nvPr/>
        </p:nvSpPr>
        <p:spPr>
          <a:xfrm>
            <a:off x="179280" y="2666880"/>
            <a:ext cx="295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Indicadores de mercado laboral por ciud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0066"/>
                </a:solidFill>
                <a:latin typeface="Arial Narrow"/>
                <a:ea typeface="Calibri"/>
              </a:rPr>
              <a:t>Octubre – diciembre 201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7" name="1 Imagen" descr=""/>
          <p:cNvPicPr/>
          <p:nvPr/>
        </p:nvPicPr>
        <p:blipFill>
          <a:blip r:embed="rId1"/>
          <a:stretch/>
        </p:blipFill>
        <p:spPr>
          <a:xfrm>
            <a:off x="2987640" y="289080"/>
            <a:ext cx="6048360" cy="5868720"/>
          </a:xfrm>
          <a:prstGeom prst="rect">
            <a:avLst/>
          </a:prstGeom>
          <a:ln w="0">
            <a:noFill/>
          </a:ln>
        </p:spPr>
      </p:pic>
      <p:sp>
        <p:nvSpPr>
          <p:cNvPr id="1268" name="6 Rectángulo"/>
          <p:cNvSpPr/>
          <p:nvPr/>
        </p:nvSpPr>
        <p:spPr>
          <a:xfrm>
            <a:off x="2886120" y="5084640"/>
            <a:ext cx="6257880" cy="21600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Text Box 3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Text Box 3"/>
          <p:cNvSpPr/>
          <p:nvPr/>
        </p:nvSpPr>
        <p:spPr>
          <a:xfrm>
            <a:off x="1187280" y="907920"/>
            <a:ext cx="6769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Tasa global de participación, ocupación y desemple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Barranquilla 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Octubre – diciembre (2007 - 2016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2" name="1 Imagen" descr=""/>
          <p:cNvPicPr/>
          <p:nvPr/>
        </p:nvPicPr>
        <p:blipFill>
          <a:blip r:embed="rId1"/>
          <a:stretch/>
        </p:blipFill>
        <p:spPr>
          <a:xfrm>
            <a:off x="1081080" y="2036880"/>
            <a:ext cx="7346880" cy="3512880"/>
          </a:xfrm>
          <a:prstGeom prst="rect">
            <a:avLst/>
          </a:prstGeom>
          <a:ln w="0">
            <a:noFill/>
          </a:ln>
        </p:spPr>
      </p:pic>
      <p:sp>
        <p:nvSpPr>
          <p:cNvPr id="1273" name="5 CuadroTexto"/>
          <p:cNvSpPr/>
          <p:nvPr/>
        </p:nvSpPr>
        <p:spPr>
          <a:xfrm>
            <a:off x="2030040" y="562140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Text Box 3"/>
          <p:cNvSpPr/>
          <p:nvPr/>
        </p:nvSpPr>
        <p:spPr>
          <a:xfrm>
            <a:off x="992160" y="549360"/>
            <a:ext cx="714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asa de desempl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Barranquilla 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s móviles 2012 - 201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5 CuadroTexto"/>
          <p:cNvSpPr/>
          <p:nvPr/>
        </p:nvSpPr>
        <p:spPr>
          <a:xfrm>
            <a:off x="1553760" y="53737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6" name="1 Imagen" descr=""/>
          <p:cNvPicPr/>
          <p:nvPr/>
        </p:nvPicPr>
        <p:blipFill>
          <a:blip r:embed="rId1"/>
          <a:stretch/>
        </p:blipFill>
        <p:spPr>
          <a:xfrm>
            <a:off x="992160" y="1652760"/>
            <a:ext cx="714204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Rectangle 4"/>
          <p:cNvSpPr/>
          <p:nvPr/>
        </p:nvSpPr>
        <p:spPr>
          <a:xfrm>
            <a:off x="2050920" y="549360"/>
            <a:ext cx="4896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Población ocupada, desocupada e inactiva </a:t>
            </a:r>
            <a:br>
              <a:rPr sz="2200"/>
            </a:b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Barranquilla 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Octubre – diciembre (2015 - 2016)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8" name="1 Imagen" descr=""/>
          <p:cNvPicPr/>
          <p:nvPr/>
        </p:nvPicPr>
        <p:blipFill>
          <a:blip r:embed="rId1"/>
          <a:stretch/>
        </p:blipFill>
        <p:spPr>
          <a:xfrm>
            <a:off x="474840" y="2421000"/>
            <a:ext cx="81943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0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1" name="Rectangle 3"/>
          <p:cNvSpPr/>
          <p:nvPr/>
        </p:nvSpPr>
        <p:spPr>
          <a:xfrm>
            <a:off x="1258920" y="30686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COMPORTAMIENTO DEL MERCADO LABO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3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4" name="Rectangle 3"/>
          <p:cNvSpPr/>
          <p:nvPr/>
        </p:nvSpPr>
        <p:spPr>
          <a:xfrm>
            <a:off x="1403280" y="295596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RAMA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Octubre – diciembre 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2T15:55:17Z</dcterms:created>
  <dc:creator>lcastanedap</dc:creator>
  <dc:description/>
  <dc:language>en-US</dc:language>
  <cp:lastModifiedBy>Arles Daniel Mayor Pachon</cp:lastModifiedBy>
  <cp:lastPrinted>2016-06-28T14:32:29Z</cp:lastPrinted>
  <dcterms:modified xsi:type="dcterms:W3CDTF">2017-02-08T15:14:54Z</dcterms:modified>
  <cp:revision>270</cp:revision>
  <dc:subject/>
  <dc:title>Diapositiva 1</dc:title>
</cp:coreProperties>
</file>