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F1C9-213E-4344-BF92-03AB3ADEC4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E323-8AE5-40A9-8DB4-6E977A1251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BE9-37E3-4638-88DA-41975E5BA4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12F8-3660-4C51-9B6E-01211BC16A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6161-6196-4B52-83AB-3CB8FEAE64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9FBD-E7BC-4F89-8A28-1E6C5D668F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450C-D9AB-4510-99FA-6F4F38CAD9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CBC5-88C5-434B-B187-E5A9D9C4B8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83D6-08F1-424C-B8FB-9C1D5598E3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78C-E7F9-4663-B0F9-8456A23EB6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FCA1-1342-4708-8F0B-01D12EFF4BC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C22C-BF26-4ED1-AB84-F5671A27EA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F81-7F1A-443B-8509-A5CFDF3D1D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18940-7AE2-4A18-8652-0D2F0B319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B0FEC-CDAC-4796-849F-52769232801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43E65-B412-409B-99B4-285D391E7F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AB97F-933C-41B2-B108-420E3489F53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591DE-068A-4674-8C82-86A2AD4561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D074C-02F5-45CF-9763-5CABCC8A4A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118B9A-C6F6-47F7-A1B5-1DC9B5FFA1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4F4BE-B0D5-4749-B89F-482F7D81738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FD2C5-32B0-4EE1-91C1-15A8D00832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6572EB-D84D-401F-B362-3962CFE169C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69509-11B0-4882-886E-48066A49F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B5830-604A-4390-A6A4-17AE4D25B67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585A4-A149-4DFD-AF2D-3BC2362323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1698D-A885-443E-B27A-CBAB9DEA2E6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81167-6DA5-4DE2-B474-DD00FF82F87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41DCD-248E-4422-B541-D62AFF52EE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FC5B1-E26B-4F46-A762-1ED4994F59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26D80-42C8-448E-BDE7-94D8EBE75C0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6E9FB-D7D9-4FA2-B3AA-4AB03684134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2E5BE-2678-4C83-99AB-6AC9867E2C1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E6ACF-1BC2-444F-B567-FC919CED6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100-D8FA-4323-8A0A-2BAE6D2E870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63CA7-05F3-4136-98F4-BBF2539C23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79EB7-35F9-4AEF-BDA8-D86EF17BFF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F39C5-71DC-403A-908D-60EBD7C1E8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F50D-5DFA-4F9E-ABF4-36FAFF42874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F4F3-13EC-4AE7-863E-38E3D83960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FF00-9A1B-4EE8-9877-1D1FEE36E71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B7B0-72D7-4B39-8A9B-E980BBAD1B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44E6-576C-4660-B7B7-4CEC477B1B6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A198-1C34-4173-968A-356812A8D82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BE56-1EEC-4EE5-8E9F-FEDD8C341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C63C-2BC4-4B87-A0D9-1CD36FE629D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072A-F887-4228-BE18-20A26738BBF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E43EB-2B1C-459A-B1E3-7185D04878A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8825-DCCC-4074-B9FC-2BE15B1062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E5A6-6C0F-41AE-BADB-61A0BF05A64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D41A-1761-412E-8575-A868B0DEF4D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4A5DE-7F8F-42BA-BDE1-0136F10EAC3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2DFB7-E172-4649-8190-68F6980FCB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E37CB-523E-4633-A5FE-948EAF6E8C4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F6A19-2026-4D1C-8B3D-9B225DD6AA9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42DCB-974E-4D67-94D5-EF46D11902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36DE-7E81-4204-B878-2A2DF13F335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DB085-68BF-43EB-8490-41C35445FB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15D08-0857-4552-A1B8-24DF724CF2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37C90-249E-4BBF-BA04-B6D2AD003FB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289C7-3C6F-4A8F-8EA1-77090CD911B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FBCE8-AA37-405F-9523-2F047ECD0E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21A3A-B5B8-46E8-9FFB-84F38D7AFD4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841BC-2F25-4A84-B23A-7405A76F87E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885DD-3AAA-4AE9-BEFD-E4CD72CADCB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70534-5B6B-42A9-97C7-7DA8712B9AA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7F7B0-EBED-4069-9FA7-FBAFFA7916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148F-D5BE-486B-82E4-16245FFB49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8669D-7E83-4071-8A5B-EB46CF04B37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189AB-C075-4E32-A0D5-55A4C26A81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D926B-CE42-4698-A643-F11CA2C418F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4C8D0-6593-4222-8913-6F395F9FE7D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643B9-72DB-49C0-A2FC-F5AD4E20490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ADB88-9173-4252-8CF0-57BE181FD1E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60CDB-7976-40AB-9567-F4DE29DA066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0E0A5-9B3E-48A7-A434-2A85FB94C23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84E71-B5B8-489D-8F77-B77F6D8DE55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3F0A-32B9-4FCA-BCE7-9CE22A9663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F7F1-4850-4B6E-910B-0FE027655BD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9B506-258F-4EE7-A52C-38BBDBA7266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37FA-66BD-438F-AB5A-AC5E1867BD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CB57-59AB-46F5-B1C2-F69F57E6B1F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A072-CF2D-4721-9E78-F7FAD6C6FC9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C181-6DC7-43C4-AA33-247C86F7E19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1B22-8C87-4084-B380-2612FD734B7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BF70-08F1-4C45-B4EF-3FC3A1EA78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A945-A50E-4B22-A270-7C1FDEA5394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14EF-0249-409F-8887-2F4CB42BCAC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E702-0132-4503-9B7D-8784A705E5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D56D-8948-44AA-8FF7-A348D1971A6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70F8-AB82-4D12-80A5-E209D793EB8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E8D42-AE8F-4CE9-A2B2-7B15C7D4D93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C03E8-E254-4C4D-9886-1A0BC5362F6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5A1B94-FE76-41B3-88E7-1F888AADC1A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95C8C-37EB-4F36-9B75-8EBF34756F3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E7F4F-32F5-4E24-82ED-A8F174DF103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7EE51-475A-4F06-A307-15B70799132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5C333A-2B7A-43F4-940C-92A120099F1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1051D0-2144-4E3A-B557-5888B8127D4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AA5C5-9E5C-47AA-B62B-683D9397E5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8AE6-6D75-47F9-91A7-37276D7882E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383E24-5B8D-4ED3-961A-65F1541A261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9BA85-721E-473E-BF37-D28379234EA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51ABE-79ED-493F-909E-E3B82158D6E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AFCBB-BF39-4078-A9DA-6419EABFAD4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24DCC-AD0C-4A6F-A20B-82218BAB26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3BFA7-F4F6-4F92-BC2E-03AEC49E1A8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4EA55-0B66-4C27-9035-3791F7EEB04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7D705-D06A-49B4-A9A3-E2F086A75E1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6C40A-E57A-4596-93AF-1039C151C2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EF1CC-71CB-406F-A279-7F7E683C3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61D6-F5E9-4C3F-9956-1CA567A848C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5C47D-2951-437A-8DE7-D75A46EAA5D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5FE1F-C71C-4F27-8A29-76EF363FC5C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B3690-24EE-4EAA-BC51-9CE9B330ED9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99C31-977B-4997-91DF-144CC559775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7DA37-A29F-48E4-8063-0016D09CCCB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ED5C6-9402-46D4-9AED-427AB2E0A66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5C2A-F4C6-4D10-A967-95040FB0F32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0D2D-BC59-4312-857E-3D6C5A097E4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80CB9-AAF5-4A8F-A645-46715DB4E36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C4F9-371B-4053-9E59-F01F97B52B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712B-45EF-44AA-8248-FAA7B6D1AA7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DE2B9-F242-4CC7-A4C4-70C3796D8B2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7B18-5DE9-4E94-927B-BFEE55A30ED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47A0C-7B80-4522-BF9B-9A1B932F2E0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B321-80C0-4244-944A-A365F0D2103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F9EB-CCAE-404E-9ECC-31FA41CAB28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30D0-7F76-4E24-A9D5-192620B9426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98F2-E03C-4923-BBCA-8EDE45BA0DD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A7050E-F56F-4A08-8D2F-77FD6705BD8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4CCC0-7414-4163-8878-0D722D4065D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9F210-2FCC-4C50-99A3-CDCC28611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3A52-22CC-4FDA-B1F6-982D254A414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64477-91AA-44ED-8FA1-2B787FCB8BB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1F569B-7C4B-4EAB-94D8-07958AA2812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ABDF7-4155-496C-8BA1-F9A2467F5F3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FED6C-4B57-4CE9-BA67-1A73272CAEE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78B0B-FC56-45C9-A3DB-B5CE01E05EF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87F672-7892-4872-B69D-8A6B01D1650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2C38F6-F052-4510-ABD7-F4666B641EF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79E97-F6C5-4BE4-BC4D-F9943A8B6E4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21DDC7-E7EB-4C2C-BB08-547DDAEA6A6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DD287-5CB7-4D6A-8C9F-09E7FA192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524F-E96B-4490-9E7B-AB4173C1A5E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8FDE0-5145-40E7-BD39-9589120C2A3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54113-A1D8-4FA9-949B-8782D12A315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F385D-E4E1-4D6C-93C0-1CACCE13853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43BBB-5998-4511-B99E-7A4EBFE591F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D4CA1-0308-4A72-AC67-47172CCBF5F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B2DAA-0E5F-4F10-8D47-FD52271BBBC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8AB04-8D71-46B8-B1AF-B04FFDB0D16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98F16-44FE-4EF1-BB3C-A50AB935F0C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91323-E3B5-4740-9810-A7DED146DC3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D3408-DAE4-4A07-935E-8FA2D722F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EAF2-B25A-4934-AF82-D84E06F3897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1EC2F-F6D9-4688-9BC0-37A445AF2CC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CFF2E-0ED6-433D-9C53-CABBFC08EE1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1DA5-38CB-440C-8F45-B0934C3E515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385B4-823F-4EB2-AD4A-2AF624F3D6B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F3926-05FA-4C56-8D1D-6716F6F3E75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F094-DB94-4A4E-BD59-453F244B9EE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117B-978D-447B-860A-0158E51F086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CE21-D245-45CA-95EF-8160F40CDA9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0F905-7F9D-41AC-8282-53042956598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EB94-7E27-42C4-962F-4E7B43FED0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E93A8-61F9-4F4E-A90A-7C7C1A7DA4C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F52C-D345-4ED5-87A3-9A017182886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C1703-4272-4888-895E-C26B0F8ECD2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201F99-D913-493C-BB72-35BF6506327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2F030A-DDDA-46BD-8DB3-9180D10669D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42CB2E-AF33-4361-8F8D-14A62A2A9D6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15EF4-9970-45A7-9D64-3A564518F45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0DE227-FFBC-473C-9D97-5F6A6479B1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36E874-DDB3-45C5-9CCB-CCAE41CCB4B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EC67C7-24CB-4252-A085-3523A83E45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BCE25D-9D4E-4880-97CC-4144C167D51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5695C-F6E3-458C-A1E6-D02884C453E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F5AA7E-8378-4EBC-B7C5-121CDD8756A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3F21DB-25C0-4162-A8A6-51DD536DFD5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1C9B94-EC51-4C7E-B771-94E6A59C6FF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B5899-5997-4BEC-848F-1073B6C9221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8EE21-5466-4341-BA56-647CF11E40D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9D300-B788-424E-B18D-C6F5807AC4E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BCCD6-0DE7-4668-89CA-3CF0C432259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F192B-AB8E-4B01-984D-81B840F1D6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899C0-EA1B-4836-B798-0AC6ECF22CD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EF4CE-BC60-4486-BE26-C99F8414892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251C3-7C3F-4564-BFC3-2056277A88C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A418C-8EEF-4833-8F32-48144AF0C07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2A9F3-77E4-44D3-951A-D63DE3D19DF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298EE-8600-4009-917E-15EF6282B19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F5E69-2C84-475D-8ED4-6DA54299711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E8BB6-8A5F-43FD-93FB-99863C545A1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89E8-A306-446B-A13A-4D263CA323A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2526A-DBE1-4E30-AF9B-D27F773658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9762-ABA0-4D4D-A49A-17161B06F3E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43792-39DB-4DE3-BFB1-C09103A2D73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A82B-D028-4DBE-A4BD-086EB6C413F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4B0A-B82A-4BF2-95B5-6B0013B21B4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AC6F8-F232-4EDE-9FF5-2B2FE79043B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04174-8973-4CB5-812A-2FCEDE9EFCC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5E474-3511-4F53-8D42-5ECD4B5F6AB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98ECC-7B8B-4B50-9694-5837ADABBF0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3738-D83D-498F-89F9-D6CCBCCF653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EB256F-55CE-413E-B905-4F078AADBE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2C9453-AC8F-44AB-9BE8-BF2AC00019A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898E19-EED9-4378-8318-CC263C2455D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904B04-3C5C-46E0-8ACF-57578329580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B4233F-8D80-4345-88CD-BDC7943E1F7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0EAE94-3189-420A-B7BF-C755DBB8E93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FF94F-2D74-4320-821F-5706412FB8D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84758B-EA3A-413C-8BE1-E058C95D851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E282DD-2605-430B-B8ED-CDD4D0E9FF7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382271-6696-4E17-B83B-2E4C655BD16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B3480-13C8-4ACB-8447-84D9F0462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83CC7A-B01E-476F-8875-6DC1A27F66E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6D303-B625-4F04-A5A7-9E4DB1712C4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369A87-08E8-4129-ACA0-63AF9F252DD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223E09-3A8B-4CCC-A42A-BCB8D626AB2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7FEB98-856F-4DE4-BF33-EA92ADEA098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3D209-D9F0-45C8-9E81-FEBD5408B52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F3BE1-95A0-44AB-8ADE-4FAED02E22E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98104-D5D0-4C0F-A1E6-02A5F027336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47557-CA51-4936-9CCF-2C14CB6C343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E94C0-72C9-44A0-A954-EEAAAFFAE6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8E1DC2-5AB8-4E62-A1C6-97E4E380012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343703-6E7D-475F-9AC0-70F085598BB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C2FE0-260D-4DD2-B98C-4EC03C52D07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F9200-8A4F-472A-B3CB-E0F0AFB5577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AAC97-0829-48F7-85C1-6C88638117A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6FDF5-83C7-4E48-B51B-D94FBCBCC57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0654C-28D0-4B4C-B182-7FBC58A8FD0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76AA4-469A-41B8-8B49-BBCC2663991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6E61-7BEC-4A8B-9D24-E30BF914D12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3EE41-90C7-4446-B12C-FFAD6DDCFD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870EE-D08E-423E-85FC-E784AD84664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CA0D5-A04C-4389-8471-98C7E8FA17F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A088-2779-461D-806E-E92CE749D84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AA902-5D60-403B-8302-4D953022658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D8F6A-E157-4786-93AA-3C151102B99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E12B-4418-4152-AD8A-08CAEC4463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4C84-DFDC-4D2B-A598-76D33BAB5F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A412-0054-490C-8436-39F45AA52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F2D5-FD23-480E-B861-2C8CEBA783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83EB-5D4E-411D-8A78-BC4087DF23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2EE8-6602-4277-BB8C-BF748EED09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31CA-6065-407E-95DB-0617F116EE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0738-D7D2-4052-9232-851424BD18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A8D5-B5FB-4E3D-95CE-763A7ED8CA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EB85-2103-4C4E-9A59-1F554F2B41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EFC4-89FE-442A-9093-2F1EB9A83F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AE98-41E5-440B-834B-38F726AD121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EF3-F7A4-4D5F-8EF5-3475D4E5BC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348-7A66-47F1-B258-33AA2DD2D1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C7C-7C9D-4BC7-A539-C6774256C3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2EE-00B4-4A0F-9089-507771DF2A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ACA-6971-4A6D-9808-1B32D33C50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8C9-1AD7-4AC8-831F-1EAC6D3E85A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AAB-D89C-44D2-A4B7-89D6C9584C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4B2-73FC-479C-B086-384416711D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EAB-2849-4725-86EB-222EEA130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4F1-F2B9-4B4B-9618-43A29EF14B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F01-6C5D-48B1-B2D5-356ED8CCFE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751-8F36-4EAE-9843-5788775405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795B0-2836-4FB5-9276-71A386EC0A8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ECCA3-79CC-48B6-B3C2-397C4E2A47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BE151-1152-4B83-8D47-E761E8C754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FD5D9-3C70-4FA2-8F10-39C20C170B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8E455-C926-4111-AD66-6A5DA5630B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5037E-6440-4716-84B2-5F019514EB8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B103E-5CCC-4DED-B186-47079BD3C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EC1DA-3E6E-4209-96E8-74F55C8BF5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153FB-2A22-49FC-98F1-3D83B7F079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A4F98-A66D-4194-A0AB-A21730ECB2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5E2D7-8252-43AD-8D69-FD8C9B418D0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DEDC9-995F-461F-B0BB-4DB3C42129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CE92-ACCC-4B6F-818A-BF2176705E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1605-792C-415F-9109-1431E71F3F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CDE7E-AA47-48C4-86D5-F3B9F6D5AC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0D93F-48EC-4CB7-8267-C3D7DB3B2E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1EB3F-6D3D-4746-BB8A-4636DBEFE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B523C-17CF-423B-8D19-9154380004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1485F-CB8A-412D-ABC0-0BDCD3B356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06416-2F3B-4F07-BFEE-88A2B78581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F7B41-8D70-4FCC-9564-9128844644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F2834-7A88-476C-89CF-F580324BC6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B4FB0-18A0-4A0C-8EA1-FCFA3B4A87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BC20D-5DFD-4B33-9319-3B4909D31B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61B2-FF6A-4E3A-8A8D-B4E2EA6D31C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8074-BFBA-484D-BAF9-F93B1F6F8D7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8271-1D98-4866-A584-B80FFB748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F9F3-3D81-4993-9A61-1C0C2B88379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A0D0-9DB6-44C0-84D3-BB1AD621B92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F8CD-E231-40C1-9F29-C6F7758FCAE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5926-761E-4FB5-BBB4-41968B4B231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84C-0EA7-4575-BE83-750C184D2B6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8181-AE55-402F-A0FE-8913DAFBFAD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F0F9-644A-4E17-BB53-95A152DD96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257-59AE-4763-AA07-8F54C9FCF0D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22D8-E3BD-4A98-B1FC-82388D5BDA8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65BF-5005-4F73-92B1-9F0CB2CED76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DAB-DAD0-4FB8-ACA5-0B88BDB5D6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BFD-4109-4142-BABE-57043A2D0B0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F09D-850C-435E-B339-5298EFBF560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D68-BAA3-4915-97E7-32DC990DDA7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89E4-6E84-430F-95E2-63920718F3A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89A-DAEC-4208-97AE-849159AB899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48E-028F-4FD1-A764-EBC45A17B44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73B-E90E-4624-87BA-689B7E4EFB4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2B3B-5DCB-410E-8449-9EF8544A865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126-A681-486C-BE4B-E97F00919EB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D594-AE47-4E97-83A8-6C92197E661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09CB-8AA2-4F53-87CC-D94C5D2B630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86EF-4E25-440D-916F-F5096D068FD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C95-9ECA-44E3-86B9-2CF62BB9DF6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Pa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febr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3"/>
          <p:cNvSpPr/>
          <p:nvPr/>
        </p:nvSpPr>
        <p:spPr>
          <a:xfrm>
            <a:off x="124452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898560" y="1557360"/>
            <a:ext cx="7569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728720" y="5554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060560" y="1706400"/>
            <a:ext cx="713412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312920" y="55728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1 Imagen" descr=""/>
          <p:cNvPicPr/>
          <p:nvPr/>
        </p:nvPicPr>
        <p:blipFill>
          <a:blip r:embed="rId1"/>
          <a:stretch/>
        </p:blipFill>
        <p:spPr>
          <a:xfrm>
            <a:off x="952560" y="1778040"/>
            <a:ext cx="7734240" cy="330048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34920" y="5589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87400" y="51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1293840" y="1773360"/>
            <a:ext cx="7004160" cy="3305160"/>
          </a:xfrm>
          <a:prstGeom prst="rect">
            <a:avLst/>
          </a:prstGeom>
          <a:ln w="0">
            <a:noFill/>
          </a:ln>
        </p:spPr>
      </p:pic>
      <p:sp>
        <p:nvSpPr>
          <p:cNvPr id="1311" name="Text Box 4"/>
          <p:cNvSpPr/>
          <p:nvPr/>
        </p:nvSpPr>
        <p:spPr>
          <a:xfrm>
            <a:off x="71280" y="56610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7113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6919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4"/>
          <p:cNvSpPr/>
          <p:nvPr/>
        </p:nvSpPr>
        <p:spPr>
          <a:xfrm>
            <a:off x="444600" y="5354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5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133640" y="620640"/>
            <a:ext cx="687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octubre – diciembre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935000" y="2063880"/>
            <a:ext cx="5305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7058160" cy="1800360"/>
          </a:xfrm>
          <a:prstGeom prst="rect">
            <a:avLst/>
          </a:prstGeom>
          <a:ln w="0">
            <a:noFill/>
          </a:ln>
        </p:spPr>
      </p:pic>
      <p:pic>
        <p:nvPicPr>
          <p:cNvPr id="1327" name="2 Imagen" descr=""/>
          <p:cNvPicPr/>
          <p:nvPr/>
        </p:nvPicPr>
        <p:blipFill>
          <a:blip r:embed="rId2"/>
          <a:stretch/>
        </p:blipFill>
        <p:spPr>
          <a:xfrm>
            <a:off x="1071720" y="1484280"/>
            <a:ext cx="7041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Nar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039680" y="1700280"/>
            <a:ext cx="7124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617400" y="4560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86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1 Imagen" descr=""/>
          <p:cNvPicPr/>
          <p:nvPr/>
        </p:nvPicPr>
        <p:blipFill>
          <a:blip r:embed="rId1"/>
          <a:stretch/>
        </p:blipFill>
        <p:spPr>
          <a:xfrm>
            <a:off x="2863800" y="366840"/>
            <a:ext cx="6010200" cy="574488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79280" y="235728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3 Rectángulo"/>
          <p:cNvSpPr/>
          <p:nvPr/>
        </p:nvSpPr>
        <p:spPr>
          <a:xfrm>
            <a:off x="2843280" y="4570560"/>
            <a:ext cx="5905440" cy="1648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28840" y="71136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500040" y="2092320"/>
            <a:ext cx="8075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549360"/>
            <a:ext cx="71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2-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21398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1457280" y="1782720"/>
            <a:ext cx="6210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552600" y="2492280"/>
            <a:ext cx="8224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enny Carolina Hernandez</cp:lastModifiedBy>
  <cp:lastPrinted>2017-02-14T19:36:56Z</cp:lastPrinted>
  <dcterms:modified xsi:type="dcterms:W3CDTF">2017-02-14T21:11:51Z</dcterms:modified>
  <cp:revision>1036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