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9F8-3694-41CA-80D5-0BC4C56E28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CF9-109E-4C72-BC82-3F759361AF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B9C-668F-4F6A-9586-54E2E649DA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7C7-AB09-4861-9B6F-CCD74BB5BC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C21-CCDF-44ED-9325-636A9017C1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285D-B0E7-4A42-B2D0-4156B21C0F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103-82F5-48C8-B5AB-00A8452EE81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51A8-9926-4901-AC0F-8D64AC3F31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FA28-CD49-49FB-90C8-5DDCFEA323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433-BAA9-4F7C-AD9E-3D46438989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C114-0724-456A-93DF-117D62EEF6B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B39-C67D-4803-B033-5457C695CC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642-1393-444B-BFF9-1EA198B341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43F1-6DA5-454A-8777-370108AC63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8368-F015-46F7-8EA0-5AB72C008F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91220-8A9A-445C-9D00-E66DA4152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A540F-764C-42C4-B152-C9726F5F42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3DB36-970E-4049-995B-19BDA43349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CE7D3-F7DE-4F62-A560-13596C5180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E3EDB-B917-4F22-8B4A-5A1B1B1389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29049-315A-417F-9678-411D2124144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C09A5-DCFA-4C3B-9F18-D6740511F4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2CE01-92E4-4DA8-A2FB-446335FDC2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4A234-D7FA-4CC9-B766-328E2D70E1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97927-6082-461F-9E28-70C3D9A0F4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BA00C-8680-4E17-BD4F-3EF06ADA2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1E80B-940C-4D9B-AAC1-87F9AA0B26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EFB17-1D62-4C38-820D-C9BA4408DFA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0926C-107A-4E15-951E-EAD48A224D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49D0D-B922-44AA-8DE1-36C533CE8F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25BE3-50B2-4C88-A8B6-FD92623221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00D6B-B583-4BF4-AB14-4FAA237D46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1E24B-57C6-430A-91BA-0C57A07177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E4F39-523D-4EBE-8A58-66211670BA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F97BE-0C02-462E-953A-77A3DE1310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9A3FC-572C-4F8D-8D6E-6BB899475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CB9F-138F-4119-9F70-A3F29CA157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95E8E-EDD4-4D69-8A17-D85FDCA2C8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D449D-253D-46E1-A36C-D02501AA77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F8049-1772-4776-8B22-C9E9A1E512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8E1D-A684-4546-952B-408A46DF7F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B316-EB06-4B3A-A76C-2A908338C9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3F1B-808E-455A-95D6-B0D9F310D4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B016-BDCC-409F-91D3-2D46C78A99A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D09D-0363-4386-826F-D857BBBEB7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BF2A-27A4-450A-84CB-A8D9F40F56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2323-C2EF-4EE3-9B84-C652203346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ED6E-26E8-4585-A318-5847EC0011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A76C-C1E8-4CF0-BF06-0D2EEA89C8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9F9A-822C-4EE7-80C9-7C56CFF468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CC2A-A591-4DDB-A5BC-6953AA097A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CE3B-1039-4D09-9FB5-B060FAB900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11EC-10F3-4A82-A0B0-C527CE07EF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8C2D0-EFDF-48CC-BFAA-093FE06EF2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F28AE-23DA-459C-9B39-0ADD64DE648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666AF-5D17-4BBF-A883-6AA62EC115A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5DD0F-D80E-4F41-97F8-DB7037F871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D1A93-C3E4-4DA6-A046-812A6C61C9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9439-16E1-4593-A67F-7A07BD742CA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79396-3BD6-42C5-81BB-247114F895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F01E1-C0BE-4013-A86B-0595E7C639B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3EFAD-7BCD-4FA8-B894-BC4D4686743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55C40-CB56-4743-B404-3C089CED29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86697-6C07-4722-80C2-B5E30409CB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F1F96-CB38-4DFC-9E8E-60D1DD36E9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4ACA3-235F-4218-ABA0-44B72617DBB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726A0-D6E8-41E6-8485-328FF3A877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E4ED7-949B-4BE4-ACB8-B6207008B3A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4170F-CA78-4E77-8D45-8C0D936633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584B-3951-4289-BB4B-8650A809009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24553-97E6-4078-BDAD-96CECB41F4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CD640-27F2-4876-BF0A-B62394E8F1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E9689-3ECA-4CF1-B624-C075A2BBF5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DC3D5-DC68-4286-B321-2626EF20968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D41C0-537E-45F9-ABB0-ED5A6A841E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9E3EA-ED21-40B2-9862-C9D7D00C709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E2E09-89A5-467F-A489-186696E25E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6F41A-2234-43DE-AFF0-300DC927BD5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0E7E0-5B8D-4C6F-8026-55B0ECFB030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C5C8-7D5E-4460-897B-AD5227DC0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7568-7077-44B9-B9BD-CEA05AB9BB6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5BE5-AA8E-4B23-839B-DA89480B6F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84B6-A7E3-4609-8BCD-91137279E2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47BF-A9CA-4CD7-B4D9-70158A2CD2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51FCF-3D05-49EA-AAD4-1683EA23A1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F82F-16EE-42A9-8272-23CC6BE1BD0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3593-3BFA-43C4-B7AF-D8C1471A76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2AF1-C20A-4C99-B7D1-1BCF605075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A484B-82C8-48E2-9BD9-D334ABEAC77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3E54-400E-4AEB-BE1E-D80CD9251D2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A25B-02CE-4C46-8592-D64E501C4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8C1C-9F8E-4C81-972C-A6CBA5DE68A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9319-4A2F-47A1-8FD1-09D18442A0A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C1F8E-5860-42EC-8441-8533D4D2BD4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AEC4C-BF17-4608-BD74-CD7C5460AA5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65367-72A2-4504-93A9-3CF7678D110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30FFF-B723-4E2C-8FC4-E2223D7C333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7C0C0-E6A5-4975-B8D0-7A0DA7090B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6483B-8CD5-4B21-8CE0-6A6F3F294A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BD63E-BA67-4F9F-9B9A-7AAA3B26F55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2A53E-8F45-4E9B-BC03-8B6BC005A0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ECB86-6C94-4090-A1AC-46EB07A7C9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D13A-68E6-4785-A51E-410DF65346B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BABB65-C8E5-433A-B22D-8C13CA7947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48D34-E51C-438C-B590-C34E224AE1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986FF-8602-4E86-8B65-43613652EF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2D4FD-5EFF-4297-95EC-B9BAB94F71F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AFCBE-D5C1-41BA-B6AA-EA45A15DE1D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032CD-03D8-429A-95A5-359A9AF5006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27BBE-0616-44D1-B86C-27C08313447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E3D6A-A726-4291-870C-F0E56B2063F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CA07C-A1DD-4073-B330-3D8A224FADD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2D691-3F20-446A-A287-275FB0E87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B36-232F-47F1-A0A8-8CF5D3EC82D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085F2-50A6-4786-990E-21DB93EDB6F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C3798-B139-46E0-A692-7A88A3E5CB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D76F4-1A9B-4116-84A7-83A05E1BACF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C8119-9BEF-4936-AEBD-A82CD6FD77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1A378-C661-4CB7-87D5-847CBE6F1E9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2F76-5702-44EE-9C56-A6C892FD50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1878-E317-4FD0-B9C5-082C730C92D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AEEB-3CD1-47D5-BC26-D4F47DE3A71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55C0-97FD-4671-ADDE-57E52C043F8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433B-7102-4F66-BA34-9963AEAB1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F7A8-397A-40C3-A74B-5EC4092D1BC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B03D-D6AB-4176-BC57-E2FEBCA0969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4DC9-11D0-4789-B5A9-E16A4E51E36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6B494-625D-43F4-BAF5-8715D55021B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B8BA-9604-454C-9458-20E294DF161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B1BC-E470-48E2-87F0-A2A75C24591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652B-F70E-400A-8909-16DA7A42FEE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6DDE7-3403-4696-AC3B-F24C8D05762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E8EF8-094B-494E-B4E0-972E0C278A6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1EDD14-FDEB-48D2-8C09-DC55A91C7EB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70F71-EB15-4CEF-965D-73E7B960DD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A711-873E-47CC-AC8A-8A594534EF8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02CB3-1A3F-41DF-9644-5B22792CBF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0F579-777F-4BF0-803B-E8A7DA3E6D4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66F82-C935-41EC-99B8-461EB868654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4626B-BA71-46BF-8478-5E64F433C55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B5AA8-80FE-4830-9F88-F2A86CAF200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1D5EF-6AC6-43A9-8B48-B39CC33AB6D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D87CB-F8E3-49E0-AAF1-6C3EBCA444D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EAEF38-C062-45D4-A4A7-A7278D315B7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C7C34-1E78-4BCD-B83E-F94E26B3343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6B78E-4AE6-403F-90D0-3B07DE5C5F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6981-477B-45E8-9A5F-1F3725DF283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6AACE-730F-4D34-9EDD-47FC65C45B3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81AAC-3C98-47D2-BCBE-EEC6198A48E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F06C1-EB01-4DB8-A1A3-D6286B86B17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3F561-E239-421A-86FD-ABF26567AAE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04309-75EE-47A0-95A0-6542DE2580C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80DBE-8A2D-4F0A-B1FF-60E7A8932E4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E295B-3514-4338-92CF-DFB7FC8886B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E228E-2BF6-4206-B4C2-3D3F2F58925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64F5C-C5ED-4B92-99AB-D885DDB5EB3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12393-6FCC-482A-9A51-308747741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CBA4-0D95-4BF5-B391-19035B3E67E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FEAC3-CD1D-4198-A13C-8BF2817B9D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122B-F45C-464F-90D0-E5922D3736E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3E74-B84F-4DFE-B2F8-9C89E2D9C9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A0D8-6FD1-4419-91F5-10E551FB686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2A8D-8D8D-4E43-8ACB-CB03B69A37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8CA6-AB69-4349-8951-6786122396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9040-A7DF-498A-8847-30676B3D664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A54F-CD16-47A3-8D04-F48C767A60B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228B-0609-4FCA-AC66-DF42C7C1A31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C88D-AFBA-4E18-9B3A-BA8FBD75F2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E22CC-C479-4D58-91DF-57CC1D1C82D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E49E-67BE-455B-A392-533CBE03382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2FE69-8638-4C72-B751-37417700787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71051-A593-428A-B01E-FFF654A909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5CD386-B1F1-4A0E-8154-B8022FD4A22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1E8FF1-BF48-46C8-BB7C-36C092EBC4C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89923-CDCA-40C5-B18A-3FDCEB2B6A0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786BE3-7368-410F-9614-7180D2B9F42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CF7D6-B12D-4ECE-BD7A-23A0A02B5BE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B2A1B-0332-4C45-AEBC-2D480A5055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E8E1CB-4137-4128-96DC-A58E86922F6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7C3EC-F42A-4940-9BED-9AFA6B0955B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427AE4-8A62-4C03-8980-AEED7397CDA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8191CD-465C-46DA-A2B4-4F22D6A3F78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46EE7-4F43-4AF6-943E-1F125E46A49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58BEE-2C0F-4086-81D6-5F53490B890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555D0-BEAF-424B-B4E6-BA71B0B2964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D9B0C-6AD5-47FA-B534-F6E4116C5C6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FB434-1CE8-4DDE-A3A8-FD05C639E29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BBC69-84BF-4E1C-BCE8-64A55C1621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290FC-78A8-4C8D-B28E-09369F09F1D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E6882-B67B-421B-A37C-4D1D1A34F91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F309B-BBF6-45E6-BF93-BB9E8E2E6D2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9822D-6BA1-4E1D-8107-A1D2C7849EC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4FEBE-9C3F-41B2-8E0D-A4BCC1BC384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8D976-326B-4BB4-9DF9-863AE592F7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9A3D2-8C4C-4780-87FD-F7D7CC6D7F6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3BA9-9F2B-4D6A-BC57-10AE004A143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546C-DB39-4A40-BD34-11933AA4192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3F04-9545-4A5B-8926-F00C700626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FA289-57C7-4DB6-A491-7B373A1DC9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83A1B-1FD1-43BC-8558-A01E48FD5D1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D6FF-D9D4-43A7-9570-C1A29C33E9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C8D6-B0E8-45AE-BFD2-6D440C4F7E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B242-4590-479B-AE67-5B04C3131E2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42EB-27CB-4C3B-8ECD-9056B260BA0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2251-C8BB-4115-BF60-19D6D2603F3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952B1-3F78-420F-A0E8-892C8F0D7A2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36EE-F77E-4D9D-94F7-8F1575F135D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7F9F8-76CF-4ECB-9BB6-33AB98D9F1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2EE311-12F1-42EC-97FE-0B8584AB16E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7194E6-B831-4208-865F-B9F49853218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BE7FB-F7F9-40E8-954F-1FAF72BBBDD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2FB9B-21B3-4AB7-91C2-3C66D89784D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8FFE1-87DA-4D62-BC02-4716368494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BC45AA-5CB2-4059-938F-2C10C34FEAC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A236E8-23A7-4DEB-BA4B-FF64BE83DE2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D4C571-50C2-49A8-AA37-95AA56199C6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3AD32A-EB2F-4A95-95EE-8C4B78E670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52DDE-1707-420A-B34D-4CD32BE0D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A259E-0018-4E6A-B503-829BF656186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41E78-C698-4AD4-9DE4-6D7F3401083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E80F3-8994-48AC-9344-EA1AEB5E35B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5C217-FA1C-4E32-B4CD-64B4CE2F31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B6504B-DCB5-40AE-B3C2-CB72E552A45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5D7E4-E03A-487A-BAF5-1C93623EF9C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73DC7-3EF2-4398-8F02-6A99F9B700A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A0AC6-E57C-4BCA-A963-50FF3C7BD44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75D76A-6AFB-43DE-B8B1-1C7A30027F3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6EA68-344D-4898-8F02-3D69ED9207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2B500-44F1-4AE7-A773-6E7C10105F1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BEADC6-4D12-45D2-AD84-8C58AC14AD8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737E6-EC5D-48DB-9812-994A28B0DA8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FCBD-7F66-4652-9AAF-66E410CE82E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C9A3-D29E-4B16-8742-C0E0AC3FD23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A75B3-8F80-42A8-8549-BC4B65D74B4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3DB4-F7D6-4377-BB03-899CE0EDE05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4421D-5618-4542-91E1-6E656806963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0E599-DF72-4474-96C3-B690E81A081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53CD-74EF-4BEA-8B55-0CF66B97B8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5FA3-15EF-419B-8D18-E70C3312EA0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D12F-4A04-4B17-9B37-420AAC38804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12CD3-95FF-4F76-9C24-2AB102EC831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8950-E089-4175-AA72-BB9F6E7C958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47133-2BCF-4066-95EE-FA4FD0DA917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96AD-87DF-46E7-92A0-07E046CE8A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97B4-6A15-41F2-969D-7A028FFF49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DEB7-A8CA-43B4-ADF1-CE0682DF1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3A9F-5A7C-40C6-8632-14A6D127BB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209C-D0BF-4E46-A450-1BA3F206F0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84CD-BDDA-41C1-9E51-B718FFD03A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1985-DE84-485B-8B94-3C47F53FBC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435A-C783-4497-851D-AFAE8311CA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D2DC-3EB4-4D2B-8878-C497C47334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31DC-9932-42F2-8226-5F0CEAC15A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D8C1-0E70-4C1B-BF81-9B7658ABB6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800F-74A7-46D6-BCBF-9269933561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88A-2D9F-4FCE-BEDB-8D37FBBB60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33E-5810-4939-B3C2-85495DB3A8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3D1-CA8F-4519-8486-8BFE3D3599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FDF-05AA-4E27-A2A2-06B82CBA89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120-0358-41AC-9D67-F34F5CEA1B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954-331C-44A4-9058-12272BAF41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C53-29FC-4932-BE89-B6A964A570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1C2-B75B-44A0-832E-A06C8D50AF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97B-E84C-4DFD-94A1-277EA20C5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639-1FB5-4A02-8C35-2E205857F5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625-1255-4636-BA60-00D0A9800B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4E2-5393-4FE3-9873-9FF14668FE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F77B-AB51-4C97-9972-3070EBBE14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EFB1-F39A-4B8F-8C26-4C37B074FD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98419-E430-42C3-A4D8-C93AEE49B1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36543-4CA4-407A-BFE2-845911D83B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F10B-E9A3-4AE2-9F88-EA4AB3F906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D3CE6-E4B3-44EB-83EC-8F7BC0D102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44D6-452F-49BC-A069-9CD574FAE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F12B4-991D-437A-8FD1-A279959519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F4A73-4F39-43F2-A086-36A28CD471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D2D9-8C1C-4A4A-B853-38CF9E3E0C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8D4ED-BBD2-466C-8002-D1DBEBA064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75AC-BE8D-4C08-B843-7872EFCFC7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A28A-3F00-405F-BB7C-324072D160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266B8-D8F5-4C9F-B331-48F040A7B0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FFD6C-7763-4BD3-972D-CEC509B65C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4C3C-71CE-4C6F-9DF6-C7F21B2151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0D61-C0E7-430F-BDCD-F151184CB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5601-BAEF-49CA-8E1F-6B99A43B06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1D798-4B84-4DD5-91F5-CE6CEDF146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F1DB-328C-4008-A354-A511EF10DD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7D4C1-D385-4A9B-8E0A-8D7909EDB8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C3197-B58E-4F30-9C02-2A3490F6E9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10599-3E3D-4449-93C9-8C6E8408C3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E77C0-6BD0-458B-89F9-1A2ACC54CE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1933-BBD2-42FD-9367-9D36D4CE09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4D5-A97F-4E9C-8306-4CE437D783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BBA-092F-4A4B-8500-1EA640971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B1EE-838E-42CA-BF1D-2519F2CA94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707-14E0-4142-919D-3922C9C5F16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1B6A-0B99-42EE-B9F0-A22D32AD40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CD73-14E7-4FFB-983A-56DE0EEC36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38E-95C4-488D-B277-6B28A56ABD9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021B-538F-4D0E-B480-029AA28972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ECB-3636-48FB-9CF3-C21117BA0F7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FE11-CAA3-4922-A9C3-AF0FAB65AD0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DDB-9903-49E0-8AFC-F388F5B1A78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8BA-19F2-41CB-88FA-99903F7FBA7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4D7-F95D-446B-96B6-203ADED6B57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5E9-BE78-4304-884A-DFB548A3F06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E115-0404-4A15-BD8E-B4588A37041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6267-B0EA-4075-9EA6-FF91EF8FD37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462-7D17-4196-9427-25162855A0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FABD-78AC-480C-94BF-8EC8A43C20A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680-385B-4A7B-8298-80F9A77EBC9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D3DF-A143-40B6-AB2A-15218AB4D8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8FC2-F28D-4E29-843A-4591DE991EE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FFE9-4B39-4F28-AE44-142261BC07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A07D-0A0E-486E-B692-A6765FC1F10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D52-90B4-4916-A78F-2BD9A948244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1A68-50C7-4504-A46D-B30E410D4B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213-6BCB-4A03-802C-E2723EB450D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febre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468360" y="5283360"/>
            <a:ext cx="835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474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1204920" y="5445000"/>
            <a:ext cx="704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20628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6052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76360" y="5229360"/>
            <a:ext cx="66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611280" y="1461960"/>
            <a:ext cx="7896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777760" y="5556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 y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Octubre – diciembre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208160" y="1628640"/>
            <a:ext cx="636120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26580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299240" y="5703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327320" y="1898640"/>
            <a:ext cx="676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34920" y="1989000"/>
            <a:ext cx="7405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81080" y="24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484360" y="3068640"/>
            <a:ext cx="665964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556000" y="192240"/>
            <a:ext cx="658656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743040" y="1859040"/>
            <a:ext cx="7502400" cy="38084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(2007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700280" y="1849320"/>
            <a:ext cx="6210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214720"/>
            <a:ext cx="8640720" cy="203976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Octubre – dic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Octubre – diciembre 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6-07-25T14:19:08Z</cp:lastPrinted>
  <dcterms:modified xsi:type="dcterms:W3CDTF">2017-02-08T15:12:30Z</dcterms:modified>
  <cp:revision>1026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