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1AEF-5D33-420E-B890-EF14A017EE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FA64-116D-4BFB-A600-A0247FCA156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97CA-A968-48B9-9B87-C1A5F0CACE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6CB1-35DE-4E31-9039-95EBD33798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6A12-5AA8-44C0-A300-0350E43AC86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73E7-68F3-4F3B-927B-138419FA78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B7A3-A4DE-44CC-B91E-C1B507221C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B17B-82D2-4F4E-A04E-D81676628B2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BA8C-0491-4C4B-9B5A-ABD1998E2D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CAC-85DE-4621-8474-23EE21C8EF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430B-ACE2-436E-972C-A5B814FC99E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64C5-48F9-4019-80F0-8F76D06A3D9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288E-8936-49C9-90C8-3E3CF730B61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08F440-083E-4C60-9AE1-56D71068D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05424-6518-4813-920E-E9D6086F8BE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18859-A302-4387-B9DF-7C642D1004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D81B2-A572-43E5-BCD6-3879C128A3B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CDDF6F-1AB0-459E-B50A-8EACC9219B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96BA3-6B90-4751-BB2E-44372236139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2FD97-E5D0-4CDC-B3E5-4A24B709EE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1B3A8-AD68-4D1D-BE07-609A4F97638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4E975-D18A-4CA5-8A83-188C2AE429C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A6C9B-7C9A-4C91-B8BE-5749735472F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A070AE-BF65-48AD-9767-54CEDCBF8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D55C1A-F313-43FB-B95E-B8A45798BB0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CABB1-EE24-48EA-B8D7-73BA5033FA5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0C5F0-95AC-4F9A-9CD4-7531199C7A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9642B-CA96-4264-B0B3-B846615B747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BA25A-EECA-4FAC-874F-3D4C3B3C363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3CC14-55DB-4B9E-B31D-9C5A76DB50C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5223F-793A-4096-8406-1CB382CC492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22004-EE3E-4D02-9EA8-2E21BF3549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FA57B-2DC6-4550-B901-F099A3B4DB2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83C21-3B72-4448-9DC2-41890A3DB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BAB4-C25F-474C-8EA5-5DC25E3E73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0CF3C-43F2-4570-87DC-4EF105AC531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02A48-6429-488E-B126-15BD07EA717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7870B-760D-411F-A80F-8CEF96C049D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9B75-EDE2-424D-BAE5-24A24485C07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5568-7FF7-47A5-9545-06D5A9F41F2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4351-4C10-4F09-9F3F-7DEFB25022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4F54-69B7-4C14-B063-9E75EC19B19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C456-67D1-4676-9F52-924AFAB6120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0342-8837-4AAC-A647-78CB462E00A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B505-0B7B-42C0-8BA6-C4009D9DE0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CAC2-8485-4A18-8554-BB6F307A469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E492-F0EF-4E94-B885-05652C30BE2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CF54-3266-4117-8946-80BFE53C304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18DE-C2C6-49D0-BDE3-7AAE575C395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76F2-F072-4060-9ED5-FB60F3F56B9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9CEC-4CA5-45A4-A17E-C99B6250053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F0E0FF-F627-4C0D-A309-975C5F478E2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BBCA6-13CF-463A-951D-2499E71A218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E22D9-2266-42E7-90AF-FA60EC810CB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86FB4F-CF13-46A9-AFB8-6B59E56EA02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879CF-BA0C-47B5-A243-B456AD5CA6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1180-C1FC-42AA-BC98-9DB6FB67C91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8E925-3E00-4A46-BFAF-082120447A7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26D51-A3DA-4462-AA44-A4C2B319582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36928-7E21-4398-B588-3D165074C4F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B5567-69F0-4CAD-8913-729785B4D84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0CC3D-3F57-43BA-8828-10831B7C229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D8280-C177-462F-9AFA-05C246BD848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648BF-E21C-48D9-9034-B330C9EDC72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7EF37-E57E-4941-9604-044D5C3B6E7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653C7-17B6-4C3A-8920-92CC120E1B0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07208-EB8E-4FEF-8436-36C6B8446C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E4C8-12A9-49D3-9853-A3BFBB317E6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C222F-E6D9-421C-BCC2-1DCE01A30D0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87DC9-D080-4AD6-A707-A1E0B40E133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B7249-DB36-4371-8AE3-663FFF281C6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CCA3B-BCBA-4DCA-9619-79B412B6BA8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14094-5BD9-4698-B2B6-3F061A6D432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BD7E6-D219-4C68-955C-3EA834D8664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C098B-FA70-4A27-9A93-AF437C5343B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3915A-DFB5-4BA8-8255-B188A9CD9A9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4075B-1DD6-42EE-8131-182347CBF06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AE276-34CC-4262-B824-8B5EED2DD0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9393-7642-4C3B-8FF3-9CF96A84CD8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CAFA4-20CB-42FC-BA20-2DF0E8B26C8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F321-AE87-468F-A054-D93A437A25D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F5EC3-8BCB-4047-8E42-41C469BE9C2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1B1E-BF15-4385-808B-2414CA62E6D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197F-BC55-424B-B3EE-10ECA56E484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48889-5D6A-43D2-82E7-9635EDD9542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22B9-2BB1-4BE6-A972-11F2A3A29E2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D926-2304-41EA-BD33-F52237EDD3F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6230-89D3-4BA9-838C-EE42627C856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4AE7E-1E43-40CE-A611-BE721976FD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11E7-513D-4012-AB77-AD2D2BD0987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C482-7755-4930-89C6-14D00058774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F17D46-58F6-48F2-883B-F48834244F0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8084AA-74B4-4481-AC49-E7BF6AED21E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C9555A-55E8-4458-A0F4-60B1CEAFAB9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94DF5-3603-4150-8D42-BAE8CEEAFF9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7B3C3D-A309-4A17-968E-81682DA2DA1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EFB78D-ECC7-4512-BCF4-DE3FDCCBF89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D75CCF-8BD9-4329-BB18-C838E86CC5C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FF0A8-C3B0-47C8-924B-324DE3A5E0B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60D5AD-1402-436C-99FC-84BF82CC5C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D339-8B24-4D03-B4B9-C12143A0FC6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8C68D1-BD2E-4392-8B3B-CB8E791695B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7589F7-63A9-4E53-B616-1EEC8026E84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E674E5-6DF7-4DDF-97FB-B9019E43D27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F2271-A634-4E42-8A92-3C5E6D52AA8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31C1A-F26C-43C2-9DFE-072AFAE16BA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A0652-2BE1-4163-A457-AC6D03B642E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7B7D5-5E99-49CB-A623-1FBCCB79CC4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B96CB-8EF1-42B2-8C92-83BF2B0AB5E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78D36-090D-4528-8E57-05CD93CF6F8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C2C02-6CB9-417B-BBBA-941E2DCC55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3DE1-02AE-4DBA-9584-953C09129A9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43A4F-E171-45FE-AA10-9EB630F1F29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B332F-A361-4D8A-8E5F-CF24165DFDF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F56A0-8053-43BF-93D7-63EE89BF396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D54BF-77D4-47C3-81C1-A525BC63560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7DC9B-B94F-4F75-89C4-4716B7ECDF6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D2D4-A7FA-45D8-8CCC-AFF8F920EFB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9FD05-ADB1-4929-922B-40439A85FCD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EE28D-2C76-4BBD-9732-EF58BA993BD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B85BE-86F2-44D8-8BD4-2635A3FDA1E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DABE4-4808-4CAD-9F75-23394E3B5D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F6F4-6F75-48B7-9187-C6EEA47144B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7C06-B57F-4F30-9E83-8ED77E5BAF8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7E12-C0D2-43DF-AA70-CB0612AB728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1262E-1169-4408-875F-BE4AFA0EBC3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0FDB-CF8B-4C77-946E-FE41E61ED03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B866C-A998-453C-A528-665015C51C8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4EFD4-B177-43C1-90AF-AE47B3B0E14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5E47-5F9A-467A-B422-FBE490A6ECF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A0BECE-B0F9-4B0F-A09F-8AD1CBE8AD0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B11BA0-842B-4B77-9118-3BCB3CE1A84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D01C0-1838-46BC-8B30-DBADD578D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4FAC-9AF2-4A09-838D-A2CF688254A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3F7CFA-69BF-49BF-B618-431BCFC2599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4C9798-A9B2-4FB0-95DA-A4D7846761A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4F537-0A9F-43DC-88EB-48A729A5FD8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3C2FB9-474B-4AFB-B3A6-B6BEED8B88E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55D014-8D6D-4EF6-B3F0-393F7C469A6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740FD9-DF08-41DE-896F-39C64BA9E58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B4D4BB-1595-4D6A-8570-1A72FD431B6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B37D02-7DD4-4DC6-A2A7-10356181720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558FD2-14D1-46AC-87A7-0A96457C4B0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704D0-D9D7-4D33-BCBF-4F09A7F939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B1A6-9A25-4C5F-86FE-6D4CA3DFD7D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2B69D-FB6A-4DD3-BFAC-9A7348AF364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BA08B-67F8-40A9-8997-B662751F385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67A6F-0559-4EFF-B3DA-D9196EF86B9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C8038-0249-4781-9443-4B639DDC6FC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75D65-404C-4477-871D-39B1E7E8DAB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40003-A16D-4ACE-9F9A-763D54D2E08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564DE-DCB7-42C8-9D3A-588863FAF9D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59F6B-19EC-4E4D-B7DC-4D4273A3840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B206E-6610-4537-8848-BE04B4822F0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557942-EA7F-4D52-A314-A603127C0A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DE4E-ADF0-4116-A969-A6E3126C5E0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BD930-FEFD-44E4-9542-11FF8DE40E0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9545-4C17-4E99-9DDE-D56A74D24C4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C9AD2-7F96-40B3-979A-12C4DD3FDE4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A191F-9001-4C9C-8087-9C256327619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DEC9C-9910-4C38-B900-EC03BD83A81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4800E-35A6-49D9-A024-00CF4AC8A53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30809-BE0A-4459-B88D-78139A5BB15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E933-CEFB-40CE-AC31-09BFCA8B08A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E369E-36AE-4439-B6C3-A99250F28FD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A364C-D71C-4BF1-AA46-56263F2342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DAA92-8061-4E96-A71B-64BBD5BA5A3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FD94-96E7-45D4-80E9-F3983BCB9D4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61BD7-ECB2-442D-981D-F93008BD6D8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4F6A83-0362-400D-9489-94DA6F06DBA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30AE93-E990-475D-A55E-827F76DB1DF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6C3240-B62A-4BBC-AA70-267CCB7FCB8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73A3B1-3012-4624-A3D0-402D6725595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4FA6C0-6A34-4973-9835-88BA02C5297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EDA62A-20B6-4C52-B818-B59A7D17E29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C1960C-375E-4593-9ACF-3B456D46E7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DEC74B-ECCF-40D5-9CAE-1AE4990B7A4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A9280D-1FF4-42CC-8788-A94033927E3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0D3697-7481-45A2-9A21-0F8C16C3E88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403A00-77F6-43F4-AE89-E7FF886BC6B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26503C-D09A-423A-BD28-201CEA3C09C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298E3-38FF-4A4B-8462-BB3B9B18D50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69C35A-3893-485F-93F1-7F4D7B7EFF2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5D234-2A0B-4998-AA51-80FAFAD3CA9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4931E-0612-4DA3-8F38-6EFF9518C2C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30C2F-EC9D-4750-9FB6-069785BB27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C6031-8F08-436D-97E6-F24FBEADDBA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42D41-D9DD-4485-9541-8BD5EDD70BA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C4188-9FEF-4352-89C9-CA87580437F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BC9C0-1F1B-46ED-BE2E-7AA2BD7C21C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A17D48-848C-48B7-86E6-4D5127D1530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FA36E-AB53-4378-9322-EA45767EAA0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FF62B1-1720-4E89-9A90-802077CD110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4931B-C2CE-4313-AA5C-82D8B7841A3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97794-1CCD-4BB2-91B5-5722CCFCF85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F67EC-A9E9-4394-9C48-5C1AC72458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74C54-3F99-46FA-9D73-E986370D071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21C3C-E98F-4E33-A79B-10D95E886DD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EC2F4-0C65-48BD-976C-B2CB3AED13B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79C8-EA41-4F9F-B098-5422091FD2B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65DF0-A1AD-4429-9607-0AB8010C9B3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C4F68-EF04-4D9F-97E1-D00DA19D77B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AA21C-FDB3-4641-B56E-7992DF82C97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A3485-5C1B-49E4-8D2A-3F296C7490D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F77CE-A1ED-427A-A715-EA9EE5CCDAE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E83276-7FF7-4C97-AA74-8CF715C41C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A93A97-5ABC-4BC7-BC4E-B5C59D1B28F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EB45C3-F23A-4B76-8825-B4E19C11FFE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F9623E-72D7-49CB-844B-BBC55107D51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644A03-8588-4414-A4A6-23762B58CFA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92F929-C7C2-4DEA-AEEF-CC065259369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D37F2-96CE-4268-A320-DBF5DF27CAA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D759AC-7A40-461D-A13D-C0D70A04965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2785B9-2A95-43AD-8E91-D8B58EAB199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7811A6-E8B8-4649-84AF-08199F283F7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C88829-46B1-4961-AA24-01E754A1E7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407C11-ECAA-4E97-9B13-ACB89D41657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C20A1-3E9C-4EA6-A0C2-DA81708362F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04E1A0-D3CC-4492-A8A4-E1E3C970312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ABC803-D6D9-4841-8B7E-B5C5EB69C89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298FAC-7711-4960-BA70-06C53685A45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1BFF1F-DC94-4305-8A5D-969F8536F94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961CAD-887C-459F-809D-1845C1DE3C6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0B4DFF-EFE8-4024-9B26-7899A45CB4C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6D942D-4106-447D-8775-8908E781E07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BAB7C4-9C1E-46DD-9F66-C1768D4579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153F9-DFBD-4453-B6CA-66AE09CBF89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BBC4AC-F46D-421C-8862-28768E1CF4A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1CA67F-1EA1-4066-A644-9155ECEAFE0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1F0EB-FE36-4524-A404-BB7B67C3B06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CFF35-A477-457F-863C-327119C70EB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359AD-7CCB-467B-9EA0-1A06ABA86C5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15BAE-7928-4E90-AB44-CD44FF338E2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E5B94-059A-4E5F-83D2-C70B0547729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CDA84-FB62-4D3D-BA8C-10355082CAD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F22D8-7E23-4A4C-9C76-4C93D6FE15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EB292-7C55-44E9-B10E-C6BEEADAD00C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0C016-7732-4D4A-8255-26A9CEE7C47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AAEE2-5514-4EE1-A5B6-BB14398B00D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1AE23-FE26-4DCD-ADFC-8FA74403D99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0E0E8-F8C7-4022-A342-90E3540F1BA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74A4-F598-4AC7-8904-672D2C38E5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2989-50B8-4156-9085-C9A3DD7E2C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EFE2-6214-4F3D-924A-8CA6E7400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0803-A22B-4CC5-A8D4-B1B91E811E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31CA-BE37-441D-90CF-BABC29BBFD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11D7-4CC6-407F-B454-433475AF40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D36F-A321-428B-A5AD-F482B545FE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9876-0341-4623-BE89-25E92A8B3B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3317-9B26-4BD1-B170-1BA7F82005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8179-C950-4095-BFC7-642D3614F6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F4FA-2150-491B-A546-980BA7C92F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C0D8-E18A-4B43-B647-7CA5F65EEE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E35-287F-4AC4-97B4-4B9D40D4245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048-4738-46EA-82DA-55A73B78EC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26D-B181-44C1-B140-FA242DCB67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4E9-63D7-43D2-BC18-3916E02999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633-F752-444D-BCC2-F9CF60246CB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573-5E35-4A37-99BF-4925EEC686C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1EB-11F0-429B-859A-6F3436DA47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E82-2990-4E93-87B5-CF2C19144C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56E-D3C3-423D-9DF9-E303C7BCB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8D6-470F-4839-9DFC-6579CFCD08D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401-92D8-4D26-A454-325EAFCA014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D71-47A1-436F-A182-68298EB563F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EFCC3-1117-4558-9E13-3C1B0A0B72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BAEC0-0081-494C-B9DC-B42B51B1A8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9F7D9-B7E7-4142-A3E5-90FFF1E0D29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28422-127B-4E1A-B1A6-7FC50743ED5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CCC3E-A672-4E3F-AE1C-C846815F4C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E136C-11DB-4234-98AF-EBFF0EDCC9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21B5A-CB51-4A11-A273-3F5F97EC8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71AA8-BC6C-4013-B591-64649C2AB78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83068-0887-435C-8515-49C0230B585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E7DC6-E5A2-41D2-947E-D33C181BB23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0E4DE-ACC2-4980-BEC1-68128D563A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35738-D23E-4077-8350-7996549E6E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86A18-9571-4679-BCD8-F47F7D61476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82CC0-8969-4CBC-8F51-E736B37BAB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66AF0-AA41-4294-8C15-B3BC1CF3F4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61761-1E1A-49C3-8EAC-AAD905418B4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8BC02-35C1-48B7-96BF-9E951EB12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EB76D-F9DF-4B2A-91BF-31279432918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E570D-4F66-464D-87F8-9B67C5F98BB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99D25-4998-498E-9AD4-0E8C47E9B0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2BE6D-FF3F-4994-B26E-8F8AB4E7F69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A14DE-C539-4DE3-93CB-6D7247168DF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BA8B6-ECE4-497D-ACD5-318A33B86CE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19C9A-C451-4A6B-B04B-EFDDB452EA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A30B-B5B6-41B2-8E7E-FE9ED53844A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D441-0462-48F2-8614-9C444C418D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FD37-EC22-423E-BF36-D374BB7F0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3F29-9302-4EB6-990A-AF4A59E6332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EA14-4369-4160-A04D-E29539501C6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33C1-4C32-4FB5-BB70-9B693F8E924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FF10-E566-4637-90E1-C5BCB4FCAAC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36B7-6EA7-4AE8-BDA7-CC3D9968BFD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6136-52F0-4A55-9212-B7919F3A07F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302C-08D4-453E-BD64-1F3713461F8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DDD0-32E7-4227-BE06-CE2A3C1FA90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B9BC-2856-41CA-912E-79FD7221066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A893-6FD6-4F47-B87C-C423FCDDE70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D801-7C15-4A1D-A039-BAF218B63EA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4F8E-301B-466F-A1D8-920A4745482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7127-C4B4-4F95-9D27-6533119ACF4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469E-977F-4F87-B584-4C3BDCB6567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0DBE-0566-48AE-9476-B86F67DB925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CECE-C99B-4EB0-839D-D803EA04D8D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9341-8B18-4DCF-B191-E0B2AC3A0AE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532D-66FB-4C4F-9A5C-56232DFB89F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65EF-C3CD-4C55-899A-CDF5DCC9B09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1CA4-381C-4631-9C8E-C106F561300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F13B-EA25-4791-B7B8-F5C3E9746AB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675-8424-4188-977B-4F9FC8F259E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CB36-3DA2-4660-8184-D64992FC708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7295-F6B2-4722-88DD-2ADC39995D1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ogotá D.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febr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692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0" y="5445000"/>
            <a:ext cx="925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119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728720" y="620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54504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1047600" y="1484280"/>
            <a:ext cx="71787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182600" y="40464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31680" y="5396040"/>
            <a:ext cx="90043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761760" y="4986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826920" y="1374840"/>
            <a:ext cx="7632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1763640" y="620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690480" y="1628640"/>
            <a:ext cx="7620120" cy="3473640"/>
          </a:xfrm>
          <a:prstGeom prst="rect">
            <a:avLst/>
          </a:prstGeom>
          <a:ln w="0">
            <a:noFill/>
          </a:ln>
        </p:spPr>
      </p:pic>
      <p:sp>
        <p:nvSpPr>
          <p:cNvPr id="1307" name="Text Box 4"/>
          <p:cNvSpPr/>
          <p:nvPr/>
        </p:nvSpPr>
        <p:spPr>
          <a:xfrm>
            <a:off x="17640" y="5445000"/>
            <a:ext cx="9108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1133640" y="69228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4"/>
          <p:cNvSpPr/>
          <p:nvPr/>
        </p:nvSpPr>
        <p:spPr>
          <a:xfrm>
            <a:off x="392040" y="5516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5 CuadroTexto"/>
          <p:cNvSpPr/>
          <p:nvPr/>
        </p:nvSpPr>
        <p:spPr>
          <a:xfrm>
            <a:off x="54576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1 Imagen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653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5 CuadroTexto"/>
          <p:cNvSpPr/>
          <p:nvPr/>
        </p:nvSpPr>
        <p:spPr>
          <a:xfrm>
            <a:off x="54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8" name="1 Imagen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905440" cy="350208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3"/>
          <p:cNvSpPr/>
          <p:nvPr/>
        </p:nvSpPr>
        <p:spPr>
          <a:xfrm>
            <a:off x="1133640" y="76500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 y áreas metropolitanas y 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octubre – diciembre 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Bogotá D.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2 Imagen" descr=""/>
          <p:cNvPicPr/>
          <p:nvPr/>
        </p:nvPicPr>
        <p:blipFill>
          <a:blip r:embed="rId1"/>
          <a:stretch/>
        </p:blipFill>
        <p:spPr>
          <a:xfrm>
            <a:off x="1130400" y="1628640"/>
            <a:ext cx="660852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1 Imagen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662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844560" y="1717560"/>
            <a:ext cx="72961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00040" y="1989000"/>
            <a:ext cx="8074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5840" y="2408400"/>
            <a:ext cx="2736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- diciembre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859120" y="4365720"/>
            <a:ext cx="6119640" cy="180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2916360" y="198360"/>
            <a:ext cx="614196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76500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– dic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07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992160" y="1984320"/>
            <a:ext cx="75452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-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6176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371600" y="1424160"/>
            <a:ext cx="640080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– dic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5 -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368280" y="2492280"/>
            <a:ext cx="8380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ngela Rocio Lopez Sanchez</cp:lastModifiedBy>
  <cp:lastPrinted>2016-01-29T14:41:16Z</cp:lastPrinted>
  <dcterms:modified xsi:type="dcterms:W3CDTF">2017-02-10T19:45:08Z</dcterms:modified>
  <cp:revision>1067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