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7691-8A54-4EBF-992A-80B80C4944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9009-491B-461E-8916-F3CB25620A9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2068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7A65-B402-4CA9-B28E-2C577D7A72A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2068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24E0-516F-40AD-8547-A47E93DB39C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2068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74A0-88FB-41B3-AC94-E5C3C11E976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2068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44CC-BCFF-4BAE-94B4-C7ABC96CD86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2068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13A8-1B96-4DF5-BF8C-9131AD82261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CC27-29C2-4687-86AB-DAC2588D264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65E6-756B-4288-ADE0-4C1A7D1D514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36AB-A976-4EAF-97DE-73BE4E4AF25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61EB-6FD7-4654-BB81-B647160256C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0669-F7D9-4F51-BADC-DB643D30BD8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A06C-98BF-4ABA-90BF-5D68E49EA9E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A6D7-6905-448E-BC8C-B1F24591B79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F53E-21D6-4300-B669-52D464B4660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01DC3F-6A72-463A-A4C2-BD18A67D8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863B94-76A9-4011-B976-B2B32FBC535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14024-C119-4AA4-8F7C-3711C097EAB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5E4365-02D7-430D-9F52-011E97092E0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A4E4D5-9F82-4A9D-8DC8-ED7CA609391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076F70-0B2C-479B-A9AD-92F8C9340AE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124C38-8201-4F89-8B07-B78E9AFC2B0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AAD80D-7EC6-4589-9C41-9E39FE0AC17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0DBBDA-9BC6-4AD5-B813-90A85571FE5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F3DF8F-4BA8-46DA-BEB9-5476732F309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B85210-2200-4CAE-8C33-D3849B63B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2C4407-3E0C-4123-B99F-43CF05DD78B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39DE1-6B83-427F-B41C-251C63DC1DF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F6CAA-0B52-40FE-9228-29DA83D4B2D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87347-4B10-4049-AF0C-2B11F2BF939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F2062-7904-4905-9C67-CB4DF547060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EEB1E-5A73-4EAA-B056-BA130B2EE9C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18B95-A086-4FB5-9A6E-471472153D4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1F009-D402-4D57-8953-8999B7FD567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BEF59-70E0-4924-89A8-0B78D0578C3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D6315-AEDB-413E-A5D9-251C886C7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31ED-96BE-49A3-8195-1EEAA332827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C0AF4-5257-4BA7-8392-5B506B5E6E4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F6717-16AD-4B51-9EA7-7F5B63C4A82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96106-A605-4682-BB70-15B29A49025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0D055-9CAB-4C78-8E07-6C8B366CBC5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3BDA4-239B-4E3E-8C20-4C65473DCEB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2CF05-F496-4E21-98FE-A1087336E94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E2D1D-461E-476D-8F43-AD0BDCCEE50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82694-D882-418E-B125-536A6D6191A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1B231-CF9D-4A0E-BFCB-0CC3152CBEE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48861-746D-4174-BBB3-99C7102DBC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89EB-5CCA-4EA2-BD8C-7805A8EF5ED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683A0-1E2B-41D1-86E6-9CEB7805781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185C1-F5F8-4E24-8D0A-B306D9C86FA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3E997-917A-4873-9D95-B92CBC04C7A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061A5-6263-468E-8D9B-A0E2171C14C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7772E-097D-4C3F-BEDA-5074C199213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906895-3D14-4CB7-BD26-B764276BF97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78BA5B-AC83-4F41-8BFA-AE85A1097E5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53E146-EA80-4A81-AA4D-8EC6F284EF3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44D2E-6A0A-46CC-8F12-AAE085B328F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47D4F6-0EDA-4DA1-B497-73B715AA27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F65F-0680-478E-8B4F-2D189F7E1D7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0B7866-9251-4335-BAD3-792EC0C36DD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81D77D-49E1-4DB9-93B8-BC772E20D7E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C3DE43-B9B2-4C51-95D7-72FD3BE9855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7E0104-0CF1-46BF-9B9D-A045917CCB3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6167B6-B1A8-4580-98D4-2E07658AF56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976A6-CE31-4A4A-9BC0-3607FC1A5B5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C9C118-B8E7-4CDD-9207-85FBDCB881D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034C3-97CB-413C-A55F-012BB2FD384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6011D8-816E-482B-8CFA-B907660BA44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2B4738-81B1-4BCA-A7EF-43F649320E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776E8-A70B-4573-AB43-F6A49F864B7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D1367-E2F6-456D-8C67-79DA10A0B03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4C1C2-5856-4606-8E34-B358E0D2B01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10723-7E6A-4EEE-894E-C2FE61C9004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0D106B-A43D-4B56-879A-E6FF786E9D4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285BE3-E486-41FE-9914-6C0F9250DF2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1DE4C-6177-4178-83C7-5C21ECDD261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8ED7F-1C81-4070-8FC3-CCF7FED0237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F96E2-2CED-4502-BE48-11EA4FD4E9C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97A433-CE17-4E4F-89DA-DD894CD541B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B5730-F50B-413C-831C-53B0A4B4F3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40FB-C0FD-4F2F-808D-BCE7A951337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81113-8C83-45F5-9E92-FD7603F907E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12C40-AD9E-48CB-AA38-802A7C14EE7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6BB47-FD98-4F1E-8497-FB86D0FC4E4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8CDD9-DD2C-4E74-A64C-674B5CEB1DE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EC8E2-A565-47C2-89C5-DF1995D621C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E2299-4FC4-4E24-8260-62A96162910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79130-03D0-406D-874E-5690DA137BB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BEB4E-4468-4056-B909-38A2DF0F6C0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13AD1-4F18-4C2A-8158-6723EBB4C66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38B8D-097C-4F90-B113-FC09C9A857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14CC-9BA8-47B8-90EC-06FC6FCA969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2C952-58A0-4D35-B7F3-75D047E353A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19690B-939E-4A6C-894D-3F9684FF5F0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7BC6D2-B415-44FB-AEEF-B13BF0300F0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E5F138-4E3B-45A2-A082-A43252AF1AB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2F44AB-97CF-4E29-8DD6-A294A434689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4DA5D6-98E9-4C98-B7B2-7E877C50CD7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0A7851-68FA-4972-89E3-9012B146F41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D5A163-AD68-4971-9784-AE0B73F8735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C20CAE-FC9F-491B-A132-DE5AA7759C7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4D50E5-A257-4B0A-8278-1B85FF5E2D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BD59-669D-4D12-957A-A0271366979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A2F750-6BD5-41DE-B605-06D9C25EB5F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40F0D7-3245-4160-AF03-6303797892C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4B75CE-D40D-46E6-8780-EB1B3E5F965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39C35-028F-48A0-BCCB-1CA4EC65321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292B73-36B2-404B-A10C-3CFC6AEDAAD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6C6F0-C94D-4257-81DA-D785193D898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7A636-FBE2-4749-9CA5-2ABCA588664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B2F79-4874-47AE-AB23-95636B46BD6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BBC73-3D72-42EC-BC81-8475B40C8E6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6A7D3-4052-4A20-B08D-D4D87A274D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1BB1-F7A0-429E-A560-502A089F623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41FD4C-63E3-4F2A-BC9A-29A35BA298A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F4429-1DDA-40E2-A466-2DA46BF4E44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C2457-947D-45A0-81CC-87299BEA535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7B13BE-41CC-4620-865A-C963595CB52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6734F-9670-4037-B728-7B627D9B993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2FFB6-DEB2-475C-A7CD-19FF7B3AF27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3DCA6-F9F8-4546-A577-CA3B5B3C7D2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6AD9E-30A1-4F83-80EC-E5648AE97D0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F20D1-202D-47F1-86D0-A73F68A5C78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055D5-33BE-411A-A50B-106FA31784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2FF8-5701-412F-A51B-A04F39CEE7E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D6283-E7B4-4BBE-8595-3284CBC1E30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5E9AA-B8B6-4D5D-B56A-8A9B4CBFAE6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FEAB7-8322-4E77-8320-DD41048FEF6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EA842-6E3B-41AB-B024-3C0761D9CBC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33793-CDF1-4A25-9EAC-CF0ADAB7968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932CA-05EB-4E56-A5E6-06F1E6D8E6B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DF152-EC03-4D8A-82D4-49CE325FC9D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640842-49CA-435D-959C-F283825E69D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E31F73-6FEB-4D4B-9243-C66C4137D75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204E80-5ACE-46BA-97D4-152F698355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29CE-8CA7-452C-B9FB-5CF966B7B5D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6BBDF1-9D73-480F-A3FB-5EDA7FA4765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E770E1-2DE0-4FA0-B42C-B0857CABEF5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CFC16B-3730-432C-B93E-BA0F394C868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84C999-6408-4776-904C-97919C70C4A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FF7D5D-DD5D-48FE-A790-B7E97B6E104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C53651-790D-4F4E-8649-71333B9182B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EDD438-2DBE-4E0E-85EF-D14015F67D0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5F16F7-C709-437C-ACF0-290BFEBE227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0D5DC1-2743-4073-A00C-88612EA3747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A4D3A1-2F9A-415E-BAAA-A41BC6D7EE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264E-F3E6-4A69-BBEA-811236EF2C9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2C1BF6-297A-40EF-A3EA-74CE16C8A55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29FC63-1A04-42E1-B8F9-69DEC12735A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B80020-315B-49DC-8829-ACB4086C561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C55D15-6C85-460A-8DB5-31E0BC00591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09DA72-7780-4E2D-9D8D-FAADCD33DE2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357768-EE75-4A7E-9778-0BCDBB31AA7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326DF-E0CE-4F12-9F40-BE1EA664C7E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A5EAE3-4224-4081-8B3A-BA016F80599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04F9B-FE31-4545-A4E8-787BA017B63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7383D-AD6D-4BEC-8933-365C19C179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B713-6C67-4918-9888-2695ACE1BC9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C596E-323C-4747-9F45-D0F56B42F22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4E66C-D959-4B80-B930-703180854BB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062C2-4BD1-44B5-B158-53DCA46A88A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8309B-0D20-4284-9532-407A5415B64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389FE-AD1E-4ED7-B669-F2FF3A34AF6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F901E-AD16-4074-8BB0-42B755C5B55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C1065-28A9-46DD-9072-1A69E3B7876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E5090-4206-428F-8315-AE6474E7A72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67C20-8E18-49B5-B4BC-1C0FB9B4714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B0BC2-2326-42B8-8090-536DBDA87C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E5C3F-BDD1-4CC9-90D6-170B7ECF33D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49CC6-D895-43CC-8ADA-DAEB85D2121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FE33D-739A-4669-9C90-1F18E79443C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DCBC2A-F9AF-4CD4-A839-CFDA9D836E1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6B0D62-D9BB-46E5-83CA-A17DEF3773C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158A35-43D8-4F1B-9F78-5161DEC9BD4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7B1AEE-F9B4-4977-A6A9-2F8C5A52A4F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438AE5-4904-4722-B0E5-DF40B9A8257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EEAE44-8836-4AD5-94C9-1BF7B09E3BF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A3C1C0-FB48-44CF-8C38-DACAA9ED08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EF7C24-8193-40DD-9AFA-768FBD6601E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1ABAB5-C15C-420B-8BB7-D9814D6AE34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61AEB5-8DCC-41F3-B3BB-E832D248A4A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475740-2D9A-43FD-AD0E-B5220603E27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66DDDC-D3DD-41B5-AB57-88C51549CFF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03DA7-5DAB-47CA-A0AA-701E4541B29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663F38-44C8-49E3-A89B-AD9678C9F75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A2C567-2A12-42E8-B088-AF2DE42B48A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C06F88-41BD-43CB-847F-6F8D06018C3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FDA46-02C8-4A8F-9660-6FE7B9D06A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9FD346-96A8-40CB-BF22-7DF14C94A97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0F608F-B339-4513-ABAA-190961F1C38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A9A1E-A17F-4079-BE91-1F91E307A82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D2813D-D022-4BFF-BBC1-09CFA1AE436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D42A61-7ECD-408E-A157-BB72DE84A86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CE215-3050-4E87-9B75-8541948A370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0FE77B-681C-43C5-9CAA-137B85F7255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7D35D-D5B7-4ACA-8296-BFF66BE885C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EE8E2-69BF-4994-8C58-CB2CE8EAE25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67AE2-62DB-4804-AEDF-A86A371A7B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8B1F8-8974-4AC3-B836-3AE820EFC63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EACE9-DAEC-40C5-82A9-1A7FE992B56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D709C-40E6-4042-97BE-85E790BB278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297A2-0448-4036-A7F4-0F02C26966E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3E0AD-0885-4FB1-A15B-4F1DA16133C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ECBA6-4330-4616-868B-A6C963C3562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B1DA1-1A60-4F93-B423-355FA9E8DE7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02EA9-3436-4A23-98F3-B13A1F09D98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25B02-E5BB-4D79-A2B9-9FA80971808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594246-BEE5-44A5-89E5-584D036E8A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E43529-C470-46F7-80C1-8F6F04B0546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FDD030-F5CB-4822-966D-A1A27226F03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2DCE86-C304-4CB1-8B3F-9D60903F785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92BA51-D178-4F0A-867C-1537FECE8CC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F4A684-C9A2-4CCB-8F93-4DCA009B159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FE3342-B0B6-4FF9-B740-3A3D090E2C0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6356B3-648B-4637-BF4E-64C55FC4AF2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210B8C-D594-4D71-8A86-EFD4BFAD6BB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43EC25-860B-445D-9E06-91CB790A8C1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53C970-3C3A-4BFD-B852-D15118704A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BB501A-8165-44A7-B641-383C2215BB8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1FF5E2-4E0C-4FFA-BAA7-CC32438B858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080A36-3A69-4952-AA18-150A25ED3E5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952CD1-0045-4A2D-87B4-54509371E98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73034F-3ACF-407A-B1F8-11CC0EC2C60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5E3FB4-6FD1-4A1B-99FA-889F1241123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12D23B-226C-458C-978C-E5C98B59F48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0C3231-39A6-4DD3-BE41-FB87A989970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3452E1-1CC8-4C25-B6A4-402E9FEF1F5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14935D-20AF-48BF-8A8B-D9235210F2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9EBD67-A255-4AA5-8EEB-D23B2A5928D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38F590-3185-41A3-975E-50DC297ADC9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D85D28-DBB9-4D5B-B751-9BDCB6C40836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A238D-3D4F-44F5-86FE-89615421CEF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46B9D-9460-49A6-A90E-6116397F644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2B1D3-CD4D-4205-B715-494BB30DC5D0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70196-57AB-4B40-90E6-D2A517BD8A15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47504-FCE5-4F77-8BA0-6AD0D7DCD757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4B5B4-DAB8-4D21-B443-76237B4AB901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70328-EE0B-4537-B242-E526EC4FAE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44BA4-D0DA-4469-8AE9-D8DB11C2133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4A4A5-D0D4-4C4C-9C0A-0A189CB028A6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E15B8-E7F0-4C60-A451-6BFCEDAC4DF7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F55FF-9F0B-4B31-B387-75638C92D45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5E85C-13B2-4C2A-A39C-37889D508772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8BD6-6DF6-4BCB-A198-A18EFE7862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27EA-F3E4-4722-BF3A-36F5D59705E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89964-4C6A-4153-97C8-CDA9F786E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2BEC-3316-42E0-AACE-8CD3021655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54294-88F0-4345-BD8D-1AD63E3900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BD792-E01B-411E-8194-19B042189B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0868-CAB1-43AD-8409-D45D173779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7AD3-01F7-4767-874C-B9676DF8C46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7AA1-672E-472D-BF6D-1EEBEAFBB2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32E19-0E7C-4364-94B7-9FCC791E9C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DCA3-8E90-43DF-82F8-9DCDF73106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F3AAD-53D9-4FBE-B059-51ABE3A4BE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614-7669-41FB-8AD3-C7EE6FE7FB0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085-53A5-4155-9D4F-DE2D21EEAA5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083-A421-4D98-A6F9-B037BDCF5FF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4A1-7980-40C5-91BC-23936D4D18A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5A4-208F-4752-8250-39501A8840E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8C1-6DBA-452F-B784-B7F6F74BA65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FC5-0DE7-4D57-82B7-3A74D818BA9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BFF5-74E4-49A6-8D12-91FDBD5B671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1AA-54AD-46C4-89CF-6BACF8572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4FD-290B-4E06-ADED-C2A42238159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57C-207A-48FC-9DA9-A73546B55EC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959-7D6C-40CE-A614-BB653071872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8E0E5-CBEB-45B3-8D0B-487B9A34FF5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41B06-82CB-4DCC-A3EF-6E1D4333330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86E6C-3883-4E6C-82AB-586C1E5CEC0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A95F6-987B-4C1D-8AD5-B77D226141B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541CE-79EF-488E-9C6D-55E0B5C2F03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6A4D1-5700-4EC3-A46C-110C33F3879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39C8A-300A-452D-A491-3A13578AE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112F1-8EE3-4CE7-AA31-CB7118C18A3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4B43E-384C-4888-BB94-81B6055C224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3F9F3-2EF8-4E09-86A3-090F4A103C9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EBFC7-086B-4122-8237-331667E5F1D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15766-8D87-4AB4-A8B3-E676B532C37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2103A-554D-4683-B519-FB6A3CA9067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8ABBF-E2BA-400E-B997-CE70A992295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A678F-0846-4E52-A350-3A7891706A3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70055-94A0-4DBF-8C67-6516966409D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B4194-21E8-44C1-9ED2-EF692A44E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BA65A-04E1-4E8C-BBA9-BB640F36579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06B84-0BD4-4247-A719-C11E8D4B9CC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DF875-A5BF-4ADA-8E9C-E7A3801823F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4605D-69C2-48EC-847E-7D97E6A67D0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47B82-7147-4DDC-844E-C418195F359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C6DF2-F7A5-4B71-8B4C-5E0D2AF370A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4CD1C-2AF2-474E-8496-C8DAF6E14CF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0E85-BA5D-4396-9339-1182F8EEF6E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4574-B157-4AE5-8C4B-6E36727C13A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5BC9-7D1E-4EDA-8910-F049AF7B1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911F-1669-486F-81C4-99467B1DADB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0739-E6A6-4874-B0CD-5D478948C46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046C-C864-414F-A058-02EE99581CB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6E91-9697-4FF8-A6ED-F15BD1ABE99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2536-67DE-4975-8394-6C74375D620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314D-DB30-4650-9AF6-3F3B2219DDC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EF93-C101-40A4-8F7B-EB495ACB0C7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0B6A-8ABF-4C58-B3EF-D59CE695523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7E29-69C3-46FE-BCA2-4006FBAA924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2922-6109-4FE9-A80E-7C1E2E0AB70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01BF-39C2-441D-A6C8-8D4D3FF22A6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4582-66AC-4548-98E9-81C33AAC42B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5790-7807-4DD5-B383-C1537AA62EC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AFD7-4A89-440D-B06E-914F7AA0941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79F5-5B26-4A98-ABE4-C895053144C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025C-DEF7-4E4E-AFD7-E42D4C30857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A129-9242-421C-AFDA-DA5BFD4729D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957F-DC3A-4C96-86E7-DE6C52DA39B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17E4-8869-428D-9E0B-606A26B1674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CC0E-ABD0-4D2B-82A2-CDDE2702E48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DEE9-CA66-4F59-B4A7-9C5D3F23365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A219-B2A0-4FE8-8F14-A6C25533EE9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05B3-4545-4EB2-95A5-88D4703783F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3140-D3D1-495F-A1B4-B5B604789D2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Quibd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febre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692280" y="1341360"/>
            <a:ext cx="7603920" cy="3727440"/>
          </a:xfrm>
          <a:prstGeom prst="rect">
            <a:avLst/>
          </a:prstGeom>
          <a:ln w="0">
            <a:noFill/>
          </a:ln>
        </p:spPr>
      </p:pic>
      <p:sp>
        <p:nvSpPr>
          <p:cNvPr id="1290" name="Text Box 3"/>
          <p:cNvSpPr/>
          <p:nvPr/>
        </p:nvSpPr>
        <p:spPr>
          <a:xfrm>
            <a:off x="1150920" y="47484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5157720"/>
            <a:ext cx="820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Otras ramas: Agricultura, ganadería, caza, silvicultura y pesca; explotación de minas y canteras;  suministro de electricidad, gas y agua;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suma de las participaciones puede diferir de 100% debido a la no inclusión de la categoría  “No informa” y por concepto de deci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6 CuadroTexto"/>
          <p:cNvSpPr/>
          <p:nvPr/>
        </p:nvSpPr>
        <p:spPr>
          <a:xfrm>
            <a:off x="1122120" y="4869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3"/>
          <p:cNvSpPr/>
          <p:nvPr/>
        </p:nvSpPr>
        <p:spPr>
          <a:xfrm>
            <a:off x="1117440" y="325440"/>
            <a:ext cx="690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1 Imagen" descr=""/>
          <p:cNvPicPr/>
          <p:nvPr/>
        </p:nvPicPr>
        <p:blipFill>
          <a:blip r:embed="rId1"/>
          <a:stretch/>
        </p:blipFill>
        <p:spPr>
          <a:xfrm>
            <a:off x="1101600" y="1413000"/>
            <a:ext cx="6610320" cy="3895560"/>
          </a:xfrm>
          <a:prstGeom prst="rect">
            <a:avLst/>
          </a:prstGeom>
          <a:ln w="0">
            <a:noFill/>
          </a:ln>
        </p:spPr>
      </p:pic>
      <p:sp>
        <p:nvSpPr>
          <p:cNvPr id="1297" name="1 Rectángulo"/>
          <p:cNvSpPr/>
          <p:nvPr/>
        </p:nvSpPr>
        <p:spPr>
          <a:xfrm>
            <a:off x="539640" y="5445000"/>
            <a:ext cx="777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Calibri"/>
              </a:rPr>
              <a:t>*Otras ramas: Agricultura, ganadería, caza, silvicultura y pesca; explotación de minas y canteras; suministro de electricidad, gas y agua; intermediación financiera 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7 CuadroTexto"/>
          <p:cNvSpPr/>
          <p:nvPr/>
        </p:nvSpPr>
        <p:spPr>
          <a:xfrm>
            <a:off x="122544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1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- dic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865080" y="511200"/>
            <a:ext cx="690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6"/>
          <p:cNvSpPr/>
          <p:nvPr/>
        </p:nvSpPr>
        <p:spPr>
          <a:xfrm>
            <a:off x="299880" y="5322960"/>
            <a:ext cx="84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posi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7" name="1 Imagen" descr=""/>
          <p:cNvPicPr/>
          <p:nvPr/>
        </p:nvPicPr>
        <p:blipFill>
          <a:blip r:embed="rId1"/>
          <a:stretch/>
        </p:blipFill>
        <p:spPr>
          <a:xfrm>
            <a:off x="696960" y="1389240"/>
            <a:ext cx="7620120" cy="3624120"/>
          </a:xfrm>
          <a:prstGeom prst="rect">
            <a:avLst/>
          </a:prstGeom>
          <a:ln w="0">
            <a:noFill/>
          </a:ln>
        </p:spPr>
      </p:pic>
      <p:sp>
        <p:nvSpPr>
          <p:cNvPr id="1308" name="7 CuadroTexto"/>
          <p:cNvSpPr/>
          <p:nvPr/>
        </p:nvSpPr>
        <p:spPr>
          <a:xfrm>
            <a:off x="1131480" y="5111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1187280" y="5284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2" name="1 Imagen" descr=""/>
          <p:cNvPicPr/>
          <p:nvPr/>
        </p:nvPicPr>
        <p:blipFill>
          <a:blip r:embed="rId1"/>
          <a:stretch/>
        </p:blipFill>
        <p:spPr>
          <a:xfrm>
            <a:off x="1055520" y="1496880"/>
            <a:ext cx="6685200" cy="3587760"/>
          </a:xfrm>
          <a:prstGeom prst="rect">
            <a:avLst/>
          </a:prstGeom>
          <a:ln w="0">
            <a:noFill/>
          </a:ln>
        </p:spPr>
      </p:pic>
      <p:sp>
        <p:nvSpPr>
          <p:cNvPr id="1313" name="7 CuadroTexto"/>
          <p:cNvSpPr/>
          <p:nvPr/>
        </p:nvSpPr>
        <p:spPr>
          <a:xfrm>
            <a:off x="833040" y="5037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6"/>
          <p:cNvSpPr/>
          <p:nvPr/>
        </p:nvSpPr>
        <p:spPr>
          <a:xfrm>
            <a:off x="252360" y="5373720"/>
            <a:ext cx="84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posi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7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- dic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 Box 3"/>
          <p:cNvSpPr/>
          <p:nvPr/>
        </p:nvSpPr>
        <p:spPr>
          <a:xfrm>
            <a:off x="1114560" y="52056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6 CuadroTexto"/>
          <p:cNvSpPr/>
          <p:nvPr/>
        </p:nvSpPr>
        <p:spPr>
          <a:xfrm>
            <a:off x="279360" y="5373720"/>
            <a:ext cx="832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“Otros” incluye: Incapacitado permanente para trabajar, rentista, pensionado, jubilado, personas que no le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1 Imagen" descr=""/>
          <p:cNvPicPr/>
          <p:nvPr/>
        </p:nvPicPr>
        <p:blipFill>
          <a:blip r:embed="rId1"/>
          <a:stretch/>
        </p:blipFill>
        <p:spPr>
          <a:xfrm>
            <a:off x="395280" y="1535040"/>
            <a:ext cx="8589960" cy="3505320"/>
          </a:xfrm>
          <a:prstGeom prst="rect">
            <a:avLst/>
          </a:prstGeom>
          <a:ln w="0">
            <a:noFill/>
          </a:ln>
        </p:spPr>
      </p:pic>
      <p:sp>
        <p:nvSpPr>
          <p:cNvPr id="1323" name="5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5 CuadroTexto"/>
          <p:cNvSpPr/>
          <p:nvPr/>
        </p:nvSpPr>
        <p:spPr>
          <a:xfrm>
            <a:off x="2381040" y="5616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Text Box 3"/>
          <p:cNvSpPr/>
          <p:nvPr/>
        </p:nvSpPr>
        <p:spPr>
          <a:xfrm>
            <a:off x="1332000" y="69228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Quibd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Octubre - diciembre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1 Imagen" descr=""/>
          <p:cNvPicPr/>
          <p:nvPr/>
        </p:nvPicPr>
        <p:blipFill>
          <a:blip r:embed="rId1"/>
          <a:stretch/>
        </p:blipFill>
        <p:spPr>
          <a:xfrm>
            <a:off x="2116080" y="226548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7" name="2 Imagen" descr=""/>
          <p:cNvPicPr/>
          <p:nvPr/>
        </p:nvPicPr>
        <p:blipFill>
          <a:blip r:embed="rId1"/>
          <a:stretch/>
        </p:blipFill>
        <p:spPr>
          <a:xfrm>
            <a:off x="958680" y="1628640"/>
            <a:ext cx="7012080" cy="2071800"/>
          </a:xfrm>
          <a:prstGeom prst="rect">
            <a:avLst/>
          </a:prstGeom>
          <a:ln w="0">
            <a:noFill/>
          </a:ln>
        </p:spPr>
      </p:pic>
      <p:sp>
        <p:nvSpPr>
          <p:cNvPr id="1328" name="Text Box 3"/>
          <p:cNvSpPr/>
          <p:nvPr/>
        </p:nvSpPr>
        <p:spPr>
          <a:xfrm>
            <a:off x="826920" y="376200"/>
            <a:ext cx="777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Límites de confianza y error relativo de la población de la fuerza 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abajo e indicadores de mercado labo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Quibd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9" name="1 Imagen" descr=""/>
          <p:cNvPicPr/>
          <p:nvPr/>
        </p:nvPicPr>
        <p:blipFill>
          <a:blip r:embed="rId2"/>
          <a:stretch/>
        </p:blipFill>
        <p:spPr>
          <a:xfrm>
            <a:off x="1160640" y="3860640"/>
            <a:ext cx="66070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1 CuadroTexto"/>
          <p:cNvSpPr/>
          <p:nvPr/>
        </p:nvSpPr>
        <p:spPr>
          <a:xfrm>
            <a:off x="1403280" y="333360"/>
            <a:ext cx="68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hoc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4 CuadroTexto"/>
          <p:cNvSpPr/>
          <p:nvPr/>
        </p:nvSpPr>
        <p:spPr>
          <a:xfrm>
            <a:off x="1264320" y="57164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2" name="1 Imagen" descr=""/>
          <p:cNvPicPr/>
          <p:nvPr/>
        </p:nvPicPr>
        <p:blipFill>
          <a:blip r:embed="rId1"/>
          <a:stretch/>
        </p:blipFill>
        <p:spPr>
          <a:xfrm>
            <a:off x="1179360" y="1700280"/>
            <a:ext cx="7286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46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- dic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Quibdó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235080" y="2492280"/>
            <a:ext cx="85644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6 CuadroTexto"/>
          <p:cNvSpPr/>
          <p:nvPr/>
        </p:nvSpPr>
        <p:spPr>
          <a:xfrm>
            <a:off x="2411280" y="5770440"/>
            <a:ext cx="561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(+) (-): Aumento o disminución de la TD de cada ciudad frente al mismo trimestre  del año anterio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0" y="2290680"/>
            <a:ext cx="27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laboral por ciu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Octubre - diciembr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664000" y="836640"/>
            <a:ext cx="6480000" cy="206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6 CuadroTexto"/>
          <p:cNvSpPr/>
          <p:nvPr/>
        </p:nvSpPr>
        <p:spPr>
          <a:xfrm>
            <a:off x="255600" y="4776840"/>
            <a:ext cx="224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El total de las 23 ciudades no incluye San Andrés por tener una distribución de la muestra diferente. Los resultados para San Andrés corresponden al periodo julio- diciembre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5 CuadroTexto"/>
          <p:cNvSpPr/>
          <p:nvPr/>
        </p:nvSpPr>
        <p:spPr>
          <a:xfrm>
            <a:off x="293400" y="56386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2700360" y="270000"/>
            <a:ext cx="633564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1 Imagen" descr=""/>
          <p:cNvPicPr/>
          <p:nvPr/>
        </p:nvPicPr>
        <p:blipFill>
          <a:blip r:embed="rId1"/>
          <a:stretch/>
        </p:blipFill>
        <p:spPr>
          <a:xfrm>
            <a:off x="460440" y="1455840"/>
            <a:ext cx="8161200" cy="4298760"/>
          </a:xfrm>
          <a:prstGeom prst="rect">
            <a:avLst/>
          </a:prstGeom>
          <a:ln w="0">
            <a:noFill/>
          </a:ln>
        </p:spPr>
      </p:pic>
      <p:sp>
        <p:nvSpPr>
          <p:cNvPr id="1272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150920" y="47304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Quibd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Octubre - diciembre (2007 -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5 CuadroTexto"/>
          <p:cNvSpPr/>
          <p:nvPr/>
        </p:nvSpPr>
        <p:spPr>
          <a:xfrm>
            <a:off x="119340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Text Box 3"/>
          <p:cNvSpPr/>
          <p:nvPr/>
        </p:nvSpPr>
        <p:spPr>
          <a:xfrm>
            <a:off x="992160" y="468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Quibd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 2012 - 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5 CuadroTexto"/>
          <p:cNvSpPr/>
          <p:nvPr/>
        </p:nvSpPr>
        <p:spPr>
          <a:xfrm>
            <a:off x="474480" y="571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992160" y="1487520"/>
            <a:ext cx="700884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971280" y="753840"/>
            <a:ext cx="7380360" cy="101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Quibdó</a:t>
            </a:r>
            <a:br>
              <a:rPr sz="2200"/>
            </a:b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Octubre - diciembre (2015 - 2016)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1" name="1 Imagen" descr=""/>
          <p:cNvPicPr/>
          <p:nvPr/>
        </p:nvPicPr>
        <p:blipFill>
          <a:blip r:embed="rId1"/>
          <a:stretch/>
        </p:blipFill>
        <p:spPr>
          <a:xfrm>
            <a:off x="200160" y="2565360"/>
            <a:ext cx="8607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7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- dic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Diego Alejandro Martinez Jimenez</cp:lastModifiedBy>
  <cp:lastPrinted>2016-04-26T20:04:17Z</cp:lastPrinted>
  <dcterms:modified xsi:type="dcterms:W3CDTF">2017-02-14T21:29:16Z</dcterms:modified>
  <cp:revision>275</cp:revision>
  <dc:subject/>
  <dc:title>Diapositiva 1</dc:title>
</cp:coreProperties>
</file>