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6829-296B-4AEB-8846-3EF975E0CC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DE28-3B4F-47EB-888C-AE880A3535C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3730-D162-4B93-B36F-927ACE1E2C8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D278-36A1-4F1F-BB9C-FF95B58CC58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EB4C-6257-4A88-B89B-F2515012471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5F24-15A4-4D57-B233-A35FBBEAF98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672F-4EA0-454C-ADBB-3F71A3C6FF7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F54C-464A-4F12-A5C9-FB8FDC18CDF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8BC5-0B7B-4AEF-80D5-FBE1BE2C3D3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2C1A-45D3-4056-9725-FE1FEBBA3A4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2A18-852B-4524-922F-95E8BB26A22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DA76-F270-4EFA-90DF-D29046AAE04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FCDB-F75F-4B04-9C57-ED9810DEC67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DA56DD-B4C0-4ACF-A47E-BB50E4B0D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C353C8-6E5C-418E-910E-A56D40A0F8A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6F1003-E2E8-4432-9AA1-4428786D4DE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BE44E9-AD15-48F7-AB37-DEFFE8B3CEB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37AF39-D23D-46E1-9798-840B6EB84EF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EFBBCF-A6FF-4E92-A04F-A4B337DE452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EE72CA-1A6F-41C5-9B13-B36239DEF97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F1CB52-84E5-4FD6-8ED4-958F8BF38C4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539C8B-1FFF-4933-87AB-7A655039B4A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969BA5-242A-48BC-BEDF-587E61EF058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62168B-69BD-487D-B2E9-EAF6E2A0C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B52131-18D3-4A50-805F-E0E593F9CDF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53C11-A78C-448F-A6BA-C4BBF2971EC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028C7-BE08-4B75-BCCE-7BDAE711EBE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38524-32B0-4F06-B4AB-2393F3F6A38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CC2E0-2E2D-4935-AAD6-3D191A7040E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EDB9E-81C6-46A8-B720-DD837ED3989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E4956-3672-44F2-A19E-ACFE9A5A42F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3F92D-3A38-4B77-9837-7CCD6B29DCC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49A5A-6B5C-483F-8AF2-50828E020C8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2FED7-8174-4C8D-A543-523B57A2D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C365-C8BE-4141-8E08-56CA1B52338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2A216-89FA-4CF8-A89D-1F140D0C71F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3C200-FE4E-482C-A1F5-7823045F03F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161BB-5503-4770-9E25-3366352655C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C01D4-8CA6-4A25-AB36-F44BB5FEEC8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2CF3D-3A17-4D6A-8B0B-7A947347477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7EF0D-AAD9-437B-90EB-124E7E45C2E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8BF43-1EC2-4659-9C60-B3F96679189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7275A-5F9D-4B17-8FFD-AA33426C3AD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AB08A-6F50-4782-99E8-66CC4E80401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8C0F2-803A-43EE-9DF4-CDD024EF26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6EAB-19DB-4DC0-B117-4D2C6E9EA76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24287-C3DB-4EA4-BBA8-95CA8337D34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8936C-FB4D-496D-8E20-E970733FC74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62787-7F2A-4FCD-964A-BBAC0113CCA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2AA0A-E837-4D00-A7BD-04C465B8848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77EB7-5CEA-4DB2-B1AC-5C9F44864F5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1E9817-F170-4F93-BF58-87D672A28CB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347305-AEFD-4B8F-8723-D75133022BE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5B802E-C006-40EC-8990-3645A96657F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8BFDDA-4A84-45FE-B9AE-E2566C06467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C83D6A-C033-4660-9555-D474258AB8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F148-B21F-4F62-BBAC-5972D224249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392A53-61A5-4E9C-AA17-EBF9E54F6B8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A0AFA2-2857-4578-9480-AD65B2776AF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426440-2378-42DD-B817-6F2E325F67D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28D7E2-A145-4DAB-AD47-4200A4EDF0E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68467E-8477-4B4E-8F7D-AE8EBF93FBF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5FB2C0-F336-4F83-B14E-FA581A0EAE3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3FBA25-01D7-49FA-A9EE-B547E996811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5BC22-1853-4FF8-873B-598306E7433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3F591C-2AA8-4AB9-BF66-2AA96D93067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AF3FF-5054-450D-93BE-D524EE8568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8EC3-23B1-4D97-8B1F-C472FE0F634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F6BB01-D871-4ED4-BFC5-510BB6192F6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127EDB-0271-4D90-98EA-969E6D930E1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6D38EB-453F-4208-8055-338740E98EB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2AEC6-2BF5-4E9A-971E-17B125FF3E6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1C9EC0-EFEA-4A34-BD57-645FAD43BC5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DB6D90-1C65-44A4-A016-81ECA310282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4BA77E-E31C-4654-B102-4CD87D635DB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D6733E-655B-4BD5-A87C-7BBBE347869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A92FB-B2AA-4ED2-BAD0-045BC82C627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5E023-9BD7-4FEC-9137-D3AD8B25A9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C241-8810-4CB4-B50D-E25739A21C9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0CEA7-A005-46BF-B5EC-61627593453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80394-2C6A-41EB-A749-EA15EA97B5E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AF370-7D36-492E-BB02-004A9CB1971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AFD17-D1F6-4862-99E5-F6C0AB38001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E8F60-62A8-4F63-9637-6E7639D1BF1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5971A-9C8B-49CB-B41B-E11DDFA3223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7FF00-287F-4E8C-BD7A-CC9FEE36380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F2DE9-AB86-4D7B-BC05-431D29B8A2B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EFF2D-1B7C-41AD-8C24-C211BA1E528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3BE0A-DB74-4B06-B457-66138B1C19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0E3C-D3CD-4D51-80E9-9B533122489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A8524-508C-4F31-95FF-B135A1CBBD7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0F7843-20CB-4763-B82B-DA454ACC035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07E4F6-5D70-4184-956E-D0FAF2DA354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F299B7-407C-4F05-B4DA-4DAB9343D57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CED455-312C-4A10-805E-99D35B8ACEE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E2B98E-9AF4-42FD-A3A1-A5595B1FBBF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EE022D-0D0E-4368-A63D-811A858C1FB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777CCA-B230-4619-9A60-221250DE4CC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42713B-6D2D-4783-8F24-98F88B82B43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8B889B-7AD2-4B1C-8209-D28AFA6022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C074-05C1-4872-8247-A6B2CC7DFAF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A8DDA7-54A2-43F4-915B-482D88058E5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671749-BB6B-4509-BA3A-367CCCB797E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69B95D-55C1-460C-A243-A194FEBE62D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6C5C66-B091-4B0C-A7C9-23F74FFE864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68344C-E69A-4CA1-90E3-EA9B48B1300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1F3B10-C627-467C-BD29-30AE64850EA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42B56-AB91-48CE-9D07-CB4B6A15AF6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24865C-CF97-44E7-9AD1-9040F4C71EB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A13614-6FE5-4C77-90EF-89FD73EBE44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E6A9C7-331B-471B-BB35-837715D073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BA7D-35EB-4198-8312-A5AB384EA85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FB080-2C56-47D1-8309-2EBD29070CC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9CD8F0-7592-46A6-BE89-CC8BFEDA6C3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7897E6-A5EB-4B77-825E-966397D7CDF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17D21D-BA78-477D-BDFF-1D5F34A17CA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EF128-0491-4896-91CA-8BF0E108C70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57C99-D3B9-4F50-BDFC-1D0BF23D75B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C2DA8-DFAB-4AB0-AEEE-5FE519BFC1E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6B2AE-3CEC-4D9F-B9AC-58627081323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BB1CF-AFBD-4634-A3AD-D22D1ECCCE1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A09E1-A4D3-4CC5-B96A-BD0BC334E9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FE1D4-DF69-4A51-B046-AC997E4B9A2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239A2-8971-47F0-A5B0-09A7C31A381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1F18E-F8C5-4C44-AC16-8977C4036CC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6605D-C95C-4BE2-8460-EA4614BD080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2DF2D-6AAA-40EB-A3D6-43086896650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83EA8-6F0F-4833-8DA5-94FFB771A33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3BF2E-0CF3-49C0-BC19-C2AA233F72D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E26A1-BD05-4D83-A79B-9164E4C4A52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615AC2-46B5-4DDD-808D-C16D06AAB85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64E8F3-1F2D-4D4C-B4E0-0F365389A34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A1D682-BA33-460A-9299-C6F3D30355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F837-AA15-4B90-AD09-6798545FE13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BF8F36-2BDF-4C95-8BCD-5AE89271A05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E59D95-D6C9-4297-BCB9-7FF7FDCCAB3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1BC7DD-14E7-4E08-94D6-0E1D5713433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8C0F24-3760-49CD-8193-AC43D48D20D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C034A0-E697-4A99-866D-7F3187B2244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C581B6-AF58-40EE-9CE5-A8B00EF39EC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48AF87-C224-4260-97FC-ECC10CD38C6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3F6140-25F6-43C4-BF37-FB68763A396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A97CAE-0FF7-4261-B4D6-9372CADA44C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DFF22-7783-4BA7-8642-EF3D26C701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1E5F-36B1-45F3-8B72-E4C36D3FACF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D0248D-0FB0-4C03-8926-4BD74CD27F5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6B0180-A060-4E93-932B-49360B67F21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1F945C-0713-47E1-97E4-CE2759F1265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3CF135-FDCB-46B3-94A2-98A83E8950F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92F40D-8BF2-4F1D-A891-5B53412781A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596D7-1394-40CE-A3E4-DFF03A8D158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0DEF1F-133E-4412-BFB7-05F61DAA149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BC62D7-42E7-45E0-834C-70E5300196C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9B04CE-34BD-46B6-A8BE-960E303F15C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C94DCC-D400-4014-8A88-C5D529588B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61F0A-DBB4-4FB2-A7F5-85184385FB0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73FFDB-FA08-4F25-A5EC-C8B135ACDB6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C2DB0-A5BB-489D-BC0C-A878FCF3779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27752-D474-4C12-A2FD-87FDAA04FCA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62B19-1D15-4893-934E-F37A893E25D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E7509-D3D1-43E0-A3A1-4ACDD0EAA16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6584B-71E8-4BBF-819A-671A735B480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65722-71D0-400B-903C-50C42FEFAA7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06E44-6E5F-490E-95DB-01C470C991E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45030-6364-462B-B2DD-A115DF5629F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934C2-B64A-415B-A0DD-6BB14278A7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BC1A0-3F7C-40C3-872F-1231993FC05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1C599-B297-40B7-9C1A-9451DF28516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52FC2-C953-467B-84A6-AECA531D3C8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0FF21D-3E75-48E1-9BA3-E193C7DBAF3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CD47AC-618B-4230-9F17-01A4742FA1F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17F5C5-3F31-4351-B6EC-0FDD82FDD86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D2E838-8AE7-43F2-B5C6-E55CACF643A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3CEFC4-41AD-4DE3-9D96-C078992D5AE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4F38E4-D625-493C-9C12-CF0C575627B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086BAB-CF6F-40A7-A7B9-607D545D73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1CF9C5-2E46-4B77-AA1D-8AE1A86BA7D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F20FCC-A868-45D8-8413-B11982335CA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F244AE-49D1-4E2F-BEE7-91AA11E1791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625708-B209-49D1-AF4F-06D136395D2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C33381-8434-4320-86F4-ABFF2369234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1C5866-65D3-4847-BED1-8696E65155F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C852DE-D725-4990-A3AD-4DDA62778CF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AA38EE-1EDF-4154-AB76-CE4E184898A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3CFEE8-138B-44AF-83D8-B052E1D0F38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B0F1F8-E03D-4106-8736-07D8FCD16C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1073C-095C-42F8-9276-089C8F543B8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23720E-D20F-4C03-BAF3-8FABAF34D02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72551-4A45-4A5A-A7E9-5B0A26130DA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07BB79-AFE9-4E49-A9C7-EECE4E73F6E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954108-6564-49B4-89D4-978D879BA04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E9F642-FC49-4A42-82D1-FCAFDBE471F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BB3C23-5D80-4B83-B815-03F037D4285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F003D-E0B9-4773-90D3-262B4B089B4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FE117-A97E-4CEB-814C-2513C7949AE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87F46-3B1C-4DC9-BFA0-EDA34AC7DC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C4588-BA93-4148-B8A8-C93C3BB6CB6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F6889-25E8-48E6-AED9-1F7DB981CB9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7DE7C-8AC8-44DC-AA56-8B7C8235661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80619-1E5D-4CBB-B354-B5A11444C88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E6847-E1A5-4194-BD91-01994217EDB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E39A6-08B8-4F7F-AAF6-57AEB6FF23D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51C3B-71B6-4E66-91DA-C51A46D75C9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93F3A-CD47-4347-8EEC-35FF3EFB6CB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51815-226A-41AA-8E38-88159A04749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D25F8E-4738-41A0-B5FE-55C3623DFD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07A432-78FB-49B6-85E2-D323C2D6F46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A353E9-B73F-4767-97D1-FBFC375CE1A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BFE266-AD2D-4B87-967A-C2E8DE0DA95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108545-48EC-423C-A4D4-11CD03F57BB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F68594-B04C-4766-A384-AFC96B82FA0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D3A9FC-0578-49E8-AEA5-68E3E7B7857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DB01CC-BD08-4B8E-A6C3-0EB695661BD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D08D6A-2665-473F-9A87-4D79794BFDE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3BE24D-7E5B-450D-A1C7-F0157539AC8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E084A1-C7A5-4CF4-92C7-41E0F4EA99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920737-02C0-4468-9317-AEFDF44D129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B0C361-EE4A-4C12-89A9-061A0FC1555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75BDA5-2BD4-45BE-859A-03D57F9144D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2628D2-AA0F-43A1-BF92-BBD44B8C5FE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EA79C9-DF29-4B84-9EEC-8D4957E497B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D4478E-EF40-49DE-863F-01ABC3F8406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15B75F-6105-490E-B739-FBECC76D747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9F9724-1CF4-4D6E-925C-335F74B94C5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5D3E7A-787B-43AE-9A6D-518179648DA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8E855A-AE95-4AAD-A902-A9DA299BB5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0A32D8-4742-4C07-B433-E7ABAAFB858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F7E88E-C16A-41FC-8648-4B44CBB2263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0F7DF6-D6F2-4920-B85A-FAD2C50ABEC6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87404-F906-45C9-A1B4-6E6F9F9187B0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C39B9-9F38-4ABA-A592-73789D22A12F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F34EB-7593-465E-822D-23E16554AD3A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21C7D-51ED-473D-8B74-CA6C16C4BCF3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DAFD8-CD92-4482-AA72-8F2937B38230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BF44C-8D92-49E5-8BC7-E202226774E7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4199B-25C8-49FB-BA05-C4093324EA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1F85A-E41E-48E6-A1CA-9BA70B1B579C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EFBDA-67A1-4EB7-B334-191A6597CB5B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BF6EF-22A5-44F2-BE2B-75FAA385AA86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015FE-4B04-4056-8485-197BCE4ED031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E7C3D-C4D0-497C-999A-706D581677A5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FFA68-C3C8-4708-8916-AB5B41D919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252BE-E675-473E-9FCD-2B7E6D2C78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B9E25-3D12-483C-BCC1-4EAC89DC5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D3DFD-DDAF-46FE-851F-9897C278A9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6E788-B858-4CD3-BF86-E6F514407A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D399-B565-4077-B089-E55A30FE3A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9BA24-DED9-429E-813F-21486B290A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AC304-160C-4E9B-B914-8CF5A3F937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6B4DE-1882-405A-AF40-1B96932F59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18651-EDC6-4C23-A817-6B7E820ED3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572BB-178F-4FE1-8760-D56CBD3C17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E1D50-BE3D-483F-B793-C0324A53924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9923-EAF8-40DA-A1BB-CEF1299222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8E3-98BE-476C-9D44-0886EC28AB4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5C3-B1D2-4558-B299-54E77C8C0BE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FEA-E01E-4828-985B-9D86212F696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6D4-6870-4C88-99B8-2572A506185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D173-8B14-4B19-8625-ED1A83EA75D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89C-3F4D-4CA0-960D-8FE90CD614B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663-F6CF-444F-AC71-A4718E889A3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848-76A6-4236-A239-EC0C2CD40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D8D8-7ADB-418E-8E29-5ADD6A18ADD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9EA-9281-4953-AAF8-50D6AC3E45A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958-BCEC-49CD-9B31-2AE2C37C57A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8E430-379F-4F91-8B0D-B92B8D3E175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D3FDE-1186-4CA7-A143-69E14074600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1420B-461D-4C20-8D52-16E7D8C0538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AD85D-1791-4589-BB14-951C4DB2DA1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FABEB-AFB8-44B5-ACC2-780CBC34A63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AD526-A42F-4999-8F05-B82D9C98C73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84D55-DF37-489B-8C53-C2739BF85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C22B6-2EB0-4D55-BD79-41FD3AFB1DB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0A1E3-569B-4327-9E50-C8321467085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64A27-61BA-4C3F-BC93-62F9B37DA85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54C31-4977-4C0E-BEE5-AA78CC71686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E3FA1-A0B4-4B43-AFAA-F08BB441D3E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A97FE-EB68-4C50-94FB-D51D7B1DFC3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4407A-2ECB-4B96-9A54-1190CF931CC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50F35-E0A4-4A31-9E93-14E8EC115D8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910BF-7CD4-41A9-901E-032F87A4ECF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E4FB9-D6BF-4399-AFFB-ABC0807B4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36F62-3380-4A02-A079-71AA8923CB9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D0221-5129-4CBC-9CDF-98CADDB4E17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454FF-8DF7-4F0B-B79A-A7F38EE0FE9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735DD-0B84-4717-8050-2940FBF19C6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8CE80-3BFF-4298-B8AA-9229C518655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2EA76-9593-401C-A702-D6BBB8C819F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D9E30-996D-4F18-A9B2-FF75B8580A4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71AF-DD44-4F20-96EB-510AAB792AF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17FA-E0B9-45AC-915E-004C7E639E9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6808-C1F7-44D8-A43E-0E56E7C7D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BE5F-F604-4290-AD6C-764B6E9BED5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5823-E76A-41CF-95E0-5B6B7928614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3FD5-3E8C-4B4D-B1C5-A0C26B555AC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232F-E998-40E3-86F4-8B1128EC31E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5047-2663-4A92-97EE-88EC559C89E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22B0-9451-4D7A-BDEF-8F228E9D9E2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4F33-6381-4BA3-A4DE-2217F4C1580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43E9-1965-4C4F-BEC1-39E6F313F48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9978-03C7-4201-BF8A-346B6B52F5C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A602-C0B9-41BB-B3D4-7D6B4611125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BCC7-7DD6-4062-97D6-41743D2358A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D440-DAF3-4086-AADC-C22F17EC8FF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B51B-08C1-4B3D-8B4A-A1D76596098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4A1E-1714-4ED3-8226-6B1A75C1925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9264-B734-495C-9230-8D18FCE6EC4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BE63-96DA-4F03-88E4-A62452D41BE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B5FC-B4FF-4EA0-BB3B-94EB7D29EFB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B7E5-A36C-4D1E-8A34-91399D2B4B5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74E0-84F6-4A25-BE71-20E3369D473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F6CE-3135-46E6-BF44-99F7F1F7D1C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8F9F-2E01-4C21-B642-7342670AE68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0470-E1C6-4E4A-A2F6-57C582A1BB7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4A17-808F-4BC8-9AE3-1E62B7F08E4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9331-EE1A-478C-9DCC-9B00935BDC8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Villavicen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febrer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 Box 3"/>
          <p:cNvSpPr/>
          <p:nvPr/>
        </p:nvSpPr>
        <p:spPr>
          <a:xfrm>
            <a:off x="1225440" y="5731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5 CuadroTexto"/>
          <p:cNvSpPr/>
          <p:nvPr/>
        </p:nvSpPr>
        <p:spPr>
          <a:xfrm>
            <a:off x="761760" y="51832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4"/>
          <p:cNvSpPr/>
          <p:nvPr/>
        </p:nvSpPr>
        <p:spPr>
          <a:xfrm>
            <a:off x="162000" y="5478480"/>
            <a:ext cx="873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1" name="1 Imagen" descr=""/>
          <p:cNvPicPr/>
          <p:nvPr/>
        </p:nvPicPr>
        <p:blipFill>
          <a:blip r:embed="rId1"/>
          <a:stretch/>
        </p:blipFill>
        <p:spPr>
          <a:xfrm>
            <a:off x="736560" y="1484280"/>
            <a:ext cx="77835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3"/>
          <p:cNvSpPr/>
          <p:nvPr/>
        </p:nvSpPr>
        <p:spPr>
          <a:xfrm>
            <a:off x="1728720" y="3254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4"/>
          <p:cNvSpPr/>
          <p:nvPr/>
        </p:nvSpPr>
        <p:spPr>
          <a:xfrm>
            <a:off x="382680" y="545796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5 CuadroTexto"/>
          <p:cNvSpPr/>
          <p:nvPr/>
        </p:nvSpPr>
        <p:spPr>
          <a:xfrm>
            <a:off x="891360" y="515772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6" name="1 Imagen" descr=""/>
          <p:cNvPicPr/>
          <p:nvPr/>
        </p:nvPicPr>
        <p:blipFill>
          <a:blip r:embed="rId1"/>
          <a:stretch/>
        </p:blipFill>
        <p:spPr>
          <a:xfrm>
            <a:off x="611280" y="1282680"/>
            <a:ext cx="78580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 Box 3"/>
          <p:cNvSpPr/>
          <p:nvPr/>
        </p:nvSpPr>
        <p:spPr>
          <a:xfrm>
            <a:off x="3419640" y="387036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- diciembre 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Text Box 3"/>
          <p:cNvSpPr/>
          <p:nvPr/>
        </p:nvSpPr>
        <p:spPr>
          <a:xfrm>
            <a:off x="1273320" y="40464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5 CuadroTexto"/>
          <p:cNvSpPr/>
          <p:nvPr/>
        </p:nvSpPr>
        <p:spPr>
          <a:xfrm>
            <a:off x="576000" y="5172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3" name="1 Imagen" descr=""/>
          <p:cNvPicPr/>
          <p:nvPr/>
        </p:nvPicPr>
        <p:blipFill>
          <a:blip r:embed="rId1"/>
          <a:stretch/>
        </p:blipFill>
        <p:spPr>
          <a:xfrm>
            <a:off x="628560" y="1341360"/>
            <a:ext cx="8129520" cy="3913200"/>
          </a:xfrm>
          <a:prstGeom prst="rect">
            <a:avLst/>
          </a:prstGeom>
          <a:ln w="0">
            <a:noFill/>
          </a:ln>
        </p:spPr>
      </p:pic>
      <p:sp>
        <p:nvSpPr>
          <p:cNvPr id="1304" name="Text Box 4"/>
          <p:cNvSpPr/>
          <p:nvPr/>
        </p:nvSpPr>
        <p:spPr>
          <a:xfrm>
            <a:off x="0" y="5373720"/>
            <a:ext cx="9144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 ^: Obrero, empleado particular incluye al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 * : Trabajador sin remuneración incluye a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Text Box 3"/>
          <p:cNvSpPr/>
          <p:nvPr/>
        </p:nvSpPr>
        <p:spPr>
          <a:xfrm>
            <a:off x="1763640" y="404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8 CuadroTexto"/>
          <p:cNvSpPr/>
          <p:nvPr/>
        </p:nvSpPr>
        <p:spPr>
          <a:xfrm>
            <a:off x="1053360" y="516744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8" name="1 Imagen" descr=""/>
          <p:cNvPicPr/>
          <p:nvPr/>
        </p:nvPicPr>
        <p:blipFill>
          <a:blip r:embed="rId1"/>
          <a:stretch/>
        </p:blipFill>
        <p:spPr>
          <a:xfrm>
            <a:off x="690480" y="1413000"/>
            <a:ext cx="7761240" cy="3814560"/>
          </a:xfrm>
          <a:prstGeom prst="rect">
            <a:avLst/>
          </a:prstGeom>
          <a:ln w="0">
            <a:noFill/>
          </a:ln>
        </p:spPr>
      </p:pic>
      <p:sp>
        <p:nvSpPr>
          <p:cNvPr id="1309" name="Text Box 6"/>
          <p:cNvSpPr/>
          <p:nvPr/>
        </p:nvSpPr>
        <p:spPr>
          <a:xfrm>
            <a:off x="108000" y="5661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  <a:ea typeface="Calibri"/>
              </a:rPr>
              <a:t>Nota*: Trabajador sin remuneración incluye a los trabajadores familiares sin remuneración y a los trabajadores sin remuneración en empresas de otros hogar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5"/>
          <p:cNvSpPr/>
          <p:nvPr/>
        </p:nvSpPr>
        <p:spPr>
          <a:xfrm>
            <a:off x="232560" y="5454720"/>
            <a:ext cx="440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  <a:ea typeface="Calibri"/>
              </a:rPr>
              <a:t>Nota^: Jornalero y peón está incluido en la categoría obrero, empleado particula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3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- diciembre 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Text Box 3"/>
          <p:cNvSpPr/>
          <p:nvPr/>
        </p:nvSpPr>
        <p:spPr>
          <a:xfrm>
            <a:off x="1133640" y="51264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4"/>
          <p:cNvSpPr/>
          <p:nvPr/>
        </p:nvSpPr>
        <p:spPr>
          <a:xfrm>
            <a:off x="324000" y="548784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5 CuadroTexto"/>
          <p:cNvSpPr/>
          <p:nvPr/>
        </p:nvSpPr>
        <p:spPr>
          <a:xfrm>
            <a:off x="474480" y="5257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9" name="1 Imagen" descr=""/>
          <p:cNvPicPr/>
          <p:nvPr/>
        </p:nvPicPr>
        <p:blipFill>
          <a:blip r:embed="rId1"/>
          <a:stretch/>
        </p:blipFill>
        <p:spPr>
          <a:xfrm>
            <a:off x="611280" y="1330200"/>
            <a:ext cx="763272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5 CuadroTexto"/>
          <p:cNvSpPr/>
          <p:nvPr/>
        </p:nvSpPr>
        <p:spPr>
          <a:xfrm>
            <a:off x="545760" y="5543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1" name="1 Imagen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29080" cy="3915000"/>
          </a:xfrm>
          <a:prstGeom prst="rect">
            <a:avLst/>
          </a:prstGeom>
          <a:ln w="0">
            <a:noFill/>
          </a:ln>
        </p:spPr>
      </p:pic>
      <p:sp>
        <p:nvSpPr>
          <p:cNvPr id="1322" name="1 Rectángulo"/>
          <p:cNvSpPr/>
          <p:nvPr/>
        </p:nvSpPr>
        <p:spPr>
          <a:xfrm>
            <a:off x="1944720" y="461880"/>
            <a:ext cx="552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 y áreas  metropolitanas y Villavicenc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Octubre - diciembre  </a:t>
            </a:r>
            <a:r>
              <a:rPr b="1" lang="es-CO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(2015 – 201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Villavicen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5" name="2 Imagen" descr=""/>
          <p:cNvPicPr/>
          <p:nvPr/>
        </p:nvPicPr>
        <p:blipFill>
          <a:blip r:embed="rId1"/>
          <a:stretch/>
        </p:blipFill>
        <p:spPr>
          <a:xfrm>
            <a:off x="981000" y="1557360"/>
            <a:ext cx="6608880" cy="1942920"/>
          </a:xfrm>
          <a:prstGeom prst="rect">
            <a:avLst/>
          </a:prstGeom>
          <a:ln w="0">
            <a:noFill/>
          </a:ln>
        </p:spPr>
      </p:pic>
      <p:pic>
        <p:nvPicPr>
          <p:cNvPr id="1326" name="1 Imagen" descr=""/>
          <p:cNvPicPr/>
          <p:nvPr/>
        </p:nvPicPr>
        <p:blipFill>
          <a:blip r:embed="rId2"/>
          <a:stretch/>
        </p:blipFill>
        <p:spPr>
          <a:xfrm>
            <a:off x="1233360" y="3933720"/>
            <a:ext cx="61675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1 CuadroTexto"/>
          <p:cNvSpPr/>
          <p:nvPr/>
        </p:nvSpPr>
        <p:spPr>
          <a:xfrm>
            <a:off x="684360" y="18900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M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9" name="1 Imagen" descr=""/>
          <p:cNvPicPr/>
          <p:nvPr/>
        </p:nvPicPr>
        <p:blipFill>
          <a:blip r:embed="rId1"/>
          <a:stretch/>
        </p:blipFill>
        <p:spPr>
          <a:xfrm>
            <a:off x="955800" y="1628640"/>
            <a:ext cx="73054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- diciembre 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Villavicencio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44480" y="1916280"/>
            <a:ext cx="788508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3"/>
          <p:cNvSpPr/>
          <p:nvPr/>
        </p:nvSpPr>
        <p:spPr>
          <a:xfrm>
            <a:off x="-398520" y="2589120"/>
            <a:ext cx="313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laboral por ciu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Octubre - diciembre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8 CuadroTexto"/>
          <p:cNvSpPr/>
          <p:nvPr/>
        </p:nvSpPr>
        <p:spPr>
          <a:xfrm>
            <a:off x="2484360" y="5668920"/>
            <a:ext cx="56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(+) (-): Aumento o disminución de la TD de cada ciudad frente al mismo trimestre  del año anterior</a:t>
            </a: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3 Rectángulo"/>
          <p:cNvSpPr/>
          <p:nvPr/>
        </p:nvSpPr>
        <p:spPr>
          <a:xfrm>
            <a:off x="2484360" y="2133720"/>
            <a:ext cx="6659640" cy="1839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5 CuadroTexto"/>
          <p:cNvSpPr/>
          <p:nvPr/>
        </p:nvSpPr>
        <p:spPr>
          <a:xfrm>
            <a:off x="11412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6 CuadroTexto"/>
          <p:cNvSpPr/>
          <p:nvPr/>
        </p:nvSpPr>
        <p:spPr>
          <a:xfrm>
            <a:off x="34920" y="4432320"/>
            <a:ext cx="2249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El total de las 23 ciudades no incluye San Andrés por tener una distribución de la muestra diferente. Los resultados para San Andrés corresponden al periodo julio – diciembre de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2484360" y="270000"/>
            <a:ext cx="6624720" cy="54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332000" y="47628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Villavicenc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Octubre - diciembre  (2007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5 CuadroTexto"/>
          <p:cNvSpPr/>
          <p:nvPr/>
        </p:nvSpPr>
        <p:spPr>
          <a:xfrm>
            <a:off x="75852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5" name="1 Imagen" descr=""/>
          <p:cNvPicPr/>
          <p:nvPr/>
        </p:nvPicPr>
        <p:blipFill>
          <a:blip r:embed="rId1"/>
          <a:stretch/>
        </p:blipFill>
        <p:spPr>
          <a:xfrm>
            <a:off x="836640" y="1628640"/>
            <a:ext cx="801828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Villavicen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2 - 20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5 CuadroTexto"/>
          <p:cNvSpPr/>
          <p:nvPr/>
        </p:nvSpPr>
        <p:spPr>
          <a:xfrm>
            <a:off x="54576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1442880" y="1488960"/>
            <a:ext cx="668196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4"/>
          <p:cNvSpPr/>
          <p:nvPr/>
        </p:nvSpPr>
        <p:spPr>
          <a:xfrm>
            <a:off x="1106640" y="620640"/>
            <a:ext cx="6408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Villavicenc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Octubre - diciembre  (2015 – 2016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1 Imagen" descr=""/>
          <p:cNvPicPr/>
          <p:nvPr/>
        </p:nvPicPr>
        <p:blipFill>
          <a:blip r:embed="rId1"/>
          <a:stretch/>
        </p:blipFill>
        <p:spPr>
          <a:xfrm>
            <a:off x="144360" y="2421000"/>
            <a:ext cx="8882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6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3419640" y="387036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- diciembre 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Diego Alejandro Martinez Jimenez</cp:lastModifiedBy>
  <cp:lastPrinted>2016-06-23T16:07:38Z</cp:lastPrinted>
  <dcterms:modified xsi:type="dcterms:W3CDTF">2017-02-14T21:39:22Z</dcterms:modified>
  <cp:revision>962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