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0916-A0FC-49CA-B65B-B742741B34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F689-5E7A-4184-99AB-C2CC7F9BCE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CA30-3CB4-4896-8158-3E55F25AB8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47DC-890F-405C-BD21-25455B4E53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BFA8-DEA3-4268-91B0-3AA4A04800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BE09-9585-459C-A909-D13D25E111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AA55-6FC0-42AE-8D8D-73C6DF916B4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8D3C-4C61-400E-BEC2-638CAD8583A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BEC3-1655-4517-8493-8D856A559F3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6FA4-042C-4D3F-88DE-1AEC3B71A45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ADBF-9AFE-492E-9617-AEA8752354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24F0-35F4-46EE-AC85-589F1FFE58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8921-E57E-47E0-B79E-5AE60213424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8D6CAE-F2DF-4A0A-8F8B-4DFE0E4A8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7F248-5CEF-4E82-B4E8-7551EF5AD9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D5B90-55C4-4B2C-9A2C-B87769674F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62A824-7A73-4A06-BE0B-D955ADB407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4884EB-26B9-4D50-B736-722680C70D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5D092-7CB1-4105-97FA-87249266471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F7286-EC7C-468D-8555-117D179BC70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C41BA-6B81-4BC9-B250-72016C6E0C0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5889C-3A23-4ED2-A9AE-EBABF347BB9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B3899-CCD5-4BBF-AD11-5640965448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ACD7A6-8A40-4A39-AC95-AB430AFD3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2BE90-2B1C-4209-ABBF-F46B76B9EF7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6A735-D73E-4EAE-A35D-028C67701EA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52EE1-86B3-4650-91A6-B09FD5B710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30CB8-EF76-4612-887F-393B7D34A8D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77A44-7E9A-4276-9B20-F8938FA440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1B853-45D2-4102-BB28-CC2B4C7B815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1E503-58F2-4782-8263-8D52322779E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4D90C-F6F5-4F54-823A-E992A8C2A5A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58E06-7851-4427-9917-E40DEF708B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604ED-DB1B-40A1-94DB-81B7E0610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A9AE-B3E7-4035-A8DB-B6E036E772B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1A81A-C4EB-4CC5-95EC-575086F4144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83FD0-2AA4-456C-A12B-50DBD5AFF1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3EB66-1F46-433B-B078-1FF1BA3A253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A94B-A4BC-4CA8-865A-1377EADD148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ADF6-BE6C-4FE8-B17C-179EC8043C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4D45-4C2A-41AE-B57F-7C0716E1FFA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E3DE-1B8D-48DB-A337-7CF3816F61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4CFD-4193-4857-9833-5387429FD91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04076-F081-4BFC-8DCA-91567B20F5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9EEC-0820-4D0F-9C2F-EE56D89C67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ECF1-500A-4F19-86D8-ED6710ADFA7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4481-1AC2-4161-9EEE-B4DBE52CDEC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FA31-1AB1-4940-AFA4-2E8C725D95D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D950-4B0F-45BB-88AD-E1763468955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EB5E-B179-4495-AC50-1A05FA8A53D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9F59-EA8D-4420-BDE3-13F5A5F8EC2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C2B97-9842-49DB-8EA4-11F94620C5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422C9-704B-46DD-83BD-96137CE42BF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A68CD-D8AB-4D5E-B427-FCAB8FFAA76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B3298-0B83-45F9-AC83-CA16B41C1E9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3F316-817F-4EA3-9E06-E9ABE45538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87EB-C51A-4D9B-90A1-9C870CAA5C6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77860A-1B47-4AE3-9B6E-5B9F006BA08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6FF993-1FF2-4317-9955-5E325038E2B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119DB0-AAAD-419B-9579-913CF424C0C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4B6CD-E579-48C1-A135-F12BEA85C51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D14DF-6C39-4B26-9C3C-3ABC3EF917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4598A-6B79-4F20-BC26-DC188A89E26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EE7F5-A293-4EAE-A3D1-14D00DF2F49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4DFBA-62E4-4DC6-9906-ADDDD8C3BA8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E841F-82C8-481C-B532-C721C0BA53C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92826-76D0-4D25-AAFD-22CE1CED97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3628-F9B7-47A6-AD9E-93C400E8C6E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58BA3-72A3-4F72-BEF5-3E3BDBAF7E9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68405-8101-49BE-8A4E-680FE288C8B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FEE5A-7259-4963-9F5D-0341EF497E6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4161C5-AD47-402F-B60A-2BCFA832FD2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4DB2B-AC44-4F80-BCD8-EABF1B17AB0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0C1BE-3DAD-410A-BD5E-4DB31084873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8F261-FC69-432E-B3B8-010FA8A0904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C8D25-E3D2-42DB-8500-AADAD952F5B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C48B74-F038-4BF2-A98D-D43C06D7BE0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A301C-3A0E-4665-9A0B-C74A7863D3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F4FB-6771-42E5-B889-8F2DDDB5F29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434A5-5A9D-4DC6-932C-B6ADCAAF530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3ADBA-6FED-46B7-AA29-928AD993EEB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7EB6-AB01-427D-AA31-00B72B07BF0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BCE8D-D5B3-4FEE-8274-E3600CF4D22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5800-B604-441F-9739-A14A14B79A4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97D55-4D54-476C-9B95-8F67F609246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7AC33-6B63-4942-BA92-666A11D2C1B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3A9E-B5C3-455E-AA85-707D16E27D1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D9AF-D234-455D-B185-3DDCAB19E1F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033C-E4DE-4D9E-A91E-E25FD178D1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AE47-BF13-4FC5-A3AF-473F6CDC190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52DD-95B9-4F12-AE19-B3CBCC39CB5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7700DC-7EDA-4CB9-8290-234E11D6B51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202B6-2344-49EF-9091-56F617C20E7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60807D-7AA7-405D-ABBC-8235D9EA3B9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97C7B7-4C0D-45A8-BED3-DDBE7D13683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0C433D-E8B4-4A33-9F21-A2300CCB30F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995B25-898C-4F5C-B36B-529F289B7C8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557EBD-D9C3-4DF3-AD87-CF5AECD4F8C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C9BA8D-9274-41DF-974E-46AE1340470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F0D4F3-0358-4A29-9A0D-C6F23731EC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AEB1-5B83-4472-B62A-19846DC68AF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C1603-DFD7-489D-8268-F0D24DE900C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675668-870F-4F6B-94CF-C4616FA947E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DECD27-6912-495B-8C16-47C87A21AE6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49567-67EA-408E-96E6-F72D1FDB2E0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06FFD-DBD9-403E-B51F-EB40E993734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905ED-373E-4DD5-865E-E7D840A07A0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124DA-1558-4E14-857D-C806449665B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8D62B-C86F-4CAE-8213-4A02AAE5EC3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B420B-5914-4A27-977D-AAB2F67FEB5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38216-EABE-4062-8107-688432E08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5E41-7B63-4149-BD62-4ECAD6B0AD1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C47B0-6534-4C21-BF38-23C23226A38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FDAF5-C521-4C35-85A4-68989B7A0EB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0FFC4-79CF-4E28-955E-429A5E9AF91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3B780-4A56-4634-AAAB-BC2C5DFFB7F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42BD1-1C32-4003-9ADC-CF32868AB2B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F89D9-1140-4F76-AFAC-3145F24F302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5F93A-6B55-4C24-9C0C-95A3658E9F6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CC58-BB0A-4F87-B1FC-C54688AEC67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5A4BC-FD2B-421F-893B-C476F10276B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C9FAC-862F-49E7-928E-A7E2DF0088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7E62-6E27-4C79-B99D-5AF59D8D8BE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E8D7E-9EC8-4BD3-9DCE-47AB40706C2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71F7D-CEA9-4499-BE7E-D25CE9AECCD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27BD7-C321-4928-A13D-E4D3578FF8E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8568E-1346-4B5A-A046-14A1EA4936B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F3C86-21CA-4985-B168-BD94FA7955B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39356-B160-4B04-AD16-30F60441129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0DCC-2C99-4DC6-A8E3-ABDDA9EEB59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59345B-3577-406D-85D4-318EEF5A1EC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7D2F90-D93B-4959-9EA9-99046C04C19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DACC2-A197-48BB-9D68-F254D07FD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52B6-7576-4A5A-94BE-CB53D92F652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E1F877-AE9B-4DE2-8AEA-D4E01DAFD39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AAD18F-15EC-4383-8F15-A2A17AEC7D8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8F9B7-09B0-41C5-ADB2-E00A3A8B6F2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3C6E24-C8AE-490C-8A64-2EB4E1B2A1C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28BC43-042C-4E46-B1B1-38A2E1A14B7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948DD7-E749-4716-9425-B994A30D164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F4DE8A-C063-418D-B9FF-BBEDE0856B8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E6116-4BFC-4FDE-911D-7D73A6F8D73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EE8466-5FAF-4165-AE7D-50D457BC6FF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BA0CC-6F35-497F-B350-226EA44F42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BF45-6788-40AB-A1A7-B6D249CE81D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7C9AE-7DB0-40E0-B9C5-BADFC529EC0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01495-A73B-44C8-AAC1-1ADA89E0434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C6FD9-13A7-45AC-BAF1-DED1CF5AF2E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01D89-9A0E-4364-9058-97E7E88B51B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4D892-A707-40C0-8599-7EBA9C54DE7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25C37-4116-4D7B-A87C-08BE5DD521C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1C31D-8942-49EF-AFE4-F0D6E7C90D3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FF5BA-2E3E-46C9-AEE1-EE8BAFA419D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23079-BB8F-4ACF-86DB-DD188DB4FA2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15418-B76C-4A58-AF70-1C3551C65D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AD84-56B2-49CC-A484-0FE07AEBF7F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B5F29-BE44-4FFA-B60D-30F336200B9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61D29-675E-4E1A-9789-23F6A0F1A60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E0538-5779-4322-A555-FD0B1294F02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7F81D-3A3A-4674-AB6C-EA6907962FB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462C6-DE2B-4475-91AF-2DE92C211EE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42466-09A7-4BA8-B3FF-5D373DE574E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D54E6-E7CB-4F8E-A600-BFD0EF42F0E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55D47-DD59-4723-B39F-81E08E6CA3A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4CDEC-ABFB-48A7-9DE7-B803AED1266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BBB17-C4DA-4C12-B651-0F8117309C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5EA3E-8D5F-4AB1-9F08-968398B08BF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BF563-E893-48DC-AC79-4079F67FAE3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11A6B-FEAA-4C3C-B2B5-CF5333C9A7B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3B0342-35D3-49B0-83BF-0C9B6BD2579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3D7649-8FC4-4DB0-83C9-A881C3F8AFA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0AF9F1-5AC4-4A2A-A6E9-FB92B9263E5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98F2DA-A3A4-4224-8B53-14315F0187F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7AA6F4-562D-46BB-8F4E-F3D47D98CDE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8EE041-F15A-4B08-A454-D94836D4C09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D40778-D5BB-427E-9AFF-DD611A50FB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BD1192-DE43-48EC-A79E-3A0D89E80F9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C9F788-44DC-48F1-8DC9-25853474465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21BA60-01DE-4B32-AFAE-E887641E70C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5E41F8-6ADA-4294-A761-895B9D9AA92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346ECE-2A8D-48C5-8627-1E865E5B2A1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C095A-3FA0-41A5-8A9B-702401E25BB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B6C85-D13B-4B68-99CC-C941B2AC5C8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B2A19-F104-4CA3-9598-2F73457D8F2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9D3D1-08A5-45A5-BB1E-77AAB3222CB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BAC92-AFC5-4E8F-A3AD-C9FB924DF9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4DC16-7386-479C-9BA8-BAAD3B08D2B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44F7E-EEAD-43EC-AE1D-C58A8321F42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B4EC8-9F8D-4D9B-A001-0C5C3CDB31E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F7A76-5976-4D02-A01D-DA3F2C21BB4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72A98-18D9-46D9-A0C0-884FE23F830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CBF2B-5A72-4C94-A407-FBA712835BE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D7520-25EA-4DE5-B50E-9F00DF74BE0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E6043-C02E-4D86-808A-A39F603CD4C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5932-A4C9-41EB-A338-54C7B5353E5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EC410-99E7-4F25-AB03-8E0B8E41D8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80B92-F240-4687-9DC5-428BCE6F3F6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C2858-109D-4108-A29F-406F157787B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9309-8B7F-48F1-935D-9421F4ADF73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D4C8-C850-421C-B01D-A3A1C91C608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7FF9-4483-4719-B603-0B1D16E3725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8506-DA83-4540-B5C5-E9859B8C337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E829-7BF5-4E8B-8CA5-5F9C11873CE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61162-5434-408A-BD29-E893E563338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B0442-F8DF-4D68-A337-402F181F76B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424AFC-51B6-4873-8EBC-8429CF519A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D81EB3-089E-4A86-99FC-16FDB3A5AF2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E2E9E3-5FCF-4BED-A681-15E3F0ADB66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D8215B-BFA4-475D-8296-775FF894738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5D9F5F-797A-4212-9BD2-E7158CF0D64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9CAD85-1FEC-4CD2-8358-CAAB7D94F84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9673CE-91CD-4BC6-9716-7ED1E0114C6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ABFA84-DA36-4677-9827-165CD65B02E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0A5FC7-93F4-45D8-970C-48A0A99753D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C67870-9583-4FC4-93B8-BBB7F483314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D4F69B-80CD-4D5F-B2EF-C3E43DFD1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78EB6B-E393-4DFD-BAB3-FA8F942ADA0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934FD3-8855-412E-ABD4-FF75250E400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73EB4-2915-4CC0-9A72-14A4D39D576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AABC7-2F8B-4816-A87F-F3501F388A0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125769-158A-483A-998C-19326E89E6B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6A1146-679B-4452-82B0-C630986C55A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51BE74-A083-4214-8265-CF46FD4573C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93228-1E3F-43E2-9425-7D2FED3075C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B2D8C7-6F21-4D35-936C-859369225A7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9C74B2-C70A-4C56-B665-121A17F25C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1CCD16-4A59-4F59-A3F6-640D655F60F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8568C-6F04-4B75-B2A2-3E5F593BD92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7016BB-471F-4C99-BF77-D54C2D60B9C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0904B-5DFE-4CFD-86BB-AADAF8A6785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93AA-0AA4-488F-9228-F1A557959D0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A6D97-24B1-496F-8DF1-76AF935067F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FA33C-F066-4AE7-B6AC-96AF0F162E0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B7E99-B6AD-4EA7-AB02-5B672924902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227B8-F66A-4923-B0DA-F7610E0B279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E9CF-0B9C-46F5-AEEB-F21B47ED47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AD43C-5CB3-45E0-ABE5-F31E0136EE9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AFD93-3018-4D86-B67A-078A49C2034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080B-D973-4521-B9A8-D6D321ED448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D2AC3-F0B6-46A8-B2F9-E97302FEC67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1A38-04F8-4ADD-9B30-470881E22B0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284D-2268-4E72-9C9E-35FBB31982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6853-DF16-4C63-9905-E1F3CE2288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68F0-7298-4673-8356-B1E37FCF7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767D-3E94-488F-BEBF-DAF7789D67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7078-E749-4CE8-BCCB-444B614EA2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F2D6-B815-4060-909C-0C768A4634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6DFC-8181-4C82-B4B5-18D05B156A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0345-6DE5-4951-BA8E-26AF593653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7FAB-B1C8-4D81-8B46-DBBC9E5AB0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60EFA-84EC-4A68-99BC-5D55C1FB38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21C2-ED6D-4325-B6C4-5E312FA903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9594-3ACB-446A-8DD0-A75856BECB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EF3-3FB0-4497-A267-6429C28AC1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314-F2CD-492F-AF66-BD27456F9B2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87B-8F94-4D29-8269-B468AB0D3F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0BD-2BED-4D70-B0AC-BEBA9F54EB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056-05C2-431F-9F1C-FA420EE7DDE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C3F-1534-4446-A138-A0A07ADCE8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D80-12FA-4C53-A669-0B99BF10FA9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AC1-C661-44E8-96ED-A604C537D7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E02-8915-40DE-BD15-E95B1F306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547-553A-40EE-91DF-00BA4E636A4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01A-53F6-4221-8BCF-34CD58DA5D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CEA-0576-43BB-A864-96F66FF65B5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5296B-7DCB-490F-BE4E-E2ED65FB57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EC815-3322-4F2B-8FDF-53E358ABEA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9BE5E-FBBE-4464-AE47-D578C0CE221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1CE01-18D9-45E3-BB55-3F9B124C09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47976-0BF6-406A-B962-F7AC4EB5D78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3721F-B188-4E1B-BBD6-90838EEECEE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86051-7D59-4402-AB72-0A34ED0B9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97991-F25E-40D9-A1F9-4EF0FBDB510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1CAA6-D51A-4395-9488-635197CDDFF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2A307-01F7-4010-B752-EE94CDADCB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7248C-E00D-441D-BD3A-2CD91D0792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26759-FFEE-4466-8764-91051EDEAC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CAE4A-F089-427D-A097-82F909795E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99D0B-D1F7-4935-9EDF-46379EB8C79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29FBF-F824-4913-AA05-D44CD8E33ED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A4EB3-86B2-4F78-86F9-819A56DF6C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8CAA3-4F29-4200-AE55-03023A421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EBE6C-CEDB-4C31-A255-3E09547715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81E99-76E7-41E9-833C-680BE474F3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14E20-43E4-4D73-91DF-C06B47B633F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D3B2D-5715-4215-B7E3-E35EE373F6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301B4-C258-465A-AFF9-3C170A1F31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5AC56-C7DE-4BEB-BB94-F3EAD947E0E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75AD5-64C5-4F9E-A785-E4244F21128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C1A9-BC83-4FAD-BC4D-88B0FDD19C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911D-2DFD-44E7-8EDE-3B8A078D85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D881-C264-497A-B51E-03CEC8B69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A923-F7B3-455C-8FA6-E12F9B61A0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CD44-4BD0-4C2A-B376-9990821FF42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642B-1D05-4099-B89B-3675C9A0A3B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45A3-DF65-4BB6-BE92-C60014654AD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5599-1415-4052-98AC-95A9EE41FFC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9520-26C6-4028-BFC6-C9DB2B621EF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0DD5-35A3-4193-B833-624CC914EAC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DCD-FB54-4C33-9099-6296B7502B3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E774-9409-46D0-A82A-270A096DCED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8058-6F1E-4A0D-A547-7AAF3A1EF5D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207D-2635-43C5-A9EA-9895EC838F4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9DCC-E456-4E5A-83FF-3AC83A6E042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5CB0-51C5-4EAF-898A-4DAAA6FD664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33B2-BEB0-4E69-834A-078C1F5A3BB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E4C6-C40C-4669-BE81-9A32A72EF30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300-01FE-4000-9AB7-EDB80DC1DFA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8768-C8A7-4B76-B7FC-2D8CCBC6B94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7D22-2E16-4912-AB14-4A742CAD374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8793-3641-4D45-9EEC-4ACBF3DB112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A57E-5B5A-4907-B11F-8EE37C1220B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B466-BED4-446C-8127-8A76EEFC128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AB4-16BE-4740-BBDC-AAE3224E352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D68-A758-47AE-8AA8-971B07DA8C1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4F7D-069D-4A14-966E-A1AACFDAFFD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Villavicen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22544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76176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162000" y="5478480"/>
            <a:ext cx="873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736560" y="1484280"/>
            <a:ext cx="77835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728720" y="3254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5 CuadroTexto"/>
          <p:cNvSpPr/>
          <p:nvPr/>
        </p:nvSpPr>
        <p:spPr>
          <a:xfrm>
            <a:off x="891360" y="515772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611280" y="1282680"/>
            <a:ext cx="78580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3"/>
          <p:cNvSpPr/>
          <p:nvPr/>
        </p:nvSpPr>
        <p:spPr>
          <a:xfrm>
            <a:off x="1273320" y="4046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5 CuadroTexto"/>
          <p:cNvSpPr/>
          <p:nvPr/>
        </p:nvSpPr>
        <p:spPr>
          <a:xfrm>
            <a:off x="576000" y="5172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1 Imagen" descr=""/>
          <p:cNvPicPr/>
          <p:nvPr/>
        </p:nvPicPr>
        <p:blipFill>
          <a:blip r:embed="rId1"/>
          <a:stretch/>
        </p:blipFill>
        <p:spPr>
          <a:xfrm>
            <a:off x="628560" y="1341360"/>
            <a:ext cx="8129520" cy="3913200"/>
          </a:xfrm>
          <a:prstGeom prst="rect">
            <a:avLst/>
          </a:prstGeom>
          <a:ln w="0">
            <a:noFill/>
          </a:ln>
        </p:spPr>
      </p:pic>
      <p:sp>
        <p:nvSpPr>
          <p:cNvPr id="1304" name="Text Box 4"/>
          <p:cNvSpPr/>
          <p:nvPr/>
        </p:nvSpPr>
        <p:spPr>
          <a:xfrm>
            <a:off x="0" y="537372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^: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* : Trabajador sin remuneración incluye a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8 CuadroTexto"/>
          <p:cNvSpPr/>
          <p:nvPr/>
        </p:nvSpPr>
        <p:spPr>
          <a:xfrm>
            <a:off x="1053360" y="51674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1 Imagen" descr=""/>
          <p:cNvPicPr/>
          <p:nvPr/>
        </p:nvPicPr>
        <p:blipFill>
          <a:blip r:embed="rId1"/>
          <a:stretch/>
        </p:blipFill>
        <p:spPr>
          <a:xfrm>
            <a:off x="690480" y="1413000"/>
            <a:ext cx="7761240" cy="381456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6"/>
          <p:cNvSpPr/>
          <p:nvPr/>
        </p:nvSpPr>
        <p:spPr>
          <a:xfrm>
            <a:off x="108000" y="5661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*: Trabajador sin remuneración incluye a los trabajadores familiares sin remuneración y a los trabajadores sin remuneración en empresas de otros hogar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5"/>
          <p:cNvSpPr/>
          <p:nvPr/>
        </p:nvSpPr>
        <p:spPr>
          <a:xfrm>
            <a:off x="232560" y="5454720"/>
            <a:ext cx="440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^: Jornalero y peón está incluido en la categoría obrero, empleado particula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324000" y="54878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474480" y="5257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611280" y="1330200"/>
            <a:ext cx="763272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5 CuadroTexto"/>
          <p:cNvSpPr/>
          <p:nvPr/>
        </p:nvSpPr>
        <p:spPr>
          <a:xfrm>
            <a:off x="545760" y="5543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915000"/>
          </a:xfrm>
          <a:prstGeom prst="rect">
            <a:avLst/>
          </a:prstGeom>
          <a:ln w="0">
            <a:noFill/>
          </a:ln>
        </p:spPr>
      </p:pic>
      <p:sp>
        <p:nvSpPr>
          <p:cNvPr id="1322" name="1 Rectángulo"/>
          <p:cNvSpPr/>
          <p:nvPr/>
        </p:nvSpPr>
        <p:spPr>
          <a:xfrm>
            <a:off x="1944720" y="461880"/>
            <a:ext cx="55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 metropolitanas y Villavicenc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 </a:t>
            </a: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2 Imagen" descr=""/>
          <p:cNvPicPr/>
          <p:nvPr/>
        </p:nvPicPr>
        <p:blipFill>
          <a:blip r:embed="rId1"/>
          <a:stretch/>
        </p:blipFill>
        <p:spPr>
          <a:xfrm>
            <a:off x="981000" y="1557360"/>
            <a:ext cx="6608880" cy="1942920"/>
          </a:xfrm>
          <a:prstGeom prst="rect">
            <a:avLst/>
          </a:prstGeom>
          <a:ln w="0">
            <a:noFill/>
          </a:ln>
        </p:spPr>
      </p:pic>
      <p:pic>
        <p:nvPicPr>
          <p:cNvPr id="1326" name="1 Imagen" descr=""/>
          <p:cNvPicPr/>
          <p:nvPr/>
        </p:nvPicPr>
        <p:blipFill>
          <a:blip r:embed="rId2"/>
          <a:stretch/>
        </p:blipFill>
        <p:spPr>
          <a:xfrm>
            <a:off x="1233360" y="3933720"/>
            <a:ext cx="6167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1 CuadroTexto"/>
          <p:cNvSpPr/>
          <p:nvPr/>
        </p:nvSpPr>
        <p:spPr>
          <a:xfrm>
            <a:off x="684360" y="18900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955800" y="1628640"/>
            <a:ext cx="73054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44480" y="1916280"/>
            <a:ext cx="78850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3"/>
          <p:cNvSpPr/>
          <p:nvPr/>
        </p:nvSpPr>
        <p:spPr>
          <a:xfrm>
            <a:off x="-430200" y="2584440"/>
            <a:ext cx="313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8 CuadroTexto"/>
          <p:cNvSpPr/>
          <p:nvPr/>
        </p:nvSpPr>
        <p:spPr>
          <a:xfrm>
            <a:off x="2484360" y="577548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 del año anterior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266920" y="2452680"/>
            <a:ext cx="6769080" cy="1843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5 CuadroTexto"/>
          <p:cNvSpPr/>
          <p:nvPr/>
        </p:nvSpPr>
        <p:spPr>
          <a:xfrm>
            <a:off x="11412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6 CuadroTexto"/>
          <p:cNvSpPr/>
          <p:nvPr/>
        </p:nvSpPr>
        <p:spPr>
          <a:xfrm>
            <a:off x="34920" y="4792680"/>
            <a:ext cx="224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357280" y="365040"/>
            <a:ext cx="67518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76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 (2007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75852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836640" y="1628640"/>
            <a:ext cx="801828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54576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442880" y="1488960"/>
            <a:ext cx="668196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106640" y="620640"/>
            <a:ext cx="6408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 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144360" y="2421000"/>
            <a:ext cx="8882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iego Alejandro Martinez Jimenez</cp:lastModifiedBy>
  <cp:lastPrinted>2016-06-23T16:07:38Z</cp:lastPrinted>
  <dcterms:modified xsi:type="dcterms:W3CDTF">2016-12-26T19:15:38Z</dcterms:modified>
  <cp:revision>957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