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E62-0746-4CE7-9770-C8AC39EE4E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F0A-0372-459B-B3C8-179946CD9EE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A8BB-722C-4238-A5D2-47F8E69181C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4367-1534-4469-B7EC-F5029B1A336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AFF-81A9-4D51-A599-8F0EF1D4B5C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3B71-2916-42E2-BCBF-FF91298BE77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84EE-CE33-483F-99E5-3487057D01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6A47-DF79-4BD9-BEAD-B6F3948F5A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7EE7-6A5C-403E-82FA-F7FF4D38A0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D980-A7BE-4EB7-994C-8E043A12B4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67B-D1EB-4A7F-882D-A647CAEE41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A4D1-CD43-4343-A5CC-70C6CF1102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5E2-8F20-4BE5-99CA-63B6A48EAD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E20A-E8B7-417A-869D-45AC7CFDA4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2AE-12BA-4DA2-88E0-FB0B132E2C6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DBCDEE-0D78-4EA5-8926-3909389E3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2BCA5-02D5-4DAF-91E7-F52E376056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5B4BC-5CAF-4B68-A367-D46EEE368F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10FFC-8355-414D-BA17-03223D79FB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38262-D96E-4530-98B9-89EFB447F4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D0736-0C27-40DD-9700-8DB965D25F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35CC3-6096-4138-8D0F-AB550CA65B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5DD28-9D84-4344-B860-4D22CF2FDC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FE55C-41D4-478F-A623-F77EDFC909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A5929-619E-4514-A824-D42446F30A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0DB78-1F41-4DB2-8085-EB7CBEC58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0195A-7CB2-41A6-9A2D-E79589956D7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A603C-61E6-4CE2-8554-BEF31A3F9AB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3C1F2-084B-414F-B582-371EB13461E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AA5CB-F3E4-4DB8-8E02-79F806D80D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9FE0F-6D4F-452E-AB03-5CAA85942AE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55D7F-2F3E-458E-845E-31053A8375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886BF-8644-463D-98A6-08834E462A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A6B23-BC0D-462A-B283-00CDAECE491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DD475-1284-477C-960F-692B3E7F767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A6E3B-F20A-43B6-BA9F-48DCA3331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09B0-6F11-4864-8C77-23CC05B23C8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B2CC4-2999-4984-940A-B087C225BDD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35BA8-43A4-4BC4-934D-2EFF141E510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D7C40-700A-4289-A2C4-0E0C934CB98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1046-6317-4C98-A299-9D6E0195CD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578E-8F75-414D-B004-5F3DB7E36D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DB84-9E65-40F7-8ACB-3C9D15B691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10AC-630A-4B1F-8A1E-84518F056C9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E29C-6CDD-48CE-AC70-669EFCA95A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2B50-21A1-4D0D-8805-CD36E3AC0A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6A2C-46ED-4411-93A9-3DBF960291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0AC2-2D42-4A04-B24E-81D5D1C337F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A76D-AD2B-477E-B4AE-AD49D3FEE8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5037-CF33-4BD2-83B6-DAA97FD1C2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13F2-FCC5-4B86-8FE8-B2FD35B9593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7C29-69B7-4E62-87D3-E75325FA1C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FDF7-A222-4FDE-A521-B7F74BA00B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F37AE-0AC5-47EB-804F-FBC6838AA7E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DABD4-0774-44BA-A191-CFB69716E2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E8464-CCB2-4C1D-A343-F9E672E28D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AB22B-2BB8-42EC-BEC5-87FA94FA404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B1061-28A0-458F-8280-E3D924E64E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C7DF-B795-462E-9684-61A47940D2A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26AA6-4185-4A0D-BE97-05B932C17D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291DE-3828-4180-ADFE-DF97C9B81A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8DE97-55BC-4218-AE13-EB200F15461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4AC13-DC05-4D34-BDD4-0C2DDBEF8CD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50FDF-4A9B-4F0A-A33A-5822CD19B82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23F04-749C-4EC0-89F8-35CF8B604CF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52A3B-8575-4750-B222-48B9D52D4D2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6EA7C-B6E0-4D0B-AC20-2D52CA6B4E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63E22-892E-4426-860B-E8F0538F75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BC2B5-B8EC-4AB2-AD38-C0159B9F10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2287-03FD-42B7-B4D8-5B7341B58C8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CE04F-5223-4C08-B270-40D061963E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D8A12-E597-44E2-A560-FD333C895FA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3D62F-E6AB-453F-BD15-A7277FC42C0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075AA-533A-407E-9A9B-689E56B93E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37D65-014A-4D50-B96D-701A416C55F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64147-48E8-47FB-8935-F5DD2F82F2D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67CE4-DA4E-41C0-9243-12C2391B0D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B7B2D-8CAB-48D0-B3A8-BAE2FC67EEF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7C22B-4F27-4594-8AC2-91F326304E8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21DB-5667-4E2E-8398-188A109C51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2CA1-603F-4947-8A23-BCFBCB0911A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6664-7BC5-4990-9EB8-3797244E076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1C4B-3EB1-40E8-9727-2A1412987CC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9E90-7DE2-4E22-A3B6-AA0AFC77A9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319F-483B-4D2A-8C03-95DFD40C0C8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4F8C-B182-4114-887D-16435D56FC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40E63-760E-456F-A1BC-A8DDF0BF56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AC447-FFBA-4045-B0E8-CA19C262B93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5129-187E-4D3B-A676-5E86D758283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2482-B335-4465-AFE9-51DC50BF20A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B2F5-51F1-459A-9B80-5BDC1C1D0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852D-E0CB-4E47-8963-B96829B1FA2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47DB-ECA5-4507-92A3-7498BEE0F66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F6F79-CCB0-4D72-B17D-4B76B221DF7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E5A53-F867-4A83-88D4-D4D2B539FD7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4C495-DA60-40EB-B3C7-21F3FB41614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2D209-CA5F-4178-9EB4-3C4A814F7D7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D0CA3-2AB5-41A3-AA1D-7C8F3FB504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206F4-D53F-43E7-8652-79A97ED224E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6F1562-21DB-4C2A-BEDD-7B554537EDF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BC883-BA26-4E66-8CA0-AB1F2C0A1E6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7585D-B6C4-4D0C-8698-D4DF15636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9F05-D042-48A2-807B-7329D729DEA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146102-4BA6-427E-8888-0039A8FE0B8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3533B-3D65-48C4-AD52-4EA5F825EF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0BD0C-4BF1-45CC-B05B-28134D13C17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50612-C5E1-49D5-B562-06AA4754AED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B2144-65AD-44F5-ABC1-B777071F533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5A6AD-D7BE-4504-85F2-77E52071D5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5D259-6899-45DF-B7A2-D57E02C82EF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DB427-D2C4-4E61-9BCF-78C16DBCE23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F6C6A-82C9-4015-88B6-2C88272BCD0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BA449-5F3A-4239-B2CE-F6922B177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56B3-5071-4D46-A964-DECA0628FC9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58DA4-25CB-43A0-AB3E-AE0E04AF5D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A7976-314D-4955-BFB1-AB848A26170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728E1-81CB-463B-8BC7-EF4369B8410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0BB75-4C20-4F9E-8A6E-2361E11383D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264FD-01F9-4D46-80D3-3272242F8DF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54A7-6E44-496C-AA64-86AA70C7B9F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90BC2-6E26-4ECF-AA43-6E7F0A28257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B7EB-4FBA-44C8-9D01-7F7215A85D4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4D86-7030-4A2F-B418-FB89575EFFA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EFF7F-1B95-47BA-9E98-60A81B0448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2568-77D8-4DE3-BFA3-1E9C490A672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1EFCF-8893-471C-9663-829F1CA111F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4CE5-E2FC-44E7-B674-F5916275235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589A-2C89-40A4-8FA0-E7EB5391BB2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1401-0FE0-48D8-BB00-C816AA69618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6687-CD1D-43EF-BAA3-985AEB930B0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C05F6-1FE8-48CE-B05F-D8C299C1C0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BA79-B6E4-45A1-AA9A-7EE73F36AAF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A3236-671C-435B-8BE5-242D9789964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461D2D-822B-4EF4-82B5-8DF1F8FB0D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14AB4-529B-4A94-9E5E-95AF51B53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13DA-391F-46D0-945E-DFDAA383431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676A6-F76B-4419-8345-C4B291F1B6D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E266A-70FF-43CB-A4AB-403D3F50B54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F5E0F-3DC7-4741-B283-76E73CC38AB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397A5-7992-449D-9572-A83911D9349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520C30-E6D4-4F4C-AD9B-E968285D34E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3DC5D-77FA-4DA7-8163-A166340669B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974B1-46C1-4BCD-9478-9AA8DE4FA31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E8F23-118F-4F24-A49B-B0FFD95816A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C669E8-01E1-4B70-AE3C-5515FBEE4EE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DE6C9-CB3A-446D-B161-CDE2D2C35E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5EBC-B376-47DC-B40F-548FE0869BC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8E8EF-6EFD-4E50-86EF-4B8C5D33127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32FB4-0D3E-4BD4-9E2F-C9CF1F9A33B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47C1F-C2E0-4964-90DA-773221E6AD7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2F821-AEE0-4BBC-8D8D-CEA35FAE8AD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CA19F-EAD8-4708-BE2A-7086E6D9B1B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E6591-2D57-499E-B287-0A3427647DD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9C336-54DB-49E2-A51E-51C9577676D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26AE3-2E7F-4C31-A4A4-807D12C7087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BCB06-299C-46CF-B671-36CF23BB25B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4E3DF-49E6-47DF-B73A-BF53F87ED5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F0A8-69BC-4B31-909F-4DE350DA3A1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EFD10-3FA6-4EBF-BCFE-C65C9CB39F4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ECDC-ED50-4F45-B6B6-9B684408FF6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DB2DD-04B4-401A-9FCE-E9B53658408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A3A2-058E-4F2F-8E73-164E8B2BE44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2AA2-B614-48E0-8561-A4156BD97D2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6CEE-1565-46E1-B1AD-847AB3A3D3C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E49E-F27D-4B09-9E2A-4D2087CD342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2812-F05E-41F4-A713-F77A721672B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DED0-57EE-4F34-B959-AC3D754FE69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C99D-B814-4241-80C5-F9336FA93B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7B3C-E13C-4BD6-A07A-2DFE5D962EB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5F25-6EB2-4DFE-B41F-1EBC69D68BA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B6A5C-9B44-40D2-B0A5-E23EC09ACCC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64E6E5-1965-42CA-90D2-1FB423AC48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2A531C-344F-4A58-8B8A-855F9A40BFD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5BC704-E32A-420A-8DEB-D68F07C1FC3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EFB21-1AD2-4CA0-9C12-05BA7F1E4D9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E46A7-6CCB-444A-BBDC-6D2C4561F77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D5AC0-035A-45D6-873E-9E60AAC9345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17AAE0-E629-4D57-B256-88EAA51109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CA2BA3-4D63-4C11-9825-2DBA17E1384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B776D7-47DF-41F4-B99D-D1BFE0A284F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85BC9B-B73D-4FE2-A6FF-D740D74413B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BFCEB-C0B2-44DD-AE8D-23515A8083D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15762-3E18-4848-B4EB-72C087CD6E1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73CE6-3CA3-48A7-874F-CA99F92011E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CE008-0AB9-41A0-888D-2FD737B9750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6F4B3-AA3F-4568-94D2-CD8B936E46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FC181-5F46-468E-92BC-4053A895500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E4DB8-7FF4-4FD9-9DD7-A0E4848CCF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CA904-FFF8-4CD8-ACB4-C7731A0B515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00DAC-9DA2-4B16-B2CC-691010C5A13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C3C80-888C-4593-BE58-BB89A292292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37C9D-2789-4624-A04A-D8832F9E18A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C3157-5A02-4306-9D96-E3B7739CC34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D8DBF-3908-4343-8EBD-859FD77A5A8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962F9-6491-4C3A-A26C-53C48F5C480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80DB8-1F27-4376-884D-C803A8558BB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705B-5AD9-4773-8C14-D6D31197BD1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8040-861D-45DB-8A34-14D61D4470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A4054-6109-4642-841D-EA6442957A1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6ED8F-0503-4CFA-A6B6-5FDD6A530C9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C10A-03F6-4450-ACC6-9E2AC58367F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D4C0-F5D2-49C3-A290-FD00961414C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FDD17-2877-4663-A6FD-50E535C9118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0EAFF-3832-4855-9425-76E91FE3369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667B9-0325-4779-A988-700A7028A09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746F-C6B0-417F-8597-89737152665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1B81-5179-40C4-88C5-4F667E5C2AB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A4B02A-2FC2-4699-852B-A06EEC1595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48097-B5EF-4605-A498-3B56C86F351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06B0D9-F128-462B-AC3C-B0C0561DE60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ACCA47-8FBF-4F91-9022-D1B6E731846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EF871A-12FC-4A4F-9B6F-0AD4DEAE147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0D0BB4-7596-4041-B539-CFE13FFBDAE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4C456-1067-4B21-9FD5-E911FF42630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2268E2-6967-4760-A4BA-869E2113084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8D7F10-3EE3-4CE1-A702-CE5E826B792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510D1E-E8F6-4DBF-8EA0-C2CBB11FA0D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E9373-224F-4BC3-AAD3-91903D229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0FDFC5-16A6-4E59-93F0-9516791316F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6C62EF-D5A2-4EDF-92E5-9BD53CB81ED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6C19B6-B363-4046-9B9A-93C06D63A27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DFECA-4302-4C4B-9A9F-00697D31EB3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01E31-E877-4DE7-9975-7E6969ED9CF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C0595-C9BA-4538-A101-D4AEE010630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CDD57-49D3-4860-B9C9-7AFB9E7B2DB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29942-4454-4B1C-9A9F-3580A36D4F2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9EBF3-6464-4A52-9C7E-F670811FA84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272E86-2776-44FB-917A-6C518E52EE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9F979-56EF-440E-AF7F-F9C447AA134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1F66FD-405A-44D8-8DDE-E4D58DA296F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196D1-1F20-4446-BAF6-E496584F8DF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87B80-DB81-4DA2-A774-76843C4C946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31F1-25A3-4936-8BEE-81AC7460B48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6B22-F67C-4A47-A01A-D5909D4CDCF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62038-572D-4EEF-B5EE-5EED4936790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C778D-0D89-4A61-86B2-8FEB6E881AD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79445-965C-4546-A2C8-FD72EBB31E3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314D-2320-4348-A24B-4500C7A2FE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2936-C500-440B-9F5A-5CE33A28E31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50104-0F65-4B3F-BFB4-395D54CC207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2A48-2241-423C-837E-AB1E1F9B8CF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6A79D-FEF6-49E2-902E-1E50F17D588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EA71-B579-4847-B2C9-0533D602D02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93B8-0A0E-432F-910E-3795557DDB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AD4F-6446-4FCB-B2FD-12A5868E37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2DEF-0ED1-44D2-8100-0BF3A6703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4523-34CB-4BC7-8ABF-D5A52BDAC6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5097-64E4-4503-93F9-986C555F75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DB31-EF3A-4AC6-B85C-48EC9A597C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7393-69FE-4EA9-BBD7-ABA9C5EC01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44F4-5622-4E14-8F83-87F9906271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84E5-AEC2-41DA-BF2A-20354F0699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2C27-3F39-471A-999E-0042992F0C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A0CB-BA33-4B5D-9EBA-3FD7DC736E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9C97-A727-4797-B7A9-C9BE8D7D77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9A8-56D1-489F-AC2B-D3B2B8388E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963-B766-4F85-BFFC-CBFFDE6602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3FD-C534-4407-ABC1-99D2EC66EB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BD2-E677-4A13-AE7B-FF6EC1AA10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751-AA96-4677-9FE8-1878BA998E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3C1-309C-4F0C-8B53-49F73DEBC6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97D-9AAC-4478-9E64-E721263FEE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E64-4A92-470E-A472-878D2400E2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592-E2B6-4A65-82A0-39DA74C23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7BB-EAB3-410A-8F63-02B183F426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19E-B3FE-4C0E-BDEB-F67BDA3061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054-7DF3-4205-B7E3-49C3DC3354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B3406-DBD0-4005-BCAD-2EC8E1E1DE0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C493B-FB00-4329-B1D6-178022D25E7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94923-312B-4637-B7CD-F7147516B4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EF053-518E-42B8-B842-F23E4346298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8BB82-942E-4B23-B79C-85FA8AE43F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BE189-B07D-4BB2-8241-E6DB17525E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175A5-21D4-44D4-A405-3FF304AC6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C4C75-AF61-4AAA-8745-702F0E2B3F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66CFF-CE09-4B96-B57D-06C5E6110E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DBC0D-5C91-44AF-8B99-429EF78A36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43C5F-EAE2-4564-85EA-3A9A71490A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B7C1B-ED4E-474C-97A5-061106EF32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09789-571F-40B7-B68F-6149192A6E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97FD-AFE5-4808-8263-A7286C1B30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C0D18-0E45-4134-A177-B67ACB3F8F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7BBD-3974-455C-800C-7C16F20D4F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6EB00-E80C-4044-AFA1-96E13FE23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44C67-A141-4A31-990E-6FBA416B590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E1874-BB67-4CF4-81C5-A64EB8CDD8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E1D4C-09CD-4744-846C-C9CA92B25D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ECC5-06CC-4A43-A70D-B9C3DB676F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DD311-D77A-466A-BA35-67F20EBB906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F9110-22D5-4FA7-B5E0-D61CD91562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E5772-D972-412D-B95C-2560645253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8CBF-D0BC-41EE-826B-30A2ED0454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19B4-194E-49C7-AAA7-8288AA7A9F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F7B-2010-4A8D-B5B9-7E43EA8B7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965C-C2E1-4A49-BA7C-D9799FC2FF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4F1E-F640-4BA5-86B8-ECB471085CB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2437-25F7-47FE-9E1F-8D1C017BF34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77B4-66B1-4C3F-88CC-CD698CC4BD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6521-124A-46CF-B774-1596687B24F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F116-C85E-4151-99C4-7D19CAE199D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F3D-55C2-46D1-AEB8-AEB06471321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EC0-BB8B-4F33-B7DB-A3AFE7B9463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0A0B-A66E-4B4D-B911-D5F29A21A7B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3E4C-AB41-4117-9FF5-D18062D9E10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1CD-2637-438B-86F8-F000A632E18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44E-CD36-41BB-AB21-983CF6A6E41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9B3-CD67-44DE-89A1-432649C6302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D1C-F496-4717-9775-6D29CD1AADB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3956-CCDA-435F-9422-C5A60ED5F81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F1C-6874-4B83-88F2-A9126B89767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B58A-7475-466E-8039-1A28500E454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6E1-8B19-43D6-89BA-07DE774181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4F2-D71F-4751-A3D7-7964B083B7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998-699A-4CEB-8E7C-3028FC36C5F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D31-22C8-4313-87CB-2E14FD75108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F9A0-D21E-49AA-995B-FE3353524BA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9750-4E6D-4BB3-8D46-8D7FA9AFF10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98BC-931D-470E-BFDF-7C72507F605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ta M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4360" y="506520"/>
            <a:ext cx="74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328680" y="1346040"/>
            <a:ext cx="79088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706320" y="1413000"/>
            <a:ext cx="761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627120" y="1847880"/>
            <a:ext cx="7756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40328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711360" y="1631880"/>
            <a:ext cx="74548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71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21348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465120" y="1773360"/>
            <a:ext cx="8210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689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9079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septiembre – noviembre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143080" y="217656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49480" y="1557360"/>
            <a:ext cx="7040520" cy="21589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392120" y="3860640"/>
            <a:ext cx="634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80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Magdal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88920" y="1808280"/>
            <a:ext cx="7305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Arial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Arial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7320" y="2205000"/>
            <a:ext cx="7885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2600" y="26431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3276720" y="378000"/>
            <a:ext cx="5867280" cy="5618160"/>
          </a:xfrm>
          <a:prstGeom prst="rect">
            <a:avLst/>
          </a:prstGeom>
          <a:ln w="0">
            <a:noFill/>
          </a:ln>
        </p:spPr>
      </p:pic>
      <p:sp>
        <p:nvSpPr>
          <p:cNvPr id="1268" name="6 Rectángulo"/>
          <p:cNvSpPr/>
          <p:nvPr/>
        </p:nvSpPr>
        <p:spPr>
          <a:xfrm>
            <a:off x="3203640" y="4599000"/>
            <a:ext cx="5940360" cy="19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333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10780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782640" y="1563840"/>
            <a:ext cx="751032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92160" y="1666800"/>
            <a:ext cx="7194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95360" y="2349360"/>
            <a:ext cx="82058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Ivan Mauricio Zubieta Ortiz</cp:lastModifiedBy>
  <cp:lastPrinted>2016-07-28T14:36:38Z</cp:lastPrinted>
  <dcterms:modified xsi:type="dcterms:W3CDTF">2016-12-26T16:03:23Z</dcterms:modified>
  <cp:revision>274</cp:revision>
  <dc:subject/>
  <dc:title>Diapositiva 1</dc:title>
</cp:coreProperties>
</file>