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3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9804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954600" y="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203480" y="685440"/>
            <a:ext cx="45734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2F3A-876A-4215-A245-E38E30AAD57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AD68-9262-4135-B9AF-B850FE8A3BB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0263-FE21-45C9-9712-8BF1020B505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295F-9908-413B-9A6C-F193866F650E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594E-BA3E-4C2B-A237-40D17C42B5D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91B6-12A2-4018-B69D-BA05EF6A076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69CC-52A5-40C3-A333-F0DA39ED1C2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E4A8-6BCA-4B3F-98B5-AAB0728A2C2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0B73-7700-44F7-953C-7E4EBE53805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3372-F354-45E6-A46F-4808EBAAB2F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5F83-A11C-4A47-B08E-C7DFA3684B1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92DF-F438-42E8-A5C2-246E5E7E008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CD94-39C8-4613-BB99-33E65C198E7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EA16-0E5D-494F-8EDB-0924312F720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6C8C-4603-4E29-9590-E07F1A87FE4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1F5EC3-486D-4897-BA1B-6713296CD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CF4705-58C1-4CD8-823F-4AE0C82CF2E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963DA3-B81D-472D-B03C-F93632D994B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8F8FE4-02B9-46A5-BD45-3CA32122A04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31AD77-E4C7-4131-8600-90B47F1CE04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73601D-F3DF-471B-9639-FFD04A14385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1089C7-2092-4600-ACDF-BD0CE205B75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680398-C04A-487C-BC12-231FE7FBBF6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01E38D-54A9-496B-B23B-2B8B3ABAE7D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95C51F-9F84-49C0-ABC0-CAEF01B12B8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FD9750-03C5-4427-829E-24D88D0F4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676C9B-D68B-4C79-98FE-445CCF35140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009F56-F1D5-4538-BC3B-4FD5C8C39ED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1E8ECE-9590-479A-BAAE-725678C32D2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AE4777-1617-48BF-B979-A5CB017962B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C19EB-36F4-4573-835A-45F583031AE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A17F6-B7C2-4FF4-BF1E-1249D025296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AE979C-1DCD-4520-B45C-7F3384336EE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9CD9D1-859C-4D16-B4D3-E404BC0FFD5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F5212-6A59-4A7B-AFBD-AB709C860A1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AAA88-2639-412C-9519-F3FFF69F8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353D3-4141-4E24-99D4-5396A028962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21C01-6A3E-4340-847C-FC2CDBF299B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152BF2-9459-4E13-9155-F2E0ED1C8E0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1097E-E39E-419A-B61E-3C6C4FF37FF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26ABB-D7D8-4CCE-B620-64395437EAC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DF217-4994-4319-9048-808ACD450DD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55F61-4755-415C-BADB-F6B0663DDBF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41D75-2848-4E02-BE54-FB508A418A5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F5E23-49F2-419E-B184-FDAFE72FAB6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C9A59-F6BF-4E3B-BFF0-7FD891B9F20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3A524-C350-4B4A-A9AC-1BD45D131C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09227-8BD8-4F78-A7F1-0208D46C329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335DE-7A23-4890-B879-9F698B144DE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F9AEE-D532-40FB-BC2D-9E8B624D37A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0E774-6E12-4FC2-9046-A86D96C29D9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0D0F9-AEC5-4EF5-A4C9-091158C19F3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78BB6-568D-4C8B-80F8-F047C0B3124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3EDF3E-EF5A-42A6-B283-77F778ADD5B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2F22EF-2784-4B9A-B640-2084E62856B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575675-947B-4856-9E9D-A28B4C28576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A74D8C-E68D-4D30-9099-42C7B3250DD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B95BA4-071E-4B4C-A269-6468854935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8B352-7E62-47FA-A5C6-1B4603FEA97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A33B42-1E01-46EE-8ADC-CDE92297F4F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224DC8-A5DE-40C1-A6CF-A3EAB81CB01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32D6B5-E187-4B99-87D4-13A7094F308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558D10-ECF2-4794-A602-EA16C1DED5F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BFC81D-2A79-464D-8574-0263AA356AC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5AE398-C076-40E8-AF1F-DEA921B5DE2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63AE47-3FFC-4443-B9E8-318032BAEDA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866124-947B-4E35-9563-AB5860BD36D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85185D-EF47-4BCB-85B8-DD6836C4E30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5ABCAF-1ABC-48FC-AF0D-AEA72F54ED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BA09-5B0E-417E-AE53-04A628FB674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16AF36-6C7C-46D6-862D-6A72D8196B4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506DA4-08D9-4B32-B06B-79C2533B20D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F1611F-6BD9-47FC-98DD-86BAE5E0CB8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D7F53C-347B-4F9E-A4F0-902EE40CE05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37FD73-EDA6-472A-94AE-367707062B7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7B4709-28C8-4293-ADA4-53E678B5523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E7A664-555D-4672-AA88-5AA4BF60822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38D63B-B5B1-41C6-9364-CC8AE7DC470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D5B97B-30DC-4AF1-9AEE-6F45665DF06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709B4-926C-42E8-878C-C51A86ED2F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12F24-D6DC-4867-9BE8-4403639AB3C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80B82-4D96-43B5-9B22-5D9A7D2E942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9C257-1FCF-4536-981D-CD2AFBBDE3D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8DBB7-E16F-4D35-8AA9-892B18A2FC1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114D5-5980-413C-A9C7-14D91FBF481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8E0FF-AEFA-4391-A0BB-BC625A29430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06435-192B-4723-8512-59E70251126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88ED1-0E18-4BA0-B847-B4CA0F3A0FC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AFDFA-5AB0-4773-A85F-605447519B1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F2526-1B89-4DC5-9FE0-AF54179CBEB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9D640-1C0F-461B-8F5A-9989763B80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BAD2-F5D5-45A9-9C0C-09DB5F26B1F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88DD6-9058-4710-AA3C-9F3E340B10E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A8B4A6-BCB4-4BBF-8DC5-E1C58288323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D0CD91-E190-435D-823F-9BC5821C5AB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D8C44D-A766-41C6-BF59-248531E3CE1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0EF1AC-F121-475B-8E69-BF7AA2E97A6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7C93B9-DE5B-4EB2-8089-0BBF80F0139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7FF2A7-9B80-4218-9114-B14AA850A94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BF860C-6855-48B4-A590-499A8B82AEE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9041C3-800D-4AAC-85FE-5E7B393AD9F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089B5F-5700-40A1-87F4-0E269324D2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EC9AD-4F14-46D5-BA34-ADCCF95D075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3A6D2F-0A33-4757-96D7-B4407FA6E6D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490EAE-B960-4FCD-B12E-EF71A0539E3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AE3A72-31FE-4444-8EDA-15A9EB8C012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1FB734-6E8E-472C-A862-C26C52A9087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23ED69-3584-483F-8318-8C818C48460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2A2EDF-9793-466C-9FC8-395B3369D88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A68072-FA85-49C1-9AAC-EB8666D5B27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C580B0-0308-4F37-AABC-5E914DBBA8E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182BAA-FE24-418B-98C9-C96B277757A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D4749B-8BDC-43C0-B962-FA72FFC996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0DE07-BFA0-417D-A70C-946ED2BBBAB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EA0333-4A02-4326-AF5F-4AA15824B45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29D5A1-4553-4A8F-A7C2-94B0B91C9CC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C8C405-5CA5-4D5B-851F-24317EA5DB4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A99227-C63C-4832-81FA-99FC952BC99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FAFB64-FF7B-4FD8-86F2-6D288BC44EC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E64A7-77F8-48B6-AF8E-42AC7887F23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98F8C-5B92-4B5E-ACFE-EDDCC8256BA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99036-8BCF-474D-9C1F-46826E631C9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9942A-6638-43ED-A0D7-CF3A5DFC1C2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B6933-A8E8-42CF-A371-BD794E8D7E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1F17E-AA5D-4B1A-9943-E5B56647E99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1D302-7DC7-494A-B4F7-8BD6F58358F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A4367-31ED-40C8-9D7E-5E59349750D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1AE56-464E-45C0-96EA-C98A9AB43AE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EB066-D7BD-4C5B-BA5D-92B36E4A6FF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2FE80-A178-446D-861B-202ECBB8EE0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DE686-BB44-4C69-8C4D-AC7E89626D1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A9295-4948-4257-B07C-B08AF67B258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5AE8B0-7F99-4817-836B-3475B579E07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539185-12CF-499D-ADC9-F20B094E0FF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5338B6-4592-45B0-B89F-D61E69D9ED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D3AD9-45D8-40D0-9884-D15960B0664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294754-3045-49C5-98B6-30A31BD9ADE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E36643-5A1D-45CD-9C6C-1C0EDC88F33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97831A-A9ED-496A-AF3B-9A8187B5B36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FD6A42-975D-48BF-8C83-64E5590E2F6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DDF1D2-8B20-4D50-85C8-0C6E1342891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60DEF9-7883-445A-9D67-15381A2AC85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5ED5D7-6605-4C2F-8C19-D0FCCDCECD5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61B854-7F22-49D7-9FFA-7CCC09DEE80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FDC01F-7997-467C-BB13-DD714962667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E49684-2301-4E6C-826D-117A524945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01B3-B464-4C52-BE7A-E05D01548F5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19EA26-A1AF-4AB9-904B-ED8C2AEA0FC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BF256F-3DA1-4F8C-8475-9F407E71A69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373991-E897-462F-8050-05AE47B7BED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C8F997-E59A-43B1-A244-0FC643F47F6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7587D0-606A-4974-8D01-8F425016081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741656-4410-41FC-AC85-4ADBE84C198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ADCD3B-5206-4D5A-BCC0-0AFBA9FE642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96DB04-03B9-4C61-BDFD-4F56C1DEEB1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975897-AB64-46B7-9973-CB9018C27C4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5CFF9F-36EA-428C-A869-547251CF30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E81DA-5CD4-4387-8276-37F63ECA5A7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6A7993-B4EF-448B-827C-95D2E0E8651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31A9B-8E12-46C3-8DF4-67FA892B412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353E0-E1F5-4988-AE91-206FB6C73D2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B2681-94E8-4617-A8C6-7DEF197373E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3382C-298E-423F-8078-6FF716F57FB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7BEB4-C8C8-4CC1-BDA1-73564DB3502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E0830-40C9-483A-95EA-274F7994DB1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22325-306C-4DC9-AF5F-4C83B610BEF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8CB2B-6BBF-4369-AA48-906A3122004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77BB4-D10C-4B75-98B5-34B0FBF032F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6D02C-62E7-4098-B2D9-A3A7EEEB264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6EB96-E4A1-42A1-8ACB-C7FE5A4DF41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19526-831B-4944-99A5-4F934E65BDD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888D6-2CD6-4FDC-89D9-D8A6D52AF66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00A91D-CBFB-4D0B-BA89-7BE806F49C2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325DDA-5568-4F93-A811-FEB4F552812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369C11-17A0-4675-8BEF-2F84EEA0BFA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9EB7B1-2ACA-4188-84EA-2DD91E7EA88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7CC37A-C2CC-4A7C-80A6-C6A09CD7365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E70F5E-63A9-41B0-93A8-94C1A35D110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933276-CDD8-4B07-B691-FD40F5B1D2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89060-4EE9-425A-92F6-8B315A59E52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16AD5A-D313-4798-A5D1-1E87B2CC548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568623-9256-4D62-900A-AA4D2FA7E5B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79BB2F-0345-4670-BB8F-308375FDB6A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52AD63-1CC0-40A6-B91B-162A882D24A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E2254F-443A-45F9-B523-AAE6F227560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9B4F2A-163C-4E7D-9E18-019249AC36B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E39805-A292-42C4-BF69-C43AF81E188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1822F0-8C04-42B4-982F-A27DDEFB3CE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F33B57-2EC1-4A97-989A-E1212070123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62D9A0-D24A-432E-A9AE-EA40674BDF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29FF0-9B89-4E14-95A3-975F0B4828C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654EEE-6815-44D8-83F0-CA3F40A6C12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E8791A-C48F-460B-AD6A-20C7A01F341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8C90CE-3B0D-48A9-AA7A-E1A53CB7C2B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D53C61-B3E4-4AA9-8A04-8A60F33C09B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5C4A38-411C-45B0-8F75-D8C3B9353371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DD8029-F583-4370-91CD-AF03709D154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C874FF-BC9B-4700-B323-E5F33A8CA94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FE05F-7C8C-49B0-B9A0-2938500E445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97E6A-2E95-4B78-8CE8-23E2257587B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E95AC-D81E-4767-A33D-72C6282BEA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5D7BE-0565-4EBF-9FE2-EB205F86456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FBD4C-61BB-4383-9524-9BC4B6CC365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08154-EAB3-41E4-8F23-2833DEAE6F0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7C65F-7F5D-4CDD-BD5F-1738219DDA1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B2373-BC9E-43B6-81F1-097E1F4AECC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5B71C-CE97-4363-B608-B19458D5423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B9974-8987-4143-980D-225A8369600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A96C8-65C7-4B0D-B7CB-EDCE6A0E775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8381F-D1F4-4133-BE31-6DF4852634A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DC4A7-0314-44BC-8428-9513D315BD7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B4C9C0-70B1-4460-B5DB-35D17273C0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0A6DF-53D2-44B0-B5F6-B7CA15AE70F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FBF6F6-C4B2-463F-BDEE-A12BED5F88A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DE3033-1F0E-4D70-A337-8C38A9CF743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6B886C-A5F2-472E-843C-7147D59E15C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EAC27C-DC37-46DD-8E94-71FC901AE71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C9231D-5CE8-4D8D-8122-05E13DB52DD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BB2B48-C9E0-491C-807D-4455D2142C3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3FA746-08E1-430C-B9AB-190344C7583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06DAE7-6E14-424D-8BD6-4E9F8DB5230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5B7F23-F4C1-404C-92D5-B672387ADD3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B24940-7EDE-4D81-B475-DD14E929FD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52DEF-2AA9-425C-B332-71B179539E1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9D788E-90F4-48CE-A258-95BD68BA7F8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AA5D75-74AA-4B64-9469-1B160D7C0CE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E33A88-E9B4-426A-BE06-236BB08F7DAB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4B181A-9536-4849-BEAB-551EC330FE5B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A49EEF-D9B2-4945-B88A-345EF373C60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B16A98-78C5-4402-A79A-9A1619B0FC9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5E27DD-1F55-495E-B883-CBF3696E2CC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B78FB2-16C3-4228-8413-7998364ECE04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E92658-6AF0-4087-AE3B-570D6D53DFE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12D297-1217-41DC-950F-D0ABA3B41D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EC795-84A2-4F90-9EEF-DFBE1998A36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EB2284-E428-4378-90A7-B1695A48E3D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31B4D3-AB37-429C-842D-242C1574637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30DFB2-3967-47C8-BB36-474EE7D8D572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12837-F10A-435A-8FE8-86BE4340E146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3433A-EBBA-47B4-97B2-531332543815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6872C-3764-4889-807E-D7115884DC33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8F464-0E6D-4664-A25F-65840D1D5531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F9E94-14D4-4413-BE65-00A54842D527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4698C-12CF-42F1-8AC3-21066DFD76A7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78EEE-9035-4D52-A2C5-9B28F4FF96E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49886-3E62-4A55-B009-587B80B2BA84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F96FD-56ED-4B74-B888-F95D3D23045C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A5736-798E-41B1-8B89-0C17BC1069FD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DCA07-8F42-4E5C-92D0-5BA197E46557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F4CFA-2A56-4BE0-BE65-32278FADDDEA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8C2F2-B13F-45FD-8339-DD0B70B4383B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85968-8BFD-4C0D-B235-FF7170E4C96F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25D12-F3D0-4DD6-936B-BD286B8D94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C7B24-586E-4C17-BB3B-3B67089452C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50B57-EA02-4B43-AB5F-5328D61E6A8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B511-9FBB-430F-B821-383C24645B7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DD04-63C0-41B8-9E12-1CA40D87EB9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B551-9CA1-46C0-9B66-72D5A35FBA0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E678-EFA4-4831-8113-CEFC1EA1E7C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4823-E07F-4A32-B3A4-2D9797F9ED6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1B5C-9F7E-4343-8B88-DB3B5056A04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89E9-5DFA-4442-9A36-B8974E9404B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7CCA-B6DD-4B21-A967-9139E963218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28F6-4C6D-4E10-8CEF-7C158B103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A606-5006-45CB-A041-112FCFA032E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52F4-282B-4533-99E9-8A58672D2D7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7FC5-CE35-457C-A7E2-26C5C677A5E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0BB69-BCFB-4014-BBEF-4437897B40D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6A5AC-009A-485C-8DF2-52B2938958D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90FFF-B340-4259-A0C6-C6EB661A152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8805A-CF81-48FE-B31B-215BA5722B4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B7FAF-60CF-452D-BA53-13544D12DB1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80A37-AC93-4678-915D-92564107763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E43AE-579A-42A6-9CE4-F6BD76EAE5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CBC7D-C5D0-45E4-A074-9059817E5DB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8761E-0FA8-48DC-83FA-9377308419F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876AC-8B61-412C-A631-06BEA619AB3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924AA-299B-4624-B7A5-B4A5805E1DB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23012-66EB-46AB-9D7E-B6F208F6500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6DB63-79BA-4631-AB49-1142D55602F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3E396-76E4-4EC1-A3BB-D08FFBB4124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F817A-B340-450F-836E-EB7B010D3A9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C406B-2C5A-4042-BB17-CC554C32946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5C648-C1C4-4A27-9835-F6D437A01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A0142-6E89-4698-8385-FA8DABEE339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63A4B-0837-4DBC-901A-1027FAE6868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D5617-3034-4228-A514-DC937177572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0DB33-9AA9-41C6-9666-7B2B634371B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9B3FF-EA09-4CE5-BF71-C49226ECDAB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04C24-14A7-493F-8B73-02914B60AAB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5D1CB-EC95-4AE3-AB40-865BA040380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55DE-AE19-4C03-8FEF-866B9D620EB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BC02-7DEC-41A2-9CE9-D8FFACEECDD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F183-DFCB-49C6-B02A-EB09A9B0A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A043-701C-4602-BA6F-20FFB545038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0F1B-9F19-451A-82FC-AC236D58227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80F5-E03F-4A93-81E2-A497C02323E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9502-AB2C-4BA1-81AE-FF80E3A0F5F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0C02-77BA-4E9C-82B7-D069D4445A9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438B-DDBF-4D4C-8A58-8EDF841F0F0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9AF8-462F-4243-AFDC-35CD1C8AB76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4B92-C407-4456-B232-B4A4A9BF310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FD78-9CDF-4C96-9B75-8B861D8FD26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2BDF-80D4-49B4-A35E-0C251A50E7A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F0DB-A634-4C35-80EB-2DD776D3C78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0F8F-0139-46FA-B33F-78345264A39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27C0-0ECA-444C-9464-42A75835CAB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15B5-1253-468D-AFBB-674DB6A714A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6CF8-1B63-4287-9F1A-1E8DDEF3F39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5C44-0AAB-4157-9447-53546108892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EB6D-C54E-4C82-88B8-FAD808597EB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276C-5987-4A69-8F7A-A38A213D586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A23C-8CAF-4D8C-AA82-87AC6832334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34DC-34E7-4F96-873A-733E5E8D017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C715-1E89-44F0-934F-0AF5797CE57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38FA-892F-488B-8727-AE0CC44AA54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641F-8D74-4D81-801B-0B0014B94F2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5D9A-444C-4E53-B2D6-7EC972E9332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Riohach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enero de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 Box 3"/>
          <p:cNvSpPr/>
          <p:nvPr/>
        </p:nvSpPr>
        <p:spPr>
          <a:xfrm>
            <a:off x="1258920" y="52056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 Box 4"/>
          <p:cNvSpPr/>
          <p:nvPr/>
        </p:nvSpPr>
        <p:spPr>
          <a:xfrm>
            <a:off x="108000" y="5229360"/>
            <a:ext cx="871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*Otras ramas: Agricultura, ganadería, caza, silvicultura y pesca; explotación de minas y canteras;  suministro de electricidad, gas y agua; intermediación financie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La suma de las participaciones puede diferir de 100%  por la no inclusión de la categoría ”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  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6 CuadroTexto"/>
          <p:cNvSpPr/>
          <p:nvPr/>
        </p:nvSpPr>
        <p:spPr>
          <a:xfrm>
            <a:off x="1265040" y="4941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4" name="1 Imagen" descr=""/>
          <p:cNvPicPr/>
          <p:nvPr/>
        </p:nvPicPr>
        <p:blipFill>
          <a:blip r:embed="rId1"/>
          <a:stretch/>
        </p:blipFill>
        <p:spPr>
          <a:xfrm>
            <a:off x="1254240" y="1557360"/>
            <a:ext cx="738324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Text Box 3"/>
          <p:cNvSpPr/>
          <p:nvPr/>
        </p:nvSpPr>
        <p:spPr>
          <a:xfrm>
            <a:off x="1152360" y="33012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Text Box 4"/>
          <p:cNvSpPr/>
          <p:nvPr/>
        </p:nvSpPr>
        <p:spPr>
          <a:xfrm>
            <a:off x="4680" y="5373720"/>
            <a:ext cx="878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*Otras ramas: Agricultura, ganadería, caza, silvicultura y pesca; explotación de minas y canteras;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6 CuadroTexto"/>
          <p:cNvSpPr/>
          <p:nvPr/>
        </p:nvSpPr>
        <p:spPr>
          <a:xfrm>
            <a:off x="126504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9" name="1 Imagen" descr=""/>
          <p:cNvPicPr/>
          <p:nvPr/>
        </p:nvPicPr>
        <p:blipFill>
          <a:blip r:embed="rId1"/>
          <a:stretch/>
        </p:blipFill>
        <p:spPr>
          <a:xfrm>
            <a:off x="579600" y="1306440"/>
            <a:ext cx="762624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1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02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3"/>
          <p:cNvSpPr/>
          <p:nvPr/>
        </p:nvSpPr>
        <p:spPr>
          <a:xfrm>
            <a:off x="3419640" y="3798720"/>
            <a:ext cx="52560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Text Box 3"/>
          <p:cNvSpPr/>
          <p:nvPr/>
        </p:nvSpPr>
        <p:spPr>
          <a:xfrm>
            <a:off x="1000080" y="49860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5"/>
          <p:cNvSpPr/>
          <p:nvPr/>
        </p:nvSpPr>
        <p:spPr>
          <a:xfrm>
            <a:off x="517680" y="5445000"/>
            <a:ext cx="799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posiciones °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7 CuadroTexto"/>
          <p:cNvSpPr/>
          <p:nvPr/>
        </p:nvSpPr>
        <p:spPr>
          <a:xfrm>
            <a:off x="1120680" y="5202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9" name="1 Imagen" descr=""/>
          <p:cNvPicPr/>
          <p:nvPr/>
        </p:nvPicPr>
        <p:blipFill>
          <a:blip r:embed="rId1"/>
          <a:stretch/>
        </p:blipFill>
        <p:spPr>
          <a:xfrm>
            <a:off x="473040" y="1557360"/>
            <a:ext cx="780912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Text Box 3"/>
          <p:cNvSpPr/>
          <p:nvPr/>
        </p:nvSpPr>
        <p:spPr>
          <a:xfrm>
            <a:off x="1403280" y="47628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 porcentual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Text Box 5"/>
          <p:cNvSpPr/>
          <p:nvPr/>
        </p:nvSpPr>
        <p:spPr>
          <a:xfrm>
            <a:off x="250920" y="5300640"/>
            <a:ext cx="864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posiciones ° 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7 CuadroTexto"/>
          <p:cNvSpPr/>
          <p:nvPr/>
        </p:nvSpPr>
        <p:spPr>
          <a:xfrm>
            <a:off x="1277640" y="4896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5" name="1 Imagen" descr=""/>
          <p:cNvPicPr/>
          <p:nvPr/>
        </p:nvPicPr>
        <p:blipFill>
          <a:blip r:embed="rId1"/>
          <a:stretch/>
        </p:blipFill>
        <p:spPr>
          <a:xfrm>
            <a:off x="1552680" y="1413000"/>
            <a:ext cx="606096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8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Text Box 3"/>
          <p:cNvSpPr/>
          <p:nvPr/>
        </p:nvSpPr>
        <p:spPr>
          <a:xfrm>
            <a:off x="3419640" y="3798720"/>
            <a:ext cx="52560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Text Box 3"/>
          <p:cNvSpPr/>
          <p:nvPr/>
        </p:nvSpPr>
        <p:spPr>
          <a:xfrm>
            <a:off x="809640" y="52056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 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6 CuadroTexto"/>
          <p:cNvSpPr/>
          <p:nvPr/>
        </p:nvSpPr>
        <p:spPr>
          <a:xfrm>
            <a:off x="324000" y="5438880"/>
            <a:ext cx="849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La categoría “otros” incluye: incapacitado permanente para trabajar, rentista, pensionado, jubilado, personas que no les llama la atención o creen que no vale la pena trabaj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7 CuadroTexto"/>
          <p:cNvSpPr/>
          <p:nvPr/>
        </p:nvSpPr>
        <p:spPr>
          <a:xfrm>
            <a:off x="1122120" y="5176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4" name="1 Imagen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55792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5 CuadroTexto"/>
          <p:cNvSpPr/>
          <p:nvPr/>
        </p:nvSpPr>
        <p:spPr>
          <a:xfrm>
            <a:off x="474480" y="5445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Text Box 3"/>
          <p:cNvSpPr/>
          <p:nvPr/>
        </p:nvSpPr>
        <p:spPr>
          <a:xfrm>
            <a:off x="1353960" y="476280"/>
            <a:ext cx="68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Riohach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- noviembre </a:t>
            </a: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(2015 –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7" name="1 Imagen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3053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8" name="2 Imagen" descr=""/>
          <p:cNvPicPr/>
          <p:nvPr/>
        </p:nvPicPr>
        <p:blipFill>
          <a:blip r:embed="rId1"/>
          <a:stretch/>
        </p:blipFill>
        <p:spPr>
          <a:xfrm>
            <a:off x="1344600" y="1557360"/>
            <a:ext cx="6531120" cy="1942920"/>
          </a:xfrm>
          <a:prstGeom prst="rect">
            <a:avLst/>
          </a:prstGeom>
          <a:ln w="0">
            <a:noFill/>
          </a:ln>
        </p:spPr>
      </p:pic>
      <p:pic>
        <p:nvPicPr>
          <p:cNvPr id="1329" name="1 Imagen" descr=""/>
          <p:cNvPicPr/>
          <p:nvPr/>
        </p:nvPicPr>
        <p:blipFill>
          <a:blip r:embed="rId2"/>
          <a:stretch/>
        </p:blipFill>
        <p:spPr>
          <a:xfrm>
            <a:off x="1554120" y="3789360"/>
            <a:ext cx="6140520" cy="1881360"/>
          </a:xfrm>
          <a:prstGeom prst="rect">
            <a:avLst/>
          </a:prstGeom>
          <a:ln w="0">
            <a:noFill/>
          </a:ln>
        </p:spPr>
      </p:pic>
      <p:sp>
        <p:nvSpPr>
          <p:cNvPr id="1330" name="3 CuadroTexto"/>
          <p:cNvSpPr/>
          <p:nvPr/>
        </p:nvSpPr>
        <p:spPr>
          <a:xfrm>
            <a:off x="990360" y="33336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Calibri"/>
                <a:ea typeface="Calibri"/>
              </a:rPr>
              <a:t>Riohach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1 CuadroTexto"/>
          <p:cNvSpPr/>
          <p:nvPr/>
        </p:nvSpPr>
        <p:spPr>
          <a:xfrm>
            <a:off x="1258920" y="333360"/>
            <a:ext cx="6840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La Guajir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4 CuadroTexto"/>
          <p:cNvSpPr/>
          <p:nvPr/>
        </p:nvSpPr>
        <p:spPr>
          <a:xfrm>
            <a:off x="1121400" y="57578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3" name="1 Imagen" descr=""/>
          <p:cNvPicPr/>
          <p:nvPr/>
        </p:nvPicPr>
        <p:blipFill>
          <a:blip r:embed="rId1"/>
          <a:stretch/>
        </p:blipFill>
        <p:spPr>
          <a:xfrm>
            <a:off x="1039680" y="1805040"/>
            <a:ext cx="72774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6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iohacha 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533520" y="2421000"/>
            <a:ext cx="81295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6 CuadroTexto"/>
          <p:cNvSpPr/>
          <p:nvPr/>
        </p:nvSpPr>
        <p:spPr>
          <a:xfrm>
            <a:off x="2484360" y="580536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(+) (-): Aumento o disminución de la TD de cada ciudad frente al mismo trimestre del año anterior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-252360" y="2666880"/>
            <a:ext cx="277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laboral por ciu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- noviembr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6 Rectángulo"/>
          <p:cNvSpPr/>
          <p:nvPr/>
        </p:nvSpPr>
        <p:spPr>
          <a:xfrm>
            <a:off x="2206800" y="1509840"/>
            <a:ext cx="6859440" cy="19044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5 CuadroTexto"/>
          <p:cNvSpPr/>
          <p:nvPr/>
        </p:nvSpPr>
        <p:spPr>
          <a:xfrm>
            <a:off x="133920" y="54291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6 CuadroTexto"/>
          <p:cNvSpPr/>
          <p:nvPr/>
        </p:nvSpPr>
        <p:spPr>
          <a:xfrm>
            <a:off x="106200" y="4869000"/>
            <a:ext cx="2089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El total de las 23 ciudades no incluye San Andrés por tener una distribución de la muestra diferente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0" name="1 Imagen" descr=""/>
          <p:cNvPicPr/>
          <p:nvPr/>
        </p:nvPicPr>
        <p:blipFill>
          <a:blip r:embed="rId1"/>
          <a:stretch/>
        </p:blipFill>
        <p:spPr>
          <a:xfrm>
            <a:off x="2227320" y="365040"/>
            <a:ext cx="695304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 Box 3"/>
          <p:cNvSpPr/>
          <p:nvPr/>
        </p:nvSpPr>
        <p:spPr>
          <a:xfrm>
            <a:off x="1332000" y="45072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Riohach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- noviembre (2007 –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4" name="1 Imagen" descr=""/>
          <p:cNvPicPr/>
          <p:nvPr/>
        </p:nvPicPr>
        <p:blipFill>
          <a:blip r:embed="rId1"/>
          <a:stretch/>
        </p:blipFill>
        <p:spPr>
          <a:xfrm>
            <a:off x="345960" y="1690560"/>
            <a:ext cx="8266320" cy="4260960"/>
          </a:xfrm>
          <a:prstGeom prst="rect">
            <a:avLst/>
          </a:prstGeom>
          <a:ln w="0">
            <a:noFill/>
          </a:ln>
        </p:spPr>
      </p:pic>
      <p:sp>
        <p:nvSpPr>
          <p:cNvPr id="1275" name="5 CuadroTexto"/>
          <p:cNvSpPr/>
          <p:nvPr/>
        </p:nvSpPr>
        <p:spPr>
          <a:xfrm>
            <a:off x="473760" y="5805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Text Box 3"/>
          <p:cNvSpPr/>
          <p:nvPr/>
        </p:nvSpPr>
        <p:spPr>
          <a:xfrm>
            <a:off x="992160" y="333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Riohac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2 - 20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5 CuadroTexto"/>
          <p:cNvSpPr/>
          <p:nvPr/>
        </p:nvSpPr>
        <p:spPr>
          <a:xfrm>
            <a:off x="76176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1074600" y="1666800"/>
            <a:ext cx="683748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Rectangle 4"/>
          <p:cNvSpPr/>
          <p:nvPr/>
        </p:nvSpPr>
        <p:spPr>
          <a:xfrm>
            <a:off x="880920" y="814320"/>
            <a:ext cx="73821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oblación ocupada, desocupada e inactiv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Riohach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- noviembre (2015 – 2016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2" name="1 Imagen" descr=""/>
          <p:cNvPicPr/>
          <p:nvPr/>
        </p:nvPicPr>
        <p:blipFill>
          <a:blip r:embed="rId1"/>
          <a:stretch/>
        </p:blipFill>
        <p:spPr>
          <a:xfrm>
            <a:off x="266760" y="2492280"/>
            <a:ext cx="8612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4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5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8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Text Box 3"/>
          <p:cNvSpPr/>
          <p:nvPr/>
        </p:nvSpPr>
        <p:spPr>
          <a:xfrm>
            <a:off x="3419640" y="3798720"/>
            <a:ext cx="52560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6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Diego Alejandro Martinez Jimenez</cp:lastModifiedBy>
  <cp:lastPrinted>2016-11-25T15:07:29Z</cp:lastPrinted>
  <dcterms:modified xsi:type="dcterms:W3CDTF">2016-12-26T19:16:20Z</dcterms:modified>
  <cp:revision>261</cp:revision>
  <dc:subject/>
  <dc:title>Diapositiva 1</dc:title>
</cp:coreProperties>
</file>