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786B-6F9C-4E2C-B109-1AD7C9237BE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C6A5-E972-43E8-8F58-F83CA6F1C53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20680" y="696960"/>
            <a:ext cx="4645080" cy="34844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9FF9-4268-45B4-8791-DD855465DF2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20680" y="696960"/>
            <a:ext cx="4645080" cy="34844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B8A7-E508-4622-9628-3356DD995EF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20680" y="696960"/>
            <a:ext cx="4645080" cy="34844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0F1D-A0AC-4E66-BCC2-DEEABE9DAB9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20680" y="696960"/>
            <a:ext cx="4645080" cy="34844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11F0-166C-4E0D-9FBB-7EB22660ADE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20680" y="696960"/>
            <a:ext cx="4645080" cy="34844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A051-4256-4AEB-A774-3076E3D99AB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C27C-FCC8-4833-AE56-2D931A73593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4C0C-2851-4A4F-8E24-991AE1C89A0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B318-3E4A-43B3-AA93-88964435A9D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522A-ED0C-47A6-B344-417A7638AC1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9986-A9B8-4B99-B160-46D3A5599DE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7BC6-9858-4B9F-84DA-61C25048042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5D09-D5A7-4995-9D57-961A62D4E6D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185F-A262-451D-9F30-6353DAC0D6A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1194C1-713B-440D-829D-2AE5775AF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803272-1627-4587-9E83-781551F807B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4F632F-B76A-4EAD-A323-16955C50D23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4464D4-F86B-4842-A551-C261B6A276A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03EEE0-C7B3-411E-9A75-FF5E01B70AD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1822C5-46EA-479A-ADE5-BA75E815977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0A9CF2-5DC2-4E81-AF85-486306A59DE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AB4BA9-4AF2-4788-A738-2295087E9A8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A71714-1E4E-488D-A845-259EF738052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76A3CA-A772-4238-8FE6-78F0E67EDC4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F0EF1C-008B-4E6B-86EA-D4F34623A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4570D0-545A-4C92-AFA6-08F09B4A41C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B20DDD-D0B4-437C-949F-41189C882D1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41D6F-1653-4B4A-BE30-2BC0A6A23B1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D648FF-909A-4EBC-878C-3A6AE93847F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2EDC7C-E5FA-4A98-86BD-34C51ECEB47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619F6-89FE-4C1A-94CE-46529FFA761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6C4B9-554D-4FCA-B422-51390AC9B21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4FC29-B7FD-4585-8D6E-DF4B5215A36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4089C-9E6D-439E-B583-8F712BB417E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6178F-E5D8-45ED-9B40-35DBE9A73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7BB2-EADA-4EFD-89BB-DA9CF39B135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72E88-B7C1-477A-A18D-A5B552FB06B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66502-69E8-42D0-8179-A289B15D8F4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7AE3EF-2EC9-44CE-A113-FF90A16B364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91747-75AB-49BA-ADE9-F33FFAB808D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8AD61-2758-4329-9F31-89A977958C6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8C952-AE47-4BB5-BE53-7CEE618B294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593A4-F87A-4FCC-AEBD-2B233C0F243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14901-575E-4462-B54F-FC12C5ED4A8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59F53-4B43-49D2-93AA-81660BA6D73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A392C-79CB-4BA9-95A3-30EDFF9F91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F57CF-0F86-4EC9-A12B-FD86DFEA1F3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2A39E-C93B-4CC4-BF47-6C6B02933F7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5C731-9C27-4C85-AC2F-27A6AC67509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0F00F-5E8A-4896-ACB4-F162B2D11CF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AD6D7-7CEB-4950-9F66-61123AA795C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62190-2723-4887-891F-132CD0E7A51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85BEA3-DE51-49C3-9F49-011BA38CC01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DCC4A8-2055-463C-94B4-6C9BE91342D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FEB91B-CDC3-4586-AA63-5BB9553055A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37888F-724F-4537-9FF4-7AA395A624D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E726AC-9B71-4E96-BA02-69C111C5E2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0B9D-AC1C-4A4B-9ED2-7AF9BBA02D8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965239-2A2E-4ABC-A563-9DEC36781B6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F68492-1625-4EB4-A7F7-951306C2D6A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88EBF3-698C-4B5E-B27D-F5CDCBB875E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3E6C83-C40B-4C1D-B890-9EFDCBB4C6A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010D0F-9E02-4731-AAAF-C4E099593CF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F74F34-EF3B-49E7-9F70-A37964E076D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EAF24D-E479-4D8B-A986-EA7C0A40563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046085-E4B4-4233-9BA2-EECE041382F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B633FC-0DD7-453C-A737-E6D36B0F2C7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9EBD1A-E4D5-4F6C-AF89-6ECD97C1F7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E723F-E86C-4A27-97A4-625CB93086F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49441A-ED40-4B74-8661-7A35C36DF65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E9CB4D-F66B-4A6B-892F-67469921717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9423B2-56FC-4034-BDBC-5AC1AD9BFFB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91CE75-F18D-4B84-933B-52755EF6529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B3FF30-D14E-4A13-9E79-F1FBF1593BE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F63FD3-474F-488D-B04C-682BA74EBF6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FB10F5-A4F9-436E-9612-8A2044F82D2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DF8167-F553-47DC-8C2F-0265780648F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ADCCB2-3639-4798-8BB3-63818AD3A5C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011BB-D9FA-478F-AF2C-3C0D5DA7FC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02D7B-0C8F-44A8-AEBA-2B74623A315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AFDDE-1A76-4469-91D3-A3B17F4DD54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2892F-AA4E-4FF5-B995-26C5940B7EA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3AE90-D527-4116-BC31-DA01C1360CF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EC677-0BC3-4276-A541-D072E6E7233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8A0C5-C698-4577-AED2-583B116C3F9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ED218-AB06-4AAB-9DBD-66EF7F0F007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DCEA9-0650-453D-A75E-4BE4A32E228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6FB26-E528-49AE-B139-51502466236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D7ED4-A04F-4E27-ADD5-D76F5417667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3F37F-E28B-4336-9240-DEA5EF3A74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678DB-AB29-4C61-99DD-28BE90DF6A7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86827-E6A0-4600-8F5E-6450279089E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5F79C1-38E1-40B1-AA8D-B3169AB5ECA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B5775A-B199-437E-9257-387AA2CABCD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E64E64-1EB6-46BE-B4F2-A478BDF84F3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466D8D-F7B2-4480-9193-EB0F51151D0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30D830-15A2-4AC0-B304-EBC4ACBCE7C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AEAD0A-A6DB-4F02-826E-5A3A413C848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3916A8-B147-4112-B135-2316BEE64B9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D0A6B9-B646-4EE3-A428-8BE232A9FB3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4E3D12-792D-4D2A-BACB-B822D2A742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3DF9-EE18-4102-8804-805BA2D9F43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930383-BC76-4C75-933A-072E2A5DA1A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36D558-6DCB-41FA-BBA5-C2F544B9E92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65CF7B-83FF-4D52-9E0E-482ECC0D8C1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7849EF-56BC-49FE-84AD-EFBD8068855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56F813-229A-42E4-9890-5361535BAC6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82AF9A-A5F6-40C1-B438-A11118DFF5F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C781DC-AD25-4A99-B6E8-F4324B02F92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070882-956E-4065-8014-1310DBBB62A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7C852A-A597-4670-A1B7-2156534F82E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694B05-3B46-4853-9F2C-5680E77C8A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4C053-507F-49CF-B341-77380BB6786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27F7FB-9295-47B8-AA3E-DB057241F63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179E9-0B7D-407C-AFF3-05CFF7A1133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A0C0B1-5146-48EF-A6E2-B8A3A9CF583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0461AA-39AF-4ECD-B7C6-E6A381B291D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807C74-01E8-4A40-BCBC-F758959AF6A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82C2C-5C25-431D-950D-C8C6EBCF382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41426-0D59-4751-BE5D-C5B404D23F5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E3FBF-842C-40C7-AF27-8BE097C1651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D81F4-4A7A-4A1B-BC2C-615774CFB18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70722-8E04-4CDC-A5FF-6AB8E578F9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FE3C8-A229-4894-B169-111F2300BF4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94147-B384-4E91-AA5E-3CAF94A538E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7720D-C182-4214-9A12-0BEC2AA1C32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E201B-9B68-4A5E-B224-CB452195EC9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10168-F99A-4C22-9F8D-C2A3251DB71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3D1BB-2D11-49FA-BFC1-688C005946E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6AF85-F9D1-418B-9A56-0815A6AAE6E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8E1B6-B2E7-46A4-90AB-8BE490153AF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7A559F-19E0-4945-81D3-E9CCF5816D1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C0F837-D1D6-4688-A999-B51C4F9C121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F7CEA0-B0A6-48F7-8262-D34CCFD277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ED61-657A-4D95-9B69-0C96232AFEC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B0516A-65DE-4D12-AC8D-9B868361DF7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19A7A0-D4DB-41AB-88FE-418E6C8B87A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01ECBC-A4C3-4DEB-90B1-587100D1929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101628-0F09-4FAC-AC06-80EB5C6910B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A8731E-E6D6-40BE-87B8-290796E4FE4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E8C1CC-4BFD-45AA-B0DB-091FDB58AC3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B40793-DDF5-40FA-89BE-AF5D28A1C62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2A5214-691A-46B5-AAF6-9401487CDB5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384FDE-81E6-49C8-9037-E92F90EB604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1671A3-A36D-4E3F-B13B-5197CD2F7B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0EF67-1254-46D5-A2D9-66BAC9435D6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E66033-370D-4807-B773-89D9BD52984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6D64C7-428A-477A-AA3B-23419105B0E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E3FCF5-2C31-4406-A065-3267FDEE061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A577FA-C47F-436E-8B9C-1037779C2D3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D87C44-1D4B-4720-9C89-31060B5F9D2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8F5F0C-A63A-44FC-A4E8-8CD4F488904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E615EF-5042-4F7E-9212-91780574391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1649E8-D8ED-4A60-B884-67458A40819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0DF83E-1100-4472-8447-C88C9A33A2D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953BE4-DF63-4A4E-A4C6-534531243D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3126-94E0-491C-9D3F-51039E83D66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1E30D4-76A5-43F0-AB55-AB75ABD5861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20960-7E3E-43CB-807D-2ECD3FA9BE4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029CD-171D-4E23-8C89-1CD026C3B22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955A0-2D1D-4005-BB1B-0FDB4E820B6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A62AE-16AC-420E-AD12-ACA3C35582F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7376D-B37A-4BEF-AF5F-8A9C6B2866F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4ABC9-70CB-4115-8F1B-F08BBDD3A06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47C58-01E8-46D2-8F02-19C0C0F8633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47DFD-1870-4C2B-A9B7-8D97EE4CC0A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F08BB-3D2C-4E42-AF0D-01CE44FEE7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6113F-9313-4F05-9720-F4F93E8C463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72B2A-F88E-42C7-B8C7-A000261BE0F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ACAFD-E300-48A9-89A2-20E089B9665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877B53-5B7C-4353-83FA-0B549D759DF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6B14D5-AD91-4ABD-9CEF-350F2A7E0EE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068A3C-C124-4A73-B5CC-CFE6DCE7C02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235B92-914A-4A55-B813-9683566FB68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0E8CB9-0842-42C7-B42C-B3C41FEDFD3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E27D47-11D8-477D-B814-4F4714CA529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1CFE97-FF54-4E80-AFE3-B6EC1B1D6E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91164D-2F58-4BCE-89F8-A5883622F82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133616-8A6A-4906-AA80-A65819E78B2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59DE3C-9575-4B10-8DBD-6085E467BAD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F5E9F0-B458-4781-B8D2-45D69E7E7BE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AE4020-5CFD-48DF-96F4-1E43A2D86DC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2D811F-EC5B-44AA-B40B-C9B959A60B7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6FBD04-B189-4704-98AE-ACE50E307FA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888F70-9E58-4BA4-B001-4C0AB70A288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47F00C-C19E-4FA9-8BC4-20D8FEEB1E2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C86179-BCC3-4A82-9FEB-693C872EBC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C71412-DBA3-45CE-B2D9-52DF8353EA4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D34877-BFA4-4783-9D98-5089DF327AD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E6B662-7EFD-440F-9EED-85D2A458CBF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6C2829-EA0A-46E9-9DA0-AF86D9A3CDB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FA59BB-D6E4-4AD9-9018-F5245BFE425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71BEA3-AB8E-4808-A61D-88F6B272D34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68E78F-D8B3-41C4-A82F-F31DF1901AA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21E04-C3EA-426E-AA10-57C9ED2A5E1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F7FEC-8D32-427C-B1EE-AE40F29090A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B52EB-E8FE-4DF3-AAB4-91F9E1AABE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16606-AEEA-42DF-9593-E9E054AE889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FDA38-BDE0-4B79-B38C-36281BDD094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3F766-38BC-48AA-9B6F-1DA6F4C8282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AE111-7A02-476C-9206-B26DA952DE9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8B1C6-D102-4FEA-9A5D-5CAF8DAC805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9F5C7-BF9B-47E0-9A41-B165E44590A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95D60-D162-44EC-A96C-FF4A5517699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045AF-8BD2-49B3-BFEF-1526BA67A83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81D72-3352-4EAB-8BAC-6D5108FC06D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5E16CC-C119-456F-96AC-0265B6746F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8A52BF-52EC-4E40-B5ED-724AB5331E9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8B0359-8E69-481E-86F5-66D0BA7E17C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9322E5-F49E-4F70-AA8C-0D930E045DE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59B2E2-13F2-4D08-BDCC-EBD79D3E436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B266CD-54D5-4292-9117-33288FBC366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E3F331-C430-476D-85C7-460A7B55E8B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E99E98-4D87-41ED-9545-487AD509034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C17C42-1763-457E-8362-FBA9DC871AB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717FD8-90E5-4B97-A104-B4C9347B98F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D0F873-D030-4F5C-A465-90D223E9E6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6FDD09-073C-468A-AD3F-52FBF1FC0CD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C8DADF-1CCA-48A2-B355-62253EB4AC6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D37CA5-1CAD-401A-8D4A-1F4FF310315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B02AB1-87C3-42CF-A879-9350736CE1E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EFE474-8D64-488A-983F-10926C59CE9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F81885-DA06-4CA5-9951-483B2C856B5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08F317-1272-4864-8BD0-1435E105AA7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CDCB51-92A5-4F02-9CF3-733A435A74D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223A17-AC78-4AD6-A9A3-AE66FAA205D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6722F6-BC8B-48EB-A8B0-21C976C28C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A6FAF1-D322-4A81-B3A7-ADB0D245631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0A41C1-29CC-4697-8690-DC3A106DE0D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481A2C-38CC-424F-AB82-1F0A42BBF159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308CC-54B8-4357-91B9-9D240B30E569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63430-8FE2-430A-BFA2-ECC0F3619402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64308-2659-4DB6-8E30-5DAC9812262B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E1FB1-6F99-48FF-AADE-3B70037F315B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CBDD2-AC6E-49DF-80C3-E695E4F01A1E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4F72D-1625-4567-B3A6-9EF74E45B7A7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CAE04-B5D4-49C6-88BF-9EA71FC7D2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DEBA4-3F3B-4413-9896-A2EB347EA0D0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400DD-E244-40F6-A8C6-849AA5DE94FF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71A92-3F78-44F2-A657-18941A681C19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DCA80-4ED2-41FB-AA86-102950A8B8DC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512C7-7D1B-4C0E-89B6-367DAADC3CCD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28AC4-931F-4C7F-8684-9FF0766A13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5A036-1D6C-4152-B041-FE86E84B28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464BC-F0D8-430F-A537-CF6531FF5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1BBC4-7433-47C5-BD39-516D9927818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6FDCF-6028-4A32-88B9-36D8F8B499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8AFB4-F063-41CB-BDCA-C30296DF299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97060-41F8-4B13-8E46-000AE53A25E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99EEB-49BE-420C-B842-BE74D98ADB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ACAFC-219E-471A-9170-1CABBEBAB5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7A94D-28B2-4906-8DB1-64BE98018D6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577AB-3E92-4180-BAF3-DEFCB4D09E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B2ADA-B3A2-4BC1-A571-8C184430503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F881-48B0-4FFC-BB06-8481C65FBD5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78F5-73ED-4FC3-8414-EDB4DC378DB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6259-01F2-474E-961D-87525462547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3DB6-BB9E-4742-8624-3D9FA64FAA2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EEE-10C6-4C4C-BAD8-7F9DF5D1390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03B-60F7-4435-B12E-15EDFFBF197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1F2E-309B-4256-B978-638194A8052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6347-54A8-4083-8D5D-22406CAC775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2C13-181C-4653-9681-B6262D00A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17B7-9228-4979-9B34-5013D566335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B8CB-82EC-4562-AE7F-37E1F3772D8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848-42C5-4998-9301-55366910085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DB9CA-433E-41F9-9991-159487EEC56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AD814-2627-4D0B-A152-2F7B8994C0B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66CF6-318A-47F5-8F1A-771B935F630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56CD8-E5FC-447E-8A20-6B3D1AAD7B8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24C56-41C5-48CA-9BC4-6E4B070B1B2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47B23-B200-4391-A3B8-BB8D086D1F2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276EE-CA85-4A71-9DAC-1CE7E1FE2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6E8EF-54F9-4861-BC55-C063C1EEB72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A004F-FF3F-4C02-BA8C-E50BB787FC6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E1563-0FD4-4890-A8D1-196057108A7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D8240-55C9-4ECB-AB7C-12AFBA193E0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2894B-895C-4A34-B5BD-1129062ED08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82687-4AEE-4752-8AAC-0AA042A1839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5F225-4541-4051-BAA3-06322C87402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5DACE-01F5-4B61-A7B9-61E57618615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6823A-4517-4CC6-9E39-BDDD1ABB9BB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603D3-EE12-4BAE-A3DF-AE039304D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F5397-1F87-4DCB-9D35-9DC94F9F860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F97C4-F557-431F-B662-1059533A19B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3436F-5ABA-47AA-A0ED-E3883F2AE5C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012B4-9D4F-4A33-8C1A-87370546D6D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AA9D1-0D7A-4388-8111-1F6165EA2C0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2A42D-BA75-4978-B019-8381233620C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033DD-BB84-4D9B-9284-B7BD07CBBA9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4BCE-702B-4E57-B6E0-83D22052D96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BB1D-1863-4160-AC61-23671E12B83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8B4C-6328-4926-9AAC-4D765B4FE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9FD4-F27D-4233-A93C-EE9D211AE34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C188-0028-4453-B2B0-A8BE1D0DCDF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DF5C-6AD4-4A3C-BECC-5263BD0A848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11AF-FAA2-41BC-A7E1-85CB879E426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CB35-5790-43EB-993C-ADD83A6B4AB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03E9-50C4-4C9F-B8D6-D6A4B35D84A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A449-AE19-48DC-8BEB-E4718C2636C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9D60-C3BA-4BB1-827E-21FA028C0D3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AB85-C8E6-4EA2-986E-8C770BCA5D1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1389-E6B5-4E0E-A247-1668177A45D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545A-ED7E-4C28-8EC7-30A7F7AF381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78B4-02B5-49C6-921C-835C13B6AE4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BBE2-E0BA-4109-A3FE-89922783A57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8E43-3543-47D0-B447-BBE781A3F75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2672-C1E5-4AF4-8380-3AE7C23805B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29FE-6000-45F8-8106-DF481CB78F1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A3D5-8CA3-48A0-9992-03489C37D32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C07C-B586-4672-B93B-8DE05B53CA1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C882-BEFD-430B-BE93-879E81B1030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93B3-D081-43B5-8808-6E49628655F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9F44-0CFD-403E-9E4D-EF501225C8C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476D-8F38-49E2-B100-F58FB4A7B86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0A83-C698-4BF5-85BA-6E40DBC09BD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55FD-7D1A-49EF-AA21-504604AAEDC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Quibd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enero de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9" name="1 Imagen" descr=""/>
          <p:cNvPicPr/>
          <p:nvPr/>
        </p:nvPicPr>
        <p:blipFill>
          <a:blip r:embed="rId1"/>
          <a:stretch/>
        </p:blipFill>
        <p:spPr>
          <a:xfrm>
            <a:off x="692280" y="1341360"/>
            <a:ext cx="7603920" cy="3727440"/>
          </a:xfrm>
          <a:prstGeom prst="rect">
            <a:avLst/>
          </a:prstGeom>
          <a:ln w="0">
            <a:noFill/>
          </a:ln>
        </p:spPr>
      </p:pic>
      <p:sp>
        <p:nvSpPr>
          <p:cNvPr id="1290" name="Text Box 3"/>
          <p:cNvSpPr/>
          <p:nvPr/>
        </p:nvSpPr>
        <p:spPr>
          <a:xfrm>
            <a:off x="1150920" y="47484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5157720"/>
            <a:ext cx="820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*Otras ramas: Agricultura, ganadería, caza, silvicultura y pesca; explotación de minas y canteras;  suministro de electricidad, gas y agua;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suma de las participaciones puede diferir de 100% debido a la no inclusión de la categoría  “No informa” y por concepto de deci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6 CuadroTexto"/>
          <p:cNvSpPr/>
          <p:nvPr/>
        </p:nvSpPr>
        <p:spPr>
          <a:xfrm>
            <a:off x="1122120" y="4869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3"/>
          <p:cNvSpPr/>
          <p:nvPr/>
        </p:nvSpPr>
        <p:spPr>
          <a:xfrm>
            <a:off x="1117440" y="325440"/>
            <a:ext cx="690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6" name="1 Imagen" descr=""/>
          <p:cNvPicPr/>
          <p:nvPr/>
        </p:nvPicPr>
        <p:blipFill>
          <a:blip r:embed="rId1"/>
          <a:stretch/>
        </p:blipFill>
        <p:spPr>
          <a:xfrm>
            <a:off x="1101600" y="1413000"/>
            <a:ext cx="6610320" cy="3895560"/>
          </a:xfrm>
          <a:prstGeom prst="rect">
            <a:avLst/>
          </a:prstGeom>
          <a:ln w="0">
            <a:noFill/>
          </a:ln>
        </p:spPr>
      </p:pic>
      <p:sp>
        <p:nvSpPr>
          <p:cNvPr id="1297" name="1 Rectángulo"/>
          <p:cNvSpPr/>
          <p:nvPr/>
        </p:nvSpPr>
        <p:spPr>
          <a:xfrm>
            <a:off x="539640" y="5445000"/>
            <a:ext cx="7775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Calibri"/>
              </a:rPr>
              <a:t>*Otras ramas: Agricultura, ganadería, caza, silvicultura y pesca; explotación de minas y canteras; suministro de electricidad, gas y agua; intermediación financiera 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7 CuadroTexto"/>
          <p:cNvSpPr/>
          <p:nvPr/>
        </p:nvSpPr>
        <p:spPr>
          <a:xfrm>
            <a:off x="1225440" y="5157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01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3"/>
          <p:cNvSpPr/>
          <p:nvPr/>
        </p:nvSpPr>
        <p:spPr>
          <a:xfrm>
            <a:off x="865080" y="511200"/>
            <a:ext cx="690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 Box 6"/>
          <p:cNvSpPr/>
          <p:nvPr/>
        </p:nvSpPr>
        <p:spPr>
          <a:xfrm>
            <a:off x="299880" y="5322960"/>
            <a:ext cx="84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posicion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°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7" name="1 Imagen" descr=""/>
          <p:cNvPicPr/>
          <p:nvPr/>
        </p:nvPicPr>
        <p:blipFill>
          <a:blip r:embed="rId1"/>
          <a:stretch/>
        </p:blipFill>
        <p:spPr>
          <a:xfrm>
            <a:off x="696960" y="1389240"/>
            <a:ext cx="7620120" cy="3624120"/>
          </a:xfrm>
          <a:prstGeom prst="rect">
            <a:avLst/>
          </a:prstGeom>
          <a:ln w="0">
            <a:noFill/>
          </a:ln>
        </p:spPr>
      </p:pic>
      <p:sp>
        <p:nvSpPr>
          <p:cNvPr id="1308" name="7 CuadroTexto"/>
          <p:cNvSpPr/>
          <p:nvPr/>
        </p:nvSpPr>
        <p:spPr>
          <a:xfrm>
            <a:off x="1131480" y="5111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3"/>
          <p:cNvSpPr/>
          <p:nvPr/>
        </p:nvSpPr>
        <p:spPr>
          <a:xfrm>
            <a:off x="1187280" y="5284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porcentual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2" name="1 Imagen" descr=""/>
          <p:cNvPicPr/>
          <p:nvPr/>
        </p:nvPicPr>
        <p:blipFill>
          <a:blip r:embed="rId1"/>
          <a:stretch/>
        </p:blipFill>
        <p:spPr>
          <a:xfrm>
            <a:off x="1055520" y="1496880"/>
            <a:ext cx="6685200" cy="3587760"/>
          </a:xfrm>
          <a:prstGeom prst="rect">
            <a:avLst/>
          </a:prstGeom>
          <a:ln w="0">
            <a:noFill/>
          </a:ln>
        </p:spPr>
      </p:pic>
      <p:sp>
        <p:nvSpPr>
          <p:cNvPr id="1313" name="7 CuadroTexto"/>
          <p:cNvSpPr/>
          <p:nvPr/>
        </p:nvSpPr>
        <p:spPr>
          <a:xfrm>
            <a:off x="833040" y="50371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 Box 6"/>
          <p:cNvSpPr/>
          <p:nvPr/>
        </p:nvSpPr>
        <p:spPr>
          <a:xfrm>
            <a:off x="252360" y="5373720"/>
            <a:ext cx="84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posicion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°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6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7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 Box 3"/>
          <p:cNvSpPr/>
          <p:nvPr/>
        </p:nvSpPr>
        <p:spPr>
          <a:xfrm>
            <a:off x="1114560" y="52056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6 CuadroTexto"/>
          <p:cNvSpPr/>
          <p:nvPr/>
        </p:nvSpPr>
        <p:spPr>
          <a:xfrm>
            <a:off x="279360" y="5373720"/>
            <a:ext cx="832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categoría “Otros” incluye: Incapacitado permanente para trabajar, rentista, pensionado, jubilado, personas que no le llama la atención o creen que no vale la pena trabaj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2" name="1 Imagen" descr=""/>
          <p:cNvPicPr/>
          <p:nvPr/>
        </p:nvPicPr>
        <p:blipFill>
          <a:blip r:embed="rId1"/>
          <a:stretch/>
        </p:blipFill>
        <p:spPr>
          <a:xfrm>
            <a:off x="395280" y="1535040"/>
            <a:ext cx="8589960" cy="3505320"/>
          </a:xfrm>
          <a:prstGeom prst="rect">
            <a:avLst/>
          </a:prstGeom>
          <a:ln w="0">
            <a:noFill/>
          </a:ln>
        </p:spPr>
      </p:pic>
      <p:sp>
        <p:nvSpPr>
          <p:cNvPr id="1323" name="5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5 CuadroTexto"/>
          <p:cNvSpPr/>
          <p:nvPr/>
        </p:nvSpPr>
        <p:spPr>
          <a:xfrm>
            <a:off x="2381040" y="5616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Text Box 3"/>
          <p:cNvSpPr/>
          <p:nvPr/>
        </p:nvSpPr>
        <p:spPr>
          <a:xfrm>
            <a:off x="1332000" y="69228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Quibd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- noviembre </a:t>
            </a: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(2015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1 Imagen" descr=""/>
          <p:cNvPicPr/>
          <p:nvPr/>
        </p:nvPicPr>
        <p:blipFill>
          <a:blip r:embed="rId1"/>
          <a:stretch/>
        </p:blipFill>
        <p:spPr>
          <a:xfrm>
            <a:off x="2116080" y="2265480"/>
            <a:ext cx="530532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7" name="2 Imagen" descr=""/>
          <p:cNvPicPr/>
          <p:nvPr/>
        </p:nvPicPr>
        <p:blipFill>
          <a:blip r:embed="rId1"/>
          <a:stretch/>
        </p:blipFill>
        <p:spPr>
          <a:xfrm>
            <a:off x="958680" y="1628640"/>
            <a:ext cx="7012080" cy="2071800"/>
          </a:xfrm>
          <a:prstGeom prst="rect">
            <a:avLst/>
          </a:prstGeom>
          <a:ln w="0">
            <a:noFill/>
          </a:ln>
        </p:spPr>
      </p:pic>
      <p:sp>
        <p:nvSpPr>
          <p:cNvPr id="1328" name="Text Box 3"/>
          <p:cNvSpPr/>
          <p:nvPr/>
        </p:nvSpPr>
        <p:spPr>
          <a:xfrm>
            <a:off x="826920" y="376200"/>
            <a:ext cx="777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Límites de confianza y error relativo de la población de la fuerza 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abajo e indicadores de mercado labo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Quibd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9" name="1 Imagen" descr=""/>
          <p:cNvPicPr/>
          <p:nvPr/>
        </p:nvPicPr>
        <p:blipFill>
          <a:blip r:embed="rId2"/>
          <a:stretch/>
        </p:blipFill>
        <p:spPr>
          <a:xfrm>
            <a:off x="1160640" y="3860640"/>
            <a:ext cx="660708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1 CuadroTexto"/>
          <p:cNvSpPr/>
          <p:nvPr/>
        </p:nvSpPr>
        <p:spPr>
          <a:xfrm>
            <a:off x="1403280" y="333360"/>
            <a:ext cx="68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hoc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4 CuadroTexto"/>
          <p:cNvSpPr/>
          <p:nvPr/>
        </p:nvSpPr>
        <p:spPr>
          <a:xfrm>
            <a:off x="1264320" y="57164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2" name="1 Imagen" descr=""/>
          <p:cNvPicPr/>
          <p:nvPr/>
        </p:nvPicPr>
        <p:blipFill>
          <a:blip r:embed="rId1"/>
          <a:stretch/>
        </p:blipFill>
        <p:spPr>
          <a:xfrm>
            <a:off x="1179360" y="1700280"/>
            <a:ext cx="7286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46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Quibdó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235080" y="2492280"/>
            <a:ext cx="85644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6 CuadroTexto"/>
          <p:cNvSpPr/>
          <p:nvPr/>
        </p:nvSpPr>
        <p:spPr>
          <a:xfrm>
            <a:off x="2411280" y="5770440"/>
            <a:ext cx="561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(+) (-): Aumento o disminución de la TD de cada ciudad frente al mismo trimestre  del año anterior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0" y="2290680"/>
            <a:ext cx="277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laboral por ciu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- noviembr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6 Rectángulo"/>
          <p:cNvSpPr/>
          <p:nvPr/>
        </p:nvSpPr>
        <p:spPr>
          <a:xfrm>
            <a:off x="2556000" y="939960"/>
            <a:ext cx="6480000" cy="2062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6 CuadroTexto"/>
          <p:cNvSpPr/>
          <p:nvPr/>
        </p:nvSpPr>
        <p:spPr>
          <a:xfrm>
            <a:off x="306360" y="5130720"/>
            <a:ext cx="224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El total de las 23 ciudades no incluye San Andrés por tener una distribución de la muestra diferente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5 CuadroTexto"/>
          <p:cNvSpPr/>
          <p:nvPr/>
        </p:nvSpPr>
        <p:spPr>
          <a:xfrm>
            <a:off x="293400" y="56386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0" name="1 Imagen" descr=""/>
          <p:cNvPicPr/>
          <p:nvPr/>
        </p:nvPicPr>
        <p:blipFill>
          <a:blip r:embed="rId1"/>
          <a:stretch/>
        </p:blipFill>
        <p:spPr>
          <a:xfrm>
            <a:off x="2700360" y="365040"/>
            <a:ext cx="633564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1" name="1 Imagen" descr=""/>
          <p:cNvPicPr/>
          <p:nvPr/>
        </p:nvPicPr>
        <p:blipFill>
          <a:blip r:embed="rId1"/>
          <a:stretch/>
        </p:blipFill>
        <p:spPr>
          <a:xfrm>
            <a:off x="460440" y="1455840"/>
            <a:ext cx="8161200" cy="4298760"/>
          </a:xfrm>
          <a:prstGeom prst="rect">
            <a:avLst/>
          </a:prstGeom>
          <a:ln w="0">
            <a:noFill/>
          </a:ln>
        </p:spPr>
      </p:pic>
      <p:sp>
        <p:nvSpPr>
          <p:cNvPr id="1272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1150920" y="47304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Quibd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- noviembre (2007 - 201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5 CuadroTexto"/>
          <p:cNvSpPr/>
          <p:nvPr/>
        </p:nvSpPr>
        <p:spPr>
          <a:xfrm>
            <a:off x="1193400" y="5589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Text Box 3"/>
          <p:cNvSpPr/>
          <p:nvPr/>
        </p:nvSpPr>
        <p:spPr>
          <a:xfrm>
            <a:off x="992160" y="468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Quibd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 2012 - 20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5 CuadroTexto"/>
          <p:cNvSpPr/>
          <p:nvPr/>
        </p:nvSpPr>
        <p:spPr>
          <a:xfrm>
            <a:off x="474480" y="5715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7" name="1 Imagen" descr=""/>
          <p:cNvPicPr/>
          <p:nvPr/>
        </p:nvPicPr>
        <p:blipFill>
          <a:blip r:embed="rId1"/>
          <a:stretch/>
        </p:blipFill>
        <p:spPr>
          <a:xfrm>
            <a:off x="992160" y="1487520"/>
            <a:ext cx="700884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971280" y="753840"/>
            <a:ext cx="7380360" cy="101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Quibdó</a:t>
            </a:r>
            <a:br>
              <a:rPr sz="2200"/>
            </a:b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eptiembre - noviembre (2015 - 2016)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1" name="1 Imagen" descr=""/>
          <p:cNvPicPr/>
          <p:nvPr/>
        </p:nvPicPr>
        <p:blipFill>
          <a:blip r:embed="rId1"/>
          <a:stretch/>
        </p:blipFill>
        <p:spPr>
          <a:xfrm>
            <a:off x="200160" y="2565360"/>
            <a:ext cx="86072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6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7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Diego Alejandro Martinez Jimenez</cp:lastModifiedBy>
  <cp:lastPrinted>2016-04-26T20:04:17Z</cp:lastPrinted>
  <dcterms:modified xsi:type="dcterms:W3CDTF">2016-12-26T19:16:55Z</dcterms:modified>
  <cp:revision>271</cp:revision>
  <dc:subject/>
  <dc:title>Diapositiva 1</dc:title>
</cp:coreProperties>
</file>