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5EC-1DF4-4B2D-ABF5-5FB6761ABE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309-F81B-4442-B38B-D0F455DB66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AF7-2261-4F05-908A-085AF9A8B1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7359-C797-41EE-B48E-F6810578CB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955F-750A-431B-8086-9DF26A6D02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B59-79D7-4F20-943D-0B0F06B6D1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8435-EEB0-48E6-A57A-53ABD58FC9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9132-6109-4A46-A492-5496884A9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BD58-ECA7-48A8-9A88-9F4DEFE3D83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372-A353-4A7B-8A3F-ABA4701287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DF5-586B-43A3-B467-7AECCFAEE59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8CD-7319-4E26-AAC1-10349C6B4A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DE9-03DA-4706-A479-12CBB31A89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34EFA-D71C-4A97-BE37-F30EC98C2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BFEAB-84E2-4353-BFB3-CB2C22C64B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71E8C-373A-4F50-B136-59A67BF9E2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B9C07-7713-4F66-8410-A0C95CE8B8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098E4-058B-49FC-81AD-7B15DCAB4A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BB569-4ABA-417E-B77D-43F257B35E4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084A54-1DC0-4D87-B60F-8F7893D7C7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871CA-2978-402B-A9FE-866E6DD9A0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CC32F-603F-4460-A348-CBD07737AB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BD4CA-06AD-4DE5-9F2A-5F4AEBAA51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A0E5A-C7B7-463B-BFD2-0A609986D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E0B49-9A2D-4027-A313-7A12362E066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0F5CC-2373-4D22-A241-60781BF55E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69E80-530E-459E-A368-B272FCCB53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68B25-72ED-4173-936E-18769F303F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B26F3-6BC2-47F3-8B32-93499EA0AA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50FFD-70B3-44B5-91A4-20C8EA63E2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B66F8-1C15-4359-BF3F-EE465510171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5D699-2918-41A5-8E91-6FC310BF90C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C617-DA47-4AA3-AECD-5233E20ACF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8FE6C-411F-496F-AE54-8414A9E5C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510E-49EC-4C86-8698-0A4CE73137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F998C-5395-4D07-A002-D3B9397AE27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555FE-3A0E-4A34-9D02-AB3E69CC49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3ACB5-BBF5-4625-AB03-3C9A21BB9E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2B66-C72D-4F0B-A3CB-8F0FAA53DD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71A5-9CC1-460C-8085-1E6F3472A7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927C-3D13-404A-9048-37DD8DD852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0F22-C307-4212-94D5-5CF8D02FDC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351B-4AD4-4A65-867F-B9EF6F734C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EC12-CADB-412A-9A11-ABF40AF2823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F6B5-EC55-42A1-9E80-C14EFAB3F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EA2A-B953-4BA0-8769-D4D48CFB175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34AD-9B6B-490C-A18F-DA7F02C3F3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2728-9343-427E-8AB1-71451CF4B6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EC6D-393F-4330-B32C-94FB740D16A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CBA7-2B2E-446C-A180-170CFD9900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CBC3-5C2E-4229-B595-D6ABA0BB10B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E924A-18AD-41D3-AD8B-CED385C1F6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23CD3-A003-4E0A-9371-4B97F9D3B1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7FF6B-BD88-4B26-A881-81B3E806CF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AF8F1-BBBE-446A-B475-EDE014D7F4B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2E68F-D535-4FFD-9DF8-E4CF2645AB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A0AD-27CA-40FF-BE77-382054BA2B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472B8-248A-41C7-921A-877FAF610C7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78B0C-DE9A-4F37-A89B-C6296BFDAD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DB6E4-88B8-4ED2-987A-D1E6B91BB5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0FF20-47EF-444A-9E3F-2FF394A2E0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A5D43-D437-448C-A256-198FE9DE3F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C02A3-B620-4ECA-9C8F-50553F56E2F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4EC89-CD65-43C6-8BAB-2BBA51A3A7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AE06B-2F88-42D4-B73C-164727A0727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FFD56-2486-4F3E-B6B3-C887C4F351B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59B85-1E84-4324-B941-0029990C1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A962-CF88-4711-AD21-BD7BF0697D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A3AF3-5E28-418B-BBB5-B595F4612DC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D96BD-D37A-4107-9EA7-5F979A8FEE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68E2F-D13B-4128-96C3-4ACBC27A28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62D15-A74B-4448-8AE0-66163CF1D4B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74EDE-177C-4F23-BDC3-6141147DDE0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E8BBB-ABC3-4BCC-8442-56E8469786B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87337-0937-4493-B7F0-89FB879B0D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AFBD3-D6F0-4A6E-93FA-7F8D82DCA8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94A6A-C9A1-43A4-8295-000F626E16F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2B1A-9D31-49D0-8902-3DC107596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FCFB-E136-4A00-987B-9909D70CBC6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66C1-B05C-4733-8CE9-A7A8F79F0E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449F-2910-4B33-81AA-56F47E97386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B16E-BE0F-4AB8-B860-ABB41F1275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6BB0-9830-4F6D-90CB-6886DF66920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8A09-4D9C-40B4-B079-52B2E933C2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44DE-910C-445D-BCAB-406AE3425F3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92E9E-E0AC-4F10-B0FA-A2C1381A975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A68C-F8DA-47F7-BD04-D80DB838AEF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E0BE-61E1-4C15-AD03-0BDA985D7F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6D4A-90C5-48DE-B7F9-743CFB002B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628E-77B8-4822-BB4A-AC965F48D88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CE48-AC46-44D2-8626-4F7471C933E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0E375F-1F58-47BF-A269-50766C87DFE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0B078-73C3-4FE8-9056-E7A7A4889BC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51D68F-3602-41BD-9D52-A48C99E1915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F11FD-42EE-47D3-9CBD-7BE5AC2846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1AEDB-C4F2-408D-9EB9-44F4BD16F19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25D53-EAC0-4473-A9D3-C7A6B6B856F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B0DF1-3DCD-4C9E-AEB4-5D2DB1B6DE6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7BC4FE-1711-4307-AD71-395473171A6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8CC40-5141-424C-AC44-E2B71B915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8AE0-567C-40FF-9530-FBABFBC8AE1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3ADD3-799F-4FAA-B291-5EED66B1389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64D6F-FBFD-487F-905D-6357503E527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30FDD-A2EA-432F-865D-C1D99F19E43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7360D-C4BB-4BC4-B5D9-ABDFCCE583A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215F6-6CA1-44F7-B97B-81791377569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F28A3-FB92-45C4-B04C-2FA3AAB7C7A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AECD2-B0CA-4FB4-BA75-1BA0B7AD3E0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37E65-29DD-42DA-BA73-93BAE9542DD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0B280-FF20-40B9-9702-C7216F05DCD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453EB-93AB-4990-8FD6-69CB29CB9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15EB-D3DD-4F47-9C96-E2E12C67A30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ED308-1533-4348-A0E8-2013535D297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A80ED-DF7F-4E89-B8FA-82C62DF28E5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C1771-7191-4B4A-88BB-E6B166642A5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4DFCF-14F7-4922-8225-5D6323A244B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80A71-98D0-493C-831C-438EAF10643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DAA5-5A66-4F94-96FE-B242B3FE476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2691-0E7A-405A-B74B-39BB87A087B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755E-2056-4CA2-9785-631E8E5E7F1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57F2-5405-4AA4-86BA-E8C38602635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DBC8-E705-4B03-BC81-65AC9CBA78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11B2-EA2F-417F-9C00-6A1AD6DBF72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2BF3-54E1-4114-AB66-87CF5DAA112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EC51-B000-45CC-89A8-30AB87B6C07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E1C7-D027-48FC-9715-AAEAE253223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4577-E769-4B75-849D-0FF3AFE9B2E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C562-8512-494C-AE36-25EBE63EEB7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F2FF-6506-4896-B507-0BE55BBE357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6B90-236F-4F47-A0BE-0792CD0E458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D9696-093E-4F51-964E-8B091088643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FE6E6-0EE7-480F-928E-F644FCC44A3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21C52-F446-4D0B-A8AF-C4159D22D4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18E0-3680-4673-8A6E-A241E663497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6CC84-ABD6-408D-A916-74A5796E73F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323E0-A1E6-48A8-A550-BFF2C0CDE84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7639BF-6CE9-4C59-8F74-9889112D61C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E856F-6AAD-49F8-8910-56ED9188221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5089C1-C97B-4992-B4F6-4B63EF425DA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E1C21-107F-4492-A8DF-E4DEA023C7B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EF273-95DE-4051-9E17-9DC3E1F6744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2AD62-B529-42DA-A2EB-C01FECBA766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0C7CCD-0A68-4B72-AA04-26FB4766A0B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B81EA-FA69-443B-9F85-B9B60EE4E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6C02-96D4-4D24-AE92-4D57BF70FA7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2A153-61F3-4EA4-BE11-C971DE90D27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0B224-2DE9-4CD2-9E93-1C3BEA2C33F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3EE85-DF2E-41C4-9F90-4F7B51DB436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11A0D-CED0-41DE-986B-3378235E161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6D193-2E31-47CE-8B32-54E3C4AC9F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D9C7E-F91F-4978-A488-42D1A36C560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95F94-C674-4A96-BEEF-27333D19C6F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AB66A-7039-4D5F-B2BD-765F4C3177A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84E0F-D3A5-45C8-A5DE-DE1707D9CAE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AABBE-2BA1-4DFC-9F56-50B81379B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5C7E-6A0A-4B67-9FDD-63370C21B13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CD9E6-4FD5-414E-BF71-237FBBAF04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5459-1B38-4135-B67B-4CF4948E5E5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1D3D-B12A-4231-B6E5-7670C4E17C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E5AC-13AD-4316-924F-F70F0CF507A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88BCB-A0D7-44B2-8A22-A65EF98D95C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21CC-BEBA-47E5-A832-B0FADFAD12E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2835-6E50-4B6D-A314-0E92326383D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D2E5-73DD-4F5E-A66E-0EFDB189D03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06FE-6FC6-40B7-8454-E7FBE07A40B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7279-520D-48C8-B86C-46C1E91DC5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B733-040E-42B5-8571-A950EA7379D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A183-06CF-48B1-A37B-29E1468D54B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91BE7-0297-456F-BAC0-75DCF7E866E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CCEA98-A410-4FAA-B997-D18FD121F9A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89226C-9A6C-4DFA-B71F-A3F16B789D6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582E7C-83CB-4CA6-8C3C-F984FD476E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ECE669-C754-4DA4-8743-5990EC88C8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4E3A5E-DAC7-48EA-90B0-C2BDA38E8FA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D70ED9-DCCA-44C1-A571-6BD95A9E5A0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F87B16-E7A2-4E5C-914E-0FF9612149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E98B5-F51B-46DB-AE35-86A5DFBB7F7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2C493-9D09-4216-B63E-CA127DB6DEA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F6BC6-E06A-4B70-91CF-C878AE200A1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7ABEB-0238-4A82-AF45-5BDA154B15F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FFD48-CB8F-4F6F-89B7-2DFF366CEC6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3F528-6360-4DA0-9E43-9DF922FC5BD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E7151-7EA9-4AD1-AB2E-7746C233031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F8D36-D969-4BB8-876D-5967E6F4376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A6226-A1B5-4529-BE15-159908D53A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A4C9A-DE68-48EC-B28F-231D342AEC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E0A93-99A0-4DAA-A542-AF9D24E6F2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0089E-080F-437F-90D3-97D4E22B6DE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F7619-BCF1-4B63-B318-AF24DA698A5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28E06-16EF-46D6-B650-C0E751E97B6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C5E81-6692-47FA-9D74-87EA51E006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59B7C-50DA-4A55-A59C-A77B9F8E99A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0EE92-A8BB-4583-86DE-168D13AA12F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76DA-5A9F-4EBC-972E-9196020A3E7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5F2A-37D4-49A2-B366-BCABB744D24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C3FF-653A-4A5D-A275-D16168D97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EB6C-E06C-4313-B514-1B14B69D426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1F03-A7E2-441C-B4BD-E367166A6DB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18CC-B200-4D5E-B618-5B6DB6776A5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71A4-91DF-4FAF-8028-C2C576ADA21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ADE9B-DD2E-4404-9DAD-ABB275201B0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98D4-BAAC-44EE-871C-5A77BC66968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B317-3057-421B-ACB9-60FD77354C5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B102-0E13-46DD-B3DE-46C28950477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7F470-6CD2-42B5-9F0B-C60688B3888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2D1C0C-032C-45EB-B6E5-6D711BEFFA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15D72-1DC3-4F5A-A92D-EBCEF09235B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BD444-E929-4323-9091-56985D9E115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BA38D-28C2-42BC-8ED9-1BC17771092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3CDE8-1FD5-4A63-AD09-8714DECD1EE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B5BB87-FD89-48DC-B892-94E3E7F9DD4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9F9A29-1006-4E4D-A99C-0E11C9A3E9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184F5-56DA-4E6E-8F38-2A696FC6FCC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8DD684-A0A4-4F0D-91A0-DF491CF38FB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E60152-D813-47BA-8DF7-86941C510F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D2399A-E485-459A-B22C-8A004EAAB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D7C4E-A03B-49A6-A1AB-0A9E1811095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EA973-0EE1-4A55-9B18-22A25FDAE5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7E482-A88A-4A29-88AF-F7A84E0AC76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3D806-C05D-4A34-B0AA-90123E74D1C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2EAAB-9BCF-4492-B7AB-89594147772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E1C0D-1A18-4573-93EE-C5A64BC6881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210A0-007A-45F6-9164-4A9BA114E2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F83F7-5205-44A2-AC9E-7D22E868F1D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DAB9F-AE6E-42AD-9D06-E15C8E7F8C7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D8FFE9-A767-4C8E-A0E9-636561373E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3B93D-9768-4071-B1AF-25119F0CE37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10E17-71D8-49A9-8DBD-3F1F8EE3979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68B77-3210-4E1B-B5F4-83CD848D8A8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33B6-BB30-40DA-AED0-30688C145A4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2508-4769-4365-AE1E-EB201FF7BD1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17D2-397A-420C-8883-E920B9F1CF1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391E-3426-4AD5-BA64-4A30C4AEC12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56E1C-F688-4EE8-87E1-B944CC543BB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BB04A-6085-461A-B2A3-6446F173302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450A-F262-4FC6-BD42-B9568C1BCA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786E6-8258-496A-88C0-FD2123E6908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8D8A-A716-4961-A11B-413203F79AD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31F14-038E-4057-86DB-2294604940C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32B6-FFF0-41DC-BE6A-9EACF421180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5B89-8A41-43DF-8264-BAC103E57FE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801C-DE90-4601-8753-93896B2448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1307-03FC-4309-B792-B91E83681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FBAF-5C1C-4F01-AD1D-4F970BB80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AEC0-2174-4297-8B26-815533973A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5FDD-B4F3-4271-9B6E-35AC61AE83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2E40-529C-43AF-83EB-B49BC8ABA7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D4B6-45DA-4C17-AE7B-4C7F9202DA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693A-B2E6-4F8D-8AC9-786C75017B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DE4C-FE2B-4447-B9A4-1E667EBD22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D98C-342A-4BF4-B836-8008668FBA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237B-1A60-4369-A720-AD66E0F2C3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E8E2-8EB8-45BA-988F-556FDA2049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DA8-9787-475E-AF07-450E200ADC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3C7-A11B-4532-8333-C361921EFA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AE5-FB97-485A-A7BA-CD28291C61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0C5-DB1C-4635-95C3-C4E5EB61D4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1D1-8512-4A1E-B502-4FAD31995A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31A-C06C-47A2-BFE2-70DA21FA35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82C-37CB-4834-84A1-4778201C56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C0C-463D-4607-A9DE-3EAAD6BDFF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927-6852-4FA8-8C4D-A3BBDC34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47B-4444-40ED-838E-712D8BD7B5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C70-2EBB-43CA-A1E5-37531C66BF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220-8719-4199-A304-B814E1D32B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BA1E9-1D0C-4426-9BD8-CF81C98EE3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BFBFE-06D6-4894-98CC-4CFF6C1335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5A5A-AC32-4AD9-A264-B5EE6216C3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CAC42-C600-44BA-A242-B0A9A6F3C2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6003-13F9-4A76-9D98-442BD0D9CB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A566B-92A0-48E6-A08E-D6D9B464AE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F587-F7DB-4AC1-A057-B65CC5D91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DBD7-966B-4755-8EF3-74C5D473E7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0E26C-067D-4B86-95AC-74FFFCC256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7789-30CC-4B1F-B431-90E8B63F9F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A867-0715-4986-9F2C-D7D104FBDE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1CC56-679F-497E-9266-A403343A0E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57746-073F-44F5-8EF5-4BA3347F5B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DD9C5-D731-43E5-BA3F-5A3D7B61B1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37E48-FED4-4FAA-997F-69A3EFC9B0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521D-69C6-4E26-8BDC-1AB7F2562A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47277-B88C-4ABD-B4A2-93DE710E6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327E-AE8E-4C6D-BD80-FD80DE416D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8F53F-2904-4121-BD7D-7C40CEF70B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4B18-E900-4CCB-BC3D-59D9FC52AF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38E55-A4F8-47FD-AD04-D5896CA9E3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F2AB1-8FC3-4C91-8F9F-07053AAD74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4138-5552-4505-A61D-C3501C9757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A29A-1794-4675-9565-859B4B693CC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D34-055E-42EF-87A4-DC8840F7209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C232-71D4-46BE-9344-9068378CB2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99BF-D2CF-4BFC-9AF1-998CA9A84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55F7-7196-4C7C-BA2C-331DDDFF8DD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388-B1E5-47B5-A8B7-530EDD68B6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D95-B0C0-4B4C-9F9D-31BB67705B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71C1-87C3-436D-844B-6175917A81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651E-FCFC-420D-8820-9A69320C41C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AB6-81A2-4E07-AA96-094101F995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F9E-4C7E-43B6-BEAF-0FE69D334A0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F23B-6AB6-4643-97CA-E5904CF32D4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26E-EEB5-40DE-9A51-16235D16798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61D9-C130-48C5-AA35-490724FB995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F8D2-17BB-4AAB-AFFF-43ABB422B16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B520-8AE6-41B3-8B5C-C139D4499FE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B9C8-707B-4F89-98B0-85E6EC9099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7F81-B933-4356-B70B-3DA2F7CF71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9DDA-3EA8-41CA-BC6F-11FC349A27A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8A3-5815-41D8-9B76-7D9F463CA9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0A2-FD4E-4B5A-8515-B6203A9B5FF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51A-2DDB-48CE-ADB5-F875CB5637C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1E62-DE90-463C-ADCF-57983F9310C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819A-9055-4EE9-B1F3-23516A094C5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5890-790E-4A2E-B28E-B8BBE59FC96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1716-9E44-413D-8033-F53237ACFC9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C9F-06CC-4ACE-9615-22D4A6F5660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9F9-42FE-439D-A01C-84B3DAE47E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374840"/>
            <a:ext cx="7632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5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 y áreas metropolitanas y 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130400" y="1628640"/>
            <a:ext cx="660852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662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844560" y="1717560"/>
            <a:ext cx="7296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00040" y="1989000"/>
            <a:ext cx="807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5840" y="240840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789280" y="4815000"/>
            <a:ext cx="6119640" cy="18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916360" y="289080"/>
            <a:ext cx="61419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992160" y="1984320"/>
            <a:ext cx="7545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71600" y="1424160"/>
            <a:ext cx="64008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380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Liliana Castañeda Pardo</cp:lastModifiedBy>
  <cp:lastPrinted>2016-01-29T14:41:16Z</cp:lastPrinted>
  <dcterms:modified xsi:type="dcterms:W3CDTF">2016-12-29T15:31:15Z</dcterms:modified>
  <cp:revision>1064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