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855D-C3FC-4043-891D-DF4F4B07B5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F74-401E-4C2C-B959-4FFB8AFC39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F4E-E4E1-405F-B3D0-68A0711A3D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2B28-705B-4918-AA4C-999523512B7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9936-28F6-4A64-9547-156EB437CDE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898-8FD4-46CD-B84B-BB057EF5487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F1D1-B614-493A-8CB1-58373F9A8F4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3DBF-E825-4F9D-A136-9B9CABE1CD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3F2-A1E5-47DC-BFE1-D80B67B10B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F0CA-7B9D-43F4-AC50-8A5C58CF79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C448-CA2D-4010-A87E-BDAED78E7B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446D-DE21-4453-8514-9ABFF7F662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B68D-1999-469C-BF56-27AA31C009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F46C-D6F3-417D-805D-65C19D5EF1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898F-DD36-4E49-8F19-74642ADCE9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CC78B-F155-4A57-8521-7C593DBF5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10F33-3D1A-4E6F-8001-6AFB162290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6E1AD-015C-40DC-81F2-746B3EC82BA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4F169-4581-48FA-908F-84A19B14921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8DAFB-0365-467B-9A4A-3BD5654C3B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D5C7B-FADF-45FA-83E3-CC54C11FFC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4C17F-9E69-4E37-BFB7-4C1BEB98DC1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53CBE-2896-480F-99D3-7759AB4909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E1BA6-4FDE-40CC-9657-92DFB67CA5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3FC2D-8C8E-4F3D-AB50-6A582781C4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C6A46-AE11-42A9-B48D-2CCB7A791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085E6-D27D-4732-BCD4-BFA185291C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7FEB6-937D-4EDA-B3AB-FE889423A9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A4C76-F31D-44D6-BE7B-F8B2875D422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FA2D5-9C9A-4F18-AD77-892342AE45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31206-3820-4DCC-9ED7-15E25ED211B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E0595-6777-4A04-B0A3-5DC2C784CE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07259-3C33-4C1D-9E65-91EFECEE46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4DF6-608A-4009-9955-FD52FF37D6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DEE42-DE12-4EC7-92F3-9B5B2B2455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628DE-2B91-4B0C-B658-4C8C8D94E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D644-94A4-4A14-8FC5-C63E339F12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32B92-8209-4B2A-AE14-45893AF52F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E2593-5948-4CA4-9D0F-F2FE8B8E12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1803D-37D0-4FC7-85C6-CAFE42372F5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2658-D196-411E-BB91-7904CD2102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1913-FFAF-4C8F-96D2-3B6ABB4024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F201-616F-4F36-B877-25964F4A9E2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76B6-E859-4B4D-90BB-B2D6BE4210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1728-9E42-4FF4-8206-C377EE4A7A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CABB-EB09-4702-87EB-7133E79E91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A6A2-F95D-4FEC-A173-9BAC67D64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8EED-396C-4BED-BDBA-2071E2207BB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3E6A-3AAC-4C80-8897-814E6453533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7C19-3D9B-4EB1-B70A-F51CCE7B9A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F425-7848-4A3F-ADD3-186EB42E0E0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599E-FF2F-4AAA-8A77-A9D5675C78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2E2C-47AC-4335-88C4-65106A82C91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8565F-FCB2-425E-A2F2-06FD1A28EA9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43F0B-A439-468C-907E-10733D84DD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BF7AF-00D8-441E-B4B7-6D43BF62DB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D0966-3125-408F-8B19-C1E075834FF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D3039-6E98-4BCF-84F4-3BF425DA38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B7C5-47EB-4EC5-920E-41BFAAD557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E6567-CD5B-4305-BC9A-1D2DA81452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D6F64-95E5-409E-946B-730A7B8139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65781-1EFC-411F-A2A5-D9BE9E2847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67B58-A994-43FA-B779-F1E9459E63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0FD95-080C-4323-A7FB-50B32EDE1A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32A8E-4C28-470A-B5B2-9F892CF1F5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7945E-94AD-4F9C-A65A-AA45FBB0E58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71A7B-D9CF-4C15-AFEC-F4936108F6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CF23C-82A5-48E5-9B45-767290E3A03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EC871-61CF-4EE2-B98F-2358C286D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984A-8D39-4BB6-9458-7BC3832FDDD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77075-26BF-443E-921D-1F60FA87F6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9E65F-1938-47EC-BEEC-6F058149C3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EEA8A-B11D-40E1-B393-43A106C131C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4D65A-DA36-4184-9AB1-92D42EACB8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BDF8F-17C2-4AB7-821A-AEBDD1B01F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EBF20-B0D1-44AA-B1E4-6E771C68E8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AA948-83AB-444B-8C61-BB3AC4214E6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12F21-199E-4E17-8171-768150EAE50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CF32D-C464-4872-8924-E89DCEC7BEC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3473-9F58-4A07-B1CA-F17DE648A1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24F3-136C-4070-A734-22335D63FD4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8EC9-CA84-4289-A53E-B6EAE5541DE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B7C7-7BFF-46E6-ADE8-DBB2FE2521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F25E-5028-4258-8D38-303696A65E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5630-38AD-4F8D-975F-4D3503AEA14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52C3-A62A-4D4C-B3CF-9AD7C4AA90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0147-88D2-44D4-A5E1-2317811202E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1899-B2AA-4845-86F9-97327ECF9E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197D-D315-444B-AF5F-5F3CD86806A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846F-1B9B-49A4-93E0-DBF978B92E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362D-E09E-41EF-BD64-213E1A5D92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A1C3-4AF5-4C74-8E2A-25F4480FD3F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5B3B-BD87-477F-9176-C49C7996134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7F9EA-A31D-400A-BCCA-715A379025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CA257-F436-4C59-9E83-1CF4AA546A8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311DE-F033-4C42-B093-AAF2595CDEE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980D11-AF3C-4164-B092-A3F9F72C9B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D9C818-C77C-4A6F-AFAE-4C2E684879E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39DB1-723B-4E36-9223-9A6D84714E6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6089DB-B5DE-4B1F-AF3E-FCBD405CBEE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7D935-5D4D-461A-976F-99C13F9FFA0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134CA-A8AB-43C5-AFD8-6B76BDB21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9BC9-F85A-4ADB-B07A-F05DD4D5E5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CA6DC-C232-42F0-AFBA-543586511C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733FA-15A7-46A0-85E9-A3A3F3EEB13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28C6D-9B09-4DBF-A001-A438CBC2D0E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2AE6B-28CA-4B3A-967D-2D4D8DC79D6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B4148-B793-4564-9471-CAB1DA64785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B6FD1-C122-4F24-9A45-B1658392A1A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A18B2-F86B-481E-A5EE-06693431127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98DF1-1319-4446-AB8E-59EF10CFF63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93338-0985-4912-95A8-37349097213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C0642-3045-4923-B0FB-080AD458DE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7A69-D1FF-4679-B25E-F9C1B5EFFBB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E2D9F-647D-48D4-A5ED-B6A119E0E0D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11AEF-765C-48CC-A5C5-78C8EE8782A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928A5-5EEC-4C8B-859D-FADDACE84A0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6BE28-5EAD-40A9-9CBC-0E1D20105D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8E433-9D9D-4269-8FFE-0BA84236FEB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36B7-348B-447F-910B-0CEC7B8B191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A4EB-A1DA-4809-BE7C-430505B061A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3B12-F49D-44B0-8487-21F1B6A757C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E22D-7A82-4F26-B394-0CDF1924DE1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F2A1-F492-4CF8-BC77-1119E00CF8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94DC-7FB4-408C-B476-F83C5AA7DA5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7CBF-B1FE-48F7-898D-CA1036758E0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CF9C-4FC3-4718-8F35-83258013158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8CA1-99E0-4CC3-A640-D26B9CB35E4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05AB8-CA8E-474E-825E-BE809026857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432F-151C-4E1E-B87B-2240B21943E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3AD3-9B64-42EB-B4CD-1AFBE95465F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56C9-D2CB-482C-BE5E-91D86F096BB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D301C-AEBD-43AB-AC56-64050E599D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ACF31-4357-421F-8D74-14C59DB22F2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94B51-CA3A-4087-97B8-5242A7750C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0868-1C1C-4510-A671-DA8F15775E9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671EE-4CB8-446D-B2E3-DDE9A56DB32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BA72D-91B5-4DD6-AE39-01FE0867CCF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3EFA3-7944-4B25-8EE8-E3CA12C583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5A18F-8B6A-4450-AF46-182CD60F9F3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74F95-257D-496D-A1F0-73120D27F59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5AAF6-A938-48BC-ADBE-7A07F87AA80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463F9-DB1A-4A18-8AAB-05ECDBB5800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96740-BAA3-40E9-95CF-ABCDF5287B3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852F06-61AD-4EC8-B0E7-ACCBB3BF07C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89AE7-4963-44E0-9D51-906D4F824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3011-6A4E-4C65-A011-D8AD6B294B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33D3F-022D-4699-866D-62997539E14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8C120-F92B-4C45-89F0-BA5EDC83775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F8953-08A5-49CA-AED1-2C91633956A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1075D-EB4F-4726-B685-D6A661C2516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DF992-C928-48A1-8D25-E27D84F7B47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293AE-ABE5-4946-BC30-26812C8D82B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04A58-4310-426A-B14D-B0864263C3C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47827-AD3B-4E59-8473-00F8BC1484E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2C378-F12D-42E6-915B-B9A92982035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D0D93-7FE3-401A-8C6D-87853DAC2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8B3D-5E30-4849-8A94-C580D8706C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17526-4735-4DA7-AADC-73F1B88C9EE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5632-9BDE-45AF-B265-C210078C6ED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9970-FD5C-4986-A0EA-F3A3FC40DDF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6956-FBF6-4F1A-BC14-8DC5E5CCC62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2F9A-B924-47B4-A091-A327BD13E58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BBD8-D34E-435F-9204-8BFF2A5D62D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7E29-6215-40BA-980C-B1CCA2FD248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1098-2275-4789-8310-B1F372B0C99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F33F-8095-4128-A48E-764068DEFEA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13FF-5C7E-4B90-8BA8-C0162A81FB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8FB9-3F4C-4490-9A53-D6AA202EDD8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8511-90FE-4B6B-BD40-E7721450F2B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CE637-5539-4453-854B-1A5DADFBAA7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278524-B803-434C-A1E0-C458482D206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E3B19-CDF0-4004-A01F-AF25D29518D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981168-B603-40C9-9AE4-C328CF0D3F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B28CF2-54FD-4BA1-BC8B-6F6C99A4803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F5DF9-802A-4C72-A8A4-C7C2D1FE401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7872E9-FCD7-417F-B75A-501F0436C5D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615FB-F3DB-4927-B544-477EAD0471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E3A7F8-9D0D-4654-A702-98C7706AA2C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5597F-FBCB-4E56-8B9F-C87DC8FC99D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E48FD2-9E81-419C-8BDC-87C12E0CC14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6BBCF2-AAF8-43C1-9507-ECA28D6C150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365E8A-465F-46C6-8B5F-8974D846974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423ED-30CA-4287-BEAE-9245F38FFBE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9000E-4818-409F-ADF3-54529E14696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8681E-5135-4562-AFE1-125CB51376C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A3300-4490-46DE-B774-9CBA73D6551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42A69-0322-4CA0-9083-D0DBDF724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EF70B-2694-462B-93E8-8B5F8CE939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160EC-B34F-4EF5-8E8A-B682B9C4565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3D875-D133-4AB0-922A-E5AC5F06F0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9D698-B065-4702-97DF-D26EA4DF84D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D2A1A-C30E-4826-B724-BB14917ED72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CCC1A-E10B-446B-AFC1-8AFCCECA0A8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EF2C3-80BC-4162-BE99-DFE2F9B4337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5BE5-4057-4A2C-8801-A40603803C1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83A3-ECF5-4D15-A556-1B3A8E65E17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96DC-E126-406F-A7D0-241E4E20F5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1795-DCFE-42F7-9823-BC347B60C18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6B3D-50FA-4529-9BC6-1D5C3AAA173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EAEF-93EE-42E1-AB60-99653F10559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B302-4CEA-40B4-899E-989EF894FED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07DF-E2BA-488C-ACB6-753707D307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73C7-26A7-4485-8CF8-06EBE372AF4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9A4B-D1AE-4AE5-9BC7-9C4036A5A27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E910-EBBC-484D-BA9B-5993D53E43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7231-B0D2-422A-A8FE-B58C5EC37E5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D3031-02CE-4BD5-8A06-18BB7FC27C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DAE621-A85E-49AC-8FDB-8AA4DBA9CB3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4B3C1-01A2-482F-B7D4-125FC20AB8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80C6C1-1FDE-43FD-A833-0EC4B51F9CE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E74DC-8740-4729-8CFA-41C0422C99E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C69DE0-7F31-4204-9E3D-0FF34665B12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D8646-C9AD-452B-B133-B172E44A66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CE2B17-0F60-46E3-A6FA-6039629F65B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11098-0857-4ADD-A9FE-751FB44AF7B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063A79-85CC-4B77-8B49-C4806C46E4D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8E2F3C-C5AD-4173-8334-322733780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DED98-ABC6-459B-9379-65AB3453CC8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07B83-A225-4D70-BED2-ABA6CB69E4B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3CC06-7BDD-49DB-9913-B88AB2B0C02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CB982-06BC-4A7B-A512-18905325D63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96420-3B33-4E35-9A90-CDB15AC66DF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FE79D-E172-48DF-A563-19313406BA8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2B81A-C412-4F1F-B9D7-9AD73657C22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1562B-A4D0-4EB5-8518-D6CD567E289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EB20D8-32C6-434F-BE8C-648657D9B4D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3745C5-C7DB-4AAA-874F-93808A9B01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63BF9-2354-4DDF-B5C3-C4FDB1AA55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CB7A7-EC6A-439F-B32B-3F60A0DC110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F3B70-3531-45A5-B940-E22784ED3C8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89D2-61CB-463A-8902-34D3723F562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3A0B-81E7-4E98-8758-7DFE4EF2456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3FA5-B27E-4B81-A4D5-48EE86A4783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0006-4793-4D56-8ECC-1C8411DB5CB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097B-4D3B-47E3-8F15-E92D38E059B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2304-3E70-4815-BEE6-C727C8D1923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F0B3-7011-44C8-9F0A-0465E14E0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933A-2B40-4089-B9C6-43FD3F183B3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6EC7F-A47A-4A5A-B819-D9E080A708A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148C-987A-44AC-93AA-DA181E11562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F8F5-8F10-4F1E-B49E-E75FA810751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C5D3E-5111-4113-BB05-E42511125CB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2763-3DC9-41EE-9D5F-351BD57612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48E6-DEC4-481A-B4AD-7296E3382C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8332-06E1-4A59-BD74-BDED58FF4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7A19-E4E6-4C10-8926-47D834C8E0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9F88-C2A1-4DA3-812C-87AE0D9A72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C7CE-592E-4094-9444-10079CC987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EB91-6BAF-43D7-9CC4-1BEDAA69E5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90F1-62E7-4502-8CC8-1A8657922F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0E55-994C-4E26-B4B3-5BFFE54452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96AC-6AF1-4B41-8897-D55ED125AF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EAC2-1653-411F-943B-563490F066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E906-8DFE-4750-88C1-B1A120E416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1FF-4C23-40BE-A63D-FDF7EA8116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48E-11DB-4E01-9223-42C2918BF3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FBE-7E96-4083-9FAC-213CF21F93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D4F-5FD6-487A-A64F-4CA104A924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0CB-A0E6-499B-93C3-1A1BF1DC03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BC1-0049-4D6B-962B-026EF4B6AF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76B-485E-431D-A68F-CE5977EF57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A80-A91B-411E-9EDD-3C56AAEAF4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EBA-A0E4-457A-8492-A89F7F39F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29F-1EA3-4F90-849A-6B7F910CE1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EB7-B877-4FF8-8C74-F2FB2F5171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C2E-E38D-4FDB-9E61-FEE7D4D130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7582D-6A38-43E3-B5FA-8690141F10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45DB1-FA94-45C4-8E4F-561E5C2F9C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C65A-2208-4D5D-8822-2087D63F0A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1B1DF-204D-46C9-96A9-23FD274531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4613-5EA3-432A-8B27-EF53D66D73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296AD-D183-4581-8847-B7EA72D925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3EB76-D222-42DA-874A-99A09284C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81EE-7660-43FA-B757-E653C74315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19257-753C-4415-A237-3BA8B9A552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DB44-A2D1-47ED-A138-C473438B7F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69E41-FBFB-4B05-8C8A-A8E6FBE493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C0C9-3E77-45E0-B881-D7C7655F3D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025B4-46B3-47F7-B32A-B6BDA2207D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14C6-A978-4054-AE29-5C222F75F7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A3DF9-0F4A-483A-ACDB-1CCBF99A78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5DBDB-B9D9-4103-84DD-521078E7ED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38354-CE77-4D0A-9BD9-100035825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E25FA-63EC-4CDF-9CFE-785CADB15A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77A6B-0DEF-4F5A-B6B6-8FF605AC00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FD1C-455F-4670-8323-BC680DA8BE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CFDB-4CD0-4B17-B410-43A0E6E300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E6BB3-B57C-4D6D-B456-CA21B855D6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F03BB-BF8F-4620-9C04-64CFC95BD5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7F711-60F3-4FEB-8F5D-125B0566ED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56B5-C1B1-46F8-ABEC-0698E119AB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75CB-CF9E-49C0-9F4A-C06947839DB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13F-BBD9-4CD0-9B5A-2235A2F49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EBD-FDE1-450C-BD5D-25F95829FF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9829-FAAC-410C-9052-9A8EC5202DE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3AEF-7898-4A6E-B25C-10918F2280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AB0-6085-4237-A5A6-F36BB064DB0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11A0-128A-475C-86CF-A075A236713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282-3545-489E-933F-85EC7B757B9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0AF3-B811-4313-9F80-2C71A46CFA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B147-E820-4119-949D-79999B8CAAA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ADE-FD4B-40F5-A4D1-45AA4E9F2B3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B3D-FC50-4076-9E54-5665749386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19B-F207-43D0-AFE7-0E93609CC72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575-EE2C-4116-932A-91066144E7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CCC-2533-4F94-BD0B-31D23763B8F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915-E7BD-4AED-9A74-6A4A578D66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3467-8EAB-4F60-85C3-CEF8D31C84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6F6-440C-4E6D-B6B0-1CA7058666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C9CA-4E2D-4D23-B6F0-318EA1B6384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6524-B3C5-41C9-8ACF-B592FAD1236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335B-EAFB-4B25-893D-9F46E507AE6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9E4-B526-41DF-8EF9-913E04E9B7D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09E-9116-477E-B61C-1CCF94B4F4D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342D-F378-4F3D-8C3B-C1AB788EED8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EDD-29E7-4F3F-82B7-ECE93C00D2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BDCF-FE32-4047-8642-CCAB95D8F6C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5616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* El Área Metropolitana de Barranquilla incluye a Sole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90520" y="1727280"/>
            <a:ext cx="6761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361800" y="1319040"/>
            <a:ext cx="8482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770040" y="1635120"/>
            <a:ext cx="744048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70080" y="3716280"/>
            <a:ext cx="65530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95480" y="1879560"/>
            <a:ext cx="70358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6280" y="2060640"/>
            <a:ext cx="765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2987640" y="378000"/>
            <a:ext cx="6048360" cy="5689440"/>
          </a:xfrm>
          <a:prstGeom prst="rect">
            <a:avLst/>
          </a:prstGeom>
          <a:ln w="0">
            <a:noFill/>
          </a:ln>
        </p:spPr>
      </p:pic>
      <p:sp>
        <p:nvSpPr>
          <p:cNvPr id="1268" name="6 Rectángulo"/>
          <p:cNvSpPr/>
          <p:nvPr/>
        </p:nvSpPr>
        <p:spPr>
          <a:xfrm>
            <a:off x="2886120" y="5157720"/>
            <a:ext cx="6257880" cy="2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081080" y="2036880"/>
            <a:ext cx="7346880" cy="35128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2160" y="1652760"/>
            <a:ext cx="7142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15 - 2016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6-06-28T14:32:29Z</cp:lastPrinted>
  <dcterms:modified xsi:type="dcterms:W3CDTF">2016-12-26T16:02:05Z</dcterms:modified>
  <cp:revision>259</cp:revision>
  <dc:subject/>
  <dc:title>Diapositiva 1</dc:title>
</cp:coreProperties>
</file>