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072-1500-400C-BE9E-802E2479C7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771-CAC4-4AA9-94CD-656ABED5F3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6AD7-CC3F-4D6D-8AA3-36578046B6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16D7-2E9C-4C29-974E-04A895021B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4E08-A880-4771-A359-F90D964792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5E97-6285-4871-98C0-B3137F124E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D966-6C0B-4C5F-92A7-99739AB9DA8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5CE-2330-44EE-B065-C5DF6D655E1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5EB4-6323-416C-B579-1EA130B33C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8EE0-64E9-436B-A93D-6FB86B3496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8F4-7388-4760-9CA5-98372D684A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B54E-9E38-45D4-A744-E1757F6F01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DB1E-AE63-4926-90E9-EBFF2D8CA7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369CC-5CEE-4FC6-88AD-041745B96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1A970-9B2F-4E19-8760-D1E1EA8B1D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39359-FB6B-43FB-8B4B-4BC55A4EEB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ADA02-904F-475D-8DE4-12F86AAC28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DDEDD-7097-4E14-9F23-E4F1AA8505F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8D2A2-4A28-4016-97A2-91620EFE01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D455E-D928-4C64-8823-0666600001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4E908-8158-4791-9F9C-E5E58B91BE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21DAD-67D4-4A01-BA9A-FE77E484144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777D7-AFA0-4B66-A359-82624C761A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0EF17-1868-4D40-B5EB-19C48BD82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C7658-F29F-40D5-B9C0-34B78FA4EE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A0BC7-F0E9-44CB-AC78-8EFA6E36A1F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8A97F-9B07-42AE-9DC0-E72F269E91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F405A-81FF-42C9-8F66-C18ED6CFDF1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8C897-D334-4FEA-A9E6-E60B7BAF1E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05B99-2DB6-43D2-9131-167FA162CD1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D0C2E-62D9-4674-84C0-51C466FB92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BE840-26E6-4DFB-907C-7997014EAB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C9804-2E5F-47D5-9D2B-26E34D7625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21A1E-B441-4C0F-8B42-F27D57CA3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56DB-D8F8-4CC0-BFCC-6247B5AD0F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92007-5BC4-4B7E-A21E-691E5B5989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E0195-F669-451F-9E24-D1C63E85A0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C3146-AEFF-41F1-A848-E133A852823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2ABD-77D9-42CA-9AF7-186DD98CD2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BF44-C6CE-4D2F-A16A-D231DD94CF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92A7-3837-4EC2-B1FE-77AC4E63E8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AAE4-0A3E-4D1F-B075-DFBFB0E6D5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BA63-335E-46EC-B7D1-546B6C5235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0BF8-F2C8-44DA-94E5-1D098D0B156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F287-4D14-4E83-BD13-F31B94F9A5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1CED-1932-4CEF-98AA-7321D84F92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9191-0265-432D-9FE5-0B5FF449F35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458E-6BBF-4447-AC0B-80E2E9B2089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D071-732A-4B5C-AF93-D7E0EFEA753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FB6A-3B4A-4DD7-B693-FD6A2F290D0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B201-4703-4AF4-B36E-E6464D23AEA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BEA06-3926-4638-897D-6C0276F91B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8656C-6A24-43B7-A6AA-14F34E9F9B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1C6CC-9A29-404D-9F20-70D6BDE3F47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FF7C2-DFBB-4BCD-BBC9-057FED6819F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C4653-0F5B-4443-86FB-CB67F008B6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25AE-2A39-48CA-B5DB-9F71387076F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068B4-F26A-4ADD-8DFD-2254C76F6E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56695-136D-4D88-8624-1D868F12583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5A635-755F-4B36-B58C-541F31DB08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40563-EF7D-4DB4-9DA7-9C335F07F76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512AE-10AF-47F0-8516-986876D4673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DC931-E1A8-4D05-A701-0D2B3D8C3A6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92046-FDBA-4E22-9003-CC8857C466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854C4-5DA7-44A1-8D01-258016773C1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AEF06-976C-43D7-B835-9CD4A5F6957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E31C5-9138-4195-BCAE-B1C7F7781C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8C28-59EC-44A6-AD61-849AA5812EB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2BCE9-C227-433C-B810-F85840239CC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4C13E-7834-46DF-A4B7-B2F3FBE913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FE9D1-8D8D-4754-A394-BDF7893F4FB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8C6C2-2B48-4AAF-BB43-09AFD35296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ABB52-B6B0-40AC-BCD8-971B54FF7F2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48927-973E-4C11-8940-812B638DC21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1F781-16C2-4696-8C38-EE3A7DFF32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6CD58-FB35-44B8-8D89-D37BF3F8195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65BB3-1371-45C9-9A32-30CAE6D1FAF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EC399-9574-4983-B379-23FC32C30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0AC2-DBF6-48FE-995A-594156A751B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064D1-3308-432D-99B6-E138DC544D1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B298-1EC2-4A53-A820-897B47875D6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E042-1829-4B8B-9F6F-2EDB48FF36C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4313-E222-4D82-B9F8-E289E27EE6B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CA17-3E45-4B48-9B5A-AF0F024F766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8FE4-0B7F-41C7-B6E0-8D72B543F6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89EB-E9B4-4336-8725-80AA598268E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AB28-BAFA-4111-B395-D12A45CE587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394DC-F182-4AA4-9933-A9DAECD6493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203D3-0D55-4129-BB13-8C4F26FC1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2B96-DA50-4BA8-AA81-FD10137BABC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EB59-01FA-4EAA-BA92-762BD570ABA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BB1B65-83B0-4B41-AC5F-53D409C2908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D43E4C-8F91-4BD2-AE61-B44F327125D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C7D54A-A0BD-4980-81F8-12F5A39952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4AC1A-0A91-4AC5-865C-DAEC3185AD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1BCFC7-C02C-4BD5-8A79-D11778D00EF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70553-3347-44CE-8306-40D961F6850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48931-94F3-40FE-89C2-67EDC40756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479EB-182F-4011-92C5-383BBFE64C0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B4E79-EABC-49C9-9B8D-081F79D504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A9FE-9627-456F-9596-A351C8A1AA1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316C7-7AD0-492B-96F9-57FAA7C903D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35EFE-F3FF-4ECA-91DE-124DBEFEEAE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0B8732-F431-4BA1-B65A-DD50FD7D125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2E012-CB00-4D44-8264-9830ECA5EFF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72BE8-1AA2-4351-B2A1-59C5B7457DD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2598B-37CE-4A4E-A26C-BDA7457897A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C6CCB-3CF6-4B47-8D50-9CB5DF06E3E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2B05C-9795-4D05-8715-6B1EE5F995F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92D23-871E-49FF-A44E-C6C213FEB6E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589C7-ED3D-41B9-8070-3BA0C37EF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DCC9-DF24-4759-84D8-4FECA93A16B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913EA-3CFB-4B4A-9E9A-5D7C0DCF78F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89733-30D0-41B1-8A2C-0BAAC13579F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AEEB5-C4C4-4E5B-96DA-9A2E8E0EA3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781FA-FC74-443B-9474-F5FE9F84EB6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92B54-A6E4-4C73-9222-3F801BC80D5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DA26-142B-4D29-89A6-3F15E0385CD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EE8E-22D7-4A9B-B506-A09606F9FA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1ADD-60A9-4C55-92CC-AEACBE90E0C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9DD1-C85F-4AAD-BCEC-BF92395765A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ECAB-CF07-4F8C-B863-6D10398AAF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3ADD-521F-441A-B2F7-C0C899690AA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60DF-3712-4375-918C-3FAB21BB49D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AA5B1-F08B-46B5-80C1-C539035EFCA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6132-849F-49C7-8559-B40FBC3E639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DED1-1BF3-4608-B9C1-8EE7697DA5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E17D-FBC2-4280-833F-B5D233DD781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1C7A-C726-43C3-84F4-F4451BCE1A6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3E28-6A25-48D2-9874-9E0D8F6D392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8E0A4B-6798-4F1B-BA19-B76B424BCE7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DB9CE8-3747-46C8-9505-D99E8FAB465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C18DD5-A653-449E-B579-A7533582F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38F0-1D02-4756-81A7-8236217441E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A87D9-D89F-488B-AB36-6653489D2A5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9EB8F-62F1-413A-AC39-79B0300AE40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85DA3-9F66-4F27-BBD1-969C1A04F58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CC3CE-92DE-4B41-844E-66F4771CFB3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4F5DFD-167B-4B10-AD5F-2C4F5AB73AE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E6567-E082-4521-9C18-F8CC8DCE1D0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7C909-4A31-4F51-87A6-FF6CBCCAECC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B365A0-FB7A-45D4-83B6-7A0AA4A74A6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BEFAE-9996-412F-A4BE-584497BE0A0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6C27C-8EA0-49F2-83E5-80BE4386C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1B99-000B-4A46-96C2-CD7F90AD849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6EF9B-4C1D-4B14-B9DA-0B7A642FAE7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55B24-64EE-474A-8816-207E86FEC78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9FB36-E9AD-4B35-8AD7-25DD503AE2A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6469D-C9AA-498F-86BE-B98F6F54F45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9C0A9-0AB1-41AA-87F7-9890AF9A44D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0ED9A-BC93-43C0-AA06-F22F4419A9B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18108-9887-4231-8698-8CD0C06B7B3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26A5E-B953-471F-ADDB-ABEC40A69EC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50A23-DC77-4A0F-A6CB-8CE8D817F9A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8BD2F-364C-420E-BD49-5ED35F425A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68E8-6C19-43C9-B64E-270F5EDD120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9996C-4B6D-4F4C-968A-1849C7D6493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F8BC-DBC0-4464-8C82-332479EFDDA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91C4-CFE4-4056-B414-5C42398C0CC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66DEA-25A4-4A83-8238-99194E4BEE3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76C40-BC75-4D33-97DE-77B1FBAC14A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C7E4-A825-4BD6-AD10-3C15BB15AD5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2126-C1E3-4D5D-B2A1-6DF412708F7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630F7-5C12-4DD5-99FD-2BFEE593A31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D84D-2F30-413F-9487-04CC4EAFAA0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9621-5E79-4D44-B084-3335AFE658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B317-B1D5-4A36-87E2-78A6187B362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90919-9D92-473F-9628-D84C8752C81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49FB-40EB-457D-A555-BED1037474E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692632-10E5-4807-8D9B-CE3AE644E24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1AC446-4653-4013-AE96-EB6F330D159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84E5A-7B9F-4D73-B0D4-4629FC9104A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9CB4A-CC7A-4983-B41A-BA217E984C9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70BE8-467A-47F0-B623-B3047E2CA3D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A03BB-DEDC-4724-9636-479B894D670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31CB4E-E703-4FB3-95A0-9E7C313C1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D8BB26-598F-4F35-A6E7-E6D40A4D1AC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A9A6C5-E967-4019-9C7D-667FC8AB553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5FAB8-6931-4F7E-A0A4-8F21A54C7E5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14F9B-1B40-4780-BB53-24C2FE5753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45B340-A48C-462D-9CAB-7665AE912C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E51C7-06EC-4ACF-9911-43CE472D376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72FE9-91EE-4EA8-AE14-E6386B96BAB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1D1B5-201D-444E-8AC1-0FB350075E2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92E58-91FA-4F0F-B589-48F730278A9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61CB9-5D55-4ECC-8957-E11BA3D58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6E126-A245-446F-8E28-BC99C8DF965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1EA48-4C97-4B07-BF39-3DEFBDA2BA1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34F4F-6538-4820-A773-340978E7F93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AC663-4061-4EC7-A1A7-FA8E6515119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A391D-E769-4388-908C-01F83DCBDAF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E9AC6-C171-4BB5-8E54-BDE7C0C9133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282AE-BFB9-4478-9D0B-9BA9F2535F6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E37DC-1035-4AEA-BA8C-3F677267D6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3AB85-AB91-458A-A2C1-5F2F3FE578A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7A016-E8C5-41CD-9E2E-BE3E03AE75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6325-289C-4B9F-BEF0-5FD246165A6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C9373-CBC0-4A07-88EB-865B0ADA77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B3287-2A51-4469-8D52-764A3B0C061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61D7-785E-47B8-82EC-56C0BFB1F62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85CB-F110-491B-931F-4B2C35CE76C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3A4A-B62B-4CCA-852B-542DCD52524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AA2E4-21A9-46B8-B6BF-E27E83D4B59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7ABA5-9A28-43E0-A8BC-6DDC494E69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344A-B018-4A8F-A0D3-8B0C0477919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4E6C2-F433-4F30-B993-40C02B3036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E0A85E-CBC7-423F-8338-E7209F472AC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9B6094-6DE2-49AB-A649-9AFE5A5D583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EABEC2-35ED-4ABB-B8CF-6C7DD22BFB5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B03399-457A-4B65-82F3-7FFBC86FC17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C3211-3F7B-4A89-AEB1-E0FFCF46439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7D5E6-D854-4166-886F-FB5C952BFB7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AD250B-C06E-4893-AAC5-191DE74BFFA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77E73C-79E7-4947-BF9E-4647B40C93D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6971BB-1A0E-4A52-AF55-5CC2F679020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C9AB7C-11FE-461D-96F9-07F0D7FB66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CF5511-C32A-4DF2-87EF-EB5040E77F0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92AF4-4FFC-49AE-A8EB-65497C45067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A023C7-58D1-450E-8373-6A1119FD817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F0C97-4977-4A40-A1A6-FAB9E30FFB1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8956E-9377-4188-B910-8D3F6C7F836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D72052-B3EC-481D-9507-D46354709A3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F52EF6-A336-4AF5-A548-DFDCF14F6FC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249DCC-11E1-49DA-A4AE-844C3F6F070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FC338-D8E1-409C-B955-41970B147A8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4FCF16-2482-46C8-B266-47379F2681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F676B-ACEF-43C7-9D18-062B6393080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B32A0-E990-40FF-BA9F-3E011C6ECF8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A6D0A-042A-463F-9C54-B5CE1FE95E2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6F31B-A64E-4802-B1C1-66154A93926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02AE-49F3-4DA7-A15C-E2287B868D6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765A8-B6AF-43C8-AF01-99FEC955F37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9AF5F-92E3-426C-9919-327AB1FA296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4733E-E738-48F3-8FBE-BB2FEADABB1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843DB-4EFB-4D97-9CE8-13209E38C26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A0DD-193D-4C4E-95A6-110BD31E58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38CC9-8895-4904-8113-2F297DAF430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D89F-043D-4C71-B726-682EB85B9D9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16C91-8A6C-4C02-8D87-EB562363A38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BFC0-0BC3-4C09-B76D-D7EB704F5AF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89AC9-B8CF-45C6-B332-C3F8531A508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6BA8-2284-45C9-B957-4686FCDD28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5128-269C-42A4-ABA7-B0178227C7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4857-CC08-453A-8E9F-4FE8B694B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DCCC-0696-4D4B-8857-B2389D7B0A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247F-B79A-484D-881F-1C3DF2D16B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2A5C-CBAD-40F0-BF76-495B1BB0D2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799C-332C-428C-8067-9756BBC619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8377-5EDB-4F4D-BFD6-EF8D08C79F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5D34-0420-4798-A37E-E646E65510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CB88-EF3C-49EC-A1CE-C282D7B6C8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3849-0511-4874-A855-91CCF12E45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6649-0A6B-4471-B56E-05DEDDD819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A23-F5CA-416E-9DD5-C821696E38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951-4E69-4677-91E5-EB0B72BDC8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CEE-F152-4B82-895B-5B5DB19565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878-1C40-447F-A040-AF6B1EC8F8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018-40F7-48D4-868F-5EB22A541B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44C-60A6-472E-BB04-33587E3652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F0B-76BC-481F-B917-51F87B4C1D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4C0-9068-42EC-A5BC-47183F53D2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B59-D466-40DB-8ABA-CA7D98CF7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A18-8E1E-4A4C-8356-F207BC6664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0C2-A31A-41B0-963E-A25C7CF163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930-F99C-4607-B513-29F9A13F69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3060-ED44-440D-8138-3593FD324CE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31C3-80DD-4CE3-9F88-4F13D8F389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500E-597A-487F-84BB-DB5AE17CD4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1E312-9F96-48DA-9D14-3B14330DB7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636A5-1947-4C17-839A-83AE459854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EC4AB-DC1C-4BD1-9561-8B4E1A7B6E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FFB27-865C-4134-B671-636609427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C94C8-F1D9-4DFF-B3B8-19064218AB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F8ECE-2A36-4826-B7F8-ADBF64FB69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8EB2C-10CE-4BE5-B18F-BA3D050DF1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BF33E-D067-446F-A8F2-38B427D6BD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97029-F4D4-4A4E-B5A1-0666C59BC5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6576B-E4EC-435C-8F6A-ED4D98452AC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B4746-040A-4C27-8C85-EE81C25C6A4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21281-F21D-4205-95E9-B7DA1BCFEC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ABAC9-C70E-4BA1-BEE0-3D6CD44C91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0F24-6FF0-4771-A5D6-BC8E2DF51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5168D-4F12-41DA-A988-B6386E5D10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F8B31-D728-4E30-ADA9-87F1B6CCA2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4E02E-1707-4A20-BF9E-1B0E5BD499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9943A-099B-4B37-B144-AF1215C923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9035-AA1C-45E0-82F8-F413318107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C6F4-6CCF-4A05-85F7-C0E9FC957D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D7DC0-B3BA-4BFF-BD57-206D71DAF7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EBFB-13B1-4818-9CEC-B7D3EFAFDA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02C2-1505-4986-862B-4B8EC33724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5F78-2E51-483F-A4B8-FA4361A7B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4D95-5D2E-4D92-87AA-5386EA71CAE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ABF2-845E-4AF7-8A40-4FF5FB47EAC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FC8-2752-4EA5-BD0E-E73CF97E843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B37-45F5-4D53-924F-A90904BE354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6F18-BBF5-4A9C-8DA3-02D8DFB1922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C1F-E57D-46E9-BD21-410E63E366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6F95-8A36-477B-B28F-2393FF8119B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8D2C-1F1E-4138-BD6E-D6168B25B0D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34E-7AD5-443F-9E90-941A7D6C539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61C-EE14-469A-BED8-6B467452D3B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F17-C4F2-40A2-810A-B7D44A72E42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284E-B52B-4B57-92CB-DD79326F472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DF8C-4FD4-4EA7-9C1F-829D5C9AF58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30C5-981A-45D3-BE14-B044274BC2D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CA61-8D4A-4977-B917-764150852BC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D59-3087-46EC-BC78-CBD281B1A13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EFB-1311-44C0-B742-7F710089A2C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18E5-559C-459C-AD59-172D5E15D60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EF30-0A1A-4D0B-81C2-9F78F8D3F30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1890-9822-4984-8A53-316F6A0F3ED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7920-80F3-4FD8-9A9A-A4773DE0935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D4C2-76C6-4926-9A29-13C72A2E098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92B-B89C-48D6-A18B-C619F3A151D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2FB-4A87-4C50-B586-D5BD6791E0E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Pa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3"/>
          <p:cNvSpPr/>
          <p:nvPr/>
        </p:nvSpPr>
        <p:spPr>
          <a:xfrm>
            <a:off x="124452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898560" y="1557360"/>
            <a:ext cx="7569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728720" y="5554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060560" y="1706400"/>
            <a:ext cx="71341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312920" y="55728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952560" y="17780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34920" y="5589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87400" y="51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1293840" y="1773360"/>
            <a:ext cx="7004160" cy="3305160"/>
          </a:xfrm>
          <a:prstGeom prst="rect">
            <a:avLst/>
          </a:prstGeom>
          <a:ln w="0">
            <a:noFill/>
          </a:ln>
        </p:spPr>
      </p:pic>
      <p:sp>
        <p:nvSpPr>
          <p:cNvPr id="1311" name="Text Box 4"/>
          <p:cNvSpPr/>
          <p:nvPr/>
        </p:nvSpPr>
        <p:spPr>
          <a:xfrm>
            <a:off x="71280" y="56610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711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6919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4"/>
          <p:cNvSpPr/>
          <p:nvPr/>
        </p:nvSpPr>
        <p:spPr>
          <a:xfrm>
            <a:off x="444600" y="5354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5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33640" y="620640"/>
            <a:ext cx="687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– noviembre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35000" y="206388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7058160" cy="1800360"/>
          </a:xfrm>
          <a:prstGeom prst="rect">
            <a:avLst/>
          </a:prstGeom>
          <a:ln w="0">
            <a:noFill/>
          </a:ln>
        </p:spPr>
      </p:pic>
      <p:pic>
        <p:nvPicPr>
          <p:cNvPr id="1327" name="2 Imagen" descr=""/>
          <p:cNvPicPr/>
          <p:nvPr/>
        </p:nvPicPr>
        <p:blipFill>
          <a:blip r:embed="rId2"/>
          <a:stretch/>
        </p:blipFill>
        <p:spPr>
          <a:xfrm>
            <a:off x="1071720" y="1484280"/>
            <a:ext cx="7041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ar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39680" y="1700280"/>
            <a:ext cx="7124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617400" y="4560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86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863800" y="453960"/>
            <a:ext cx="6010200" cy="557064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79280" y="235728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3 Rectángulo"/>
          <p:cNvSpPr/>
          <p:nvPr/>
        </p:nvSpPr>
        <p:spPr>
          <a:xfrm>
            <a:off x="2843280" y="4487760"/>
            <a:ext cx="5905440" cy="165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28840" y="71136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500040" y="2092320"/>
            <a:ext cx="8075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549360"/>
            <a:ext cx="71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-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21398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1457280" y="1782720"/>
            <a:ext cx="6210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552600" y="2492280"/>
            <a:ext cx="8224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enny Carolina Hernandez</cp:lastModifiedBy>
  <cp:lastPrinted>2015-06-02T14:27:28Z</cp:lastPrinted>
  <dcterms:modified xsi:type="dcterms:W3CDTF">2016-12-27T14:16:59Z</dcterms:modified>
  <cp:revision>103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