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slideMaster17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8.png" ContentType="image/png"/>
  <Override PartName="/ppt/media/image14.jpeg" ContentType="image/jpeg"/>
  <Override PartName="/ppt/media/image16.wmf" ContentType="image/x-wmf"/>
  <Override PartName="/ppt/media/image7.png" ContentType="image/png"/>
  <Override PartName="/ppt/media/image15.wmf" ContentType="image/x-wmf"/>
  <Override PartName="/ppt/media/image1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28.wmf" ContentType="image/x-wmf"/>
  <Override PartName="/ppt/media/image5.png" ContentType="image/png"/>
  <Override PartName="/ppt/media/image13.jpeg" ContentType="image/jpeg"/>
  <Override PartName="/ppt/media/image4.png" ContentType="image/png"/>
  <Override PartName="/ppt/media/image3.png" ContentType="image/png"/>
  <Override PartName="/ppt/media/image27.wmf" ContentType="image/x-wmf"/>
  <Override PartName="/ppt/media/image26.wmf" ContentType="image/x-wmf"/>
  <Override PartName="/ppt/media/image25.wmf" ContentType="image/x-wmf"/>
  <Override PartName="/ppt/media/image24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.png" ContentType="image/png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9.jpeg" ContentType="image/jpeg"/>
  <Override PartName="/ppt/media/image23.wmf" ContentType="image/x-wmf"/>
  <Override PartName="/ppt/slideLayouts/_rels/slideLayout334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8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296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</p:sldMasterIdLst>
  <p:notesMasterIdLst>
    <p:notesMasterId r:id="rId30"/>
  </p:notesMasterIdLst>
  <p:sldIdLst>
    <p:sldId id="256" r:id="rId31"/>
    <p:sldId id="257" r:id="rId32"/>
    <p:sldId id="258" r:id="rId33"/>
    <p:sldId id="259" r:id="rId34"/>
    <p:sldId id="260" r:id="rId35"/>
    <p:sldId id="261" r:id="rId36"/>
    <p:sldId id="262" r:id="rId37"/>
    <p:sldId id="263" r:id="rId38"/>
    <p:sldId id="264" r:id="rId39"/>
    <p:sldId id="265" r:id="rId40"/>
    <p:sldId id="266" r:id="rId41"/>
    <p:sldId id="267" r:id="rId42"/>
    <p:sldId id="268" r:id="rId43"/>
    <p:sldId id="269" r:id="rId44"/>
    <p:sldId id="270" r:id="rId45"/>
    <p:sldId id="271" r:id="rId46"/>
    <p:sldId id="272" r:id="rId47"/>
    <p:sldId id="273" r:id="rId48"/>
    <p:sldId id="274" r:id="rId49"/>
    <p:sldId id="275" r:id="rId50"/>
  </p:sldIdLst>
  <p:sldSz cx="9144000" cy="6858000"/>
  <p:notesSz cx="6980238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notesMaster" Target="notesMasters/notesMaster1.xml"/><Relationship Id="rId31" Type="http://schemas.openxmlformats.org/officeDocument/2006/relationships/slide" Target="slides/slide1.xml"/><Relationship Id="rId32" Type="http://schemas.openxmlformats.org/officeDocument/2006/relationships/slide" Target="slides/slide2.xml"/><Relationship Id="rId33" Type="http://schemas.openxmlformats.org/officeDocument/2006/relationships/slide" Target="slides/slide3.xml"/><Relationship Id="rId34" Type="http://schemas.openxmlformats.org/officeDocument/2006/relationships/slide" Target="slides/slide4.xml"/><Relationship Id="rId35" Type="http://schemas.openxmlformats.org/officeDocument/2006/relationships/slide" Target="slides/slide5.xml"/><Relationship Id="rId36" Type="http://schemas.openxmlformats.org/officeDocument/2006/relationships/slide" Target="slides/slide6.xml"/><Relationship Id="rId37" Type="http://schemas.openxmlformats.org/officeDocument/2006/relationships/slide" Target="slides/slide7.xml"/><Relationship Id="rId38" Type="http://schemas.openxmlformats.org/officeDocument/2006/relationships/slide" Target="slides/slide8.xml"/><Relationship Id="rId39" Type="http://schemas.openxmlformats.org/officeDocument/2006/relationships/slide" Target="slides/slide9.xml"/><Relationship Id="rId40" Type="http://schemas.openxmlformats.org/officeDocument/2006/relationships/slide" Target="slides/slide10.xml"/><Relationship Id="rId41" Type="http://schemas.openxmlformats.org/officeDocument/2006/relationships/slide" Target="slides/slide11.xml"/><Relationship Id="rId42" Type="http://schemas.openxmlformats.org/officeDocument/2006/relationships/slide" Target="slides/slide12.xml"/><Relationship Id="rId43" Type="http://schemas.openxmlformats.org/officeDocument/2006/relationships/slide" Target="slides/slide13.xml"/><Relationship Id="rId44" Type="http://schemas.openxmlformats.org/officeDocument/2006/relationships/slide" Target="slides/slide14.xml"/><Relationship Id="rId45" Type="http://schemas.openxmlformats.org/officeDocument/2006/relationships/slide" Target="slides/slide15.xml"/><Relationship Id="rId46" Type="http://schemas.openxmlformats.org/officeDocument/2006/relationships/slide" Target="slides/slide16.xml"/><Relationship Id="rId47" Type="http://schemas.openxmlformats.org/officeDocument/2006/relationships/slide" Target="slides/slide17.xml"/><Relationship Id="rId48" Type="http://schemas.openxmlformats.org/officeDocument/2006/relationships/slide" Target="slides/slide18.xml"/><Relationship Id="rId49" Type="http://schemas.openxmlformats.org/officeDocument/2006/relationships/slide" Target="slides/slide19.xml"/><Relationship Id="rId50" Type="http://schemas.openxmlformats.org/officeDocument/2006/relationships/slide" Target="slides/slide20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"/>
          <p:cNvSpPr/>
          <p:nvPr/>
        </p:nvSpPr>
        <p:spPr>
          <a:xfrm>
            <a:off x="0" y="0"/>
            <a:ext cx="69804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2436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 type="dt" idx="25"/>
          </p:nvPr>
        </p:nvSpPr>
        <p:spPr>
          <a:xfrm>
            <a:off x="3954600" y="0"/>
            <a:ext cx="30240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 type="sldImg"/>
          </p:nvPr>
        </p:nvSpPr>
        <p:spPr>
          <a:xfrm>
            <a:off x="1203480" y="685440"/>
            <a:ext cx="457344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1" name="PlaceHolder 4"/>
          <p:cNvSpPr>
            <a:spLocks noGrp="1"/>
          </p:cNvSpPr>
          <p:nvPr>
            <p:ph type="body"/>
          </p:nvPr>
        </p:nvSpPr>
        <p:spPr>
          <a:xfrm>
            <a:off x="698040" y="4343400"/>
            <a:ext cx="5583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2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302436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PlaceHolder 6"/>
          <p:cNvSpPr>
            <a:spLocks noGrp="1"/>
          </p:cNvSpPr>
          <p:nvPr>
            <p:ph type="sldNum" idx="27"/>
          </p:nvPr>
        </p:nvSpPr>
        <p:spPr>
          <a:xfrm>
            <a:off x="3954600" y="8685360"/>
            <a:ext cx="302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41E3C-A7CF-4347-8EC1-D843E04AEB32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Rectangle 7"/>
          <p:cNvSpPr/>
          <p:nvPr/>
        </p:nvSpPr>
        <p:spPr>
          <a:xfrm>
            <a:off x="3954600" y="8685360"/>
            <a:ext cx="302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3EA3B-3E79-4673-83E2-A991B3381BB6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2" name="PlaceHolder 1"/>
          <p:cNvSpPr>
            <a:spLocks noGrp="1"/>
          </p:cNvSpPr>
          <p:nvPr>
            <p:ph type="sldImg"/>
          </p:nvPr>
        </p:nvSpPr>
        <p:spPr>
          <a:xfrm>
            <a:off x="120636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1333" name="PlaceHolder 2"/>
          <p:cNvSpPr>
            <a:spLocks noGrp="1"/>
          </p:cNvSpPr>
          <p:nvPr>
            <p:ph type="body"/>
          </p:nvPr>
        </p:nvSpPr>
        <p:spPr>
          <a:xfrm>
            <a:off x="698040" y="4343400"/>
            <a:ext cx="5583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Rectangle 7"/>
          <p:cNvSpPr/>
          <p:nvPr/>
        </p:nvSpPr>
        <p:spPr>
          <a:xfrm>
            <a:off x="3954600" y="8685360"/>
            <a:ext cx="302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D465B-DBD2-4B88-A3D4-FA34D7B6B0F5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5" name="PlaceHolder 1"/>
          <p:cNvSpPr>
            <a:spLocks noGrp="1"/>
          </p:cNvSpPr>
          <p:nvPr>
            <p:ph type="sldImg"/>
          </p:nvPr>
        </p:nvSpPr>
        <p:spPr>
          <a:xfrm>
            <a:off x="120636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698040" y="4343400"/>
            <a:ext cx="5583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Rectangle 7"/>
          <p:cNvSpPr/>
          <p:nvPr/>
        </p:nvSpPr>
        <p:spPr>
          <a:xfrm>
            <a:off x="3954600" y="8685360"/>
            <a:ext cx="302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DF306-EDF0-4147-AFCB-D6D7D280CE12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8" name="PlaceHolder 1"/>
          <p:cNvSpPr>
            <a:spLocks noGrp="1"/>
          </p:cNvSpPr>
          <p:nvPr>
            <p:ph type="sldImg"/>
          </p:nvPr>
        </p:nvSpPr>
        <p:spPr>
          <a:xfrm>
            <a:off x="120636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698040" y="4343400"/>
            <a:ext cx="5583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Rectangle 7"/>
          <p:cNvSpPr/>
          <p:nvPr/>
        </p:nvSpPr>
        <p:spPr>
          <a:xfrm>
            <a:off x="3954600" y="8685360"/>
            <a:ext cx="302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422AE-FAB0-4226-9A05-8D4E0C103ABC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1" name="PlaceHolder 1"/>
          <p:cNvSpPr>
            <a:spLocks noGrp="1"/>
          </p:cNvSpPr>
          <p:nvPr>
            <p:ph type="sldImg"/>
          </p:nvPr>
        </p:nvSpPr>
        <p:spPr>
          <a:xfrm>
            <a:off x="120636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1342" name="PlaceHolder 2"/>
          <p:cNvSpPr>
            <a:spLocks noGrp="1"/>
          </p:cNvSpPr>
          <p:nvPr>
            <p:ph type="body"/>
          </p:nvPr>
        </p:nvSpPr>
        <p:spPr>
          <a:xfrm>
            <a:off x="698040" y="4343400"/>
            <a:ext cx="5583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Rectangle 7"/>
          <p:cNvSpPr/>
          <p:nvPr/>
        </p:nvSpPr>
        <p:spPr>
          <a:xfrm>
            <a:off x="3954600" y="8685360"/>
            <a:ext cx="302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D1783-2B95-4E9D-A49C-BB6931F6FFE8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4" name="PlaceHolder 1"/>
          <p:cNvSpPr>
            <a:spLocks noGrp="1"/>
          </p:cNvSpPr>
          <p:nvPr>
            <p:ph type="sldImg"/>
          </p:nvPr>
        </p:nvSpPr>
        <p:spPr>
          <a:xfrm>
            <a:off x="120636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1345" name="PlaceHolder 2"/>
          <p:cNvSpPr>
            <a:spLocks noGrp="1"/>
          </p:cNvSpPr>
          <p:nvPr>
            <p:ph type="body"/>
          </p:nvPr>
        </p:nvSpPr>
        <p:spPr>
          <a:xfrm>
            <a:off x="698040" y="4343400"/>
            <a:ext cx="5583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CD9C8-351A-4BE7-8D9B-28BFCEDB90CD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1C2AB-94A7-4462-8161-D7AF42B1015D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84A33-C8C5-44D2-A412-C24E40C0B509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379F2-7CE2-45C4-B338-233950F72FD4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1E829-D8CD-4E59-9DA3-8A38870C3E80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C5AE0-4AEA-45EE-A99C-860719A5673D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B66DF-488B-4ECF-A487-28760C2C9937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0C347-03C3-438D-BB3E-2191A19D05F2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4EB20-CF81-4C20-ACA7-62A34805AD97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EF258DB-19DE-4869-8F12-9DE5E2DFB1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0867FF4-5F14-4D96-B1DD-49C48A4CFD6D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342856F-9C29-4B27-80FC-5663D5712D41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B7FF836-6373-4FF0-83F2-8E287A6CA23F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4E6C04E-B198-433D-B48A-394ED0A6C1B2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F68B3D7-BBB6-4E9E-B7D1-31FC4B96041C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36CD783-A7F9-4D62-8A54-747C83627FEE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0D3ED90-8F8A-4B21-8DA6-321AFE35B7AC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14D0D65-9206-47FA-B86B-B99AEF99B17A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22B9B92-09E0-4EF7-B6DE-39E01251A648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79BF331-A986-4541-A95C-3AAAE3770B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DAA08EB-4BBD-4AF2-9967-E6398012DBED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05F69CD-662D-41C1-896C-ACD49249779B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9EE25B4-D388-47AA-B26D-C1EB2B174E29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BF97A84-579A-4429-B76C-83FB24E40280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9011962-7194-4499-8599-06FAB53EE1CE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0CF1483-70A0-4AA0-8F5D-A8A8BBDCF8FB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C221890-648D-401E-8B26-FDFD0D46AF2D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40C8F6C-10F2-42C8-A1E7-D6A86271066B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250F1B3-84A8-43FA-9AE4-BF289CABDE2C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C9773B3-16B3-40CC-96DD-23E4371F23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1C2045-F6E9-4F3B-BB7E-20841530DAC7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E1C35C5-1EE6-4849-BFF7-12A8B9AE389C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87CC539-231D-45BB-81B6-215F1D9C5F28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FD5E143-34F6-498B-8DA5-425C79658C31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9EE38A-9DA5-4F43-B93F-784046B66CC5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63A32F-03C4-4030-AD4B-27A012F34C66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954EE7-43FC-445F-B13C-E014C01FF6CF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FFAA92-0A65-4E43-AD35-D5193A9ADBBF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15B17A-9F9E-4A44-A837-C6D370BEB87D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291849-2323-427E-8058-5269E89D76C4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85E16B-6A57-4325-993A-0C24F7E6C0D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E56E0C-98FB-46CF-8928-9DE2484790A9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515C4F-9DA3-435E-98B9-E0FD849E850E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A8D025-DADE-4BF0-B104-DB934C4ABAC0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A2A1B6-A684-44FB-85E6-C8C6AA9CCB2D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795767-D59B-4AF8-A534-F6DA783DFF49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4F9BCE-65EA-497C-A3E1-11B1EAE8492E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9D3419F-547A-40AB-AD3A-13A357085B49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C4D5FB4-77EE-4157-BEF5-8C94F808DC67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E14EAED-5896-4695-A3B1-5602229C9490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F31E04F-C679-403E-A344-86B25DD111A1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5FBC9CD-224A-4072-81AF-A76187BAA78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87FBFC-FE07-4247-8E41-ECE32CD2FD62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28920FE-E2CB-467C-A90C-7ECC042BF757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250153D-838C-4ADB-B272-A8BA63B3CBE5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6EB1032-AB80-4EA6-8C92-DF661C3F5BB0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2CA2529-44B3-4EA9-A936-BD9EC833B295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09606D5-E040-48C9-9CEE-97EA5D2E4EC8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1F1EF0E-97D9-42BB-B3FB-C736953D0E69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1B4C850-10C3-4FD9-AC9D-54CD4C9AF7EF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80A1342-08EE-471C-BDCD-CFEC9EEC3183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BA16E82-DD06-4A76-9763-8FEA774F5FEC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E447906-6B88-4E92-951F-E037672A69D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7B3D16-01B0-4602-A53B-5FAFC8448AD6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70FC03F-9BA9-4316-BFC3-3F1033AC6625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A343F08-2DA3-43E9-A94D-2199309E02C6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12AB073-5344-494A-868A-0992C2502604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7C7620C-50C3-44BD-95A3-780CE83546DB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5504ADD-BCD6-4187-9D7C-4765ADA682FB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C30A5E1-404D-4BC0-87F5-2B2DC79D18C7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FAF07A6-F21A-441F-BFED-36BBC6612897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B487780-A93A-402E-84DF-C74E34AE9181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E59518B-EB2B-4B70-B8CD-A35276C81519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3687E4-81D0-4B5A-A6AA-67C68F259B8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56E740-D1A0-409C-A46F-749973E4C7AC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104BCD-1668-44C0-86CF-F40198846A3A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F61A45-1BF7-4C98-B530-329F2A389B69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5D7FAA-CA6B-42DD-A16B-E4FC918318C1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F32760-961A-418D-8E35-1CCB44B8AC88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D675DF-A999-4893-A378-0D672045715D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BF64F5-6A96-4131-81F5-EDF3C167260E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DB5FF5-F853-45D8-943C-85F93A3D72DD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C6E3D5-EAC0-424B-BDC6-33D24A701B51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F71138-0395-4D37-8C48-518DC03FCA2A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C223D0-A3C0-4549-A1C9-EFB1FF76A68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75FC0F-201A-49C2-A23A-E71135382D72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4ADCFE-343D-4B10-8D01-87C8CF5BE8E3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C2D8CCF-AA04-46C4-94C5-CFAC810343D8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CC72B9A-2722-4DF1-B775-B2037B1868F8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0CE20F5-C229-4EA0-A5A1-FCA05302DC4B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413A5E0-1648-4775-AFAD-AD648961A7ED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DB303BD-D673-4334-AB19-94006BD5F79C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D950EC5-21CF-4A77-AB40-003491504BBC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790B6A1-6D23-4D8B-A5E0-2CCC7D4AE792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F963783-399D-4228-BBB4-ADCDA7E3AA43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881F0C9-16FB-4448-AD97-69222A03222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6ABC9A-D442-4832-BBC5-EAC3ED311904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5CC77E1-ACDC-465E-89D8-5B7585FF037D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085FA96-FBE6-42C9-8EB1-CE323A00B86E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C16E954-A6F7-4F9C-A8B4-53D81BFE1ADA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57DD598-BAB9-4B02-8A44-F0A52C0B8735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93BBB0F-FCAF-4BDB-9493-88F7ABCAF14B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50DC268-0660-4E92-A26B-9719584DFB1E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AB5CAF6-FF91-40C2-BCAE-C5A6DE99FC75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0B09274-327A-449E-972D-0F2CA3364043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5D646BF-B10F-435C-A899-CF0B55539C47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C95C57E-CBDB-436B-B4DC-0DBDD4FF997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F78808-EF7E-4E77-8391-DA69D6D5109D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F3CD484-7620-475B-96B7-86453CCC819E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8680A90-32F8-4FEF-B000-943D8719D1AC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0C03156-C404-42AB-BF72-D823BA201D77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2C56565-7E3E-4A03-A400-E8C09A080B9F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DC41252-8AC6-4E9D-B7A3-5D4A9CBFE3AE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0E1E82-E7AC-4971-BF59-55D6CAB34F49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82D897-E4F4-439E-AF97-DD2F69CB742F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55D2D6-494A-4CF9-903E-51CCC00C71E2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CB7814-030F-4327-B2D0-8926A3C1AC17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62DE74-02DF-4567-9180-46EBD14ACD8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E57B85-012E-4A4D-89B8-C82B8F646BB3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EDD5AF-DEFF-4247-824B-07B535142CBC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282324-6AF8-4E83-BB41-FCC81B47547C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BD3D17-8033-42CE-93CF-78B532E42E29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A07C11-E5F4-4845-AEFD-A3F697A008F3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30D531-0DF2-459D-9E21-8495C5599CFD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685F07-43F4-451B-8DAF-A0CE3EF4C639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50BA50-07AA-44C3-87BF-F91D430B2BD6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C066994-364B-4E8C-BFDD-E3B6EFA591BF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D9DFFFF-7EFE-4584-B7C5-390B80A8DED4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EFB643D-A83B-4403-9CDF-7AE26A69841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DE2A75-5AC9-4FBC-9FF9-EA12916C4088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E58A6DD-45FE-48B2-B67B-C1AAB7C2765D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7044695-0664-45B9-8BFF-EC68DC2E2AF4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9D79DF7-74D9-491C-9ED2-0D60908299CE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02FF300-A7B5-4CD8-995D-0304E11412A7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E21E41A-0CFA-4E8A-8008-18C69B0AB1FC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7FCCD52-7655-4D98-8DCA-BAD86086AF6B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F185D6C-8ADD-4A42-B699-9B07B1720415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39B56D0-2001-4FA6-B750-6F998B6A3C80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F827F3E-D47F-4CF0-B336-D51179FC321C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C0582BF-6A50-45EF-A5CF-72D85C95CD8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90DFF3-DFB2-4560-BD7E-A2FE0706226A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B4917E7-17ED-435F-969F-DDE2F229A1D2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22D2A31-F8C4-45EA-B2B0-AF9119CBC9A9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BBB1FAD-B1E0-41FB-9B27-BC5118B6E4F2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2117FB0-3235-450B-A7A0-80A8B74CE46A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63521CE-9078-4FC3-8C9C-0769CA9D11DF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438D0BC-D218-4BA5-8B6E-39437A4726E3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B2F13BF-F9F8-42A7-92FF-CEF6B24311A4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455240F-CAFF-4666-B92B-D6080E495577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1A13B10-BBDC-419C-9657-A04097B59255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2854C74-EF16-4FC6-BD8A-29E93B1F090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93559F-3E83-44AF-9B53-D73B2F8E4177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12911BC-A501-4911-84EC-9C02800A7306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26FE34-57C6-4252-B5E5-5DBE66907AAE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AE93BA-082E-4711-B20D-FCC38CFAAF56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8BFEF6-3FF2-461B-A7C6-43A0F941235B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FF6FEF-A2C1-4BEF-84D9-79C85BB25874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D5EA4E-5448-403F-A1B5-FE1726DE99F2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411599-7B18-4EEB-B286-A57460192B36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01DE3F-5338-45F2-B38C-47A57C224814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8A87CB-EF9C-4CF3-90F6-ED8DA6C58F93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ED1E6B-E914-41BC-A73A-3C838650DDDF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07654E-6698-4313-8117-8BDC2E13AA47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F2AC87-8AC8-4C01-A6BC-3D4B2A6BB5BB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A59031-4CEE-4EDD-88D0-DCFE81A187FB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FC4A2CD-63F6-447D-8140-08C8C084B68E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9A2ABC0-2400-4FB5-9DDF-D47B219D03F2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204214F-A1C5-4F63-8330-25E8ADE46852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C7E9E9F-51DE-42F9-93C2-5918084A2880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220CB6D-FE3F-4E71-9C6D-CA4E20ED82C7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127DF1E-5309-4FAD-9F20-812F55D2CF6D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5EDC332-226B-4126-B078-0E9EE091E45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EBCF2BE-E850-49F9-A144-0B1AED026873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A33250A-E558-49E9-BC7B-877CE153B8EB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ED24503-C8CC-4E62-83F9-1308CA4C022E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A31D01B-2D77-49D0-8C12-5C737548C75C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9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1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F2909A8-99C9-4F81-AD0A-7A43E95F002B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BDB8F34-BE05-4193-867C-37D7B541D938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F63565D-6DF1-47F4-AD12-4157F251F4D6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CBE13DF-354D-45DB-80F8-3632F4702284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0FE22BC-9A02-44EC-AD4A-C823E1A2D791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243C18E-7FFE-4D82-AEBD-83CF3042D4B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79BB8F4-BB6F-4392-935A-3C36A927B405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408EC80-A626-4E01-AB94-D74576BF5812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3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E29FECB-85E3-4620-82AF-D7E351615ACC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FA7055C-456B-454C-B3F2-96C06302B666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22DF579-DF48-4EAE-9210-1555AB47CE7D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09B4E8E-DE1D-4E2D-8A54-FAB17385E1F8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0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1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D2D6562-5BF0-46B0-819D-62C5B1467FAE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9B7505-031A-4EDD-AFF7-066F73861ECA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76E364-1D4C-4C20-86FF-3333DFA010E3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254379-1E10-4929-9959-26B631643DA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C105B6-F397-4383-99E1-71EF26B57BC9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E695A0-AC5F-44D4-92B4-8660403C04C5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37B54A-0E71-4F80-9639-2FAF5E11DBC1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7357AA-8718-4B56-A114-973CD760BFD7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4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8DCEF7-0E7A-4119-B973-A25C40798E85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750133-231A-469C-9F6C-2CC2BAA836CB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1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815E16-3B08-4D7D-BD81-56A419AEDEDE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6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184168-DC91-41A8-8CBC-BA7C01EFE9AA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1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2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3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E2FB96-6E20-4D28-A1C3-AF3120F1314F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4FC3590-5AEE-4996-A0DE-19C1334610B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C21E38C-4E32-44D3-B672-6A514F378357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E98B9FF-32BF-4196-A118-6A2A3CA44D32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B7E9220-5743-4868-9F08-2A533B05E650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81EA55C-9A86-4BB3-92BA-19E7CCE8D577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5485907-B45C-4842-9FB4-8C3CA3A26AC0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122A16C-980D-4016-8595-E8CF9AEC66D8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5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64E7C83-DCD2-499E-BBF0-E6D36DD35C58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7FF3A73-9D12-498D-969C-417A0E550AFB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2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306F549-CD1B-4DD7-ACAE-A5C83D0370C1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7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08B7463-B1CE-48C6-945C-BC3251DC236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2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3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4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8F84248-35F4-4944-9F54-000E631D8F6E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93C2225-3DB4-4BB6-8761-C80A79FB3D57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3FBBF3B-65B0-4FD9-B424-B663173EC5BE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00FC01D-404F-4B65-A948-46440395C2D1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27F67B7-5B05-43CC-9138-3EC35AF44475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380BD46-C29C-46FE-8DFC-B429F8DDCCB9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7813D2F-BCE3-400A-BD85-2DE47B6AA9CE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B07B3B8-BCD9-47BE-A84D-58CDDC2710D2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6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2C272D5-D913-4E7C-B81B-8781281EDCA6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CCAF720-A956-4E59-8643-AF88B0CA3C4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3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2212625-A79D-414D-85A1-EDD5581EF557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8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A2B1CC1-F464-423D-9D73-B0B0B5346F44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3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4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5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E4B98F4-1547-4679-86FC-3542CF63D7DB}" type="slidenum">
              <a:t>&lt;#&gt;</a:t>
            </a:fld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122514-5961-4282-99F7-9C726F990C85}" type="slidenum">
              <a:t>&lt;#&gt;</a:t>
            </a:fld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E3A2C9-BEA9-4EBE-B667-874308A6E205}" type="slidenum">
              <a:t>&lt;#&gt;</a:t>
            </a:fld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972182-52F0-48A2-9769-B388814451E7}" type="slidenum">
              <a:t>&lt;#&gt;</a:t>
            </a:fld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3CE35E-8548-4A2C-BFA8-6E8FBC7B1544}" type="slidenum">
              <a:t>&lt;#&gt;</a:t>
            </a:fld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2AC522-D599-45E4-8F55-8566DD0FFD8C}" type="slidenum">
              <a:t>&lt;#&gt;</a:t>
            </a:fld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7CDA1E-2D21-4DCF-833D-776834C45A7A}" type="slidenum">
              <a:t>&lt;#&gt;</a:t>
            </a:fld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A4516F-0CF6-4744-9CA3-9B86B3C74B2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7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2667EC-72DB-4570-83CD-84BBD15EC4B1}" type="slidenum">
              <a:t>&lt;#&gt;</a:t>
            </a:fld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AF70AD-3EE1-4FB2-993E-A7B3F9D02D9B}" type="slidenum">
              <a:t>&lt;#&gt;</a:t>
            </a:fld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4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70D05C-55A4-4618-B13C-9C48C161ADEC}" type="slidenum">
              <a:t>&lt;#&gt;</a:t>
            </a:fld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9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108D62-C7D6-46B1-8760-FD15BE31A90F}" type="slidenum">
              <a:t>&lt;#&gt;</a:t>
            </a:fld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4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5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6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CC29A2-5923-449F-9D91-FC4C86CAF1C3}" type="slidenum">
              <a:t>&lt;#&gt;</a:t>
            </a:fld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7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4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9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4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5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6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0D0B94-4586-43F5-BC8F-6A3C63F0DE86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88CA42-B3B4-4E41-BC3A-79275AE1B987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A71BE2-A102-4047-9864-6AD9256E95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0D7957-458E-4CA6-85AD-73961BAFECC8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611D61-4823-4D83-9463-A9E1F7D58FE6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E433A2-71D0-452A-A771-AD37E903830A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DFB119-458F-48CE-8DCB-090626DEC37D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CFC9FE-E103-4466-AB82-43C49B18A7A2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9ACCEA-E56C-4153-84F9-4B55EEAD33FE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E08695-8D1A-4418-B20D-00D7F343B02F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3D6E79-D94C-48CB-A7CC-1ABA3A387E6A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E199CA-0C00-4C94-81DF-950B3ECBFCF1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934F2-FCFA-4A99-BAB0-E9CEB3A89EC7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BD4B8-60FC-4B8D-9DC9-C3064CCDAB96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34AF9-C29E-426A-890D-CEFD6BE68987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E0A7B-A299-4F5B-A86D-FE03A01EB262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86C08-5C33-440B-B70E-4CAAAAAF8FD3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F446D-DD67-4263-9986-42C124F208EE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E40B0-A9D0-447E-B0EA-568BC876C853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1E49F-152A-4C59-A096-F0C862A5009E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4B143-0CDE-4804-A82D-06F348FBCB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AFACC-BA99-4BE9-B2E7-0926DE41DE1C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2BE20-5EA4-4C7F-BE9F-9B8430A12EC5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2A5AE-61FB-488D-888D-B571CF2F5F83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E8651B-D5E5-424B-9B2F-59D9F4F4242D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D7C2B2-2017-41FA-BF27-F66F2188F0AD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A9CEAA-0EBC-4FC3-BBF2-D631CB64D9CD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084FF3-958C-4F36-8A56-0236747BD6BC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085345-7A02-477B-B56D-163D97468FAB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83F716-F276-4DB5-8974-A34E61A336DF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36BE5A-117F-4433-9338-8A0DAC2A48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B03CA6-8494-467D-ADD2-DE9FBFFDD924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953363-F77F-4135-87C9-C417EBC5ED01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590E22-39F4-47BA-989F-D3D40E3FD494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1B01FD-C6F8-41DA-BFF0-7EF0257626E4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9DA3CD-470C-4040-B4F8-2204A5A75E7C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A741EC-03E1-4CF7-96E5-342C952F1A37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36A4A4-6D04-4362-9084-B953AC6C80B4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81120A-8D7C-4502-885D-2624BD509F26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3D2C66-6B32-4472-855A-4060C4846476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5C816F-5235-48E4-8801-216C75615D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D8472E-5A45-4AFC-A911-812ADDCD5B5D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6BA603-396B-47D4-8EAE-86506C603595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8C3A42-0925-483B-9AD3-B10F94CCE350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20D224-9DEA-4FE1-B3EB-1E5C736EF29E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548F75-DF10-4733-8CC1-27DA0DF273DA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729A27-EF19-4102-9F6E-1A531A096E79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C1AF18-FEA9-4619-837A-551224298B3E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3FA27-97AE-4117-B7B6-06FBA93786C7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3AC95-DEEF-4626-9894-BC15CAE143A8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FF275-250C-4ED1-BDE5-792BD495FA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https://twitter.com/dane_colombia" TargetMode="External"/><Relationship Id="rId3" Type="http://schemas.openxmlformats.org/officeDocument/2006/relationships/image" Target="../media/image1.png"/><Relationship Id="rId4" Type="http://schemas.openxmlformats.org/officeDocument/2006/relationships/hyperlink" Target="https://www.facebook.com/DANEColombia" TargetMode="External"/><Relationship Id="rId5" Type="http://schemas.openxmlformats.org/officeDocument/2006/relationships/image" Target="../media/image2.png"/><Relationship Id="rId6" Type="http://schemas.openxmlformats.org/officeDocument/2006/relationships/hyperlink" Target="http://www.youtube.com/user/danecolombia" TargetMode="External"/><Relationship Id="rId7" Type="http://schemas.openxmlformats.org/officeDocument/2006/relationships/image" Target="../media/image3.png"/><Relationship Id="rId8" Type="http://schemas.openxmlformats.org/officeDocument/2006/relationships/hyperlink" Target="http://www.dane.gov.co/" TargetMode="External"/><Relationship Id="rId9" Type="http://schemas.openxmlformats.org/officeDocument/2006/relationships/image" Target="../media/image4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slideLayout" Target="../slideLayouts/slideLayout1.xml"/><Relationship Id="rId13" Type="http://schemas.openxmlformats.org/officeDocument/2006/relationships/slideLayout" Target="../slideLayouts/slideLayout2.xml"/><Relationship Id="rId14" Type="http://schemas.openxmlformats.org/officeDocument/2006/relationships/slideLayout" Target="../slideLayouts/slideLayout3.xml"/><Relationship Id="rId15" Type="http://schemas.openxmlformats.org/officeDocument/2006/relationships/slideLayout" Target="../slideLayouts/slideLayout4.xml"/><Relationship Id="rId16" Type="http://schemas.openxmlformats.org/officeDocument/2006/relationships/slideLayout" Target="../slideLayouts/slideLayout5.xml"/><Relationship Id="rId17" Type="http://schemas.openxmlformats.org/officeDocument/2006/relationships/slideLayout" Target="../slideLayouts/slideLayout6.xml"/><Relationship Id="rId18" Type="http://schemas.openxmlformats.org/officeDocument/2006/relationships/slideLayout" Target="../slideLayouts/slideLayout7.xml"/><Relationship Id="rId19" Type="http://schemas.openxmlformats.org/officeDocument/2006/relationships/slideLayout" Target="../slideLayouts/slideLayout8.xml"/><Relationship Id="rId20" Type="http://schemas.openxmlformats.org/officeDocument/2006/relationships/slideLayout" Target="../slideLayouts/slideLayout9.xml"/><Relationship Id="rId21" Type="http://schemas.openxmlformats.org/officeDocument/2006/relationships/slideLayout" Target="../slideLayouts/slideLayout10.xml"/><Relationship Id="rId22" Type="http://schemas.openxmlformats.org/officeDocument/2006/relationships/slideLayout" Target="../slideLayouts/slideLayout11.xml"/><Relationship Id="rId2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09.xml"/><Relationship Id="rId8" Type="http://schemas.openxmlformats.org/officeDocument/2006/relationships/slideLayout" Target="../slideLayouts/slideLayout110.xml"/><Relationship Id="rId9" Type="http://schemas.openxmlformats.org/officeDocument/2006/relationships/slideLayout" Target="../slideLayouts/slideLayout111.xml"/><Relationship Id="rId10" Type="http://schemas.openxmlformats.org/officeDocument/2006/relationships/slideLayout" Target="../slideLayouts/slideLayout112.xml"/><Relationship Id="rId11" Type="http://schemas.openxmlformats.org/officeDocument/2006/relationships/slideLayout" Target="../slideLayouts/slideLayout113.xml"/><Relationship Id="rId12" Type="http://schemas.openxmlformats.org/officeDocument/2006/relationships/slideLayout" Target="../slideLayouts/slideLayout114.xml"/><Relationship Id="rId13" Type="http://schemas.openxmlformats.org/officeDocument/2006/relationships/slideLayout" Target="../slideLayouts/slideLayout115.xml"/><Relationship Id="rId14" Type="http://schemas.openxmlformats.org/officeDocument/2006/relationships/slideLayout" Target="../slideLayouts/slideLayout116.xml"/><Relationship Id="rId15" Type="http://schemas.openxmlformats.org/officeDocument/2006/relationships/slideLayout" Target="../slideLayouts/slideLayout117.xml"/><Relationship Id="rId16" Type="http://schemas.openxmlformats.org/officeDocument/2006/relationships/slideLayout" Target="../slideLayouts/slideLayout118.xml"/><Relationship Id="rId17" Type="http://schemas.openxmlformats.org/officeDocument/2006/relationships/slideLayout" Target="../slideLayouts/slideLayout119.xml"/><Relationship Id="rId18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33.xml"/><Relationship Id="rId8" Type="http://schemas.openxmlformats.org/officeDocument/2006/relationships/slideLayout" Target="../slideLayouts/slideLayout134.xml"/><Relationship Id="rId9" Type="http://schemas.openxmlformats.org/officeDocument/2006/relationships/slideLayout" Target="../slideLayouts/slideLayout135.xml"/><Relationship Id="rId10" Type="http://schemas.openxmlformats.org/officeDocument/2006/relationships/slideLayout" Target="../slideLayouts/slideLayout136.xml"/><Relationship Id="rId11" Type="http://schemas.openxmlformats.org/officeDocument/2006/relationships/slideLayout" Target="../slideLayouts/slideLayout137.xml"/><Relationship Id="rId12" Type="http://schemas.openxmlformats.org/officeDocument/2006/relationships/slideLayout" Target="../slideLayouts/slideLayout138.xml"/><Relationship Id="rId13" Type="http://schemas.openxmlformats.org/officeDocument/2006/relationships/slideLayout" Target="../slideLayouts/slideLayout139.xml"/><Relationship Id="rId14" Type="http://schemas.openxmlformats.org/officeDocument/2006/relationships/slideLayout" Target="../slideLayouts/slideLayout140.xml"/><Relationship Id="rId15" Type="http://schemas.openxmlformats.org/officeDocument/2006/relationships/slideLayout" Target="../slideLayouts/slideLayout141.xml"/><Relationship Id="rId16" Type="http://schemas.openxmlformats.org/officeDocument/2006/relationships/slideLayout" Target="../slideLayouts/slideLayout142.xml"/><Relationship Id="rId17" Type="http://schemas.openxmlformats.org/officeDocument/2006/relationships/slideLayout" Target="../slideLayouts/slideLayout143.xml"/><Relationship Id="rId18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45.xml"/><Relationship Id="rId8" Type="http://schemas.openxmlformats.org/officeDocument/2006/relationships/slideLayout" Target="../slideLayouts/slideLayout146.xml"/><Relationship Id="rId9" Type="http://schemas.openxmlformats.org/officeDocument/2006/relationships/slideLayout" Target="../slideLayouts/slideLayout147.xml"/><Relationship Id="rId10" Type="http://schemas.openxmlformats.org/officeDocument/2006/relationships/slideLayout" Target="../slideLayouts/slideLayout148.xml"/><Relationship Id="rId11" Type="http://schemas.openxmlformats.org/officeDocument/2006/relationships/slideLayout" Target="../slideLayouts/slideLayout149.xml"/><Relationship Id="rId12" Type="http://schemas.openxmlformats.org/officeDocument/2006/relationships/slideLayout" Target="../slideLayouts/slideLayout150.xml"/><Relationship Id="rId13" Type="http://schemas.openxmlformats.org/officeDocument/2006/relationships/slideLayout" Target="../slideLayouts/slideLayout151.xml"/><Relationship Id="rId14" Type="http://schemas.openxmlformats.org/officeDocument/2006/relationships/slideLayout" Target="../slideLayouts/slideLayout152.xml"/><Relationship Id="rId15" Type="http://schemas.openxmlformats.org/officeDocument/2006/relationships/slideLayout" Target="../slideLayouts/slideLayout153.xml"/><Relationship Id="rId16" Type="http://schemas.openxmlformats.org/officeDocument/2006/relationships/slideLayout" Target="../slideLayouts/slideLayout154.xml"/><Relationship Id="rId17" Type="http://schemas.openxmlformats.org/officeDocument/2006/relationships/slideLayout" Target="../slideLayouts/slideLayout155.xml"/><Relationship Id="rId18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57.xml"/><Relationship Id="rId8" Type="http://schemas.openxmlformats.org/officeDocument/2006/relationships/slideLayout" Target="../slideLayouts/slideLayout158.xml"/><Relationship Id="rId9" Type="http://schemas.openxmlformats.org/officeDocument/2006/relationships/slideLayout" Target="../slideLayouts/slideLayout159.xml"/><Relationship Id="rId10" Type="http://schemas.openxmlformats.org/officeDocument/2006/relationships/slideLayout" Target="../slideLayouts/slideLayout160.xml"/><Relationship Id="rId11" Type="http://schemas.openxmlformats.org/officeDocument/2006/relationships/slideLayout" Target="../slideLayouts/slideLayout161.xml"/><Relationship Id="rId12" Type="http://schemas.openxmlformats.org/officeDocument/2006/relationships/slideLayout" Target="../slideLayouts/slideLayout162.xml"/><Relationship Id="rId13" Type="http://schemas.openxmlformats.org/officeDocument/2006/relationships/slideLayout" Target="../slideLayouts/slideLayout163.xml"/><Relationship Id="rId14" Type="http://schemas.openxmlformats.org/officeDocument/2006/relationships/slideLayout" Target="../slideLayouts/slideLayout164.xml"/><Relationship Id="rId15" Type="http://schemas.openxmlformats.org/officeDocument/2006/relationships/slideLayout" Target="../slideLayouts/slideLayout165.xml"/><Relationship Id="rId16" Type="http://schemas.openxmlformats.org/officeDocument/2006/relationships/slideLayout" Target="../slideLayouts/slideLayout166.xml"/><Relationship Id="rId17" Type="http://schemas.openxmlformats.org/officeDocument/2006/relationships/slideLayout" Target="../slideLayouts/slideLayout167.xml"/><Relationship Id="rId18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69.xml"/><Relationship Id="rId8" Type="http://schemas.openxmlformats.org/officeDocument/2006/relationships/slideLayout" Target="../slideLayouts/slideLayout170.xml"/><Relationship Id="rId9" Type="http://schemas.openxmlformats.org/officeDocument/2006/relationships/slideLayout" Target="../slideLayouts/slideLayout171.xml"/><Relationship Id="rId10" Type="http://schemas.openxmlformats.org/officeDocument/2006/relationships/slideLayout" Target="../slideLayouts/slideLayout172.xml"/><Relationship Id="rId11" Type="http://schemas.openxmlformats.org/officeDocument/2006/relationships/slideLayout" Target="../slideLayouts/slideLayout173.xml"/><Relationship Id="rId12" Type="http://schemas.openxmlformats.org/officeDocument/2006/relationships/slideLayout" Target="../slideLayouts/slideLayout174.xml"/><Relationship Id="rId13" Type="http://schemas.openxmlformats.org/officeDocument/2006/relationships/slideLayout" Target="../slideLayouts/slideLayout175.xml"/><Relationship Id="rId14" Type="http://schemas.openxmlformats.org/officeDocument/2006/relationships/slideLayout" Target="../slideLayouts/slideLayout176.xml"/><Relationship Id="rId15" Type="http://schemas.openxmlformats.org/officeDocument/2006/relationships/slideLayout" Target="../slideLayouts/slideLayout177.xml"/><Relationship Id="rId16" Type="http://schemas.openxmlformats.org/officeDocument/2006/relationships/slideLayout" Target="../slideLayouts/slideLayout178.xml"/><Relationship Id="rId17" Type="http://schemas.openxmlformats.org/officeDocument/2006/relationships/slideLayout" Target="../slideLayouts/slideLayout179.xml"/><Relationship Id="rId18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81.xml"/><Relationship Id="rId8" Type="http://schemas.openxmlformats.org/officeDocument/2006/relationships/slideLayout" Target="../slideLayouts/slideLayout182.xml"/><Relationship Id="rId9" Type="http://schemas.openxmlformats.org/officeDocument/2006/relationships/slideLayout" Target="../slideLayouts/slideLayout183.xml"/><Relationship Id="rId10" Type="http://schemas.openxmlformats.org/officeDocument/2006/relationships/slideLayout" Target="../slideLayouts/slideLayout184.xml"/><Relationship Id="rId11" Type="http://schemas.openxmlformats.org/officeDocument/2006/relationships/slideLayout" Target="../slideLayouts/slideLayout185.xml"/><Relationship Id="rId12" Type="http://schemas.openxmlformats.org/officeDocument/2006/relationships/slideLayout" Target="../slideLayouts/slideLayout186.xml"/><Relationship Id="rId13" Type="http://schemas.openxmlformats.org/officeDocument/2006/relationships/slideLayout" Target="../slideLayouts/slideLayout187.xml"/><Relationship Id="rId14" Type="http://schemas.openxmlformats.org/officeDocument/2006/relationships/slideLayout" Target="../slideLayouts/slideLayout188.xml"/><Relationship Id="rId15" Type="http://schemas.openxmlformats.org/officeDocument/2006/relationships/slideLayout" Target="../slideLayouts/slideLayout189.xml"/><Relationship Id="rId16" Type="http://schemas.openxmlformats.org/officeDocument/2006/relationships/slideLayout" Target="../slideLayouts/slideLayout190.xml"/><Relationship Id="rId17" Type="http://schemas.openxmlformats.org/officeDocument/2006/relationships/slideLayout" Target="../slideLayouts/slideLayout191.xml"/><Relationship Id="rId18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77.xml"/><Relationship Id="rId5" Type="http://schemas.openxmlformats.org/officeDocument/2006/relationships/slideLayout" Target="../slideLayouts/slideLayout278.xml"/><Relationship Id="rId6" Type="http://schemas.openxmlformats.org/officeDocument/2006/relationships/slideLayout" Target="../slideLayouts/slideLayout279.xml"/><Relationship Id="rId7" Type="http://schemas.openxmlformats.org/officeDocument/2006/relationships/slideLayout" Target="../slideLayouts/slideLayout280.xml"/><Relationship Id="rId8" Type="http://schemas.openxmlformats.org/officeDocument/2006/relationships/slideLayout" Target="../slideLayouts/slideLayout281.xml"/><Relationship Id="rId9" Type="http://schemas.openxmlformats.org/officeDocument/2006/relationships/slideLayout" Target="../slideLayouts/slideLayout282.xml"/><Relationship Id="rId10" Type="http://schemas.openxmlformats.org/officeDocument/2006/relationships/slideLayout" Target="../slideLayouts/slideLayout283.xml"/><Relationship Id="rId11" Type="http://schemas.openxmlformats.org/officeDocument/2006/relationships/slideLayout" Target="../slideLayouts/slideLayout284.xml"/><Relationship Id="rId12" Type="http://schemas.openxmlformats.org/officeDocument/2006/relationships/slideLayout" Target="../slideLayouts/slideLayout285.xml"/><Relationship Id="rId13" Type="http://schemas.openxmlformats.org/officeDocument/2006/relationships/slideLayout" Target="../slideLayouts/slideLayout286.xml"/><Relationship Id="rId14" Type="http://schemas.openxmlformats.org/officeDocument/2006/relationships/slideLayout" Target="../slideLayouts/slideLayout287.xml"/><Relationship Id="rId15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89.xml"/><Relationship Id="rId5" Type="http://schemas.openxmlformats.org/officeDocument/2006/relationships/slideLayout" Target="../slideLayouts/slideLayout290.xml"/><Relationship Id="rId6" Type="http://schemas.openxmlformats.org/officeDocument/2006/relationships/slideLayout" Target="../slideLayouts/slideLayout291.xml"/><Relationship Id="rId7" Type="http://schemas.openxmlformats.org/officeDocument/2006/relationships/slideLayout" Target="../slideLayouts/slideLayout292.xml"/><Relationship Id="rId8" Type="http://schemas.openxmlformats.org/officeDocument/2006/relationships/slideLayout" Target="../slideLayouts/slideLayout293.xml"/><Relationship Id="rId9" Type="http://schemas.openxmlformats.org/officeDocument/2006/relationships/slideLayout" Target="../slideLayouts/slideLayout294.xml"/><Relationship Id="rId10" Type="http://schemas.openxmlformats.org/officeDocument/2006/relationships/slideLayout" Target="../slideLayouts/slideLayout295.xml"/><Relationship Id="rId11" Type="http://schemas.openxmlformats.org/officeDocument/2006/relationships/slideLayout" Target="../slideLayouts/slideLayout296.xml"/><Relationship Id="rId12" Type="http://schemas.openxmlformats.org/officeDocument/2006/relationships/slideLayout" Target="../slideLayouts/slideLayout297.xml"/><Relationship Id="rId13" Type="http://schemas.openxmlformats.org/officeDocument/2006/relationships/slideLayout" Target="../slideLayouts/slideLayout298.xml"/><Relationship Id="rId14" Type="http://schemas.openxmlformats.org/officeDocument/2006/relationships/slideLayout" Target="../slideLayouts/slideLayout299.xml"/><Relationship Id="rId15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01.xml"/><Relationship Id="rId5" Type="http://schemas.openxmlformats.org/officeDocument/2006/relationships/slideLayout" Target="../slideLayouts/slideLayout302.xml"/><Relationship Id="rId6" Type="http://schemas.openxmlformats.org/officeDocument/2006/relationships/slideLayout" Target="../slideLayouts/slideLayout303.xml"/><Relationship Id="rId7" Type="http://schemas.openxmlformats.org/officeDocument/2006/relationships/slideLayout" Target="../slideLayouts/slideLayout304.xml"/><Relationship Id="rId8" Type="http://schemas.openxmlformats.org/officeDocument/2006/relationships/slideLayout" Target="../slideLayouts/slideLayout305.xml"/><Relationship Id="rId9" Type="http://schemas.openxmlformats.org/officeDocument/2006/relationships/slideLayout" Target="../slideLayouts/slideLayout306.xml"/><Relationship Id="rId10" Type="http://schemas.openxmlformats.org/officeDocument/2006/relationships/slideLayout" Target="../slideLayouts/slideLayout307.xml"/><Relationship Id="rId11" Type="http://schemas.openxmlformats.org/officeDocument/2006/relationships/slideLayout" Target="../slideLayouts/slideLayout308.xml"/><Relationship Id="rId12" Type="http://schemas.openxmlformats.org/officeDocument/2006/relationships/slideLayout" Target="../slideLayouts/slideLayout309.xml"/><Relationship Id="rId13" Type="http://schemas.openxmlformats.org/officeDocument/2006/relationships/slideLayout" Target="../slideLayouts/slideLayout310.xml"/><Relationship Id="rId14" Type="http://schemas.openxmlformats.org/officeDocument/2006/relationships/slideLayout" Target="../slideLayouts/slideLayout311.xml"/><Relationship Id="rId15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13.xml"/><Relationship Id="rId5" Type="http://schemas.openxmlformats.org/officeDocument/2006/relationships/slideLayout" Target="../slideLayouts/slideLayout314.xml"/><Relationship Id="rId6" Type="http://schemas.openxmlformats.org/officeDocument/2006/relationships/slideLayout" Target="../slideLayouts/slideLayout315.xml"/><Relationship Id="rId7" Type="http://schemas.openxmlformats.org/officeDocument/2006/relationships/slideLayout" Target="../slideLayouts/slideLayout316.xml"/><Relationship Id="rId8" Type="http://schemas.openxmlformats.org/officeDocument/2006/relationships/slideLayout" Target="../slideLayouts/slideLayout317.xml"/><Relationship Id="rId9" Type="http://schemas.openxmlformats.org/officeDocument/2006/relationships/slideLayout" Target="../slideLayouts/slideLayout318.xml"/><Relationship Id="rId10" Type="http://schemas.openxmlformats.org/officeDocument/2006/relationships/slideLayout" Target="../slideLayouts/slideLayout319.xml"/><Relationship Id="rId11" Type="http://schemas.openxmlformats.org/officeDocument/2006/relationships/slideLayout" Target="../slideLayouts/slideLayout320.xml"/><Relationship Id="rId12" Type="http://schemas.openxmlformats.org/officeDocument/2006/relationships/slideLayout" Target="../slideLayouts/slideLayout321.xml"/><Relationship Id="rId13" Type="http://schemas.openxmlformats.org/officeDocument/2006/relationships/slideLayout" Target="../slideLayouts/slideLayout322.xml"/><Relationship Id="rId14" Type="http://schemas.openxmlformats.org/officeDocument/2006/relationships/slideLayout" Target="../slideLayouts/slideLayout323.xml"/><Relationship Id="rId15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25.xml"/><Relationship Id="rId5" Type="http://schemas.openxmlformats.org/officeDocument/2006/relationships/slideLayout" Target="../slideLayouts/slideLayout326.xml"/><Relationship Id="rId6" Type="http://schemas.openxmlformats.org/officeDocument/2006/relationships/slideLayout" Target="../slideLayouts/slideLayout327.xml"/><Relationship Id="rId7" Type="http://schemas.openxmlformats.org/officeDocument/2006/relationships/slideLayout" Target="../slideLayouts/slideLayout328.xml"/><Relationship Id="rId8" Type="http://schemas.openxmlformats.org/officeDocument/2006/relationships/slideLayout" Target="../slideLayouts/slideLayout329.xml"/><Relationship Id="rId9" Type="http://schemas.openxmlformats.org/officeDocument/2006/relationships/slideLayout" Target="../slideLayouts/slideLayout330.xml"/><Relationship Id="rId10" Type="http://schemas.openxmlformats.org/officeDocument/2006/relationships/slideLayout" Target="../slideLayouts/slideLayout331.xml"/><Relationship Id="rId11" Type="http://schemas.openxmlformats.org/officeDocument/2006/relationships/slideLayout" Target="../slideLayouts/slideLayout332.xml"/><Relationship Id="rId12" Type="http://schemas.openxmlformats.org/officeDocument/2006/relationships/slideLayout" Target="../slideLayouts/slideLayout333.xml"/><Relationship Id="rId13" Type="http://schemas.openxmlformats.org/officeDocument/2006/relationships/slideLayout" Target="../slideLayouts/slideLayout334.xml"/><Relationship Id="rId14" Type="http://schemas.openxmlformats.org/officeDocument/2006/relationships/slideLayout" Target="../slideLayouts/slideLayout335.xml"/><Relationship Id="rId15" Type="http://schemas.openxmlformats.org/officeDocument/2006/relationships/slideLayout" Target="../slideLayouts/slideLayout33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1.png"/><Relationship Id="rId3" Type="http://schemas.openxmlformats.org/officeDocument/2006/relationships/image" Target="../media/image9.jpe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3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73.xml"/><Relationship Id="rId8" Type="http://schemas.openxmlformats.org/officeDocument/2006/relationships/slideLayout" Target="../slideLayouts/slideLayout74.xml"/><Relationship Id="rId9" Type="http://schemas.openxmlformats.org/officeDocument/2006/relationships/slideLayout" Target="../slideLayouts/slideLayout75.xml"/><Relationship Id="rId10" Type="http://schemas.openxmlformats.org/officeDocument/2006/relationships/slideLayout" Target="../slideLayouts/slideLayout76.xml"/><Relationship Id="rId11" Type="http://schemas.openxmlformats.org/officeDocument/2006/relationships/slideLayout" Target="../slideLayouts/slideLayout77.xml"/><Relationship Id="rId12" Type="http://schemas.openxmlformats.org/officeDocument/2006/relationships/slideLayout" Target="../slideLayouts/slideLayout78.xml"/><Relationship Id="rId13" Type="http://schemas.openxmlformats.org/officeDocument/2006/relationships/slideLayout" Target="../slideLayouts/slideLayout79.xml"/><Relationship Id="rId14" Type="http://schemas.openxmlformats.org/officeDocument/2006/relationships/slideLayout" Target="../slideLayouts/slideLayout80.xml"/><Relationship Id="rId15" Type="http://schemas.openxmlformats.org/officeDocument/2006/relationships/slideLayout" Target="../slideLayouts/slideLayout81.xml"/><Relationship Id="rId16" Type="http://schemas.openxmlformats.org/officeDocument/2006/relationships/slideLayout" Target="../slideLayouts/slideLayout82.xml"/><Relationship Id="rId17" Type="http://schemas.openxmlformats.org/officeDocument/2006/relationships/slideLayout" Target="../slideLayouts/slideLayout83.xml"/><Relationship Id="rId18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85.xml"/><Relationship Id="rId8" Type="http://schemas.openxmlformats.org/officeDocument/2006/relationships/slideLayout" Target="../slideLayouts/slideLayout86.xml"/><Relationship Id="rId9" Type="http://schemas.openxmlformats.org/officeDocument/2006/relationships/slideLayout" Target="../slideLayouts/slideLayout87.xml"/><Relationship Id="rId10" Type="http://schemas.openxmlformats.org/officeDocument/2006/relationships/slideLayout" Target="../slideLayouts/slideLayout88.xml"/><Relationship Id="rId11" Type="http://schemas.openxmlformats.org/officeDocument/2006/relationships/slideLayout" Target="../slideLayouts/slideLayout89.xml"/><Relationship Id="rId12" Type="http://schemas.openxmlformats.org/officeDocument/2006/relationships/slideLayout" Target="../slideLayouts/slideLayout90.xml"/><Relationship Id="rId13" Type="http://schemas.openxmlformats.org/officeDocument/2006/relationships/slideLayout" Target="../slideLayouts/slideLayout91.xml"/><Relationship Id="rId14" Type="http://schemas.openxmlformats.org/officeDocument/2006/relationships/slideLayout" Target="../slideLayouts/slideLayout92.xml"/><Relationship Id="rId15" Type="http://schemas.openxmlformats.org/officeDocument/2006/relationships/slideLayout" Target="../slideLayouts/slideLayout93.xml"/><Relationship Id="rId16" Type="http://schemas.openxmlformats.org/officeDocument/2006/relationships/slideLayout" Target="../slideLayouts/slideLayout94.xml"/><Relationship Id="rId17" Type="http://schemas.openxmlformats.org/officeDocument/2006/relationships/slideLayout" Target="../slideLayouts/slideLayout95.xml"/><Relationship Id="rId18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9 Rectángulo"/>
          <p:cNvSpPr/>
          <p:nvPr/>
        </p:nvSpPr>
        <p:spPr>
          <a:xfrm>
            <a:off x="0" y="6289560"/>
            <a:ext cx="9144000" cy="5684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932360" y="336600"/>
            <a:ext cx="345600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91640" y="1125360"/>
            <a:ext cx="7596360" cy="491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" name="10 Imagen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284720" y="6454800"/>
            <a:ext cx="1041480" cy="237960"/>
          </a:xfrm>
          <a:prstGeom prst="rect">
            <a:avLst/>
          </a:prstGeom>
          <a:ln w="0">
            <a:noFill/>
          </a:ln>
        </p:spPr>
      </p:pic>
      <p:pic>
        <p:nvPicPr>
          <p:cNvPr id="4" name="11 Imagen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940360" y="6450120"/>
            <a:ext cx="914400" cy="237960"/>
          </a:xfrm>
          <a:prstGeom prst="rect">
            <a:avLst/>
          </a:prstGeom>
          <a:ln w="0">
            <a:noFill/>
          </a:ln>
        </p:spPr>
      </p:pic>
      <p:pic>
        <p:nvPicPr>
          <p:cNvPr id="5" name="12 Imagen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7467480" y="6454800"/>
            <a:ext cx="927360" cy="237960"/>
          </a:xfrm>
          <a:prstGeom prst="rect">
            <a:avLst/>
          </a:prstGeom>
          <a:ln w="0">
            <a:noFill/>
          </a:ln>
        </p:spPr>
      </p:pic>
      <p:pic>
        <p:nvPicPr>
          <p:cNvPr id="6" name="15 Imagen" descr="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757080" y="6431040"/>
            <a:ext cx="1438560" cy="274680"/>
          </a:xfrm>
          <a:prstGeom prst="rect">
            <a:avLst/>
          </a:prstGeom>
          <a:ln w="0">
            <a:noFill/>
          </a:ln>
        </p:spPr>
      </p:pic>
      <p:pic>
        <p:nvPicPr>
          <p:cNvPr id="7" name="10 Imagen" descr=""/>
          <p:cNvPicPr/>
          <p:nvPr/>
        </p:nvPicPr>
        <p:blipFill>
          <a:blip r:embed="rId10"/>
          <a:srcRect l="0" t="0" r="920" b="17297"/>
          <a:stretch/>
        </p:blipFill>
        <p:spPr>
          <a:xfrm>
            <a:off x="-36360" y="6105600"/>
            <a:ext cx="9180360" cy="779400"/>
          </a:xfrm>
          <a:prstGeom prst="rect">
            <a:avLst/>
          </a:prstGeom>
          <a:ln w="0">
            <a:noFill/>
          </a:ln>
        </p:spPr>
      </p:pic>
      <p:sp>
        <p:nvSpPr>
          <p:cNvPr id="8" name="1 CuadroTexto"/>
          <p:cNvSpPr/>
          <p:nvPr/>
        </p:nvSpPr>
        <p:spPr>
          <a:xfrm>
            <a:off x="6868440" y="6453360"/>
            <a:ext cx="166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ffffff"/>
                </a:solidFill>
                <a:latin typeface="Calibri"/>
              </a:rPr>
              <a:t>www.dane.gov.c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" name="11 Imagen" descr=""/>
          <p:cNvPicPr/>
          <p:nvPr/>
        </p:nvPicPr>
        <p:blipFill>
          <a:blip r:embed="rId11"/>
          <a:srcRect l="0" t="84078" r="0" b="0"/>
          <a:stretch/>
        </p:blipFill>
        <p:spPr>
          <a:xfrm>
            <a:off x="-36360" y="-27000"/>
            <a:ext cx="9251640" cy="149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2"/>
    <p:sldLayoutId id="2147483650" r:id="rId13"/>
    <p:sldLayoutId id="2147483651" r:id="rId14"/>
    <p:sldLayoutId id="2147483652" r:id="rId15"/>
    <p:sldLayoutId id="2147483653" r:id="rId16"/>
    <p:sldLayoutId id="2147483654" r:id="rId17"/>
    <p:sldLayoutId id="2147483655" r:id="rId18"/>
    <p:sldLayoutId id="2147483656" r:id="rId19"/>
    <p:sldLayoutId id="2147483657" r:id="rId20"/>
    <p:sldLayoutId id="2147483658" r:id="rId21"/>
    <p:sldLayoutId id="2147483659" r:id="rId22"/>
    <p:sldLayoutId id="2147483660" r:id="rId2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1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424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7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 type="sldNum" idx="7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AD5BF-719A-4937-86EF-8C70903F867E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7"/>
    <p:sldLayoutId id="2147483767" r:id="rId8"/>
    <p:sldLayoutId id="2147483768" r:id="rId9"/>
    <p:sldLayoutId id="2147483769" r:id="rId10"/>
    <p:sldLayoutId id="2147483770" r:id="rId11"/>
    <p:sldLayoutId id="2147483771" r:id="rId12"/>
    <p:sldLayoutId id="2147483772" r:id="rId13"/>
    <p:sldLayoutId id="2147483773" r:id="rId14"/>
    <p:sldLayoutId id="2147483774" r:id="rId15"/>
    <p:sldLayoutId id="2147483775" r:id="rId16"/>
    <p:sldLayoutId id="2147483776" r:id="rId17"/>
    <p:sldLayoutId id="2147483777" r:id="rId18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9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470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472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5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476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 type="sldNum" idx="8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48A2C-9DA3-401D-AB48-30DC7B1E27DF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7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518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519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520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3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 type="sldNum" idx="9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0DD75-6F51-414B-AE2F-F231DBFD2A37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7"/>
    <p:sldLayoutId id="2147483793" r:id="rId8"/>
    <p:sldLayoutId id="2147483794" r:id="rId9"/>
    <p:sldLayoutId id="2147483795" r:id="rId10"/>
    <p:sldLayoutId id="2147483796" r:id="rId11"/>
    <p:sldLayoutId id="2147483797" r:id="rId12"/>
    <p:sldLayoutId id="2147483798" r:id="rId13"/>
    <p:sldLayoutId id="2147483799" r:id="rId14"/>
    <p:sldLayoutId id="2147483800" r:id="rId15"/>
    <p:sldLayoutId id="2147483801" r:id="rId16"/>
    <p:sldLayoutId id="2147483802" r:id="rId17"/>
    <p:sldLayoutId id="2147483803" r:id="rId18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5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566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567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568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1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572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 type="sldNum" idx="10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F4111-B00D-44FA-ABE3-AC8C90007EC5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7"/>
    <p:sldLayoutId id="2147483806" r:id="rId8"/>
    <p:sldLayoutId id="2147483807" r:id="rId9"/>
    <p:sldLayoutId id="2147483808" r:id="rId10"/>
    <p:sldLayoutId id="2147483809" r:id="rId11"/>
    <p:sldLayoutId id="2147483810" r:id="rId12"/>
    <p:sldLayoutId id="2147483811" r:id="rId13"/>
    <p:sldLayoutId id="2147483812" r:id="rId14"/>
    <p:sldLayoutId id="2147483813" r:id="rId15"/>
    <p:sldLayoutId id="2147483814" r:id="rId16"/>
    <p:sldLayoutId id="2147483815" r:id="rId17"/>
    <p:sldLayoutId id="2147483816" r:id="rId18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3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614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615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616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9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620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 type="sldNum" idx="11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6864F-A030-4F52-9302-369FBFAAEFDE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7"/>
    <p:sldLayoutId id="2147483819" r:id="rId8"/>
    <p:sldLayoutId id="2147483820" r:id="rId9"/>
    <p:sldLayoutId id="2147483821" r:id="rId10"/>
    <p:sldLayoutId id="2147483822" r:id="rId11"/>
    <p:sldLayoutId id="2147483823" r:id="rId12"/>
    <p:sldLayoutId id="2147483824" r:id="rId13"/>
    <p:sldLayoutId id="2147483825" r:id="rId14"/>
    <p:sldLayoutId id="2147483826" r:id="rId15"/>
    <p:sldLayoutId id="2147483827" r:id="rId16"/>
    <p:sldLayoutId id="2147483828" r:id="rId17"/>
    <p:sldLayoutId id="2147483829" r:id="rId18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1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662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663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664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7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668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 type="sldNum" idx="12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1E40E-F335-45B0-96B0-0E4F9DD519CD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7"/>
    <p:sldLayoutId id="2147483832" r:id="rId8"/>
    <p:sldLayoutId id="2147483833" r:id="rId9"/>
    <p:sldLayoutId id="2147483834" r:id="rId10"/>
    <p:sldLayoutId id="2147483835" r:id="rId11"/>
    <p:sldLayoutId id="2147483836" r:id="rId12"/>
    <p:sldLayoutId id="2147483837" r:id="rId13"/>
    <p:sldLayoutId id="2147483838" r:id="rId14"/>
    <p:sldLayoutId id="2147483839" r:id="rId15"/>
    <p:sldLayoutId id="2147483840" r:id="rId16"/>
    <p:sldLayoutId id="2147483841" r:id="rId17"/>
    <p:sldLayoutId id="2147483842" r:id="rId18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9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710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711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712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5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716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 type="sldNum" idx="13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BF5E3-204D-4C81-9FFC-AD9AABCF1994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7"/>
    <p:sldLayoutId id="2147483845" r:id="rId8"/>
    <p:sldLayoutId id="2147483846" r:id="rId9"/>
    <p:sldLayoutId id="2147483847" r:id="rId10"/>
    <p:sldLayoutId id="2147483848" r:id="rId11"/>
    <p:sldLayoutId id="2147483849" r:id="rId12"/>
    <p:sldLayoutId id="2147483850" r:id="rId13"/>
    <p:sldLayoutId id="2147483851" r:id="rId14"/>
    <p:sldLayoutId id="2147483852" r:id="rId15"/>
    <p:sldLayoutId id="2147483853" r:id="rId16"/>
    <p:sldLayoutId id="2147483854" r:id="rId17"/>
    <p:sldLayoutId id="2147483855" r:id="rId18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6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757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 type="sldNum" idx="14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72098-FA1F-4DC4-8485-6E609EFADCDE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7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798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 type="sldNum" idx="15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0BB90-C2D2-4AA6-AB48-ABDD4B52E9D2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8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839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 type="sldNum" idx="16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E8501-39F0-4A86-8113-5BB20AD4D8B7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sldNum" idx="1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0A104-33F8-41D7-8854-F0B311B6309C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9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880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 type="sldNum" idx="17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53B19-0460-428E-8330-B0CBC4B8196A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0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921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 type="sldNum" idx="18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1FBC4-4EBF-41D6-9FEF-ED6F39A06D78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1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962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 type="sldNum" idx="19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3CAB3-CFFC-456F-A246-BA67898E8611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2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003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PlaceHolder 3"/>
          <p:cNvSpPr>
            <a:spLocks noGrp="1"/>
          </p:cNvSpPr>
          <p:nvPr>
            <p:ph type="sldNum" idx="20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60C8B-A7F1-4EFE-8635-4B4988600E62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3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044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 type="sldNum" idx="21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D3C35-BE38-49EB-B57F-2B68C6DD6A93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4"/>
    <p:sldLayoutId id="2147483949" r:id="rId5"/>
    <p:sldLayoutId id="2147483950" r:id="rId6"/>
    <p:sldLayoutId id="2147483951" r:id="rId7"/>
    <p:sldLayoutId id="2147483952" r:id="rId8"/>
    <p:sldLayoutId id="2147483953" r:id="rId9"/>
    <p:sldLayoutId id="2147483954" r:id="rId10"/>
    <p:sldLayoutId id="2147483955" r:id="rId11"/>
    <p:sldLayoutId id="2147483956" r:id="rId12"/>
    <p:sldLayoutId id="2147483957" r:id="rId13"/>
    <p:sldLayoutId id="2147483958" r:id="rId14"/>
    <p:sldLayoutId id="2147483959" r:id="rId15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4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085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8" name="PlaceHolder 3"/>
          <p:cNvSpPr>
            <a:spLocks noGrp="1"/>
          </p:cNvSpPr>
          <p:nvPr>
            <p:ph type="sldNum" idx="22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AA230-D260-40CC-97B5-742648234A1C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4"/>
    <p:sldLayoutId id="2147483962" r:id="rId5"/>
    <p:sldLayoutId id="2147483963" r:id="rId6"/>
    <p:sldLayoutId id="2147483964" r:id="rId7"/>
    <p:sldLayoutId id="2147483965" r:id="rId8"/>
    <p:sldLayoutId id="2147483966" r:id="rId9"/>
    <p:sldLayoutId id="2147483967" r:id="rId10"/>
    <p:sldLayoutId id="2147483968" r:id="rId11"/>
    <p:sldLayoutId id="2147483969" r:id="rId12"/>
    <p:sldLayoutId id="2147483970" r:id="rId13"/>
    <p:sldLayoutId id="2147483971" r:id="rId14"/>
    <p:sldLayoutId id="2147483972" r:id="rId15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126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 type="sldNum" idx="23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6E4AC-BCC6-41F1-8526-DD2015ED2CA4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4"/>
    <p:sldLayoutId id="2147483975" r:id="rId5"/>
    <p:sldLayoutId id="2147483976" r:id="rId6"/>
    <p:sldLayoutId id="2147483977" r:id="rId7"/>
    <p:sldLayoutId id="2147483978" r:id="rId8"/>
    <p:sldLayoutId id="2147483979" r:id="rId9"/>
    <p:sldLayoutId id="2147483980" r:id="rId10"/>
    <p:sldLayoutId id="2147483981" r:id="rId11"/>
    <p:sldLayoutId id="2147483982" r:id="rId12"/>
    <p:sldLayoutId id="2147483983" r:id="rId13"/>
    <p:sldLayoutId id="2147483984" r:id="rId14"/>
    <p:sldLayoutId id="2147483985" r:id="rId15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6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167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 type="sldNum" idx="24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275C1-7288-4FD4-B1F4-8FC91E224DB0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4"/>
    <p:sldLayoutId id="2147483988" r:id="rId5"/>
    <p:sldLayoutId id="2147483989" r:id="rId6"/>
    <p:sldLayoutId id="2147483990" r:id="rId7"/>
    <p:sldLayoutId id="2147483991" r:id="rId8"/>
    <p:sldLayoutId id="2147483992" r:id="rId9"/>
    <p:sldLayoutId id="2147483993" r:id="rId10"/>
    <p:sldLayoutId id="2147483994" r:id="rId11"/>
    <p:sldLayoutId id="2147483995" r:id="rId12"/>
    <p:sldLayoutId id="2147483996" r:id="rId13"/>
    <p:sldLayoutId id="2147483997" r:id="rId14"/>
    <p:sldLayoutId id="2147483998" r:id="rId15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7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208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0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4"/>
    <p:sldLayoutId id="2147484001" r:id="rId5"/>
    <p:sldLayoutId id="2147484002" r:id="rId6"/>
    <p:sldLayoutId id="2147484003" r:id="rId7"/>
    <p:sldLayoutId id="2147484004" r:id="rId8"/>
    <p:sldLayoutId id="2147484005" r:id="rId9"/>
    <p:sldLayoutId id="2147484006" r:id="rId10"/>
    <p:sldLayoutId id="2147484007" r:id="rId11"/>
    <p:sldLayoutId id="2147484008" r:id="rId12"/>
    <p:sldLayoutId id="2147484009" r:id="rId13"/>
    <p:sldLayoutId id="2147484010" r:id="rId14"/>
    <p:sldLayoutId id="2147484011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1"/>
          <p:cNvSpPr/>
          <p:nvPr/>
        </p:nvSpPr>
        <p:spPr>
          <a:xfrm>
            <a:off x="4427640" y="2639880"/>
            <a:ext cx="4714920" cy="130968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2" descr="image6.png"/>
          <p:cNvPicPr/>
          <p:nvPr/>
        </p:nvPicPr>
        <p:blipFill>
          <a:blip r:embed="rId2"/>
          <a:stretch/>
        </p:blipFill>
        <p:spPr>
          <a:xfrm>
            <a:off x="4427640" y="3932280"/>
            <a:ext cx="4714920" cy="1094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3" descr="dane_logo_2015_lema.jpeg"/>
          <p:cNvPicPr/>
          <p:nvPr/>
        </p:nvPicPr>
        <p:blipFill>
          <a:blip r:embed="rId3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" descr="image1.png"/>
          <p:cNvPicPr/>
          <p:nvPr/>
        </p:nvPicPr>
        <p:blipFill>
          <a:blip r:embed="rId4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" descr="image2.png"/>
          <p:cNvPicPr/>
          <p:nvPr/>
        </p:nvPicPr>
        <p:blipFill>
          <a:blip r:embed="rId5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" descr="image3.png"/>
          <p:cNvPicPr/>
          <p:nvPr/>
        </p:nvPicPr>
        <p:blipFill>
          <a:blip r:embed="rId6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7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Rectangle 8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Rectangle 9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427640" y="2852640"/>
            <a:ext cx="4114800" cy="719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71560" indent="-414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409760" indent="-495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924200" indent="-5526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381400" indent="-5526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381400" indent="-552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381400" indent="-552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sldNum" idx="2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FDB31-35CA-4CA1-A3EE-4E30E133D89E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1" descr="dane_logo_2015_lema.jpeg"/>
          <p:cNvPicPr/>
          <p:nvPr/>
        </p:nvPicPr>
        <p:blipFill>
          <a:blip r:embed="rId2"/>
          <a:srcRect l="0" t="17330" r="0" b="17330"/>
          <a:stretch/>
        </p:blipFill>
        <p:spPr>
          <a:xfrm>
            <a:off x="0" y="2276640"/>
            <a:ext cx="9142560" cy="2145960"/>
          </a:xfrm>
          <a:prstGeom prst="rect">
            <a:avLst/>
          </a:prstGeom>
          <a:ln w="0">
            <a:noFill/>
          </a:ln>
        </p:spPr>
      </p:pic>
      <p:grpSp>
        <p:nvGrpSpPr>
          <p:cNvPr id="183" name="Group 2"/>
          <p:cNvGrpSpPr/>
          <p:nvPr/>
        </p:nvGrpSpPr>
        <p:grpSpPr>
          <a:xfrm>
            <a:off x="2279520" y="6019920"/>
            <a:ext cx="4581720" cy="287280"/>
            <a:chOff x="2279520" y="6019920"/>
            <a:chExt cx="4581720" cy="287280"/>
          </a:xfrm>
        </p:grpSpPr>
        <p:pic>
          <p:nvPicPr>
            <p:cNvPr id="184" name="Picture 3" descr="image1.png"/>
            <p:cNvPicPr/>
            <p:nvPr/>
          </p:nvPicPr>
          <p:blipFill>
            <a:blip r:embed="rId3"/>
            <a:stretch/>
          </p:blipFill>
          <p:spPr>
            <a:xfrm>
              <a:off x="2279520" y="6019920"/>
              <a:ext cx="287640" cy="28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4" descr="image2.png"/>
            <p:cNvPicPr/>
            <p:nvPr/>
          </p:nvPicPr>
          <p:blipFill>
            <a:blip r:embed="rId4"/>
            <a:stretch/>
          </p:blipFill>
          <p:spPr>
            <a:xfrm>
              <a:off x="5287320" y="6019920"/>
              <a:ext cx="287640" cy="28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5" descr="image3.png"/>
            <p:cNvPicPr/>
            <p:nvPr/>
          </p:nvPicPr>
          <p:blipFill>
            <a:blip r:embed="rId5"/>
            <a:stretch/>
          </p:blipFill>
          <p:spPr>
            <a:xfrm>
              <a:off x="3776040" y="6019920"/>
              <a:ext cx="287640" cy="28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Rectangle 6"/>
            <p:cNvSpPr/>
            <p:nvPr/>
          </p:nvSpPr>
          <p:spPr>
            <a:xfrm>
              <a:off x="2595240" y="6053040"/>
              <a:ext cx="1270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0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@DANE_Colombia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" name="Rectangle 7"/>
            <p:cNvSpPr/>
            <p:nvPr/>
          </p:nvSpPr>
          <p:spPr>
            <a:xfrm>
              <a:off x="4106880" y="6053040"/>
              <a:ext cx="1270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0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/DANEColombia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" name="Rectangle 8"/>
            <p:cNvSpPr/>
            <p:nvPr/>
          </p:nvSpPr>
          <p:spPr>
            <a:xfrm>
              <a:off x="5592960" y="6053040"/>
              <a:ext cx="1268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0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/DANEColombia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71560" indent="-414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409760" indent="-495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924200" indent="-5526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381400" indent="-5526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381400" indent="-552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381400" indent="-552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9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232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5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 type="sldNum" idx="3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CFD2A-67E6-47B8-9083-C47EB5537105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7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280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3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 type="sldNum" idx="4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1DB11-EC14-4A73-9803-71032682E5B3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7"/>
    <p:sldLayoutId id="2147483728" r:id="rId8"/>
    <p:sldLayoutId id="2147483729" r:id="rId9"/>
    <p:sldLayoutId id="2147483730" r:id="rId10"/>
    <p:sldLayoutId id="2147483731" r:id="rId11"/>
    <p:sldLayoutId id="2147483732" r:id="rId12"/>
    <p:sldLayoutId id="2147483733" r:id="rId13"/>
    <p:sldLayoutId id="2147483734" r:id="rId14"/>
    <p:sldLayoutId id="2147483735" r:id="rId15"/>
    <p:sldLayoutId id="2147483736" r:id="rId16"/>
    <p:sldLayoutId id="2147483737" r:id="rId17"/>
    <p:sldLayoutId id="2147483738" r:id="rId18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5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328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1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 type="sldNum" idx="5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64FAF-BA12-44A6-98F1-9E57D50204D5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7"/>
    <p:sldLayoutId id="2147483741" r:id="rId8"/>
    <p:sldLayoutId id="2147483742" r:id="rId9"/>
    <p:sldLayoutId id="2147483743" r:id="rId10"/>
    <p:sldLayoutId id="2147483744" r:id="rId11"/>
    <p:sldLayoutId id="2147483745" r:id="rId12"/>
    <p:sldLayoutId id="2147483746" r:id="rId13"/>
    <p:sldLayoutId id="2147483747" r:id="rId14"/>
    <p:sldLayoutId id="2147483748" r:id="rId15"/>
    <p:sldLayoutId id="2147483749" r:id="rId16"/>
    <p:sldLayoutId id="2147483750" r:id="rId17"/>
    <p:sldLayoutId id="2147483751" r:id="rId18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3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376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9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 type="sldNum" idx="6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0E4B7-8571-46B0-82D7-057FF5E13DF9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26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26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0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26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26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0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26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3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26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26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9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26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26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26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20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0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0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812880" y="44280"/>
            <a:ext cx="7718400" cy="8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600" spc="-1" strike="noStrike">
                <a:solidFill>
                  <a:srgbClr val="ffffff"/>
                </a:solidFill>
                <a:latin typeface="Verdana"/>
              </a:rPr>
              <a:t>Mercado Laboral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55" name="Picture 3" descr="C:\Users\maarias\Desktop\Fotografias_Boletin_Comunicado_Prensa_23_12_14\Fotografias_Boletin_Comunicado_Prensa\Boletin_DANE (1).png"/>
          <p:cNvPicPr/>
          <p:nvPr/>
        </p:nvPicPr>
        <p:blipFill>
          <a:blip r:embed="rId1"/>
          <a:stretch/>
        </p:blipFill>
        <p:spPr>
          <a:xfrm>
            <a:off x="0" y="1268280"/>
            <a:ext cx="9144000" cy="2665440"/>
          </a:xfrm>
          <a:prstGeom prst="rect">
            <a:avLst/>
          </a:prstGeom>
          <a:ln w="0">
            <a:noFill/>
          </a:ln>
        </p:spPr>
      </p:pic>
      <p:sp>
        <p:nvSpPr>
          <p:cNvPr id="1256" name="Text Box 5"/>
          <p:cNvSpPr/>
          <p:nvPr/>
        </p:nvSpPr>
        <p:spPr>
          <a:xfrm>
            <a:off x="324000" y="3789360"/>
            <a:ext cx="8064360" cy="28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5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b6014c"/>
                </a:solidFill>
                <a:latin typeface="Arial"/>
                <a:ea typeface="Arial"/>
              </a:rPr>
              <a:t>Medellín 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 Narrow"/>
                <a:ea typeface="Arial"/>
              </a:rPr>
              <a:t>201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 Narrow"/>
                <a:ea typeface="Arial"/>
              </a:rPr>
              <a:t>Bogotá D.C., enero de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  <a:ea typeface="Arial"/>
              </a:rPr>
              <a:t>El área metropolitana de Medellín, incluye el Valle de Aburrá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7" name="Text Box 3"/>
          <p:cNvSpPr/>
          <p:nvPr/>
        </p:nvSpPr>
        <p:spPr>
          <a:xfrm>
            <a:off x="685800" y="682560"/>
            <a:ext cx="741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Distribución porcentual  y variación de la población ocupada, según ramas de actividad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8" name="Text Box 4"/>
          <p:cNvSpPr/>
          <p:nvPr/>
        </p:nvSpPr>
        <p:spPr>
          <a:xfrm>
            <a:off x="468360" y="5283360"/>
            <a:ext cx="8351640" cy="9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*</a:t>
            </a:r>
            <a:r>
              <a:rPr b="0" lang="es-ES" sz="1200" spc="-1" strike="noStrike">
                <a:solidFill>
                  <a:srgbClr val="000000"/>
                </a:solidFill>
                <a:latin typeface="Calibri"/>
                <a:ea typeface="Calibri"/>
              </a:rPr>
              <a:t>Otras ramas: Agricultura, ganadería, caza, silvicultura y pesca; explotación de minas y canteras, suministro de electricidad, gas y agua e intermediación financier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Calibri"/>
                <a:ea typeface="Calibri"/>
              </a:rPr>
              <a:t>Nota: La categoría  “No informa” no se incluye en la gráfica. Por esta razón la suma de las participaciones puede diferir de 100%.   </a:t>
            </a:r>
            <a:r>
              <a:rPr b="0" lang="es-CO" sz="1800" spc="-1" strike="noStrike">
                <a:solidFill>
                  <a:srgbClr val="000000"/>
                </a:solidFill>
                <a:latin typeface="Calibri"/>
                <a:ea typeface="Calibri"/>
              </a:rPr>
              <a:t> 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9" name="1 Imagen" descr=""/>
          <p:cNvPicPr/>
          <p:nvPr/>
        </p:nvPicPr>
        <p:blipFill>
          <a:blip r:embed="rId1"/>
          <a:stretch/>
        </p:blipFill>
        <p:spPr>
          <a:xfrm>
            <a:off x="485640" y="1446120"/>
            <a:ext cx="7883640" cy="3591000"/>
          </a:xfrm>
          <a:prstGeom prst="rect">
            <a:avLst/>
          </a:prstGeom>
          <a:ln w="0">
            <a:noFill/>
          </a:ln>
        </p:spPr>
      </p:pic>
      <p:sp>
        <p:nvSpPr>
          <p:cNvPr id="1290" name="6 CuadroTexto"/>
          <p:cNvSpPr/>
          <p:nvPr/>
        </p:nvSpPr>
        <p:spPr>
          <a:xfrm>
            <a:off x="474480" y="503856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1" name="1 Imagen" descr=""/>
          <p:cNvPicPr/>
          <p:nvPr/>
        </p:nvPicPr>
        <p:blipFill>
          <a:blip r:embed="rId1"/>
          <a:stretch/>
        </p:blipFill>
        <p:spPr>
          <a:xfrm>
            <a:off x="971640" y="1557360"/>
            <a:ext cx="6941880" cy="3448080"/>
          </a:xfrm>
          <a:prstGeom prst="rect">
            <a:avLst/>
          </a:prstGeom>
          <a:ln w="0">
            <a:noFill/>
          </a:ln>
        </p:spPr>
      </p:pic>
      <p:sp>
        <p:nvSpPr>
          <p:cNvPr id="1292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3" name="Text Box 3"/>
          <p:cNvSpPr/>
          <p:nvPr/>
        </p:nvSpPr>
        <p:spPr>
          <a:xfrm>
            <a:off x="1371600" y="698400"/>
            <a:ext cx="640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Contribución a la variación porcentual de la población ocupada, según ramas de activida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4" name="Text Box 4"/>
          <p:cNvSpPr/>
          <p:nvPr/>
        </p:nvSpPr>
        <p:spPr>
          <a:xfrm>
            <a:off x="1204920" y="5445000"/>
            <a:ext cx="7040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*</a:t>
            </a:r>
            <a:r>
              <a:rPr b="0" lang="es-ES" sz="1200" spc="-1" strike="noStrike">
                <a:solidFill>
                  <a:srgbClr val="000000"/>
                </a:solidFill>
                <a:latin typeface="Calibri"/>
                <a:ea typeface="Calibri"/>
              </a:rPr>
              <a:t>Otras ramas: Agricultura, ganadería, caza, silvicultura y pesca; explotación de minas y canteras, suministro de electricidad, gas y agua e intermediación financiera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5" name="6 CuadroTexto"/>
          <p:cNvSpPr/>
          <p:nvPr/>
        </p:nvSpPr>
        <p:spPr>
          <a:xfrm>
            <a:off x="1211040" y="522936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Rectangle 1"/>
          <p:cNvSpPr/>
          <p:nvPr/>
        </p:nvSpPr>
        <p:spPr>
          <a:xfrm>
            <a:off x="1187280" y="2639880"/>
            <a:ext cx="7956720" cy="130968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7" name="Picture 2" descr="image6.png"/>
          <p:cNvPicPr/>
          <p:nvPr/>
        </p:nvPicPr>
        <p:blipFill>
          <a:blip r:embed="rId1"/>
          <a:stretch/>
        </p:blipFill>
        <p:spPr>
          <a:xfrm>
            <a:off x="1187280" y="3932280"/>
            <a:ext cx="7955280" cy="109440"/>
          </a:xfrm>
          <a:prstGeom prst="rect">
            <a:avLst/>
          </a:prstGeom>
          <a:ln w="0">
            <a:noFill/>
          </a:ln>
        </p:spPr>
      </p:pic>
      <p:sp>
        <p:nvSpPr>
          <p:cNvPr id="1298" name="Rectangle 3"/>
          <p:cNvSpPr/>
          <p:nvPr/>
        </p:nvSpPr>
        <p:spPr>
          <a:xfrm>
            <a:off x="1403280" y="2955960"/>
            <a:ext cx="741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  <a:ea typeface="Calibri"/>
              </a:rPr>
              <a:t>POBLACIÓN OCUPADA SEGÚ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ffffff"/>
                </a:solidFill>
                <a:latin typeface="Verdana"/>
                <a:ea typeface="Calibri"/>
              </a:rPr>
              <a:t>POSICIÓN OCUPACION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9" name="Text Box 3"/>
          <p:cNvSpPr/>
          <p:nvPr/>
        </p:nvSpPr>
        <p:spPr>
          <a:xfrm>
            <a:off x="3419640" y="3798720"/>
            <a:ext cx="5256000" cy="14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  <a:ea typeface="Calibri"/>
              </a:rPr>
              <a:t>Trimest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Calibri"/>
              </a:rPr>
              <a:t>Septiembre – noviembre  201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1" name="Text Box 3"/>
          <p:cNvSpPr/>
          <p:nvPr/>
        </p:nvSpPr>
        <p:spPr>
          <a:xfrm>
            <a:off x="1020600" y="696960"/>
            <a:ext cx="684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Distribución porcentual y variación de la población ocupada, según posición ocupacion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2" name="Text Box 4"/>
          <p:cNvSpPr/>
          <p:nvPr/>
        </p:nvSpPr>
        <p:spPr>
          <a:xfrm>
            <a:off x="1022400" y="6095880"/>
            <a:ext cx="18396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3" name="Text Box 6"/>
          <p:cNvSpPr/>
          <p:nvPr/>
        </p:nvSpPr>
        <p:spPr>
          <a:xfrm>
            <a:off x="468360" y="5229360"/>
            <a:ext cx="813600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  <a:ea typeface="Calibri"/>
              </a:rPr>
              <a:t>^Jornalero y peón está incluido en la categoría Obrero, empleador particula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  <a:ea typeface="Calibri"/>
              </a:rPr>
              <a:t>*Trabajador sin remuneración incluye a los trabajadores familiares sin remuneración y a los trabajadores sin remuneración en empresas de otros hogar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4" name="1 Imagen" descr=""/>
          <p:cNvPicPr/>
          <p:nvPr/>
        </p:nvPicPr>
        <p:blipFill>
          <a:blip r:embed="rId1"/>
          <a:stretch/>
        </p:blipFill>
        <p:spPr>
          <a:xfrm>
            <a:off x="206280" y="1494000"/>
            <a:ext cx="8469360" cy="3616200"/>
          </a:xfrm>
          <a:prstGeom prst="rect">
            <a:avLst/>
          </a:prstGeom>
          <a:ln w="0">
            <a:noFill/>
          </a:ln>
        </p:spPr>
      </p:pic>
      <p:sp>
        <p:nvSpPr>
          <p:cNvPr id="1305" name="8 CuadroTexto"/>
          <p:cNvSpPr/>
          <p:nvPr/>
        </p:nvSpPr>
        <p:spPr>
          <a:xfrm>
            <a:off x="545760" y="501336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6" name="1 Imagen" descr=""/>
          <p:cNvPicPr/>
          <p:nvPr/>
        </p:nvPicPr>
        <p:blipFill>
          <a:blip r:embed="rId1"/>
          <a:stretch/>
        </p:blipFill>
        <p:spPr>
          <a:xfrm>
            <a:off x="882720" y="1460520"/>
            <a:ext cx="7377120" cy="3481200"/>
          </a:xfrm>
          <a:prstGeom prst="rect">
            <a:avLst/>
          </a:prstGeom>
          <a:ln w="0">
            <a:noFill/>
          </a:ln>
        </p:spPr>
      </p:pic>
      <p:sp>
        <p:nvSpPr>
          <p:cNvPr id="1307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8" name="Text Box 3"/>
          <p:cNvSpPr/>
          <p:nvPr/>
        </p:nvSpPr>
        <p:spPr>
          <a:xfrm>
            <a:off x="1582560" y="520560"/>
            <a:ext cx="5978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Contribución a la variación porcentual  de la población ocupada, según posición ocupacion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9" name="Text Box 4"/>
          <p:cNvSpPr/>
          <p:nvPr/>
        </p:nvSpPr>
        <p:spPr>
          <a:xfrm>
            <a:off x="1022400" y="6095880"/>
            <a:ext cx="18396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0" name="Text Box 6"/>
          <p:cNvSpPr/>
          <p:nvPr/>
        </p:nvSpPr>
        <p:spPr>
          <a:xfrm>
            <a:off x="749160" y="5229360"/>
            <a:ext cx="735192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  <a:ea typeface="Calibri"/>
              </a:rPr>
              <a:t>^ Jornalero y peón está incluido en la categoría Obrero, empleador particula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  <a:ea typeface="Calibri"/>
              </a:rPr>
              <a:t>*Trabajador sin remuneración incluye a los trabajadores familiares sin remuneración y a los trabajadores sin remuneración en empresas de otros hogar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1" name="8 CuadroTexto"/>
          <p:cNvSpPr/>
          <p:nvPr/>
        </p:nvSpPr>
        <p:spPr>
          <a:xfrm>
            <a:off x="833040" y="508464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Rectangle 1"/>
          <p:cNvSpPr/>
          <p:nvPr/>
        </p:nvSpPr>
        <p:spPr>
          <a:xfrm>
            <a:off x="1187280" y="2639880"/>
            <a:ext cx="7956720" cy="130968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3" name="Picture 2" descr="image6.png"/>
          <p:cNvPicPr/>
          <p:nvPr/>
        </p:nvPicPr>
        <p:blipFill>
          <a:blip r:embed="rId1"/>
          <a:stretch/>
        </p:blipFill>
        <p:spPr>
          <a:xfrm>
            <a:off x="1187280" y="3932280"/>
            <a:ext cx="7955280" cy="109440"/>
          </a:xfrm>
          <a:prstGeom prst="rect">
            <a:avLst/>
          </a:prstGeom>
          <a:ln w="0">
            <a:noFill/>
          </a:ln>
        </p:spPr>
      </p:pic>
      <p:sp>
        <p:nvSpPr>
          <p:cNvPr id="1314" name="Rectangle 3"/>
          <p:cNvSpPr/>
          <p:nvPr/>
        </p:nvSpPr>
        <p:spPr>
          <a:xfrm>
            <a:off x="1403280" y="2955960"/>
            <a:ext cx="76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  <a:ea typeface="Calibri"/>
              </a:rPr>
              <a:t>POBLACIÓN INACTIVA SEGÚN </a:t>
            </a:r>
            <a:r>
              <a:rPr b="1" lang="es-CO" sz="2400" spc="-1" strike="noStrike">
                <a:solidFill>
                  <a:srgbClr val="ffffff"/>
                </a:solidFill>
                <a:latin typeface="Verdana"/>
                <a:ea typeface="Calibri"/>
              </a:rPr>
              <a:t>TIPO DE ACTIVID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5" name="Text Box 3"/>
          <p:cNvSpPr/>
          <p:nvPr/>
        </p:nvSpPr>
        <p:spPr>
          <a:xfrm>
            <a:off x="3419640" y="3798720"/>
            <a:ext cx="5256000" cy="14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  <a:ea typeface="Calibri"/>
              </a:rPr>
              <a:t>Trimest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Calibri"/>
              </a:rPr>
              <a:t>Septiembre – noviembre  201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7" name="Text Box 3"/>
          <p:cNvSpPr/>
          <p:nvPr/>
        </p:nvSpPr>
        <p:spPr>
          <a:xfrm>
            <a:off x="1189080" y="512640"/>
            <a:ext cx="6765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Distribución porcentual  y variación de la población inactiva, según tipo de activida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8" name="Text Box 4"/>
          <p:cNvSpPr/>
          <p:nvPr/>
        </p:nvSpPr>
        <p:spPr>
          <a:xfrm>
            <a:off x="1476360" y="5229360"/>
            <a:ext cx="6696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  <a:ea typeface="Calibri"/>
              </a:rPr>
              <a:t>Nota: La categoría “otros” incluye: incapacitado permanente para trabajar, rentista, pensionado, jubilado, personas que no les llama la atención o creen que no vale la pena trabaja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6 CuadroTexto"/>
          <p:cNvSpPr/>
          <p:nvPr/>
        </p:nvSpPr>
        <p:spPr>
          <a:xfrm>
            <a:off x="1482480" y="503856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0" name="1 Imagen" descr=""/>
          <p:cNvPicPr/>
          <p:nvPr/>
        </p:nvPicPr>
        <p:blipFill>
          <a:blip r:embed="rId1"/>
          <a:stretch/>
        </p:blipFill>
        <p:spPr>
          <a:xfrm>
            <a:off x="611280" y="1461960"/>
            <a:ext cx="789624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5 CuadroTexto"/>
          <p:cNvSpPr/>
          <p:nvPr/>
        </p:nvSpPr>
        <p:spPr>
          <a:xfrm>
            <a:off x="2777760" y="555624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Text Box 3"/>
          <p:cNvSpPr/>
          <p:nvPr/>
        </p:nvSpPr>
        <p:spPr>
          <a:xfrm>
            <a:off x="1300320" y="692280"/>
            <a:ext cx="68738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Proporción del empleo informal en la población ocupada Total 13 ciudades y áreas metropolitanas y Medellín A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Trimestre Septiembre – noviembre (2015 – 2016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3" name="1 Imagen" descr=""/>
          <p:cNvPicPr/>
          <p:nvPr/>
        </p:nvPicPr>
        <p:blipFill>
          <a:blip r:embed="rId1"/>
          <a:stretch/>
        </p:blipFill>
        <p:spPr>
          <a:xfrm>
            <a:off x="2217600" y="1928880"/>
            <a:ext cx="5667480" cy="36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4" name="2 Imagen" descr=""/>
          <p:cNvPicPr/>
          <p:nvPr/>
        </p:nvPicPr>
        <p:blipFill>
          <a:blip r:embed="rId1"/>
          <a:stretch/>
        </p:blipFill>
        <p:spPr>
          <a:xfrm>
            <a:off x="1208160" y="1628640"/>
            <a:ext cx="6361200" cy="1656000"/>
          </a:xfrm>
          <a:prstGeom prst="rect">
            <a:avLst/>
          </a:prstGeom>
          <a:ln w="0">
            <a:noFill/>
          </a:ln>
        </p:spPr>
      </p:pic>
      <p:pic>
        <p:nvPicPr>
          <p:cNvPr id="1325" name="1 Imagen" descr=""/>
          <p:cNvPicPr/>
          <p:nvPr/>
        </p:nvPicPr>
        <p:blipFill>
          <a:blip r:embed="rId2"/>
          <a:stretch/>
        </p:blipFill>
        <p:spPr>
          <a:xfrm>
            <a:off x="1258920" y="3716280"/>
            <a:ext cx="6265800" cy="1724040"/>
          </a:xfrm>
          <a:prstGeom prst="rect">
            <a:avLst/>
          </a:prstGeom>
          <a:ln w="0">
            <a:noFill/>
          </a:ln>
        </p:spPr>
      </p:pic>
      <p:sp>
        <p:nvSpPr>
          <p:cNvPr id="1326" name="4 CuadroTexto"/>
          <p:cNvSpPr/>
          <p:nvPr/>
        </p:nvSpPr>
        <p:spPr>
          <a:xfrm>
            <a:off x="1476360" y="981000"/>
            <a:ext cx="7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7" name="5 CuadroTexto"/>
          <p:cNvSpPr/>
          <p:nvPr/>
        </p:nvSpPr>
        <p:spPr>
          <a:xfrm>
            <a:off x="703080" y="504720"/>
            <a:ext cx="7252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Calibri"/>
                <a:ea typeface="Calibri"/>
              </a:rPr>
              <a:t>Límites de confianza y error relativo de la población de la fuerza d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Calibri"/>
                <a:ea typeface="Calibri"/>
              </a:rPr>
              <a:t>trabajo e indicadores de mercado labor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Calibri"/>
                <a:ea typeface="Calibri"/>
              </a:rPr>
              <a:t>Medellín A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1 CuadroTexto"/>
          <p:cNvSpPr/>
          <p:nvPr/>
        </p:nvSpPr>
        <p:spPr>
          <a:xfrm>
            <a:off x="1308240" y="404640"/>
            <a:ext cx="6840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0066"/>
                </a:solidFill>
                <a:latin typeface="Arial Narrow"/>
                <a:ea typeface="Calibri"/>
              </a:rPr>
              <a:t>Tasa global de participación, ocupación y desemple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0066"/>
                </a:solidFill>
                <a:latin typeface="Arial Narrow"/>
                <a:ea typeface="Calibri"/>
              </a:rPr>
              <a:t>Antioqui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0066"/>
                </a:solidFill>
                <a:latin typeface="Arial Narrow"/>
                <a:ea typeface="Calibri"/>
              </a:rPr>
              <a:t>Anu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0066"/>
                </a:solidFill>
                <a:latin typeface="Arial Narrow"/>
                <a:ea typeface="Calibri"/>
              </a:rPr>
              <a:t> </a:t>
            </a:r>
            <a:r>
              <a:rPr b="1" lang="es-ES" sz="2400" spc="-1" strike="noStrike">
                <a:solidFill>
                  <a:srgbClr val="cc0066"/>
                </a:solidFill>
                <a:latin typeface="Arial Narrow"/>
                <a:ea typeface="Calibri"/>
              </a:rPr>
              <a:t>2007 - 201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9" name="4 CuadroTexto"/>
          <p:cNvSpPr/>
          <p:nvPr/>
        </p:nvSpPr>
        <p:spPr>
          <a:xfrm>
            <a:off x="1299240" y="570384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0" name="1 Imagen" descr=""/>
          <p:cNvPicPr/>
          <p:nvPr/>
        </p:nvPicPr>
        <p:blipFill>
          <a:blip r:embed="rId1"/>
          <a:stretch/>
        </p:blipFill>
        <p:spPr>
          <a:xfrm>
            <a:off x="1327320" y="1898640"/>
            <a:ext cx="6769080" cy="38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Rectangle 1"/>
          <p:cNvSpPr/>
          <p:nvPr/>
        </p:nvSpPr>
        <p:spPr>
          <a:xfrm>
            <a:off x="1187280" y="2639880"/>
            <a:ext cx="7956720" cy="130968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8" name="Picture 2" descr="image6.png"/>
          <p:cNvPicPr/>
          <p:nvPr/>
        </p:nvPicPr>
        <p:blipFill>
          <a:blip r:embed="rId1"/>
          <a:stretch/>
        </p:blipFill>
        <p:spPr>
          <a:xfrm>
            <a:off x="1187280" y="3932280"/>
            <a:ext cx="7955280" cy="109440"/>
          </a:xfrm>
          <a:prstGeom prst="rect">
            <a:avLst/>
          </a:prstGeom>
          <a:ln w="0">
            <a:noFill/>
          </a:ln>
        </p:spPr>
      </p:pic>
      <p:sp>
        <p:nvSpPr>
          <p:cNvPr id="1259" name="Rectangle 4"/>
          <p:cNvSpPr/>
          <p:nvPr/>
        </p:nvSpPr>
        <p:spPr>
          <a:xfrm>
            <a:off x="1050840" y="1979640"/>
            <a:ext cx="776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808080"/>
                </a:solidFill>
                <a:latin typeface="Verdana"/>
                <a:ea typeface="Calibri"/>
              </a:rPr>
              <a:t>Indicadores</a:t>
            </a:r>
            <a:r>
              <a:rPr b="1" lang="es-ES" sz="3200" spc="-1" strike="noStrike">
                <a:solidFill>
                  <a:srgbClr val="a7a7a7"/>
                </a:solidFill>
                <a:latin typeface="Arial Narrow"/>
                <a:ea typeface="Calibri"/>
              </a:rPr>
              <a:t> </a:t>
            </a:r>
            <a:r>
              <a:rPr b="1" lang="es-ES" sz="3200" spc="-1" strike="noStrike">
                <a:solidFill>
                  <a:srgbClr val="808080"/>
                </a:solidFill>
                <a:latin typeface="Verdana"/>
                <a:ea typeface="Calibri"/>
              </a:rPr>
              <a:t>del mercado labor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0" name="Rectangle 3"/>
          <p:cNvSpPr/>
          <p:nvPr/>
        </p:nvSpPr>
        <p:spPr>
          <a:xfrm>
            <a:off x="2124000" y="2955960"/>
            <a:ext cx="669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  <a:ea typeface="Calibri"/>
              </a:rPr>
              <a:t>23 ciudades y áreas metropolitan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1" name="Text Box 3"/>
          <p:cNvSpPr/>
          <p:nvPr/>
        </p:nvSpPr>
        <p:spPr>
          <a:xfrm>
            <a:off x="3419640" y="3798720"/>
            <a:ext cx="5256000" cy="14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  <a:ea typeface="Calibri"/>
              </a:rPr>
              <a:t>Trimest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Calibri"/>
              </a:rPr>
              <a:t>Septiembre – noviembre 201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push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Text Box 3"/>
          <p:cNvSpPr/>
          <p:nvPr/>
        </p:nvSpPr>
        <p:spPr>
          <a:xfrm>
            <a:off x="412920" y="654120"/>
            <a:ext cx="820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0066"/>
                </a:solidFill>
                <a:latin typeface="Arial Narrow"/>
                <a:ea typeface="Calibri"/>
              </a:rPr>
              <a:t>Resumen indicador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0066"/>
                </a:solidFill>
                <a:latin typeface="Arial Narrow"/>
                <a:ea typeface="Calibri"/>
              </a:rPr>
              <a:t>Medellín</a:t>
            </a:r>
            <a:r>
              <a:rPr b="1" lang="es-ES" sz="1600" spc="-1" strike="noStrike">
                <a:solidFill>
                  <a:srgbClr val="cc0066"/>
                </a:solidFill>
                <a:latin typeface="Calibri"/>
                <a:ea typeface="Calibri"/>
              </a:rPr>
              <a:t>  </a:t>
            </a:r>
            <a:r>
              <a:rPr b="1" lang="es-ES" sz="2400" spc="-1" strike="noStrike">
                <a:solidFill>
                  <a:srgbClr val="cc0066"/>
                </a:solidFill>
                <a:latin typeface="Calibri"/>
                <a:ea typeface="Calibri"/>
              </a:rPr>
              <a:t>AM </a:t>
            </a:r>
            <a:r>
              <a:rPr b="1" lang="es-ES" sz="2400" spc="-1" strike="noStrike">
                <a:solidFill>
                  <a:srgbClr val="cc0066"/>
                </a:solidFill>
                <a:latin typeface="Arial Narrow"/>
                <a:ea typeface="Calibri"/>
              </a:rPr>
              <a:t>– Total Nacion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3" name="1 Imagen" descr=""/>
          <p:cNvPicPr/>
          <p:nvPr/>
        </p:nvPicPr>
        <p:blipFill>
          <a:blip r:embed="rId1"/>
          <a:stretch/>
        </p:blipFill>
        <p:spPr>
          <a:xfrm>
            <a:off x="934920" y="1989000"/>
            <a:ext cx="740592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5" name="Text Box 4"/>
          <p:cNvSpPr/>
          <p:nvPr/>
        </p:nvSpPr>
        <p:spPr>
          <a:xfrm>
            <a:off x="1335240" y="2666880"/>
            <a:ext cx="39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6" name="Text Box 3"/>
          <p:cNvSpPr/>
          <p:nvPr/>
        </p:nvSpPr>
        <p:spPr>
          <a:xfrm>
            <a:off x="-109440" y="2492280"/>
            <a:ext cx="2952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Calibri"/>
              </a:rPr>
              <a:t>Indicadores de mercado laboral por ciuda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Calibri"/>
              </a:rPr>
              <a:t>Trimest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cc0066"/>
                </a:solidFill>
                <a:latin typeface="Arial Narrow"/>
                <a:ea typeface="Calibri"/>
              </a:rPr>
              <a:t>Septiembre – noviembre  2016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7" name="6 Rectángulo"/>
          <p:cNvSpPr/>
          <p:nvPr/>
        </p:nvSpPr>
        <p:spPr>
          <a:xfrm>
            <a:off x="2484360" y="3166920"/>
            <a:ext cx="6659640" cy="17460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8" name="1 Imagen" descr=""/>
          <p:cNvPicPr/>
          <p:nvPr/>
        </p:nvPicPr>
        <p:blipFill>
          <a:blip r:embed="rId1"/>
          <a:stretch/>
        </p:blipFill>
        <p:spPr>
          <a:xfrm>
            <a:off x="2652840" y="281160"/>
            <a:ext cx="6586560" cy="57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9" name="1 Imagen" descr=""/>
          <p:cNvPicPr/>
          <p:nvPr/>
        </p:nvPicPr>
        <p:blipFill>
          <a:blip r:embed="rId1"/>
          <a:stretch/>
        </p:blipFill>
        <p:spPr>
          <a:xfrm>
            <a:off x="743040" y="1859040"/>
            <a:ext cx="7502400" cy="3808440"/>
          </a:xfrm>
          <a:prstGeom prst="rect">
            <a:avLst/>
          </a:prstGeom>
          <a:ln w="0">
            <a:noFill/>
          </a:ln>
        </p:spPr>
      </p:pic>
      <p:sp>
        <p:nvSpPr>
          <p:cNvPr id="1270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1" name="Text Box 3"/>
          <p:cNvSpPr/>
          <p:nvPr/>
        </p:nvSpPr>
        <p:spPr>
          <a:xfrm>
            <a:off x="1335240" y="2666880"/>
            <a:ext cx="39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2" name="Text Box 3"/>
          <p:cNvSpPr/>
          <p:nvPr/>
        </p:nvSpPr>
        <p:spPr>
          <a:xfrm>
            <a:off x="1187280" y="711360"/>
            <a:ext cx="6769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Tasa global de participación, ocupación y desempleo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Medellín A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Septiembre – noviembre (2007- 2016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3" name="1 Rectángulo"/>
          <p:cNvSpPr/>
          <p:nvPr/>
        </p:nvSpPr>
        <p:spPr>
          <a:xfrm>
            <a:off x="1187280" y="5649840"/>
            <a:ext cx="457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  <a:ea typeface="Calibri"/>
              </a:rPr>
              <a:t>Fuente: DANE - Gran Encuesta Integrada de Hogares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Text Box 3"/>
          <p:cNvSpPr/>
          <p:nvPr/>
        </p:nvSpPr>
        <p:spPr>
          <a:xfrm>
            <a:off x="992160" y="404640"/>
            <a:ext cx="7142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Calibri"/>
              </a:rPr>
              <a:t>Tasa de desemple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Calibri"/>
              </a:rPr>
              <a:t>Medellín A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Calibri"/>
              </a:rPr>
              <a:t>Trimestres móviles 2012-2016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5" name="5 CuadroTexto"/>
          <p:cNvSpPr/>
          <p:nvPr/>
        </p:nvSpPr>
        <p:spPr>
          <a:xfrm>
            <a:off x="1553760" y="537372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6" name="1 Imagen" descr=""/>
          <p:cNvPicPr/>
          <p:nvPr/>
        </p:nvPicPr>
        <p:blipFill>
          <a:blip r:embed="rId1"/>
          <a:stretch/>
        </p:blipFill>
        <p:spPr>
          <a:xfrm>
            <a:off x="1700280" y="1849320"/>
            <a:ext cx="621036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7" name="1 Imagen" descr=""/>
          <p:cNvPicPr/>
          <p:nvPr/>
        </p:nvPicPr>
        <p:blipFill>
          <a:blip r:embed="rId1"/>
          <a:stretch/>
        </p:blipFill>
        <p:spPr>
          <a:xfrm>
            <a:off x="324000" y="2214720"/>
            <a:ext cx="8640720" cy="2039760"/>
          </a:xfrm>
          <a:prstGeom prst="rect">
            <a:avLst/>
          </a:prstGeom>
          <a:ln w="0">
            <a:noFill/>
          </a:ln>
        </p:spPr>
      </p:pic>
      <p:sp>
        <p:nvSpPr>
          <p:cNvPr id="1278" name="Rectangle 4"/>
          <p:cNvSpPr/>
          <p:nvPr/>
        </p:nvSpPr>
        <p:spPr>
          <a:xfrm>
            <a:off x="2050920" y="549360"/>
            <a:ext cx="489600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1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Arial"/>
              </a:rPr>
              <a:t>Población ocupada, desocupada e inactiva </a:t>
            </a:r>
            <a:br>
              <a:rPr sz="2200"/>
            </a:b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Arial"/>
              </a:rPr>
              <a:t>Medellín A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Septiembre – noviembre </a:t>
            </a: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Arial"/>
              </a:rPr>
              <a:t>(2015 - 2016)</a:t>
            </a:r>
            <a:br>
              <a:rPr sz="2200"/>
            </a:b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Rectangle 1"/>
          <p:cNvSpPr/>
          <p:nvPr/>
        </p:nvSpPr>
        <p:spPr>
          <a:xfrm>
            <a:off x="1187280" y="2639880"/>
            <a:ext cx="7956720" cy="130968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0" name="Picture 2" descr="image6.png"/>
          <p:cNvPicPr/>
          <p:nvPr/>
        </p:nvPicPr>
        <p:blipFill>
          <a:blip r:embed="rId1"/>
          <a:stretch/>
        </p:blipFill>
        <p:spPr>
          <a:xfrm>
            <a:off x="1187280" y="3932280"/>
            <a:ext cx="7955280" cy="109440"/>
          </a:xfrm>
          <a:prstGeom prst="rect">
            <a:avLst/>
          </a:prstGeom>
          <a:ln w="0">
            <a:noFill/>
          </a:ln>
        </p:spPr>
      </p:pic>
      <p:sp>
        <p:nvSpPr>
          <p:cNvPr id="1281" name="Rectangle 3"/>
          <p:cNvSpPr/>
          <p:nvPr/>
        </p:nvSpPr>
        <p:spPr>
          <a:xfrm>
            <a:off x="1258920" y="3068640"/>
            <a:ext cx="82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ffffff"/>
                </a:solidFill>
                <a:latin typeface="Verdana"/>
                <a:ea typeface="Calibri"/>
              </a:rPr>
              <a:t>COMPORTAMIENTO DEL MERCADO LABOR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Rectangle 1"/>
          <p:cNvSpPr/>
          <p:nvPr/>
        </p:nvSpPr>
        <p:spPr>
          <a:xfrm>
            <a:off x="1187280" y="2639880"/>
            <a:ext cx="7956720" cy="130968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3" name="Picture 2" descr="image6.png"/>
          <p:cNvPicPr/>
          <p:nvPr/>
        </p:nvPicPr>
        <p:blipFill>
          <a:blip r:embed="rId1"/>
          <a:stretch/>
        </p:blipFill>
        <p:spPr>
          <a:xfrm>
            <a:off x="1187280" y="3932280"/>
            <a:ext cx="7955280" cy="109440"/>
          </a:xfrm>
          <a:prstGeom prst="rect">
            <a:avLst/>
          </a:prstGeom>
          <a:ln w="0">
            <a:noFill/>
          </a:ln>
        </p:spPr>
      </p:pic>
      <p:sp>
        <p:nvSpPr>
          <p:cNvPr id="1284" name="Rectangle 3"/>
          <p:cNvSpPr/>
          <p:nvPr/>
        </p:nvSpPr>
        <p:spPr>
          <a:xfrm>
            <a:off x="1403280" y="2955960"/>
            <a:ext cx="741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  <a:ea typeface="Calibri"/>
              </a:rPr>
              <a:t>POBLACIÓN OCUPAD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  <a:ea typeface="Calibri"/>
              </a:rPr>
              <a:t>SEGÚN </a:t>
            </a:r>
            <a:r>
              <a:rPr b="1" lang="es-CO" sz="2400" spc="-1" strike="noStrike">
                <a:solidFill>
                  <a:srgbClr val="ffffff"/>
                </a:solidFill>
                <a:latin typeface="Verdana"/>
                <a:ea typeface="Calibri"/>
              </a:rPr>
              <a:t>RAMA DE ACTIVID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5" name="Text Box 3"/>
          <p:cNvSpPr/>
          <p:nvPr/>
        </p:nvSpPr>
        <p:spPr>
          <a:xfrm>
            <a:off x="3419640" y="3798720"/>
            <a:ext cx="5256000" cy="14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  <a:ea typeface="Calibri"/>
              </a:rPr>
              <a:t>Trimest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Calibri"/>
              </a:rPr>
              <a:t>Septiembre – noviembre  201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7T13:39:03Z</dcterms:created>
  <dc:creator>jcolarteb</dc:creator>
  <dc:description/>
  <dc:language>en-US</dc:language>
  <cp:lastModifiedBy>Liliana Castañeda Pardo</cp:lastModifiedBy>
  <cp:lastPrinted>2016-07-25T14:19:08Z</cp:lastPrinted>
  <dcterms:modified xsi:type="dcterms:W3CDTF">2016-12-29T15:32:41Z</dcterms:modified>
  <cp:revision>1023</cp:revision>
  <dc:subject/>
  <dc:title>PRINCIPALES RESULTADOS DEL MERCADO LABORAL JUNIO de 2012 Resultados Marco 2005.  Datos expandidos con proyecciones de población elaboradas con base en los resultados del Censo 2005  Julio 31 de 2012</dc:title>
</cp:coreProperties>
</file>