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F24E-59E3-4DB1-B19B-F40717DCF8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0E5-221A-4670-B7E3-B5A9799972C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CB5-FFED-42CC-94CC-F367145D7C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A73-1ACD-4FC6-A5BA-5FB5FECC998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E6E-4779-4853-B8D4-7C11E13D783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CE4-C914-41C2-A6A2-5FB2B0CDA79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D59-DBE1-46FB-B4E5-0DD2A92439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D023-D856-4FFD-9F19-3758DC44532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C58E-0910-4592-9ECA-DD513B7573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E22-0EF1-4EE3-8161-6EFDBAD443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771-406E-4DE5-B2C9-BC1CBD740D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917F-5AD1-4D09-9BB7-7B9DB930D3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9C63-FBCE-4346-A95B-6DDF5B3C2C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ACC-A68E-42C5-A223-79A308A9CE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C70E-6CD5-498C-A5D4-9B299DFF11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8B312-8DCF-45C8-B235-E16E9243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CC01D-5DCE-4F3D-B98C-20EBEE2A30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2B52C-B74A-4C0F-9B4E-62973236E8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D7B47-CA52-4145-8259-611276A288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2A42A-D484-4042-AB58-36EF40F26C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4B8E0-309B-4B36-8E56-DA54DABD167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E52B5-B6AE-46A8-A09D-031D1B692B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5E92A6-A19F-4447-BDEB-3D588BEC71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F4157-8CB9-479C-8B4B-38AA1AE33A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61FA7-1A4F-421A-9B97-C52D13A31B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7FB9F-A154-4D34-91FE-BFD4AD8BC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6885F-3281-4C83-830A-F1CEDF9468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F7DDB-1814-4526-8DFE-E1366F03B4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9DD08-BE92-4D33-A724-9F213F66C7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115A8-E2D5-4735-9DA8-AB09123419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50726-1BD9-4771-B6B5-D6F9F45058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11542-D3E7-4623-9CD3-F4C7D19872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15910-5531-4DC5-9AD1-419076FF49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5FBAE-D7A5-4155-82BE-EF22D1F308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63621-0D54-439D-83F7-B92BCD5847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58431-C238-4F92-854B-E858D247A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AA94-7778-47C7-903B-462019DA4C4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826B8-8510-4C3E-A1A2-C32F38F5BC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A5B62-4A1E-4171-B04F-28B3AF2BD7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3771F-9BA5-4338-80F6-7D215C302C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2822-09F8-4AD5-B814-6AAA1FBFAF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AB8A-D292-4981-ACC0-F3AD5777A4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C035-454D-478A-B8C1-B10DA7BAFC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6301-671B-4457-899A-A1848FB9EB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7AD9-D40F-4800-9D2A-130B7D9EA4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D5CD-0B0A-41AB-906A-6A1CA99385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43C8-2800-4203-B3BD-69BBFA1D7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F481-AF7E-4294-869D-449C57514C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CD68-966B-40DD-B43C-3F63222EAF9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7DD0-3C7A-4E4C-8B07-1D7F068B77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5DBD-7709-4DCD-B9B7-ED65AC7FF7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D7BA-194F-4608-8D63-EC8BFE9531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1BF3-5C22-4FDA-B6C8-818C335029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4F5CD-A830-4B85-A6D2-E3328B3FF9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D60AE-CC10-433C-823A-5159D73AB7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58342-23A0-489A-A4C8-CE25E4BA79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A4A95-D688-4B12-A833-14EF9D21E4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52EC9-AA17-417D-A711-68AEA27E56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2346-9864-4F7E-B7E9-5CE5460958F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71420-0A9A-488E-8EC7-B0029B53906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5DAFD-98D4-4180-BA88-10934D1420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FD3E1-BAC1-4B3C-BE3C-E61D0E08903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0CC5C-8EAB-4B4F-B8F4-E23D54305A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404E0-7D09-434E-94B4-3DC9CE404B8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CCC41-2637-42A6-BAA6-52C8378944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805F3-167F-47C9-9AFE-E268BFCDD43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B010E-F869-431B-8012-3B8C39E5D2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E7280-75FE-4C42-9113-747C5270B1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C455D-3D66-4FD6-9056-587528B05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4C23-1A7D-41B3-9815-53314E5BA4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50FD2-4628-41A6-ACED-F4D84364543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9D55F-2460-40FA-A088-507350951A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0DDF5-DDFF-4A45-9D5C-3DD9214E213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D8673-5606-46F4-9402-653C9DC90E8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73F95-72F5-46FE-80FA-DD7E7B919A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74A0A-11E5-49D9-8FAE-F4583A310E9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08FF1-B3F5-4925-9442-B1535C91EFE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5BC8B-D272-457A-BE66-9DA682FCBD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73F7E-26E3-4999-95A8-8D5C5C19EF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F284-F38F-4E1E-9C2B-EACC0A31D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9EB6-1391-44BF-9CEC-2D6DE42CF14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A20E-8BD6-4A21-BD34-8126C04C2E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2989-FB74-4858-B0AF-280A051B40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3849-0610-4532-B117-56BD329973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AB67-25DA-4550-918F-80B3C4D08AE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9140-724A-4065-8C00-49FAC3BA8D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A631-6FB9-4644-AAC2-DD85AE9A413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5560-0CD6-4445-B028-199400FA3B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9D34-DE39-4CF4-89B1-1E66A346E2B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9DBC-EC3F-414D-B09F-FCC0992C0D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89CA-D145-4D15-8FB7-A32C3161C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CD1F-C29A-4B4E-85BE-03AA70AA676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CA16-2E14-4B77-90C5-D67B9D981DD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DBDB46-1CD0-4ACA-A0BC-697360B5978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D7F11-262E-4971-AF81-DCCFBF06B7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7BB0E-0510-4DCD-B32F-DB4AF8BD809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CB5A16-961D-456E-B928-D2344F240FA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7801B-6BF6-4F68-BD13-06D9A426657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11D88-DD16-4DEE-A0DF-7C61006E813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596E5-427C-4D1E-AEA7-CB04D998BE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BDD8E-B8EE-4265-8E4D-DD3647028AB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DCFEC-CE56-472C-8846-A8A96246B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54A5-EC29-433E-8F8A-BE123CA450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6BFD1-210D-4174-AEA5-DBBEDD0A27C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9CF205-C9B4-487A-A90C-89A2F5ED2C3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76FCB-2283-4F45-A97B-7A1B972C45F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A8690-5313-43A9-B063-EE3F0D83A04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94D4E-D5D5-48B3-8E30-7C922850AA7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2EA32-57F4-45C9-A2AD-EE614B5223D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6A89D-9A5D-442F-A435-B0FF9FC3019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3B2C1-EB5A-499F-A5DA-42530F1ACB5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12ACD-501C-4C32-A1E2-ADA1DCF24EA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7B789-6303-4314-A213-FBEB3248C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6ABB-D10A-42ED-829F-E26155775DE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97D49-FA58-4382-A17C-7F804E78DC6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AAE3B-98F5-4AF5-840D-71F16EEAF76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59D4F-A3E3-4B5C-9E80-B47BAC071B0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BA3BB-B0B5-4682-AB10-EC0044C3ECF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C9DAA-1CA8-4859-A89E-7C88A18D02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F5CF-D2FB-468E-B372-E8743C1B95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F902F-346A-4F9D-835D-5E560D566D7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77490-97EF-4EBF-881E-623A6A58D52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626EF-45EE-40F0-9BC4-4EFABCD1A91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43DA-0D38-4992-829F-915365A55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3216-7712-41E9-94B8-31BAD56552C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C991-4211-40B2-8966-D6749CDFCB1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563E-1243-4EEB-87DC-1EE82FE68C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2AD0-BEE3-43D1-BCA4-FF5CF79C5FE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0987-1161-4D76-959A-A228BEBC346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4A7B-6590-4360-9849-AF1AA23A2A0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AA72-1D3A-4408-9008-A37F7B36DF9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E697-90DC-4A40-87C9-8F4DF6E101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514FF-035E-456B-BF45-484C2D02FE4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0E4F6-1232-4F7E-97FB-88A22393C3B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48FE05-1D8D-4330-BB93-270DDF8206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632E-3BB8-48C6-8066-75D7034E5B2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EE616-8745-47F3-8A59-9395E350E49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94727A-D453-4404-BD8A-2A62B92E68D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90694-D487-4722-A8F3-6798011957E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FA6A7-F4A6-4352-9CAE-661E70C8F1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12DE4-E6D0-4916-BC99-3201655F581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ACE57-0DD0-476D-89BA-BBE89677C7E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82AF2-74BE-40B7-AB97-C805435B3E2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050930-09E0-4A20-8F2D-1C7CDED7CF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DDC3E-564A-46AE-A0D3-9051843B38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BF23D-EC45-4117-907E-2954C48B73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D605-CEFA-4F5C-8348-3CF4B98080E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B99A1-EC77-4FF9-B01A-D6B186EB963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FB424-D081-41D5-A054-FBE32C04801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CB37C-7816-4F5F-8D44-48D730B376E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04B42-8881-4395-A995-12FEECD93A1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4C346-1609-42E0-AC74-2923A5437E8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59999-A7E3-4915-AF33-A6E1168892B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0C76D-56C0-45CE-A8F7-DBB8129E9F2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33FDE-2308-463E-858E-F382D07F53F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0A8F9-5F6C-4A2D-A36C-2B6639F096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29CD8-8AE2-41EB-9DDC-A1DDAE349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C688-805B-4128-AAF3-B4A5BC2EABC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EB5AB-EEDD-4DD2-9D2F-014DF60F8E0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10A2-5554-4287-AA71-20B37222127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8EDB7-6BCB-4DD5-81E9-ABECDCE437E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5E8A-FCD5-433C-9085-E99FDBD0A95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0C0C-040C-48BA-BBC8-B9E52F66E63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07250-161E-4E20-BFDD-9C364CD8BE8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9B75-614E-4F11-BCC1-BEAFE677DDA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FAF5-56D6-44CC-A601-96F6EFA0A4C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4D6E-45D7-4192-A8B1-581938D1142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1969-4239-4DA5-BFEC-CEE69A6012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5CB3-5AB5-43D5-95B9-2AD9401CEC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B1E34-23F3-4672-8278-BE92DFC1A84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8DE3-E6BA-4D21-8BB8-85EE64DF727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41FBCB-5EC8-42CA-9A9B-CC64C27822E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AD981-8FD2-4244-BA2C-0C374D818E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307F8-10E7-47F7-8EFC-6C264CD59AC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55B960-5033-4681-97E7-55517075B32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09F03A-C7E2-4B70-802D-E47A85200C3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BA8D3-DDF3-4A0E-922D-B8A8DF5996C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4CB30C-596B-4635-8D46-182AA2F10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5BE9D-F769-4429-9DC8-E1F29ECBC42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A5463-F6CC-4E8B-81E3-9F6C9F3E673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C1830F-2C4D-4CD0-8176-30CAC6229F6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ED805-9B73-4EA6-91C1-59D0A92498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3C61B-5859-40DC-ACD5-2577C30765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9687D-4B53-4E5B-9298-5D6FF6874F0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A2E4B-1922-41B4-A023-0BE1EADDE1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4075F-3E76-46DE-9FB8-2C744CD2C6A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E8238-F1DA-4959-B2BA-A120DDB79BC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748B2-BC32-4B52-86BE-9915E75F50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08790-CB60-4583-AA17-098B5CF4EA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75BBA-88B9-466A-B822-C25EFCEDF4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DC0C2-F59F-4E4D-90C4-EF5B151C0CD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76F4A-5625-46DE-9F6F-252CF21C13F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ADEB6-1123-4464-AB11-D40C37535BB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17E89-B481-4003-851F-30001571325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97D76-6884-495E-B660-D053FB5E00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8AED-B14F-4700-BD8F-C984DD40F46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952E-6A35-45F5-893C-42409E23272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301A-6243-48B4-88C1-570F918167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E166-E73B-4FCD-A48A-8E137B7C296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847A-A946-412C-91C5-C06C98E3BE3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0C194-E789-4C11-A0F1-EE15368939C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B310-5145-4BD1-A054-FD1E4B8302B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6D5F-4E28-4769-AEFD-E3ABE11F793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A192-6289-405D-A4C8-4F9F8251C63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F107-12A8-45EF-AE73-6DA80D38DF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08A93-D5CB-43D0-8B5F-8C92B00CE7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FC4DE-4938-4FCE-96C5-5F27BE908FE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ABD02-F78F-4D53-8314-5132C7BC1B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2A57D-6EF4-400F-AEF7-FEB60E4B6D2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ABB67-9162-47D9-AE1D-701E898A5DA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3361E-E175-439D-B617-E9F5EFA2B28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093110-AE1D-499D-B8DF-907A50DD449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BF019-B1F1-4A73-86BF-D8DFCD7BFB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D95EC-9747-4BC4-94DD-08A2FF592A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2F6AD-6B0B-44A9-B24C-9126B5A730F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2732E-66EC-47CF-9DF6-334D2DD0902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698AF-F28A-4150-8D73-E13A690EE8C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E39F9-F391-4FED-B36A-D7A2C3C25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F55779-53CD-4E40-B16F-4B37A80F9D9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02A40-CF2E-46A0-B729-8E8264B0506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0193D-415C-4549-AAF3-42F383DFACF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195D3-4716-4C1F-80D9-444039D5AF1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16B29-95C2-46E2-957D-06C7DBA559B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359F2E-0988-4669-96BA-363890E14DE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37C58-7A1B-4926-996F-51083C2F547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E5AE0-8B83-423D-B067-CFD893CD3BB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63A4AC-AC02-404B-94D2-B115E5B8B42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ABB2E-1C04-44C9-9A9E-929DD89FC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34411-FE47-45ED-9375-9C64D6D8FD2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144A9-06A5-454E-B471-EE08C8015A8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85017-EA5C-47D9-8B9C-C31D153E978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1409-1DB4-4E19-8442-19DC6046069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AF05-FC26-457E-9429-3E572C2853F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39B6-C8D2-40CB-87D2-FEBF28D89A9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ADA04-E049-4B11-BC59-B92CFF627F6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CCEA-5C48-4369-A263-372E0DC4148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2541-D3DA-4C21-98BD-F7814FF138D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FABA-FC11-41D5-BB04-2FC231AF28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85CD-4362-4563-B92A-F74E3B2EA4D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5ECC2-0D9D-4919-8007-4418F21E306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1780-638E-4496-AAA6-95580447037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44F0D-22B0-4AA2-8370-3728D0DBE5D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81835-3167-4FEA-B42F-A88C3E522EA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4DA6-F347-48F7-BB4A-A3C13ABFA3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9B98-F429-4EC0-9EC5-A375D55F21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98BF-CA78-4BE5-9224-11FA602C7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FC27-0A28-4250-9FAC-BE23FA738B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F532-E942-4D9A-AFE0-B9BFC01F89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E975-611A-4036-827F-A3A7F6BDD7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1AB4-A94A-46CD-9480-652F87570C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F860-0247-41FE-9858-9E57A68B6A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959B-E626-4E10-91DA-05D7E5E23D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9EB8-0AAC-41BC-8381-DA5AACB905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8E69-217F-41FE-AF84-A50645EEF8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3B22-0DDD-4374-85EE-D865B32CD0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577-7755-42A0-A253-947BD34784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AC0-784D-4CC3-B21F-691CAF5094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CCF-436F-40D4-93F3-23F0C14E7F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123-D34E-4699-9690-317F8B399D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902-9BF9-4987-B950-E9DA934556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5CF-C472-43A9-B6EF-5828DDCC88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7DB-EA81-4AD4-8682-52022C7144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02B-E8FF-4004-96B7-661EEEECAC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9AC-7463-4201-B7E7-3F24BC0BD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99F-82AA-4526-9A51-2B0349BAF2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68E-7F62-4C17-80AB-2D12D80067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EFE-D6E2-4C4E-AB1D-0A66645B83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B65E7-9645-4501-BE03-1CE2828398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DA7C-806F-46F2-A44E-A8068D9E80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1BFB2-8802-45A7-98E1-71B5110787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A0EF-E456-42DB-9C94-13F45A16FD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8A68-68AA-43BD-8C15-C75E93052F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A6C03-C4F4-4A8A-A2DE-437C47DDC7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D8970-4953-467C-9DBF-018FFA5E2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55799-6A32-4E26-B23C-40B47CA323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32CDA-BF11-44B9-B6DA-65063526BC9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7D9A4-5940-4DC5-8078-7D1F68B846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7FC8-E95D-494F-9782-F94967CD1D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3FDBC-7596-4A3D-BF65-BBB2041156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248A4-5A8F-4892-B8C2-9CD6EB1CEC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5203-C16B-40E8-869C-9EDB9D93DB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B001E-A4FF-49A7-88BF-C344B4E280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CE758-81B1-44E4-98EC-FEDB949FE1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9800F-554E-4B29-BBDF-C72E3F525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3DD0C-D4B1-40D1-BFE1-07D08F754D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3AAFD-4115-4196-AA82-17B3C99A34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8B0E7-A201-4853-A366-9069D5A4F8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55D48-65E0-4A02-B386-601AF91995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DEE1F-7201-4395-B7C2-27DD5BCCDE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6FF3B-865B-42B2-9F73-D606934FD1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39913-950A-451F-AD92-2ADE8F07F9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B1CE-21B0-49C1-BE6B-EC7788D118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55E-1041-405B-ADAB-13569E6FCE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E1F0-CAFA-41ED-A5AA-C99FA88BE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FBAC-21E2-4AE6-8D61-06FBB00DE7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D8A-3A5E-4860-8050-8F2EC2AB391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14D1-F2A3-4ACF-A903-33305402DD5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155-E1FA-49C3-8BC4-CAAF756FA63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E7D1-2880-44E1-8E4D-AB5E931BBD3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0F2-62F4-4C39-A613-EFCA339AFDC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007-F0E4-4B24-9CE5-627A1D14435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F6AB-E2C0-4AA0-BC8B-84917721858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597-F0E5-40A8-A2E9-5F708488B59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277-3598-479C-BB31-3F120A59D7F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39D-457D-4B62-930A-C5D73EC77A3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2D9-5DEE-409C-894C-BBBF3F0038B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FE05-7AC2-4DA3-A17F-E5A7DF76F80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996D-8943-48ED-8D82-C85B2DA96F2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4A6-E827-42BB-8C21-0C3C47C804B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228-A072-42F3-A187-54B51FC58E2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E26-634C-40BA-BF04-7025609161F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285F-C2BF-4923-8D83-D1D1425DBD9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733E-3D29-4919-BEF1-053F4719DD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A65-1FFE-4E40-A4D7-97F16C3E0C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E33D-9ED6-4276-81C7-0CBE084E7DE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7C59-115C-42C1-AD7D-FC723FD48BC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244-387A-4EB2-8E46-D23D37C9DF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B14-88AB-4683-8616-B3DCE10DB24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50652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328680" y="1346040"/>
            <a:ext cx="79088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417600" y="1413000"/>
            <a:ext cx="76104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27120" y="1847880"/>
            <a:ext cx="7756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711360" y="1631880"/>
            <a:ext cx="74548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098720" y="1562040"/>
            <a:ext cx="577044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Septiembre -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143080" y="217656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446120" y="1557360"/>
            <a:ext cx="6443640" cy="2158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92120" y="3860640"/>
            <a:ext cx="634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19080" y="1442880"/>
            <a:ext cx="730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805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700360" y="3083040"/>
            <a:ext cx="6119640" cy="207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952720" y="345960"/>
            <a:ext cx="5940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7365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10780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639800" y="1833480"/>
            <a:ext cx="66200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204920" y="1647720"/>
            <a:ext cx="7039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268200" y="2205000"/>
            <a:ext cx="8480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12-21T21:53:20Z</cp:lastPrinted>
  <dcterms:modified xsi:type="dcterms:W3CDTF">2015-12-24T17:59:46Z</dcterms:modified>
  <cp:revision>206</cp:revision>
  <dc:subject/>
  <dc:title>Diapositiva 1</dc:title>
</cp:coreProperties>
</file>