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134-B598-4EE1-8B32-98D74FFB14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2FB2-E74F-4353-BC1B-EFFCB67194B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239E-6E92-4C6A-8AD5-BBFD5FFB825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142-CE91-4706-81D9-3CC728610DB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CF01-93FC-437D-BEB8-0480CAFF886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DABB-FB4C-4070-B434-D6ACE313DB1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7ACE-E488-46B7-9C24-B178D8D0D6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5551-9737-4963-A584-95F062B1D9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F6C4-A9C4-4C96-8C26-BDAA3F81CF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498B-213D-4636-AE68-4C81C9E50E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6320-29CA-4232-9DDC-198E57AE92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0D34-73B4-4FC1-AF8E-4428E20B53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C5F5-B8E8-4992-8A4C-EBB03ACB54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9712-9E90-4C4E-A3E6-063C1C28F1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3588-3DB2-43CA-A5A2-6E6A07EC52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59CEC-4B17-484F-8C6F-797398261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B29DF-8954-42C4-91B9-5FB7DEE18F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308AF-E9F9-40F6-A2D5-DBB2851438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D118D-AC77-4516-AA5E-44154EAF8F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B45A1-E239-45A5-B0CF-F6A3540B6D6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94C6D-46E5-4A4A-B8A9-3A18E4C71E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87118-C76D-4C48-9E86-EF356A5F3BF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EAB68-C2AD-410F-9D71-73EA641929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8915D-43C6-4ADF-A71E-375293BD66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61C0B-D220-4F0D-A416-E943BBCA8F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D7625-E5B4-4915-98AD-628763CE2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9761D-9522-4B44-A153-DCA4DBDDBD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AB798-7E78-48F6-BEC2-E07597B513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21307-D6E5-473D-9E83-8B06A2A35F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DFD53-A9FD-4872-AE94-711AA7BB13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A742D-BEBC-4042-A031-9AB9DFD481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A00E0-7FA6-4359-89B9-DA27AAE006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5A5E5-23CD-4B81-B614-57AA234603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659EF-80D1-43F4-AC12-5AD89E1A1E8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2080E-2B1F-4818-BDE9-DF5293BF14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090DD-7AA6-448E-A3F5-27E8DB3AC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3F7E-866B-4617-BEA8-FDA97F7697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3EF2D-BABA-4935-8B1A-A69153A7596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86624-4EF5-4DD4-B9D1-9D91542483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F4EB9-B257-4945-9F5A-02984134954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E5B2-10DA-4AF9-8766-71BC31B539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63BB-3130-4950-9D5C-68D7C15EF28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CCA7-CEF9-4AFA-8BE4-0E973DFC48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1D1D-F092-479A-B33D-7B85926733C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DAFE-2067-4372-817B-A57BC8F8AF6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AE46-0ED2-4059-8215-2BED67763E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A6AF-39ED-4ADF-B57F-C24088E618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7B73-2DE9-4FAE-A51B-35BC2E71DC3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04FB-7271-430C-8639-9D7B7A5E19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A8B5-7FB8-4FF5-8B8F-19DF56094C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3A80-0762-49E1-BFF8-5C35901DEAB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C977-8F48-4938-BCC1-7BE8DE02CF2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084A-D0B1-47DF-8DD3-39C6C5E88E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020C7-6437-4B13-8ED9-3C3EF4222A9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AE5B5-7AA3-4548-BA6F-D178C751DC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E5670-B723-4251-8085-8DD3DF15D54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26C3E-9260-4920-B1EA-16ADFAF125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6164A-B04F-423D-B0C7-8F144811FC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8DDA-9985-492A-BF41-3134EAE4A1F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5F0E9-0AD3-4906-83F5-510B5FBA50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B0492-DA60-4432-9F90-9B4CE127383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243EC-BA0B-42C9-A1F3-A6FECCB8C26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376CF-DF21-4A6D-9CEE-31D0273CC6F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11B1B-8983-4974-9E46-D4DC9CE447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61218-4BB8-4608-A0FB-3C1006F3CAD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AD398-DAE6-409D-A8B3-FA5F4D584C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92B6E-C6E8-417C-A8DD-556FB11B5C5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0C7B5-FEAB-49A6-95DA-29C8FBC355D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1C7CF-1BCB-4AC6-B39A-1475405DCA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0226-2D54-4DED-8F87-74B9BB7B138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C55D3-8465-41AE-918B-F588EF83305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719F5-FDA5-4195-A7D0-C8C4314F8BA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E32C0-9662-4422-9504-717680FF7C5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E1091-0922-4F92-B990-0AC059E4D85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898D9-BC3A-4C6E-842F-8A1B5268F64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72F19-07B1-4739-A88D-8C7F0A5D08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4DF83-C482-4759-ADAE-1CA5CE97C73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50592-214F-4396-9DE1-79F56BA640B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EE114-A4B2-4115-A57A-1558BB3F403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11F6-B13E-4EB7-A986-7481F353F3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AD87-8505-44F5-9695-9EFB96FF234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00C8-E13B-4D14-A741-00A442794DB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A6F2-174D-4959-95ED-EFB9065A4A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A70B-027E-4838-9706-2AAAAAE2938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0AA7C-AA5E-4CCB-AF68-26F124CC672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3041-4304-48A5-BB59-50DC375068F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3B3C-2FD8-420C-969F-367CC2C89FD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3256-1610-4D5F-BCBE-2F9EEC71240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78B2-5237-4824-88C3-E6A3CFE2C00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FDAD-2AE5-4D0D-BDD6-CF7FB2AF156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08C7-A032-4EEA-8B0E-6D7CE7A721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DECE-945C-40FC-8193-961C1E66DB2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69FB-5E39-4B4F-8AB5-43F07745444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D2200-3D94-4264-87EF-96885D70F81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F3D11D-8BF2-4CA3-BCBB-983991AEA75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C8AC3-4744-449F-B32E-91905969CF7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988D4-5135-457B-91BB-EE7D083B7DF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6C092C-F908-4109-ADFD-A38694099EC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0C85DF-D1C3-41BF-A4BF-2A9795C279D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DB0C4-75E7-4F95-A06C-01CB1A019C0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6300C6-E8F7-4ACD-85CA-DD065E819BC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77B1C1-F639-4ABB-AE41-DAD7B804BA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D8AE-AE5A-42AD-AE44-E4C9C0D546E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57F58-444E-4915-A047-634344B7526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BFA4EE-5622-44BF-8248-AAD8E349538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08A60-B7B2-4CA2-B832-4A676775F07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66174-9090-45BF-85C0-8F461B5F815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FF79B-91CA-46DB-B15D-78BA9571806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85206-CE4C-4AF2-A5C9-18C64E4065C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B03AD-6BC2-471F-9EFA-8A20B3F319C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8273C-8E36-44D9-AF70-66505AE214A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36EC4-75A7-4CBA-AC96-8CD6925FBCA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1394D-B962-45DE-A015-E452E4EDA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E4A3-5ABF-430F-85EC-B26E659C471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42A16-D9D9-4A46-97DB-89D81C3C786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720D7-5556-4BF7-9B1D-FE9838483B1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E25D5-BD25-466C-A6A2-9FA2B52718B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2FAA2-49D0-4F00-B774-5B7CEB8271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0E3FB-12A1-4581-B781-56E12457499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B43D-67F9-4601-9B3F-E85D959AA05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4945-2F61-473F-AC2D-A35D22B7106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15A5-C00D-46F5-B952-FE87DD2FD7F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2D25-86B4-459C-8906-9F3EA223635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4C63A-B4B6-487F-90CC-3D3F3F1DD2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1B56-9B45-4B8F-89B6-AFDC7269018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B68B-28D5-4612-9D32-BA111DF1C19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C4B3-E225-4B89-8B57-D52C49A75FA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8B35-7C60-4717-BA29-66D40FD4FC1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7A01-34C4-40B4-BE11-CEFEBF4859F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BFC7-A42F-408A-AB99-B367B22EFE1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9AA4-2839-44C6-8C95-55C98C05D3C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8E2EC-E0FD-484F-86C7-801822A82E6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E030D-7E56-4ADD-AF6C-53AC9E4203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D2277-F5D5-4B24-97FF-BEF247CD6DF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500D7-4B9D-436E-8C2F-6F9ED2FD9C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5320-754E-43B9-872E-2C737914BB8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682B3-14DC-4D81-A6ED-64A7265952D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8D4B6-7D64-4AB5-A531-0F59F4D2807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D756AE-66A8-44DB-9967-1DFD7608446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7BAA4-465D-4B9E-8C32-109C8DFB8E2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EC4F7C-973B-42A8-AB5D-3DCBD478CCB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77E7D3-35F0-46ED-9353-BD51B83BE47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3B8A9-9CFC-44D3-8D03-8C5FED76188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B433A-A67E-4980-B389-DCE89858EBB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A1987-882C-43F8-BCB9-727069017BC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7DAF3-11B3-4A2E-8179-94A8F9B32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230F-8364-4F5A-ACC4-15CBC612C5D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84094-7922-438D-97A6-438807B26AB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F3DE7-E4A6-4F75-9310-327DFEAD28D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F4913-2B5D-408D-934C-D644466D9E7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F3FD4-0BB2-4D36-B177-17392EF222F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E9D4A-0267-46E6-9C11-763FF3937CC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B5F1D-E838-45DF-B577-992DAF7C720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EF5EE-3CCB-40FB-821C-2E0CD3EA6FC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B64A6-4516-4B8E-A38B-C0F93761FF3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61523-19FE-43FD-AECC-1BFFF01A609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54827-8825-474E-B405-9EF960893C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C465-3CF5-42D7-B208-4DD19A5388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06C81-447C-427F-B6C4-DB22498BDA8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9303-ABCD-443B-9938-2792238ABA9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8299-7D9A-44C7-9385-A9F9971DDD6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3A09-F181-4BD3-AB18-4A51387EC05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B0C9-1EC0-4B6E-9201-C2E29554BC3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3ABA-8754-4970-A24B-09DF8B71BA5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15327-7433-4CF4-92AE-DD4E107480B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5DB8-4A90-4D2E-964F-1D138D538BB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2639-D573-4285-A2FE-19F76123D00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BCCE-5F90-4845-AA6B-E00EB7A34B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69E1-18BD-417E-8D59-7D6830898D0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4BE0A-9C2F-4688-A8D7-0BDD1493BE9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D6C8-C997-4474-8049-287852CDEA5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AA19B-1E01-4DCB-A745-76CA0889161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1BDA07-91A4-4BA7-8AA4-03C47A35871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6308B9-80B8-41A5-A48A-670F5062B3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99A9BB-893A-4437-8297-6F86FD0B59E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704FFD-116E-45D1-9E28-C14729950A8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3F36F-C790-4FB8-947C-B14CCA2CC3C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1A7AC-81C8-4863-B6E2-85593FB1570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5A5292-8486-4D2A-B608-CF1F2FAC09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6C3E-3D41-4D92-823E-F629794094D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9F544-A2E8-4363-B085-ACB2857BEC3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D733F-BFBE-4B01-9D0D-B0D7946D0A9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4506F-4B92-40BB-A024-910877F3205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72070-59EB-4C0B-8332-AFB8286A005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D7F76B-A850-43CF-9B70-01F9F29C047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0149C-04E9-471B-BEB0-D3DDC6FAC8E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EF177-7A31-4D55-B2DD-FFDC600CA1D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EDC17-F8DB-45A0-9623-8023C18D45A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3D666-D280-4B47-9EA6-8F8C6FE79E5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D343B-707B-43A1-A3D8-916B8C0A60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E100-9163-4DCE-BA64-B21FF7B2F46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95AA9-CC13-42FF-8B9F-F9B21286E1D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4F992-30D1-4B46-B4C7-2CF836D1D48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02A49-FA38-42D5-8FA0-05CAF76650A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32F08-078C-4D65-9B02-C5ED4FA4A3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E2760-3C37-4114-B166-3859DC0E0C8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40495-FAA3-406D-BF80-3B8071F95AD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72C0B-95A1-45B4-BDA4-8D5AA64B7AB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C5B08-E85A-4CFA-B027-0F179CC0F85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1E9DD-BC3C-409C-BB7F-07674F9AEB1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4CB64-A173-4CC3-BE42-AB71D9158C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1F8A-6CB2-4B88-8796-AB271D1FCE1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1B9C-1695-4068-86FF-40DB9F30606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901E-4EC1-4AE4-9485-5A5C835E15B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6F7C-4826-4240-BEF6-BC663B1CC70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48ED-4A88-452A-A0DB-0494EDFD73E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7B8E-A944-48D4-B965-1276203C218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41C1C-A784-4FC4-AC0F-9D81F5741C2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DBA9-8CEA-43BF-A79B-01C5CEAA1AD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C4DA-0D09-47F0-80F2-B6621C6894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EEE0-9BE4-4985-91FC-F6EE6D3857C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EADBC-2E0D-47CE-8CE4-0704BD2550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9004-ADB0-413C-9BF8-A3E52DBD7FA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659F5-26CD-486F-BEB1-786FEE84D96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656B1-D6DE-46BC-B5E7-58DBD495879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9A53CC-6A61-49DE-BF74-331FBF1036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40088E-BB53-4D71-9CA6-F1C36B5204E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32036-F484-4A78-A58A-EBB13297554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8BE3E-D05F-4B39-844C-613FCBCAFBF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B7E849-1A23-47A3-A09E-6EE21EE66DD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67FEC4-1ADB-4DC2-B9D0-AEA46F3D92D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9E9962-7631-48DB-82F2-E318321057E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7165D-DE22-43A4-A6FE-4B51E87B1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2474-9887-41B5-AB39-1ADC7A7AC73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C39921-921A-4193-9CB0-4E20871B11A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6DB7B5-DF86-4888-B96C-67F431A833E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B687C-1245-40E8-82E4-5D30D3265FC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6CE82-2853-4E96-AA8A-021CBE87846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B43289-3943-4309-850C-224C1852A33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31E5E3-B29E-45CA-85BF-6248950A690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46195-C70B-45D4-994F-9965C8AFB11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EB49D-544B-4BDC-AEE4-5CC1648874E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7F087-A606-411E-9AA3-DB431C41D44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68820-1061-4A70-9504-2030CA94D4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A586-1243-4B3D-AFC3-EB7CCB83BD5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2C5AD-85FD-49E2-87F5-5EB014899D6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503EE7-26A0-4459-8939-1B054049351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CB01C-61BE-408B-8805-4EEAE6AB87A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AB88-F011-4D92-A1EA-D254F98125A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54F7-B11F-4337-B5BD-681BE80A854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EEAC-B215-4674-A4D9-A14F7DDF518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582A-6E30-4898-A76C-41525BEE5D9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3E09F-8B64-4420-BFC4-E2B3F4BB5E3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1A33C-9CAC-4082-B789-A81F07E169C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BE917-9DA0-4A39-AA7F-7388AD441C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DC6B-26AC-442A-A0B7-37AE833708D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7BA1E-9AA2-4A7B-B816-A2BF198C01A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668D-F56B-4027-A169-4F6D34BEAD0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4C11-BB8F-491E-9FB9-16983B366D3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8628-06B7-407F-8D5F-F4726CB3F8B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0F191-CD93-4C93-AC60-A2EF2A62375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551D-0765-4728-B1DA-F2BA17C7FF2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FBD4-73B2-4902-81DF-9B24B8A444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98AA-DB0F-4AA1-9019-20F5B568BB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E6AC-ACFD-45B6-8BFB-A599749062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B21-0C11-4EFF-A44D-F6F53D309D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F92-F9F1-49EF-887D-139E94CED0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0B3-4349-4D9C-91D3-22D6B08034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B19-9A22-4BFE-83E3-DDCA497386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7B1-0BAA-4E90-BAB7-4F219C102A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A12-E131-4E7D-8309-C74BBD5F6D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DD8-4F68-4000-A0E2-6A2BAE9FE3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15E-1151-4057-8677-13012EDEA8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39F-4FD9-489F-9DCC-C0967CC6A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CAC-3813-46D9-B0A5-93A96E3212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77C-3BC6-47CA-B0EE-BBDBCC2394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9D0-8E6B-4AB5-98CC-C8B4DCEABC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F5D02-639D-43F1-B4F5-A03D1421B0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60B26-E5A2-4B59-9B5B-D68205C5CF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0B31A-AD15-490B-93EB-928FDD9555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0FEB6-E46A-4E27-BBA3-36F6147EA7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FA916-8215-4D23-8F9F-085ADA57BE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1B43F-EB38-43A9-9DCA-E45CA62301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7509-DE8C-453B-9067-41BE58FDB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39853-DBD1-4D68-B38A-353611E729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B0A48-F185-4EDE-8DD6-693871F12D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5FE4F-C8B0-4060-9E2C-2E790EC4B9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662C8-99F5-4527-89E1-CA458DDC8C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A03AA-8F53-425C-9721-6B2B0DEB42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601D1-7DF5-4C00-AAE1-B840D5C26D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1AFE1-B36D-45AF-BCAE-5A7E4A3484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726E-F7B7-4E80-86ED-942163EC82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0F3A3-97B1-4C13-ADD4-7B889C8B0C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1753B-E1BB-469F-8233-DD38E1727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FD81C-F88E-4989-BC5E-7192A2FFFA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96F7-D82F-4028-8835-F1D07B9C29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35AE-15C6-4DB1-99C2-9DE09E0F94E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319C-5FD7-4EC8-A91E-562E4E99A4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282F0-79D4-43DB-8703-12A9E9DF278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22451-74CB-4CBB-9873-AAEBF9E1C6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A8D8-7FD4-4F01-88E2-ADC5CC31A8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D10E-08DE-41F0-8FEF-5669E88382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78D5-7E9F-4E41-93C0-6D63972B31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BA02-3B6B-49FB-AE57-F000E59F9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4CC-77A8-4496-AA19-EF6FEF265A3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CDB-FC37-4BF3-9EEE-F2FC320B9DF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C71-61D4-4196-9746-1C2100EEDF3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7E5-E5F7-4738-B988-9071D70C633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AEC-3D8D-4AA2-9A5D-D78D91E0568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822-67CC-43AF-AE98-55791D12F7D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F7C-BC18-49A8-B059-7AE2A348A60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73C-6E1F-4BB8-BC73-63EEEC678B0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DE7C-7965-4B21-B6AA-1A77C86B91E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CD8-1A7E-49D4-8E75-943F63381D8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7E6-DB1E-48BA-A645-7A2B0CECBD5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FF7-3BF5-4A1B-82D1-FB23C2531DB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C1F-1232-4530-9812-80D96AF1396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063-E97F-4D18-B7EC-7EB365F5420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2D94-AD91-4AE5-917B-E6628FA9587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9F53-8C23-4D04-B74D-45D186E2838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E73C-FEF9-4BDE-8752-21AA8AF7B4C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D160-2C6F-4EE9-8098-B78FE2B0AED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366C-4625-4A60-AF56-FB436D8488B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E95-E772-415F-9935-4B968BE72EF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5DFA-8B8B-4CCA-8E13-D4EA07C2164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BB79-01E0-42E4-B14A-A29A554D25E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EB7A-9072-4935-933F-5DA2E343392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6C53-F785-4A98-8B5C-54113C5450F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Rioha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3"/>
          <p:cNvSpPr/>
          <p:nvPr/>
        </p:nvSpPr>
        <p:spPr>
          <a:xfrm>
            <a:off x="1258920" y="5205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108000" y="52293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1 Imagen" descr=""/>
          <p:cNvPicPr/>
          <p:nvPr/>
        </p:nvPicPr>
        <p:blipFill>
          <a:blip r:embed="rId1"/>
          <a:stretch/>
        </p:blipFill>
        <p:spPr>
          <a:xfrm>
            <a:off x="1254240" y="1557360"/>
            <a:ext cx="73832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1152360" y="3301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4680" y="537372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1 Imagen" descr=""/>
          <p:cNvPicPr/>
          <p:nvPr/>
        </p:nvPicPr>
        <p:blipFill>
          <a:blip r:embed="rId1"/>
          <a:stretch/>
        </p:blipFill>
        <p:spPr>
          <a:xfrm>
            <a:off x="579600" y="1306440"/>
            <a:ext cx="76262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2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1000080" y="498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517680" y="5445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7 CuadroTexto"/>
          <p:cNvSpPr/>
          <p:nvPr/>
        </p:nvSpPr>
        <p:spPr>
          <a:xfrm>
            <a:off x="11206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1 Imagen" descr=""/>
          <p:cNvPicPr/>
          <p:nvPr/>
        </p:nvPicPr>
        <p:blipFill>
          <a:blip r:embed="rId1"/>
          <a:stretch/>
        </p:blipFill>
        <p:spPr>
          <a:xfrm>
            <a:off x="473040" y="1557360"/>
            <a:ext cx="780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1403280" y="476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250920" y="5300640"/>
            <a:ext cx="86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7 CuadroTexto"/>
          <p:cNvSpPr/>
          <p:nvPr/>
        </p:nvSpPr>
        <p:spPr>
          <a:xfrm>
            <a:off x="127764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1 Imagen" descr=""/>
          <p:cNvPicPr/>
          <p:nvPr/>
        </p:nvPicPr>
        <p:blipFill>
          <a:blip r:embed="rId1"/>
          <a:stretch/>
        </p:blipFill>
        <p:spPr>
          <a:xfrm>
            <a:off x="1552680" y="1413000"/>
            <a:ext cx="6060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8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809640" y="52056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inactiva, 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6 CuadroTexto"/>
          <p:cNvSpPr/>
          <p:nvPr/>
        </p:nvSpPr>
        <p:spPr>
          <a:xfrm>
            <a:off x="324000" y="5438880"/>
            <a:ext cx="84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7 CuadroTexto"/>
          <p:cNvSpPr/>
          <p:nvPr/>
        </p:nvSpPr>
        <p:spPr>
          <a:xfrm>
            <a:off x="112212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1820880" y="1484280"/>
            <a:ext cx="55022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5 CuadroTexto"/>
          <p:cNvSpPr/>
          <p:nvPr/>
        </p:nvSpPr>
        <p:spPr>
          <a:xfrm>
            <a:off x="47448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 Box 3"/>
          <p:cNvSpPr/>
          <p:nvPr/>
        </p:nvSpPr>
        <p:spPr>
          <a:xfrm>
            <a:off x="1353960" y="476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7" name="1 Imagen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05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1620720" y="1557360"/>
            <a:ext cx="5977080" cy="194292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554120" y="3789360"/>
            <a:ext cx="6140520" cy="1881360"/>
          </a:xfrm>
          <a:prstGeom prst="rect">
            <a:avLst/>
          </a:prstGeom>
          <a:ln w="0">
            <a:noFill/>
          </a:ln>
        </p:spPr>
      </p:pic>
      <p:sp>
        <p:nvSpPr>
          <p:cNvPr id="1330" name="3 CuadroTexto"/>
          <p:cNvSpPr/>
          <p:nvPr/>
        </p:nvSpPr>
        <p:spPr>
          <a:xfrm>
            <a:off x="990360" y="33336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Arial"/>
              </a:rPr>
              <a:t>Rioha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1 CuadroTexto"/>
          <p:cNvSpPr/>
          <p:nvPr/>
        </p:nvSpPr>
        <p:spPr>
          <a:xfrm>
            <a:off x="1258920" y="33336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Guajir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4 CuadroTexto"/>
          <p:cNvSpPr/>
          <p:nvPr/>
        </p:nvSpPr>
        <p:spPr>
          <a:xfrm>
            <a:off x="1408680" y="5627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3" name="1 Imagen" descr=""/>
          <p:cNvPicPr/>
          <p:nvPr/>
        </p:nvPicPr>
        <p:blipFill>
          <a:blip r:embed="rId1"/>
          <a:stretch/>
        </p:blipFill>
        <p:spPr>
          <a:xfrm>
            <a:off x="1062000" y="1557360"/>
            <a:ext cx="7039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iohacha 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Arial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73120" y="2421000"/>
            <a:ext cx="8048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916360" y="58831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36360" y="2666880"/>
            <a:ext cx="29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771640" y="1870200"/>
            <a:ext cx="597708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Rectángulo"/>
          <p:cNvSpPr/>
          <p:nvPr/>
        </p:nvSpPr>
        <p:spPr>
          <a:xfrm>
            <a:off x="295272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828880" y="345960"/>
            <a:ext cx="6148440" cy="5373720"/>
          </a:xfrm>
          <a:prstGeom prst="rect">
            <a:avLst/>
          </a:prstGeom>
          <a:ln w="0">
            <a:noFill/>
          </a:ln>
        </p:spPr>
      </p:pic>
      <p:sp>
        <p:nvSpPr>
          <p:cNvPr id="1270" name="6 CuadroTexto"/>
          <p:cNvSpPr/>
          <p:nvPr/>
        </p:nvSpPr>
        <p:spPr>
          <a:xfrm>
            <a:off x="406440" y="5267160"/>
            <a:ext cx="2249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5072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1460520" y="1854360"/>
            <a:ext cx="6975360" cy="4000320"/>
          </a:xfrm>
          <a:prstGeom prst="rect">
            <a:avLst/>
          </a:prstGeom>
          <a:ln w="0">
            <a:noFill/>
          </a:ln>
        </p:spPr>
      </p:pic>
      <p:sp>
        <p:nvSpPr>
          <p:cNvPr id="1275" name="5 CuadroTexto"/>
          <p:cNvSpPr/>
          <p:nvPr/>
        </p:nvSpPr>
        <p:spPr>
          <a:xfrm>
            <a:off x="635760" y="5635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333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Rioha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76176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258920" y="1414440"/>
            <a:ext cx="72169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"/>
          <p:cNvSpPr/>
          <p:nvPr/>
        </p:nvSpPr>
        <p:spPr>
          <a:xfrm>
            <a:off x="880920" y="814320"/>
            <a:ext cx="7382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(2014 – 2015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1 Imagen" descr=""/>
          <p:cNvPicPr/>
          <p:nvPr/>
        </p:nvPicPr>
        <p:blipFill>
          <a:blip r:embed="rId1"/>
          <a:stretch/>
        </p:blipFill>
        <p:spPr>
          <a:xfrm>
            <a:off x="266760" y="2421000"/>
            <a:ext cx="8612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5-03-09T16:54:00Z</cp:lastPrinted>
  <dcterms:modified xsi:type="dcterms:W3CDTF">2015-12-24T16:38:13Z</dcterms:modified>
  <cp:revision>199</cp:revision>
  <dc:subject/>
  <dc:title>Diapositiva 1</dc:title>
</cp:coreProperties>
</file>