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CB4-2A62-4F6E-AFF9-1F58AB21F9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0074-77C0-486C-A0CC-53034D5DBDB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288-0958-49EF-AE48-DF54D1DE3E7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3406-B0F7-47DA-89DA-6D48450715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8170-8B6C-4430-A232-F722CFF395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21C3-EB06-4406-937F-DB446FC8BD6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C928-A58B-4C04-B4DE-5B3EA8B8F9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0492-280B-42D5-BF10-CD18B4E89A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22FA-7012-427E-9E80-EED88739AB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D94-1FE6-4C30-9E89-091F1546CC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8230-32AA-4CC3-A33B-E1222A44ED2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522A-E9E3-4FF7-B075-2E210621EB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B305-BA5D-41DA-851F-7E3643C263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9FAB3-8944-4586-A1B5-AE3BC4AC1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CCED8-0429-4D4E-9F18-A67681E3537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C31A6-FC21-4849-B5D4-4431B513C86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389C7-F47A-44FD-86A4-E233B5D0F55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AA1B5-B045-439A-A974-EFFF5DC3D7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D0BAC-A9E2-4FFF-9C85-8212E72380B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73ED6-B220-4901-87A2-683CBEC02DE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79A4AC-0411-40CA-914B-850DDCC84D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DE16D-31EF-4213-B44E-356B2E8F1C5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3DBBE-BB63-4D5B-B935-BC5EC811D5E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33B1B-71B8-421F-8C56-FECFCB251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CE94A-2A8A-4475-B998-D1BD47EFC3E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D874F-A608-4A59-9C2D-2362F2C5EF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B4846-F947-48E3-A9CB-28FBCAA89A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E3287-4946-4D5D-8C94-0E3880569B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A8465-2973-4B08-9DFE-706A5D5EC9E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A98CF-CCAE-43C2-A952-7EA7B43CD6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E6B4F-81C1-4DAC-A2E0-6907118B36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E606F-D33E-41DD-BC2B-4C73525008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433DF-0BBA-4B19-BECB-FA9261FF20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C2356-8462-46AD-98B0-D09EA66A4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FFC1-B7C6-462F-B157-E7FDB1F7D0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90D36-CCBE-4C48-89B1-994B91EED4C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6694D-E723-43EF-B1C1-1D377160CF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57E91-38E8-49A5-8280-2D3386E80A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669E-F4D8-4C66-97BC-9A27AFB55A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2F5F-CD9C-4806-8CA0-322AB7D48EA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0BDB-CBE8-425A-837D-B59EE4C086C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339C-50FB-40B1-BBA4-AF46FBB6BA7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CC1D-C30C-4262-92C7-40F3E8ED17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7BBD-4D7E-49E3-B22A-DE9CA73DB9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B7A5-DBC5-49C2-8E3E-F3DE8F1BDE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CD57-7858-40FD-8210-5968BA6817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52A9-CD5D-4C58-82CA-194C89D9D3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E5309-D205-4169-BEA8-89CB8F14909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BB9C-4C85-4EEB-A728-67D04BCD74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AA026-478B-4014-9E9F-9DE6764590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B77D-967C-4ECA-9F44-75EE59AF00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1EA06-98A6-4C93-948D-DCF68F4F316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0E1E5-63F6-4A4F-8613-C9A1BEADA58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644C3-3584-4AD0-B565-60502D20CB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51F6C-C8BB-4EA0-913B-25A96501865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0EAF7-DA5F-43D1-A02C-AD93A85224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1F77-8A76-4172-A120-86D2FC862DA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4CC2A-8D92-402E-827E-8677354EDD4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3FF6C-E259-4102-B767-5680B82DB6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9BAA7-71E5-46FE-80A2-D9ACCEDAC88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8F1DB-2C13-46E8-A5B8-699443F43CD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8D159-7082-4783-BB9F-B7316154944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280EA-57BF-4287-B3C3-7F153F63278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4DA0E-7CB3-4ECF-8D40-EE668082E0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E0557-DA3F-48DE-A526-934B82EE6BE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56CB4-01C7-461C-9B12-724B1582FC1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B7673-A0E6-4B06-A0AA-CEF346A194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4BEA-EDFC-4362-B659-25139767284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135AA-3A18-407D-9DA0-843AE1236D7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A2290-F4D9-4321-BF72-61B3AFF574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E6CDD-864C-4E8B-AC39-DB25E45F555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8F354-E116-4253-9C86-B1E9A305F01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15CCF-C7DF-48BD-B630-A5C13646323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C6B18-2098-4877-818C-FEF662ABEA5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94727-0367-4885-88C5-9B531BDA7F5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10D1B-E025-4591-A087-89F2294BE1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EBC45-7AB3-478E-A4BC-FA621C61794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4F59-31AB-4F9E-A5EA-049CD86F24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3287-D358-41E5-98A4-5572B2C9C96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05B3-E06B-4CD6-BE98-1EF1A5199D4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909E-97A8-49FC-B84F-D4C1C03D557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08C9-76E9-4DC9-B175-62A8C3F19C4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9C8D-026B-45C9-934F-F286D2973EA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BBE4-4277-453F-B8AF-5882605E647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842A-E59C-44D9-B439-487F335E362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F99D-7E08-426F-9F71-D122EB9B9C0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6665-68C6-4382-8588-1C15D123527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0B66-F5F0-4CE1-96A7-1EEC1736530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8166-687F-44FC-9507-6FA7EFE0D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355D-03C7-4D18-B8BE-D5AB7641848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37FD-35EB-493E-863F-11ED1A26D0A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8D799-D9FC-4071-B5F4-19C6E5C31CB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BE1BB-A105-4FE8-8AD4-8E5CE443D7F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A9B34-B03E-412B-847C-B2957F60FF3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430201-980E-49B9-AD4D-02282127A27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ACC3B-233C-46E2-906A-09D8C0CA1B3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64299-D1E9-49CD-B533-0F82EA259C1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A2B0E-87BC-4296-90F9-36BF126123A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38BE2-059E-442D-ACDE-C8898338F9B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EDBEF-2E28-4FFA-9E9E-16245F0B3A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7171-0A90-4640-ADC0-EACA10B3A77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72886-063B-45F2-B6AF-B85AF01A1A3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02A82-EB07-49EF-BB7D-38DB77D222D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A45DBD-9C44-4852-80EB-4F0C16FC41A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38C0D-3E3E-4A9D-8ED7-F80884184B4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BE53C-A04B-4D2A-980C-3B523DA565D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C1381-FA8B-4F9E-8EDE-25A86C7CCC3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DCE7D-432E-4062-9505-04CAF4D3EFE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522D0-13DD-4308-88F5-7191631F987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0F822-762D-46A6-A53C-C5CB21B1E80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526B2-B6DB-4B53-BFB8-052A92066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D297-BCBC-49A8-BB8D-244D39CF95E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81B14-3FB7-4AF8-BC31-D1D105C0857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A4EE7-AB38-4F5D-AD7E-B7FABA11700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A6AB0-FFB6-4FB7-8B90-34D1EB92298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6D01F-6CED-451C-A42A-A3357C03C62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64345-5011-446E-955F-26C91A23885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04E5-E8E1-4F13-A9B1-B7B655348FB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EA77-7F91-4B56-AEE4-61135949B5B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8A7F-52B1-4FF2-8FC1-7E4C87A9F8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A8D6-3246-4C93-91DA-07C83278D0A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CE06-5B39-4389-B2BF-98851F1DB6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AB2A-6A5C-48DE-AAFD-EB00761B4E6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8681-C08A-45ED-BF53-C287F7AFE13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220C-5D90-4C5A-A2E9-75C5979242B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5240-4D5B-4844-92FA-A12584D420C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FC5C-B808-4D5B-B32C-C6D4731DD45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6661D-6972-4586-A6EF-90D570A1971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71BD-153F-4405-A69D-3CB26930160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3975-9DA8-4A27-996D-E9504B70DE2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B24FC5-973A-4CAD-8E05-AF91B6492C8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8A29E-CC94-4E15-91C4-213720E4047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655379-FB7D-4599-A4CB-DEF64EA196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462C-4147-4981-92F9-A0CF7D9941A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0218BB-02B9-49E8-928D-73DA9E66323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3507E7-789A-45E3-9FC0-9B3ABFCB09A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CE451-7EEE-45C8-819B-87041CD5ECA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8877D2-9D00-468C-9D94-820A2D55167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EDEC41-D17A-494A-A662-DB7D06814B6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16D38B-882E-4CE5-87F8-8A3C89BC1A4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52C30B-6CD9-4980-8F5D-6D5773F85F3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1F80B-B0C5-43F2-856B-5E82C3C0212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E165F-D61D-47ED-BAA5-6715654CC6F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F52A2-6C45-411F-BEFF-3D2AA36FF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E64D-B04D-47B6-AC21-EE8C798A6CA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69DF9-6525-44C2-A01C-8E2AC4BBC69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2E1CC-DDE6-428E-BAA8-741CA471B83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967EB-77A3-4AF6-B691-3FB00A4760C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1BE49-5FBB-4BB1-9C0A-DBBEBAEB836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92030-C736-49B5-A983-2424C312034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56803-3E6C-4DAB-BA56-76F1F2CCE4E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DE0A0-9F04-4EE4-A164-67146ADAA8E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96EB7-76B0-4D1C-8FE3-97706712CE8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DEC53-6412-4E3F-8BB6-5F5A1260F80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513D9-ED59-4614-8105-158E519BF3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7F4E-4009-4E7E-A2EB-B1A40D70067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CF84C-869E-4B9A-BDDB-1F9A45A473C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120A-AA69-4B32-96B4-7EE8462CDE8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526B4-7C58-4D25-9D37-7ADDD1348B9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A162F-B319-4DA1-8674-84FB2142397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73A23-448E-4C0A-9659-6F6398980A9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CD24-CA7F-4E2D-A3C2-C93676997CD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6AE0-21B8-4E25-98E0-861DDC09B36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7CA46-D722-4607-944C-17C69F2B619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6212-309F-44D5-A636-827F4F02BC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D97A1-8F23-458E-831A-896736C9BB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5F83-EB85-44B4-A38D-6C3C41272DF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FEDE-A02F-4F31-832F-F25ED0018FF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567FB-9449-4436-ACD4-E9B462AA65B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ECB2-B090-40BE-99BF-2915E66E8D3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E0951B-673A-45FA-9BE9-7C318961881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F1E314-3BE3-4E28-88F1-6F85BC9C7BB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45D87-D050-46D7-9559-B82B35C1BE9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2D528-A9E1-43D8-B13A-F6CC1783251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83B953-1DAA-415C-8FC8-C2C403044B0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4BE68-FBFE-46E3-AA52-C450AF3E075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66D4D1-FE93-4F1D-9797-1B9868F725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0F21-1A0A-4192-973D-A967FD8EC90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2D1EB-543F-4F4B-91DC-FAEE4696415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C82C83-55DA-4636-8687-D466EFE96C5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7E0023-41B0-4029-9055-F332F263808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9A0085-21E8-4D89-A539-1E3AD4CC06A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997B6C-11A1-4594-8ABD-35B4DB3BA48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7BAB4-0E3B-4CCC-9061-92224194E37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14625-A302-44F3-A1AD-C45227C95E1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0B712-062D-4A7C-BEFB-A2DC5E36AEA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B1D1B-E170-4FE2-ABD5-BF74ED3C4DD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9245B-3E2E-45C5-BF0C-7DB015F2EA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7A0F-8118-45BD-8EC3-B04B35C2DA0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7AF09-8C15-4F67-9EE9-CF1E6510DCD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F625A-B2EF-431A-BA27-263B0EC7DD8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B657D-0691-4E3E-91E8-4D57A1A324B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08547-612F-420B-A0D9-4642DC3B6FF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631C6-9C70-430B-9A18-9832612907A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67177-46E7-446F-ABFC-75F8DBBDC99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B14BC-B273-4D88-B6D4-4616E8722CD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CB629-7926-4FCE-BD3A-E8C64D461AC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27D0-1FFD-4D3B-A1D2-629B218C5C0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D298-70D5-44DC-B2BA-A9AB9A4A03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8A8A-FB56-44D9-BF22-47D3D85CBAC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4057-2F67-49A7-9C86-860B0AC67FB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D14D-839D-4381-92E4-29612B4D6BD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AB0E3-4345-4336-8539-D24A2E232E6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7265-A87D-423B-BAD0-0845E18B8B5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1B1C5-912E-4168-85FE-3A9B4DC963E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82272-8464-4007-BC60-8FE5637435C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07A6-954F-4C90-B440-28862A408F8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A14A6-32A0-481D-96CE-74225EF41B8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E098-6094-440A-80EE-EA2A00E9FB1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2FEE59-0149-4533-9B5C-0C0B779F7B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FE9D-416B-49B3-9CC8-EB5FADA7FEA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1CCF15-5348-4C29-BAE5-21E4AA13A00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DE3E79-9925-43FC-8A7F-F5B00AA855F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160C26-910B-4596-97F1-B0A98000430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013B7-40EF-4E47-8F13-18DD7F4EB0A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6F8F0-B274-4FEF-B4B8-05053C9FB43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63ACD6-CBBC-42CB-A47C-46D7152C702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10C1C6-5901-4B52-82A0-C68AA3F5FC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A7A74-F010-4DCA-B5C8-96C0633208B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941D4C-1FC9-41ED-9A9A-34176E13E87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6FF05-0099-43F4-8651-C5B9E6B7B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4627-C399-4C37-9F9E-4566ED531F2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FC1D6F-3709-4849-A399-C692834A19F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030F7-6129-4262-A32A-993C8A621A9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EA9DA3-8E22-457C-848F-8EAB5ED53B1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5B50F-F7D5-4743-AC7A-804DD760281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E51D4-3266-433A-93F9-1CB134B607C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28CF0-7272-4119-A552-75B51925475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A7955-C3A9-43DC-86C8-F6A361F6889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1CC6B-C120-4B57-A168-989821B5EE7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0496D-5FBE-4D1E-9D10-3C27410E261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46DFC-79E2-4FED-BEFC-C72F967A9D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2985-E027-4797-861E-9099BFBDE26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373DE-7B23-4699-8FAE-10C3FB7CB4A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4015D-3CD2-4BFE-9187-539CB76C33D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C2955C-A587-4409-A363-FF4938E2559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3ADE-5CF6-4E15-A2B8-6DCF643E995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E764F-D94C-4123-A1F7-933D6C31E98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084E-C997-476A-9615-D40BA9BF8DC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7E8A-AB67-4947-BA3B-071BD5A3D4E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8083F-322F-46CB-A23E-45CC20A30C3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3415F-6641-49D3-A11F-E0BA3BBC7DF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BAE4-2ED3-4882-AC6F-AABA094F7B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96BB-9CBC-49BF-87B5-C521180D54D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1F25A-B434-499C-A644-E37C5BAB92F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A81EB-D111-44EF-BFFF-747607CD8B6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2281B-02FC-4D9C-AE2C-B1F87B63B70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4528-BD7C-4633-8EC2-83185DC6B3E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ACBE4-EBC8-4523-BED7-BBDCD2D4A02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F11C-3F15-4313-B907-CEFCF1C9395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0DE1-386A-4466-977C-C0EF870369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50B0-1861-4C77-9FA9-3DB05C5962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F7D9-D653-4FF2-8843-92363BA7AC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C8F-090B-4A26-AF40-321616A1C2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AE1-A004-42C5-A5AD-8CD94075ED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944-FF51-4630-A04B-1EB881EEC0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E3C-85EF-4B1A-B606-F9819FE7EF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791-58B0-47C0-B96E-136C253C7D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279-D647-47EA-B9C0-DDA020F917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C69-74A2-46AC-BC2D-3722780760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F31-615C-4452-8995-C8DFE8E888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FC1-C475-4AEB-81CA-628C75C3D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881-6030-40CD-ACB5-B7B7A96BA7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EC5-C45D-4987-9AAA-5263CC5B94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EC9-F94B-4781-AF7A-59FB47B09A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FD4BB-4245-49A0-B1B0-FACE044DF7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CAE4A-1293-437E-81A8-27B3FCC6F9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89721-652F-433A-8E72-05236884B5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DE0FE-30A2-41E9-A6F7-9A18BB7136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A95C5-0D39-420E-99ED-D99D789CE7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BA16A-6E87-482F-8A81-2E5048DF15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DACA1-D2B3-4DED-B96A-C7B031928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FC515-2671-450D-9DFB-E629C2EC38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3CFAC-2B7C-4092-825F-ADF624755B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31986-C778-4F53-AF25-BF4CAF2E48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ED63A-614D-4255-828B-3EF594E508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442B0-3BE6-4442-93C5-333C4D0A2A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92C36-3A8D-4CF1-BF7F-D46BC521A5D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62135-185A-40F9-8A67-086B0AA52CC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17614-952F-4C52-88CA-E2337EC33D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EEF8A-0DBD-429D-8D39-143146698C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EB9DB-F752-496D-AB2D-12D73010F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E5F8C-AF2C-437A-9B80-F627DC0FF7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9D2FF-263F-4BD1-8522-0E23487EE3C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A7B4-BF78-429E-9CDE-07D7A8DD58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4D025-0253-4329-B594-3803138B96B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775B4-8E7F-41B1-87A3-F1F1E59FE3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89516-2F99-4E17-8813-426E3B9832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6EA77-F8E7-4E43-8FE0-4CE5486AE5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E177-7CED-44A9-B23E-69C333ED1D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5A3F-888F-457A-83F5-29B34111F2B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A2B2-CB53-4805-A674-4CA485326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DBF-C9EB-405C-AD25-C9B71AE66F1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2B7C-4A56-432A-9095-27C313B5D1B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C1E-5E32-4D49-B7A0-6BD8F8004A5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C9C-22E6-4101-B90A-F17FACDE39A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64F-3050-415D-897E-3960381D094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7A40-B75D-4D84-B88F-905F7ED5C8A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A5F3-9AA2-4EBA-905F-4DFCA32FDBE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41D9-D9C7-4FBE-82B4-F7E012AA994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FA74-0DF5-4ADD-94B2-26BEE76DF41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97B9-EFC7-45CD-B174-E68ECCB5B2B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38CA-D1F2-4E99-A317-EB6D1B7A513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719B-CF88-44C9-8EF7-43B6D734212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79B2-09FB-45F1-9B77-0A29051B978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3E3-3701-46E0-B909-85C6F09F2F0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090-F8F0-4B20-9A0C-1603ADE747F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78CB-9B1A-41B3-BAE1-2FF15DB9284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E6C-A4AE-4471-AC3D-1E638784CC2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185E-E7E6-4247-8D68-D4C53B9ACB9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63DB-E33E-483D-A5AF-E9F7DDD2AA2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8F0-CE89-4B34-A3CF-195F42C97C3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5B6-D544-4164-B890-6602B7C3E92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BEDA-056E-42F2-91DE-E526CE09892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99D-8AD7-49E0-8970-9A5F9C8DFA8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CBF-CAC4-4169-9723-9E452F1D54F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Flor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4000" y="620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179280" y="5516640"/>
            <a:ext cx="864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750960" y="1773360"/>
            <a:ext cx="764208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611280" y="1841400"/>
            <a:ext cx="7921440" cy="3591000"/>
          </a:xfrm>
          <a:prstGeom prst="rect">
            <a:avLst/>
          </a:prstGeom>
          <a:ln w="0">
            <a:noFill/>
          </a:ln>
        </p:spPr>
      </p:pic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728720" y="68580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108000" y="563580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5 CuadroTexto"/>
          <p:cNvSpPr/>
          <p:nvPr/>
        </p:nvSpPr>
        <p:spPr>
          <a:xfrm>
            <a:off x="54180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95280" y="692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617400" y="5195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19920" cy="3471840"/>
          </a:xfrm>
          <a:prstGeom prst="rect">
            <a:avLst/>
          </a:prstGeom>
          <a:ln w="0">
            <a:noFill/>
          </a:ln>
        </p:spPr>
      </p:pic>
      <p:sp>
        <p:nvSpPr>
          <p:cNvPr id="1304" name="Rectangle 6"/>
          <p:cNvSpPr/>
          <p:nvPr/>
        </p:nvSpPr>
        <p:spPr>
          <a:xfrm>
            <a:off x="34920" y="5457960"/>
            <a:ext cx="892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29600" y="51768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Rectangle 6"/>
          <p:cNvSpPr/>
          <p:nvPr/>
        </p:nvSpPr>
        <p:spPr>
          <a:xfrm>
            <a:off x="88920" y="5532480"/>
            <a:ext cx="9001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922320" y="1773360"/>
            <a:ext cx="7299360" cy="3446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525600"/>
            <a:ext cx="718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111240" y="558972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556920" y="5278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243080" y="1700280"/>
            <a:ext cx="658476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2130120" y="5608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1152360" y="692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–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697040" y="2158920"/>
            <a:ext cx="5524560" cy="3449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890640" y="1828800"/>
            <a:ext cx="6788160" cy="149220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6192720" cy="150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aquet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569880" y="1825560"/>
            <a:ext cx="76453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758520" y="46306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439560" y="2060640"/>
            <a:ext cx="838044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989440" y="3963960"/>
            <a:ext cx="6119640" cy="1857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6 CuadroTexto"/>
          <p:cNvSpPr/>
          <p:nvPr/>
        </p:nvSpPr>
        <p:spPr>
          <a:xfrm>
            <a:off x="363528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1 Rectángulo"/>
          <p:cNvSpPr/>
          <p:nvPr/>
        </p:nvSpPr>
        <p:spPr>
          <a:xfrm>
            <a:off x="3672000" y="57196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3030480" y="341280"/>
            <a:ext cx="6172200" cy="532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04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2009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144440" y="1585800"/>
            <a:ext cx="6855120" cy="3930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162540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514520" y="1628640"/>
            <a:ext cx="611496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 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– noviembre 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492120" y="2708280"/>
            <a:ext cx="8232840" cy="216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Juan Camilo Riveros Botero</cp:lastModifiedBy>
  <cp:lastPrinted>2014-10-03T19:19:10Z</cp:lastPrinted>
  <dcterms:modified xsi:type="dcterms:W3CDTF">2015-12-24T18:26:22Z</dcterms:modified>
  <cp:revision>972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