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DB3-4482-4E9B-81C9-95BAFD1708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696F-E736-4248-BE2E-ED34B76B8EC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3906-5361-44E2-8E27-7208DCFC6C4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209-E488-4B7D-8F87-BBB78247233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DFA1-D9AA-4EAA-A8F8-228C437A630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338D-5E42-41DE-8779-42EE36070F3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5653-9C01-410C-8A6A-11DB0F76C2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921A-F420-4A7D-8AEF-12B3A77BB7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ADD-8070-4FED-970D-4E4E099DE1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BFC4-C845-4BEF-A4C4-E02166C735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210-47C6-4A40-85B5-0AF39E385A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2491-C3C8-4BF3-AF7D-2BD962B68E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279E-3EA5-40A0-8BCD-C6A9DB46B1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42CE-E2F7-406E-985E-49CFB37013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66A-C508-456F-84A6-AE6718ED97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78FCE-3801-4E0E-AD3B-3DA9C497F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EDD3A-9BE0-428F-909F-FD70F9AFBE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FC1EE-65F0-4021-8459-7CB19540B2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34F8C-CA11-48E5-B5BB-DACDEA8F54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1601A-551B-4DFB-AB97-B82AE07628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E9ABB-5CC2-4F3D-9D46-57461397C4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1A945-AA39-457A-8549-49A2DEF7AE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4D723-645F-4E72-97FA-4F2F46A830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4A1DB-8AC0-4D24-BCD1-9FFAD4932B3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8D4BC-2EDD-4723-BBE1-F936E65B3B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2D751-1B7E-404E-B1A5-A0D1C429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EF931-838F-422A-85DC-EFAC867AFD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2FA1B-F445-4787-B206-BA2B86C9A1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46E04-D192-4699-85D5-FFC5323D15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F5580-398F-45F2-81BE-802D097C91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FEA89-31B6-46A5-A8D7-974F13E19C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20552-E421-42EF-91FA-BB3B81B1E2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9D004-559D-4191-A660-EDBAA4F1A2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5D4BC-90C3-4A64-B836-BA044FD60B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768FA-62C0-4F29-BBD8-7E175F4A89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E89A2-3DA3-4E50-A4A0-87A664014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5B4D-96D2-4375-8FDF-EBD7FFAFC3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27045-2FC0-4F43-88E9-A8642CED25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0D4CC-53C8-4925-8A2D-6F50CECE38C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67AA8-5D08-4A8A-A5EC-ED2DE9D56D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515D-8EE0-4A8E-97DD-7BD67B0D52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D346-FFCF-4E54-92BE-E1E1D779E65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F9F4-8E25-4F25-B2C1-3B17476E38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7964-CACA-4E44-8683-3D9F7D9296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BCE7-7E96-4098-AF45-E5B5AB3237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0479-F47A-4516-A741-9040991626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89FE-0E79-4B59-9F38-D2A4446A5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0FAE-6DC9-4669-9F21-52FCDBDA6F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89BE-81C7-45D0-A289-F7EF3DB481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382E-4C0C-4B66-9406-7031D71D33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B8B3-F4F7-4AC7-9B25-654E8071D4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3B68-0FDC-4AD9-A06E-8ACF6DCAFB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97AD-425B-4A74-9D92-016B33BCF7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9B964-2894-43F3-BBFA-C4148DF469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8ED01-2F94-42D3-A53F-46C1056A60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058A1-CE19-4277-967D-251F00F78F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B2E6D-EE92-46C0-9225-41EDFB9015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A27F9-36C8-4574-80FD-BFCCA3B97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A089-52E5-4C70-8DC3-F84FB58422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41C25-61C4-4B2D-B84E-008B094B95F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16EFB-BB1D-4ACC-AEC6-B1C6A1E3B4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25117-C965-4759-96C2-5F68E10C22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72B44-3900-4A30-BB9E-7117F0AF53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AF50F-3A1C-4FCF-931C-BC96004C1E9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30660-C941-4C08-B596-93A72DCF13D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D69B6-A9DA-4927-AE2D-749D840D525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F8718-5B32-46BE-988B-5A61ECBBFE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7B608-D071-4D85-B01F-D2C62B6FC45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D3E6E-9F28-4FD7-AF66-70BF64E2B3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D9B3-DC85-4AC6-A2A4-7691DEF37BB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C0715-FDEF-44D4-94D8-A7899CF794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A5227-ED55-4C3D-90E4-BB96FE1EE4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D7C9E-4E49-463B-8540-357AB7B3CB1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9005B-F56F-4E8C-A192-0DF00DD4C60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3BB65-0B45-48AC-ABFE-83DD4AE88DC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E0FEE-0BBF-4DBB-9110-4CB79EF8F1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D50D8-A214-4D78-B210-DDEB8C9513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1C4A3-A65F-4C6B-8484-4A15683B1E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2162E-BB9D-46BB-B1A0-F0847C9B414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B42F-6837-46F3-B7C3-2E7C9BF9F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7EC4-9EA0-44E9-89F4-5216C2E3EFD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906C-3B10-4AC0-94A7-0ECEFA699C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34F8-B6FD-4740-BEA5-8A46AA9BBA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BC6C-DC22-4708-8659-798A4FDB12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32A3-D8C4-46FC-93AF-65DA20B482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808B-F199-41B6-8BE6-AA65CCD405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A862-77FB-4E1A-837C-D2C6142CBA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20C4-F28C-41DE-8B8D-6A9AEBB8AE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E265-9990-4FEB-8AAF-719BDC4693D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C0F4-4114-4DB4-8F7D-5B62FFA187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6CE2-8B05-47E7-978E-9F74954CF5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DEEE-0110-4755-BF30-F6140FFAA5F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FE849-C95F-4110-9D8E-C014B6B6E3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C0289C-FDFD-4DD4-A9CF-36B42F1614B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209B4-8C9F-4EB3-83ED-76AAD3ED367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33D0B-99D9-4BF1-B1AD-B7571716C7D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442AC-DC78-435B-B98C-A9C196D028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6F037-0BC3-42B3-80A7-01A1D58C1D0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30F71-8E5D-42E7-A6BA-160170E72D5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A68D9-AAEB-4C25-B964-B26B561E438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76EDF-C352-4A00-98A4-B5799E66E62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187ACD-30CB-4786-8DE3-88576883D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1C19-8FDB-42B4-B21D-D82FDCC597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6C24B-CC35-4FC0-96E0-73E417E9402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CAE81-EDD9-4A84-8656-C759E1DF935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8F391-2A95-4690-BD57-372C457B347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C10A2-A30B-413F-8881-A7AA1C7F1DB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ED5C4-A260-47B8-938F-C46EED17606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E4735-60C0-4EAA-B263-76AF7724488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3F582-8349-4C3A-99EB-C302967CBBD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EB4EE-EEEB-48A5-9E34-257A96241F3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CB7BA-935F-4401-BC72-932289FF5D9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49286-3A6E-4ACB-AAE5-C4F588C78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5BC1-11E1-46A7-B463-4A352230D8F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8BC09-DB21-4545-A45E-EEA328C8A4E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9B5EA-660A-4BED-9F45-F63D9487C4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F29F1-FB9A-4C8E-A156-0C93F2C528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498BB-497E-49F5-B535-CFA5657A216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776D2-B9E8-4E43-8C5F-717E6C18EFE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44A8-7A02-431D-B321-6BA24EA7725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C52B-7CD8-437D-A80C-85A60ABDCED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EE4D-F88C-4FB2-A370-7F64484BF6F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EAD7E-92A8-4032-8D0B-76EECB69922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5A2E-31B2-481C-AC9F-FD0B92305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D3AE-FED7-4191-A05B-51200984B3C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C426-BD3F-4453-9300-AED78EF00BA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B06D-CF77-4348-9BC7-7C9B42EEDFF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2690-A545-43CA-894D-791584F2FCA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D599-46AD-47F3-AEFF-35FFF1583B1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C898-C689-4524-B69E-2A1E0365F42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CC7F-A4BD-4276-A692-EFA63BFB004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7BF9-F79E-4A91-8FE1-4D85EAA09A7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7E184-D148-4288-B226-9FA01BCECE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BE4D2-CDDC-47A6-B9B4-8E4E91116AD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1CB1B-2788-484F-9320-50062F3A17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2CD1-247F-4FF4-AF02-35FA43882AC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05F012-295E-4DC9-A2F5-4329DEB1814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F8DC30-BC48-43C7-8C57-0E7AE641AF9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7F0162-BC3D-42E4-AA95-AC8787BD0EB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34BC8-9A91-4822-BFC7-670801CD681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909990-4609-4671-96BC-2C4514F1838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A6705-97BF-4276-B7E6-AE4222A0202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051EB-C9B7-460C-B2B2-184C2492F27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1BD30-D95C-4319-8B83-4D5CAEB4D88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7E0FA-449A-464B-841C-E1A3722FDCB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E7C35-7340-4F8A-B003-3FD237A467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C833-F573-4B69-82E2-7329F558F71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85327-0471-4385-A2C0-735552F7F3C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D001E-F70B-405B-9C67-4E8AD63BAAC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B378F-2CB7-4897-B28C-D34E51BC163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CC912-BDD1-4F69-9219-AA22430D9F4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7A001-D230-4FCA-B9B9-45D4D33FCDD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C7A1E-719A-4A74-BCE5-23B7F808FF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2D157-DE43-4B8E-9BE1-B0B05E212D9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9DE13-B4A1-443A-B666-DED205CC45A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EC698-4F7A-4C47-8DEE-5FD4A47F816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23B9E-71AD-4573-9EC9-6A5826288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1F3F-EAB4-43B2-96CF-4A7AD656D79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79136-8265-41B7-BAF0-2E6D9288203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0AAF-0609-4B61-8C06-5A28565ECAF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ACFB-F82A-4E0A-9A67-74113B31A3F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0BB4-72A2-45E9-95FE-AF1004B4714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2A6F-2946-4501-8456-FF974CFADE8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727F-D93D-459A-B4FB-1CCA474322A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44B9-EF83-4F67-A864-4857D28C7A1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2F698-4018-4C9F-A329-0A3B4229220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E447-E6FB-42A5-B6BB-046FF11C539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C4C4-9BAD-497B-B279-2B4672DE22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8F2C-6570-4018-ADB2-4FBF7477FB6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4E42-0A90-44C9-B92E-5FE7638488F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8577D-8C3E-408B-93D5-1CE7BC3D36A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E45AB0-3C99-4168-A01F-149EB5FCB33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8CC70-AA89-4825-B20A-A89C9132D8C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0F832-A786-4464-BEFA-43E42ED0734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107F7-D00F-48AE-9BEA-3A64B58BBE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A6039-5F5B-4905-85BE-4ADCF424171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AA806-AF59-4208-9873-A4C54D8797C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BBC04-5637-4058-B421-7636088A79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173470-68AF-49B3-81AC-CAA2520EA4D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4C97D-AEA2-48D3-A60D-F464D5DECDD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BD2C2-E710-409E-831C-DA2D168C8E9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9BFF5-2F33-4089-996F-0D702C52E47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43D30-4047-41CA-B997-2C1276F5F4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36FB3-BFF6-4901-9EFC-583798B076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628D4-A1BF-44E6-9FE2-B85C664B322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1C170-B80F-44A6-B593-D94B8C7E4C4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64EB7-22A9-4E6C-9D0F-986CC90CFB1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AE138-5372-4171-8546-87AF48D15A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31356-9018-47CC-9670-48191543519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F16B5-5DF1-4857-A96B-F5DD92D4D5A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45A5A-6C6C-49D1-9E11-4CBE322519B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981C9-8486-4F23-A4A5-AFBE2003BEF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998DC-DF78-4C5A-AD84-FF57FDA67A1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703D0-1032-435D-B8FC-8BA280B92B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FCFCE-61E3-4C6B-A423-D024FB16D22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1F16-956A-44C1-BB21-338BE6280CB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4FA1-3193-4A2A-8D66-195944D20A5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845AE-1D2F-45D2-A370-06255CE8D1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A6F6-2768-41B3-A8B5-03E245F28B8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DBDA-A92B-4BC4-99D4-9D72C83CF7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33FF-4F1E-4F4E-AFC6-74C4C2D5065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F6F7-4B1B-4D71-9F47-358B755B49B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50ED-95E2-47AA-9835-BC51C589648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51C8-3C2E-4886-B1D9-C0D760B1DF8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41C1-FBCD-454F-AEAA-543FF2EDA75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8BABD-CC5D-4659-99E2-9A96C6741AD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B7DE-6AFD-4706-9AAB-9D23AD6B60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54A1E2-F363-4ABB-9E91-25C5E9369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1E524-348C-4182-87CC-9F9991FE3DF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B5E56-DC36-41E9-81F4-624D760595B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18DF94-A32B-4202-AABC-3665583CCCB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C0AAC-4A0F-4CF4-8F9E-817FB335F37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9D72F-D427-4347-9F92-081A1BB3807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D486D-1575-4D12-939E-544DC83373C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798F3-C2AA-4176-943C-4540CC230E5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F7C016-4966-49DA-932F-C71752C0092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3577D-4B9D-46F4-84A5-44E24FF6619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7EA1A-F257-42C3-B7B3-A707F65CF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23F27A-3536-4253-88D5-EEAD6FBB2E7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F4BA1-D710-493A-9B2A-88D9C6AD569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D3A81-FB51-4FAD-93CF-8437C97FBC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DEF8C-48A1-4508-AD08-F2B300F9C7E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E1A59-FFF0-42E8-AC78-748CA00C7EC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7C806-3825-4B17-992B-56FF62CEF08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59CBA8-906C-4215-9251-E23AFA46A7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66393-BBF9-4892-A46C-8995BA361F9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9967F-CFD9-4E26-B1B6-EE6D589B11A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E71D6-C6DF-47BD-A1C4-EA5D3D45B4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CFD14-F0CF-43F8-ADB4-84517E59D0C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9D8F4-03FC-48FD-AB08-06F4BA5BAED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C3841-B08B-4E4E-8764-EFE0B1FD596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A4D7-CEA7-4612-8223-075614BAC19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A6D08-2529-4972-A8C0-89C832D5239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1A5A-B835-4FDD-8AE5-801322DE33C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5A81-8EB4-4B8D-A6F1-BEE7CCC9691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913DE-09CF-4B9E-BD20-83906EB2C99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E20E-C37A-435F-AFB1-1485523C9CB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A2DED-6635-402C-8406-1C4A1CF374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F047-838B-471B-B663-AB1B3282C57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0701-C83E-440E-AFDE-C8B564CBCB3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0E2B-B419-4690-BDBE-BCA1FA2B670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9E69-5E57-437B-9472-DB2888D5E4A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A65C7-3697-43DF-9C14-E61AAAF262F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0032-96D2-40BD-922C-F97BEC45D5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E30F-7D10-487A-8538-B4450DA7A6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844C-4755-4C39-979C-3E1653DB2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B1E2-AC3F-4D00-930D-756248D40F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43B3-BB1F-435D-A109-33AE3D2203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146C-B8AB-486B-A271-3259E96F69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45D7-B181-4FEA-AF14-05AD0C3DA6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D54F-9A5B-4B9C-BEC9-9576A725FC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50AD-D259-44B6-A403-154990FD8A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0083-A566-4CA8-A15B-790E069D46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DC1E-AB4B-4353-BEE9-0D7EAE7BA8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FA1A-96A2-4277-A123-3ED69D538B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0C9-5C60-46E0-A5A7-510921EBD4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911-56E0-48A7-843C-F4F94432B9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E6E-02E6-49AB-B782-F593F76CE7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E4E-491E-4F42-B41E-27B636967B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D92-2053-4931-837E-73BA88A41D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112-92EC-42FD-83D5-E62F2CB647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8DC-69BE-4362-955A-0B800EB071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B4A-F2F4-474B-A59B-4D31FB0DA5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5F0-9997-4A32-988E-EC8AD2C96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0B-C4F4-44A6-84D6-C12FCCC235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F3F-A461-4318-9BC7-E128377E72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B46-A59F-41AB-B606-D5366797FA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AF69-FFAB-47DC-9318-68EFFDBD4D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91C40-13FF-48BD-ABC6-A5E3B1AB3A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12A95-8C6E-4D71-B2A0-5E7CA2C531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A148-9E7E-48F6-BE4F-C083E4F265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3CEA4-2630-4F28-BC42-653CF649FA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DAA6-5F98-47AE-867A-43B1DD163E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F34AB-090B-466F-8E78-F0C3F4836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83E95-B4B8-4C3D-BB65-B6CCBBF4B9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FA82F-8D1D-4ABE-89D8-4DDB3CD3F4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CC238-A334-4281-BE2D-BE57667DA2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858F-0139-49B6-941F-273253100A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F1376-07E5-439F-B04B-3ABEDC9428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8E8FB-A55E-4D15-96DD-76EA124A5F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580B-5850-40D0-809A-280356E9F2F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420A-E851-476A-B562-319773A24C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EF456-7BC4-422B-847C-BA0BF0F86C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E169C-2935-4145-AFC1-0D0DA428F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4CDF-20B3-4BCF-93CB-34F7347DC1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7D5FE-63EE-4BAC-96F9-DD43D9A88F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FDA7F-5590-4527-A406-0E5BB03F9E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E1BCF-5CA9-4667-8DD7-DA25EC2449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E5DE-D9AB-4354-B30B-DD841D6891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2FC0D-020D-46DE-BE3D-5C41F26B8B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D387-DF5D-443E-87D7-026430C2C0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B09C-FF09-4BC9-AB3D-8B99D6FD42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968-208E-473C-84D6-315E3F0FE9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17F6-DADB-43DC-9A17-D6F88FA8F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07F-C341-4E50-8DC7-478FD98EC3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4D1-8F18-4DC2-88E4-38FACE05EB0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867-6142-42DB-9E9E-24DB8444F72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BB40-574A-40E3-9DE9-3BC067A7326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7C2-2DF3-4BB2-9782-2DECC65AEC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0D4-49C9-41B7-850F-E1712A345A0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F9F-96CB-4B71-A9AD-9D1378A9BBE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83C-7B43-4D66-BB61-E95F6DA2F8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660-E85C-408A-8052-416D4219387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8EC-36FF-4E57-AAA9-90097D17086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90D-03CF-45FC-BD86-1766397B75D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327-3299-4954-8576-9B7E43C51C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E8D-588F-465B-8048-21317D8E3FF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1A2-D51B-4AA4-A7A2-E817D8A7C5E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365-1A1F-4A45-8F91-0361A2605C8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1974-5EF2-49C2-98BF-D3BBB9D9756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DC07-C44D-4D24-A0EE-BDE3261AB5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918D-0FB8-43C7-A39C-8DA0522EABD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316-4BD7-40D3-85D7-07676E0C0A5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68E-568F-4EDC-B8AA-02529721594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E0E6-E515-47AB-ACD3-AC11C3C9C81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425-EFE5-4084-9207-E019AA43B6A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67B7-DA74-4F53-B347-5620A5C0A7D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47E-C3EC-42E5-BB09-8E0E1B0E4BF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1577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952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13500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1300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6056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1401840" y="1413000"/>
            <a:ext cx="63403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777760" y="5556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477800" y="1628640"/>
            <a:ext cx="582156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514520" y="3716280"/>
            <a:ext cx="562932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0" name="1 Objeto"/>
          <p:cNvGraphicFramePr/>
          <p:nvPr/>
        </p:nvGraphicFramePr>
        <p:xfrm>
          <a:off x="1143000" y="2060640"/>
          <a:ext cx="71708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1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0640"/>
                    <a:ext cx="7170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3310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9440" y="24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703600" y="2781360"/>
            <a:ext cx="582912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855880" y="277920"/>
            <a:ext cx="5769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1168560" y="1859040"/>
            <a:ext cx="6651360" cy="38084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695600" y="1844640"/>
            <a:ext cx="6219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178000"/>
            <a:ext cx="8640720" cy="21146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4-10-03T19:22:21Z</cp:lastPrinted>
  <dcterms:modified xsi:type="dcterms:W3CDTF">2015-12-28T16:47:32Z</dcterms:modified>
  <cp:revision>96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