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FDC2-14E0-4BDA-973E-9E0FF1509E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4991-8583-49D1-AE29-D2A6C82893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D48D-911F-414B-9D20-D1CDA51E85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B821-CE1E-475C-B493-1749A4F3CEC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FFF2-A1EF-43F8-AC02-2E89A77927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1F92-1C0E-4064-AE11-8EFC04AE06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E892-59B2-4FF7-A898-DCB0562E8B7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F9AA-2BB7-4B94-A349-1C77173A34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213C-8C86-4D74-B732-E2628E862D4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1B56-5DB4-4BE8-B0FC-0FE1E8AFF1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FA1E-2F19-41AD-94FF-8A41F205B84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ADCE-9DDC-4AAC-8025-9F1F7E1D626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B7DD-B059-4DAF-B02C-A942203E8F9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E4F56-5B8F-4655-9BDF-FA44B2E31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485FB4-9A16-46A9-88A7-48F2A18EFAA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FEF7C0-6E14-4D5D-8B17-7E470E5CFB6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E921CB-164C-4AE7-BF3C-48F1CA585D1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EDFF7-9CED-4568-8869-CDC4647FA4F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C8EB22-6BF9-4AE8-B3AA-D27A5E27863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E8AC6-C883-4DBC-85C0-4679DCAE1E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D303F-1936-4FBF-9E54-D9565963425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D883E-70AB-419E-B07E-BCC25BF9F8E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42D7A4-3673-4A58-8537-8C30E82091C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775859-4FF7-4763-AB32-D7E460DA0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8CCF58-9C59-4FF6-A7BD-567F9D7D79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A4B1A-BCF0-4D88-A99B-B8F9C4A1A0F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E0B26-B138-41EA-98D3-64D26616AF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E5B11-6D87-4B24-82BF-E2589F18D2D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9C9B4-09D6-4787-94EA-997DFF04165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D1C00-F9BF-4FE9-8BCA-A5A3326D03C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F2772-4254-4ABF-A10C-7EE02B79AF1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21233-5667-4A3A-B040-19370A386A8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42681-2FD9-4D5B-A4F6-32DB35C7171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65824-C5BF-4EA4-9A86-19E195003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0C9B-E7CE-42B2-9895-259636A70D0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4DC9E-FD23-4133-8398-5BAAF9A896C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32BED-A0E3-4D27-899E-C5CACE9E778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3F6DD-95A1-4CA7-83FF-E438BA2C480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AA5F-58B4-41AB-9AC2-067AF2069F5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46AC-6E08-4687-A4BA-6975079D23B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159D-3965-4D55-90B3-E7C4A724CE7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CC1F5-6A4E-4DFA-AD7E-522AFC8B1C0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2C3C-7D6F-43E2-8855-E1001172217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C251-3029-40C2-8EB7-0737C6D3E1F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C83B-7F38-41A4-9B09-76F6096261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8291-6199-48C6-8967-89C004F0A82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5EA7-02B9-4AF7-AD09-F288EF42976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E8F4-31A5-42B5-9077-683D21F6529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0329-5003-45B8-89ED-078C2AFEA05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5315-00E6-436C-845E-3068CBEBB93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5294-4018-40AF-899B-DBCC6C28A29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D3D34-D033-4CFA-B2C0-64CFED6C8D2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B44FE-A937-4465-8C06-877C4D388BC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E59FD-6B98-4237-A0AC-850A81A2491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52C9C-05EC-468B-8F29-379B20623A5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A491A6-0BBE-4953-9E0C-56E4A6BBAE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C618-B6C6-4FC9-8988-77A5FBBDEC2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AD22A-E495-4D7C-AAAB-FA6C40BC898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21317-B421-4E3C-9A81-F3A01BCF144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9CC0D5-A743-4CF5-A4D0-41F98B3F53A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D24E9-8A40-4CFF-8C9A-112997A63AA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ED100-C90D-47A4-A5A0-8630FAF82AE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3B11AC-2BD4-460C-9313-4DD12A4ABB8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1712D-8BA8-4577-9B17-EDB3268D34B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F5E3B7-F8F3-44F0-AF2E-35179D460BE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F67DE-C961-411E-B788-3959038FA64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B4C8E-0F43-417E-A7A3-D30226C652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7A80-69B8-434C-8881-2214D38E739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23B17-14A3-4AE3-A40A-C866A78C553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BC4D3-BB33-48DA-9D29-26C44E715E4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76EEF-4DFE-4698-8DA4-51C7EED8E26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94F0C-7DC3-4873-B146-8328A68C9DB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F0021-F7B2-492B-9D5D-871B08BDB22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C22CA0-B21C-424A-AE8B-8890E6DFA84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24CCE6-5476-48DD-A082-04157487276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DAC96-E8A8-4C84-BBFE-089B7ADAEF7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7E55C-752F-4C08-8A9F-942D918BE81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6A2AD-BC8D-416F-833B-B871F08C43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E13F-33F1-44AD-8827-C3218BA6C07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9803-BB75-41C9-86A4-402BA0241B0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E22D6-DA11-4A15-994D-691C82D9046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53B2D-8E0E-4754-86F0-BAF8CB803F4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1A15E-F839-4052-9D0D-6C497D1501D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482A-3FA9-45D0-AE58-0BCFB4E6F11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7388A-EC71-4E21-93A8-961FC8EFD6C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AAAD5-0BA8-4C7E-BBC4-60AD3C74E7F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37645-B829-431F-B622-1412FD67F9E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0F528-E230-485A-BFA3-C5694824CB6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20148-5E1B-4732-8D0F-F24A975099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853D-28EE-4F8B-99B9-B58F7228E4A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DACD-534D-4D39-8FA8-11CF983FC7C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C9DC86-F529-4C45-AB05-CBAE78C1689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A4715A-C521-4239-A406-BAD7882D341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157996-8D3D-41B0-B164-FC235054647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BDB3A-35D6-4C89-9434-227D328FE04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F84B38-3D0A-4D80-90CB-5CAD50638AA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7A63C8-65BE-4621-8446-037828A44F6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B9FAA8-D244-40FA-AD45-0D8C7A30DEB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4D51C0-A455-4615-B715-756E74B321D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747E15-24EC-45AE-AE5F-F3200964EA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199C-D67A-4F19-B442-78C31EAD5FE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34AF67-EE6C-40E1-AFA9-B2E6A94DE6B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DDCFF8-24CA-440C-BEAB-3A38F7CAB62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B97B51-2EA7-4A15-A466-561FF92654C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C723A-11B4-4B15-99FC-D0BBB20511A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B5E18-CD2C-4642-AC27-CC9D69D6F2D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7ED22-DD9F-468C-BA87-BDE53E14534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20E79-CB39-4893-97CD-FDFD7D60A96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0D84C-FEFA-47C7-A4CC-D4C0C9FAD32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8FA49-7D8F-4390-9EB4-882F4810791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FB546-D648-4B61-BD5E-58A3C8928D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2D9B-9972-493C-829B-1AF3D0B95CD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766BC-4F26-4D2F-A2BE-9F9EA54C6CB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5DE5B-FE78-4A13-82CF-4F4D33EA229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86329-7448-4123-BC5D-D5CEED8D3A7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2AAD1-7BC6-425E-BBD8-B4141537505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F2ADB-5CDC-4EF6-A44E-C833CD47B8F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7F6C3-FB7D-4974-B1B5-7E7F07799D5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7D4EC-13FF-4165-B86A-F4BB664B04A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B769-7909-4F59-96BD-E1FB6BB65E9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B5ABD-1CA3-46EB-9032-1228AA9D39C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BDBD7-77C8-406E-955C-C730D367C7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2A9B-F25E-40D9-8949-0E4D3C4D131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C10F5-DBB0-4F07-8E7A-1424B793BD3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0E259-398F-4F77-AA7F-AA5C20D3F13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E6B4F-B319-4A85-A1A1-B319750C453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DC616-9C53-4CA1-9C77-2630E2A3C68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E4BF3-85A6-4772-891F-6B3147C8B16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F237-3DA0-40F9-BE0F-7D4EF374B1D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92898-252F-4398-9135-8DCCDB8D915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76C5FA-43A0-40C0-9EE9-2D67C706C9E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BE97C9-7338-4CB1-968E-A2084FFEA11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28ACE1-A08A-4769-9AF6-9FC8CEB5FE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87F4-0E26-4D1C-AE3A-004AF2668D9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4537E4-46B6-4710-BE21-43C076C3BC7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83B536-FCAE-40FD-98EC-017DDADE2D9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1A1AD5-78CC-43A9-B0A4-663B9E95418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2D8668-8A35-4881-8FCC-B1E629007E6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BB4EBB-73EC-4374-BCC6-EC9D521BE41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CFA530-320B-4427-9A8B-F6DAA953D30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432153-DF09-482A-9627-268214FD601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5AB239-2BCC-4F2B-BF3A-B9C9264B31F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FBBCE8-DB1B-4385-A694-C1E35F920C5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72DD5-8394-40D8-A47A-2882846856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418B-BE9B-45D9-9947-A5F492434E9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4CF66-12F5-45AA-AD3B-4FC33E8127E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E3535C-558F-43C7-A6AC-E639B380298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66BEB-0D60-4D86-BFCC-0AA31C3972B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09E66-B859-429B-A01D-4ED08A419F8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87613-D1A8-4142-9C10-851CD8FAAB9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6C10D-8C26-45FF-A379-51F8F709FBE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8E8F5-6196-4625-988A-274C4AF74B9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739A9-1F7C-42A8-90B4-0DC03EEF0CE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13D95-3CFA-415E-8FA0-C83FAB431AF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5C790-EA77-4C1B-8C06-CEF8DC18AE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1C29-583C-45B4-B5AC-01371E3C75B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E6768-D3DB-4218-8909-F78002A49B4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F975F-DD91-4CBA-AB54-C5F700C164D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6BD5A-6BD9-44C9-BDAE-6AB949106DF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AEE95-FA14-447B-AC9C-49CBFB07B2D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8E4BF-D911-422E-8EC3-1EF89C74647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26FF6-5D34-4551-BA91-BD033B1A1B8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21031-6C20-4872-98D9-91D94E8737D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69116-8875-4A24-AE26-2ED0085F135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13ED7-EF34-4119-A808-CFFB750D4D1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EB19C-5910-4CFE-B78C-8D4C04BA3E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9237D-3A26-4B77-9CEE-85A9BD202E7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65C9-C4EB-4277-822E-9C808EDC1AF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19800-C983-4DA8-86B5-9F7D5335FB0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0376A7-72DF-4568-9F8C-24B3CA750AC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398B17-3690-4AF8-97F9-6F8DF1DAE44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721CC2-F86C-4745-BE6C-A48DBFBCF0E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695577-E43E-40B0-B526-A20FBC381E7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22E4A0-5AE0-4CA4-9BD0-03FA0C8F906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32A44A-4CFF-499E-9355-3E16E13C4B1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29026E-024F-4F48-AC8B-B96BF7962C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53AB81-ED92-49CA-89C2-F4E56AE0D5C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DD5ECF-F610-4FE3-B924-F6662FF7D83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D19D56-6094-41F7-AC47-6FE90736264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9555E2-6A2E-4BE1-BED1-80498073009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91559E-67B9-4AFB-B221-9F9399F7B3F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A4968-838D-4123-A83C-0E88626D95A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2A1764-3026-4007-9BCB-A74B6915C41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E907C-63F6-46E0-9389-4A5BD5623F4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D299F-205A-4A17-B95D-85F21051FFC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74CE6-2B8F-4339-919C-FA216AD5D4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89E993-8083-459B-A074-5F86EBE5459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B2BDAA-4DB2-429C-AB71-146569CA659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0983A-5CB8-456C-A5B4-F39EBF78484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64FEE-DD0D-48A8-93BA-510C0392EC5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C03A6-ED5C-42FC-A8C7-13F32BCB9EF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6CA29-4746-433C-A4CE-7D08469B483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129DC-8969-40A0-A7DA-A5F7BD953B4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EB9DF-F43B-4BC3-95B6-3D8D65C8401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4BF20-164F-4DC2-B971-1EE6B695CE2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5A79B-AF8B-48F9-B702-8321ECA91D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18300-1B23-4A43-85DD-2FD9DCB0F4E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7811B-D782-4FF2-8EEB-B5B924D8F74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FEC39-B75C-478E-A3FE-1AF6BD5E532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B240B-6D54-4D7C-9744-38AC8675650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0AEF6-161B-450A-96DC-2DE1CF585BF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517EF-CD00-4C02-B64D-B31811067F3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4FBE8-8C7A-4310-AA37-9013A99E41E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5F131-9C10-4D30-903D-CDF9EE3E669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3A3BA-0272-4AC6-BE78-43D947C7CE3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F070B9-B0F4-4FAD-A598-80370053FD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9394F1-5325-4CCC-BBA5-1FCFD2EB677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BEC9FB-366F-421C-B769-4B89D76D09B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FA41FE-A1C6-47EE-9A55-9E257FEF140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67E7F8-064A-4840-9F51-6271A50B7BE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68A220-13DF-4A7F-A1C3-A6D0A6150A1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C199B7-8236-4EFC-B0B3-095FD58BEA8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6EE293-30F7-4CE8-A5FA-07A53650A36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39D294-6370-4345-8106-2FA2BD133B9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3AFADD-6A0E-4B79-99F3-4D77157B69C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071F8F-94AC-4397-9E99-91D16D4362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D99DB3-A8EA-443D-82D7-A6B66A56A39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A69B85-8125-426C-A742-39CBD51E0FC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2D79D6-FF47-4E8F-AB5D-415E4A85BC1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174E5-2F53-44EB-9DD8-B7D99F0CC52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363DEB-16D1-4F4F-8418-191735D996E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6891DB-26F6-4E59-B7C7-1AEFF5B0770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4E0B5-C762-4756-89D5-9D6C1DF7128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EAFA22-1DF7-4FCA-9D8C-F7B0403C9CA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667EB2-E21C-4C00-8285-C8CCE38507D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236788-E66B-42D5-AA04-3B2BBF46A8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B8E9D6-E6DB-41D1-83E5-D9F8C28F481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14711-B250-4293-9DEC-3C4CE1283A1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D3E0A-C6E1-467E-A6D3-D52D78AB4CE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A1D71-0EF3-45EB-A812-EF51AF2BA0A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FAA71-11C6-4570-8A26-4ED276AE6E5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CF2B1-4D32-4A44-9338-5D762C7FA3E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B7963-53BC-494E-9999-588BA575971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6E427-9910-4CE8-98FB-70B84CE08E5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5529F-521E-418F-9AA8-311DB08BE11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BD72F-4B32-4883-AAF1-B5EF0B2D47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709C3-5B28-4489-AD88-9677F57DFBA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1A156-B2FF-41A4-A741-A7A65D4A867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FAA42-26C5-43C7-B1AD-2A121F055D5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AD260-A41E-413A-B7B4-C126150601D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1B0DB-078B-4E8C-950B-1987453D204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A283-C24B-4DE5-8A14-8361703561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8C96-DE7A-49BD-85E5-0660F09BB6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A6A7-F698-4FF6-8740-8C39FFFC6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72AB-C61C-4697-9D75-ED19775486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B241-8CF4-42EF-AAC0-D3B2C601F5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C4CC-E060-4C26-8A22-60811D2F79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F89D-500F-4CDC-A25B-C155D952F2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1268-8E3B-4899-918B-73E2BF1A0F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4C4E-7CFE-436D-ACC9-D930F7369F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A39D-D94F-4E75-B817-05A2C6BE8A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FB61-3A21-4B86-931E-3A8E8FABA7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A9C5-02FE-42EC-B869-A513B919FAB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EAD-10AC-4D21-8E6F-4C933314C44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FBF-E44E-4444-B3E1-E6C2232A858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73C-C5A9-42F8-90BD-1D4DC7C6E94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8D1-1F44-435A-8101-F20C0528466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CBC-6BFE-410B-AC4C-90806AE9F0C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040-7A29-445B-B93D-D1CF3E461C4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94B-B58B-4D1E-8CDA-F372561088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571-C6EF-4BA2-A37A-28214E1FCE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A72-D893-4645-9138-891C47429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3AC-6B9B-43BB-81A1-1386390F737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AA3-5FEE-4205-AAD9-40B598532B7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B03-1814-4750-9052-737AA73D45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D3D06-BEF8-499D-A8FD-60CD968047E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7FAA2-20E9-48C9-A9F3-DD24CEB920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7DB8B-76C6-49FD-B201-20178E0500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FE41C-C5E2-4FC9-9F3C-5071793FE2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AA6E0-540C-4AC2-849C-9F036A10F24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0D313-89CD-4A29-BBF5-94B6C3F097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F483B-1DB8-43D2-9EFF-44860918A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0CBA1-DF8A-49F3-9555-9A1A2F95E14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6DB58-C2B6-49E5-A620-BA417C7FCE9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B329E-4F61-421C-8501-44ADD4D9F9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A1C64-9F84-40D1-8AB4-B262C84E12C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FAB23-7237-426B-90C9-36FA1D6EBB1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A2C0B-89AC-4CFC-BBB0-EB5962C73EC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F28B7-99CA-4B52-996D-4C31638FE2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4F7E5-5064-4EBA-9C45-C82CFE550E8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21B40-0EE0-429F-95AC-2C51F64151F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F9DFF-C1A1-42BB-921D-F03767AB3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B1ACF-2733-4D24-9EAB-3462848E2EE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401F7-2401-4A62-810F-33F4530581C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42702-BEA7-4AF8-B137-61F591F114D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BD42E-0BAD-40CF-8BB2-75D590AB570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A9C14-06B0-4552-905D-8EFB3147260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19A2A-FA9F-40F5-BF23-C64D59F05E2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966E0-9FA6-42C2-A68D-DFF3A2AEA39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AE8B-BF63-4697-B182-6C600CFA2EE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4681-E14E-4E84-B4E9-401165465BE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8215-BC3E-48D0-A3A9-C61F6AA93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511F-0989-47CD-A03C-B7820B2D31F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650D-89A3-4A41-9E01-3A033AF33F5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B34A-FD65-4D30-A4BA-5347379FDBF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3840-5126-45D3-8379-46638AB1012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125C-9A46-4249-81BA-4CC2EA0046C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0ACC-7B37-4632-9416-3DC955F36EA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4701-A501-4CAF-84BE-5999BCFB234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CC75-DAF4-4A13-A7A3-09EBA4704B7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19D0-25F5-49E1-BFFF-E0991A64474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A6B3-04FA-4E3C-9377-1F3A2E5E558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9CEC-2156-4BEE-84B8-35DCE946CC9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4F9B-94FC-4E3D-A4D9-17BE57FAA56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CCCA-B0BA-4F2B-A0FC-CE80298922E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9458-0970-4131-976B-6449913FB5F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921B-F750-461A-91E9-0AE7DE8FFD1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28B1-88A9-4F6B-8364-A759DE75F79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2624-2A8D-4C7D-B3B3-F922F6BD2EF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4DD9-0161-4AAA-950E-43E5775B266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450D-150E-40E2-817F-28056E59F96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80A0-D8C2-446A-B96C-3376D5B0CA0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E776-C198-45CD-9371-D0380E6406F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82E3-675E-42B9-AE3F-EE40AE161AB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6AA5-A3EB-4E96-89FE-75F1D0FB954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4EF3-7C08-48D3-AD93-96D742AF937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Calibri"/>
              </a:rPr>
              <a:t>Sincelej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238400" y="47628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0" y="551664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1359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641600" y="3254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1 Imagen" descr=""/>
          <p:cNvPicPr/>
          <p:nvPr/>
        </p:nvPicPr>
        <p:blipFill>
          <a:blip r:embed="rId1"/>
          <a:stretch/>
        </p:blipFill>
        <p:spPr>
          <a:xfrm>
            <a:off x="1150920" y="1484280"/>
            <a:ext cx="6842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3"/>
          <p:cNvSpPr/>
          <p:nvPr/>
        </p:nvSpPr>
        <p:spPr>
          <a:xfrm>
            <a:off x="1289160" y="54288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5 CuadroTexto"/>
          <p:cNvSpPr/>
          <p:nvPr/>
        </p:nvSpPr>
        <p:spPr>
          <a:xfrm>
            <a:off x="617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4"/>
          <p:cNvSpPr/>
          <p:nvPr/>
        </p:nvSpPr>
        <p:spPr>
          <a:xfrm>
            <a:off x="-9360" y="5487840"/>
            <a:ext cx="9144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, Trabajador familiar sin remuneración; Trabajador sin remuneración en empresas de otros hogares; Jornalero o Peón  y la categoría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1089000" y="1700280"/>
            <a:ext cx="70707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3"/>
          <p:cNvSpPr/>
          <p:nvPr/>
        </p:nvSpPr>
        <p:spPr>
          <a:xfrm>
            <a:off x="1763640" y="6174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8 CuadroTexto"/>
          <p:cNvSpPr/>
          <p:nvPr/>
        </p:nvSpPr>
        <p:spPr>
          <a:xfrm>
            <a:off x="1053360" y="523404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71280" y="5445000"/>
            <a:ext cx="8748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, Trabajador familiar sin remuneración; Trabajador sin remuneración en empresas de otros hogares; Jornalero o Peón  y  la categoría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1 Imagen" descr=""/>
          <p:cNvPicPr/>
          <p:nvPr/>
        </p:nvPicPr>
        <p:blipFill>
          <a:blip r:embed="rId1"/>
          <a:stretch/>
        </p:blipFill>
        <p:spPr>
          <a:xfrm>
            <a:off x="1514520" y="1785960"/>
            <a:ext cx="6975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1133640" y="6681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5 CuadroTexto"/>
          <p:cNvSpPr/>
          <p:nvPr/>
        </p:nvSpPr>
        <p:spPr>
          <a:xfrm>
            <a:off x="54576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444600" y="544500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°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9" name="1 Imagen" descr=""/>
          <p:cNvPicPr/>
          <p:nvPr/>
        </p:nvPicPr>
        <p:blipFill>
          <a:blip r:embed="rId1"/>
          <a:stretch/>
        </p:blipFill>
        <p:spPr>
          <a:xfrm>
            <a:off x="1436760" y="1628640"/>
            <a:ext cx="630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5 CuadroTexto"/>
          <p:cNvSpPr/>
          <p:nvPr/>
        </p:nvSpPr>
        <p:spPr>
          <a:xfrm>
            <a:off x="5457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1133640" y="620640"/>
            <a:ext cx="68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</a:t>
            </a:r>
            <a:r>
              <a:rPr b="1" lang="es-CO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1917720" y="2143080"/>
            <a:ext cx="5305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2 Imagen" descr=""/>
          <p:cNvPicPr/>
          <p:nvPr/>
        </p:nvPicPr>
        <p:blipFill>
          <a:blip r:embed="rId1"/>
          <a:stretch/>
        </p:blipFill>
        <p:spPr>
          <a:xfrm>
            <a:off x="1474920" y="1689120"/>
            <a:ext cx="6049800" cy="2027160"/>
          </a:xfrm>
          <a:prstGeom prst="rect">
            <a:avLst/>
          </a:prstGeom>
          <a:ln w="0">
            <a:noFill/>
          </a:ln>
        </p:spPr>
      </p:pic>
      <p:pic>
        <p:nvPicPr>
          <p:cNvPr id="1326" name="1 Imagen" descr=""/>
          <p:cNvPicPr/>
          <p:nvPr/>
        </p:nvPicPr>
        <p:blipFill>
          <a:blip r:embed="rId2"/>
          <a:stretch/>
        </p:blipFill>
        <p:spPr>
          <a:xfrm>
            <a:off x="1724040" y="4008600"/>
            <a:ext cx="56293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1 CuadroTexto"/>
          <p:cNvSpPr/>
          <p:nvPr/>
        </p:nvSpPr>
        <p:spPr>
          <a:xfrm>
            <a:off x="684360" y="33336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uc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1"/>
          <a:stretch/>
        </p:blipFill>
        <p:spPr>
          <a:xfrm>
            <a:off x="700200" y="1700280"/>
            <a:ext cx="75819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r>
              <a:rPr b="1" lang="es-ES" sz="14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1044360" y="4822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993600" y="1844640"/>
            <a:ext cx="7624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39680" y="2408400"/>
            <a:ext cx="27367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8 CuadroTexto"/>
          <p:cNvSpPr/>
          <p:nvPr/>
        </p:nvSpPr>
        <p:spPr>
          <a:xfrm>
            <a:off x="2841480" y="593712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(+) (-): Aumento o disminución de la TD de cada ciudad frente al mismo trimestre móvil del año anterio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3 Rectángulo"/>
          <p:cNvSpPr/>
          <p:nvPr/>
        </p:nvSpPr>
        <p:spPr>
          <a:xfrm>
            <a:off x="3059280" y="3741840"/>
            <a:ext cx="5616360" cy="225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3132000" y="425520"/>
            <a:ext cx="5543640" cy="5211720"/>
          </a:xfrm>
          <a:prstGeom prst="rect">
            <a:avLst/>
          </a:prstGeom>
          <a:ln w="0">
            <a:noFill/>
          </a:ln>
        </p:spPr>
      </p:pic>
      <p:sp>
        <p:nvSpPr>
          <p:cNvPr id="1270" name="1 Rectángulo"/>
          <p:cNvSpPr/>
          <p:nvPr/>
        </p:nvSpPr>
        <p:spPr>
          <a:xfrm>
            <a:off x="2832120" y="58294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403280" y="404640"/>
            <a:ext cx="64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2009 –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758520" y="54849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1025640" y="1628640"/>
            <a:ext cx="700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-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90612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593720" y="1765440"/>
            <a:ext cx="59533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Población ocupada, desocupada e inactiva </a:t>
            </a:r>
            <a:br>
              <a:rPr sz="2000"/>
            </a:b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incel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2014 – 2015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111240" y="2349360"/>
            <a:ext cx="89168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aniel Gerardo Gil Sanchez</cp:lastModifiedBy>
  <cp:lastPrinted>2015-04-14T14:37:37Z</cp:lastPrinted>
  <dcterms:modified xsi:type="dcterms:W3CDTF">2015-12-28T16:12:34Z</dcterms:modified>
  <cp:revision>924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