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8F65-328D-4579-818D-D866EFE0C0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ECB8-D191-44AA-8ED4-AC608BCA91A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CAF8-97B7-492F-AF7C-E3A97E5D0FF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DA1C-B394-43C4-AB50-6C848083C9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7DB1-31E0-4135-9BF7-57435B71E65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3C3C-2D99-4BD2-A594-A6DC5E87E5A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F9F8-D624-4472-95A5-CBC8235FFF2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5187-8573-417B-A58D-265CEED0540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AB2E-CE05-4C5D-A254-89CF129D4CB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EB34-B239-4B9E-BB57-4E8E465FF72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82AA-3156-41FD-8A77-CDB16FEADB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25C4-AD49-419B-8FE0-6116C716EC8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5EE6-F8A9-49AB-B693-20894D80AD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374F2-96F3-4CA1-8BCD-111E7804B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E7D48-80C7-446F-98AF-15AA7A04E4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9E8C3-7D94-42AC-A6CF-ECDD40D6C64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5CDED-1743-4112-9858-53FA5499DB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B1FAB-0045-4F65-9B48-281635B8D32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B6F2E-3AF0-4716-A1AD-7DCA9F8CE5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AE166-3319-4681-BF52-23F8CEB081C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02DC2-BBDC-40C2-856F-319D8997FE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EBE4E-1F6C-4062-A63B-270EDB82D1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B3438-4A48-47E3-B6CB-8330AEC609B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7C98A-DD48-4705-86D0-91BFBA57E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2A38E-A6AC-4958-9EEA-678C29FC45B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B15FD-0A70-4A87-AB76-08190F19E2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C5A3A-7ACD-4FF8-8CD3-8FEE7F81CD5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35C83-7ED6-43CB-A30E-EE15FE9E806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DAA8E-97D7-4B85-8FCD-0630CAF480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7D77F-D67F-48F3-BCA0-428199E0109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3DAEF-46BB-44F9-B0BB-8E4B940F453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A5B22-0A34-4CA8-B5A4-D730D3FC274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5385F-3D07-4AEE-98E0-606FF8CE0E7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0C877-8A66-4306-99B6-6B82A0D1C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CBDE-ECD8-4EAE-92D8-8693B51EAE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9F806-548C-4AF0-BCA3-7DCE2D68C1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8305D-CED8-427A-96A4-07213AC71FB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3FA32-8E2C-47BD-B24C-4CC0CE56640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B112-6457-4577-AAA4-D7DCACD62DD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1FB4-8EBA-4964-9BF4-99E11A897AB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03E7-33F2-4E76-A768-20285765969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F1DFA-E927-49D9-B8DE-5ADBE1538E9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259F-5181-4D85-B000-AEAB94951EB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670F-56CD-40C0-B8C9-BC0D0E0C21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519B-6425-47A1-8513-FF6F6B3E5A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C786-65F0-4D73-8192-CC9624EACBE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741C-6322-4F8F-9D92-EEB4B326E43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A6EC-4621-42CA-A07D-7788E0481B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2219-723F-4797-B737-283C9846BF2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F295-9F42-4584-B18E-6C5CF7DE1A7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2409-1A5C-4439-A89A-A31C3FC9B0E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AE59B2-9EDD-455D-9670-6FCE7A1D405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89BC9-4EB1-4B4A-B683-99EA8D010BA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29BD45-20A6-45EA-AD74-8CDC47623FF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59B3D2-FA95-4D41-945A-D0024810502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A72345-D505-4F98-BB62-30BD24A016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02D3-04B4-4565-BBBD-F70A46441E4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A39B3-DDEB-4635-99D4-1B982823E74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BFAC1-062A-49F8-832B-BD8B1F3C56C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0F5691-B192-414F-9CF8-72909C107D4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A9FEF-945B-43E8-8411-E76FDBE7C90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B4A77-9E8F-477F-9DAA-82A0C98CE42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06B6BB-7654-4FC9-8F71-8552F23EDE1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D2CE4-0384-4F54-B987-8BB633276E2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9A1FF-7359-41C1-937D-48E6DC8025C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1789D-8207-44F3-A54A-F403A01C805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67BBB-9411-4788-AD49-F13737F7A4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B417-5767-42E6-A9BB-DF16D04545D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BEFD4-9764-4755-B79F-A8400675D4C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EAB4A-E9C2-43E4-83A5-3B20451E56E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8485C-1C92-4A6D-8F42-C85E19817A7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9DD62-CBBD-4AF1-8689-0026B5CDF0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D0643-6C3E-4434-9CDA-A9ABA419272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BFE7F1-3FB2-4453-927B-3E85F9CE9B7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99052-00BE-473F-9764-EFB689FB59D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941E3-14FC-45F3-82EB-69F19A1B2D2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74574-9F1E-4F44-B842-A12A5E9D087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3E3A5-55B0-4789-AEF2-77F0BFA8CC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246C-947D-4577-9B68-AA30F09AA64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D0CDB-7AF9-4310-AEC0-872D1AF44F8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82DA-5786-4370-820E-5F6CC1AB00C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0FFB-4D18-4D77-B221-C627C95F457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4DE2-935B-4B6B-85A8-69C771585BA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AC02-C43E-4C3A-A5EB-FFE48431389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0C9C-DFA3-411E-8D10-12A90543A8F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C12C0-A0B1-4442-8DEA-4728CFEEBF3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D34E5-F911-4A62-AA40-5A8BDE4F774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875F-9D8A-4142-8F85-8C455BB619A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EF6D-4673-400A-BB22-E2FAB61656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2E23-B452-4711-B05B-F2B0469DADB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37E1-730B-4156-A9BA-82E3CDA2236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4A0B56-6BE3-4EA9-B065-AC0AFB3AFB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060067-6119-4833-82E2-D08019653A6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85028-6166-4F75-A9A6-DA7D233F80E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91AA4A-0FC8-4A7E-A6BC-0A99088A774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12E32D-DE3B-472F-B70C-A3C57FE82D9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8257C8-06DA-4C06-9C2E-27553E40A1E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0DF38F-D568-4CF6-9ADB-6AF4F37A729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E0E67-F306-44B2-9655-D3798AD035B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26A5F-82B5-4764-89C8-EF816F7C8B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94E9-E532-4209-BB97-926F04997AB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81AE94-7D86-4FF9-BD18-CA42F3002C1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B0A070-27D5-444D-8332-3E8245B65FC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DBF1CB-47DC-43CF-8F2C-DC754D1770F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592D8-C769-44B5-A2D3-B52050091E9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0BD44-85A9-4B31-871E-6E642EC2105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5F463-6F88-4AA6-B260-B36C93BF0C9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58F33-E4D5-4133-9BFC-EFF0F957245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FBD26-7A23-4969-98B7-C7CF5A88986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6842B-D47B-4DA7-9C7C-F5942282480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C60E5-740F-44AD-A2AF-D90CF1064B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C985-6FD4-4DAE-931C-C12F30CBC44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11E07-4D6E-4B96-A010-6030C4B00C8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C3471-D98F-4E1E-841C-922419007EB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4FA52-46DA-4F0D-9947-E6E79FC0AF3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FAAF3-221B-4C29-ACA9-BBFA887423C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60694-724E-447B-A139-97660575D2E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725C2-AB68-44A0-B436-4D537805195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6F52-2F84-460D-BC7E-E2CFD6C1149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39473-D393-4095-A325-48AE46BED45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A15AB-E8C2-4474-A6CC-AB0726B628D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1F432-D41E-4845-89FC-ED4ED4530E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F0FD-2077-4A25-8B0F-D8092DA474F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A2C9C-8794-463B-BE5B-8F307E18A31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9545-BDF9-421C-8670-70D9EDEF033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A25A0-F904-4DB1-A74D-D9FE9AF8BA2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2FD32-0553-4B47-B9BD-0D145BF4404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7AA0-8B65-4ABF-99D8-76F72EF9943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13969-F954-4A8A-8B8A-E26A227C360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CB6D9-6C43-4292-9F58-92E909EFE86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C87477-9D15-4321-9AFB-D78FB10888F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FB6AFA-6280-4C23-AFD1-E21D237D774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E2F44-E85D-41BB-9941-5A0E21F010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CDAC-4893-4A9F-8DD8-4BE2C5470B2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9780C0-3993-473B-8948-322DAEA5DC8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B5686B-5BD2-4A2A-95BD-3D222DDDCFA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C2A71-891C-4869-A3ED-DA9493E6D78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B9E8EF-85CB-48D2-88B4-243058FB0FC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02D933-07A8-4289-B77F-1F776BEDF62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22968F-E17E-48DF-9A0C-31AFAC76B1F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4B0964-45C4-4841-805C-F1F87B33191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E90CA9-A607-4C7F-80BB-9CB79DCAD14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3812AF-AB2B-4A4E-89CB-66AE8246930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ED5E3-D49D-4626-89E3-E0C84BEB91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5DB1-F373-4DEC-96C3-18BD7ABBB8D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03DE1-63A5-44EC-904A-E53AE02EEBC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5A0CB-6D2A-4B6B-BEE0-1DB88943AFD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61258-7260-4E6D-83CB-1847036CAB2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849E2-7121-4C84-B90F-D0704D574C1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3F94A-F4A9-45AC-9B03-564E0760670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62936-CF69-4005-8B65-845DC20D474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22ECB-F498-4856-B225-BB46F5817DB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300B7-F827-4AA8-9D60-B7E51B25802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E1B4E-1038-420E-BD4C-E6C52E69A84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9EBCE-49B6-42A9-9615-544D46CCB9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FE99-F365-44DD-84B4-F9FD8FC6BBA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30746-BC34-44C5-9AC7-62A129D3252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8CF54-FD78-4D1A-A07B-FE28AEB1A01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5834-FF64-4CEA-9708-581BCB4C696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C7E73-714F-4D50-89AC-7E03FA88901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DF5A3-3920-4E3C-B79C-45F15789128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E9391-5375-4685-982A-14B1698CEBC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39960-A9B8-41DA-8823-5993194A394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27203-9B83-468A-9600-476D7368180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2F82-E9EB-4FB6-9A41-6B685BE32B2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A07DF-0737-4BD5-A59F-49C5C8E657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8B70E-7E83-4A89-8647-7FCB4C499A6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18DE-5D3F-4ECF-AFAC-854145D84C0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BC5A-640F-423E-8072-5CBBF16EAB1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23164F-0FBB-462D-860A-76422DC0DDB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A600E2-1568-45FC-828E-4E9A738E623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DA700E-AFA2-4EA8-BE73-1B434ED5146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35EDE-2D18-4A2C-BCBB-3F3B6B58AA8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C46B6E-84B0-4827-AD31-40FF72AEAE8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35AAA4-098A-4446-BADB-3CC33905F00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BECE92-F99D-4D80-AA78-91262A6021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F0D088-96C3-4BDA-B168-E0B2D60B60C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9AC527-A34E-4E75-AC31-6A526541CC6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5462F4-582E-447E-BBB2-CC9315DC681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6D94E4-49C1-4B98-95A0-C511AE8D9AE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8A9295-B0C4-4FCF-A0AA-4924351BD74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CAE0D-8D05-41A6-AF49-937689D55F1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D17CF-594F-4D21-90B7-2A552AB0647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0B5B2-303A-476A-A3E0-1D37EB83BFE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834F7-2BF3-42DB-A4C4-3D9617848BE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3453B3-0FA3-4BE8-A405-BBC46C62E0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0EA33-CECD-41B4-A125-4CA8EF9DC59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1952FA-C0FE-4E72-8361-24CC369660F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AD277-4FFF-494B-B12E-18CB8A525E1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519CD0-8D1A-4085-A513-47FF50EC38F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441A7-A8C5-4807-A073-9ED30F4564F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AFC72-AC82-41DB-A224-F8F47A27952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C8053-7AD9-4976-96D6-33950170753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CD38-9158-49A5-B95D-21291E9560E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46341-7C0B-425C-9BC8-3AB9438B3A9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84FA2-0B9A-4477-AF4B-EBDFA641F5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36A5-1685-4926-A54B-25BA105AA52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F277D-C4DD-4157-B223-65E8F6A987B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F5939-D79A-46F1-8991-41EAB864AF8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C62A0-1BEA-4899-ACD5-6967EBB6029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328E-5BDF-4912-B353-B6D7EEF7B9D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38466-5BC7-4DB4-BBFA-20EB4FCF8A3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9622-FA41-43AE-8A2B-5880581D4DB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5C0D2-5BA3-4BB2-BBB7-3E3D05A127D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BE2C-B5EE-4631-93BC-75D0B97CFF8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6829DE-A380-4917-AD48-9DF1F8FA89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ADBDB-8A2C-4587-B8BB-05B97C78C97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0EDCBD-CD03-47C8-B921-196448F3BAF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3B3303-F69D-4B83-8734-5727A3CDDEE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D02AFF-75AF-4644-9D62-EE465DDCB21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BA376A-4D8F-475C-932B-A7F68533B8A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8FE06F-E6D8-444D-AA6B-CED7F014328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2518FE-5D13-42FF-8A33-113B64D1390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4A21F5-A030-4AC9-AC9A-9E93137402E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5111B8-2041-41BA-8A08-A33F6D6CA6F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3D0861-5C46-4D97-AB7A-56EDE08A91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4ED430-4B4E-41A5-8F53-64B55374FE9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3A290C-B7E3-493A-90F3-1607EB07ACB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335FF1-5C80-483D-9A8B-467A7B941E7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62D3EE-4256-4F5E-8574-0986780D25F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22DBEF-D903-4FAD-8124-5BCEC7821A3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D49A09-6448-4084-AE76-0460D0AD847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D810D1-31F7-4AF2-9B5C-4A9545E70EF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821A3C-A9C9-4E4E-99C7-C53009C9DBD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A7F280-A662-475F-8C8F-5A6B0619BAE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2DFE3-4EC1-4841-B107-E0D88B9DEF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86A75-7721-4545-956F-ED394556767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5821BE-4886-4130-9CC5-D1A5228E845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10583-0097-4F58-8D9E-2143D2C9A8C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06DCE-D1C9-4202-9F3F-B81F9726DD5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D3578-3C47-4DF2-A3A8-67CB030E11F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8DC07-51D6-4C72-BBA1-FD42EB1B3C4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3662E-82ED-4BAE-B8F8-EFB3C0E1D1D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95239-53C6-45C1-8C1B-E7D96EFEF26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8EA6A-2498-42B7-B872-5477604D103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311C3-56B6-4E2C-827A-EC6053EE7E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4FAE1-3C4C-410E-A7B0-2DA22CD2941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58FBB-86D8-43C8-B516-518101E39E9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224A7-15F8-4C38-B536-42FD04D4BB3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FB719-F0E9-41AB-A823-ECB527E3B0A4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FBA7C-2E12-4752-B6DC-CC78302AF11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8300-6DF0-462E-9A46-46331659B5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D6D3-BB5B-400A-A3BE-C20E8255D9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4D38E-12C1-4F3F-9471-64820C3B4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0B6D-9515-46E7-9B9D-3A87E87AF4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0FAD-0784-44F0-A494-243A058309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2D68-C05C-42F1-850F-8943D4F78F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3498-320B-4B9D-9516-615D367140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8FA3-AB23-4B59-A00F-832F7BEE1A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1B0E-7444-457B-A5CD-EB280B27FD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B094-1EBB-4D9C-9E18-B8D0F251CC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F2EA-4758-4398-B3DC-F959D3705D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4C35-9BEC-4163-9253-CE05715258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508-B962-4CAE-B54C-330C9510F5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A9B-CF27-4B50-BC17-0D3C977EBE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85F-958A-4569-98D1-48C4639EDC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88F-A433-4169-A242-A24D22C2CF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D3A-20F8-4BD4-BEB3-4CD544ED41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3AB-1034-45BB-AA25-D2915434ECC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E8C-4D2C-40BA-B4A3-29F54834D4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BD8-1E55-4C5D-ABE2-B318C9D8F4B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4F0-C3FA-4F7A-B48A-7FF47FF02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148-BCA8-4BE3-A72D-F6A7FCE23A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B6F-16CC-4212-AF26-F9C0E5FAA0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265-E1A0-4ECA-906E-B87004ADCA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BC0BF-0E62-4BEE-B16A-011227761C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B8158-F6BA-44B6-8E0D-67E70D328F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F28B6-672A-4884-AE8B-542823E78F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99C38-E53B-43B8-B6A4-AD3E3DA8E4D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D6CF3-ED61-4E4D-9FA8-E47ED3E259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F7C6E-841E-434F-A255-A77F223FD68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5192B-8116-4549-A333-F4E1CD6DC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D38C9-D173-4ED2-8C5B-E9B1955E4E4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71255-3015-424C-B788-8617559AB3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9F4E7-467E-440C-8BA8-1605EA8CEC3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17E10-16A4-43E0-A785-7185D082A0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61672-3D4E-43CF-A051-862F0A7D90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4DCF4-E3C7-4E9C-842C-68B3FA4488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FF552-2D89-403A-975A-898B90BCA5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56B11-FAD5-45A2-A85F-78790E98BD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A95AF-F0C9-4D79-96B7-70E0F19FC3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56C24-7389-4C93-8213-C80784671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E089D-105D-47ED-A396-BFD182200E0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10457-1C79-4381-A378-C139764632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2B300-B73A-4E9F-B084-B4D477A70B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F6C11-0655-43D9-9376-FE05075F08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2208A-5782-4808-AE80-9E1A6A1CF35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B9F0A-31D8-4EED-91C8-7347B3567FA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24812-18C6-41D3-BA68-404A4D7AA2B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5AAC-03BA-4C62-8C5C-08967654830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442B-2DAA-43CF-947B-96AE0FAC42C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0EE4-D943-4BE6-91D2-30072B2D1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1D1F-EAB6-46A9-A4D3-6A77A1CC0F7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CF6D-6FC9-4BE5-A3A9-36BF83F97F7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FB97-ADFB-45A4-A866-F7DE1AC6898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1270-7774-4961-A759-858FE78B7D0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567E-BC5F-4145-ABA7-8876D122D11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51E7-23CC-4AF9-A657-B9A851F77BF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BA64-2790-4B95-899B-7B79DFB2B36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7454-A356-489C-AC01-848A8E983DB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C45C-0FA4-4E5B-941B-C0FFAA2EFAE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E4BE-AACE-483C-95C5-929D42611AD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F549-5F97-40C1-B792-4BA5084E63C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23A9-226E-4358-B6B9-F8CC17AF647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616E-1610-4387-A573-E1812EDD665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0889-B7AF-4855-B8BA-252E604A7FD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39EA-E356-4D65-A9E3-7DC9982A1ED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35E9-9323-4CCC-BF64-887F108B864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DE4B-6AA3-4F40-8FF4-E0795205524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4CA9-861F-4DF7-A9DD-2034433B8DD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A916-9DF8-4244-AA5C-9B9098A07D0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F26A-49C2-4402-9E85-E9A516C424E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1834-442D-4C18-8C1F-4317D0BE84A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F591-9887-47BD-B3B8-D1E4C72DF51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88D3-8B39-43B0-AC76-FB33990D23A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FD19-6326-4F2F-ABAE-4F5D4221D74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Tu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40464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-36360" y="5516640"/>
            <a:ext cx="92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11280" y="1390680"/>
            <a:ext cx="77310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728720" y="404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682560" y="52372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891360" y="50338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095480" y="1484280"/>
            <a:ext cx="6676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295280" y="6206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5 CuadroTexto"/>
          <p:cNvSpPr/>
          <p:nvPr/>
        </p:nvSpPr>
        <p:spPr>
          <a:xfrm>
            <a:off x="873000" y="4970520"/>
            <a:ext cx="161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900000" y="5343480"/>
            <a:ext cx="7739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;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826920" y="1711440"/>
            <a:ext cx="75661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763640" y="692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4"/>
          <p:cNvSpPr/>
          <p:nvPr/>
        </p:nvSpPr>
        <p:spPr>
          <a:xfrm>
            <a:off x="1022400" y="5861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91240" y="492300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114560" y="5218200"/>
            <a:ext cx="7705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;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1119240" y="1623960"/>
            <a:ext cx="6975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9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1133640" y="692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5 CuadroTexto"/>
          <p:cNvSpPr/>
          <p:nvPr/>
        </p:nvSpPr>
        <p:spPr>
          <a:xfrm>
            <a:off x="1282320" y="4983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4"/>
          <p:cNvSpPr/>
          <p:nvPr/>
        </p:nvSpPr>
        <p:spPr>
          <a:xfrm>
            <a:off x="1262160" y="5199120"/>
            <a:ext cx="734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4" name="1 Imagen" descr=""/>
          <p:cNvPicPr/>
          <p:nvPr/>
        </p:nvPicPr>
        <p:blipFill>
          <a:blip r:embed="rId1"/>
          <a:stretch/>
        </p:blipFill>
        <p:spPr>
          <a:xfrm>
            <a:off x="1517760" y="1630440"/>
            <a:ext cx="61498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5 CuadroTexto"/>
          <p:cNvSpPr/>
          <p:nvPr/>
        </p:nvSpPr>
        <p:spPr>
          <a:xfrm>
            <a:off x="2093760" y="55738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836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- Noviem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7" name="1 Imagen" descr=""/>
          <p:cNvPicPr/>
          <p:nvPr/>
        </p:nvPicPr>
        <p:blipFill>
          <a:blip r:embed="rId1"/>
          <a:stretch/>
        </p:blipFill>
        <p:spPr>
          <a:xfrm>
            <a:off x="1951200" y="206064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Tu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2 Imagen" descr=""/>
          <p:cNvPicPr/>
          <p:nvPr/>
        </p:nvPicPr>
        <p:blipFill>
          <a:blip r:embed="rId1"/>
          <a:stretch/>
        </p:blipFill>
        <p:spPr>
          <a:xfrm>
            <a:off x="1501920" y="1617840"/>
            <a:ext cx="6551640" cy="2197080"/>
          </a:xfrm>
          <a:prstGeom prst="rect">
            <a:avLst/>
          </a:prstGeom>
          <a:ln w="0">
            <a:noFill/>
          </a:ln>
        </p:spPr>
      </p:pic>
      <p:pic>
        <p:nvPicPr>
          <p:cNvPr id="1321" name="1 Imagen" descr=""/>
          <p:cNvPicPr/>
          <p:nvPr/>
        </p:nvPicPr>
        <p:blipFill>
          <a:blip r:embed="rId2"/>
          <a:stretch/>
        </p:blipFill>
        <p:spPr>
          <a:xfrm>
            <a:off x="1619280" y="3994200"/>
            <a:ext cx="61516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yac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4" name="1 Imagen" descr=""/>
          <p:cNvPicPr/>
          <p:nvPr/>
        </p:nvPicPr>
        <p:blipFill>
          <a:blip r:embed="rId1"/>
          <a:stretch/>
        </p:blipFill>
        <p:spPr>
          <a:xfrm>
            <a:off x="747720" y="1773360"/>
            <a:ext cx="7296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870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5457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5154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2725560" y="4805280"/>
            <a:ext cx="6193080" cy="20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2879640" y="260280"/>
            <a:ext cx="61563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1441440" y="250524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692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1949400" y="5500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1616040" y="1971720"/>
            <a:ext cx="6105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2525400" y="5805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514520" y="1662120"/>
            <a:ext cx="61149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1908000" y="76500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200160" y="242100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Oscar Eduardo Reyes Nieto</cp:lastModifiedBy>
  <cp:lastPrinted>2015-12-21T21:55:13Z</cp:lastPrinted>
  <dcterms:modified xsi:type="dcterms:W3CDTF">2015-12-24T19:26:29Z</dcterms:modified>
  <cp:revision>945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