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BA12-1097-4E2E-B346-F49E4E81CB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9AD4-7F38-49FF-95BB-B52EA8B93E0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62D9-D7E7-4097-848A-605D02686CA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E2E6-6CCA-445A-B798-FBFBB98B82A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97AC-5F43-4CB7-B2B3-ABFD754E2AC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0D7B-A7A0-459B-BA1A-6843679BB04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674F-923E-489A-A2DA-DEBD56A0E1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6514-75CB-4A6F-9B4F-BE20CAF1B64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FCF7-B15D-4CD9-8B00-B22F896E075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AB5F-8EF2-452A-B298-4494B00E66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2FDD-CCE4-47B4-A511-FD895ECCAA9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A094-F6EA-46FD-BB7A-836DD9DA4A2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F6C9-E0C0-4BDA-8B6C-C70A564BBA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18A2-923A-4C8B-9BEF-699257A39E1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FA0F-A0EB-4916-9419-88966A2567B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B6DA6-343F-406A-95AE-F54630D56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C40F5-B9D6-4D6D-996F-8321E106FD3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32176-C76F-4669-B3A7-58EBEB13B74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3789A3-898F-4E25-B48D-A23CABEC73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F499E5-6DF3-4E5F-A78C-05C8042D892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A0D27-0344-4D48-8324-9654B83FF92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A9368-2C53-4216-823C-BD8FE68E6EB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BCBD8-7725-427B-9FE3-27D9F81246B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09D92-AFDB-4A53-AC15-60852A71042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D6220-EBC4-429A-A451-93597FE1E9A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86565-3EF4-4655-9F55-D0613A8CB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EA130-9229-46CD-83B2-6831FE00217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18A88-0691-4A26-979B-8D3FC9A81C6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B7EAA-641B-46FA-91D0-3FE19BE9483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17BF2-75BC-4BAC-B1D3-DDA1DAB77C0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3967D-6FAB-47D4-96EB-AB3B1684957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C26FD-50D4-4ED4-B868-8BF287FA8B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827DA-913D-4581-8970-9F6A3FEE235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B1469-0210-4BB8-A1CB-CBD46511A25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A0347-309E-4C29-80AE-409B9EE055B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8DAA4-00C2-4E57-8802-92C243CD1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B4DA-DDE4-4775-9A38-2709C3ACCC2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48AD4-AD56-4155-A487-7A31D2A780A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A42EF-B8FF-4990-8BE8-003DEF72650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71C1E-D395-4D18-BDFB-9B963D91E51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1326-B25B-473D-A7E3-F699F65E188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C1B7-A34D-4766-B4D0-6E73EA4B4FA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CCBF-C99C-4DD6-B4BC-162F6C156CF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9FDF-FA2B-4EF3-AD36-86A514A66A2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2B1B-A94E-4160-A3B0-A8E1052A6C8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52DB5-7E23-48F2-84A6-8064E91A5E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DC35-16AE-4FCC-ABBE-15555EEC0A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F32A-4420-4827-953A-AEA33FA369A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F549-ECAE-4BE9-9A10-352C56FBE64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AC614-9BAA-46D3-9114-3C6F7B04082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423D-6CA5-428E-8BEE-C7AFA62CF98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578A-E5EB-4318-AA45-4FF60E2B389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CBB3-37FE-44FD-91F0-9518DFB9D0C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AF7FE-BA7F-4B64-A30F-D292546BCCE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C9B07D-6415-494F-8D0D-C90873A2D4B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8321E-043F-4E9A-9254-9BC33BFD743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0DCA0-6413-452E-A220-A132589382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93D22-5073-4071-ADD4-46E00B2E7F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D0D2-6696-403E-A71F-C46B282D84A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81EF1-7860-4960-B5BB-20B357BDF75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A6E8F-C5E9-4A36-90E6-3A1E69D4672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4272C0-B07B-4A7E-BB95-2B15518AE78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0BE17-996D-4E84-9523-EEDAE2EC63E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2E508-C500-409D-A478-B66A3CA2AEC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3D19A-C6C0-48D1-9153-98CDB25E90C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2D8F1-F512-4F28-AB87-8E36F6209DC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87C4F7-F219-4BE7-947A-59C3F9F40A9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0B9B50-8D65-420D-A85F-52C9E337CAD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F6610-F0E4-4FF8-B4C4-3A32CBBD88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E181-FD66-4C4F-BCBE-12A5F0E84CE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BE3B9-B23A-4687-B910-A6C846924A5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77E07-1117-4CDB-8509-71192B11BFE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14BA0-80A2-4111-A31F-6B00B596912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6C72C-36DE-4538-8C7B-537AF91F7D9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D50D3A-C04E-428C-BFCE-9CAE8E5473F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469784-7B7A-422F-90BE-49EDB974B2C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6E436-8B74-4506-B5A3-2EC91C38E57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13761-FB44-4704-9572-09B024414CC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2A7F2-6418-443C-8749-B42F3CC4AA8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409D-4BD2-4A1C-9DD1-CE093639BD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52FF-8EE2-454C-802A-D22542D7A44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AF41-D4D6-4AFD-8849-D1C1D510D57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4F17-61B3-491A-A796-D2549228693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0116B-2A27-4FD4-A00B-CB231675CEB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BE77-CBD0-40B3-9FA6-2F3DF1B39E4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4133B-723B-4D18-B729-3783AFF8DE4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16D0-7BB4-48F0-AC38-55CCF2AE646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5E080-7A47-4460-95F2-219DC35649F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BDF27-5E73-4586-A675-581427773B9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D824-E122-4368-B46D-11B11E5582B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E931E-9137-47F5-AF4C-03AC90F459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F2F6-08E5-4DAD-AA77-ACA6FD12115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5911-4181-4312-8437-DA1100C89B9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894C47-EC61-441D-A34D-13961B298CF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1A9FC3-F2AC-4AF9-9C1D-56A275A95B3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6834D6-2E67-4862-B792-BB9996F3F70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6F4DF0-491E-43BE-BCBD-B3422917063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84D93A-D3AD-49B6-87A4-56D1F56FCEE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BC11C4-8DE6-4DA5-A615-8E0BC9D0D09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E8EA1C-B4FA-4ADF-8622-4F4B720F4B9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D4A860-0ADF-400A-AC6A-2303773FD84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3935F6-D689-4400-9CBC-6D821A399B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E64F-6BF3-45E0-A449-B4BE804BE6F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DC3D14-D3A1-4B93-976B-D4D4B684EDE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095FF3-A1F9-4FC6-8908-B5A2EBD78DB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F4B4EC-C3E6-4DEE-8935-8971960B64F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4D95A-A6F1-48FF-AE15-EE10BA64730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DF90D-A2DB-4E8B-855B-1480AB094BF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D77DB7-0448-4700-A0F1-2BD49170B27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F818B-CBBA-4C9A-A727-4090A276248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98612-E719-45BA-AD2A-47DE3ECD851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D4B0C-29DC-4A19-8C5A-44D87FEE484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B44C7-09C1-471B-8366-31DBD43DFD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95E5-F47F-444C-A2CD-4F54C6F8FF2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906FC-9179-4C13-BA27-3011CD74552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F563B-B697-4AE8-993D-B0FE5F1DCD4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E4830-BD16-4B82-8B43-50FCB5AE438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A6201-F1FC-4287-8311-39C43E002EF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B8FF6-568D-495D-9DF2-A19C0B202D8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639EE-0F3F-4F1D-B457-69ADE832BE0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D450C-29C0-43D4-A891-A867A4FFD54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E2D7F-3A5F-4108-8F2F-83B7BB40317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31C4D-67E7-4432-B4B0-6E55D5E37B8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BE37-0C6E-4290-A569-D00D077F55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CEBD-5DE9-4F03-A1D2-72D68C55CE8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C0DD2-3D74-431A-B4E2-B00127AA16A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BBE39-F8BF-40E0-8974-4F971CF4D47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5876-07A6-4249-AC93-43C13F5A14C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7E3AE-257E-4481-B5B2-259F6A68AA5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49E2D-9523-4E04-BC7D-1E2DCC908B5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2555C-4B2C-4B7A-970D-0EDB3AA68B4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01FD4-D2C1-4A9D-A162-E1F21474841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01CDE4-3AFD-4060-895C-7AA3CFFE2F7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B03D69-9914-4298-AEE5-D3F0508F8E2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FFCFF-8321-4BC4-8937-0AD8226B11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1D52-0464-45D2-A563-385E90BEFD3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BDA64-252F-44B3-B4F4-3BE0BDFA4B5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D04F22-1547-48F2-9415-BA40A2208CE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D38627-A46F-4ACC-8331-D25AF8F78D9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50F12D-BF99-4A80-B774-BFF08CF7F8C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966964-1C9A-44BE-A358-B4D22D41A37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F7623A-73A3-441B-A901-0D6F5D5A50E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56A8FC-694E-4C43-B0CC-E7351BE6E18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204B67-402B-4E45-B0D3-21914FD9742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3EAFAE-94AD-432B-87F5-E7BAA1E2B47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BB745-C7B0-42B7-BE88-3F510FA86D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7455-C1FB-4BAD-ACE9-95249573A96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47768-849F-45ED-8E09-4C05E55EAB6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DBDB4-A68D-4E4B-AB7E-BDB8286405C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A7FB1-C26D-4775-9BAD-79D70F196F6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2297C-C29D-47A2-98C9-530C65E4ED3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12137-0618-40D7-9630-29D01A16C6C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74F31-6132-43D5-A49E-5988F25FB06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E6395-408E-47A4-8794-25C68FDD60B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BA346-1C7D-45E1-86E7-B1846A68C98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D51EB-D2EC-4377-9EE0-43E39E6DF0E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EC0CE-F670-40D8-8DE3-E4BCBA844A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AECB-48CB-442D-B373-C207525FD23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3E4AE-14A9-492F-9FCA-1E15E3248ED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E8BD4-96CF-45F9-ABDE-B1206336F47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E848A-7791-4F2A-A22A-FF2C0785098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A375-4A06-486E-81EE-F95FE2EA5ED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25970-7A71-47E1-BE4B-244C24EC9E2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6BD6D-0A7D-4940-A798-1FB81B99D27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00101-BD9E-4CC7-A4CC-23D7BC58EBD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08E7-B9D4-4516-B211-F954B450DFA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8BE20-E3DE-4313-B0C3-003860FB920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EF885-0D83-4C05-BF8F-FDD15CF0BD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D7BA9-5973-49BB-B03F-5C8A17C329F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D27D7-EDA3-4D50-94B8-FE323B347FA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31BC0-241A-4E72-B030-41B775B4737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C26D1C-4236-40B2-8E57-8140E48723B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5AD62F-7954-4266-B219-A2A7FACAEA2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E0AAF1-C658-491D-9891-B9CF8DBFF19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792554-CBA5-4E46-827A-72C00759FAC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C31AF-DAEF-4189-BC21-4CEBCF2C289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966A4D-2B49-4479-A2F7-770A205E5F5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68F2C4-2498-4944-8FC7-0EA802DE85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363493-CC74-4725-90B3-73176575E89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BC132C-9EBD-4A8B-9540-776CE42A1BF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21FE93-1934-42A9-AD21-D0D4AC468A0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C9B58C-D791-40A1-89D3-F70F7ED03BA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C6A4B9-6C8C-41D6-AE72-FD72A5BD573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6A20E-0708-409B-8425-EA08068951C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6446B-C3FE-460D-8BFF-D7BFE26B575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54FD2-2215-4FED-A3FB-B39C1CB237C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74D35-F59C-4FEC-BA69-FB7A2D2B764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95FFB-DC39-47B6-9A46-82B8A3586D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C5AE7-329A-45D0-9E6C-C0C5EE114B8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57317-C8B0-4E65-9C61-5A1C354E4C0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CDD38-08CD-42EF-8C50-BA2F8B3309E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2EFA0-CC17-4DD7-9613-E662BEB32AE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C09FD-EBA1-47E4-9B27-3AFAD7D1471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8D90E-99DE-44B5-9A2E-8718A52CE39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90FC6-FA21-4E2B-B411-EE188108F2F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1A075-734C-4ECB-9EAF-7D964E6224A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47470-3618-4EEB-8F9A-08827800067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03C54-A64A-4CF6-AE2C-73BB516731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D0609-5128-4E48-AA37-34CD740953B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74DDA-7866-4A9F-B646-351099C887E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6E454-CF4B-44A7-B5C5-66C2EABEB51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FCDD6-6588-44D5-BFB7-91FEB6248DE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4C15D-F494-44FD-900E-8ECD3787CC9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10642-9408-4404-8720-5E04CB304E1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7C5DF-6EE7-4C33-9127-09F7B3A7E8B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44645-A8BC-4A43-8191-519CDD0884A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C8F4-82B1-4F29-84C1-E80C252C99B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8692D0-701A-4ECB-8791-E77C4A8137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0B7898-62C2-4DBA-BE79-91E6FF3A76D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AA4688-134F-4F5B-9DA0-5BCD86CD8F3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569651-049F-4BE8-BFA9-31DC7CF778A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322875-F08A-46EA-8CA7-96ED345F573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7CC41C-874B-4684-93A7-F5C85D8A96C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121F73-DB36-429F-B066-ACCC92009D0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4E79E7-365F-4EBF-B693-7CCB654ED49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E44356-56E4-4617-9232-E35C2A47FF2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CB8A6A-31C6-4A69-A32E-16037E6550D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ECAEF2-855B-42A1-9196-04D3FC33C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E0BC4C-497E-4494-AD99-C8A8F8B9C3A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F28866-9BA5-4E25-9CA6-8FE9B6E4EEF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249D25-0C04-497B-856F-513CC16758D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221D4C-2F35-43E3-A5EF-A8C20B6256F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0F09DB-BF77-44C6-9402-84AA9143C3B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6B1E7E-1E6A-4DE8-9D24-E98CC2C9C31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7126D1-2CCC-40D5-8282-57A34887AC3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7013BF-7D5E-47BA-95B9-874DC5EC148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1AE4C7-C762-4504-AC7C-0E0F15FA22C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E9C2F-3877-49FA-A77E-5A1A4161E4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98CC20-8E6F-48EC-8BBA-D3A4E11E4AE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B357FA-ED9F-4A8F-ACCE-686FD8FF033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B27CF7-04AD-49F7-8CF1-5C1CD26B8C6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95203-3AD3-4911-B166-BA3836B8711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7E3A5-FC10-4461-823B-641487CA0E0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E93B6-701C-459E-8A39-E67E9CA6AB2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A10C3-9E09-4465-AFFA-2D93555D631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926AE-A2A6-4642-819C-BF7564967AB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A400A-770B-4F2A-9436-26FF2367B83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7E9B8-FC90-4BCB-9255-597E1F240D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E1D49-8B90-47D9-BE3A-C1E45518174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EC1CB-6DA0-49E2-B5D0-0A8EB14B06A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D1BD4-2086-4E09-B81C-27D2866FD5C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63A42-5B6B-45FC-926E-F82EB7DB39D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B443-F9BF-4419-8DD5-C4B16F6528F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32E2-801B-454F-9A11-460C0C0AE4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3CA7-C2B6-46C9-840E-915248D68D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9181-9116-4536-8A60-F55537F5F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C5A5-5A5D-492D-81C1-D063BE0A04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C9F79-467D-46BF-AB7A-81F7FFA947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1DAA-CFDA-4A84-BE73-BE108FC0A5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0004-65A0-43BD-B71D-9069FBB1F6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A196-41BF-4B7F-9C30-78E0C9C8A5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522E-D92C-4BDD-BD9C-20AA4F873F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67E8-43DC-4E0D-A155-527B07925F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2749-8CD1-436F-8A6B-440C0A24A7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FCD5-2304-4212-AC8E-7173B841DC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F17-9A84-45B4-BDB2-DA37B8186AB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B2E-BB60-440D-8911-BCA0AEC71BA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47A-B5EB-4B2D-A8AC-E54BDBEA771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F4D-31AA-4E36-9474-9EE24D3AF1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2CF-EBEE-494E-8252-3EDD51C6745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C85-EB35-49D3-A1CB-AD0748E62B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368-0EF7-4CCB-9987-4869FA4D9F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833-A4E6-4BBD-B5D8-D6BB04D8A3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59D-C816-450A-8C6C-8661CBD75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6B2-ADC5-431D-A9CE-DB9675880E4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0C3-24DB-43DF-AC6E-18AD4414BB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265-E279-4B19-ADFB-92D74D55D7F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13656-7129-4DFE-BF71-338273F3E9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9DDC5-E282-4036-BC93-2B01F37293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31204-7FB2-4BE7-BC4E-91E8051B01B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92B06-57C5-4854-8C02-A301F91D896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4A83D-2FDD-4F2B-98BF-4EBEFC62247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C9F69-9752-4A13-A542-DDE8771727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8DD57-9145-417D-874C-0C842C650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C9AC4-3B49-4743-AE75-D8F9E554332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044C6-2724-4AD7-956B-FDC32AC2ECF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B1013-6D98-490D-83FF-61EB173BB4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784D3-3995-4828-94B9-BBBAAC90882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D01FE-A0D0-41A9-B852-E61778382EA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E3B89-224C-4A41-9B85-C084F168296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DA101-E81D-44C9-A215-2B065D71EE5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594DC-F37C-4871-92A6-FA3E133D6F5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5CC16-CC36-4DD3-AE91-EFFDE2F9D84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0A4B4-C35D-424F-A50F-C986F64BB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31213-E584-4308-B8B8-0651ACB62D6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0864C-44A1-4519-8564-F971BFBB758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9AEF9-14CF-4E6D-8914-82D500DB7B3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E6F5C-DAB6-4B21-8952-2B540A73F5D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DC9AD-4904-473F-999B-FDE5C180252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F9104-3AA4-4CA3-A309-1ACC02357D0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62CB1-93D0-41A2-8AB5-71E3E2DE289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8F14-3AE2-4B1D-8CFF-D0DBAAA1AF4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CFE2-E9B8-4A1B-AA1B-9C9B128589A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2AE2-055A-4BD0-9DB2-C15301397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8EF0-0C2F-4AB9-BAB1-1F471BC0EB6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E32A-286B-4FA3-949D-4F18023C28E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F4AA-831F-4145-87E9-04490510A56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2B2A-CAB6-416E-92C2-3CB5286DBAC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3604-90C8-438E-99C9-342CA55C60D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5739-D743-4597-AD7C-9C402B755D1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E72D-BFF5-4B28-A828-DAE44830F37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B54F-D868-4311-BB27-C8BCD98767C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E810-9290-4A16-8DD4-C1408DC4655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F378-FD08-4A15-ADAC-06D305D4904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6487-4E7F-4615-9323-1BD037BE4CE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58FC-A25F-414E-A272-F91103E7AF0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E476-9015-4FB6-B3BA-F10D80CDB08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B1EE-DB5A-492A-8702-1B011C4CCC5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734B-B8BA-4E28-A03A-584C6D5FE55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D379-C4EB-427A-A285-6976DBC7E8E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A50C-784F-4FCE-B618-FFE0DDCE71D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CAC3-B86F-4FAF-92DB-6440633F9DD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B3B4-1F52-463F-A03D-20AF55A7EF1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7492-0236-458F-88DD-D3BCDEDEF81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92E3-059A-438A-B51B-F3B7CA2A918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972F-991D-4B4C-8DB6-BFCDE8EBD95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6DE7-30CC-4680-8436-565EA9AFD5B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3A92-95CB-4A6C-AE41-8CA483957D7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535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arranquilla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Ener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5493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16000" y="523404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*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52440" y="498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1046160" y="1557360"/>
            <a:ext cx="70502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*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157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190520" y="1727280"/>
            <a:ext cx="6761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971640" y="549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15772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^ 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 :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8 CuadroTexto"/>
          <p:cNvSpPr/>
          <p:nvPr/>
        </p:nvSpPr>
        <p:spPr>
          <a:xfrm>
            <a:off x="114120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870120" y="1628640"/>
            <a:ext cx="74023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327320" y="47628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6"/>
          <p:cNvSpPr/>
          <p:nvPr/>
        </p:nvSpPr>
        <p:spPr>
          <a:xfrm>
            <a:off x="719280" y="5222880"/>
            <a:ext cx="7351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^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8 CuadroTexto"/>
          <p:cNvSpPr/>
          <p:nvPr/>
        </p:nvSpPr>
        <p:spPr>
          <a:xfrm>
            <a:off x="112212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833400" y="1413000"/>
            <a:ext cx="74772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4936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42920" y="5516640"/>
            <a:ext cx="80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941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979560" y="1557360"/>
            <a:ext cx="718488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620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otal 13 ciudades, áreas metropolitanas y 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Septiembre - Noviembre (2014 –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085760" y="1635120"/>
            <a:ext cx="6809040" cy="16495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270080" y="3716280"/>
            <a:ext cx="65530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tlán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46124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925560" y="1844640"/>
            <a:ext cx="7574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4080" y="2060640"/>
            <a:ext cx="7575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843280" y="4397400"/>
            <a:ext cx="6048360" cy="20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2933640" y="344520"/>
            <a:ext cx="59738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90792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(2006 - 20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546200" y="2068560"/>
            <a:ext cx="6415200" cy="344808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030040" y="56214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1 -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461960" y="1676520"/>
            <a:ext cx="6220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eptiembre - Noviembre (2014 – 2015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74840" y="2421000"/>
            <a:ext cx="8194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eptiembre - Noviembre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scar Eduardo Reyes Nieto</cp:lastModifiedBy>
  <cp:lastPrinted>2015-12-21T21:49:57Z</cp:lastPrinted>
  <dcterms:modified xsi:type="dcterms:W3CDTF">2015-12-24T17:56:34Z</dcterms:modified>
  <cp:revision>196</cp:revision>
  <dc:subject/>
  <dc:title>Diapositiva 1</dc:title>
</cp:coreProperties>
</file>