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972B-1378-4E62-86D0-9EF3B02429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4B9A-7277-4EA9-AC11-5669DB834B3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A65C-AF7D-44A5-99E7-1E1AF7C7E8A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65F7-3001-4753-8BEF-F45ACBE0FBA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7635-ADCC-4306-A36E-48E60A5C000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B691-38BA-475A-8AC3-9822A7F0C4D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F17F-23BA-483D-864A-5F529970D44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04B1-06C2-4808-A529-15B6326260C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3D3A-972F-4424-92AB-5FB98377714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A267-1379-4D64-A448-B9528506227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A802-D062-4536-9186-2E353983EC5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9301-E28E-40F3-ABF8-17999C8D8CA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DABF-C131-4651-B441-BF9F5CEF6F0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595B89-7FA4-4194-B3F9-96710C3B9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422014-EAE6-464C-8B49-80B7C08E7C3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23FBC9-A2C7-4701-8264-3AFCF6BA897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5CA833-B7FA-4105-9934-0D7D2BD97A4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7958DB-E30E-462C-BF42-C47F2D9804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7EE42B-C5B7-45D3-B27C-699AD24DAD3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2F8571-7D59-4BA5-88D1-59322019ACE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66AF02-FD74-4DBE-A963-C8E479FD81C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1511E6-0EA3-4BFA-AA44-F54D5CC2DF7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8AFA16-4782-403F-AA45-5E7402932D4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18A859-B9DD-4E5D-858B-A6B2854E1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501AE7-DFFD-483A-96B1-B0E3D8E30B4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B9CB9-2877-4261-9D14-68120B299FA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53048-E547-4746-BFA6-44E919BEE6A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CA2DC-8F42-4BE4-B3B8-B3280DE144C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C6DF0-BCC0-4598-96AC-8E450B277E3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1EE7A-ECD6-4BEB-8876-57D3980B603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C353E-5BF7-481B-A30E-EDA6A4BC09A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B416E-FACC-4870-91F2-A389288476C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667DF-8CDF-4A67-9884-3853D43A61F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AD406-34B2-41CC-844B-53A0885A1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CECE-9A43-4652-A660-558CEA7E6FE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FB7CC-7F06-48A2-9382-1D94853DFF4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BAF0E-0BFA-49C1-9A79-4943E01364A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C796C-6B2A-4164-B3EE-229699BFBDC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BE133-AD44-4712-A135-7173B07DFD5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E16D-9213-4618-B150-FF6304A94C5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DC7B1-AB99-4318-BABF-C991A40E36E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99A13-2AAE-48BD-A76C-91D57A3DB21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C2CE-B325-4C66-8453-AB6DD0A607A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6525-D38A-42EB-BA79-3506F21A8A7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EC730-2013-4413-8E51-60231F824F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64F5-034A-4C29-A637-1ABA84CEC9A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DC8BA-8B5D-4B84-8AD4-43789663EB1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B6AF1-5B47-4C81-B09C-BD119008F96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8297A-BEAC-4F0E-8958-FA3D919262E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5B31C-94BA-46CB-8C35-0470C6D62E6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9BC50-9BB4-42CB-9BEE-44A7BB5FF71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8CFF3E-9F5B-4251-9D30-73EC75B6353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831D3-5FBC-4B24-BC4F-BCED8C1D528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B77DB8-85B1-48EB-9AA5-DD0FF86CA9F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EFB1C-AC8D-4E5E-8BAC-67E504CB2AC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9776E9-FDCE-4475-92C8-CAB7B59E13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7F79-8DE9-4CEE-BE41-6B902DBF666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939A83-4976-47CF-AD25-8E12E5C2609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0D863F-B5D0-4802-B610-0AC01E51F60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4D4C32-14A5-46D9-99CB-BD488A29846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C8B242-6DCE-4A99-B066-56979010608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8E75DC-115D-4164-9586-7F85B33392C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B9D18D-564D-4116-906A-7110D32A4EE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B667DF-1DFF-46E6-8DE2-1E522C64E24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0C58E-1F5A-4944-8EC8-C9901A3C413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326E37-0F53-403F-AC0B-41CDE0F586B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51495-0B21-485D-859C-5C747A7487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9D42-D837-4565-BBA0-00DB6615F25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2B34F-6E5B-4438-B45E-1B8D13C9848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AA8EF-AB9F-458C-95B6-E24A4ED93F3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82E54-3B99-4AA0-A495-2939BD394BE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5262A-3A62-4617-BA08-B155B4A7C92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F2630-56E0-470E-BDEB-51DDF122DF2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186D4-208F-4E4C-922A-3249582697C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4781E5-57BC-4C66-BEE0-79194CE2B51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1D8931-E90F-4E3F-8E8F-DE0B60D8DC4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49B91F-6031-498E-81AA-513677CBE31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3B0A2-A1A5-4449-A87C-C15D28BF49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44B1-B811-4890-9D2A-42FE5A18709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A4996-D642-4F11-9D83-17E53BB43B9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C3D72-35FD-4CFB-AEFB-5D354DE6AF4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C5945-6FA1-454E-A72C-1D41103172D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A75B1-3FA6-47BF-B6C7-090253AB42F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2C620-E330-41CC-BC13-988739A58E5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B9788-8075-4F49-963F-DAB1A477ED5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A8C58-6DCD-4009-B40C-24F3EAFFE88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C5F3F-15F9-4CB8-81A5-5AE757E0F69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BD1AD-92F4-48C0-95E5-C56759D283C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5EC8B-0345-4797-8E13-33AE1E5C29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E9D6-63B2-4DD6-9701-919413437FE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F8861-1F95-4D8C-90DB-1E95B5447DE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9F162A-5540-4097-9F0F-C6F27E3EF5C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35AF3D-DB82-4FE7-B2E8-824E9793B75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831B4B-9F3C-4AA5-9264-BB6712AB2E3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226576-40C5-405A-BDED-F50D4DEB2AE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90FBED-AEE7-45B2-A11C-C2AFE7FE997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A455A6-8272-4EE3-A007-3A0D21B433C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91227A-E566-4997-878E-B967365E1C4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F30532-05F7-4ACB-8B4B-35380A3D835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64A24E-730A-45F0-B85E-BE4F3A1768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B1B1-A9C6-4A5F-B8E4-B90006235FC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15DB7E-4EF9-4593-9241-987D038BAF1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04CE7E-6790-4B31-B441-67EC1D630E9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A3FA31-B043-457B-8F0E-98E0192E7F9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C847F-B8CF-49D9-81D5-006AC424BDC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663EF-43BC-4963-AC20-6649442BE99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3FC21-2AED-446D-8DEC-232859CD1E9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F0072-04D5-49E4-ACBC-A99056FD743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D9E63-5B05-454E-BFD4-496C9CE46A1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E90AD-0980-4DAC-B361-D98D27D34C8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0A724-CE51-4144-9C24-25226D753A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9C15-B56F-4100-A020-59C57CC882B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97613-9965-405A-8D9C-58E4DC234A5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7F48D-CD31-457D-AE13-A8BC68FC12E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81520-B09E-4683-BA53-F48BF7E5E7E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20D2A-0FF7-458D-AC49-E99BC9A6EF1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3B1D2C-4A35-40D9-B0B2-7113EF881B2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B3A41-D4B8-4818-8F78-843C0BD6C00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CC3A5-F8E9-4D43-8260-31E2B3CCB47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2B868-CC0F-4E54-B915-2BE2B10B18C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DA2CA-BFCB-47BA-98B4-8C8D2E65F43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4CABF-2BD0-4DEE-B524-482B621180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6F36-495C-48F7-9604-C718BF5192A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7EAD2-9ED6-4FE2-B903-364638C0B01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40A8D-6F5E-4C6C-A26E-002696DEA9F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8421C-4F71-442A-856B-77A479F5FC2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AACE8-4EEA-4D6A-8852-C8B017C134F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063CA-06CD-407A-B3EB-C846A7F29A3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A32DC-EF3B-4EB1-A5A5-246A6A148A8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3DFB1-07CE-4E0E-985F-695EDEAF4FC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9174C6-580F-4E30-B0C6-83793B35AF4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D2B3F3-C68E-4C81-A128-24B736F225A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BDD44B-4B28-45CD-8F01-A9D0A9B366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E8FC-7C32-40E2-85E4-30B9A185AC6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1E8011-9544-4008-B424-8D25C41617C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130B20-24A1-441B-84DE-9B9CC319840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28113D-026B-412D-B2E4-4119E6CC364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FFDFEE-C86E-4B2E-978B-AD5320D30DE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F23F7E-18FC-4D96-96B0-71E2471F62B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D4D7E6-B157-425B-90C3-AF06F01206F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A554D0-6AD3-4938-B2AD-226C8326341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D1AE42-59A3-4454-ACC2-CFED20FB6FD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7BBCF7-6E5E-43DD-8855-91C7F012D83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395A32-1EAA-41F7-A5AB-76517E05A0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6DA8-3175-4DE7-925F-65006A33F07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174E5-3335-4604-97AD-6CEC7DA76B8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0FE0F3-5ED9-4B36-A9AB-83CA21608AF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E858DD-AAC1-47D7-B5A2-40D0CBA9CF4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2081A-741A-4B0C-9CC9-0791B50C460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9E91F-288F-4F55-864D-8C582C2BD66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1F3BC5-03F4-4440-BBA9-CBD1A3FFB0F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EDEFC0-D618-4B8D-A67A-E39B5963FBB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D79C93-DFD4-4C8F-A9BC-D85693EAD5C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07880-0840-4C31-B3FA-5D155A0EC07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100E5-A8A5-4067-9A95-53E225C7CF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DEE1-E8F2-48A2-B9F9-A7172013789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F404A-DF4F-4DF3-8775-5411FC96DF0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D6102-6E69-4752-8208-5A83F31D27F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00EDC-E947-4E1F-B0D9-B50A4836418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40FFC-772D-4F98-AB4B-F95E5863623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96373-E95C-4433-B2F8-637ADA039F1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59352-845B-445B-91B1-0284878893D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EC563-F95C-4BE3-BA34-2B103ED3330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8A1B7-5641-4A8B-A00C-E3DADBD9D19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82E88-1A8A-45C5-9A45-126ABF07276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C7AA0-2315-4C66-8102-340E3D6D57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3EBE7-25C2-4D29-BAEC-D37A5C2A97E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9DD64-058B-41C8-A18D-838DC3F2055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0E8B3-1F56-4F98-9F5A-176C04A376C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83369A-3211-4293-A9DE-24DA9D049EA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964AC1-DC1D-4588-98AD-1F8452767BF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B9FF18-C65F-493C-9976-AB5633ADEA6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E115F9-1AAE-49AE-8677-AC26154BD8E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D56752-29D5-4967-93FC-7A2F8246450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B82ADE-7F57-42E0-8AE7-8337D8AEFF3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07CEE6-D2DB-4FE6-85FC-E5B22CF98F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21A47B-4BC2-4F52-8591-2D4A6C02A17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CBD4B5-44CE-4495-A3C1-25D21BD9089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6435C5-F127-421D-9BA5-C57B9D3FFDE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957967-5135-4B7C-B33A-94EE2FB74A6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0514FE-FB6D-48EC-BCA6-F7A43688543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D92504-8224-45C7-9EC0-0D0DD32B59E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A8FDA3-B4A0-4A9C-96BA-A65CB5799FB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C8F098-35EB-446E-98E1-E86DB243884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173D97-2FA5-4E58-9050-C06A4F3327F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AAD85-A052-4B03-B6C4-0534230D4C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748EFF-2732-495D-9BB4-B51BCF53E77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87ACE-9BF3-405F-A25B-DE7D8157796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C166D-31BF-4C30-B092-D6B79D76826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D5707A-D126-4EB7-B73B-1628FF5BC24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87F12-95C8-46AB-BE2F-805437A8EB6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8E9365-6111-451B-9358-7BFF905AF84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DB85BE-E866-4803-A7C3-471D276D7DB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0423E-EB19-40D1-97D2-E897D32DA59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7417E-01D0-4E4C-832F-E7EA536B258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1906B-A1A1-4D16-B3D7-A46A54E204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B9C32-CBFA-4B87-AC62-AE0E20473E0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67A9B-B005-4664-BE75-5B851BEE1C4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B0B07-9A32-415C-B636-25790D703C1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94F1A-0513-4C8B-8A95-931C9CEB637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90F85-F95D-42C2-98F1-92D92FB4A0C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C73DD-4AFC-46BA-B258-B121A3573B6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D0BD7-94D1-4677-9E7C-BF548B1F6D0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18CFF-7EB4-4F3E-B5F3-9C4DEAFAF48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ECE05-D246-4CB6-9862-68F4FB572CB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BE6BFB-2104-4109-9EE7-F2804959A5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F9BAF3-4DAE-4CB9-ABF7-CA3DA624C61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3FC545-B123-4CC2-99AE-ECCA0D899C6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42EA24-4075-4896-BB5D-6BF84B26C64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62FB1A-C04F-4E5A-9CB7-3F737730DE6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660179-C7A0-47D7-B18A-D941DB90A92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F0C04C-EEA5-47C7-8F04-B8D1EF8AF5F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E37B6B-299E-411A-B143-A2A997C7E6B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977D1C-D773-4FC3-89D9-0560C17C43C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6BB7EB-178F-46EE-A756-640CA88607F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A9A107-4E2B-4CF2-9AF8-E0B9A33C59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9B621A-FBFA-464E-8ACF-2527C918679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7334EA-79ED-4981-BC97-E08D8522BE0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969BA6-3E54-4515-95E6-2E0A2F47632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5490D6-CC35-4579-8690-959707B69EB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FBF0CD-1A85-4DD6-A485-148CAFF7003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9A314F-8CAC-46C3-811B-FD0ED71722A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11057B-90CB-436E-AC65-CB3530ED931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CDD907-5C28-4D8E-BED5-617DF4570B5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748074-B79C-4406-8B18-C94EA61D878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CEA8F0-8547-4AC2-B3CA-02635B3CBF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5F34D8-79A2-4E43-8043-4CED6B1126E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9D3F0B-380D-4C47-8A50-54ACEDB72E5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1342DB-E299-4FE7-8572-C853C9F09087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7183F-E907-4FFF-BED9-53526BA59A04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0D41E-6AA9-4799-B2C3-9C671E5FC22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8AF28-609F-4CAA-A447-EB027FA81F8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740DF-4CCA-431E-9585-E386545F034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81B2B-44A0-4BA7-B64B-4B4583776FD7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E2B34-B036-46BE-8309-572C71CF377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5D5CA-064F-4904-A64A-A8FA80ED7C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95966-6A18-43F6-8C89-56828B8A0457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1C7CC-767E-4DC4-BFA3-1BD2A559F1C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CD1D2-54A7-4DD6-AF26-E91D91A4693B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E704C-F9CE-4385-A7E4-4CAB46057D75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2D1B2-A1D2-4EC3-8977-1752AEA6534C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7A62-F51B-4584-BB33-7E2727EE00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808C0-F3AD-45AE-9A71-68037C69D0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64A7A-0047-42B4-B71E-AB4854E08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9B7DB-DCAF-4498-B4C2-52A8D79FB2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230CF-0C6D-4D2B-8310-E6B6848586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542E-005F-4615-A0BD-F733485B5C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F0EE9-1DFB-4AD9-B8B8-A0D7BDD3159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4E96-1EDC-459E-A39C-B21EC93185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84C8-3603-445E-B6E0-4A2CC9C265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9C48-A839-48B4-BE39-BD546F3B45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5D5B-A8D9-4E00-9516-32468EEF15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0C2C7-D844-43E1-8CAB-1AFBC61F876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861-243E-460D-B824-ACBD282313D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ECF-B6F6-414C-81FD-8387B2BE0E4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001-750B-4A2A-BB7C-DA47EF6A813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74D-85DC-428C-AC72-CCC8C8C1F2F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09A9-1E80-43F6-92B5-0FAF566186F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2CF-E290-4182-A40D-E8E2601AB57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817-CD7F-4CA9-86AE-01AEA9FFDBF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0ED-2F14-495A-B070-7026820A9AF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DB5-7C3E-474C-8A33-76875FB07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33B-EF61-423D-BD70-AE9835EF732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EC3-C733-4DAA-B38E-2EFA7BB3641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A7D-B7DD-41F0-B3EA-1A87D917537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747D5-5AE8-4E45-AA0B-B66D828B9A0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2843A-5C7B-4DF5-9DB9-03FB70C84A4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DDAE2-C1F7-4438-AAD1-231E1F4816B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8838E-3D2C-450B-B66E-9B225E5DC3B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9CA39-71AE-4221-9804-EDE03A7EE01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B1B38-032B-4D10-8B2A-A4DE506577D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C36B0-56C6-4AC4-882A-C5AA13C46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83B8B-F5F9-4FA4-B7A6-2F85D08D271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4775F-E50B-4A77-8283-130E4F5B775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D6476-97E0-463F-862F-772E2440731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BFBCA-AEE6-49F2-8AD0-78F1E423E52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7D27C-DF27-4FCE-99F9-239E6679E5C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344F0-BBA7-4584-B228-28A4D91FC19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FC33D-8102-4FCD-A4C2-A6B5EC5F668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E132D-8D12-4549-99BF-A5DE16F51AB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A7EF4-BD19-4403-8232-79676E8AC9B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B575E-0993-4B1F-960A-23539B00D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6E52C-B572-43AA-BB0E-AFF2E7E29A5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C53E4-2165-4BB2-8F95-83F36A33F03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CEE73-A935-4A3A-A440-077DD8F5FC8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8BA4B-4D76-41AF-8C2D-B6D7BB14375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7FB11-4D75-49CF-AD2B-A38295B51F9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2F331-7041-437B-8A6C-3EF153CA924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46250-EACA-470E-A3C0-D877F4B643E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1B45-6CD0-44EC-A063-5E580668355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9F96-764D-400C-9851-E98B3FA50A9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4BD4-1205-4307-AA93-17628C213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1389-CD2F-4954-BB57-BF5B370B0E1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3AA7-BDB0-42EA-8DD8-1CB31B3E5D1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3287-D5DB-4E64-B5A9-1336B14F026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C42F-2A6F-4669-B616-B04A6C1467E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DB1F-A00B-41F0-BF99-464B00636D2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A200-F088-4B81-85A4-82558A29829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AFB2-F988-40F7-8DE2-F75B3AB0890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9C71-2C6C-40BB-941B-391779A3006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4D19-F358-4AD0-A621-2283CA5C19A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492B-C9DD-4CC9-854D-A4EFA57BAA6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9378-EA2F-4C53-813E-4E60681E4ED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CBA4-4EF2-4755-91AF-90BE4B0D042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F81A-369C-4C8A-97FD-4B25256C65B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0C6E-0426-4B0C-8A6A-980ED6947B5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C3BA-2401-4A2B-B3AF-8EAFFEA8AEB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AFAD-84B5-4616-945F-C4C30543427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A42C-9469-4C34-A1AC-46EABBD4145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2C37-10FD-4958-A93B-847AB09900D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A556-F6D7-478F-A91A-302AC34D976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9C86-67AF-40CB-89B7-96D3699EF9C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065C-FD69-4733-9CA6-6AB7B980A5D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95D1-43EF-4EF2-A51C-790E2797812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AED0-E53F-4472-AFAF-0543BA4AC55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F785-8421-48DA-8F5A-8AFF0E65EB3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Ibagu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ener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Text Box 3"/>
          <p:cNvSpPr/>
          <p:nvPr/>
        </p:nvSpPr>
        <p:spPr>
          <a:xfrm>
            <a:off x="1225440" y="5857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4"/>
          <p:cNvSpPr/>
          <p:nvPr/>
        </p:nvSpPr>
        <p:spPr>
          <a:xfrm>
            <a:off x="324000" y="5516640"/>
            <a:ext cx="871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8" name="1 Imagen" descr=""/>
          <p:cNvPicPr/>
          <p:nvPr/>
        </p:nvPicPr>
        <p:blipFill>
          <a:blip r:embed="rId1"/>
          <a:stretch/>
        </p:blipFill>
        <p:spPr>
          <a:xfrm>
            <a:off x="473040" y="1727280"/>
            <a:ext cx="7978680" cy="3578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1728720" y="52236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382680" y="544500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5 CuadroTexto"/>
          <p:cNvSpPr/>
          <p:nvPr/>
        </p:nvSpPr>
        <p:spPr>
          <a:xfrm>
            <a:off x="891360" y="525456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1 Imagen" descr=""/>
          <p:cNvPicPr/>
          <p:nvPr/>
        </p:nvPicPr>
        <p:blipFill>
          <a:blip r:embed="rId1"/>
          <a:stretch/>
        </p:blipFill>
        <p:spPr>
          <a:xfrm>
            <a:off x="382680" y="1700280"/>
            <a:ext cx="8075520" cy="3554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6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 Box 3"/>
          <p:cNvSpPr/>
          <p:nvPr/>
        </p:nvSpPr>
        <p:spPr>
          <a:xfrm>
            <a:off x="1312920" y="33336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4"/>
          <p:cNvSpPr/>
          <p:nvPr/>
        </p:nvSpPr>
        <p:spPr>
          <a:xfrm>
            <a:off x="176040" y="5373720"/>
            <a:ext cx="9004320" cy="5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* Nota 1: Obrero, empleado particular incluye al Jornalero o Peó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 Nota 2: Trabajador sin remuneración incluye a los trabajadores familiares sin remuneración y a los trabajadores sin remuneración en empresas de otros hogar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5 CuadroTexto"/>
          <p:cNvSpPr/>
          <p:nvPr/>
        </p:nvSpPr>
        <p:spPr>
          <a:xfrm>
            <a:off x="617400" y="5183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1" name="1 Imagen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569080" cy="3922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1763640" y="404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5" name="1 Imagen" descr=""/>
          <p:cNvPicPr/>
          <p:nvPr/>
        </p:nvPicPr>
        <p:blipFill>
          <a:blip r:embed="rId1"/>
          <a:stretch/>
        </p:blipFill>
        <p:spPr>
          <a:xfrm>
            <a:off x="685800" y="1341360"/>
            <a:ext cx="7753320" cy="3456000"/>
          </a:xfrm>
          <a:prstGeom prst="rect">
            <a:avLst/>
          </a:prstGeom>
          <a:ln w="0">
            <a:noFill/>
          </a:ln>
        </p:spPr>
      </p:pic>
      <p:sp>
        <p:nvSpPr>
          <p:cNvPr id="1306" name="8 CuadroTexto"/>
          <p:cNvSpPr/>
          <p:nvPr/>
        </p:nvSpPr>
        <p:spPr>
          <a:xfrm>
            <a:off x="830880" y="479736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36360" y="5421240"/>
            <a:ext cx="9107640" cy="5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^Obrero, empleado particular incluye al Jornalero o Peó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0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3"/>
          <p:cNvSpPr/>
          <p:nvPr/>
        </p:nvSpPr>
        <p:spPr>
          <a:xfrm>
            <a:off x="1144440" y="563400"/>
            <a:ext cx="68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4"/>
          <p:cNvSpPr/>
          <p:nvPr/>
        </p:nvSpPr>
        <p:spPr>
          <a:xfrm>
            <a:off x="108000" y="5300640"/>
            <a:ext cx="895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5 CuadroTexto"/>
          <p:cNvSpPr/>
          <p:nvPr/>
        </p:nvSpPr>
        <p:spPr>
          <a:xfrm>
            <a:off x="54576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6" name="1 Imagen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68407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5 CuadroTexto"/>
          <p:cNvSpPr/>
          <p:nvPr/>
        </p:nvSpPr>
        <p:spPr>
          <a:xfrm>
            <a:off x="198576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3"/>
          <p:cNvSpPr/>
          <p:nvPr/>
        </p:nvSpPr>
        <p:spPr>
          <a:xfrm>
            <a:off x="1154160" y="39852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metropolitanas e Ibagu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 septiembre – noviembre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9" name="1 Imagen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Ibag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2 Imagen" descr=""/>
          <p:cNvPicPr/>
          <p:nvPr/>
        </p:nvPicPr>
        <p:blipFill>
          <a:blip r:embed="rId1"/>
          <a:stretch/>
        </p:blipFill>
        <p:spPr>
          <a:xfrm>
            <a:off x="825480" y="1704960"/>
            <a:ext cx="7728120" cy="1579680"/>
          </a:xfrm>
          <a:prstGeom prst="rect">
            <a:avLst/>
          </a:prstGeom>
          <a:ln w="0">
            <a:noFill/>
          </a:ln>
        </p:spPr>
      </p:pic>
      <p:pic>
        <p:nvPicPr>
          <p:cNvPr id="1323" name="1 Imagen" descr=""/>
          <p:cNvPicPr/>
          <p:nvPr/>
        </p:nvPicPr>
        <p:blipFill>
          <a:blip r:embed="rId2"/>
          <a:stretch/>
        </p:blipFill>
        <p:spPr>
          <a:xfrm>
            <a:off x="1062000" y="3645000"/>
            <a:ext cx="727380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ol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4 CuadroTexto"/>
          <p:cNvSpPr/>
          <p:nvPr/>
        </p:nvSpPr>
        <p:spPr>
          <a:xfrm>
            <a:off x="104832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1 Imagen" descr=""/>
          <p:cNvPicPr/>
          <p:nvPr/>
        </p:nvPicPr>
        <p:blipFill>
          <a:blip r:embed="rId1"/>
          <a:stretch/>
        </p:blipFill>
        <p:spPr>
          <a:xfrm>
            <a:off x="239760" y="1919160"/>
            <a:ext cx="8737560" cy="3527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1 Imagen" descr=""/>
          <p:cNvPicPr/>
          <p:nvPr/>
        </p:nvPicPr>
        <p:blipFill>
          <a:blip r:embed="rId1"/>
          <a:stretch/>
        </p:blipFill>
        <p:spPr>
          <a:xfrm>
            <a:off x="1038240" y="2349360"/>
            <a:ext cx="7205760" cy="2521080"/>
          </a:xfrm>
          <a:prstGeom prst="rect">
            <a:avLst/>
          </a:prstGeom>
          <a:ln w="0">
            <a:noFill/>
          </a:ln>
        </p:spPr>
      </p:pic>
      <p:sp>
        <p:nvSpPr>
          <p:cNvPr id="1263" name="Rectangle 2"/>
          <p:cNvSpPr/>
          <p:nvPr/>
        </p:nvSpPr>
        <p:spPr>
          <a:xfrm>
            <a:off x="384120" y="836640"/>
            <a:ext cx="84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Calibri"/>
                <a:ea typeface="Calibri"/>
              </a:rPr>
              <a:t>Resumen de indicadores</a:t>
            </a:r>
            <a:br>
              <a:rPr sz="2400"/>
            </a:br>
            <a:r>
              <a:rPr b="1" lang="es-ES" sz="2400" spc="-1" strike="noStrike">
                <a:solidFill>
                  <a:srgbClr val="cc0066"/>
                </a:solidFill>
                <a:latin typeface="Calibri"/>
                <a:ea typeface="Calibri"/>
              </a:rPr>
              <a:t>Ibagué  – Total Nacion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5 CuadroTexto"/>
          <p:cNvSpPr/>
          <p:nvPr/>
        </p:nvSpPr>
        <p:spPr>
          <a:xfrm>
            <a:off x="97776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3"/>
          <p:cNvSpPr/>
          <p:nvPr/>
        </p:nvSpPr>
        <p:spPr>
          <a:xfrm>
            <a:off x="206280" y="249228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8 Rectángulo"/>
          <p:cNvSpPr/>
          <p:nvPr/>
        </p:nvSpPr>
        <p:spPr>
          <a:xfrm>
            <a:off x="2843280" y="1589040"/>
            <a:ext cx="6114960" cy="1843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7" name="1 Imagen" descr=""/>
          <p:cNvPicPr/>
          <p:nvPr/>
        </p:nvPicPr>
        <p:blipFill>
          <a:blip r:embed="rId1"/>
          <a:stretch/>
        </p:blipFill>
        <p:spPr>
          <a:xfrm>
            <a:off x="2868480" y="430200"/>
            <a:ext cx="6181920" cy="5330880"/>
          </a:xfrm>
          <a:prstGeom prst="rect">
            <a:avLst/>
          </a:prstGeom>
          <a:ln w="0">
            <a:noFill/>
          </a:ln>
        </p:spPr>
      </p:pic>
      <p:sp>
        <p:nvSpPr>
          <p:cNvPr id="1268" name="6 CuadroTexto"/>
          <p:cNvSpPr/>
          <p:nvPr/>
        </p:nvSpPr>
        <p:spPr>
          <a:xfrm>
            <a:off x="3635280" y="6021360"/>
            <a:ext cx="561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ciudad frente al mismo trimestre del año anterio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1 Rectángulo"/>
          <p:cNvSpPr/>
          <p:nvPr/>
        </p:nvSpPr>
        <p:spPr>
          <a:xfrm>
            <a:off x="3672000" y="584676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852480" y="2060640"/>
            <a:ext cx="7578720" cy="3357360"/>
          </a:xfrm>
          <a:prstGeom prst="rect">
            <a:avLst/>
          </a:prstGeom>
          <a:ln w="0">
            <a:noFill/>
          </a:ln>
        </p:spPr>
      </p:pic>
      <p:sp>
        <p:nvSpPr>
          <p:cNvPr id="1271" name="Text Box 3"/>
          <p:cNvSpPr/>
          <p:nvPr/>
        </p:nvSpPr>
        <p:spPr>
          <a:xfrm>
            <a:off x="1438200" y="62064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Ibagu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(2006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bag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5 CuadroTexto"/>
          <p:cNvSpPr/>
          <p:nvPr/>
        </p:nvSpPr>
        <p:spPr>
          <a:xfrm>
            <a:off x="11221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5" name="1 Imagen" descr=""/>
          <p:cNvPicPr/>
          <p:nvPr/>
        </p:nvPicPr>
        <p:blipFill>
          <a:blip r:embed="rId1"/>
          <a:stretch/>
        </p:blipFill>
        <p:spPr>
          <a:xfrm>
            <a:off x="1438200" y="1461960"/>
            <a:ext cx="6267600" cy="393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4"/>
          <p:cNvSpPr/>
          <p:nvPr/>
        </p:nvSpPr>
        <p:spPr>
          <a:xfrm>
            <a:off x="2052720" y="620640"/>
            <a:ext cx="489564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Ibagu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– noviembre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552600" y="2565360"/>
            <a:ext cx="822312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0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Juan Camilo Riveros Botero</cp:lastModifiedBy>
  <cp:lastPrinted>2015-09-24T21:10:51Z</cp:lastPrinted>
  <dcterms:modified xsi:type="dcterms:W3CDTF">2015-12-24T18:26:37Z</dcterms:modified>
  <cp:revision>968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