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FFE1-B45C-4E38-8ADC-5708350101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1847-D89A-41FB-AB91-C725BC3B3BF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4D97-485D-4C32-84F4-9AAD1E78A44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B627-8A89-462C-BD70-281041D3115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C786-034B-498E-A1E6-CAB8A43DE5A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618E-9381-4A84-8171-DE99B2B11D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2B1C-FF27-4EBE-979C-0B572DFF584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2935-2B9B-4A8C-B9D8-2276F00691C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100F-951D-41BD-B109-696E2998F66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6CFB-FD12-4D35-9BF5-4E9C66D47C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5788-92A3-44A7-B44D-A8BFB7D9073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5731-56AF-4FF8-A294-990F82A7EB6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2AC1-A33B-44E5-BCB9-015D3969668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F8D3C-BCE1-4A39-B9D9-1693BB716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279F1D-94E7-4BE9-98FB-6440B6CA9D6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A7FD12-2D11-46C9-9A6B-1EF3E141148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1DFD2C-36A2-41C5-AE07-410BB7CD3F4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F6CB3-5F34-49C1-B25F-3BC9AB3D3F9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CA92D4-35EC-4AB6-B413-F73499A0CA4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8405D1-D600-461D-AD20-6D3C7C99C8F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A0CE25-2005-4E70-856D-4B491BD92D0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17966-1517-4CA3-9394-C86903EA91D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2FD552-D8ED-4A94-91F1-E5FB4DD5DCB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5C3C2B-0BE9-4BD8-B13F-A688B1F17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33620-FA2E-47EB-A2A4-42E5D977519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19B4E-0EEB-4178-A097-5945CCAE3F9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35454-579B-4A11-95CF-6D6FEB2C2DE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A09A4-1EF7-4F44-A4A0-CD74EDEA9EF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BA140-E4B9-4D84-A9B2-22207C42F3A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7B9F8-5CFA-4E43-A6DB-3AB7EA7D7FE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B2E28-95D8-4AE1-B011-384EEA47394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50488-386F-4749-BFB6-235E111C96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759B0-A5A2-4A59-AFBE-8EF05B9951A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F89DB-A25E-4F4B-A701-A071E089D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6996-F320-40C3-B492-24B84EAC909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A890A-ADF3-4FF1-A74A-7F508C8E8CD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9F161-1338-4249-8409-741CF6E8988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8105C-F6F5-4B8C-A004-0C35D808611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790A-852B-41D5-8AD5-1CED5F828E1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33EF-160E-4783-9BA1-57456BD027C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F7A0D-9A45-46EA-815F-2A8AAB7D89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0A02-1C29-4F2E-A627-B1F02BD5332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A6F2-100B-4A1D-A915-1195D8065D8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6F19-FB79-43D8-8892-81078027AC8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5CE2-8022-487E-B832-B93961D54B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62A6-105F-4F5A-9054-A915FD816E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E5A8-25D8-4047-BCA5-BD5FD0A5854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A21C-C37D-4202-A60E-3A7B6888351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C8821-5A3E-4372-B598-1A33B3F7309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44B6-8D18-45F3-B743-22B585D7CC0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7DB6-9A1B-4DD6-A1BD-38964798DBB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619A61-A36B-489A-BF1D-A2A185D66B3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25DFC-C3FB-4333-9D75-73F0D7FC500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6C4DCE-EC52-463F-9FF6-7F94AD963E8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E49C17-314C-40FA-A0F5-717117C6544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F381C8-64C7-4A10-B7F0-90F45E71D9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DB75-AE6F-499B-BF7A-13AEC874886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F8B9F-2E2C-4229-99F9-3591131F639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790381-D4AA-42E0-9C22-53CEB532057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CAC02-3E0E-48BB-B7FC-E349FECB3E4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7EF5E-6289-4346-AB9A-03D3468A1A2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431C6-E955-4904-92B7-019020D756C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121969-9BF8-4316-B11E-FF1813FCB78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CC05A-A5DC-4E46-8494-8FCB3A51CC7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79CD4F-6F1D-435B-995E-8EC0F231CC5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1A9AD-0B42-4795-BD55-06A777AB0E2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EB553-25E1-4FA1-B3E1-F5D868D933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6F1C-1D9F-459B-844B-5EB8738C739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20D69-EEFA-4972-8A79-A76B5589EF5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1EE17-B224-42CD-82EF-9C4AFA4CAAE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F03DA-71B1-4DBF-9955-21BB24F8F04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455CB-4C52-417C-A6F6-9C4EFB80F75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4247D-1E56-4143-B5B7-9FFCAE3439A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FB0D9-D69C-4520-96B0-34E2DBC7C5D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A47B6-9804-477E-B2FB-758736E2118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E92A8-70E7-4C62-BC8B-BC67AF01593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9199D-9581-49B4-947B-FE2E8AC21FB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508B-BFEB-4270-AFC4-0992F889FF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B3E0-0EA7-4C8A-A0E2-AC1DFE441E4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F7D0-6517-4B7D-BA4F-D13BB766236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2BD18-0831-4423-AD84-3BD17A3FFBC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1F02A-8E9C-4E51-B9E8-6D0E0989425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F53BB-6F2E-4A14-B603-6CBC88EE7EC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8CE2-9265-47D5-B3D1-8307BB57540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2DAF-09E4-4BB0-93B0-ADA575FE44E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52B90-2515-4166-A190-519A213A0C0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3BE6-0C7D-447E-949C-F6E511C791F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B5392-6BC2-4816-AA7D-F8E49E4C5DC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11445-B6FC-4A53-971B-FC6AA23695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FACB-FCED-47A5-81D2-1F6B69B5C9D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747F3-BA9C-4336-A673-EE1A2FF2B6E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01AB91-5516-4AB9-B16C-46E231BE564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C0FE53-F550-4368-B51A-C6B4213A6FC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B38AAC-0286-42AC-A6BE-06192DDAFE8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B38B49-87AB-4E6E-B98F-85F9F88AEDC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42C845-E557-441C-B6AD-6C75FBA7265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4EAA32-3643-4C5F-A3A0-E0AA183DC1A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76F3B0-D9BA-4BEF-AD8A-7676DEB0489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17E4CE-9A3C-48E5-822B-9F55B634B1D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0E2E80-99BA-4616-A603-5EBF1B112A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14F2-A64C-4172-A88D-273A779E252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1C32C9-F14F-4D3A-A119-E00034E1EE9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A4F38E-C29B-4482-A90E-0DF4E453E08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D67964-87B9-4CF2-8EE2-C09649E9A90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B3C60-C457-4E62-A34E-38D7BC77238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3EFC8-25A5-47EF-869A-75B06E5B5CF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B0B2A-8861-47CF-9B72-557817DEB03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59104-5FF2-4E14-ABD7-A86E7251942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8965A-FE84-4479-9482-0EA7711F9D6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B0BB9-919E-455B-BDB5-0EF8EB85D40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B5355-0470-478C-B48B-C15A4D8147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E424-A51D-499D-B797-A2AF5277FDF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62F85-20D3-4586-A1EB-D7B3259603E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854DA-5BAD-4912-B05D-1EBB5A3BE48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28BD1-7202-4833-B833-AD4DC25C471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4701E-926C-4B7C-94B1-CC2E4158D4E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A970D-6F59-4F00-8931-08ABBF8F934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0FF03-B02B-4045-A391-34AF7878BBD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9B2E7-EA7F-4F9B-B193-FD03BA9B77B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6211D-F87B-47A3-A8B2-D057B4E8ED6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AE7C5-74C3-4C89-9F63-09B2217B38B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A4332-3FA4-4EEA-B819-99973E3F10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03EB-18F0-484D-94A3-886D1877EBB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8DA8E-892C-404D-B00D-AC0C9CAB1A1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1720D-248A-41A6-AE0D-C4CC32705A3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59233-5999-4F5C-BC36-D9F558BC563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D3844-0935-4817-A728-C69F44837AC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432BD-48A1-401D-9FA7-D26BD9BC20F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031AA-90D2-4A46-A951-A98DFB5ADDC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02695-7FE2-4479-AD7B-1C8A40107B6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60D02C-D03C-4277-AF74-01B55595358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90C6E3-BB20-4B2A-ABC5-44A40E1AE9C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228859-72A1-4E84-B402-08B368BA8C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A056-F5A7-486B-BE37-892ECC1902C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9707C0-BEC9-4D4B-944D-92E656CA950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46D8DF-7F03-4B2D-A947-08742059B72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4E5795-DBE8-4963-B6E8-FFD1ABAF4DF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75FAB3-0185-4E0A-BF75-8CD6B16A3CE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1A086C-23CF-41A2-898E-093A3C015AA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072E51-160A-4242-9BBF-71DB105145C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10336-FF27-488C-AA92-1A75E1ECA95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A45819-009E-4482-B54B-98C7566B91E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D361C7-F5C3-4B24-9BE0-79AD7FFE8A1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826E4-FE74-4564-A2AF-40AF9EF476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F9E7-0ABA-4F51-8BCF-6DEC589B64B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5623A-ACB7-46C7-84BC-9158C721671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1653F-4168-4722-B987-8BA73A1A004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30CB8-54D3-4CAE-8787-CABD9B095F5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CA3C6-03A5-4FF1-99FA-FBB9AFEB9C6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2CB30-8923-4045-B3A8-7192626AF9D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36C72-35D9-4BFE-9293-8D725EFE7A2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4A6D1-4CAC-48EC-A7DA-60090D948F0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67C54-5989-482C-867A-E2D900CE801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74543-11DF-4026-8CD3-C7083528379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355C93-56BE-4584-84BA-7F29A9612B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65F4-D6DC-422C-9B87-0563D31CB2F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2B254-E646-4D99-B6D4-CAE39A00750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99148-0A75-47AF-B78A-A969AA64CCF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2665D-6F7E-4C18-9664-8A27F221FB2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4C686-2650-4DA2-8023-8C34E6FA9D6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1A3D5-6DCD-45EE-A3CC-42AC017EAF3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46EE9-3BAB-491B-8F98-AF8EEA07635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2DD9A-20FE-4597-9049-828D2B16ACA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CE081-8B62-4278-8E96-268DFB77FBF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DADCB-03B8-492B-9A4F-39E7DC2CB6C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69362-C8DF-4C35-81C6-BE925E2E0B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F6AF8-4480-40EF-A77E-C79B2BD401A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FC46E-6F06-48CD-AC50-DCF10BB20A5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51E22-90DA-435F-ACCE-B1CCB952D0D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2C0A72-0180-4EE9-A318-3C6CF036D6E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5C9926-D512-4042-AE62-8C4C7B2E55C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7270BF-1EFD-4CC8-A406-EFE0E2B3331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4199C8-D69F-4625-98EE-0D65225DA05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A0A2ED-BC57-49BD-936C-8C59276FDDC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A8B0DC-A5A6-48D2-A360-17F45587E23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116D35-A795-4CC6-B95A-C9AE642539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C026C2-1D53-4573-8CAE-A5004020550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4534C0-D29F-4603-BCCD-D821D2307F7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E24852-3DCA-429B-A0FB-098A89D67B5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593BBE-F331-46B3-BE68-B529E635E43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F842F2-997A-41B3-AD08-F7025C47701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8C5A56-5562-4C8B-98E4-7BA2F850316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1D7ED1-659E-4D40-BEB5-96DA93E27BF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731D8-4A04-4E89-A047-4B42B6180EB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68710-0837-4F8F-8FCC-BF33773DF1A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AAACE-A70A-48EC-8224-F44F4B98DD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7FA41-CF80-4212-ADD5-F677BEBB040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65F26-59AE-4F10-BDD9-E143EB3DD25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D74C7-25E2-48A3-B88A-FE096232E57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D0A2B-6FCF-44E0-BDB9-41FDBC26EF0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C1589-B12A-4812-B79E-8BA09EE752E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94B77-3454-4D7A-BE41-FD3A96BAEFA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CB760-C2BD-4027-84FE-71973D80AD6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757C3-F1C1-4D0C-A872-1438B3C6A70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2E554-EBF0-47E9-A4BB-133CEDD0703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0DBAB-7425-4994-96B1-D14B25792F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7597E-5339-409A-A617-D9370B29CAA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75CD9-363E-4415-9B23-FA2A1C491C0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2F3DF-80E3-405F-A9BA-C1073DCE4FF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4865-E07D-4F53-85EF-F3DE51B6888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25A9-60A7-4021-ABB7-E244122C995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1D96E-1F0E-41DB-9FAD-E61B2DD4B0A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C79C2-27FA-46F3-BAAA-D35A9D174E7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4796B-70C6-45B3-AD38-76613F6D7C2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B1F0D-92E8-484A-B51B-36E36F77459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8E6028-8DF8-4412-87AD-F14FD85E6B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0B8680-F14F-44BC-B1C7-D2AD107CA74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6F94A5-41BC-4648-BFDA-82CC7CADC86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78FFAB-E4B8-4CD4-B5D6-9DA29B41032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DA343E-9B66-4E54-B847-8BB3B08CEC0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7DA5DC-DFEA-485E-8A19-DA83ACFE5C1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3B7C76-6C27-4E2D-BBA5-0A9CA18D0CF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59E3B9-2E70-448C-A8C7-0C0EF3C793F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31F3D1-3F5E-4E10-B363-5455BA3845E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548A8C-B614-44FC-9A8F-8EBE05A154E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AB2213-6373-47D2-A229-57F2E9031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CBD962-6947-4074-9C95-2B6119B68D1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76CE4-F769-4C90-80D4-32BCA163D7D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CE6A9-1D39-40A3-B15D-F174949B700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2EC0F4-6931-4CD6-94AE-DD4A4AE8529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8DCD60-7241-436B-90E2-7048CBC0BCB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45DE4-6AAE-49D9-82FE-08DC0267E4B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CA4B2-3362-4529-A71D-36932C01EB1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4DDF23-A206-4596-81E9-A2FC53B6948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7EE7AD-053E-42FE-894A-2FB45E02CBA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F17F07-3D3C-419E-ACA2-5D405405DF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338AA7-4572-4B03-B357-25D674699DB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57F9F6-6563-48CC-9200-D7C36D63C2E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5F2D17-B06F-47BC-94ED-B4D68E6D69A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89817-0C9E-4A82-AF90-E4FC763E5A1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4451D-47D0-4FBA-927F-083212B039A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93B5B-CAEA-4EA9-9A53-C60D139E606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B949C-3861-4F63-9088-10479378F1E5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D8EEC-3150-404C-9F88-37D6011DC9D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F191E-4AF5-433E-8270-3BF157AA652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D4AEA-52EB-43AD-BED2-74F8DE01A2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83B0C-62F5-43CB-86B2-6243BD70231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0D1E9-412A-4A70-8977-EAC4A75E509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6D894-5C27-4ACD-86CE-57CE6EEDDAE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3C823-DF0A-4156-832D-34CF2FE6501D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BCB34-17F8-4696-9C0F-A0DE5E5E93C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7C1E-CC27-45EA-BF98-04C90BAB00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C4AC-A1DB-4F96-AC8B-D8F6E478ED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A0BC-77F2-4635-B546-901943DAE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8EB6-B4D9-4C7A-8BF7-82FE5EC22A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5516-12C4-4786-AEE4-9D356F8CF1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D1D7-54D5-4236-80B0-81374DC586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C6A5-FF30-4C26-8D15-8983C897CD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6686-9C07-4A0E-A592-CBE36655E9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5D59-1A9A-4663-84ED-C222CE302A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79EC-C090-4793-A969-27BD11FE71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7FAE-2CB8-4500-9838-B3C7C4968C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178F-812A-4D4E-BE40-5B8652FCF1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106-0AAB-4EC7-AD8A-6C4A8A36088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1AD-C0C6-4DBB-B7B1-48C4DE24DE1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B99-9BA0-48B5-8832-94E71B720FF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BCB-EC60-45BF-B35D-C63431F563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353-ADA9-4CE8-BAC8-AF49F1C4BBE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9BA-14AD-4C43-91FB-5B9E9C8B3B9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6B2-C06F-4E7D-B804-49C812F5E58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6F6-40B3-441A-9E9F-0657038B6F6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A4F-BFA8-4A22-8657-240663634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242-00C1-451E-8BFD-B4D57A02DED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107-8044-4123-BEE6-05D513D5AD7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D3A-DFC5-40D3-A81F-AC00F3E2D2C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7F649-5D71-4D24-B9EF-00B5587D144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6F505-B978-4527-8C5E-703D93C3F4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B38F3-0B2D-4A97-9A77-F2864CB12F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FBCB6-B485-498C-992A-DF100190505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F200B-1C8B-4D1C-8E2A-7D5CADE52F7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386E0-A9EC-4147-8603-25031DADA1D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49E58-42B5-4243-A30B-59A41D29D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652B7-BAE9-4124-BCF9-99755BEC3E3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83646-D803-4C62-8D2F-DC5A1BE9B2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56632-1221-4D99-A89F-F0865F30868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871DD-6B79-46B3-9947-A2139DB7D9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62B08-D857-4448-ADFB-7F74768E598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0BB4C-DE91-4353-B38D-F83FD68ED52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C05CB-31EB-401D-ACA0-2A1AF23634C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77EE8-9222-4CE5-B236-13190E6F079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51A37-377D-4740-99B7-8123B1CBE39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5ADEE-62FF-4C9B-965F-12DEA4498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EEBC9-4A46-46A5-A67F-DB633C4D85E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016CE-9A0C-4DC9-9C83-7AB666953D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AB46D-1361-42E5-994E-E27D725B4F3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D3EE8-2175-47AE-9ACA-AD4BA0645B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4263E-21C6-4C30-8408-E7A054F71AC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C8BE8-91C5-4A1E-958A-81652A37C8E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BBF1D-F287-4AFC-ADA6-67D1E1C1733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8277-A91F-4756-A689-FEB11043C0F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6ADD-1A2A-4D91-A567-155222AA02E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EFE8-7382-45BD-8646-18D758916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2DA7-0FB4-478F-93BC-542A2C1AFE4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7EEC-49F2-4161-B966-B6947B7687F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D8CF-6DD0-4C5D-B2D2-B0C02E55701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9CF0-B296-4483-B4C6-52C118A682A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CA0F-D365-474C-AA6F-DC4573DAC8B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038D-8523-40E1-B759-6B2510592B2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70E4-2E19-43A4-9405-0FEEDB03322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41F3-DD92-4346-9B65-2E1636A662A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3D02-A5DE-4ADD-BADE-7DF79BC6CC7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F854-A557-43EC-A05F-FCF9500F6F8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5BA0-C8FA-44E3-8080-68DE0556381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448D-5DB5-4876-9324-207319989E4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E06A-2C07-4FDA-B3FD-3304DDEB9B0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97EA-C528-4B23-A667-DE18A30F76B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3646-3DB2-4C2B-A5C0-6FABD0886FD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1300-F6D3-4200-99F0-73D8045405F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A3F3-BAA8-45D7-B4A9-EAEBB16E89D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B191-A70F-44E1-8358-0B0EE0EE844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AF5D-591F-4EED-9AF2-54DBFA1DB29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5C94-81D8-44E2-AC17-A5BED338C4C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D3A2-32C2-4237-9D63-62664DECE41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D8E8-1FED-491A-92D0-A61F299934E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E34A-99C5-4942-8515-641EDBB96EE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E822-67AD-4C33-A7A8-3A74B39579E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87640"/>
            <a:ext cx="40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Valledup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225440" y="54936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5 CuadroTexto"/>
          <p:cNvSpPr/>
          <p:nvPr/>
        </p:nvSpPr>
        <p:spPr>
          <a:xfrm>
            <a:off x="101268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0" y="530388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671400" y="1541520"/>
            <a:ext cx="79995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2"/>
          <p:cNvSpPr/>
          <p:nvPr/>
        </p:nvSpPr>
        <p:spPr>
          <a:xfrm>
            <a:off x="685800" y="8175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728720" y="692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825480" y="551664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5 CuadroTexto"/>
          <p:cNvSpPr/>
          <p:nvPr/>
        </p:nvSpPr>
        <p:spPr>
          <a:xfrm>
            <a:off x="891360" y="532764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1 Imagen" descr=""/>
          <p:cNvPicPr/>
          <p:nvPr/>
        </p:nvPicPr>
        <p:blipFill>
          <a:blip r:embed="rId1"/>
          <a:stretch/>
        </p:blipFill>
        <p:spPr>
          <a:xfrm>
            <a:off x="890640" y="1870200"/>
            <a:ext cx="77072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3"/>
          <p:cNvSpPr/>
          <p:nvPr/>
        </p:nvSpPr>
        <p:spPr>
          <a:xfrm>
            <a:off x="1295280" y="549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5 CuadroTexto"/>
          <p:cNvSpPr/>
          <p:nvPr/>
        </p:nvSpPr>
        <p:spPr>
          <a:xfrm>
            <a:off x="1338120" y="5102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3" name="1 Imagen" descr=""/>
          <p:cNvPicPr/>
          <p:nvPr/>
        </p:nvPicPr>
        <p:blipFill>
          <a:blip r:embed="rId1"/>
          <a:stretch/>
        </p:blipFill>
        <p:spPr>
          <a:xfrm>
            <a:off x="701640" y="1539720"/>
            <a:ext cx="7537320" cy="3627720"/>
          </a:xfrm>
          <a:prstGeom prst="rect">
            <a:avLst/>
          </a:prstGeom>
          <a:ln w="0">
            <a:noFill/>
          </a:ln>
        </p:spPr>
      </p:pic>
      <p:sp>
        <p:nvSpPr>
          <p:cNvPr id="1304" name="Text Box 6"/>
          <p:cNvSpPr/>
          <p:nvPr/>
        </p:nvSpPr>
        <p:spPr>
          <a:xfrm>
            <a:off x="1187280" y="5364000"/>
            <a:ext cx="770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º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2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3"/>
          <p:cNvSpPr/>
          <p:nvPr/>
        </p:nvSpPr>
        <p:spPr>
          <a:xfrm>
            <a:off x="1763640" y="7682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1022400" y="586116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8 CuadroTexto"/>
          <p:cNvSpPr/>
          <p:nvPr/>
        </p:nvSpPr>
        <p:spPr>
          <a:xfrm>
            <a:off x="1053360" y="499896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1 Imagen" descr=""/>
          <p:cNvPicPr/>
          <p:nvPr/>
        </p:nvPicPr>
        <p:blipFill>
          <a:blip r:embed="rId1"/>
          <a:stretch/>
        </p:blipFill>
        <p:spPr>
          <a:xfrm>
            <a:off x="905040" y="1542960"/>
            <a:ext cx="7546680" cy="3380040"/>
          </a:xfrm>
          <a:prstGeom prst="rect">
            <a:avLst/>
          </a:prstGeom>
          <a:ln w="0">
            <a:noFill/>
          </a:ln>
        </p:spPr>
      </p:pic>
      <p:sp>
        <p:nvSpPr>
          <p:cNvPr id="1310" name="Text Box 6"/>
          <p:cNvSpPr/>
          <p:nvPr/>
        </p:nvSpPr>
        <p:spPr>
          <a:xfrm>
            <a:off x="757080" y="5297400"/>
            <a:ext cx="81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º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6858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1133640" y="620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4"/>
          <p:cNvSpPr/>
          <p:nvPr/>
        </p:nvSpPr>
        <p:spPr>
          <a:xfrm>
            <a:off x="1039680" y="5354640"/>
            <a:ext cx="763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1049040" y="5138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9" name="1 Imagen" descr=""/>
          <p:cNvPicPr/>
          <p:nvPr/>
        </p:nvPicPr>
        <p:blipFill>
          <a:blip r:embed="rId1"/>
          <a:stretch/>
        </p:blipFill>
        <p:spPr>
          <a:xfrm>
            <a:off x="1139760" y="1698480"/>
            <a:ext cx="666432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5 CuadroTexto"/>
          <p:cNvSpPr/>
          <p:nvPr/>
        </p:nvSpPr>
        <p:spPr>
          <a:xfrm>
            <a:off x="2381040" y="54100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1 Imagen" descr=""/>
          <p:cNvPicPr/>
          <p:nvPr/>
        </p:nvPicPr>
        <p:blipFill>
          <a:blip r:embed="rId1"/>
          <a:stretch/>
        </p:blipFill>
        <p:spPr>
          <a:xfrm>
            <a:off x="1998720" y="1903320"/>
            <a:ext cx="5524560" cy="3541680"/>
          </a:xfrm>
          <a:prstGeom prst="rect">
            <a:avLst/>
          </a:prstGeom>
          <a:ln w="0">
            <a:noFill/>
          </a:ln>
        </p:spPr>
      </p:pic>
      <p:sp>
        <p:nvSpPr>
          <p:cNvPr id="1322" name="1 Rectángulo"/>
          <p:cNvSpPr/>
          <p:nvPr/>
        </p:nvSpPr>
        <p:spPr>
          <a:xfrm>
            <a:off x="1187280" y="76500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Valledup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</a:t>
            </a: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Valledup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2 Imagen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124680" cy="1871640"/>
          </a:xfrm>
          <a:prstGeom prst="rect">
            <a:avLst/>
          </a:prstGeom>
          <a:ln w="0">
            <a:noFill/>
          </a:ln>
        </p:spPr>
      </p:pic>
      <p:pic>
        <p:nvPicPr>
          <p:cNvPr id="1326" name="1 Imagen" descr=""/>
          <p:cNvPicPr/>
          <p:nvPr/>
        </p:nvPicPr>
        <p:blipFill>
          <a:blip r:embed="rId2"/>
          <a:stretch/>
        </p:blipFill>
        <p:spPr>
          <a:xfrm>
            <a:off x="1514520" y="3862440"/>
            <a:ext cx="5629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Ces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1"/>
          <a:stretch/>
        </p:blipFill>
        <p:spPr>
          <a:xfrm>
            <a:off x="557280" y="1782720"/>
            <a:ext cx="7831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Valledupar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73280" y="1989000"/>
            <a:ext cx="7759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408400"/>
            <a:ext cx="2737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943360" y="2276640"/>
            <a:ext cx="6092640" cy="207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1 CuadroTexto"/>
          <p:cNvSpPr/>
          <p:nvPr/>
        </p:nvSpPr>
        <p:spPr>
          <a:xfrm>
            <a:off x="3635280" y="6165720"/>
            <a:ext cx="540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(+) (-): Aumento o disminución de la TD de cada ciudad frente al mismo trimestre del año anterio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2973240" y="260280"/>
            <a:ext cx="6191280" cy="5661000"/>
          </a:xfrm>
          <a:prstGeom prst="rect">
            <a:avLst/>
          </a:prstGeom>
          <a:ln w="0">
            <a:noFill/>
          </a:ln>
        </p:spPr>
      </p:pic>
      <p:sp>
        <p:nvSpPr>
          <p:cNvPr id="1270" name="1 Rectángulo"/>
          <p:cNvSpPr/>
          <p:nvPr/>
        </p:nvSpPr>
        <p:spPr>
          <a:xfrm>
            <a:off x="3672000" y="595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6 CuadroTexto"/>
          <p:cNvSpPr/>
          <p:nvPr/>
        </p:nvSpPr>
        <p:spPr>
          <a:xfrm>
            <a:off x="423720" y="5372280"/>
            <a:ext cx="2249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*El total de las 23 ciudades no incluye San Andrés por tener una distribución de la muestra diferent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3"/>
          <p:cNvSpPr/>
          <p:nvPr/>
        </p:nvSpPr>
        <p:spPr>
          <a:xfrm>
            <a:off x="1441440" y="257652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476360" y="620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Valledup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2236680" y="5524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1547640" y="1797120"/>
            <a:ext cx="63612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Valledup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180468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251000" y="1563840"/>
            <a:ext cx="68626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Valledup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490680" y="2421000"/>
            <a:ext cx="8304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iego Alejandro Martinez Jimenez</cp:lastModifiedBy>
  <cp:lastPrinted>2015-11-17T19:37:39Z</cp:lastPrinted>
  <dcterms:modified xsi:type="dcterms:W3CDTF">2015-12-24T16:38:31Z</dcterms:modified>
  <cp:revision>930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