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2604-B52E-4351-8ACC-C421B2CAFC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0742-501B-410F-9681-E517DE26A85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E036-7954-4B0D-B4AA-6977B727B73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74F8-6892-4A84-B04C-074FE68141E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603D-AC6C-4D53-8508-BD0E398B394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4EEC-1A21-446C-A402-4EE6A482686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1525-FB01-4A3B-8F4C-6B593AF06D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ADA5-7A9B-47FD-B017-C2A043CA2D2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2971-6B48-4DC9-800B-0FEEC34E7FE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4D4B-E6C8-4443-A843-CD2AFF1AB87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0128-44F1-4825-8024-4357F28201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E0AB-4338-469C-B6C4-422802BE618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E022-178B-43E5-955F-1604D9E8DD8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D0C3-0398-4A38-AFC1-31AE142F22A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5B85-B092-415D-A671-F3909465A0B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0E93F-9637-48CA-9B99-7786D1A20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D90D61-E4FC-428E-898D-599D5DFF7F1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35F1A7-81FA-480B-A377-0E45441561E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F55D9-CF11-4192-A227-24424AC4F1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86042-DD81-4A6F-8A1F-BF07CC18DAF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C363DA-3145-42E4-956B-BC241546A6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8BE569-EB66-4472-AAC7-1668F005F7B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C4821-E598-46CE-A104-7F6636E4EE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24FC0-581A-407B-8EBD-4E0412C456A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DD976-1FE1-443D-8186-FADAE7EF776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3B4AB-7158-4862-BCE0-2578EDEC3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A88B6-E89F-4C98-8644-56170577E02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D296D-C6EA-4EE5-B743-5804B252F3C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784A7-DDD8-40EC-A0C1-F82ACBC9CC3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5E6B7-2D6B-4FE1-AC4B-36F1A277CC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E31FE-DC73-4B7A-98D6-A50FD1B703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5EBA8-5DCF-4644-9355-EF7508FCAE2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E9D33-4553-4C46-877A-DF4693543A6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A45C0-3BA2-4105-8B5D-1A75B3552EF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7E048-F329-4D74-8250-BADA5AFBF7B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135F9-336C-4EF7-B26D-B84002DA5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3FF4-E2B1-48D4-9F84-8724B4CCD74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2E1D6-F811-4A70-9A48-2FD6447DC21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C3FB4-8A34-4EE5-8EEA-21DA2EAD861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6BB21-DCC8-4D4D-8CD1-E5333A47BBA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0524-2E81-4A23-9E48-E2920EB88F0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72E4-8742-42B6-8AF1-C7B3084BDF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A926-696B-4258-9329-94BB51A6FBB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0FA3-4635-4484-8191-2212D6AA354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C7C9-BC4B-4C1C-8B58-862C896871E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72AB-88FB-4220-AD50-32D26120CF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3790A-7770-4E9E-BF0E-62E23493E1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4832-BD1C-4458-86CF-8B12D7FFAB4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18CD-710F-4302-9968-05BF32E2280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7BC2-225C-44BD-8A81-AE9CE1B76EA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F12B-C4CD-41AA-AE25-B6959A6FFBF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F235-B326-4416-9800-28FE5B3A9EB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8D7B7-D3E2-4B08-B0ED-D36BDDD3322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6E2D5-9811-4AA3-944C-B9EA171D9C4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68CD0F-C93B-4435-87F5-D56BE84F32B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A7C9E-134F-45E1-AF00-0EB58026D76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93350-39E3-447E-AFB6-94D3807B9FD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7227C-9BA7-447B-8980-7CEBD74F11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6BEC-7BD8-41DF-9B1D-4116D529F36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D64A9-A47F-4C25-9E98-8333329EA79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D7FB81-FB64-4E57-9339-799E621DCE5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D5929-425E-4272-9F58-910D2AC8702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123CDC-82A2-4A9A-AC0F-45AA8FCD5A4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7AD4A-2CE2-4A96-8838-7558A1F2F48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EA7294-790C-4431-B2D1-E8E562206ED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5D118-CA25-41E2-9B9F-A2ABFE17524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1CE35-4769-4C76-A70B-3F81D48AD61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2E8F5-688C-440D-98F3-5F2AF48338C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804A0-90E7-4D00-B9E7-F63C2031D3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4BCE-C6CE-4A9F-91B1-62AADFF8B1E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CBFEA-4FD3-4237-A62F-E3D52C31387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227210-27B7-4C60-91B7-CEB6AD4DB6B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12714B-3E24-4CF8-BC0B-AEDB08C3F9A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BC26B-3D26-4F95-A825-ACE00F48F79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81028-6987-40B9-9881-24392D1EAE6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8DCA4-4821-46C3-83FA-51117B1A1FD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F72BA-8C14-4217-858D-228463DC791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E9088-BD49-458F-A422-AEEDE31AA86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6D92F-D85D-4E98-BD96-BED1A84AD56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4DDE-92CD-48D9-AA04-5794041C2A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83E3-6A2C-40B5-902A-6A1A433A05D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BEBEE-142A-46A6-8BE3-DE231FE3876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37B87-258F-439D-9DF4-26E1ED6764B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FFEAF-1DD8-4BD4-A30B-EBACFAD37B0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6F99-147D-4A96-9CBF-4C75C6A50B8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D474-E2C1-42B5-B325-62ADEF7C6CC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562C-E734-4D79-B2EA-FA3CED012F9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AD32F-0013-41B1-98D4-3186C470F09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88DD0-FD64-46C0-AC4C-06D4F936228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9FFE-98BF-4E4C-A10A-4F3DD8FEC59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9BAC-2279-4709-86B1-98F14A39D6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501B-0409-4BF1-BE55-E56385C51FD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67D4-F378-49E6-BDB2-5556B57DD66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C5FC56-3F64-4ED5-9951-4AC25D73698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673E2E-A795-40CE-8BA5-3DC86491EA0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ADC086-6F70-495F-95B4-200C3113D6A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DB6EEF-A05E-4910-B5B6-51432D14AFB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DF6749-43D4-47CD-A1F8-79269EE3873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DF6B37-1BC1-4FE1-9D55-045DE02CD79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B4450F-38FE-44FE-8A16-CC9F92304E3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68C2F-2065-414B-B3E8-26C8CBAFE87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CB6697-A67E-4B30-B888-CA469D20F3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FA12-DCEC-4D73-91A9-459C68110BB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A381B-7CD5-4D73-BF83-3F89015D539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0FBE5A-4152-4B89-A318-C6EA9A39193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478368-4596-4C2B-93E5-EA37E9A5548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12396-A9FE-4247-B97B-AE751AEF8D3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DBD6E-8E8C-42DF-BCBA-14530FEB65D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EAADA-8713-4864-8FB8-B6B8528678B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F10E9-92DE-4D04-BA18-12AF82738F1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811B3-73FB-4713-A80C-D51C37B8A53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5A700-B43A-4827-AF0F-C494A0DD388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CEF59-F0AB-4EA9-AD82-ABC09C319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25AC-F689-4605-8C2E-B0D7688FC3E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94125-E48F-4F3A-B050-C1772693DEF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481BC-203A-4E19-AC96-BEFE1BB94B2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362FA-49BA-40A5-AC3D-D8BC39F282C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5762E-0086-430C-9017-33B17218932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0771F-C435-4B92-AABA-D4A45C31B75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78F5E-EF02-4BF8-9271-424A4FDFF19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ADA72-791D-465C-A8D7-BBB7C7EA298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D86B-4ED3-45A6-8816-A4A90CC653C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D369C-FFF1-47E3-BE30-F5430CB5943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4802C-682B-41E6-B38C-98F23CFDAD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3E56-EEEB-4D46-9979-A67CFC0235B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284CE-D10E-4A69-A33D-F59224678CE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B347E-B9A8-4F11-B597-DB8AF0F1FC9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BA7A2-99E4-4DDF-ACAB-9CF4850C961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6E9D6-5A89-40F9-8D32-E9DB4ACC0A0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C4850-9A23-4764-B3D7-D725F22FEE0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78506-06A4-4B64-B925-69032F5E125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87F49-B159-4DFF-986F-F045106829C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8F6313-7550-42D8-ACCB-D39FB9F69F1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E49D5C-C3B1-4C8E-AF56-73780900336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2C86B8-0DD2-474C-BED1-83F50C5AD5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2915-51A8-4CA3-9FA9-2AA32AA82C5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281A4C-74BB-4E12-B0AF-20467A0654C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39D099-6C4A-4D8A-83A7-40EB07BB26E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39FA40-50B0-4A54-A750-0296E88E75E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929D2E-5195-463F-B318-8690CC9C188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C9B510-77AA-4925-9118-35FE5262E6A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60CB4-80F1-484C-BFBE-C9554A87DAF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F92499-EC2C-45F3-A513-E18C8CB828E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A91DC-73BA-4438-AF03-50880BA513E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58985D-5132-4B33-B8D4-0EBF000A94D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F65A0-7DED-4A43-9E1D-2A91F921EB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F651-5682-4AE0-A6E1-212BCF441F0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5D1D8-C82B-4CFF-BC72-3CBA3C668F0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FA277-7A02-47A3-8BEC-5FAF16FD591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1372F-C04F-4BE8-A19E-4664E198CD8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2F18B-DA96-4E70-9761-FA2675ED71F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3EDAD-A514-4B05-9428-AB636295BD9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5CE31-E0C3-4262-AF27-606DD724BE4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B6FCF-7053-45ED-92D3-7C6ED481FCD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168DD-A686-4D4C-9327-8668358042B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D67D5-5DE7-4034-B81B-E8B66C01E1D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74A57-AAA8-46C5-98E7-155B6E34DE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724B-A57F-45CD-8766-F151776C605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D32F5-C252-4F74-B01B-2D7A841846D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22EEF-B4BD-4FCF-AE77-E34F584863A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5E2C-BB6D-4F6E-9118-25134442EC5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90B2A-F2C7-452D-9D8C-173D79C506A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CCE70-08C4-4F1A-AB16-B113F027B0A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67310-659B-4AFC-9132-AC9B3C2C734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D9E91-77B0-4D09-AD95-778F01F1ACF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BF03-52F5-41A6-998F-BB6EC9DA4C6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A1F0F-AB02-49F0-9530-D14E47B7E4B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F663D-6D7D-4B12-BE9B-AC68083F3D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91FDB-0E90-42F4-8CA6-B36CF4F0960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12596-D8FF-46A8-B32B-8C1805DD6C4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A74B-DFF4-4799-83B4-666986D91F6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45D02-B010-46D2-8D9D-FFF343D8642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011A98-63EA-4FB2-95B6-6507486602C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E18812-294D-4106-97BA-79C8E676F3D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7CDDD4-585D-4BA5-8BEF-358A4E14370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D7FE94-534B-4214-9001-FFB990C6F74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01D2A1-3D70-461F-896B-84A3921A8F5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2CBEB6-C42A-4613-8811-D69924FD69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DE9942-FCB4-4890-A104-4BD4007402A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B11220-B5A3-4563-9643-710CD499131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420815-34B1-4A94-8FDA-F2B0FC8A3BB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CA8184-E656-4A86-B75C-0FD679DE22C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5399DE-4F97-41F5-A134-381334611CA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FDB8F8-8258-4B9A-8B0E-C44A68D3E9E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8C432-8659-4178-8524-86C11AA84C5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DC10D-4A7D-4798-896F-168E167340D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5E5C6-79B5-4862-821B-C950B78558B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38B80-35A4-4C6E-B3B6-7E66559528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16D07-55A2-4070-AA22-78ABDDC33F4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62588-B5EF-4888-AE54-90EAB460D6B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DB44C-D06C-4225-8E15-47F11065A47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A9131-7ABD-4312-803A-C747F0C3C3E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74E50-2727-4B7F-8461-44D8F7E1014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D18AE-062F-4024-86F6-4CD7BACDCE4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D4A96-691F-4118-BE46-C451164229E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AC3C3-82C6-4233-8291-D2239A1313F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21B9-5EF8-46DD-BD72-73E6FC3A6F6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077BF-1C43-4F97-92E5-86A354D76F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C657-3F9B-4304-B2BC-E917A9A8BF4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8E2D2-1953-4F3D-BD2A-6D0BBDDD126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C83E2-58BE-40DC-B956-34338872447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F7CB2-E00E-4473-B6D0-C7141D932EA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68D11-2AEC-42AB-BE65-F47DBD26596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DA194-61D4-44A6-998F-29574FD990E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D875-0188-4499-BF15-053044E2FA5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DF41F-BB7E-481C-8EBE-DCFE430A603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983FE-43E1-491C-8D90-0AF09E66164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E31748-6BD3-4F52-9501-A07B5B2A50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D534A8-02C3-46F3-83D2-90574A6796C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11AC5F-C594-4F69-A657-1E389253A08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7ED963-31CB-4EB9-987E-FB9F61586E7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FF9A76-5762-4AA6-AC0A-B689F55541C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55B955-5AB3-4B13-99BA-855D9D1343A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032E2A-705E-42F8-A922-65F13D59DAD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ED63CF-B49D-4329-99FE-8B466968204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E5D9C0-E9DF-4B79-B734-D382F784F4E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FD794B-949B-4FD0-AA62-704610BD9FF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F785FF-B084-46EC-B353-0891624159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34CEBA-4844-42D9-905F-0F3E3CCEA6F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C4CD2A-8DCB-4DFB-96B9-DD75F3F30E2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8CE6CD-D6E1-4FA7-895D-3F62CDD1A71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EDECE2-9826-43C7-9837-4D18B2619B6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79CFD-E1C7-48AC-8932-7969BDD7327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3101B-6813-4ECD-95C6-196EFA23BF3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A75297-58C5-45CF-B877-D040A48BD2F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430866-5505-492E-B3EF-771752DF971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166C8-62CE-432F-9322-2A5A6885877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8EA1EA-9640-4D4D-B449-5D26994CFF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ED2C69-CB27-4063-9B71-0385F674EE5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79B3F-BEFC-46C8-8871-BFCC47A0A30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E8F433-8444-4E67-A052-88E7D499E11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F37FB-35FB-493F-97B7-9C982E734F3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2E2FC-795C-4BE0-87AA-6F4BCA62A12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68D1-91B9-452E-A6B9-54981405453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E6656-76D4-41B5-9176-D43D32C8E6D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51C07-6C03-4CF2-8C7D-25585E8D4B8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AAC01-FE16-43ED-9599-967D0BD5D63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8A1CC-7BE1-4004-AAA1-61608D7018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A8266-317C-417D-9FA9-F36B6639BC6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6D07B-A4C8-426E-88B8-4642E08CDDB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BCF8A-139D-47DE-86CC-8DD8EE60ED8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F1C9F-A706-425A-969D-FC841E993B1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DB1A-62A6-48F4-A10B-7780523AF9C7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7E39-8C45-4B57-878C-E49D37B591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AF49-0A56-4DDB-99BE-FB5E3156E7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CC14-C3CD-4575-AAA8-406E890E3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8452-1E35-4787-B3A6-071C5BA7AB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4098-55E6-47C7-9246-1A7BA347D3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978E-A1C9-4024-8C45-85B3130F2E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0D7E-4F94-4F07-B9B3-0930F00BA3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FF11-1A93-472C-A948-6BC500AD26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B09A-AD53-4306-B336-BF896E7EBF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494D-A40A-46CE-B497-6E55B72863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EB4A-E421-4C98-8528-5F6898C5EB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43EB-F32D-4F1E-854E-3818F2020E0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FA6-8EA8-47FB-87AC-32AA339FC82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47E-A1DF-4DD7-B798-8EF18E6022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82A-BF72-45C7-9E99-1574C409829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29E-AE71-4EF9-AFBE-F7BCC1B467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68B-5DE9-44C9-BD54-66273335A3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A6B-4844-4F72-BE9A-1A7A52003F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76F-CF56-494B-9997-BD3BEDBC82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5AC-9BBF-4CA3-B07B-B625325854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543-E224-4D4A-AF4F-6E16AE001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76D-C860-4ADF-821E-DC5D6E5AB9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3FE-0D96-47D2-AAAB-E5F63D5D125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388-03DC-46AD-88B1-19D6DC5D78B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B97FF-DAAE-465C-8545-8A48BA3E9E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37CD4-AF76-43D8-97C3-5E72BDE686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DE9C2-6ED5-40E8-A684-BCE440A652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4036D-06A8-440B-ACEE-E19D890194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23BC9-177D-4007-8A4F-91757A75FF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F831C-54B6-4A23-94E5-DCD9BC31EB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92C90-2AFF-45D2-A925-413EBEF45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02CD8-4C11-4257-AB4C-8E55CA72984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E6454-4A2A-4B9D-9DCD-75EBC15A3E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EF638-6354-4D59-82E5-AF609522318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F0E13-1080-47CC-A464-0277BE6942E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8299A-BB69-400D-8D30-7ECE34B98B1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94243-DDBF-4B89-88FD-3FE8D5CC70C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AD649-4BFD-4A0F-9A52-CDD888F8D6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FC322-25D0-4A12-BDEE-149744BD68E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05988-A8D0-4283-95F6-DFA08EC1E00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463F6-816F-45F2-ADFB-E0E52E727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6539C-10C1-4B84-AC5D-BD74DD36BA7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E5D38-E856-4504-80C7-5EC710D079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A9B00-71FF-4E36-B7D3-8AE78F13F61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8D1B2-1D84-460D-8ECB-857BFCADCB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E1AEC-1EFF-4E90-A489-EE0ECC4320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C0704-1EF4-453F-8F2E-D5B1AABA58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741B8-51C2-4577-96BE-07DAF96D621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4A11-A514-45CB-B5E4-1224369961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4703-EB5B-4064-84C2-E5AD673755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C373-34E4-471C-858A-EF22C5FE6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9A69-92AE-4C7E-BE75-1121E047146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9B21-88A5-4B3C-96B9-1716D0C6500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19B7-69F9-4BA7-B65E-C6A391FDB88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CABB-D1F3-4AB9-B364-1057147910B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941D-7B14-4EF6-A0BA-F51F716C521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F155-2D53-4FB2-BA31-E4C9F101DD9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9CF4-BEBA-4457-8AD2-F538B114F0A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8973-56A3-498A-8E49-F255A7241F7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2BA-EB57-44B5-B1C4-F96AB0E1FDA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A2A3-2C10-44C4-B697-5465D3C20C7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F4A2-E3DD-418B-8BA7-D8076C09C42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4060-71DA-4F09-88B9-5ACC4717493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36AE-D166-45A7-A425-B88A9FAC9F4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4C81-C090-4FC8-AF41-6A4FA4EA543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F352-67C5-43AF-8720-06A5070A5F3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DF35-5ADC-421F-BAF1-C0F42E073FA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4766-C972-44BA-8AD2-1EFB06D8188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3CFD-5AC1-4656-B71C-61C1148F0C5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F314-0F1B-46A8-9004-0705DFD04E6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ABB7-BBF9-4F3A-80E9-ADF5B694090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DA17-9DC9-4918-9712-BD4164D4B9D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E0CC-2FA6-4EED-AB8C-7DE313BC0C7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6855-8F61-48C9-B4FF-3487CA10918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98E2-72F8-44B5-845D-62ACA50B473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Quibd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92280" y="1341360"/>
            <a:ext cx="7603920" cy="3727440"/>
          </a:xfrm>
          <a:prstGeom prst="rect">
            <a:avLst/>
          </a:prstGeom>
          <a:ln w="0">
            <a:noFill/>
          </a:ln>
        </p:spPr>
      </p:pic>
      <p:sp>
        <p:nvSpPr>
          <p:cNvPr id="1290" name="Text Box 3"/>
          <p:cNvSpPr/>
          <p:nvPr/>
        </p:nvSpPr>
        <p:spPr>
          <a:xfrm>
            <a:off x="1150920" y="4748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5157720"/>
            <a:ext cx="82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 debido a la no inclusión de la categoría  “No informa” y por concepto de deci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6 CuadroTexto"/>
          <p:cNvSpPr/>
          <p:nvPr/>
        </p:nvSpPr>
        <p:spPr>
          <a:xfrm>
            <a:off x="11221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117440" y="32544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1101600" y="1413000"/>
            <a:ext cx="6610320" cy="3895560"/>
          </a:xfrm>
          <a:prstGeom prst="rect">
            <a:avLst/>
          </a:prstGeom>
          <a:ln w="0">
            <a:noFill/>
          </a:ln>
        </p:spPr>
      </p:pic>
      <p:sp>
        <p:nvSpPr>
          <p:cNvPr id="1297" name="1 Rectángulo"/>
          <p:cNvSpPr/>
          <p:nvPr/>
        </p:nvSpPr>
        <p:spPr>
          <a:xfrm>
            <a:off x="539640" y="5445000"/>
            <a:ext cx="77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7 CuadroTexto"/>
          <p:cNvSpPr/>
          <p:nvPr/>
        </p:nvSpPr>
        <p:spPr>
          <a:xfrm>
            <a:off x="12254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1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865080" y="51120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6"/>
          <p:cNvSpPr/>
          <p:nvPr/>
        </p:nvSpPr>
        <p:spPr>
          <a:xfrm>
            <a:off x="299880" y="532296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7" name="1 Imagen" descr=""/>
          <p:cNvPicPr/>
          <p:nvPr/>
        </p:nvPicPr>
        <p:blipFill>
          <a:blip r:embed="rId1"/>
          <a:stretch/>
        </p:blipFill>
        <p:spPr>
          <a:xfrm>
            <a:off x="696960" y="1389240"/>
            <a:ext cx="7620120" cy="3624120"/>
          </a:xfrm>
          <a:prstGeom prst="rect">
            <a:avLst/>
          </a:prstGeom>
          <a:ln w="0">
            <a:noFill/>
          </a:ln>
        </p:spPr>
      </p:pic>
      <p:sp>
        <p:nvSpPr>
          <p:cNvPr id="1308" name="7 CuadroTexto"/>
          <p:cNvSpPr/>
          <p:nvPr/>
        </p:nvSpPr>
        <p:spPr>
          <a:xfrm>
            <a:off x="1131480" y="5111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1187280" y="5284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1 Imagen" descr=""/>
          <p:cNvPicPr/>
          <p:nvPr/>
        </p:nvPicPr>
        <p:blipFill>
          <a:blip r:embed="rId1"/>
          <a:stretch/>
        </p:blipFill>
        <p:spPr>
          <a:xfrm>
            <a:off x="1055520" y="1496880"/>
            <a:ext cx="6685200" cy="3587760"/>
          </a:xfrm>
          <a:prstGeom prst="rect">
            <a:avLst/>
          </a:prstGeom>
          <a:ln w="0">
            <a:noFill/>
          </a:ln>
        </p:spPr>
      </p:pic>
      <p:sp>
        <p:nvSpPr>
          <p:cNvPr id="1313" name="7 CuadroTexto"/>
          <p:cNvSpPr/>
          <p:nvPr/>
        </p:nvSpPr>
        <p:spPr>
          <a:xfrm>
            <a:off x="833040" y="5037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6"/>
          <p:cNvSpPr/>
          <p:nvPr/>
        </p:nvSpPr>
        <p:spPr>
          <a:xfrm>
            <a:off x="252360" y="537372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1114560" y="5205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6 CuadroTexto"/>
          <p:cNvSpPr/>
          <p:nvPr/>
        </p:nvSpPr>
        <p:spPr>
          <a:xfrm>
            <a:off x="279360" y="5373720"/>
            <a:ext cx="832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1625760" y="1535040"/>
            <a:ext cx="5636880" cy="3505320"/>
          </a:xfrm>
          <a:prstGeom prst="rect">
            <a:avLst/>
          </a:prstGeom>
          <a:ln w="0">
            <a:noFill/>
          </a:ln>
        </p:spPr>
      </p:pic>
      <p:sp>
        <p:nvSpPr>
          <p:cNvPr id="1323" name="5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5 CuadroTexto"/>
          <p:cNvSpPr/>
          <p:nvPr/>
        </p:nvSpPr>
        <p:spPr>
          <a:xfrm>
            <a:off x="2381040" y="5616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 Box 3"/>
          <p:cNvSpPr/>
          <p:nvPr/>
        </p:nvSpPr>
        <p:spPr>
          <a:xfrm>
            <a:off x="1332000" y="69228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 la población ocupada en el empleo inform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2116080" y="226548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2 Imagen" descr=""/>
          <p:cNvPicPr/>
          <p:nvPr/>
        </p:nvPicPr>
        <p:blipFill>
          <a:blip r:embed="rId1"/>
          <a:stretch/>
        </p:blipFill>
        <p:spPr>
          <a:xfrm>
            <a:off x="1255680" y="1628640"/>
            <a:ext cx="6418440" cy="2071800"/>
          </a:xfrm>
          <a:prstGeom prst="rect">
            <a:avLst/>
          </a:prstGeom>
          <a:ln w="0">
            <a:noFill/>
          </a:ln>
        </p:spPr>
      </p:pic>
      <p:sp>
        <p:nvSpPr>
          <p:cNvPr id="1328" name="Text Box 3"/>
          <p:cNvSpPr/>
          <p:nvPr/>
        </p:nvSpPr>
        <p:spPr>
          <a:xfrm>
            <a:off x="826920" y="376200"/>
            <a:ext cx="77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Límites de confianza y error relativo de la población de la fuerza 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abajo e indicadores de mercado labo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160640" y="3860640"/>
            <a:ext cx="66070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1 CuadroTexto"/>
          <p:cNvSpPr/>
          <p:nvPr/>
        </p:nvSpPr>
        <p:spPr>
          <a:xfrm>
            <a:off x="1403280" y="333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Choc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4 CuadroTexto"/>
          <p:cNvSpPr/>
          <p:nvPr/>
        </p:nvSpPr>
        <p:spPr>
          <a:xfrm>
            <a:off x="1264320" y="5716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2" name="1 Imagen" descr=""/>
          <p:cNvPicPr/>
          <p:nvPr/>
        </p:nvPicPr>
        <p:blipFill>
          <a:blip r:embed="rId1"/>
          <a:stretch/>
        </p:blipFill>
        <p:spPr>
          <a:xfrm>
            <a:off x="541440" y="1552680"/>
            <a:ext cx="8043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46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Quibdó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412920" y="2205000"/>
            <a:ext cx="8285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6 CuadroTexto"/>
          <p:cNvSpPr/>
          <p:nvPr/>
        </p:nvSpPr>
        <p:spPr>
          <a:xfrm>
            <a:off x="2987640" y="587700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81080" y="2276640"/>
            <a:ext cx="31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– noviembr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771640" y="836640"/>
            <a:ext cx="6121440" cy="206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1 Rectángulo"/>
          <p:cNvSpPr/>
          <p:nvPr/>
        </p:nvSpPr>
        <p:spPr>
          <a:xfrm>
            <a:off x="298764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2868480" y="260280"/>
            <a:ext cx="6181920" cy="5459400"/>
          </a:xfrm>
          <a:prstGeom prst="rect">
            <a:avLst/>
          </a:prstGeom>
          <a:ln w="0">
            <a:noFill/>
          </a:ln>
        </p:spPr>
      </p:pic>
      <p:sp>
        <p:nvSpPr>
          <p:cNvPr id="1270" name="6 CuadroTexto"/>
          <p:cNvSpPr/>
          <p:nvPr/>
        </p:nvSpPr>
        <p:spPr>
          <a:xfrm>
            <a:off x="406440" y="4911840"/>
            <a:ext cx="2249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1 Imagen" descr=""/>
          <p:cNvPicPr/>
          <p:nvPr/>
        </p:nvPicPr>
        <p:blipFill>
          <a:blip r:embed="rId1"/>
          <a:stretch/>
        </p:blipFill>
        <p:spPr>
          <a:xfrm>
            <a:off x="947880" y="1488960"/>
            <a:ext cx="7184880" cy="4230720"/>
          </a:xfrm>
          <a:prstGeom prst="rect">
            <a:avLst/>
          </a:prstGeom>
          <a:ln w="0">
            <a:noFill/>
          </a:ln>
        </p:spPr>
      </p:pic>
      <p:sp>
        <p:nvSpPr>
          <p:cNvPr id="1272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150920" y="47304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(2009 -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119340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3"/>
          <p:cNvSpPr/>
          <p:nvPr/>
        </p:nvSpPr>
        <p:spPr>
          <a:xfrm>
            <a:off x="992160" y="468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474480" y="571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992160" y="1484280"/>
            <a:ext cx="72691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71280" y="753840"/>
            <a:ext cx="7380360" cy="10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Quibdó</a:t>
            </a:r>
            <a:br>
              <a:rPr sz="2200"/>
            </a:b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(2014 - 2015)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200160" y="2565360"/>
            <a:ext cx="8607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4-12-01T21:57:13Z</cp:lastPrinted>
  <dcterms:modified xsi:type="dcterms:W3CDTF">2015-12-24T16:57:15Z</dcterms:modified>
  <cp:revision>204</cp:revision>
  <dc:subject/>
  <dc:title>Diapositiva 1</dc:title>
</cp:coreProperties>
</file>