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8A58-3272-4D34-A456-15228D3C0A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A436-721F-4E6E-963E-9EFC14A49C7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4C5F-B722-44E1-A037-19F0AC69667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24A6-2813-42E4-963D-070C654C57B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005F-6C59-4DEE-9A1E-6F05DFCE3C0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6B94-09B3-45A2-94E7-DA99A38AFAD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F7D7-0CC5-4922-87ED-D26489AB4A7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CA86-A44C-45AB-8BD0-7183ADFE55F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7E84-A466-4089-A7EB-AB6AB1A82A4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ACB6-DEF7-4755-BAA7-751C2B0CB7E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AA1F-6DEE-441F-9687-08BB1AA3DE5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71DE-DC50-43FF-8564-08E5A9B1DD7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D916-79CD-476B-A71F-95A3BB8CF87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8A5BC7-B6CC-4822-A7A3-8B9A3AB4B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F6E819-EEF1-4EE4-B26F-3A71C21BE8C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ADD8BE-191C-4741-912F-82BBB25764D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1150AE-EAA5-4093-8B03-0F4F31FC577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101CF0-F0AA-49DB-9BFC-BAE2B2DCDE6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1B0121-FA60-478D-BDF7-0786D01D9C9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48354F-B166-40FA-B2A6-B7990ACAB1E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F82612-0928-4BA5-BD82-770A165DFF8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ADA579-117A-4F91-A2A3-451A1C572DB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D960D5-71E0-4013-9553-B62D13D39E0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36457E-1F1B-47E0-A72D-34D19B1E5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BA2A57-32C8-45E7-8B20-D875F0320BD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83B26-F8A6-4F05-AC79-CA406312723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DAC14-09C3-4BC9-8E03-BA23EBE33CF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E8CB9-269C-4C2A-934C-70E24A571FA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83B5F-109C-4092-8E7F-20342572130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A0D69-796E-42C9-A829-3C8A40479F7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FFDC8-36CE-4572-BF53-7558168BE32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8DB16-491C-4A2B-8ADC-388ABD5955C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43EAD-01EF-4258-A16F-B3AC506E9E8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71BF6-E617-4E85-B529-3B06836D2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8763-F764-41F6-A501-C0EAFFD7B4E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637CB-602D-4737-AA0C-4EC1CB15894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8B332-B68E-425D-A897-730F0ECDD58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C5B4E-CF56-49F7-8DB8-D7985600273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D4AF9-4B1A-4A10-9308-3C5E2DCC125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E5A6F-B9F0-480B-9E6E-A8425BA6419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78F98-357D-4C29-A6DD-FCA0E1F8E84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65E27-8B71-4D88-9EC9-DF6E3762621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7D9F3-C385-4F0B-8C25-487311BA0A9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1249B-3931-4FBF-823E-CD7C3A5CF79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72AC6-9C79-418F-AC93-9D340754E2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5E12-9910-4765-8F29-96C9695116D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DA2E-DBE4-4E36-B66B-054065FBEDC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EBA81-2B86-44A5-9C94-2261E5972D0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0CEA5-82FE-4DBA-9AAA-D88FAC64EF6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30EA9-12FE-43B0-B2D7-99D706DF387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A5DBF-A1EA-49EA-868B-6433D4AB13E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9B6F20-F7CA-4F1F-9B3E-9D9EFDB2336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B48579-EB71-4816-B08D-A348AE811FB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FC6D84-9894-454F-8192-5ED374037C1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9A3F4B-ED3F-4D7B-89CD-F2877E9803B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E457E-B477-4197-BFCD-9FA611B81F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4970-682A-447A-9349-1DB2F79D21E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3CBB89-9892-438F-987B-8D1C91844F6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2760D1-BCEB-436B-A018-C4D8BB77D08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3F81EC-3013-4D45-955B-E2738DFE50A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0AB8B6-DDAC-4CDD-8E0A-B459094138F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1871D-FD04-4EC7-A70C-A3609E6E7DD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BF9A58-D429-40B4-8DD2-D916A941D60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319397-CA89-4EC8-84AA-E67CA2B1936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C7C5B9-77C5-4BF9-83E9-F4494CC82FE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A1FA51-8BAC-40E9-89A5-60A375D89A6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31C039-1913-4674-8A26-8344DBEF54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28D4-1D36-48E2-9878-B40710D389D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D44BD7-987C-4774-92A2-30776459C72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A24F70-6644-4245-B190-56565B5A05E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4B099-140E-4678-A67E-24A0F6830DE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EA3301-16F6-40B1-9414-AF53F821636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7CC641-0617-476F-B082-1DCF0C905C2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CFF3DB-5C5A-4645-BE01-C3486422FCB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829852-38DF-4063-A1E4-FD12A153C0D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83E5A4-9CCC-4D81-AAD9-91F135A9CE1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56658-59DD-4763-ABDC-DE71A12A8DB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D95DF-F11C-4B11-935E-BF20F658B2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4D6F-C0D1-4802-9338-181E75BE794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6F8B6-37F2-4C95-9919-A50CD893BB3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FA647-BB25-48FB-A7B1-99A84C1D50D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A1A4B-D430-4B0A-9057-4E8C32CD150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DCE0B-DCB6-4C37-B240-17BAAEE4953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E4CCD-F632-4D88-BD2D-532640D2F39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E75DD-EA32-45E2-B5E2-6567E863B64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D8A10-8C48-49AE-AE8A-94B669C2BD4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203A3-72DE-4DC6-89DC-D9B36026A52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340E6-F8AF-4529-8EF2-1846F0F8E55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6FC35-7852-459F-AAB5-543F692716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DEE6-FD6F-41CA-86D5-A960914167A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21DFF-C379-47A4-BE03-FAC3CFB287F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CD3E31-8E0F-4A6F-9496-36D650287A8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2114C5-3D82-4558-B6DE-BE0B51D9FE7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B25DD6-AE0C-4C42-A8A1-F318535195E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0F12AE-186C-4026-B079-D336E25786D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EB3705-FD9B-48F9-8CEA-EF4EB6AAE1A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BC1B9B-5F78-445D-AABE-9EC6472DC3C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CFC3CA-220D-4BCF-9659-B5AE60F5A7C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57F5D5-B529-41DE-AE25-861B811569C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91B86C-50D2-40C1-BB83-3A1FA8F92D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25BD-8F81-462B-91BD-84E32390E20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896B7A-4421-4CBC-84CE-8BBE0FC2D6E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E09B64-C734-4EF0-9874-04E1726D4E5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74FD4A-4039-49D9-98F2-FD9D233DA22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1F54F4-D8E7-40D5-9BE9-ABFDD8ACD36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9B9E0-5EDD-49A6-AE0F-24565FF83A1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7802C-DC90-4DFA-B9E3-249750E2A05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F8AE39-05D4-4A69-9D5E-5E6ED49C736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37AF66-E197-461B-86DD-3471C541D6E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F9177-01E7-490B-95DC-DBE4070A7BA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14E02A-5481-4CFA-BA42-59D3964A00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4DD3-54A8-43EF-8120-199894F1E92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DAC612-31B1-4CEA-B6A5-34D27E5DA68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7A5DFE-68E6-4C29-85D6-3171D8A0A3C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8996E-58AC-4DAB-B4C9-9E417768605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9EBDC-EBF9-48B8-BADD-9A0232EE157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4384E-C3E6-4315-870D-3D411186866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409B7-8B6E-48EF-B07A-2C42CF07194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E203B-8088-4EA4-88AB-24FC8340B2C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B277A-0330-4087-ADD5-C5E9775FF69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E9EAE-5561-4674-8B55-1E44D1A9FB4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5FCD8-5CEB-4D59-9C02-6BAB742448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CC7A-61C5-4EE8-82D9-7EEC9781506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D9B0D-86B2-4C5D-9B40-A572BD0EEB7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2FBC6-7A85-4343-B9A2-E4143D1BC35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7F3DA-FE08-4006-B883-46523670F17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D3BE3-AB4B-4FBB-BEB6-9961E02F758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B0B41-4575-4A9C-BB80-F585B451D87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502D2-572C-45DF-87EE-5BF494D797E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811D5-987C-494A-A137-BC00627C2E5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2B7F6E-958C-4BC1-B4B5-67E939D090B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1DE2FD-E473-48C3-939A-52BB9EFC5D1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32F94B-5640-47BA-8B17-5480A06F63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A493-40C0-4E08-905C-E98C982EC26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C9566C-B6BB-4E68-A802-8052AEA4D65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65F658-959D-468A-96FD-BCC5F78D77A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E93E0B-7D92-4E88-87B1-3254FC19CFA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E84A9A-AC13-4F18-9296-255762AD3E6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D449C9-74F2-444C-A29D-6E553207FE1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668C95-A38C-4704-97FE-1F1033954B7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746EDB-8856-4F70-A0E8-67D29949CF2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AD1491-41BB-4DDE-83A4-C2402D1EAD9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41CEA8-AD99-4A9A-97C8-FFFC1ED1783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5B140E-259E-4640-8FCE-EA8901CFCF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0E70-196E-4E12-9CF1-D2781D90F37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02FD8-2063-48F3-BCE6-B25536AE8DE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259396-DDCA-4B50-98BA-B8C2F74FA7D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219E6-EE44-4B98-BD7C-76C94CD169F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4676A2-C429-4511-B077-2B502782539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AD0B2-63A5-4296-B6E5-A04F712AA06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C8F9B-920B-472D-BA48-42859FDE34A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53025-2FC1-4B68-B561-9A763E4847A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4FFEC4-4C1D-4CD8-B426-307B5D9DD5D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E614BC-B84D-4940-9934-0F4F00CE39D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14677-163A-46AF-A206-5412446321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8ECC-4E49-402B-8B49-C9028A6118E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866E82-AF69-4A41-9885-BB3841A41E3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EC787-33B5-47BF-8E56-AA13C6DD91C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3274B-240E-460E-A0D1-DE21D2A0C6D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523FC-94FB-4165-B187-F6701FDE639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8264D-F72C-4E99-8F59-FA7680AFF70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9EBE5-7C6C-4ED9-940A-379A0F67B12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05C6C-47C7-45E3-AA7A-5DD851FDFCE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FF19A-12ED-4EA9-9108-F4D304DD22D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3D12C-02AC-4033-82A5-64110756763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F1B28-2625-4DFA-A08A-F327904EF7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CB6AC-9BE6-402A-BF23-5E75D8E1835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EB06D-5013-4CF0-B636-25B3083EDF6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65344-30B5-4197-AE7C-DAB9ED327F2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7A5F7A-940B-4766-ABD1-B3D9E32668E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04996C-FEC9-43A9-9C16-8BBB04081BF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54084D-3224-4890-871C-341D19B79C3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1D1043-A04C-44D7-AE40-72B6951F3A2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507200-B023-4432-B4AB-8DC6A0227B7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EE6776-6EB2-4756-BDE6-3DE1422119B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58DEB4-4CDA-42BD-94ED-F831EC7A7C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A77711-1233-4860-845C-468758B2371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CCB10F-DCC6-4A5B-B421-8CE780A621A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7995BB-8809-4C3D-9BD9-988708DA68E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A28AA6-707C-4E25-9FAE-9664ED64F46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48CDFF-9A6C-4BC4-B649-D4B820B35FC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953769-D827-49FC-B7C3-8E727C1F0D9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DFEF01-7711-4A00-9C3C-8B7572A82ED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5E2A45-5167-4F33-98EC-EBC6F37BA36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650226-3300-4554-87BD-CC09ECB052B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F8DAC6-29B7-4475-BD58-D4CEE0A7CF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82AD6C-66CB-40AA-930A-2D4144802D9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D5493-68F9-48AE-8362-B013F116823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B1A33D-8BB4-42DC-82C5-A5101FDE5C7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3EA5C-D6B5-4195-BC6E-CF31C236E86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763412-4567-40A9-9E82-9DFF3DFEBCB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5BAEE3-604B-4BEF-B4FA-E5CA5E887AC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FBC69E-90C1-4BC5-803F-3074609D12A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C6447-C8C6-49B7-AEB7-D27125BB159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B5B72-3C20-4550-945A-609F2162887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09041-BEBE-4771-AA77-90404402FC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F67E1-2123-4CC9-B39A-A2AFB95BC15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C8356-A253-4AC8-9CAB-C27032B2B70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26CA3-C993-4F74-B5D1-C8504B2FADF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0B67B-9AD9-402C-89AE-924A809F6BA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45E39-9065-4C0E-B0FC-36B6936B8D3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82A83-F693-4560-9F84-53ACDDCE5AF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F67D3-503F-40AF-A3E2-442B63925E7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8B4E4-6D87-4079-AAE0-EEB0468E1A0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1F39F-350B-42E0-811C-59C9C27A0F0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239F06-8A40-4EC1-A74E-A22BF070EF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42BD9C-D279-437D-ACCF-1CFF0D479E1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8E7893-E054-4753-9D40-1FE6AC53D79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B1B2F9-B3E9-4FAD-BC6D-271A779168D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AEE4EF-6A8E-40DB-ACC2-FA7CF661110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3FCA5F-5B9F-4D43-9219-C608EDEB98E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817274-9240-42B5-B03C-57406903AC9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E657ED-ABF2-4126-B9D1-4A60CEF41C5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D20665-0E2C-4996-97FD-F76F3EC890F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BB3094-3FE7-4CF9-88B7-4B300EE79F4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2CF175-B086-4A14-93A9-48B16EE482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6726C2-55BA-4288-89D7-CEA6826E311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ED904C-93C5-4AD3-99A9-648B67A4861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0B3965-2A3D-448A-9A20-C6BBAF04BCF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9FA654-18CD-4888-BEA0-F246735497A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97C529-5F1C-4153-AC97-1E75BD10A44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4376BC-B6AF-4099-9FD5-EA172C94728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5A67F2-480F-4C7D-9688-3CC5ABBC88C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C3442B-AC25-4E9A-BAF7-371558541AF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A17CA6-5611-4647-AB7F-49460C80F0B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304EDA-7271-45C5-BC95-15E244F023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903DCE-7FD9-4BEB-A4EC-D1A6B12D63E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C724B3-4DC4-4487-87F4-0DBB1BABDBC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D4B909-FAF3-48B3-9C01-0EB2843899E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DCDD7-1778-46CD-8C88-2276DC5451F2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23171-DA03-4BBB-AD78-1AC5414EC4C6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70CA2-B795-4392-AB3F-8CE5B1A43E4A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12814-8E42-4D8D-B9D9-C889972DDB9E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75261-C15A-406D-9528-1F793B0331BA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96341-3893-4793-9892-A01E218652E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34EF1-CC5C-4D8D-AF33-A9B86AC5C4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1AFAA-5C4C-4802-A014-06C46C5E2B5E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2FB19-73BD-4705-AD89-19C150A22C3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543EE-429A-4B69-B932-DDD96B5AC5F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9C54F-391E-48C9-AE98-2488F923979E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FC8D0-521D-45E2-8D83-27EC95B7360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A3D0-69E5-4A65-A81B-A3CBAA04EF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EE479-E823-4A40-A6D1-DA3CCFAD41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BFFB9-BEB1-4BDC-9E3E-21464E329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33D2-1A43-4CCB-9692-22969BF88F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B5552-314E-40E7-A238-84C114ED6E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C290E-2F1A-4134-99B7-6E58DEBA2E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81556-7123-47D8-8825-28F797886D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436DB-D70D-4236-945C-F1AF2B9305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649D2-B368-4D00-A716-5F17197B4B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2E93C-066B-41F0-BD08-83B7D33C02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CC8E6-2DEB-463B-B2EB-ED4C8BFD03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E24C7-4251-4B2E-A902-3B926F1DFFF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15A-7AE3-4654-A66A-5E4B36223A9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5B0-4619-4ABF-9AF4-64AB803E0BF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FEE-8334-42C7-8C8D-8DA686C0383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315-53C2-40C1-93C3-1780C4AEFBE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ADE-5853-4B19-BDA3-9D4397AC611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F1D-E8A8-465B-8DFE-D6B1B48A624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542-1A6F-4B67-AD20-D4EAF6208C4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7FE-9C53-4C7F-B410-EB3662F597C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18B-9E69-42CE-B073-3FDC9553A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22D-A8F9-498A-8A00-368A0AFD8BB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F1C-95B2-4EFA-A5E7-9277CAD84E5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5442-EC76-492B-A2DC-CD8DEF1674F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AA7F7-2B62-468E-BA25-C6AEA068D86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978D0-0B23-4AA9-A824-7781EF63C63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38E24-C858-459F-8A7A-F337ECBACF5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33D58-CF72-40D5-A502-2C3776A7FF2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7A3F8-050B-4326-AC99-C22AC0ABA5F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D72A1-E449-421C-ACD2-81F313A2BDD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6803B-6E9E-414D-9061-78C341308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09A23-D37C-452C-9887-836BB351D52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88E12-FDC3-43C1-9E7D-BD56EC32452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0954A-FA44-4AF9-80C5-C91CCF203F9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74E38-5C98-4418-A6A9-33BBF08DD24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58C2F-D844-4EDE-AE76-555EC71765C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78B59-9B48-463B-9443-7EBCCE39D9D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DD1EB-818D-44A8-AAB0-725B4F40C28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13490-CC96-44D2-A686-03DBCFAF9AA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F141F-8E24-4076-83CE-AB4B4370970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C2E98-DE2B-4205-B6B0-C25DAA3F8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3EDD0-5319-4CDE-9738-972DE3F7721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43102-C159-4675-8D5E-B7D29073068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27510-01CF-411C-B26C-30E4BB06FE6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C5716-AD1D-4977-96ED-42AF0C7E562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AE9ED-9E34-4865-8D5E-A48E513717D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D1539-358A-43D6-9EF9-0A5F6207E45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11B6F-2FE6-4963-A6A0-F993FF473E5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A71F-6A21-4CB0-835B-CE127645B55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E77D-4024-4BD9-A147-F369BBEE62A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7DE3-8641-489B-967A-EFD2F983C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82F3-4AEC-49D4-BB4E-82E687B18C5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CF06-17DC-4B2B-8B17-AC17C63849B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D727-EEF7-46F9-A0CC-F37F2D5869D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78C9-7F7A-4178-AA9A-545492104E7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BFCF-8B0A-4104-86CC-45C88FFB206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8AB4-55C1-48CA-99A1-81A89207412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3AEE-CEE5-4953-A906-A79C73C176B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9F79-0EBB-4032-B990-03CA9B8F4FB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0236-FCF7-4844-8DE4-C2A6A12397E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1C7B-8750-4464-B1A9-2D313472238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0A2B-DB74-4BB6-BDA9-9459C8BD871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4043-2391-4F89-8465-1774B8B64A4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EEDB-2797-4A51-9E26-53CC15C5C0A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261A-88F0-4354-A995-53EC93D21D6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8506-9FF4-40C2-A8BA-CEF64F2BA0D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917C-009F-40E6-A114-50CE8B1085F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9F95-DFAC-4A24-9AB2-06E7BACF4C7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F857-12B0-428D-8CA1-80E14F937FB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FC4B-A9C8-4973-8C91-FF4E7831029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9D43-4B6C-49D2-A5CE-E4CC70EE27E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9A54-9421-492F-9CF3-D93B3A8D2A0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0E29-49F5-4A65-A468-2E0B34007CE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0E2E-E5F7-4824-959D-FE75ED1F265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11E3-A9DD-48A3-A782-8BF68F0CF39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Villavicen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Ener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Text Box 3"/>
          <p:cNvSpPr/>
          <p:nvPr/>
        </p:nvSpPr>
        <p:spPr>
          <a:xfrm>
            <a:off x="1225440" y="5731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5 CuadroTexto"/>
          <p:cNvSpPr/>
          <p:nvPr/>
        </p:nvSpPr>
        <p:spPr>
          <a:xfrm>
            <a:off x="761760" y="5183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162000" y="5478480"/>
            <a:ext cx="873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2" name="1 Imagen" descr=""/>
          <p:cNvPicPr/>
          <p:nvPr/>
        </p:nvPicPr>
        <p:blipFill>
          <a:blip r:embed="rId1"/>
          <a:stretch/>
        </p:blipFill>
        <p:spPr>
          <a:xfrm>
            <a:off x="736560" y="1484280"/>
            <a:ext cx="77835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3"/>
          <p:cNvSpPr/>
          <p:nvPr/>
        </p:nvSpPr>
        <p:spPr>
          <a:xfrm>
            <a:off x="1728720" y="3254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4"/>
          <p:cNvSpPr/>
          <p:nvPr/>
        </p:nvSpPr>
        <p:spPr>
          <a:xfrm>
            <a:off x="382680" y="54579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5 CuadroTexto"/>
          <p:cNvSpPr/>
          <p:nvPr/>
        </p:nvSpPr>
        <p:spPr>
          <a:xfrm>
            <a:off x="891360" y="515772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1 Imagen" descr=""/>
          <p:cNvPicPr/>
          <p:nvPr/>
        </p:nvPicPr>
        <p:blipFill>
          <a:blip r:embed="rId1"/>
          <a:stretch/>
        </p:blipFill>
        <p:spPr>
          <a:xfrm>
            <a:off x="611280" y="1282680"/>
            <a:ext cx="78580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0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3419640" y="387036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Text Box 3"/>
          <p:cNvSpPr/>
          <p:nvPr/>
        </p:nvSpPr>
        <p:spPr>
          <a:xfrm>
            <a:off x="1273320" y="40464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5 CuadroTexto"/>
          <p:cNvSpPr/>
          <p:nvPr/>
        </p:nvSpPr>
        <p:spPr>
          <a:xfrm>
            <a:off x="576000" y="5172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4" name="1 Imagen" descr=""/>
          <p:cNvPicPr/>
          <p:nvPr/>
        </p:nvPicPr>
        <p:blipFill>
          <a:blip r:embed="rId1"/>
          <a:stretch/>
        </p:blipFill>
        <p:spPr>
          <a:xfrm>
            <a:off x="628560" y="1341360"/>
            <a:ext cx="8129520" cy="3913200"/>
          </a:xfrm>
          <a:prstGeom prst="rect">
            <a:avLst/>
          </a:prstGeom>
          <a:ln w="0">
            <a:noFill/>
          </a:ln>
        </p:spPr>
      </p:pic>
      <p:sp>
        <p:nvSpPr>
          <p:cNvPr id="1305" name="Text Box 4"/>
          <p:cNvSpPr/>
          <p:nvPr/>
        </p:nvSpPr>
        <p:spPr>
          <a:xfrm>
            <a:off x="0" y="5373720"/>
            <a:ext cx="9144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 ^: Obrero, empleado particular incluye al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 * : Trabajador sin remuneración incluye a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Text Box 3"/>
          <p:cNvSpPr/>
          <p:nvPr/>
        </p:nvSpPr>
        <p:spPr>
          <a:xfrm>
            <a:off x="1763640" y="404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8 CuadroTexto"/>
          <p:cNvSpPr/>
          <p:nvPr/>
        </p:nvSpPr>
        <p:spPr>
          <a:xfrm>
            <a:off x="1053360" y="516744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9" name="1 Imagen" descr=""/>
          <p:cNvPicPr/>
          <p:nvPr/>
        </p:nvPicPr>
        <p:blipFill>
          <a:blip r:embed="rId1"/>
          <a:stretch/>
        </p:blipFill>
        <p:spPr>
          <a:xfrm>
            <a:off x="690480" y="1413000"/>
            <a:ext cx="7761240" cy="3814560"/>
          </a:xfrm>
          <a:prstGeom prst="rect">
            <a:avLst/>
          </a:prstGeom>
          <a:ln w="0">
            <a:noFill/>
          </a:ln>
        </p:spPr>
      </p:pic>
      <p:sp>
        <p:nvSpPr>
          <p:cNvPr id="1310" name="Text Box 6"/>
          <p:cNvSpPr/>
          <p:nvPr/>
        </p:nvSpPr>
        <p:spPr>
          <a:xfrm>
            <a:off x="108000" y="5661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  <a:ea typeface="Calibri"/>
              </a:rPr>
              <a:t>Nota*: Trabajador sin remuneración incluye a los trabajadores familiares sin remuneración y a los trabajadores sin remuneración en empresas de otros hogar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232560" y="5454720"/>
            <a:ext cx="440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  <a:ea typeface="Calibri"/>
              </a:rPr>
              <a:t>Nota^: Jornalero y peón está incluido en la categoría obrero, empleado particula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33640" y="51264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24000" y="548784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5 CuadroTexto"/>
          <p:cNvSpPr/>
          <p:nvPr/>
        </p:nvSpPr>
        <p:spPr>
          <a:xfrm>
            <a:off x="474480" y="5257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1401840" y="1484280"/>
            <a:ext cx="633888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545760" y="5543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1 Imagen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29080" cy="3915000"/>
          </a:xfrm>
          <a:prstGeom prst="rect">
            <a:avLst/>
          </a:prstGeom>
          <a:ln w="0">
            <a:noFill/>
          </a:ln>
        </p:spPr>
      </p:pic>
      <p:sp>
        <p:nvSpPr>
          <p:cNvPr id="1323" name="1 Rectángulo"/>
          <p:cNvSpPr/>
          <p:nvPr/>
        </p:nvSpPr>
        <p:spPr>
          <a:xfrm>
            <a:off x="1944720" y="461880"/>
            <a:ext cx="552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 la población ocupada en el empleo inform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 y áreas  metropolitanas y Villavicenc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- noviembre </a:t>
            </a:r>
            <a:r>
              <a:rPr b="1" lang="es-CO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(2014 – 201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Villavicen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1260360" y="1557360"/>
            <a:ext cx="6048360" cy="1942920"/>
          </a:xfrm>
          <a:prstGeom prst="rect">
            <a:avLst/>
          </a:prstGeom>
          <a:ln w="0">
            <a:noFill/>
          </a:ln>
        </p:spPr>
      </p:pic>
      <p:pic>
        <p:nvPicPr>
          <p:cNvPr id="1327" name="1 Imagen" descr=""/>
          <p:cNvPicPr/>
          <p:nvPr/>
        </p:nvPicPr>
        <p:blipFill>
          <a:blip r:embed="rId2"/>
          <a:stretch/>
        </p:blipFill>
        <p:spPr>
          <a:xfrm>
            <a:off x="1233360" y="3933720"/>
            <a:ext cx="61675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684360" y="333360"/>
            <a:ext cx="7848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M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509760" y="1700280"/>
            <a:ext cx="827856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Villavicencio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84080" y="1916280"/>
            <a:ext cx="780588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08000" y="2408400"/>
            <a:ext cx="27367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- noviembre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8 CuadroTexto"/>
          <p:cNvSpPr/>
          <p:nvPr/>
        </p:nvSpPr>
        <p:spPr>
          <a:xfrm>
            <a:off x="2916360" y="5846760"/>
            <a:ext cx="56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(+) (-): Aumento o disminución de la TD de cada ciudad frente al mismo trimestre  del año anterior</a:t>
            </a: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3 Rectángulo"/>
          <p:cNvSpPr/>
          <p:nvPr/>
        </p:nvSpPr>
        <p:spPr>
          <a:xfrm>
            <a:off x="2909880" y="2408400"/>
            <a:ext cx="6054840" cy="1839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1 Rectángulo"/>
          <p:cNvSpPr/>
          <p:nvPr/>
        </p:nvSpPr>
        <p:spPr>
          <a:xfrm>
            <a:off x="2916360" y="57196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2935440" y="293760"/>
            <a:ext cx="6190920" cy="5343480"/>
          </a:xfrm>
          <a:prstGeom prst="rect">
            <a:avLst/>
          </a:prstGeom>
          <a:ln w="0">
            <a:noFill/>
          </a:ln>
        </p:spPr>
      </p:pic>
      <p:sp>
        <p:nvSpPr>
          <p:cNvPr id="1271" name="6 CuadroTexto"/>
          <p:cNvSpPr/>
          <p:nvPr/>
        </p:nvSpPr>
        <p:spPr>
          <a:xfrm>
            <a:off x="351000" y="5253120"/>
            <a:ext cx="2251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*El total de las 23 ciudades no incluye San Andrés por tener una distribución de la muestra diferent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Text Box 3"/>
          <p:cNvSpPr/>
          <p:nvPr/>
        </p:nvSpPr>
        <p:spPr>
          <a:xfrm>
            <a:off x="1332000" y="47628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Villavicenc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- noviembre (2006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75852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330200" y="1628640"/>
            <a:ext cx="703116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Villavicen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5 CuadroTexto"/>
          <p:cNvSpPr/>
          <p:nvPr/>
        </p:nvSpPr>
        <p:spPr>
          <a:xfrm>
            <a:off x="54576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9" name="1 Imagen" descr=""/>
          <p:cNvPicPr/>
          <p:nvPr/>
        </p:nvPicPr>
        <p:blipFill>
          <a:blip r:embed="rId1"/>
          <a:stretch/>
        </p:blipFill>
        <p:spPr>
          <a:xfrm>
            <a:off x="1438200" y="1560600"/>
            <a:ext cx="66931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4"/>
          <p:cNvSpPr/>
          <p:nvPr/>
        </p:nvSpPr>
        <p:spPr>
          <a:xfrm>
            <a:off x="1106640" y="620640"/>
            <a:ext cx="6408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Villavicenc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- noviembre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1" name="1 Imagen" descr=""/>
          <p:cNvPicPr/>
          <p:nvPr/>
        </p:nvPicPr>
        <p:blipFill>
          <a:blip r:embed="rId1"/>
          <a:stretch/>
        </p:blipFill>
        <p:spPr>
          <a:xfrm>
            <a:off x="144360" y="2421000"/>
            <a:ext cx="8882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7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3"/>
          <p:cNvSpPr/>
          <p:nvPr/>
        </p:nvSpPr>
        <p:spPr>
          <a:xfrm>
            <a:off x="3419640" y="387036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Diego Alejandro Martinez Jimenez</cp:lastModifiedBy>
  <cp:lastPrinted>2014-02-24T23:06:42Z</cp:lastPrinted>
  <dcterms:modified xsi:type="dcterms:W3CDTF">2015-12-24T16:38:54Z</dcterms:modified>
  <cp:revision>894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