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17.wmf" ContentType="image/x-wmf"/>
  <Override PartName="/ppt/media/image7.png" ContentType="image/png"/>
  <Override PartName="/ppt/media/image15.wmf" ContentType="image/x-wmf"/>
  <Override PartName="/ppt/media/image6.jpeg" ContentType="image/jpeg"/>
  <Override PartName="/ppt/media/image10.png" ContentType="image/png"/>
  <Override PartName="/ppt/media/image28.wmf" ContentType="image/x-wmf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4D24-9386-4A9B-A5BC-0F957D2DF9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D4AF-D091-404F-B1D1-97B873E8DCF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7E3D-174A-48D5-855F-46E7F231F53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AB5B-E995-4938-B59F-CD8B59E3F83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E36D7A-0818-4146-85B0-A1222791E60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55827F-DAD6-4BBE-A57B-513BDBD952B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C91CB8-DF14-48BC-B192-FA4D7D3A9C8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1D7F1A-AB38-4786-B94F-72D6CD817CA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EA3523-7280-4049-9A66-47546E52B5A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C2D6E8-5515-47A9-B4EA-384290797C9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55740A-381B-4EB9-B88B-045D03988C6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F6309E-CAAB-491F-B14E-963EA74833A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2297D3-73EA-4EC5-A825-49ED4E0A6FB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0F51C-E2A3-41DB-B8A2-035469B71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20E40-1C07-417A-89EE-E3F328D7266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FAA57-6FE0-4840-94B3-FE80C20CDB9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8E307-B384-4D3E-ADC6-7CC049F6C28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ED8D0-7870-43AE-B996-F9DF1A9DE87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A05CF-8038-4ABA-AA9E-F721C4DD250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2A050-4CD8-4A18-9EFD-17CA1BCBCF4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EB2E0-D68D-4E44-A083-0CD7924D83F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22BEC-2961-44EE-A984-746C44770B2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8DBD8-A725-4E03-A96D-3FC22D35FC3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68E3F-6621-4321-99FB-8EB022189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37389-6AD8-4116-B2A2-05E9563F3D5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AFE10-C4B2-4924-AFA1-5D26B60FF8E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446BA-F551-49B9-AC8B-CEA82F7C51C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1934B-1F6E-4206-9858-DF29CA6A34F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662E0-727D-40B5-A092-F094CD5FA32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69A2F-BC76-41B1-9E47-5684D8C7EC2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21048-EBF3-4FC9-BABE-E2F7DF2937C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D4B89-1C6E-4BC3-852D-416C41CED25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F4A9A-0394-4C64-B056-01FF045C4B3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88A57-F936-4E44-B4D1-A68427A3E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3A02-B458-4D6D-8D7F-E2443335731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C941E-5A25-4234-BAFA-67EBAFD70E1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11D4B-96FB-4868-86D8-6E2E31BB1D1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8DC88-FF02-4B21-81E8-4EDB7648760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CD4A4C-BFBE-4482-9672-B1866206684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3CEEF9-9897-472A-9D15-C4FE5F6B32A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916C2E-1D89-4DA2-8442-A56214F1CAD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2BF207-11A8-47F1-A067-2ABB02914B5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1240D0-33BE-4E63-8385-1391B41531C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225CAC-4B50-4B45-A685-2F2F8AEB9B7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C9C856-66C1-4FA3-A922-E47FD052A2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7BA0-390C-41AF-A65E-3B12C337C86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FCB6BA-2613-4347-A8C6-6C7260290C9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1DD1B0-483D-41D0-AA75-18392E3D805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3507E3-CF6D-4CBE-BEC2-0A124743A12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81E4C-6559-44D3-B747-F6AEBA2F0BB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C5FBB5-A55D-4472-BFF1-1A873BA4E6E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6A3A48-D85B-4372-8B48-98CE74079E2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660F3E-2A17-4B03-9F82-60F66231E9F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DDFBA9-4DC9-4E17-8FFC-0A89A5FC99A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81359-5E8F-4E9B-ADF4-99B0C56DF05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DC8AA8-B36A-478B-99B0-38AE2F1F97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3B8A-4DF5-4107-881C-8577EAB9FE2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1BA70F-C767-4C7B-A3F9-4EA78192BCC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78DF48-2DA1-4B42-96A6-48A5EF88D80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D3B30-E5C4-4224-87E1-7E0B169C0E8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1F787B-24C9-4AD8-A0C9-DE7B0C82CC1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07B55C-0E4F-4C92-A95D-F3176DC22B1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7BCB7D-1013-4A99-AFCF-CDE449C981A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114E2E-E94C-44B8-B977-DD8CA97C804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CCDA1-2AAB-468C-B64A-2C5176CFE91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A1EA2-782F-4172-B553-DFED4B6051B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AC222-AEB9-4019-B424-8257B7EDB6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9860-E3B8-4866-A5CC-018C49ECFEB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857E5-B3D8-46EA-8206-3FC460187AB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01F03-7D9C-4116-BC2D-99421B8C10F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2CC2E-86AA-4ACC-A2AD-5E8013170DE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DE1F7-4EC2-4CE0-A99E-C50C887AB21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C144E-B4CF-40C8-AB3F-BEABD88607E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84D50-908A-4AE5-8F43-AC269445FB5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4861E-4BE7-47C1-AA9E-76C62E71C81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6A980-AC0B-4C10-8EC1-15D35A8F6A0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383E0-8026-4A2D-8502-8391AD60223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A8003B-E9C8-4185-87EF-ACA5FA5F13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71B2-9D5F-4B0D-B6BB-33772BD225B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A68A3C-4279-41BC-81B0-36A8EF6BB89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E6F4E0-C6C5-4B93-831B-71239A9589E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19A311-B177-4CF1-83FB-C4E1520836D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E4E26B-A776-40CB-B929-5BF3195E7E6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438F83-AECE-4A18-8AD2-BFF59E0D45D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72D19E-2442-45C1-B42B-8F4A3D11D7B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ECC04B-3BA4-4905-B665-B785708625D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1C120A-1455-4B87-8461-9A1D613DA0D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FB6EBF-5787-48FE-BB4F-427EE408DD5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B30867-5418-4A8F-BF18-BD675A3F63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1E15-B5E3-4D27-A8A8-34EC0FA7258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75641B-ED7E-40A5-8747-ADB92B0ABF5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8764-42E0-4DBA-BEEE-4E49259E999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4F7F8-4B6E-4464-951C-1CAFDCFD025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17820-780D-40DC-84C0-1F18886FED3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C97FF-2E85-4793-94F8-6D01687D99E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DF0D7-8826-43ED-8EEA-7F9799D036F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D244D3-6602-4DFD-A8C7-8388CDFC9BA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538FAD-84A7-461B-9279-846B783AF9A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B8A14-A7D4-41B6-9948-615ACD2E0E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EF5CE-2DC0-46B8-B83F-83A3254438A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D11FB-9F99-4262-B268-002044EBC18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F5FCB-C26D-4DA7-AE8B-4CC621C06E0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6A052A-3153-4CC3-A119-EE953236662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03AE1-ACF6-4E3A-8D4D-AA77B3D3C8F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8C6882-8FD5-4862-9C15-229D99E13D6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0CAEA-C92A-4A7D-8D9F-2EDD2DB2F07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4AF2F-CFDE-445A-BC1D-72F307C8A28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1FEC3-160E-4779-99FA-A21CC2D2F5C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75C62-4CB2-417A-A896-523FF0B577E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994F7-6175-4AC0-922C-B366D5C608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21E3-2BBE-403D-861A-2E86F382AFA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4C26E-837D-46DB-BEB0-1DB31B49AF5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71B5E-6CA5-4438-B992-9AF69FDC180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24EA5-D9CA-4750-B083-6A6C46B1A96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EDC7E-BD13-4CB4-8F66-4CAEEF6418B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4B011-4724-4AF7-A879-D3E169A0AF5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65186-E7E1-4C6E-BFBC-709AD27530A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F131D-473F-4468-AF74-8AB967F705A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2D8840-6585-4261-A1C8-9D8EF03444C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5EC149-08CA-483E-A0D4-513E9B27D88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04FE78-B969-4F0F-8A5C-F2C4CD3578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1636-45CC-477A-8A45-66C3F6A7E84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08954A-0287-4CC4-A2DF-5303CA4256A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83F41C-53CE-4251-B594-6B7B2AA4BC2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2A28F1-3DF8-4B14-8ECE-3B5C201A8CB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76EAC6-62FD-4391-8646-34CF67C44D0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201CC4-21A3-4282-9B1D-66F26944E94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4F916E-892E-4DBF-8EFF-6DC03EF0A14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48BF42-2DEB-49EE-BB3B-2E359A7D361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46952F-747D-40B1-917F-FC3B454CB20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DB1700-2EFC-4B3C-AD6A-DDE6FFC0DEE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B5EEF-03E2-464C-BF9D-A5BC9D91E8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4F0E-9E51-408E-A3F1-D5D501279FB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3863DC-9C2D-418E-BB55-2F42A8FAAAA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A60A9-894D-408D-A4DE-A33FEEAF32D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26925-66B8-486E-AA4C-5753AFD084B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092B80-E260-432C-98AB-C86F4E5C6CB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16017-0F79-4CF9-BCC9-B8829BB9808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DA3C4-C752-4FF3-B2B1-7EEC6A9A8B5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FCC5C-3A82-4168-BA7D-BC9878AE4A7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7B7B54-93FB-4F6E-BDA8-04F0A361804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F4D061-DF0F-4871-ACE8-79018409707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3F6CA8-34F2-4ED6-83A2-1E4032CED1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9853-CCC6-479C-984F-AAF9A3F24F9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CB8B23-699B-4991-9B99-D48520BB7E5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01B05-6B79-484A-9B63-49EB320067D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4E419-98D7-4C54-9802-102625D29AA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79CE5-E739-4FBA-9003-BC4E3B8FE29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6FF23-DC07-4BD9-9C1D-375FF0C9DFA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89825-67F7-4DA4-96AD-673E1CA2786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4AFC4-C867-4BA1-9384-4348237C85B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92387-E5FA-4125-9FA0-6F6787A1323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8972D-EAA6-499E-950D-73D7F84FDF3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D7224-8419-483A-A601-401EEA1B62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D143C-1ADD-4025-B483-9EA0E295C11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F0E81-4FE3-40B8-9B71-22501896449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154BC-67FD-4273-A7E2-4422D453411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CBB6EB-0B8A-4C83-9B01-B6F5A3246D3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18202F-58EF-460C-B31A-F960C1BB2EE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231F26-9B3D-4766-A88F-FF843238ADE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3C3879-4117-400B-AA72-EA4433DDE54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A1CDCA-1B11-43EC-B770-BC80B52E762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A2E5BE-D72A-4DD3-9B04-18C54699EA1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EA74F8-D34E-46CB-9D47-6C381F8E9F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45051E-928F-4A8F-8A49-9A9FAAA85B6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CCDBDD-B041-4FFE-BE5B-FCD68000D8D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9E9BCD-1B3E-45CC-842F-BEB43CC5E12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5E59C1-77D1-443D-865B-86EC2097D30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F93C77-F003-4499-A411-8C42AEAE95B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31EDAA-A8A1-40B6-A62A-F6C51FF428C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D4E951-1EA6-4667-85A4-3ED082A8D2B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EC4975-28A4-48AE-96AF-DB38F006A2A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261580-07D9-42E3-8F15-798170F17C1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25FCDF-2549-4B0D-86DE-419BDB408F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E7B887-E483-4A37-B699-E6A4E65537D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230A0C-8BD2-4832-A6FB-09FE1BEAB5B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25081C-8B8C-48BA-8995-40D6B8B0E49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BE4CC5-E74E-4FBA-B782-9F6A1D8047B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A1FDE7-BCBC-4B70-9167-52AD386B1AA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E1FC0B-D862-42E2-AAC1-948FEC5207B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FD8D67-B34B-405F-A762-6681D8CE4B5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F15ED-3871-4A82-B9B1-242A84FDEF8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CE153-E5E1-4D0C-811A-E309DDD4990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DD635-BAC2-48ED-B267-B220269260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76B7F-AB03-45EC-875D-42D6234396A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4C863-622B-4BA9-879E-855C66A802C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99558-27A6-4277-B7DF-CEBC2A0F955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DBB0D-562E-49F5-8C77-87BF27006E5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33BA3-A548-4AB2-A349-FBD882BF9E7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D0850-70E5-4496-A6CB-D835101D898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AF5BE-80E2-4FF7-A0B3-685A3115A80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B22C0-6D26-4E1F-9699-66E0EFE775D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0303C-BC40-4518-AE42-BE211DE4FBD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AF73D7-0329-49A1-B3A6-E3CCC8C036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BD6F60-FFA0-47C6-8192-4F858843EDF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77F94B-1108-4CC6-B763-57511428B17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6A23A2-F7AD-4174-B6A2-17792E98B7E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43F669-80D5-48F6-920A-24DA39DD93D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F9F0A1-F793-4C3E-B627-825283EDA0B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BE7521-CD6C-4EB2-B0B5-268CE8823C7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A87051-872F-4CF6-A861-F7B9667B484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1FBE99-36D1-4E62-A532-E186A14F71F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C3BEF1-4BDA-4E11-96DC-4D9C5EC1FF9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C0050C-D6C6-4C45-8814-380DAB74EE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C9BE45-9EF2-4AEB-9E7D-F6203C79A43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83D38F-D404-429D-BF08-486BA5FAB65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44BED5-8E09-4084-921B-470F283D0BF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92F355-A54C-4C98-98F8-FEA64851698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3C5D0D-AD2A-47AD-AACA-5A364519D0A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749ACB-C8BE-420E-BFA3-4A1D7257282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1CF020-D2A2-4E18-B23F-37D26FE81B9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6D8AE5-7657-4C4F-B96B-52C6D6BB859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9E76E7-A832-4B5A-B5BF-C5D5DF0EE6A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3AF016-FABB-4BD7-B8A6-0140962E7C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CBF337-A8AC-4932-B5B8-FBD96B0CFC2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A776CF-51E5-4F05-BC80-FC5EBAEF0BE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06F36B-5FBB-4431-AD02-D322544DC0E8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54F82-F015-434B-8AB3-FC7B71A5A296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6B400-B4C5-471E-ADCC-3C2874A805DE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84E28-C6DE-432A-9E70-2F2A1E346760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3E2F3-07C3-4E54-80F9-A3C87B10CFDC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FA17F-8141-4CF7-BD97-11ACA94A933E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1947F-76E7-48E9-B912-A57BC4C6FF82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C6BB0-43C2-4D67-A97D-90E7ACF8AD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3729A-F2DB-4E6A-AFBE-4C6EB5478A37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C48C1-DBAC-4023-885F-9E2E54390654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1B312-47B6-470D-9097-200D6BBEC42F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5C2CA-6009-4168-8998-0B2CF598F5EF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77BD3-42FA-462C-ADFB-69BD3A8778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34782-D85E-4784-B808-8334F5308B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AFE2-98C1-4527-9DAC-AB9EFB68F70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A79CB-E683-474E-B10D-AEC5D6AC0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4796C-BD4D-4695-8A3A-7F30BF6DEC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56832-6E03-4A55-A605-31284158DF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CD2C0-646E-4819-A4A4-6E299A648E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08101-5158-42D1-8322-47F5497663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E5BF1-A27B-4374-A14B-A09BA2BF29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340F4-D7D7-48F5-AA9E-58F30482908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90385-6642-4D00-BAF7-C9837313C19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93BA-FA0E-46EA-BC18-D2F61D025C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B5F00-15AB-468A-872C-20BD72DF687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036-B6D5-4FF3-A78B-AC735D57B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8AE0-F918-46B7-A74E-7ACFCDA1B6A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DEAE-A439-4298-8118-B449371D6B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4E3A-7AF8-47EF-A0B2-83880121DBA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EED-19DA-4860-9AC7-9D6A84C067E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8B25-4B42-48C0-8DDF-ED275E9BAEB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64C-7DD2-4EBB-9E7B-C7B8E537927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F2A4-B809-4454-BC95-A84563E104C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B68-1F33-4031-A165-1CE266DD3FE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C5B-A0E9-450D-B504-61EA4E414A2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07F-65E3-4327-8059-56EA3AD26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90B-6C72-4959-ADE1-87E1FBD6011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79B76-D716-444F-BD44-84CF93529F2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801EC-CD96-4EAA-A818-429ACE5D213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7946D-D7F2-4510-B3B8-4B210CA5A9C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97AA8-31C4-4901-84D4-6FCFF48166F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670EE-FC04-4AF9-AE46-3CA727B13B1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68E98-DA09-49AC-AD5B-C9F26DE6A20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52CBB-A034-457E-B752-00A9D53FA37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97434-532E-4AAC-92D0-323CF8E81C5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DCAD2-86B2-49B5-A51F-15D959AD5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F961D-0DF5-4FA7-A52E-EADDFABC4FD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944B9-21F4-493E-9592-0CE0296903E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FDAA2-247B-4177-98EA-7BED1DD5A64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2CA8A-6CAE-4CED-81A0-CE6A9EABFE9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E9546-4C31-48E6-A3F0-BEFD80129C2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46C99-6A54-46EB-B869-562ABD88D8F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CBD3B-3F69-4DBD-B3B6-BE6D643EE12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4D6BC-09AA-4E14-9599-B08D1A86345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B79CA-45FF-4484-8CDE-3952DF8F056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09BF1-BB64-45D8-86DB-6B9EA4B70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3E2AF-E20C-408A-B3F0-0EF62494E88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0A053-0CC0-4B1C-B942-32CE0BD64D6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01D89-9EE8-4A3D-8917-F63B750BCB1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D82C0-2548-4105-A53C-134CD6A0046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1CC3B-58DA-41D6-B5B5-3B39F01C26A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8CE2-56AC-41A2-A385-DE57EB8B346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52DA-504A-47B9-9533-3A05A16CF9A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E503-C321-4C84-AB48-8E45DA91DBB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DE4D-E534-4CD4-B922-7A7ABA080D1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F15B-94D8-4535-8C56-D75FB12DA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BBEE-3840-48CF-BC02-B969FA63934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A13A-EBA1-4DB8-9635-FA405AE1352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58B4-2AC9-4964-91BE-BAD6AB848B4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46C0-4CD2-4F4B-AACA-3A7A7C90004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B159-4A29-4615-A30B-16822817151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D383-93EB-424C-AFB1-74FE3105010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550C-47BF-4439-B7F5-D6A079B43A9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87B4B5-21D6-4160-9BB8-85E55DB66B8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CB67CB-A182-4CB9-8E17-D87C231D283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115F64-F66A-44BB-829D-DECCE69C9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89.xml"/><Relationship Id="rId8" Type="http://schemas.openxmlformats.org/officeDocument/2006/relationships/slideLayout" Target="../slideLayouts/slideLayout290.xml"/><Relationship Id="rId9" Type="http://schemas.openxmlformats.org/officeDocument/2006/relationships/slideLayout" Target="../slideLayouts/slideLayout291.xml"/><Relationship Id="rId10" Type="http://schemas.openxmlformats.org/officeDocument/2006/relationships/slideLayout" Target="../slideLayouts/slideLayout292.xml"/><Relationship Id="rId11" Type="http://schemas.openxmlformats.org/officeDocument/2006/relationships/slideLayout" Target="../slideLayouts/slideLayout293.xml"/><Relationship Id="rId12" Type="http://schemas.openxmlformats.org/officeDocument/2006/relationships/slideLayout" Target="../slideLayouts/slideLayout294.xml"/><Relationship Id="rId13" Type="http://schemas.openxmlformats.org/officeDocument/2006/relationships/slideLayout" Target="../slideLayouts/slideLayout295.xml"/><Relationship Id="rId14" Type="http://schemas.openxmlformats.org/officeDocument/2006/relationships/slideLayout" Target="../slideLayouts/slideLayout296.xml"/><Relationship Id="rId15" Type="http://schemas.openxmlformats.org/officeDocument/2006/relationships/slideLayout" Target="../slideLayouts/slideLayout297.xml"/><Relationship Id="rId16" Type="http://schemas.openxmlformats.org/officeDocument/2006/relationships/slideLayout" Target="../slideLayouts/slideLayout298.xml"/><Relationship Id="rId17" Type="http://schemas.openxmlformats.org/officeDocument/2006/relationships/slideLayout" Target="../slideLayouts/slideLayout299.xml"/><Relationship Id="rId18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01.xml"/><Relationship Id="rId8" Type="http://schemas.openxmlformats.org/officeDocument/2006/relationships/slideLayout" Target="../slideLayouts/slideLayout302.xml"/><Relationship Id="rId9" Type="http://schemas.openxmlformats.org/officeDocument/2006/relationships/slideLayout" Target="../slideLayouts/slideLayout303.xml"/><Relationship Id="rId10" Type="http://schemas.openxmlformats.org/officeDocument/2006/relationships/slideLayout" Target="../slideLayouts/slideLayout304.xml"/><Relationship Id="rId11" Type="http://schemas.openxmlformats.org/officeDocument/2006/relationships/slideLayout" Target="../slideLayouts/slideLayout305.xml"/><Relationship Id="rId12" Type="http://schemas.openxmlformats.org/officeDocument/2006/relationships/slideLayout" Target="../slideLayouts/slideLayout306.xml"/><Relationship Id="rId13" Type="http://schemas.openxmlformats.org/officeDocument/2006/relationships/slideLayout" Target="../slideLayouts/slideLayout307.xml"/><Relationship Id="rId14" Type="http://schemas.openxmlformats.org/officeDocument/2006/relationships/slideLayout" Target="../slideLayouts/slideLayout308.xml"/><Relationship Id="rId15" Type="http://schemas.openxmlformats.org/officeDocument/2006/relationships/slideLayout" Target="../slideLayouts/slideLayout309.xml"/><Relationship Id="rId16" Type="http://schemas.openxmlformats.org/officeDocument/2006/relationships/slideLayout" Target="../slideLayouts/slideLayout310.xml"/><Relationship Id="rId17" Type="http://schemas.openxmlformats.org/officeDocument/2006/relationships/slideLayout" Target="../slideLayouts/slideLayout311.xml"/><Relationship Id="rId18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13.xml"/><Relationship Id="rId8" Type="http://schemas.openxmlformats.org/officeDocument/2006/relationships/slideLayout" Target="../slideLayouts/slideLayout314.xml"/><Relationship Id="rId9" Type="http://schemas.openxmlformats.org/officeDocument/2006/relationships/slideLayout" Target="../slideLayouts/slideLayout315.xml"/><Relationship Id="rId10" Type="http://schemas.openxmlformats.org/officeDocument/2006/relationships/slideLayout" Target="../slideLayouts/slideLayout316.xml"/><Relationship Id="rId11" Type="http://schemas.openxmlformats.org/officeDocument/2006/relationships/slideLayout" Target="../slideLayouts/slideLayout317.xml"/><Relationship Id="rId12" Type="http://schemas.openxmlformats.org/officeDocument/2006/relationships/slideLayout" Target="../slideLayouts/slideLayout318.xml"/><Relationship Id="rId13" Type="http://schemas.openxmlformats.org/officeDocument/2006/relationships/slideLayout" Target="../slideLayouts/slideLayout319.xml"/><Relationship Id="rId14" Type="http://schemas.openxmlformats.org/officeDocument/2006/relationships/slideLayout" Target="../slideLayouts/slideLayout320.xml"/><Relationship Id="rId15" Type="http://schemas.openxmlformats.org/officeDocument/2006/relationships/slideLayout" Target="../slideLayouts/slideLayout321.xml"/><Relationship Id="rId16" Type="http://schemas.openxmlformats.org/officeDocument/2006/relationships/slideLayout" Target="../slideLayouts/slideLayout322.xml"/><Relationship Id="rId17" Type="http://schemas.openxmlformats.org/officeDocument/2006/relationships/slideLayout" Target="../slideLayouts/slideLayout323.xml"/><Relationship Id="rId18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7DCC-5F49-4D6C-84A5-799F837ABC5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5750-94C7-41DB-A61C-4E15260D8F0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1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A033-D6C9-4B03-A0DC-9B8A35719FB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074D-29CD-4221-90B8-EC38EA6AEB7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Num" idx="1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209F-F502-4007-856B-B39E937A460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56DD-E10F-4213-9633-73556DBDDBB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Num" idx="1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76F0-C117-4EE0-8B26-86C0F7CCF94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sldNum" idx="1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B8A9-9D66-4CEB-907C-A8B1895D239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1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22D0-C251-4D08-A775-0CD87F55273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ldNum" idx="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2B93-9E3D-44E7-B6E9-48D939DBB56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sldNum" idx="1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2EE1-8058-464C-A4DE-7574C4A650F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8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sldNum" idx="1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E2D1-835C-42CF-BC1F-829B76CDCF3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9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sldNum" idx="1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4845-33C6-41AA-A167-8AEF2C1B7D8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9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sldNum" idx="2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BF45-9581-4F3A-9514-29133A28E60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2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768D-C4F7-42D2-904A-FB8AD105954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6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sldNum" idx="2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482C-AFF9-46C8-9FBE-A7EB8FCE4D1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7"/>
    <p:sldLayoutId id="2147483962" r:id="rId8"/>
    <p:sldLayoutId id="2147483963" r:id="rId9"/>
    <p:sldLayoutId id="2147483964" r:id="rId10"/>
    <p:sldLayoutId id="2147483965" r:id="rId11"/>
    <p:sldLayoutId id="2147483966" r:id="rId12"/>
    <p:sldLayoutId id="2147483967" r:id="rId13"/>
    <p:sldLayoutId id="2147483968" r:id="rId14"/>
    <p:sldLayoutId id="2147483969" r:id="rId15"/>
    <p:sldLayoutId id="2147483970" r:id="rId16"/>
    <p:sldLayoutId id="2147483971" r:id="rId17"/>
    <p:sldLayoutId id="2147483972" r:id="rId18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10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 type="sldNum" idx="2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12B6-E5C4-4447-95D5-499B4B2E774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7"/>
    <p:sldLayoutId id="2147483975" r:id="rId8"/>
    <p:sldLayoutId id="2147483976" r:id="rId9"/>
    <p:sldLayoutId id="2147483977" r:id="rId10"/>
    <p:sldLayoutId id="2147483978" r:id="rId11"/>
    <p:sldLayoutId id="2147483979" r:id="rId12"/>
    <p:sldLayoutId id="2147483980" r:id="rId13"/>
    <p:sldLayoutId id="2147483981" r:id="rId14"/>
    <p:sldLayoutId id="2147483982" r:id="rId15"/>
    <p:sldLayoutId id="2147483983" r:id="rId16"/>
    <p:sldLayoutId id="2147483984" r:id="rId17"/>
    <p:sldLayoutId id="2147483985" r:id="rId18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15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sldNum" idx="2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B229-9BC7-4B6B-B8DB-6907B4BD9F1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7"/>
    <p:sldLayoutId id="2147483988" r:id="rId8"/>
    <p:sldLayoutId id="2147483989" r:id="rId9"/>
    <p:sldLayoutId id="2147483990" r:id="rId10"/>
    <p:sldLayoutId id="2147483991" r:id="rId11"/>
    <p:sldLayoutId id="2147483992" r:id="rId12"/>
    <p:sldLayoutId id="2147483993" r:id="rId13"/>
    <p:sldLayoutId id="2147483994" r:id="rId14"/>
    <p:sldLayoutId id="2147483995" r:id="rId15"/>
    <p:sldLayoutId id="2147483996" r:id="rId16"/>
    <p:sldLayoutId id="2147483997" r:id="rId17"/>
    <p:sldLayoutId id="2147483998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89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ldNum" idx="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C069-D035-4B4D-AB39-64BE6635C68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FCE6-33FD-4A5B-BECF-1D1C66548D1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BBA8-B5E9-41B5-A6AF-28F28FB065E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7505-355E-40E0-8375-02787CCB811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96AD-B662-4697-B86D-D944164D17D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4D91-CFB8-497D-A959-1F4B08C03CD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8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09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Monter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ener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 Box 3"/>
          <p:cNvSpPr/>
          <p:nvPr/>
        </p:nvSpPr>
        <p:spPr>
          <a:xfrm>
            <a:off x="1251000" y="4507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5 CuadroTexto"/>
          <p:cNvSpPr/>
          <p:nvPr/>
        </p:nvSpPr>
        <p:spPr>
          <a:xfrm>
            <a:off x="672840" y="5254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Text Box 4"/>
          <p:cNvSpPr/>
          <p:nvPr/>
        </p:nvSpPr>
        <p:spPr>
          <a:xfrm>
            <a:off x="0" y="5551560"/>
            <a:ext cx="8964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3" name="1 Imagen" descr=""/>
          <p:cNvPicPr/>
          <p:nvPr/>
        </p:nvPicPr>
        <p:blipFill>
          <a:blip r:embed="rId1"/>
          <a:stretch/>
        </p:blipFill>
        <p:spPr>
          <a:xfrm>
            <a:off x="392040" y="1700280"/>
            <a:ext cx="8194680" cy="3519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Text Box 3"/>
          <p:cNvSpPr/>
          <p:nvPr/>
        </p:nvSpPr>
        <p:spPr>
          <a:xfrm>
            <a:off x="1728720" y="5126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Text Box 4"/>
          <p:cNvSpPr/>
          <p:nvPr/>
        </p:nvSpPr>
        <p:spPr>
          <a:xfrm>
            <a:off x="250920" y="5627520"/>
            <a:ext cx="871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7" name="1 Imagen" descr=""/>
          <p:cNvPicPr/>
          <p:nvPr/>
        </p:nvPicPr>
        <p:blipFill>
          <a:blip r:embed="rId1"/>
          <a:stretch/>
        </p:blipFill>
        <p:spPr>
          <a:xfrm>
            <a:off x="527040" y="1932120"/>
            <a:ext cx="7705800" cy="3454200"/>
          </a:xfrm>
          <a:prstGeom prst="rect">
            <a:avLst/>
          </a:prstGeom>
          <a:ln w="0">
            <a:noFill/>
          </a:ln>
        </p:spPr>
      </p:pic>
      <p:sp>
        <p:nvSpPr>
          <p:cNvPr id="1248" name="5 CuadroTexto"/>
          <p:cNvSpPr/>
          <p:nvPr/>
        </p:nvSpPr>
        <p:spPr>
          <a:xfrm>
            <a:off x="891360" y="525456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1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1 Imagen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424720" cy="3657600"/>
          </a:xfrm>
          <a:prstGeom prst="rect">
            <a:avLst/>
          </a:prstGeom>
          <a:ln w="0">
            <a:noFill/>
          </a:ln>
        </p:spPr>
      </p:pic>
      <p:sp>
        <p:nvSpPr>
          <p:cNvPr id="1254" name="Text Box 3"/>
          <p:cNvSpPr/>
          <p:nvPr/>
        </p:nvSpPr>
        <p:spPr>
          <a:xfrm>
            <a:off x="1312920" y="52236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5 CuadroTexto"/>
          <p:cNvSpPr/>
          <p:nvPr/>
        </p:nvSpPr>
        <p:spPr>
          <a:xfrm>
            <a:off x="61740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 Box 4"/>
          <p:cNvSpPr/>
          <p:nvPr/>
        </p:nvSpPr>
        <p:spPr>
          <a:xfrm>
            <a:off x="250920" y="5365800"/>
            <a:ext cx="8785080" cy="5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^Obrero, empleado particular incluye al Jornalero o Peó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Trabajador sin remuneración incluye a los trabajadores familiares sin remuneración y a los trabajadores sin remuneración en empresas de otros hoga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Text Box 3"/>
          <p:cNvSpPr/>
          <p:nvPr/>
        </p:nvSpPr>
        <p:spPr>
          <a:xfrm>
            <a:off x="1763640" y="711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0" name="1 Imagen" descr=""/>
          <p:cNvPicPr/>
          <p:nvPr/>
        </p:nvPicPr>
        <p:blipFill>
          <a:blip r:embed="rId1"/>
          <a:stretch/>
        </p:blipFill>
        <p:spPr>
          <a:xfrm>
            <a:off x="685800" y="1542960"/>
            <a:ext cx="7572240" cy="3646440"/>
          </a:xfrm>
          <a:prstGeom prst="rect">
            <a:avLst/>
          </a:prstGeom>
          <a:ln w="0">
            <a:noFill/>
          </a:ln>
        </p:spPr>
      </p:pic>
      <p:sp>
        <p:nvSpPr>
          <p:cNvPr id="1261" name="Text Box 4"/>
          <p:cNvSpPr/>
          <p:nvPr/>
        </p:nvSpPr>
        <p:spPr>
          <a:xfrm>
            <a:off x="36360" y="5421240"/>
            <a:ext cx="9107640" cy="5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^Obrero, empleado particular incluye al Jornalero o Peó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Trabajador sin remuneración incluye a los trabajadores familiares sin remuneración y a los trabajadores sin remuneración en empresas de otros hoga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5 CuadroTexto"/>
          <p:cNvSpPr/>
          <p:nvPr/>
        </p:nvSpPr>
        <p:spPr>
          <a:xfrm>
            <a:off x="61740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65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1133640" y="51264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34920" y="5535720"/>
            <a:ext cx="9109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1133640" y="1833480"/>
            <a:ext cx="6678360" cy="3202200"/>
          </a:xfrm>
          <a:prstGeom prst="rect">
            <a:avLst/>
          </a:prstGeom>
          <a:ln w="0">
            <a:noFill/>
          </a:ln>
        </p:spPr>
      </p:pic>
      <p:sp>
        <p:nvSpPr>
          <p:cNvPr id="1271" name="5 CuadroTexto"/>
          <p:cNvSpPr/>
          <p:nvPr/>
        </p:nvSpPr>
        <p:spPr>
          <a:xfrm>
            <a:off x="54576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5 CuadroTexto"/>
          <p:cNvSpPr/>
          <p:nvPr/>
        </p:nvSpPr>
        <p:spPr>
          <a:xfrm>
            <a:off x="205704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158840" y="549360"/>
            <a:ext cx="68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 y áreas metropolitanas y Monter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septiembre - noviembre 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4" name="1 Imagen" descr=""/>
          <p:cNvPicPr/>
          <p:nvPr/>
        </p:nvPicPr>
        <p:blipFill>
          <a:blip r:embed="rId1"/>
          <a:stretch/>
        </p:blipFill>
        <p:spPr>
          <a:xfrm>
            <a:off x="1768320" y="2205000"/>
            <a:ext cx="5396040" cy="3459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Monter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7" name="2 Imagen" descr=""/>
          <p:cNvPicPr/>
          <p:nvPr/>
        </p:nvPicPr>
        <p:blipFill>
          <a:blip r:embed="rId1"/>
          <a:stretch/>
        </p:blipFill>
        <p:spPr>
          <a:xfrm>
            <a:off x="960480" y="1700280"/>
            <a:ext cx="6862680" cy="1728720"/>
          </a:xfrm>
          <a:prstGeom prst="rect">
            <a:avLst/>
          </a:prstGeom>
          <a:ln w="0">
            <a:noFill/>
          </a:ln>
        </p:spPr>
      </p:pic>
      <p:pic>
        <p:nvPicPr>
          <p:cNvPr id="1278" name="1 Imagen" descr=""/>
          <p:cNvPicPr/>
          <p:nvPr/>
        </p:nvPicPr>
        <p:blipFill>
          <a:blip r:embed="rId2"/>
          <a:stretch/>
        </p:blipFill>
        <p:spPr>
          <a:xfrm>
            <a:off x="1270080" y="3789360"/>
            <a:ext cx="6624720" cy="1724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Córdo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1" name="1 Imagen" descr=""/>
          <p:cNvPicPr/>
          <p:nvPr/>
        </p:nvPicPr>
        <p:blipFill>
          <a:blip r:embed="rId1"/>
          <a:stretch/>
        </p:blipFill>
        <p:spPr>
          <a:xfrm>
            <a:off x="104760" y="1800360"/>
            <a:ext cx="8705880" cy="3895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1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12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Montería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6" name="1 Imagen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56756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 Box 3"/>
          <p:cNvSpPr/>
          <p:nvPr/>
        </p:nvSpPr>
        <p:spPr>
          <a:xfrm>
            <a:off x="179280" y="240840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- noviembre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3 Rectángulo"/>
          <p:cNvSpPr/>
          <p:nvPr/>
        </p:nvSpPr>
        <p:spPr>
          <a:xfrm>
            <a:off x="2916360" y="5157720"/>
            <a:ext cx="6130800" cy="1904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0" name="1 Imagen" descr=""/>
          <p:cNvPicPr/>
          <p:nvPr/>
        </p:nvPicPr>
        <p:blipFill>
          <a:blip r:embed="rId1"/>
          <a:stretch/>
        </p:blipFill>
        <p:spPr>
          <a:xfrm>
            <a:off x="2903400" y="378000"/>
            <a:ext cx="6180120" cy="5332320"/>
          </a:xfrm>
          <a:prstGeom prst="rect">
            <a:avLst/>
          </a:prstGeom>
          <a:ln w="0">
            <a:noFill/>
          </a:ln>
        </p:spPr>
      </p:pic>
      <p:sp>
        <p:nvSpPr>
          <p:cNvPr id="1221" name="6 CuadroTexto"/>
          <p:cNvSpPr/>
          <p:nvPr/>
        </p:nvSpPr>
        <p:spPr>
          <a:xfrm>
            <a:off x="3672000" y="5997600"/>
            <a:ext cx="561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(+) (-): Aumento o disminución de la TD de cada ciudad frente al mismo trimestre del año anterior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1 Rectángulo"/>
          <p:cNvSpPr/>
          <p:nvPr/>
        </p:nvSpPr>
        <p:spPr>
          <a:xfrm>
            <a:off x="3672000" y="579132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 Box 3"/>
          <p:cNvSpPr/>
          <p:nvPr/>
        </p:nvSpPr>
        <p:spPr>
          <a:xfrm>
            <a:off x="1332000" y="947880"/>
            <a:ext cx="640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Monter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- noviembre  (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2006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5 CuadroTexto"/>
          <p:cNvSpPr/>
          <p:nvPr/>
        </p:nvSpPr>
        <p:spPr>
          <a:xfrm>
            <a:off x="7585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7" name="1 Imagen" descr=""/>
          <p:cNvPicPr/>
          <p:nvPr/>
        </p:nvPicPr>
        <p:blipFill>
          <a:blip r:embed="rId1"/>
          <a:stretch/>
        </p:blipFill>
        <p:spPr>
          <a:xfrm>
            <a:off x="968400" y="2084400"/>
            <a:ext cx="7419960" cy="336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Monter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5 CuadroTexto"/>
          <p:cNvSpPr/>
          <p:nvPr/>
        </p:nvSpPr>
        <p:spPr>
          <a:xfrm>
            <a:off x="151740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0" name="1 Imagen" descr=""/>
          <p:cNvPicPr/>
          <p:nvPr/>
        </p:nvPicPr>
        <p:blipFill>
          <a:blip r:embed="rId1"/>
          <a:stretch/>
        </p:blipFill>
        <p:spPr>
          <a:xfrm>
            <a:off x="1433520" y="1460520"/>
            <a:ext cx="627696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Monter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- noviembre 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2" name="1 Imagen" descr=""/>
          <p:cNvPicPr/>
          <p:nvPr/>
        </p:nvPicPr>
        <p:blipFill>
          <a:blip r:embed="rId1"/>
          <a:stretch/>
        </p:blipFill>
        <p:spPr>
          <a:xfrm>
            <a:off x="184320" y="2637000"/>
            <a:ext cx="872460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4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35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38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Juan Camilo Riveros Botero</cp:lastModifiedBy>
  <cp:lastPrinted>2015-09-24T21:11:06Z</cp:lastPrinted>
  <dcterms:modified xsi:type="dcterms:W3CDTF">2015-12-24T18:25:48Z</dcterms:modified>
  <cp:revision>958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