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B783-D17F-4649-B13E-A15F8C7876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78A-DECB-4C5F-9236-1C74D96D56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461-FD6D-4263-A0EC-92B3291FD2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0DC-5134-4843-B9B3-138085B56D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8918-EE9C-480F-B654-E21A8DDD3E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52F4-C207-4D83-877F-654F8B284A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878-56EB-4492-AAA1-815C607878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C0A-1B49-4A0A-939C-DC44B29758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F59A-FD80-4E95-8FAF-9F413981A5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B86E-01E4-4CC0-8265-67272B6EAA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0888-F1BC-4B2C-8B7F-39CA075D453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42B6-4C84-434B-A243-6963BC01AF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A220-364A-48AE-B384-A12ADC64A0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C66A4-DD3E-4912-B009-4BDF7DDD4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9BA8B-60A1-40B3-9F67-7689E679A2F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B12E0-C47A-48CA-96F4-B84F593344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35032-B443-4101-B2D4-AF42BA8AE9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D50C9-87E9-4CFB-B120-8EE21DE7AB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3FFA1-E1A9-401B-9DDF-6302D0BC62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36007-5BA5-4D9F-BD63-C1DBF80A21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33ED9-26CA-4265-BA1C-6076E70C265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66DE8-F421-4751-AEB0-2DFF115279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9B1A3-A485-4E51-A00C-53E5062EF38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CB164-3A59-407D-8EAE-236A885F1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48774-61B0-4186-9376-D6D9DCBE95A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ED88-1A4E-49A1-83F0-FC75CBBC97A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F906D-19C1-4BAD-A810-11C00ED770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BB694-6969-4A5D-A43E-7E9164EC24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BC228-21BF-457C-98DE-18390DA812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2B29F-A8DC-431C-96AF-40414F3A90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9F4B4-D9CD-4E86-96E7-C8B17941BD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5DD25-B057-41E6-9C02-F666806C89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C6BD8-EDC9-432C-8E89-658257A0A0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6A459-6F5B-4AF7-A142-390EC8CDB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21F3-96E5-4EBE-AE46-3221F9685B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BA026-9873-4C76-AE2A-BF684163CB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0AF23-A352-4D73-986E-C060561683D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80F0B-FDE7-45D3-A1F7-14FB47C9E1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9590-E444-4942-80FE-B5EE617508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A558-D2D6-4502-89B0-45E4CD9DAB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6733-2C68-4BFF-83DB-36C32579CD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11D6-43C5-4934-AB55-8E62AEE401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26FA-C644-4DF7-B1FE-01236471C7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96A1-063D-4ABF-AADC-BDEEFAB3BD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722E-6636-4463-9282-D4FA8A5BC2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057E-546A-43A4-88E7-00D6CB16A00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807C-4223-4140-9A3B-7941858AAA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027B-9F3A-432E-8BDE-ED59FA1B96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0BE8-4E3C-4123-8790-FFC87FF512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58B0-A8BA-4F97-BE98-983F637F4C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65ED-7CB9-4EE5-9C18-7FDF36E332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AA970-3F18-4991-8815-10422E052AC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12539-269B-4358-8F54-1D29B49105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56603-20AB-4EB3-AB61-9B2119CFB4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DD002-4610-4442-AAF4-0603989C49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6E57F-33C1-4C45-8FE3-BA8D47FF9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835F-E7A2-4C40-AC26-227144901C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9177B-88D4-43AD-B3D8-732EB271220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404B4-68AD-4E5A-8122-A8DED42090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0A1E2-564B-48B5-A113-74DEA675EE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B9E40-0C25-4DEF-813B-45B4BD233D2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D9D92-3589-48C4-AF9F-61BC173CB9E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4C20B-690F-40C5-91EC-7159E04575D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185D8-C282-410B-8FC9-3909CDF93F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854EA-1FB3-4A2A-A3BD-362C0D3F643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04B40-CFDD-4336-874C-4B09BE1CE1D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F7305-B89B-4A70-BD2E-851C59B19D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6E0F-00D5-42AC-97DB-9494F373AF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11F21-BDC6-408E-97BD-0454F6200D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B6249-5A69-40BA-A652-116ED7ED5D7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12E72-D326-4F3B-96F5-9A957C27B59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FA049-BAF1-4923-BEDF-53AA62474E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A0C68-CA9D-4FD3-95A7-38EB7EE962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5F784-7251-4262-9AF4-0F0CD35946E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B6384-EF13-4022-B281-6160DDD0FF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76C7C-925B-4A74-928D-ABC5F83ACF2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1402A-5122-4FE3-BD08-A148B2A0B87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37FF-66F5-4A9B-8CFA-E45B5CF84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FEBC-CCB8-433B-89A7-0D13ADE9F4B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09B4-7063-4FA7-8D70-2FDBD458D65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9DE5-D5E2-4524-8641-DA9299BD93F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DDD5-5450-4DEC-A4E9-6104A4BFF7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E785-A4D0-497A-9A40-FD3CD5CD6D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4D23-ABEF-42E8-9049-FF2DCA9CEBE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E926-0615-4C64-83AE-88D7670B005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FE71-35F0-432E-B80A-564A49FE65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E6D5-D6F7-4BF4-BADD-DB44C0EDB6A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E1EA-2908-4B7B-845A-7EAE76AD94C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8A5A-E714-4FFD-8F4F-67BE66980F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0512-1E08-4071-87DB-639F26F49D6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5DA0-BE36-426F-9D9F-2588E203390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28A0B8-B5F7-4FE1-8EAF-FA917243DF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676B4-AB93-4334-8547-ACE5C82414A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5DECC0-0B13-4C9A-9861-DA9B257AB02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D3C1E-FE6C-4AB0-8ABC-B1B64150695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0D7BD-E2CC-4847-8D65-CACE26A5F71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4983FA-D9EE-4560-A713-B90E90EEB16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824D9-4B33-4659-852C-2B9688089E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D87E3-4475-4AA9-9431-AE9E4242413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BCE63F-75DA-42AA-95B7-60F9EFC115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5A2C-01CA-478F-9B31-FDF24CDA614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EBD00-BB04-4F5E-9292-A02444694D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B9291B-14F8-4015-84CD-361B84CBACF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F386A5-88ED-493D-893E-B88DD48CAAB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616C4-66C9-46C9-B0D6-C8C2CA5948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98565-5ECE-4623-AE24-6AE9AE9CF05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D91E4-41D3-44F0-AC69-08D3F3732C8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4FB8F-E47B-4CC6-9DAE-E589D6C854E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F78AD-7CD7-4DC4-B6D3-BF325C5F27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E1AA9-685F-404A-AF6C-469C4006995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97962-AC40-43B0-A6D8-96B56DF48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EB3D-4BB1-4C32-8434-FE3D35C5BA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FF28F-6DA3-4113-9524-72353849149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62572-8F38-4F1C-B286-52DB93EC46E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54836-DC81-4C0F-A1FF-24DEBE1515A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FC0F7-F2EE-4684-9476-319AE7BD987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C320F-3D96-45D0-A4BF-ED36724B030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FD4B-6081-4A2B-8A6D-16B9427B07E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DFBBB-25E9-4652-8A6F-A9F16E63AC2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9BCA-FC9B-40E8-B34A-21F64DEC9F5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63E8-8B61-4F93-9318-DA79986A98A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36C3-8EAA-4CDA-BC79-69820CE028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D5F9-7855-401B-84C1-E45F6AA5594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FA5E1-84AC-4261-A1D2-6FBDF4DEF9B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B36D-3663-4F07-8C0C-5B42C983941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70FE-2558-41BE-A52A-861E56A8DE3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6758-2B43-4D9B-9184-0070F84776A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40040-FF70-4FE0-9A69-603E7BA50F2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4C31-4627-4D8C-9F87-87A79A31CD1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22C4-2FFA-4FFF-B2BF-4F846A1CB39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19E9A-CE5C-4421-BC93-264EE058783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B6F7A7-3F67-415D-A484-2EA85E74CC0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68E58-F177-4816-AE62-095691BE8B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EA59-651D-4C70-A174-E9FF40234D8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58C09-80B3-458B-9F0B-72A5DB96D33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7B84C5-C0AC-4D98-A452-0FCB26C90CB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FB315-1A89-4573-A30F-BF6C5EFF110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2303E-2576-4F8C-AD5A-FB2DFF36475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F611B-C9D9-4791-824B-19F0350B383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68F3A-3F9F-4E33-9F96-953C25E7D20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66291-6FD9-462D-BCD1-64DD3B9275C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9B72C-48E0-421E-B6DD-79CF702B6D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560E2-4DE4-43CB-9B01-E4C6AF45872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184A5-A603-42E5-80B9-428A0C37B9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00D2-FF3F-4BB2-863D-D5C009EE136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CD2BA-0D6F-47C6-9D82-D412D75FDFC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59177-3075-46B2-A9F0-E68DA4DA12C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93F34-FC18-4564-A445-57786EF8938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55941-C330-4560-87C3-C3AFC26B81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1EB14-1DCB-4BA5-AA9F-65482E277EB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68095-D20A-4B60-9B61-E5878FDCFB7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C155B-718D-426F-9AB0-F6DA417E6E6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FF228-A7CF-41AE-9ECB-4B6D26AD90C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DBDD8-B042-41C3-957D-1A39819BBC2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533E3-A8E4-4108-8FDB-0188446964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990E-AD2D-4497-BFBD-DD529FFC9DE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71FF8-441F-4958-8747-D204EFB22D7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4E761-AE99-4B80-A4EC-2BB662095C7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9D3A-54C2-466F-AC4C-FB294B8775E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76DD-C525-4612-8EA7-836D9EA60A0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B2D1-5028-488F-A5D4-DA60968E4D2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0061-01BC-44FC-B912-BC359DBDF12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AF16-24E1-4A68-A6DA-B1484811101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CC30-E4AC-4888-84C9-565FB7D7E2D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943C9-6998-4591-B6E8-239B32DDD58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7725-6E22-4F1C-9295-9DA4952064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97C5-1AE0-40E6-A257-410733D7042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EEB6-96A2-49F6-B6C0-2F743B1D74A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243D7-6E10-4CA7-9714-AD6117D0B0D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4756F5-6828-4AA0-8136-7BA06B65BA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EB68DA-915D-4EA5-A25F-2D522B098F8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4B7073-E6AC-4D1C-8107-4CE05DD4836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01580B-29C6-4726-811A-A8BAB02EFFE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DAB48-5917-44CD-9A28-F8C41475266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A4A712-A2B1-4F15-9770-E15B935D6CC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A0C15-EDB3-4DBC-82BF-EA09D5C061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2A8024-0E7F-4972-92A6-731A64742F9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A85B1-A403-483E-9F99-3E68B0B364C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A0126-433A-4485-B7B8-30E96668FBF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F8669-F73A-402E-B2A2-AA1FC558483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35381F-EF7C-4E46-81A3-AAE30DF1977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B187E-B87A-4C11-B451-7B8B43283D3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E5085-B27B-4A2D-83D0-089C691EA27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E762E-1087-4509-B723-E1DB9163B3A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0E5B8-511D-49F4-939E-447F1D461A1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F924C-3253-493A-BF54-3E70AC6B21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D5C0B-D635-493A-9648-303E5E6F980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CB887-5D64-45AF-80D6-FE911C88275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8541E-6844-4E36-8107-533B21CDEF6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8FC6F-17B4-4015-9D70-459F6D2C60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0162A-919B-445F-9D7B-9D2FBD2EBF0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A34B5-558D-4E26-AE32-4D642FC49F8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DD6A0-9A6F-4597-8CE3-3DABDFD2EA8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E1DEB-9AEF-45B2-A235-3238D6CBD3B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E42B8-79F5-4465-A940-73224297704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1B6F-EC87-4067-A480-E13E1986C1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A8B2-1B6D-4448-B998-9D32B8438FB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11B4-D9D4-4992-8B7C-C837BD98AC2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FDC63-7CDD-413D-AA97-257E714DB3B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46FD-B700-44E0-B22F-41384C517BE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D100-369F-41B7-A37A-3802054EF8E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D813-E565-4854-92D2-527173A07A4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C194-980B-4BB8-9437-33F0D204065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8CE5-F6EE-4515-8702-49F53F1147D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DB33-1C53-4C73-9BC7-CC607C0105A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B06549-6377-4637-AA3A-C30BDF05C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75667-02D5-485F-B029-6602B825772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847539-E3A5-4FDA-B35A-3A5A5B7086A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18742-4101-44E5-94B8-E63F43DD60A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51325C-3916-42A5-B9A7-0CB477CD8E9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E78D19-0737-49E4-B79A-744D83B1FE7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B4341A-21A6-49F2-9492-BAA8A6893E7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801B41-CAAA-437F-8D2E-E3F20A403CF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C80B2-D4A7-4242-8C11-44FAC0F2DFF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3D7F9-4944-43D6-A497-38D7C49561A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9EE1E9-A0D2-462C-AA80-B0EA6E15B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1C298-8716-452C-9FFE-4491EBABB72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BD8D2-CC14-4213-B08F-C0F329F779C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5B9D6-D72B-4C3E-9C56-93F8FB2F40C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45368-62E9-4AA6-8CF9-CE12850BDF0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AF209-1613-411C-A37D-91020E53F3B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055F97-DEB0-4B99-8ED8-984BDA6CEB7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A7ACD6-3EC2-4D82-8745-B679A30E161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C69DD-474C-4441-A2CF-F7A16D917F4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E5905-FB9F-4C79-85EF-EAB28C0F2C4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306866-0CF5-49A6-B688-E75BC1E059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73166F-A001-41E7-BFDA-029F8F80559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4D203-253C-4969-9A42-1CCB3136B8F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4710D9-4944-4AFF-83B2-0D70A21C850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CBA7-DCFE-4ABE-AE21-0A8F8E88828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4CC8-2273-4DB2-A22A-9D8AEB0137E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D954-EF8B-4B57-AF03-D140D07B796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55901-C884-4EB8-885B-EC7A3C95306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49773-60D2-4E0B-A4E0-9B2EF79648C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4484-D137-4EDA-BB4B-4A785E14A71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06C41-EBC8-4C40-BBD9-7284721D4D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B8E9-7EA3-4E99-8D8C-5F65226233D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E6C9-C8C3-46FA-A335-55EA1A89911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893BE-22D1-43B9-B073-6EE91CD4B86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F8213-54C9-460B-ABFF-BC6CE1C147B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AB053-A45A-4053-B435-49F3937BF7D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9762-C3FB-42CD-A6DC-56BC181AA7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AEE4-82F0-4AA2-922E-20739A7E8C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9D90-F37E-4ECB-911A-3F17C3F28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2C7E-2AD9-4E4F-A8E6-31ABB1B196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6F7B-82EB-4111-ADB7-BA518FEB9B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AB05-E82E-4AF0-B64F-1E3F4D48C7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9CD1-02B0-42D2-B136-55092711E8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53EB-EF2D-4063-B570-FBC4B91EBA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5D18-C011-4AE0-B9CC-031ABD877C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27A9-18A6-4906-9692-09C00219EA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3D41-235D-410A-B496-B90CD31E8F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B2B4-93ED-47D9-8D8C-2EE6A7138A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9F5-2100-48B7-B6B0-2FB81A7DBD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776-602F-4938-87BB-A4FF89727D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4FA-DD80-40AA-948E-6A6A1A8193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497-7EF6-45E1-A3B0-393710BF18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C38-C45B-4389-ABD4-274E9A4038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B04-D6B6-496D-A8BA-6DC8028F30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6BC-762F-4899-B6CD-9035A567B9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578-733A-46B7-838C-C494A349D3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81A-7D9B-4BEE-9096-F25DB7AF9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4B5-87C9-4B51-B160-CF0FE1EEBB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936-2F62-49C0-B56E-D96B3AA39C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067-77E2-45B1-921B-28F4F1D7C2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CE0CB-E725-4D76-A3F2-4763B5E505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22F2-C05D-452C-B88A-5B9AA10730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7E870-6753-4021-8778-868D7347EA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D1512-E822-414B-9160-30969AE12C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EE95C-5299-4DFC-9066-425BC5ECBF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9E5FD-6715-47C5-9517-43CB7C3445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07ACD-1510-4916-B3B5-7A319D73F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0273F-DEB8-4163-ABD7-C8036007FB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AFC8-C3DB-4E98-BFD4-7EFDC7D8F2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02A60-2043-4EC8-B3D6-E4423433AE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C12BC-F517-4362-A1EC-60C6FA8388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6B05-0F89-4B02-B61E-74ADA392A0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C582-1CBF-433D-931B-E41143BC03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0120D-25C6-4A7C-97EE-C0832C3742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C0CF0-678C-46F9-8189-CBA940F516F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8EED0-B353-4AAC-87E1-07C1985945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5B15-256C-49F5-ADB4-699355210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37C9C-FCB1-4778-BBD3-73F7369056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CA64A-00A7-452E-9064-99CB225459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CE6A-14AA-4C81-A757-8AEA4A1C2C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6DD61-3651-4FC2-A268-8ED1F1552B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7EB15-72AF-48B9-B34A-83E3D5E8A9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38A0D-9E53-43EC-B862-0AE1EE92E0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2EA96-095A-49B7-8E0B-A55AD9FBC7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043-34EF-4E66-ADF7-DE9EF69C95E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47BF-D037-4287-ACA7-D8E20D26008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7740-6CAE-4421-92A5-6926FB1C3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49F4-B5B8-4957-8F83-A4CB922B1C0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D87-3AF2-4AA9-8BB4-D8F91A9C13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4BCB-36F7-45CC-B064-5EA14982932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B83B-2E8B-404E-B31F-E89A9EF9EF2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0306-FB55-4DB5-8478-3E19550EAB5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A648-16BC-4854-8BD4-ABF36A7A0AC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AD69-85C2-47D6-8742-B0266FE0DBB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B3A9-F07A-49C9-819F-7475B4BB6D7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FB6-252A-469E-A79B-ED9B6AAF4A3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CD9-15F6-49AD-AC2B-BD049BDF19F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1796-E234-4AFC-85FE-FEBEAB85A30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0B2B-F7AC-43CF-896E-4261849AB41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9B2-E4F7-4A57-9B1C-2BF7D8630C5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AC81-0100-4627-9A06-254610B83E4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859-054B-4031-82D3-942597A59E2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945-1C2A-4744-9A74-4AFDC79EC0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24D9-8C28-4631-8ADB-834189CA87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D9B-EF76-4FC6-B5BA-F67B577A3B9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ADB7-F445-458C-B5C7-B8CA868BDAF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66F-7B98-4132-B604-4D5594FCDF1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FB5B-A4ED-46FD-87AB-47D45BCF24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60D-0EE9-4ACE-8ED0-82FD3F82A03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38E0-A859-4BF9-A6E3-488DC10CCFD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772A-BC60-471D-91CB-292DCE364D3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ogotá D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692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620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18260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539640" y="1374840"/>
            <a:ext cx="7912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620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7640" y="5445000"/>
            <a:ext cx="910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249200" y="1557360"/>
            <a:ext cx="66279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3"/>
          <p:cNvSpPr/>
          <p:nvPr/>
        </p:nvSpPr>
        <p:spPr>
          <a:xfrm>
            <a:off x="1133640" y="76500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Sept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– Noviembre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1407960" y="1628640"/>
            <a:ext cx="605016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141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Picture 5" descr=""/>
          <p:cNvPicPr/>
          <p:nvPr/>
        </p:nvPicPr>
        <p:blipFill>
          <a:blip r:embed="rId1"/>
          <a:stretch/>
        </p:blipFill>
        <p:spPr>
          <a:xfrm>
            <a:off x="722160" y="1844640"/>
            <a:ext cx="7378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99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743200" y="4111560"/>
            <a:ext cx="6119640" cy="181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049560" y="420840"/>
            <a:ext cx="571176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76500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6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1219320" y="1989000"/>
            <a:ext cx="709128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1-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6176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66920" y="1419120"/>
            <a:ext cx="64101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Septiembre – Noviembre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4 – 2015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653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–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5-12-23T21:45:01Z</cp:lastPrinted>
  <dcterms:modified xsi:type="dcterms:W3CDTF">2015-12-28T17:06:15Z</dcterms:modified>
  <cp:revision>979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