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8.png" ContentType="image/png"/>
  <Override PartName="/ppt/media/image14.jpeg" ContentType="image/jpeg"/>
  <Override PartName="/ppt/media/image16.wmf" ContentType="image/x-wmf"/>
  <Override PartName="/ppt/media/image7.png" ContentType="image/png"/>
  <Override PartName="/ppt/media/image15.wmf" ContentType="image/x-wmf"/>
  <Override PartName="/ppt/media/image1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28.wmf" ContentType="image/x-wmf"/>
  <Override PartName="/ppt/media/image5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9.jpeg" ContentType="image/jpeg"/>
  <Override PartName="/ppt/media/image23.wmf" ContentType="image/x-wmf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  <p:sldId id="272" r:id="rId47"/>
    <p:sldId id="273" r:id="rId48"/>
    <p:sldId id="274" r:id="rId49"/>
    <p:sldId id="275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slide" Target="slides/slide17.xml"/><Relationship Id="rId48" Type="http://schemas.openxmlformats.org/officeDocument/2006/relationships/slide" Target="slides/slide18.xml"/><Relationship Id="rId49" Type="http://schemas.openxmlformats.org/officeDocument/2006/relationships/slide" Target="slides/slide19.xml"/><Relationship Id="rId50" Type="http://schemas.openxmlformats.org/officeDocument/2006/relationships/slide" Target="slides/slide20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C38E7-1E37-42B0-BB7F-38FB4112207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D8E22-CF9D-4250-B83C-CDC2BEF888D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B53F0-65F6-4CB4-9704-50CB1C1A75A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E2D10-A589-403C-9BDD-F801E4A0B01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C6FFD-8DFF-4BC6-9214-97BCE431DE8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0AB15-E289-4D6C-83E6-641FC19BBF9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DA14D-F747-4625-818B-9721D387F14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DDCCB-E3A5-4CF9-84F2-792EBFBE47E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A72A3-FF51-4FB6-87C4-BBF3BA64131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7AA32-2F29-48E9-A67E-63013F6B1D6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0E093-8672-456C-870E-6F60C8596B5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EF880-A59D-40CB-99AC-F20E4CB345E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D3BE2-4D88-4B9E-999B-2165E46C40A7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B9C05F-347D-4AFA-9CD0-2666998F9F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5F72BA-9814-4441-9722-6675E6E3FB4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2DBF51-48CB-4155-9594-0DC2AA80F92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CCBCB9-48EC-476E-BB7D-C7C18878B810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2D0514-3862-4172-BE9F-05768FCD9AD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9E4FE6-8D7D-4712-BECE-06D4C7A7917D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DBCB3C-01DD-4168-BB3A-3EB8189FA92A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E5D31C-9998-4636-AF1B-BD187CA0472F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ECC6FE-D0BD-4FF5-B952-D7A4DD8C3694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EA33B8-9C1A-48C4-878B-6A1768076CF5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F9D3BE-8D2D-4207-ACE6-53596E27FC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28299C-54DF-4250-9DE5-6752DA76CFF3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7D45D7-C6A4-4E95-ADE0-A6CE92093C89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9C1141-B40F-4F7E-8BD4-85315F009DC5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B5AEC3-97E0-45B3-B042-C8ED32C9DA09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AFD047-DD57-4393-A610-284A3B9F69C6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2B6322-1FA6-4D23-B42F-A22F18695E3C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D8054A-37C1-4F7B-9F40-95B94A0EC4E4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0566EB-41C1-41BB-8F37-FD7AA81657E5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5B3288-2D07-4942-9D8F-7FB1A69584BB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5E1831-40BB-4B7F-B61A-D2C80D81EE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ED442-5379-4EDC-AD56-A993547B111B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83449D-5FA6-41CB-9226-5911AAE827BC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EA85AE-45A0-471E-A831-17AFB8A12D88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9ACA59-41AB-4465-960F-440178B48A24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81BA4-4C24-4595-81B2-6C9C00AD5FE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B52FF-3234-47D3-BD3E-1577D888FE85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A5AAF-9943-4C4D-BA52-2B6E165F257D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3AA1D-B087-4F63-8F02-6ED3AD03F38C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4CE56-3D21-4FAC-8BB4-951D9E7DAF56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D751E-BBAC-4DA0-A4EA-7A4A01E9BDD8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BD0A7-B41A-4D21-9F38-C93B57CCB1A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9894A-CE51-4BC7-938D-1F34E96BF1C8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F4719-12A6-4515-8099-394957482D92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BC545-BA5E-4EB5-B16A-5625DAADF20E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85330-B2BD-41DA-996C-5C825154DF59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995C6-0BA9-4E3B-A439-1D054BDBB067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823FC-0128-4A67-A247-F7B919FE5EA1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78CA16-A9F4-4A76-BC3A-2CA3C0165B52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387953-F5F1-4513-8D87-55BEE3D22218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9488C4-8B45-41E1-AB07-911D50DA46B3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93D26A-12AD-4371-BA6C-EF7E2A0672E4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E537D1-92E4-45B0-87DA-2C6E7ACBDB8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2299B-F68A-4A77-A297-90D5CEA7AB35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893A02-BF1F-4C58-9864-46F86C48A9A1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4D8452-FC65-47F6-945F-030D54179B85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EED97A-4E56-4062-B7CA-6B6A88715295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97581A-2CF9-4364-9693-CD0B8C3C35DF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7BBC9E-9119-4F11-9E29-4F96E0210A27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AA8704-9A87-4897-8132-DAA66506625B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DB09DE-BCA8-48E1-BC8E-FE1E6F82F304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5EB7AB-7766-408D-B5BB-BCB914BF48B1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17C1DB-05DB-470E-916A-346E2D6902D0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65DC4F-BC26-48DE-AE70-E2F8967A720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EDE5B-C087-426E-AD4C-4480D0340941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BE9D6F-A473-4C64-8433-084D6017FD92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1F3CA1-54E1-4151-8E4F-EF63706290F4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4653FF-6BDB-45BE-BF91-717E536533C2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4D0CBB-BBA5-436D-A0FC-F6EA4FAED4CE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172D5C-9D99-44A4-B0BD-643E6400ED46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3AB5C2-BDBC-4F97-9F5D-F581FC7A2F4B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686CE1-31A2-480D-9E10-DE40F7ACA04B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96C301-1B9C-4ABE-BF3F-B324B36B044C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1BDEA1-71DD-4FDE-BF3F-59323028B4A6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BB121-F39F-4466-8FC9-CCAF48E4B1D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F0E45-BE6E-4E62-910C-65443BCA9CD4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F93A8-8982-4DBD-AC18-0C920328E192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18598-B743-4F26-B5CD-00D3EF17378B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A088D-9E42-4A10-9335-5C1DC19197C9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BC2FE-C1D5-4E46-B775-BC5E632C9980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54FE2-21DC-4E23-A701-617CDBED8CBC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BD853-7671-4A2B-8C5D-F879F0FFE2F2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0F84B-9902-4861-A2E0-0968B29F0E05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483CE-2D84-4DA0-A692-3176E9DDDF4E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B4BA8-6AFE-40BA-A977-10D5C44BB38B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D6FBC-978F-40D8-8794-76B84503903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9E12F-2BDE-4D4B-A1F8-E531DB640748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15868-ADAC-45CB-9B87-1A8C957131F7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D9F2EAC-488C-4B60-81F1-71CA736EB610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A7183B4-D6DA-4B4A-8BDC-0B3ECC9006A7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7F04DF-3973-42D6-9ECD-4CE8B718F57A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28CE0BF-8526-47E5-AB99-094794A855A1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99AC13A-1B61-4CE4-8082-AD82B12ACABC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155355E-7233-49E3-B70A-1B3E73D6B6C7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71F142A-5FA8-4708-AE96-298B4364FB83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51BA7CC-CA36-43F3-9CAA-4A3DC0F864F5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D97E71D-075A-4FD6-81AA-BC0D2691C68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2D1E9-CA74-4AE9-9462-174598522C43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6BFA2CE-BB55-4BA2-9D16-0BF9A0E2EBA3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7B67D57-8F3A-4798-957B-F8EE1CEA3284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63BCA65-493A-4922-B5E1-B36385F0E467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F4910D-A802-4029-A1AF-95D454C8C76E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3A79EE-C29C-4A31-BEC8-93310FFA936A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539112-A241-4075-A729-57FE2FC8E25D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8A2036-A74E-48AB-8997-F71CCEA64D17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C2EB22-6AEA-4A46-B8BB-72F3F738E18E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968D80-6407-4DE3-BEFC-923C6684B742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8532A4-1673-4E43-8F88-4775E49716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C364E-54D2-42F7-9136-BB439ECCE1BB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E80F22-1276-4019-AF5C-887A107F7A97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AA7B7D-C19F-4EBF-B8AB-50216CE94BE3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0F19E9-5D39-4E7B-B1C3-D308C6D6BCA6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7A28FB-2402-4751-8824-1E57C7946926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171E7A-3E21-4447-B19C-A4F287CE4F21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211FF-5D69-4EC9-A57F-8143802999F4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BE98F8-052E-4573-A56E-C6473DE5C3EA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5594D-F29E-4870-8B53-355FF0D83860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C1EA53-BAE6-45AA-995A-8B6F1418F86B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11572-A7B9-4D77-BBAC-39C958C20D8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71054-C0FB-46F9-B893-346D716D7F78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A69598-F3A2-44F6-A366-5D8742080B7C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B227E-26A5-477B-A238-A98B62D48F38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0CA645-DF7A-4C64-AED4-25ABB54ED00F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E7EF9-A32D-4BC2-867A-BA2116A47EA7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FF6FFB-4243-494B-BE68-2B93C5905142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25BCA5-D72A-46BE-9662-6D7E13DE66F0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A7B181-66A7-4E17-90F5-BEBB64C54953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C175D14-B6C4-4CA8-A4E7-0D533342CF2D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E8CD847-BAFC-493B-902C-21343CA66B7F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60C47CB-86F5-4992-9BC1-D014D26D6CF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B76D3-5D53-4A93-8E68-E24D382C2A0E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CAAFD3E-482D-43A3-9A12-C3BDB94A96F5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1880412-B7FC-4158-8FB6-91ACB7BF5D41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6C8E566-2521-4584-AAA4-E4EAC43CE184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EAD9944-EC55-459C-88BB-8E9C17695FDB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BAD8B64-1933-4567-B584-D394399611B4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C4639C4-F8F0-4E81-83F5-D94CD320557B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4F40ADC-0DA2-4ED0-8A2A-973C0FD41C3D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224C68E-860D-42C4-ACB5-11016D5EF7A4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AF21478-5C30-4822-9E0D-72E59A9BF990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F2F91A-5542-457D-9AD1-2448A032AE5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68781-F86A-4AF1-8F24-8F0233C3A3A3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A89489-C5C9-4B0F-91F0-4FBB83447A0F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DCFA0E-DDF2-4EB6-9C98-C3348FBC7D5C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BD57CE-2668-44D2-BAAF-096930587AE4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4AA3E7-BBE1-4D06-A80C-F5FFB9A3624F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1B30E2-AB95-4B3C-9644-CDDD59A4A999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8A6FA4-B67D-4CCD-933B-95F33A19ED36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D98FE1-5500-406B-82C6-4E8151E62AA7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EF685A-C2E4-42E5-9DDB-A2D10D4EC27E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649193-E7CA-4F34-9E0B-D9A76D4C2FD4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0CF138-F523-4EE5-9C95-6C821043473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8404E-E34E-4D17-B6DC-777A77F112C6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BE7474-FE2D-4B58-BFB0-5DFA3CFA87DE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E27029-0164-4E51-84C4-60DF64DC58CD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20D87F-4106-4973-B1D5-B04F7853D10F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2D75E2-4F49-4F80-BD2D-31138D8DF110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A94F93-2A30-456A-926E-9BEE3F8AF39D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904EC7-326D-4618-8DDB-B6484F404BE0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AD79DE-4F56-4876-A31A-81C0770DD2C2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60F719-0C0A-48F3-A186-CEE2CB16E474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39867A-E0F4-4C9E-97FD-01D7E0E089E1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FCF187-2F52-4E0A-85F6-BCA7D485CC8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4D54BF-2A3E-4D17-860F-FFC3173E95C3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D14C0-7B2C-4EDF-ACB4-8CC71DF041C4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C5FF57-A888-4270-8D0C-1FE68391B4CB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79206AC-E38B-46DA-B1A2-9E1395301159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1900544-274E-41AD-9747-2F7E8A7A521E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5AE0DB5-1CB5-4353-873B-77472271888A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04F8C62-DAB5-46D2-8E81-91EC67E92DF0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6A1FD81-A55C-4053-88D6-FB1B3855E56B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E05F1F3-51F2-4C47-99ED-47C52A3EDF27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4FD6EFC-0C21-4083-8285-FDED9B94FC2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E1907CD-C1FB-4488-9ED3-653590A4D8CB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B662F9D-37FF-4699-A258-D7CDACABA686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D9823AD-AC9B-4D22-98AF-ED7863B7A84A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DBACB63-7913-4CBE-A754-CAF098B95038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15272CF-6446-4FF5-B9AD-A368BA3AD4C4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46F76E-B468-4745-B72F-820A3E494CC9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1AE7E5-F147-4C24-B7DC-FDAF6F8F6F3E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3A5B34-6480-451D-8588-DB9FB6411376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50F487-7B73-45F8-826F-7831BF30C348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FAF526-B708-465F-8A08-1D55A91AC16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705AF8-FBE9-4D74-A2E2-64C662AF03EE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05BD93-39EB-4486-BC84-3837F99F277E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7F815B-A343-490F-8309-4403B2F0C0F6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E2DE0C-16A4-4141-99B9-0DC185FE2E86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E91DDC-95D2-4D8C-9EFB-87B8E01B1C80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9A739B-53FA-462D-A1C8-56D72B925FDF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DF354B-8CDC-4C31-9632-AC2E919573F0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F81AD1-F5FE-4748-8C5E-50906F5F0050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DFAFC7-F427-488E-B8D2-33B36B8B2856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AAEE96-733D-4F8E-9780-A0A9A5C512A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3CBFF2-F595-45C5-B40B-01F15965E4B1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C3392B-88DA-4C56-99BC-E0B6AAFAF659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E86550-F864-4D19-8485-2C3417F14EC2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76A010-B6E2-44EF-AA42-E02C163D0FDC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00C5BD-D921-4404-9DEA-B67DAA972089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DD075A-532F-4B4D-A39F-1F740D54C475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80D6D4-6A7E-4FA4-B1DA-2566DD0F0956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8E7F57-95AE-417D-9EEB-FCD7B9E81FAA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D81341-5C52-4E21-903C-E88B8F6239C0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BFF986C-13EA-47C2-9DC6-8BDB1C6C756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63ABBC1-4034-488A-97B5-1E2BCBCF1440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9823741-5A55-48B7-AC54-4E0349A57013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E3BA12B-4376-4595-865B-3BEF00CD7295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22EFB64-7EDA-489E-AE37-D1AF669BC5DA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3E0A56C-071D-4982-BC1A-17BA9C9333CB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13A4474-7B3C-4F8A-9F16-06D6FD863C05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830DFCC-7439-47A6-8B06-95C068425949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8B97CAB-C5D1-4736-8C99-ACE77990F770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4D1B583-4AC1-4ABA-9CEE-FE77574FFE30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5DAB716-45E1-4532-BB5F-F1C49B993C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C70F942-0CEB-4290-9625-686C00E1D4D8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9AE910-FF7F-4FFD-962D-7A80D940AA22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DDD95D-7097-495A-A245-A7EC853B59CC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ACAF6E7-0D09-4CA5-BE90-100F69230C90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E1355BC-83F9-44C1-99EA-81993A29DD69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F127C6-E7C6-4C42-BB06-56C1E87C06D2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726EC09-B9F1-46A7-995F-D42B42099F05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1CF8F28-D793-4021-AA09-D054E5E08027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DF0A346-202D-4712-B51A-29C7A9EFDE89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BC0FB1D-CD56-4D1A-81CB-8226308FE2A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C38EE89-1A28-420B-AC68-D8E8F17CB8EC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8ACADF2-C6CF-410C-BAA4-2FCA965F4F05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3B5444-4A0A-43C6-8EAE-41388DE93D4A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36779B-CF9C-42F4-A560-86C8FDBEA0C6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37A57F-696A-42DF-934E-734C6192A9C0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66EB43-6008-4937-85F9-2408F3278B4B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268AB0-A7D8-45A8-AB20-2D86426F3373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CDF8E7-687A-4258-B1C4-CE6EA9C9F856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1D289B-9316-4C9C-9895-145611FDCDC0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7CBE09-89A4-4C19-97C2-773550ED487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D93AF1-4811-419D-B2B9-01A856D13F5B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EE8C38-5FCB-4A04-8AD0-6EB250F930E1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87272D-2D11-4EC6-AC2E-EB7DA64DAE10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11CE37-0526-467A-8794-F5E45E297399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6C12D6-E66A-4159-A512-3B19A6BC46D0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DFC3D-4855-4875-B2BA-663F372145A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3B2D0-9C53-4E73-8F3E-F6EE2946B3A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2C91C-1035-48F5-A8F5-2B70932BF3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3B2D2-7164-4339-BF71-72D168AFC6A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E3024-29AF-4A47-88DC-D7FFCE28520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CC078-562A-4EA3-B791-646A71EBBCA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FE25A-45C1-4639-BC3E-452F3B12A96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C3882-9A29-42AE-9795-A785125DFFD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7F096-1BF9-4A9B-84B3-7DD8B6B4594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1E9AA-09DE-4456-902E-9EC488CCF7A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C602E-05B9-49B0-863E-9EEABC60CB6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05690-3305-471F-9099-CE8597096BB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9EAC-F199-4E82-9C67-6C4976D5866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E2AF-298D-4717-8F86-E78BB556B00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0D1E-DB0A-4BEE-9DCF-90E869C4D6D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4C8B-8C84-4CF7-AA24-DD52D634444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9C47-9095-454A-8985-85BFF99FDAC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C3A3-AC11-4CB3-8424-5220F6A372A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0FE8-A14E-4C61-AA3D-E7602005148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FF80-72C2-49B2-B9AA-F16A12077E7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7067-641B-4C2F-A6FA-99398C407F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1597-79ED-43E2-B802-530897C495B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40D5-B564-4A2D-80DD-9CEBA18853C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4ECC-68E9-48B0-8C50-2A5694ECCA4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9BE842-38FC-43DD-AEF0-6A7603613C9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17F74A-6DD9-48E1-AC61-6D59791D391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60F4FD-88AD-4203-8856-9DC0CC4EFF2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8E6793-B5EC-4A34-892A-3487A4EA62E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576E45-2B4E-42F3-9EC6-51BB7EEA47D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761B2D-FFD2-4925-9149-8A5B223E786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C9E6E8-134F-42DE-895B-0A50DDECDF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5BCB0C-DEC9-424B-9DD1-9AC07109CFD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215988-DF1E-4284-80DF-C87C1F6A504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4C2E84-1E5C-400C-BBBF-9B71DDAA95A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A912E1-4257-4C5B-B14A-6BB6E27CB68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E028A4-84B1-4016-9EEF-D9C741742F4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F568D1-15AB-48EE-AE6F-207193E671F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068327-7CE2-4A93-94A8-0A00A60D144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273529-9734-4744-8088-BC950E58847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3066E6-05D7-435D-A3B5-07DDB77031A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196214-7EFF-43C7-8555-DC1C51784E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05E3D8-B0BA-4101-89DC-5C394A7D0837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07C55E-99AD-4F48-9E68-B797B27C15B2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BFB012-C66A-46C9-9167-0064FD34805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155689-DAA5-46E1-A1F4-DEF3ED5CA02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495ED3-1DF6-4585-B0A8-A9220BDCB49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E00175-A2A0-4D5D-89E6-B70199F9C42F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5FFE20-2DA8-4B8A-9346-F03D47764D4D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6F1EF-24BA-412F-85D3-52648F3E4E3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39DE5-065D-46F9-A056-E30F0859278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B3C23-3716-430D-9CB2-835CEB223D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s://twitter.com/dane_colombia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s://www.facebook.com/DANEColombia" TargetMode="External"/><Relationship Id="rId5" Type="http://schemas.openxmlformats.org/officeDocument/2006/relationships/image" Target="../media/image2.png"/><Relationship Id="rId6" Type="http://schemas.openxmlformats.org/officeDocument/2006/relationships/hyperlink" Target="http://www.youtube.com/user/danecolombia" TargetMode="External"/><Relationship Id="rId7" Type="http://schemas.openxmlformats.org/officeDocument/2006/relationships/image" Target="../media/image3.png"/><Relationship Id="rId8" Type="http://schemas.openxmlformats.org/officeDocument/2006/relationships/hyperlink" Target="http://www.dane.gov.co/" TargetMode="External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81.xml"/><Relationship Id="rId8" Type="http://schemas.openxmlformats.org/officeDocument/2006/relationships/slideLayout" Target="../slideLayouts/slideLayout182.xml"/><Relationship Id="rId9" Type="http://schemas.openxmlformats.org/officeDocument/2006/relationships/slideLayout" Target="../slideLayouts/slideLayout183.xml"/><Relationship Id="rId10" Type="http://schemas.openxmlformats.org/officeDocument/2006/relationships/slideLayout" Target="../slideLayouts/slideLayout184.xml"/><Relationship Id="rId11" Type="http://schemas.openxmlformats.org/officeDocument/2006/relationships/slideLayout" Target="../slideLayouts/slideLayout185.xml"/><Relationship Id="rId12" Type="http://schemas.openxmlformats.org/officeDocument/2006/relationships/slideLayout" Target="../slideLayouts/slideLayout186.xml"/><Relationship Id="rId13" Type="http://schemas.openxmlformats.org/officeDocument/2006/relationships/slideLayout" Target="../slideLayouts/slideLayout187.xml"/><Relationship Id="rId14" Type="http://schemas.openxmlformats.org/officeDocument/2006/relationships/slideLayout" Target="../slideLayouts/slideLayout188.xml"/><Relationship Id="rId15" Type="http://schemas.openxmlformats.org/officeDocument/2006/relationships/slideLayout" Target="../slideLayouts/slideLayout189.xml"/><Relationship Id="rId16" Type="http://schemas.openxmlformats.org/officeDocument/2006/relationships/slideLayout" Target="../slideLayouts/slideLayout190.xml"/><Relationship Id="rId17" Type="http://schemas.openxmlformats.org/officeDocument/2006/relationships/slideLayout" Target="../slideLayouts/slideLayout191.xml"/><Relationship Id="rId18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1.png"/><Relationship Id="rId3" Type="http://schemas.openxmlformats.org/officeDocument/2006/relationships/image" Target="../media/image9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3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6289560"/>
            <a:ext cx="9144000" cy="5684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32360" y="336600"/>
            <a:ext cx="34560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91640" y="1125360"/>
            <a:ext cx="759636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10 Imagen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84720" y="6454800"/>
            <a:ext cx="1041480" cy="237960"/>
          </a:xfrm>
          <a:prstGeom prst="rect">
            <a:avLst/>
          </a:prstGeom>
          <a:ln w="0">
            <a:noFill/>
          </a:ln>
        </p:spPr>
      </p:pic>
      <p:pic>
        <p:nvPicPr>
          <p:cNvPr id="4" name="11 Imagen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40360" y="6450120"/>
            <a:ext cx="914400" cy="237960"/>
          </a:xfrm>
          <a:prstGeom prst="rect">
            <a:avLst/>
          </a:prstGeom>
          <a:ln w="0">
            <a:noFill/>
          </a:ln>
        </p:spPr>
      </p:pic>
      <p:pic>
        <p:nvPicPr>
          <p:cNvPr id="5" name="12 Imagen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467480" y="6454800"/>
            <a:ext cx="927360" cy="237960"/>
          </a:xfrm>
          <a:prstGeom prst="rect">
            <a:avLst/>
          </a:prstGeom>
          <a:ln w="0">
            <a:noFill/>
          </a:ln>
        </p:spPr>
      </p:pic>
      <p:pic>
        <p:nvPicPr>
          <p:cNvPr id="6" name="15 Imagen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57080" y="6431040"/>
            <a:ext cx="1438560" cy="274680"/>
          </a:xfrm>
          <a:prstGeom prst="rect">
            <a:avLst/>
          </a:prstGeom>
          <a:ln w="0">
            <a:noFill/>
          </a:ln>
        </p:spPr>
      </p:pic>
      <p:pic>
        <p:nvPicPr>
          <p:cNvPr id="7" name="10 Imagen" descr=""/>
          <p:cNvPicPr/>
          <p:nvPr/>
        </p:nvPicPr>
        <p:blipFill>
          <a:blip r:embed="rId10"/>
          <a:srcRect l="0" t="0" r="920" b="17297"/>
          <a:stretch/>
        </p:blipFill>
        <p:spPr>
          <a:xfrm>
            <a:off x="-36360" y="6105600"/>
            <a:ext cx="9180360" cy="779400"/>
          </a:xfrm>
          <a:prstGeom prst="rect">
            <a:avLst/>
          </a:prstGeom>
          <a:ln w="0">
            <a:noFill/>
          </a:ln>
        </p:spPr>
      </p:pic>
      <p:sp>
        <p:nvSpPr>
          <p:cNvPr id="8" name="1 CuadroTexto"/>
          <p:cNvSpPr/>
          <p:nvPr/>
        </p:nvSpPr>
        <p:spPr>
          <a:xfrm>
            <a:off x="6868440" y="6453360"/>
            <a:ext cx="16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www.dane.gov.c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11 Imagen" descr=""/>
          <p:cNvPicPr/>
          <p:nvPr/>
        </p:nvPicPr>
        <p:blipFill>
          <a:blip r:embed="rId11"/>
          <a:srcRect l="0" t="84078" r="0" b="0"/>
          <a:stretch/>
        </p:blipFill>
        <p:spPr>
          <a:xfrm>
            <a:off x="-36360" y="-27000"/>
            <a:ext cx="9251640" cy="14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7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50B27-062F-47E3-BEAA-60F33B05A682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8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F7021-2EE9-4A36-A28B-D5ED5E3A380C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2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sldNum" idx="9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95884-80FC-4F7C-A624-38C1AAB1E8F5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6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10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E7BC9-A3B3-49E3-B79C-560CD9D18BF9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sldNum" idx="1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2365A-0D07-4325-8C86-40E97D15595A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6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sldNum" idx="12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11191-84A5-4E73-9A25-5FBAF450822B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sldNum" idx="1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A4D17-5C45-428D-9E32-A3B5B24E9434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7"/>
    <p:sldLayoutId id="2147483845" r:id="rId8"/>
    <p:sldLayoutId id="2147483846" r:id="rId9"/>
    <p:sldLayoutId id="2147483847" r:id="rId10"/>
    <p:sldLayoutId id="2147483848" r:id="rId11"/>
    <p:sldLayoutId id="2147483849" r:id="rId12"/>
    <p:sldLayoutId id="2147483850" r:id="rId13"/>
    <p:sldLayoutId id="2147483851" r:id="rId14"/>
    <p:sldLayoutId id="2147483852" r:id="rId15"/>
    <p:sldLayoutId id="2147483853" r:id="rId16"/>
    <p:sldLayoutId id="2147483854" r:id="rId17"/>
    <p:sldLayoutId id="2147483855" r:id="rId18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sldNum" idx="1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106B3-9F22-4137-B965-459177A24045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 type="sldNum" idx="15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767A1-4993-4301-80CF-F5C3A2C1A3C7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sldNum" idx="16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26D48-838F-4F47-9C14-51704F8FE200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sldNum" idx="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2D9D7-909B-404F-95D3-E1BEF1869E0C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sldNum" idx="17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04B2F-3571-494B-9B08-B3BA9DEA2BBD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21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sldNum" idx="18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40ABC-6713-4891-8C79-2BCE5FC1576B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sldNum" idx="19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73095-0AD6-48FA-AEB7-FEB52F96069A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2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03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 type="sldNum" idx="20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6953E-C3F8-4A25-97E7-F9FCC05A575D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 type="sldNum" idx="21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462D1-96C4-489A-BA79-B9D9CA6C6283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4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 type="sldNum" idx="2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4FA1D-A173-4EB0-B5AD-D66D531A224F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 type="sldNum" idx="23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F04E8-36C6-4475-BBEF-A2415CC50C21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6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 type="sldNum" idx="2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F5366-97A5-496B-9727-3333156699E5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20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4427640" y="2639880"/>
            <a:ext cx="47149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image6.png"/>
          <p:cNvPicPr/>
          <p:nvPr/>
        </p:nvPicPr>
        <p:blipFill>
          <a:blip r:embed="rId2"/>
          <a:stretch/>
        </p:blipFill>
        <p:spPr>
          <a:xfrm>
            <a:off x="4427640" y="3932280"/>
            <a:ext cx="4714920" cy="109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dane_logo_2015_lema.jpeg"/>
          <p:cNvPicPr/>
          <p:nvPr/>
        </p:nvPicPr>
        <p:blipFill>
          <a:blip r:embed="rId3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image1.png"/>
          <p:cNvPicPr/>
          <p:nvPr/>
        </p:nvPicPr>
        <p:blipFill>
          <a:blip r:embed="rId4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image2.png"/>
          <p:cNvPicPr/>
          <p:nvPr/>
        </p:nvPicPr>
        <p:blipFill>
          <a:blip r:embed="rId5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image3.png"/>
          <p:cNvPicPr/>
          <p:nvPr/>
        </p:nvPicPr>
        <p:blipFill>
          <a:blip r:embed="rId6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7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27640" y="2852640"/>
            <a:ext cx="4114800" cy="719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sldNum" idx="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36E1D-5DED-4473-8EF5-117BC96328E7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" descr="dane_logo_2015_lema.jpeg"/>
          <p:cNvPicPr/>
          <p:nvPr/>
        </p:nvPicPr>
        <p:blipFill>
          <a:blip r:embed="rId2"/>
          <a:srcRect l="0" t="17330" r="0" b="17330"/>
          <a:stretch/>
        </p:blipFill>
        <p:spPr>
          <a:xfrm>
            <a:off x="0" y="2276640"/>
            <a:ext cx="9142560" cy="214596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2"/>
          <p:cNvGrpSpPr/>
          <p:nvPr/>
        </p:nvGrpSpPr>
        <p:grpSpPr>
          <a:xfrm>
            <a:off x="2279520" y="6019920"/>
            <a:ext cx="4581720" cy="287280"/>
            <a:chOff x="2279520" y="6019920"/>
            <a:chExt cx="4581720" cy="287280"/>
          </a:xfrm>
        </p:grpSpPr>
        <p:pic>
          <p:nvPicPr>
            <p:cNvPr id="184" name="Picture 3" descr="image1.png"/>
            <p:cNvPicPr/>
            <p:nvPr/>
          </p:nvPicPr>
          <p:blipFill>
            <a:blip r:embed="rId3"/>
            <a:stretch/>
          </p:blipFill>
          <p:spPr>
            <a:xfrm>
              <a:off x="22795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4" descr="image2.png"/>
            <p:cNvPicPr/>
            <p:nvPr/>
          </p:nvPicPr>
          <p:blipFill>
            <a:blip r:embed="rId4"/>
            <a:stretch/>
          </p:blipFill>
          <p:spPr>
            <a:xfrm>
              <a:off x="52873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5" descr="image3.png"/>
            <p:cNvPicPr/>
            <p:nvPr/>
          </p:nvPicPr>
          <p:blipFill>
            <a:blip r:embed="rId5"/>
            <a:stretch/>
          </p:blipFill>
          <p:spPr>
            <a:xfrm>
              <a:off x="377604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Rectangle 6"/>
            <p:cNvSpPr/>
            <p:nvPr/>
          </p:nvSpPr>
          <p:spPr>
            <a:xfrm>
              <a:off x="259524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@DANE_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Rectangle 7"/>
            <p:cNvSpPr/>
            <p:nvPr/>
          </p:nvSpPr>
          <p:spPr>
            <a:xfrm>
              <a:off x="410688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Rectangle 8"/>
            <p:cNvSpPr/>
            <p:nvPr/>
          </p:nvSpPr>
          <p:spPr>
            <a:xfrm>
              <a:off x="5592960" y="6053040"/>
              <a:ext cx="1268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Num" idx="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2C193-17D9-4212-AECA-6FF6A202306D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Num" idx="4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1D214-B851-4F5F-B3EB-DD86134F7221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sldNum" idx="5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E98D4-47D8-41BE-BC79-0C6B82845278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sldNum" idx="6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C4BD4-D612-4ADC-8381-F480FDCE0DD6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0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0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6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26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9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6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6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9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812880" y="44280"/>
            <a:ext cx="77184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ffffff"/>
                </a:solidFill>
                <a:latin typeface="Verdana"/>
              </a:rPr>
              <a:t>Mercado Laboral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5" name="Picture 3" descr="C:\Users\maarias\Desktop\Fotografias_Boletin_Comunicado_Prensa_23_12_14\Fotografias_Boletin_Comunicado_Prensa\Boletin_DANE (1).png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2665440"/>
          </a:xfrm>
          <a:prstGeom prst="rect">
            <a:avLst/>
          </a:prstGeom>
          <a:ln w="0">
            <a:noFill/>
          </a:ln>
        </p:spPr>
      </p:pic>
      <p:sp>
        <p:nvSpPr>
          <p:cNvPr id="1256" name="Text Box 5"/>
          <p:cNvSpPr/>
          <p:nvPr/>
        </p:nvSpPr>
        <p:spPr>
          <a:xfrm>
            <a:off x="324000" y="3859200"/>
            <a:ext cx="408600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6014c"/>
                </a:solidFill>
                <a:latin typeface="Arial"/>
                <a:ea typeface="Calibri"/>
              </a:rPr>
              <a:t>Pas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Calibri"/>
              </a:rPr>
              <a:t>20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Calibri"/>
              </a:rPr>
              <a:t>Bogotá D.C., Enero de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Text Box 3"/>
          <p:cNvSpPr/>
          <p:nvPr/>
        </p:nvSpPr>
        <p:spPr>
          <a:xfrm>
            <a:off x="1244520" y="573120"/>
            <a:ext cx="68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 y variación de la población ocupada, según ramas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5 CuadroTexto"/>
          <p:cNvSpPr/>
          <p:nvPr/>
        </p:nvSpPr>
        <p:spPr>
          <a:xfrm>
            <a:off x="672840" y="5300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Text Box 4"/>
          <p:cNvSpPr/>
          <p:nvPr/>
        </p:nvSpPr>
        <p:spPr>
          <a:xfrm>
            <a:off x="0" y="5516640"/>
            <a:ext cx="925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*Otras ramas: Agricultura, ganadería, caza, silvicultura y pesca; explotación de minas y canteras, suministro de electricidad, gas y agua e intermediación financier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Nota: La suma de las participaciones puede diferir de 100%  por la no inclusión de la categoría “no informa” y por efecto de decimales.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2" name="1 Imagen" descr=""/>
          <p:cNvPicPr/>
          <p:nvPr/>
        </p:nvPicPr>
        <p:blipFill>
          <a:blip r:embed="rId1"/>
          <a:stretch/>
        </p:blipFill>
        <p:spPr>
          <a:xfrm>
            <a:off x="898560" y="1557360"/>
            <a:ext cx="756900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Text Box 3"/>
          <p:cNvSpPr/>
          <p:nvPr/>
        </p:nvSpPr>
        <p:spPr>
          <a:xfrm>
            <a:off x="1728720" y="555480"/>
            <a:ext cx="608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Contribución a la variación de la población ocupada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gún ramas de activ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Text Box 4"/>
          <p:cNvSpPr/>
          <p:nvPr/>
        </p:nvSpPr>
        <p:spPr>
          <a:xfrm>
            <a:off x="382680" y="5457960"/>
            <a:ext cx="7850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*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Otras ramas: Agricultura, ganadería, caza, silvicultura y pesca; explotación de minas y canteras, suministro de electricidad, gas y agua e intermediación financier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5 CuadroTexto"/>
          <p:cNvSpPr/>
          <p:nvPr/>
        </p:nvSpPr>
        <p:spPr>
          <a:xfrm>
            <a:off x="891360" y="5254560"/>
            <a:ext cx="1360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7" name="1 Imagen" descr=""/>
          <p:cNvPicPr/>
          <p:nvPr/>
        </p:nvPicPr>
        <p:blipFill>
          <a:blip r:embed="rId1"/>
          <a:stretch/>
        </p:blipFill>
        <p:spPr>
          <a:xfrm>
            <a:off x="1060560" y="1706400"/>
            <a:ext cx="7134120" cy="35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9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300" name="Rectangle 3"/>
          <p:cNvSpPr/>
          <p:nvPr/>
        </p:nvSpPr>
        <p:spPr>
          <a:xfrm>
            <a:off x="1403280" y="295596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SEGÚ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POSICIÓN OCUP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Septiembre – Noviembre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Text Box 3"/>
          <p:cNvSpPr/>
          <p:nvPr/>
        </p:nvSpPr>
        <p:spPr>
          <a:xfrm>
            <a:off x="1312920" y="557280"/>
            <a:ext cx="684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y variación de la población ocupada, 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5 CuadroTexto"/>
          <p:cNvSpPr/>
          <p:nvPr/>
        </p:nvSpPr>
        <p:spPr>
          <a:xfrm>
            <a:off x="617400" y="51577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4" name="1 Imagen" descr=""/>
          <p:cNvPicPr/>
          <p:nvPr/>
        </p:nvPicPr>
        <p:blipFill>
          <a:blip r:embed="rId1"/>
          <a:stretch/>
        </p:blipFill>
        <p:spPr>
          <a:xfrm>
            <a:off x="952560" y="1778040"/>
            <a:ext cx="7734240" cy="3300480"/>
          </a:xfrm>
          <a:prstGeom prst="rect">
            <a:avLst/>
          </a:prstGeom>
          <a:ln w="0">
            <a:noFill/>
          </a:ln>
        </p:spPr>
      </p:pic>
      <p:sp>
        <p:nvSpPr>
          <p:cNvPr id="1305" name="Text Box 4"/>
          <p:cNvSpPr/>
          <p:nvPr/>
        </p:nvSpPr>
        <p:spPr>
          <a:xfrm>
            <a:off x="71280" y="5373720"/>
            <a:ext cx="8748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*Trabajador sin remuneración :  Incluye al Trabajador familiar sin remuneración; trabajador sin remuneración en empresas de otros hoga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Text Box 4"/>
          <p:cNvSpPr/>
          <p:nvPr/>
        </p:nvSpPr>
        <p:spPr>
          <a:xfrm>
            <a:off x="34920" y="5589720"/>
            <a:ext cx="8748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^Trabajador particular incluye jornalero o peó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Text Box 3"/>
          <p:cNvSpPr/>
          <p:nvPr/>
        </p:nvSpPr>
        <p:spPr>
          <a:xfrm>
            <a:off x="1787400" y="512640"/>
            <a:ext cx="60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Contribución a la variación de la población ocupada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Text Box 4"/>
          <p:cNvSpPr/>
          <p:nvPr/>
        </p:nvSpPr>
        <p:spPr>
          <a:xfrm>
            <a:off x="1022400" y="6095880"/>
            <a:ext cx="183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8 CuadroTexto"/>
          <p:cNvSpPr/>
          <p:nvPr/>
        </p:nvSpPr>
        <p:spPr>
          <a:xfrm>
            <a:off x="1053360" y="5157720"/>
            <a:ext cx="146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Text Box 4"/>
          <p:cNvSpPr/>
          <p:nvPr/>
        </p:nvSpPr>
        <p:spPr>
          <a:xfrm>
            <a:off x="71280" y="5373720"/>
            <a:ext cx="8748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*Trabajador sin remuneración :  Incluye al Trabajador familiar sin remuneración; Trabajador sin remuneración en empresas de otros hoga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2" name="1 Imagen" descr=""/>
          <p:cNvPicPr/>
          <p:nvPr/>
        </p:nvPicPr>
        <p:blipFill>
          <a:blip r:embed="rId1"/>
          <a:stretch/>
        </p:blipFill>
        <p:spPr>
          <a:xfrm>
            <a:off x="1293840" y="1773360"/>
            <a:ext cx="7004160" cy="3305160"/>
          </a:xfrm>
          <a:prstGeom prst="rect">
            <a:avLst/>
          </a:prstGeom>
          <a:ln w="0">
            <a:noFill/>
          </a:ln>
        </p:spPr>
      </p:pic>
      <p:sp>
        <p:nvSpPr>
          <p:cNvPr id="1313" name="Text Box 4"/>
          <p:cNvSpPr/>
          <p:nvPr/>
        </p:nvSpPr>
        <p:spPr>
          <a:xfrm>
            <a:off x="71280" y="5661000"/>
            <a:ext cx="8748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^Trabajador particular incluye jornalero o peó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5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316" name="Rectangle 3"/>
          <p:cNvSpPr/>
          <p:nvPr/>
        </p:nvSpPr>
        <p:spPr>
          <a:xfrm>
            <a:off x="1403280" y="29559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INACTIVA 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TIPO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Septiembre – Noviembre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Text Box 3"/>
          <p:cNvSpPr/>
          <p:nvPr/>
        </p:nvSpPr>
        <p:spPr>
          <a:xfrm>
            <a:off x="1133640" y="711360"/>
            <a:ext cx="687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y variación de la población inactiva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 </a:t>
            </a: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gún tipo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5 CuadroTexto"/>
          <p:cNvSpPr/>
          <p:nvPr/>
        </p:nvSpPr>
        <p:spPr>
          <a:xfrm>
            <a:off x="691920" y="486900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Text Box 4"/>
          <p:cNvSpPr/>
          <p:nvPr/>
        </p:nvSpPr>
        <p:spPr>
          <a:xfrm>
            <a:off x="444600" y="5354640"/>
            <a:ext cx="850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Nota: La categoría “otros” incluye: Incapacitado permanente para trabajar, rentista, pensionado, jubilado, personas que no les llama la atención o creen que no vale la pena trabaj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2" name="1 Imagen" descr=""/>
          <p:cNvPicPr/>
          <p:nvPr/>
        </p:nvPicPr>
        <p:blipFill>
          <a:blip r:embed="rId1"/>
          <a:stretch/>
        </p:blipFill>
        <p:spPr>
          <a:xfrm>
            <a:off x="1944720" y="1557360"/>
            <a:ext cx="5280120" cy="32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5 CuadroTexto"/>
          <p:cNvSpPr/>
          <p:nvPr/>
        </p:nvSpPr>
        <p:spPr>
          <a:xfrm>
            <a:off x="545760" y="54133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Text Box 3"/>
          <p:cNvSpPr/>
          <p:nvPr/>
        </p:nvSpPr>
        <p:spPr>
          <a:xfrm>
            <a:off x="1133640" y="620640"/>
            <a:ext cx="687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Proporción del empleo informal en la población ocupad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Total 13 ciudades y áreas metropolitanas y Past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 Septiembre </a:t>
            </a: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– Noviembre </a:t>
            </a: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(2014 – 2015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5" name="1 Imagen" descr=""/>
          <p:cNvPicPr/>
          <p:nvPr/>
        </p:nvPicPr>
        <p:blipFill>
          <a:blip r:embed="rId1"/>
          <a:stretch/>
        </p:blipFill>
        <p:spPr>
          <a:xfrm>
            <a:off x="1935000" y="2063880"/>
            <a:ext cx="5305680" cy="34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4 CuadroTexto"/>
          <p:cNvSpPr/>
          <p:nvPr/>
        </p:nvSpPr>
        <p:spPr>
          <a:xfrm>
            <a:off x="1476360" y="981000"/>
            <a:ext cx="7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5 CuadroTexto"/>
          <p:cNvSpPr/>
          <p:nvPr/>
        </p:nvSpPr>
        <p:spPr>
          <a:xfrm>
            <a:off x="703080" y="504720"/>
            <a:ext cx="7252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Límites de confianza y error relativo de la población de la fuerza 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trabajo e indicadores de mercado labo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cc0066"/>
                </a:solidFill>
                <a:latin typeface="Calibri"/>
                <a:ea typeface="Calibri"/>
              </a:rPr>
              <a:t>Pas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8" name="1 Imagen" descr=""/>
          <p:cNvPicPr/>
          <p:nvPr/>
        </p:nvPicPr>
        <p:blipFill>
          <a:blip r:embed="rId1"/>
          <a:stretch/>
        </p:blipFill>
        <p:spPr>
          <a:xfrm>
            <a:off x="1636560" y="3716280"/>
            <a:ext cx="5877000" cy="1800360"/>
          </a:xfrm>
          <a:prstGeom prst="rect">
            <a:avLst/>
          </a:prstGeom>
          <a:ln w="0">
            <a:noFill/>
          </a:ln>
        </p:spPr>
      </p:pic>
      <p:pic>
        <p:nvPicPr>
          <p:cNvPr id="1329" name="2 Imagen" descr=""/>
          <p:cNvPicPr/>
          <p:nvPr/>
        </p:nvPicPr>
        <p:blipFill>
          <a:blip r:embed="rId2"/>
          <a:stretch/>
        </p:blipFill>
        <p:spPr>
          <a:xfrm>
            <a:off x="1368360" y="1484280"/>
            <a:ext cx="64454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1 CuadroTexto"/>
          <p:cNvSpPr/>
          <p:nvPr/>
        </p:nvSpPr>
        <p:spPr>
          <a:xfrm>
            <a:off x="684360" y="333360"/>
            <a:ext cx="784836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Tasa global de participación, ocupación y desemple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Nariñ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Anu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 </a:t>
            </a: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2007 - 201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4 CuadroTexto"/>
          <p:cNvSpPr/>
          <p:nvPr/>
        </p:nvSpPr>
        <p:spPr>
          <a:xfrm>
            <a:off x="1048320" y="56959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2" name="1 Imagen" descr=""/>
          <p:cNvPicPr/>
          <p:nvPr/>
        </p:nvPicPr>
        <p:blipFill>
          <a:blip r:embed="rId1"/>
          <a:stretch/>
        </p:blipFill>
        <p:spPr>
          <a:xfrm>
            <a:off x="995400" y="1758960"/>
            <a:ext cx="722772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8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59" name="Rectangle 4"/>
          <p:cNvSpPr/>
          <p:nvPr/>
        </p:nvSpPr>
        <p:spPr>
          <a:xfrm>
            <a:off x="1050840" y="1979640"/>
            <a:ext cx="77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Indicadores</a:t>
            </a:r>
            <a:r>
              <a:rPr b="1" lang="es-ES" sz="3200" spc="-1" strike="noStrike">
                <a:solidFill>
                  <a:srgbClr val="a7a7a7"/>
                </a:solidFill>
                <a:latin typeface="Arial Narrow"/>
                <a:ea typeface="Calibri"/>
              </a:rPr>
              <a:t> </a:t>
            </a: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del mercado lab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Rectangle 3"/>
          <p:cNvSpPr/>
          <p:nvPr/>
        </p:nvSpPr>
        <p:spPr>
          <a:xfrm>
            <a:off x="2124000" y="295596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23 ciudades y áreas metropolitan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Septiembre – Noviembre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Rectangle 1"/>
          <p:cNvSpPr/>
          <p:nvPr/>
        </p:nvSpPr>
        <p:spPr>
          <a:xfrm>
            <a:off x="0" y="763560"/>
            <a:ext cx="464328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Text Box 3"/>
          <p:cNvSpPr/>
          <p:nvPr/>
        </p:nvSpPr>
        <p:spPr>
          <a:xfrm>
            <a:off x="412920" y="65412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Resumen indicado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Pasto</a:t>
            </a:r>
            <a:r>
              <a:rPr b="1" lang="es-ES" sz="1600" spc="-1" strike="noStrike">
                <a:solidFill>
                  <a:srgbClr val="cc0066"/>
                </a:solidFill>
                <a:latin typeface="Calibri"/>
                <a:ea typeface="Calibri"/>
              </a:rPr>
              <a:t>  </a:t>
            </a: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– Total N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5 CuadroTexto"/>
          <p:cNvSpPr/>
          <p:nvPr/>
        </p:nvSpPr>
        <p:spPr>
          <a:xfrm>
            <a:off x="1044360" y="48229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4" name="1 Imagen" descr=""/>
          <p:cNvPicPr/>
          <p:nvPr/>
        </p:nvPicPr>
        <p:blipFill>
          <a:blip r:embed="rId1"/>
          <a:stretch/>
        </p:blipFill>
        <p:spPr>
          <a:xfrm>
            <a:off x="525600" y="1916280"/>
            <a:ext cx="798336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5" name="1 Imagen" descr=""/>
          <p:cNvPicPr/>
          <p:nvPr/>
        </p:nvPicPr>
        <p:blipFill>
          <a:blip r:embed="rId1"/>
          <a:stretch/>
        </p:blipFill>
        <p:spPr>
          <a:xfrm>
            <a:off x="2925720" y="490680"/>
            <a:ext cx="6162840" cy="5267160"/>
          </a:xfrm>
          <a:prstGeom prst="rect">
            <a:avLst/>
          </a:prstGeom>
          <a:ln w="0">
            <a:noFill/>
          </a:ln>
        </p:spPr>
      </p:pic>
      <p:sp>
        <p:nvSpPr>
          <p:cNvPr id="1266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Text Box 4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Text Box 3"/>
          <p:cNvSpPr/>
          <p:nvPr/>
        </p:nvSpPr>
        <p:spPr>
          <a:xfrm>
            <a:off x="179280" y="2357280"/>
            <a:ext cx="273708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Indicadores de mercado laboral por ciud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Septiembre – Noviembre 201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8 CuadroTexto"/>
          <p:cNvSpPr/>
          <p:nvPr/>
        </p:nvSpPr>
        <p:spPr>
          <a:xfrm>
            <a:off x="3070080" y="5921280"/>
            <a:ext cx="568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(+) (-): Aumento o disminución de la TD de cada ciudad frente al mismo trimestre móvil  del año anterior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3 Rectángulo"/>
          <p:cNvSpPr/>
          <p:nvPr/>
        </p:nvSpPr>
        <p:spPr>
          <a:xfrm>
            <a:off x="2932200" y="4255920"/>
            <a:ext cx="5905440" cy="16524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1 Rectángulo"/>
          <p:cNvSpPr/>
          <p:nvPr/>
        </p:nvSpPr>
        <p:spPr>
          <a:xfrm>
            <a:off x="3132000" y="5491080"/>
            <a:ext cx="457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ran Encuesta Integrada de Hogares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Text Box 3"/>
          <p:cNvSpPr/>
          <p:nvPr/>
        </p:nvSpPr>
        <p:spPr>
          <a:xfrm>
            <a:off x="14414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Text Box 3"/>
          <p:cNvSpPr/>
          <p:nvPr/>
        </p:nvSpPr>
        <p:spPr>
          <a:xfrm>
            <a:off x="1428840" y="711360"/>
            <a:ext cx="640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Tasa global de participación, ocupación y desemple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Past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ptiembre – Noviembre (2006 – 2015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5 CuadroTexto"/>
          <p:cNvSpPr/>
          <p:nvPr/>
        </p:nvSpPr>
        <p:spPr>
          <a:xfrm>
            <a:off x="758520" y="56149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6" name="1 Imagen" descr=""/>
          <p:cNvPicPr/>
          <p:nvPr/>
        </p:nvPicPr>
        <p:blipFill>
          <a:blip r:embed="rId1"/>
          <a:stretch/>
        </p:blipFill>
        <p:spPr>
          <a:xfrm>
            <a:off x="966960" y="2092320"/>
            <a:ext cx="714024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Text Box 3"/>
          <p:cNvSpPr/>
          <p:nvPr/>
        </p:nvSpPr>
        <p:spPr>
          <a:xfrm>
            <a:off x="992160" y="549360"/>
            <a:ext cx="714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asa de desempl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Pas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s móviles  2011-2015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5 CuadroTexto"/>
          <p:cNvSpPr/>
          <p:nvPr/>
        </p:nvSpPr>
        <p:spPr>
          <a:xfrm>
            <a:off x="2139840" y="544500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9" name="1 Imagen" descr=""/>
          <p:cNvPicPr/>
          <p:nvPr/>
        </p:nvPicPr>
        <p:blipFill>
          <a:blip r:embed="rId1"/>
          <a:stretch/>
        </p:blipFill>
        <p:spPr>
          <a:xfrm>
            <a:off x="1452600" y="1778040"/>
            <a:ext cx="62197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Rectangle 4"/>
          <p:cNvSpPr/>
          <p:nvPr/>
        </p:nvSpPr>
        <p:spPr>
          <a:xfrm>
            <a:off x="1908000" y="620640"/>
            <a:ext cx="489600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Población ocupada, desocupada e inactiva </a:t>
            </a:r>
            <a:br>
              <a:rPr sz="2200"/>
            </a:b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Past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ptiembre – Noviembre (2014 – 2015)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1" name="1 Imagen" descr=""/>
          <p:cNvPicPr/>
          <p:nvPr/>
        </p:nvPicPr>
        <p:blipFill>
          <a:blip r:embed="rId1"/>
          <a:stretch/>
        </p:blipFill>
        <p:spPr>
          <a:xfrm>
            <a:off x="552600" y="2492280"/>
            <a:ext cx="82245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3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4" name="Rectangle 3"/>
          <p:cNvSpPr/>
          <p:nvPr/>
        </p:nvSpPr>
        <p:spPr>
          <a:xfrm>
            <a:off x="1258920" y="30686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COMPORTAMIENTO DEL MERCADO LABO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6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7" name="Rectangle 3"/>
          <p:cNvSpPr/>
          <p:nvPr/>
        </p:nvSpPr>
        <p:spPr>
          <a:xfrm>
            <a:off x="1403280" y="295596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RAMA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Septiembre – Noviembre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7T13:39:03Z</dcterms:created>
  <dc:creator>jcolarteb</dc:creator>
  <dc:description/>
  <dc:language>en-US</dc:language>
  <cp:lastModifiedBy>Daniel Gerardo Gil Sanchez</cp:lastModifiedBy>
  <cp:lastPrinted>2015-06-02T14:27:28Z</cp:lastPrinted>
  <dcterms:modified xsi:type="dcterms:W3CDTF">2015-12-28T16:10:57Z</dcterms:modified>
  <cp:revision>942</cp:revision>
  <dc:subject/>
  <dc:title>PRINCIPALES RESULTADOS DEL MERCADO LABORAL JUNIO de 2012 Resultados Marco 2005.  Datos expandidos con proyecciones de población elaboradas con base en los resultados del Censo 2005  Julio 31 de 2012</dc:title>
</cp:coreProperties>
</file>