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240-658B-446F-B73A-5B2B2DAE31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EC5-94C1-4150-902B-1635E906470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97C-43E3-4C16-940D-2B2B4C9D91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DA0-7F67-46D0-82F3-48837E0BD4E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8F1F-EF18-412F-9FF5-A78B71C90CC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89D-E3B8-4FE1-9A69-4C65845F351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2511-557F-497C-8C0E-C94BBD3B8F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9259-A8AA-4F76-A420-1002650D4B2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927B-A781-413F-B29D-545FBF2085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59EE-EE78-4DE3-8EDF-00281D6C32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DDB-02AC-4F5D-BC38-A497A7EC9B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9829-5674-4205-AE3F-605E13318D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D702-43CB-4ECA-B457-9F8875849D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58C-61D8-484F-AA2B-9454351A11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BDE-8967-4AFE-900D-C81A9D8BCA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FDA89-7E6C-4C4C-BA48-A0215B2A8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8F8D7-46B9-49EA-9A06-5E81FD7E73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F342F-74BB-43EF-81CD-4CE749F010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32132-94A0-46C5-BF45-77359AAC7A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441E3-7D46-4E2D-A99F-00E058A555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5F275-08C7-4C77-8170-C9FC75C878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9A20A-D3FE-417B-B87D-848A5514FE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074EF-59D5-4367-86DC-F8E47B997C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E5994-6567-47A0-84A1-D2858CD662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46ED8-7462-4D85-A70B-A1DBD7D938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5973E-41C0-45BB-898F-5D614D8F3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854D5-92ED-44D6-9C50-1110AC84729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EF98B-5960-4AB5-92D5-07E1C4EB1B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236BE-14DC-4343-82CA-AC2C3EC72B7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BAC68-1E23-4201-9DC0-C56D2F76504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F83A2-32DD-4E25-844A-2443180B5E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F46DA-F924-42EA-869C-A1AAEB1A9A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06CC9-7C29-4F30-B1AE-D4C7F419EA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96BBB-355A-4F1E-A447-463D8184BF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DF828-376A-4D16-94E0-51B37D0B5C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2F5AB-AEA9-4863-911B-6F50B1C45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D294-004C-4D2E-8026-ADA7CA99E6A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B5BD7-CE4C-43D0-A144-610C0DECCB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6C33D-A9B6-4E41-842D-A2B126284F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8EF52-2556-494C-8E30-5CBB072082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4754-2249-437E-885B-9345C09FFB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C766-10E8-4430-92CF-B5B953F7E8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E1CA-0201-41BC-A995-78EB61FB36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CE88-5056-44F4-AEB3-2ECF95D7B41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9051-2BF3-4603-9E61-E4C8DEAAFA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9FFD-B86B-4F69-B4C6-70B320D715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DC0E-F3F8-423A-B655-30A2E0005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6E1F-B4AF-4698-981A-704C28ECBB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BC3D-4E59-498D-9A36-C34CF29985E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8A70-8C7E-499C-A329-A6F853FF7C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DB01-A012-4A7F-A55B-CDA7B92CFC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B1E6-1349-4950-9C6C-546E64E5F3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9BD5-7C50-43E1-A5A4-9C59FCA405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6E862-772C-4171-AC8C-8F46412188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FF683-A10A-4D2B-90A5-BCB128C07A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5344F-A0EA-438C-8251-ED834269E4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74E9C-E466-4FC7-AF00-C077C5AFE9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ADC33-B16D-4D6C-8A10-2B3E36C5E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A392-D305-44C0-B350-3C39546BB9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C53D5-239E-4DCB-A038-050F430C930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B70BB-19F4-4B14-8019-9AE4C287D8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A3F6D-E81B-44FB-9D46-DFEF01EFE0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61B93-B447-4512-A85F-17B935B20D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7E0AE-1F58-4865-B801-5BB724E2AE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F6B21-844D-45C3-A7F2-750F359D9B6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27111-E962-40B7-89AD-A018E733061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0B0B3-146D-43A0-87D3-BE4F29B5B6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54C0F-7671-49AF-A62D-869897B967C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4B088-F8B3-41F9-B9BE-14AD99941E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2F7-7668-42D5-A2D8-52DA1E3047F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93A8D-77B5-4C42-B7DC-744C94AA41A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6CBC1-F3E9-4631-8C80-4F91CA6D907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75F5F-B702-48C9-A866-9D1556BBFE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05011-EA16-4198-9425-ED32DDF680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208BB-84AC-4CB3-B25E-E321C6D051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D555A-72C9-4F3D-AF38-880C53F379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3D340-762F-4E37-A758-39A789CDC2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D9C6F-91F0-4CEC-A0A0-6C679EF63EE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5D4F7-B178-4DF1-B641-8D661F4CDD0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DDBF-955C-4D9F-8CC7-0FA91BE39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7B5C-B675-4446-A2E1-5AE300FEFE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60F8-0713-4477-9D54-5B35E440ED4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2DA7-24DC-488F-B89F-2B50D475F07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34FF-0AB0-4AAC-A9A7-6DA17EF63E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55DA-EBB3-4215-9230-9667754D58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629F-934B-4148-B575-203CF7A4564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1D69-AC3B-4F48-A7BF-E44F2FD9F4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3E69-A3AA-4954-A7AF-CC3385F62F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CEFE-2B42-429A-BED9-233DB5C605B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808E-EC77-49A4-836C-0826C4371DC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3A53-FFCD-4B12-A51B-01430A8F4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152F-657F-48CE-9F96-0FF36E27291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1918-68A3-4BCF-8797-BB74D968788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67EB8-153A-4B46-98D7-1A9E03DD0F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91367-4423-476E-BB0E-EBD2E7B6AE2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F5ACB-834F-4712-A5C2-740A292D85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65AFD-1FA7-40FB-87BF-E4C0E0A95F9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AF6E1-765D-41BE-B07F-58A3A70CBF8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26B96-6080-4B7D-B921-E812DF34209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4B794-6E56-4655-9835-603CCDD17B9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DA515-9FB6-469C-9FE8-F140DDA5940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B8159-2575-4305-9C5B-18D7253825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6E91-C81A-49B4-8F4F-F579F4EF47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C2067-B6A3-4F30-A295-5E434E4264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275DA-057B-4AD6-8546-D998C8D730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9F80B3-4CD0-46CC-9808-3D906AD61A7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3470B-E85A-42CF-8CA5-59844167D7C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48AE8-C7D8-4A50-9483-252CF98101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3A5AD-F527-4ED0-B653-A49D36FF0E4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F9C8E-633E-4CE3-89BC-F6E0E1F213A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B59EE-135F-4355-B4E9-C09F7C590DB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0C7FA-75C2-40E6-9655-73E0423ECB7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0EBB1-D2BD-49D5-9A5D-4E3909ED7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4B34-C03F-43EE-841E-B51660AE83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F266D-821D-48B5-910B-5EC8C15BF66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B4022-0266-4644-B38A-6C578A6C783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86695-8C5E-4762-A8B1-E4275D8B202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2936F-4495-4B04-AEE0-F072B5412FE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D0F63-5FED-4AC8-8D63-373C21A104C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D223-49E5-4DB0-B5F5-412EEF8634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1A91-6B8F-456A-98DF-50C72B8E1A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D7C0-1B0E-4894-9EA6-5176DAB335C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3DF1-F933-4993-B283-B1B99B46CDF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C5191-2D19-4B49-AF64-68D4E0311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3296-1F5B-4903-BF90-EAE43204EA9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7FF3-6004-4F7E-97B3-6B32AE2BEDB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818E-D493-4A33-819A-A9C5B98893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657E-DEC4-4685-BF83-BD96BAB6411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0012-E768-4EBF-A954-104E2E2CD29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14C3-0B59-4A69-AB17-B627361FB9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494E-85CA-4939-A2DA-AC237B03ECF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6BF7-A366-4119-9DC9-95F3A64162A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A85DF1-C86E-413E-BF76-1732EA732FD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0CB35-BC18-4FB0-BBDB-BE00B967136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A138E-04DD-4692-AC4D-9E2FBB6341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FAE9-C31F-4FA0-A3C2-9918A59A9F2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B8437-B250-4A2F-A502-36F6B29276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327F1-6FC1-4A4F-9947-4ADABF55D58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26147-A1C4-4A3D-91A7-08F592AC2D1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08B0D-739D-40E1-AA53-AE4AA95B989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3B7FDE-4041-43E3-A014-A9CE477009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9B181-419D-445D-B1C1-D384751FE5C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75369-684D-44FE-9FB6-9117B480A19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20AE1-8E5C-4B5F-A31A-0380C64EAB7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5C6C3F-C3F6-469B-BAE2-B9E962A206C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FEE99-C18C-4906-8D8D-0285B29539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AF2E-A379-44BF-823D-EB0B940DE7F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FA94A-BDBE-462C-B8A6-2F09C042ABF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4F121-89C4-4E31-88A3-B0D79FA7885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5AB6A-12AB-41BB-9F6E-4BBCA5D51E7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45FDF-348B-4298-A809-8DB2D8D20F7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0BF2D-227F-478C-BC08-27E4FD84611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494CC-3EEC-4D01-B0EC-5B00155895E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EB640-1496-446B-8BB6-B2A56E2BBCB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45B46-3AF0-499D-B4A6-771E3082C8B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A52E8-6977-4761-8D6F-483819D2BA9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0CD96-1B7B-4D63-858A-D848FE3E4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8BA-F369-4044-9A62-1258486DCAC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CF40F-7D2E-4797-A5A1-F5973ACD54E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BF5D-5B69-408A-BF2E-DB9164B53B2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70B6-2F73-4A7F-9092-A8E97FEFC91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1594-7D59-4F4E-AED0-938542F3CC1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12D3B-67EB-4CEE-BDFA-56378D1355E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ECD8-0291-417A-8578-2476CA532E8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81C8-687D-44AD-83AC-73004F1AC9C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00F9E-53E1-483C-B476-EC0CCADDD6F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8D53-ED25-47C8-8F3E-702E14B4DA9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2F5E-5804-42D5-8235-4B0BF94921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1513-B6D8-4B67-BC6D-8800EAE9FF3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49B0-87F9-4270-8226-9732EC15905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6DB8-AB38-4CF1-AFB5-EFB77936A83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50CD5-8046-468C-B639-8F2FBB0E86B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1E72F-5A6B-4720-9DC5-71865D43E87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15F57D-A58D-48E1-A208-7D851B0EFCE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1530D3-3278-41BD-B07A-9625AC42EC6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DB75D4-DE79-4431-9E6A-F8D7278876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68F4A-C5D8-4229-BCD0-07AAC41E4CA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79D0E5-F8BB-4DCB-A70D-BFD72CD965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8EDA7-F667-4F98-BD8A-F1A0383BB1A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C82C6-1696-4C13-86D5-F3CC5EE0890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0E413D-9C7B-4EAC-B3C5-BE7F8AA8A90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24EA8-C16D-4568-B131-2723D37FD57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AB8C0-2023-4CB9-8A9D-615C1819349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7235B-DC05-481E-AFC4-1D9D0289001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D0C78-E519-479F-9A0F-8F089EF82D5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6EA1B-AA40-410A-96B6-84FCBA16379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AEBF0-1EEE-4A5B-A8EF-CD1898612A2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783C0-5D09-4E5A-BBA4-39088DE6AC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794B3-3569-4564-80CD-F6A363AFE19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BBFA3-A1E6-42C5-B6F3-94B126CA1AE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48DA5-D661-4E4F-A61E-098523379DA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D0F3A4-F24B-4978-84E2-2BC04480FC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D362C-E963-48A3-8A28-93F071BD2B0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63EFD-99A0-49C0-936E-8FB73070D13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198B6-448D-4D49-807C-D571A3FAD61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EE2C-418D-4654-8F74-7513508553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9DDC-EE31-4E47-82EB-DBDB72A3E78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F197-61A9-46FE-979E-201E38AC3C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8795-BF15-422E-929F-B230C54734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F330-E045-47FA-B914-EB9AFD08026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8FDF-8E13-468C-B443-E11CB8CAE4B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D842F-0EFC-4F9D-A637-000F17250C9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21A9-0953-41AB-8909-D1831323604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0C64-21D3-4AAF-996D-4BA68C62C79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F2323-29ED-46DD-B94E-D5C6D2F453A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9D07-E057-4854-98E6-B3A2C184161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9AA1-A000-41DB-9E6B-2195E418723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C8122-E64F-499E-87B5-839E3EF8CF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DEE8D-587A-44AB-B257-2671680D66E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E4CF5-C939-4D6E-8FB7-8E1E8171232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6EA25E-9319-4326-938B-8C1A5E1DE4C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50183B-B0CB-49BD-A9F4-ABE34F3992A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D1EF73-8339-468C-BE5D-B13F5384A86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50441-CE4C-4550-9390-19F5E046CA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71879-3D24-4DDC-86AA-CCCFF08EC1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937C6-8B2E-4277-BD69-AED936E0005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B6122A-7618-42E5-9428-B74F4119B4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878A9-386B-4A7A-B7F4-717F284EC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11134-B369-4683-B865-EA7A279C260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7AB16-BFD6-4B65-98E7-3D683365895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CFB32-7FCE-4A67-958A-0255CC15F83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3D91D-E481-4AD4-BA79-885D7794D09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31E58-A8A1-43AA-B775-6F5E86ECE53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E8073-DC1C-4B3C-A858-0E938914410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A7532-304B-4E27-8E56-F875CDEFEE8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268E08-F204-41D1-A488-04D53F24378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19FF8D-4F3E-4017-8FCA-688BB0164FA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39375-C32D-4608-B8B1-382A8AF0E3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B96CA-B231-4221-8982-CDAC34BCC0A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EDF9C-8B64-4014-8B8D-ACDF79E7192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8FB0B-2128-4701-8615-DFD74C73148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5946F-5028-4DE2-85F1-69DF54344CF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CEC6-BC79-4AC5-8A50-971FF0C5B53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EE57A-1FDE-4C59-8983-815D27DAFA3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E348-A9C2-4A6E-AC2A-35189E082D1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5071-352E-41B0-B2CF-9DBD92FF12E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7BF7-A5A1-4271-962F-01E686839A7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D7D4-7417-493E-B8BE-FBA371BE92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87AC-3AB0-44F4-A292-602044D4B6E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51D4-C877-43B1-9E78-E20FF0A89FE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FA201-73BD-4067-90FC-0CDEA821EAA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0575E-93B3-4060-93B2-968922ED32F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A888-4561-47F0-8752-17BA50E53CE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C242-EB77-4248-8494-FAE3B8018A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6F8A-04CC-46C0-BE10-7CB3FA3671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C99A-19BE-4E13-878B-56E1E7E75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9B5D-A0BA-4450-AD89-DB476250E0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C333-3BCD-4D62-9EA7-FAC9B490F4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F722-3908-4515-9F86-C33080F15E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2B74-61E8-4792-9F1A-D094BDB724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5BA0-6CC7-4821-8149-DC7E5FE665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5698-12A0-4241-8635-E00E5BC376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5A7D-8419-48AF-80D2-EB9294C1B4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9D4A-293F-47CB-9874-706364058E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8255-4A3D-4A74-8730-B96F3B3A4C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E21-BB2B-427B-8448-DDA72954BE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000-1028-474C-8DC1-082C7610C5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54D-347B-446E-BBF2-6E3F0B151A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D63-81DA-4D9C-BD66-70F9428979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C75-E450-4EC3-AD05-8B61DBA6A6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5BB-F4EE-4F6E-8810-6B60C7B479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9AA-9106-450B-8965-39655927DB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E7-B76F-4E63-82BF-20D79DD952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C67-D541-4BFD-B062-501F5B5CF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B04-DAD5-4F41-8079-89BA5243B8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6FD-F210-4F44-8E68-8FE03F232C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785-5DD3-4C40-8966-79C0EBB0BC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1AE05-0555-468D-AF7C-42F6BAC047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09A62-0773-45B8-83B3-5E7B6307AA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43724-1851-4508-A7B2-02803747A3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9D73E-0B00-45E8-BA22-209FBDDB5D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52F84-17AB-465D-BCD8-33CACB546E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9974-B739-41C5-9FB5-A81290EF59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261E-7216-4C04-AFA6-8AC1D221D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8F98-6DB3-4013-8B12-BFD3EA007C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A7F0-5F69-4723-B560-6087A27063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1C6E6-0AD3-4340-A5AE-4F0BECA5D7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8B606-59FD-495D-8046-6DD9037B97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7DAB1-25A7-4250-AFD7-BF294BE32F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03DF2-E27A-4CA3-98B6-08E0DCF6D4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C888D-9D54-4688-B488-E1CBC7D22E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CE7D8-4587-4C0D-A0B7-FA3421EB68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A1667-576E-4E43-B2DC-AEF980EB29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51C14-9ECA-4C25-B1C9-28DF17C4B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48F10-DBE8-4136-A846-69E2D0650E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BA162-8E9D-4601-B2D8-411C9C120B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435CC-0860-45BB-AAE6-66AC925AB7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4D86-2EFE-4636-9131-7DCEFA1D8BA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2A133-C33E-4069-A399-BB8B5AF0EE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10358-8069-41B0-BF73-09219FFFDE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C3893-CFAD-4764-9123-3AF15D40B5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B28-BB6B-4C87-A53A-9CD3B9208C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46B-39A6-4A0A-87AE-0B6D67BC84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E59-055E-4B98-8E50-0EAA5776A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FED-A508-43E0-8B75-5835DF2B0FF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E40-2A27-44F0-8BD3-084C2514F47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055-C500-4B7D-A1AE-80A79EE3E2F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5DD-59EE-434B-B4DE-F84475D4EDB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72A0-512F-4BD2-8E5D-143D012A083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ADE-ED71-47DB-93CD-DFC03F36E29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6BE-D98A-4615-BA44-3681F353722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144-2E8F-43A6-9446-EA50F9F3F91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611B-7839-43E0-A927-36B5DBC6E3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BF0-EDBA-4A91-96BD-FBD590289C7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8E6B-D90D-4C0C-ADE6-09979D5FC27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94B-1349-4163-ABDB-E50533CD42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769-7167-45A3-B945-F2E0D6B3B16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EAF7-97E2-4714-AF98-4707319A9DA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7CD-D2AE-4E10-A6DA-8D52F7D775F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4B3D-554B-4A1C-878F-F6BB1ABC70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675-12BE-4804-BD16-8CD58999A7B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3115-8369-4D1E-8D12-2C010A4F31F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A164-4881-4037-8912-B360CE5F15A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133-9DE7-469F-BD2A-39845E1AE54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6038-6C82-43B3-AF09-50EC07C95A7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053-E6A6-4812-8D72-378C1D452C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AEF-1358-491B-8999-313655482DD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33B-B94B-4332-96F7-656B7E2332D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970440"/>
            <a:ext cx="51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Cali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l área metropolitana de Cali incluye a Yum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685800" y="47628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250920" y="522936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6 CuadroTexto"/>
          <p:cNvSpPr/>
          <p:nvPr/>
        </p:nvSpPr>
        <p:spPr>
          <a:xfrm>
            <a:off x="126504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38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366920" y="47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6 CuadroTexto"/>
          <p:cNvSpPr/>
          <p:nvPr/>
        </p:nvSpPr>
        <p:spPr>
          <a:xfrm>
            <a:off x="1211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1084320" y="1585800"/>
            <a:ext cx="7226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8 CuadroTexto"/>
          <p:cNvSpPr/>
          <p:nvPr/>
        </p:nvSpPr>
        <p:spPr>
          <a:xfrm>
            <a:off x="115056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758880" y="1614600"/>
            <a:ext cx="7624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69056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8 CuadroTexto"/>
          <p:cNvSpPr/>
          <p:nvPr/>
        </p:nvSpPr>
        <p:spPr>
          <a:xfrm>
            <a:off x="1212480" y="479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1 Imagen" descr=""/>
          <p:cNvPicPr/>
          <p:nvPr/>
        </p:nvPicPr>
        <p:blipFill>
          <a:blip r:embed="rId1"/>
          <a:stretch/>
        </p:blipFill>
        <p:spPr>
          <a:xfrm>
            <a:off x="690480" y="1773360"/>
            <a:ext cx="7763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89080" y="620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141480" y="5516640"/>
            <a:ext cx="80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979560" y="1628640"/>
            <a:ext cx="7113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216504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332000" y="54936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Septiembre -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1768320" y="1989000"/>
            <a:ext cx="5683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Cali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1181160" y="1751040"/>
            <a:ext cx="6492960" cy="153360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449360" y="3860640"/>
            <a:ext cx="6099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308240" y="33336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Valle del ca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000080" y="1801800"/>
            <a:ext cx="72230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09920" y="3798720"/>
            <a:ext cx="52563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ali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133720"/>
            <a:ext cx="7575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916360" y="1682640"/>
            <a:ext cx="6148440" cy="206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06720" y="353880"/>
            <a:ext cx="611676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612800" y="1844640"/>
            <a:ext cx="6059520" cy="347976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74840" y="2276640"/>
            <a:ext cx="8194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12-21T21:51:42Z</cp:lastPrinted>
  <dcterms:modified xsi:type="dcterms:W3CDTF">2015-12-24T18:05:21Z</dcterms:modified>
  <cp:revision>195</cp:revision>
  <dc:subject/>
  <dc:title>Diapositiva 1</dc:title>
</cp:coreProperties>
</file>